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DA6-98D5-4F7B-8A70-45D9CC81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69B-8109-40A0-B919-9FA7CD10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19D-1F55-471C-B59C-3B343F44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C89-2224-481B-BF38-507CF98B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52D-3DCC-4C77-9E31-87E1CAD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DE0-7573-4877-84FD-287B23D5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901-D4D3-4446-8935-68514E23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05F-FD28-4A81-A8F8-3E542DEB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5B1-43F7-4E68-8AF1-39D6B27C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BE6-6D5E-4A3D-95C2-07E55467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6A5-0047-459C-B68C-46028D12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C27-75ED-491E-AE72-D41E7B4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D9A8-5B63-47E6-ADBA-821EE4949EA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L1_Probability_Starters.ppt" TargetMode="External"/><Relationship Id="rId2" Type="http://schemas.openxmlformats.org/officeDocument/2006/relationships/hyperlink" Target="file:///L1_Probability_Starters.ppt" TargetMode="External"/><Relationship Id="rId3" Type="http://schemas.openxmlformats.org/officeDocument/2006/relationships/hyperlink" Target="file:///L1_Probability_Starters.ppt" TargetMode="External"/><Relationship Id="rId4" Type="http://schemas.openxmlformats.org/officeDocument/2006/relationships/hyperlink" Target="file:///L1_Probability_Starters.ppt" TargetMode="External"/><Relationship Id="rId5" Type="http://schemas.openxmlformats.org/officeDocument/2006/relationships/hyperlink" Target="file:///L1_Probability_Starters.ppt" TargetMode="External"/><Relationship Id="rId6" Type="http://schemas.openxmlformats.org/officeDocument/2006/relationships/hyperlink" Target="file:///L1_Probability_Starters.ppt" TargetMode="External"/><Relationship Id="rId7" Type="http://schemas.openxmlformats.org/officeDocument/2006/relationships/hyperlink" Target="file:///L1_Probability_Starters.ppt" TargetMode="External"/><Relationship Id="rId8" Type="http://schemas.openxmlformats.org/officeDocument/2006/relationships/hyperlink" Target="file:///L1_Probability_Starters.ppt" TargetMode="External"/><Relationship Id="rId9" Type="http://schemas.openxmlformats.org/officeDocument/2006/relationships/hyperlink" Target="file:///L1_Probability_Starters.ppt" TargetMode="External"/><Relationship Id="rId10" Type="http://schemas.openxmlformats.org/officeDocument/2006/relationships/hyperlink" Target="file:///L1_Probability_Starters.ppt" TargetMode="External"/><Relationship Id="rId11" Type="http://schemas.openxmlformats.org/officeDocument/2006/relationships/hyperlink" Target="file:///L1_Probability_Starters.ppt" TargetMode="External"/><Relationship Id="rId12" Type="http://schemas.openxmlformats.org/officeDocument/2006/relationships/hyperlink" Target="file:///L1_Probability_Starters.ppt" TargetMode="External"/><Relationship Id="rId13" Type="http://schemas.openxmlformats.org/officeDocument/2006/relationships/hyperlink" Target="file:///L1_Probability_Starters.ppt" TargetMode="External"/><Relationship Id="rId14" Type="http://schemas.openxmlformats.org/officeDocument/2006/relationships/hyperlink" Target="file:///L1_Probability_Starters.ppt" TargetMode="External"/><Relationship Id="rId15" Type="http://schemas.openxmlformats.org/officeDocument/2006/relationships/hyperlink" Target="file:///L1_Probability_Starters.ppt" TargetMode="External"/><Relationship Id="rId16" Type="http://schemas.openxmlformats.org/officeDocument/2006/relationships/hyperlink" Target="file:///L1_Probability_Starters.ppt" TargetMode="External"/><Relationship Id="rId17" Type="http://schemas.openxmlformats.org/officeDocument/2006/relationships/hyperlink" Target="file:///L1_Probability_Starters.ppt" TargetMode="External"/><Relationship Id="rId18" Type="http://schemas.openxmlformats.org/officeDocument/2006/relationships/hyperlink" Target="file:///L1_Probability_Starters.ppt" TargetMode="External"/><Relationship Id="rId19" Type="http://schemas.openxmlformats.org/officeDocument/2006/relationships/hyperlink" Target="file:///L1_Probability_Starters.ppt" TargetMode="External"/><Relationship Id="rId20" Type="http://schemas.openxmlformats.org/officeDocument/2006/relationships/hyperlink" Target="file:///L1_Probability_Starters.ppt" TargetMode="External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nyu.edu/courses/spring06/V22.0005-001/newcards/pages/Queen%20of%20Spades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s.nyu.edu/courses/spring06/V22.0005-001/newcards/pages/Queen%20of%20Hearts%201.html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s.nyu.edu/courses/spring06/V22.0005-001/newcards/pages/Queen%20of%20Diamonds.htm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cs.nyu.edu/courses/spring06/V22.0005-001/newcards/pages/Jack%20of%20Clubs.html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cs.nyu.edu/courses/spring06/V22.0005-001/newcards/pages/06%20of%20Spades.html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cs.nyu.edu/courses/spring06/V22.0005-001/newcards/pages/04%20of%20Spades.html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44280"/>
            <a:ext cx="4535640" cy="578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1 Probability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7080" y="692280"/>
            <a:ext cx="69836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nk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bability Starter 1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obability Starter 1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bability Starter 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bability Starter 2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obability Starter 3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robability Starter 3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robability Starter 4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obability Starter 4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robability Starter 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robability Starter 5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robability Starter 6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robability Starter 6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robability Starter 7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robability Starter 7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robability Starter 8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robability Starter 8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bability Starter 9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robability Starter 9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robability Starter 10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Probability Starter 10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7666200" y="979560"/>
            <a:ext cx="1153800" cy="1154160"/>
            <a:chOff x="7666200" y="979560"/>
            <a:chExt cx="1153800" cy="1154160"/>
          </a:xfrm>
        </p:grpSpPr>
        <p:grpSp>
          <p:nvGrpSpPr>
            <p:cNvPr id="44" name="Group 7"/>
            <p:cNvGrpSpPr/>
            <p:nvPr/>
          </p:nvGrpSpPr>
          <p:grpSpPr>
            <a:xfrm>
              <a:off x="7666200" y="979560"/>
              <a:ext cx="1153800" cy="1154160"/>
              <a:chOff x="7666200" y="979560"/>
              <a:chExt cx="1153800" cy="1154160"/>
            </a:xfrm>
          </p:grpSpPr>
          <p:sp>
            <p:nvSpPr>
              <p:cNvPr id="45" name="Oval 8"/>
              <p:cNvSpPr/>
              <p:nvPr/>
            </p:nvSpPr>
            <p:spPr>
              <a:xfrm>
                <a:off x="7666200" y="979560"/>
                <a:ext cx="1153800" cy="115416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9"/>
              <p:cNvSpPr/>
              <p:nvPr/>
            </p:nvSpPr>
            <p:spPr>
              <a:xfrm>
                <a:off x="8242920" y="979560"/>
                <a:ext cx="0" cy="115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10"/>
              <p:cNvSpPr/>
              <p:nvPr/>
            </p:nvSpPr>
            <p:spPr>
              <a:xfrm>
                <a:off x="7666200" y="1556280"/>
                <a:ext cx="57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11"/>
              <p:cNvSpPr/>
              <p:nvPr/>
            </p:nvSpPr>
            <p:spPr>
              <a:xfrm>
                <a:off x="7847280" y="1087200"/>
                <a:ext cx="32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12"/>
              <p:cNvSpPr/>
              <p:nvPr/>
            </p:nvSpPr>
            <p:spPr>
              <a:xfrm>
                <a:off x="8386920" y="1410840"/>
                <a:ext cx="32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 Box 13"/>
              <p:cNvSpPr/>
              <p:nvPr/>
            </p:nvSpPr>
            <p:spPr>
              <a:xfrm>
                <a:off x="7847280" y="1636560"/>
                <a:ext cx="32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AutoShape 14"/>
            <p:cNvSpPr/>
            <p:nvPr/>
          </p:nvSpPr>
          <p:spPr>
            <a:xfrm rot="19804200">
              <a:off x="8040600" y="1469880"/>
              <a:ext cx="484560" cy="130320"/>
            </a:xfrm>
            <a:custGeom>
              <a:avLst/>
              <a:gdLst>
                <a:gd name="textAreaLeft" fmla="*/ 60480 w 484560"/>
                <a:gd name="textAreaRight" fmla="*/ 424080 w 484560"/>
                <a:gd name="textAreaTop" fmla="*/ 32400 h 130320"/>
                <a:gd name="textAreaBottom" fmla="*/ 9792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5"/>
            <p:cNvSpPr/>
            <p:nvPr/>
          </p:nvSpPr>
          <p:spPr>
            <a:xfrm>
              <a:off x="8207280" y="151992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6" descr="MathematicsTemp28689"/>
          <p:cNvPicPr/>
          <p:nvPr/>
        </p:nvPicPr>
        <p:blipFill>
          <a:blip r:embed="rId21"/>
          <a:stretch/>
        </p:blipFill>
        <p:spPr>
          <a:xfrm>
            <a:off x="8028000" y="314172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thematicsTemp26113"/>
          <p:cNvPicPr/>
          <p:nvPr/>
        </p:nvPicPr>
        <p:blipFill>
          <a:blip r:embed="rId22"/>
          <a:stretch/>
        </p:blipFill>
        <p:spPr>
          <a:xfrm>
            <a:off x="7524720" y="24922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MathematicsTemp29288"/>
          <p:cNvPicPr/>
          <p:nvPr/>
        </p:nvPicPr>
        <p:blipFill>
          <a:blip r:embed="rId23"/>
          <a:stretch/>
        </p:blipFill>
        <p:spPr>
          <a:xfrm>
            <a:off x="8101080" y="4149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athematicsTemp5402"/>
          <p:cNvPicPr/>
          <p:nvPr/>
        </p:nvPicPr>
        <p:blipFill>
          <a:blip r:embed="rId24"/>
          <a:stretch/>
        </p:blipFill>
        <p:spPr>
          <a:xfrm>
            <a:off x="7380360" y="386064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25"/>
          <a:stretch/>
        </p:blipFill>
        <p:spPr>
          <a:xfrm>
            <a:off x="7380360" y="4869000"/>
            <a:ext cx="128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89880" y="238428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getting a 4 OR 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250920" y="62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ill rolls a 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388440" y="321156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getting a 5 and Ted getting a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388080" y="4040280"/>
            <a:ext cx="69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&amp; Ted getting the sam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387360" y="4867200"/>
            <a:ext cx="77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ed rolling a score greater than Bills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1" descr="MathematicsTemp28689"/>
          <p:cNvPicPr/>
          <p:nvPr/>
        </p:nvPicPr>
        <p:blipFill>
          <a:blip r:embed="rId1"/>
          <a:stretch/>
        </p:blipFill>
        <p:spPr>
          <a:xfrm>
            <a:off x="2556000" y="62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2" descr="MathematicsTemp26113"/>
          <p:cNvPicPr/>
          <p:nvPr/>
        </p:nvPicPr>
        <p:blipFill>
          <a:blip r:embed="rId2"/>
          <a:stretch/>
        </p:blipFill>
        <p:spPr>
          <a:xfrm>
            <a:off x="6948360" y="549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3"/>
          <p:cNvSpPr/>
          <p:nvPr/>
        </p:nvSpPr>
        <p:spPr>
          <a:xfrm>
            <a:off x="4572000" y="692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ed rolls a 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388080" y="5695920"/>
            <a:ext cx="59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ed rolling twice Bills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5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5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389880" y="238428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getting a 4 OR 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250920" y="62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ill rolls a 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88440" y="321156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getting a 5 and Ted getting a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388080" y="4040280"/>
            <a:ext cx="69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&amp; Ted getting the sam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387360" y="4867200"/>
            <a:ext cx="77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ed rolling a score greater than Bills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4" descr="MathematicsTemp28689"/>
          <p:cNvPicPr/>
          <p:nvPr/>
        </p:nvPicPr>
        <p:blipFill>
          <a:blip r:embed="rId1"/>
          <a:stretch/>
        </p:blipFill>
        <p:spPr>
          <a:xfrm>
            <a:off x="2556000" y="62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MathematicsTemp26113"/>
          <p:cNvPicPr/>
          <p:nvPr/>
        </p:nvPicPr>
        <p:blipFill>
          <a:blip r:embed="rId2"/>
          <a:stretch/>
        </p:blipFill>
        <p:spPr>
          <a:xfrm>
            <a:off x="6948360" y="549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6"/>
          <p:cNvSpPr/>
          <p:nvPr/>
        </p:nvSpPr>
        <p:spPr>
          <a:xfrm>
            <a:off x="4572000" y="692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ed rolls a 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388080" y="5695920"/>
            <a:ext cx="59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ed rolling twice Bills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0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Ink 18"/>
          <p:cNvSpPr/>
          <p:nvPr/>
        </p:nvSpPr>
        <p:spPr>
          <a:xfrm>
            <a:off x="5991120" y="2517840"/>
            <a:ext cx="1447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16644" y="7045"/>
                </a:moveTo>
                <a:cubicBezTo>
                  <a:pt x="16644" y="7037"/>
                  <a:pt x="16644" y="7028"/>
                  <a:pt x="16644" y="7020"/>
                </a:cubicBezTo>
                <a:cubicBezTo>
                  <a:pt x="16762" y="7020"/>
                  <a:pt x="16888" y="7030"/>
                  <a:pt x="16991" y="6995"/>
                </a:cubicBezTo>
                <a:cubicBezTo>
                  <a:pt x="17059" y="6972"/>
                  <a:pt x="17034" y="7046"/>
                  <a:pt x="17016" y="7069"/>
                </a:cubicBezTo>
              </a:path>
              <a:path w="398" h="299">
                <a:moveTo>
                  <a:pt x="16669" y="7268"/>
                </a:moveTo>
                <a:cubicBezTo>
                  <a:pt x="16669" y="7260"/>
                  <a:pt x="16669" y="7251"/>
                  <a:pt x="16669" y="7243"/>
                </a:cubicBezTo>
                <a:cubicBezTo>
                  <a:pt x="16714" y="7243"/>
                  <a:pt x="16727" y="7263"/>
                  <a:pt x="16768" y="7268"/>
                </a:cubicBezTo>
                <a:cubicBezTo>
                  <a:pt x="16815" y="7273"/>
                  <a:pt x="16827" y="7280"/>
                  <a:pt x="16867" y="7293"/>
                </a:cubicBezTo>
                <a:cubicBezTo>
                  <a:pt x="16893" y="7302"/>
                  <a:pt x="16938" y="7293"/>
                  <a:pt x="16966" y="7293"/>
                </a:cubicBezTo>
                <a:cubicBezTo>
                  <a:pt x="16978" y="7258"/>
                  <a:pt x="16973" y="7268"/>
                  <a:pt x="17016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Ink 19"/>
          <p:cNvSpPr/>
          <p:nvPr/>
        </p:nvSpPr>
        <p:spPr>
          <a:xfrm>
            <a:off x="6384960" y="2286000"/>
            <a:ext cx="339840" cy="571680"/>
          </a:xfrm>
          <a:custGeom>
            <a:avLst/>
            <a:gdLst/>
            <a:ahLst/>
            <a:rect l="l" t="t" r="r" b="b"/>
            <a:pathLst>
              <a:path w="944" h="1589">
                <a:moveTo>
                  <a:pt x="17983" y="6350"/>
                </a:moveTo>
                <a:cubicBezTo>
                  <a:pt x="17996" y="6388"/>
                  <a:pt x="18013" y="6375"/>
                  <a:pt x="18058" y="6375"/>
                </a:cubicBezTo>
                <a:cubicBezTo>
                  <a:pt x="18125" y="6375"/>
                  <a:pt x="18173" y="6382"/>
                  <a:pt x="18207" y="6400"/>
                </a:cubicBezTo>
                <a:cubicBezTo>
                  <a:pt x="18220" y="6407"/>
                  <a:pt x="18269" y="6422"/>
                  <a:pt x="18256" y="6449"/>
                </a:cubicBezTo>
                <a:cubicBezTo>
                  <a:pt x="18233" y="6496"/>
                  <a:pt x="18185" y="6530"/>
                  <a:pt x="18157" y="6573"/>
                </a:cubicBezTo>
                <a:cubicBezTo>
                  <a:pt x="18117" y="6636"/>
                  <a:pt x="18087" y="6648"/>
                  <a:pt x="18033" y="6697"/>
                </a:cubicBezTo>
                <a:cubicBezTo>
                  <a:pt x="18013" y="6715"/>
                  <a:pt x="17969" y="6751"/>
                  <a:pt x="17959" y="6772"/>
                </a:cubicBezTo>
                <a:cubicBezTo>
                  <a:pt x="17959" y="6780"/>
                  <a:pt x="17959" y="6788"/>
                  <a:pt x="17959" y="6796"/>
                </a:cubicBezTo>
                <a:cubicBezTo>
                  <a:pt x="18133" y="6796"/>
                  <a:pt x="18313" y="6809"/>
                  <a:pt x="18479" y="6772"/>
                </a:cubicBezTo>
                <a:cubicBezTo>
                  <a:pt x="18521" y="6763"/>
                  <a:pt x="18548" y="6774"/>
                  <a:pt x="18579" y="6796"/>
                </a:cubicBezTo>
                <a:cubicBezTo>
                  <a:pt x="18546" y="6796"/>
                  <a:pt x="18512" y="6796"/>
                  <a:pt x="18479" y="6796"/>
                </a:cubicBezTo>
              </a:path>
              <a:path w="944" h="1589">
                <a:moveTo>
                  <a:pt x="17735" y="6995"/>
                </a:moveTo>
                <a:cubicBezTo>
                  <a:pt x="17787" y="6973"/>
                  <a:pt x="17805" y="6970"/>
                  <a:pt x="17859" y="6970"/>
                </a:cubicBezTo>
                <a:cubicBezTo>
                  <a:pt x="18140" y="6970"/>
                  <a:pt x="18934" y="6970"/>
                  <a:pt x="18653" y="6970"/>
                </a:cubicBezTo>
              </a:path>
              <a:path w="944" h="1589">
                <a:moveTo>
                  <a:pt x="18231" y="7218"/>
                </a:moveTo>
                <a:cubicBezTo>
                  <a:pt x="18218" y="7191"/>
                  <a:pt x="18176" y="7226"/>
                  <a:pt x="18157" y="7268"/>
                </a:cubicBezTo>
                <a:cubicBezTo>
                  <a:pt x="18138" y="7311"/>
                  <a:pt x="18116" y="7326"/>
                  <a:pt x="18083" y="7367"/>
                </a:cubicBezTo>
                <a:cubicBezTo>
                  <a:pt x="18053" y="7404"/>
                  <a:pt x="18030" y="7427"/>
                  <a:pt x="18008" y="7466"/>
                </a:cubicBezTo>
                <a:cubicBezTo>
                  <a:pt x="17980" y="7515"/>
                  <a:pt x="17940" y="7558"/>
                  <a:pt x="17934" y="7615"/>
                </a:cubicBezTo>
                <a:cubicBezTo>
                  <a:pt x="17928" y="7675"/>
                  <a:pt x="17914" y="7707"/>
                  <a:pt x="17909" y="7764"/>
                </a:cubicBezTo>
                <a:cubicBezTo>
                  <a:pt x="17904" y="7824"/>
                  <a:pt x="17901" y="7888"/>
                  <a:pt x="17934" y="7913"/>
                </a:cubicBezTo>
                <a:cubicBezTo>
                  <a:pt x="17972" y="7942"/>
                  <a:pt x="17985" y="7938"/>
                  <a:pt x="18033" y="7938"/>
                </a:cubicBezTo>
                <a:cubicBezTo>
                  <a:pt x="18081" y="7938"/>
                  <a:pt x="18142" y="7933"/>
                  <a:pt x="18182" y="7913"/>
                </a:cubicBezTo>
                <a:cubicBezTo>
                  <a:pt x="18231" y="7889"/>
                  <a:pt x="18220" y="7863"/>
                  <a:pt x="18281" y="7863"/>
                </a:cubicBezTo>
                <a:cubicBezTo>
                  <a:pt x="18281" y="7803"/>
                  <a:pt x="18300" y="7789"/>
                  <a:pt x="18306" y="7739"/>
                </a:cubicBezTo>
                <a:cubicBezTo>
                  <a:pt x="18310" y="7699"/>
                  <a:pt x="18257" y="7706"/>
                  <a:pt x="18231" y="7689"/>
                </a:cubicBezTo>
                <a:cubicBezTo>
                  <a:pt x="18188" y="7660"/>
                  <a:pt x="18164" y="7665"/>
                  <a:pt x="18107" y="7665"/>
                </a:cubicBezTo>
                <a:cubicBezTo>
                  <a:pt x="18054" y="7665"/>
                  <a:pt x="18028" y="7684"/>
                  <a:pt x="17983" y="7689"/>
                </a:cubicBezTo>
                <a:cubicBezTo>
                  <a:pt x="17941" y="7694"/>
                  <a:pt x="17914" y="7722"/>
                  <a:pt x="17909" y="7764"/>
                </a:cubicBezTo>
                <a:cubicBezTo>
                  <a:pt x="17903" y="7816"/>
                  <a:pt x="17922" y="7803"/>
                  <a:pt x="17934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Ink 20"/>
          <p:cNvSpPr/>
          <p:nvPr/>
        </p:nvSpPr>
        <p:spPr>
          <a:xfrm>
            <a:off x="3990960" y="3589200"/>
            <a:ext cx="2779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1534" y="9996"/>
                </a:moveTo>
                <a:cubicBezTo>
                  <a:pt x="11534" y="9988"/>
                  <a:pt x="11534" y="9979"/>
                  <a:pt x="11534" y="9971"/>
                </a:cubicBezTo>
                <a:cubicBezTo>
                  <a:pt x="11534" y="10022"/>
                  <a:pt x="11523" y="10030"/>
                  <a:pt x="11509" y="10071"/>
                </a:cubicBezTo>
                <a:cubicBezTo>
                  <a:pt x="11489" y="10130"/>
                  <a:pt x="11543" y="10249"/>
                  <a:pt x="11485" y="10269"/>
                </a:cubicBezTo>
              </a:path>
              <a:path w="770" h="1043">
                <a:moveTo>
                  <a:pt x="11088" y="10393"/>
                </a:moveTo>
                <a:cubicBezTo>
                  <a:pt x="11088" y="10385"/>
                  <a:pt x="11088" y="10376"/>
                  <a:pt x="11088" y="10368"/>
                </a:cubicBezTo>
                <a:cubicBezTo>
                  <a:pt x="11177" y="10368"/>
                  <a:pt x="11171" y="10382"/>
                  <a:pt x="11261" y="10418"/>
                </a:cubicBezTo>
                <a:cubicBezTo>
                  <a:pt x="11408" y="10477"/>
                  <a:pt x="11692" y="10418"/>
                  <a:pt x="11857" y="10418"/>
                </a:cubicBezTo>
              </a:path>
              <a:path w="770" h="1043">
                <a:moveTo>
                  <a:pt x="11534" y="10567"/>
                </a:moveTo>
                <a:cubicBezTo>
                  <a:pt x="11517" y="10589"/>
                  <a:pt x="11466" y="10621"/>
                  <a:pt x="11460" y="10641"/>
                </a:cubicBezTo>
                <a:cubicBezTo>
                  <a:pt x="11440" y="10705"/>
                  <a:pt x="11439" y="10686"/>
                  <a:pt x="11385" y="10740"/>
                </a:cubicBezTo>
                <a:cubicBezTo>
                  <a:pt x="11352" y="10774"/>
                  <a:pt x="11359" y="10827"/>
                  <a:pt x="11336" y="10864"/>
                </a:cubicBezTo>
                <a:cubicBezTo>
                  <a:pt x="11299" y="10925"/>
                  <a:pt x="11319" y="10904"/>
                  <a:pt x="11336" y="10939"/>
                </a:cubicBezTo>
                <a:cubicBezTo>
                  <a:pt x="11367" y="11001"/>
                  <a:pt x="11326" y="10955"/>
                  <a:pt x="11385" y="10988"/>
                </a:cubicBezTo>
                <a:cubicBezTo>
                  <a:pt x="11426" y="11011"/>
                  <a:pt x="11434" y="11013"/>
                  <a:pt x="11485" y="11013"/>
                </a:cubicBezTo>
                <a:cubicBezTo>
                  <a:pt x="11547" y="11013"/>
                  <a:pt x="11579" y="11003"/>
                  <a:pt x="11609" y="10988"/>
                </a:cubicBezTo>
                <a:cubicBezTo>
                  <a:pt x="11653" y="10965"/>
                  <a:pt x="11658" y="10971"/>
                  <a:pt x="11658" y="10914"/>
                </a:cubicBezTo>
                <a:cubicBezTo>
                  <a:pt x="11658" y="10861"/>
                  <a:pt x="11626" y="10864"/>
                  <a:pt x="11584" y="10864"/>
                </a:cubicBezTo>
                <a:cubicBezTo>
                  <a:pt x="11510" y="10864"/>
                  <a:pt x="11470" y="10869"/>
                  <a:pt x="11410" y="10889"/>
                </a:cubicBezTo>
                <a:cubicBezTo>
                  <a:pt x="11367" y="10903"/>
                  <a:pt x="11376" y="10868"/>
                  <a:pt x="11361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Ink 21"/>
          <p:cNvSpPr/>
          <p:nvPr/>
        </p:nvSpPr>
        <p:spPr>
          <a:xfrm>
            <a:off x="4894200" y="3724200"/>
            <a:ext cx="177840" cy="1778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4039" y="10344"/>
                </a:moveTo>
                <a:cubicBezTo>
                  <a:pt x="13989" y="10394"/>
                  <a:pt x="13940" y="10475"/>
                  <a:pt x="13891" y="10517"/>
                </a:cubicBezTo>
                <a:cubicBezTo>
                  <a:pt x="13844" y="10557"/>
                  <a:pt x="13757" y="10594"/>
                  <a:pt x="13717" y="10641"/>
                </a:cubicBezTo>
                <a:cubicBezTo>
                  <a:pt x="13675" y="10690"/>
                  <a:pt x="13666" y="10708"/>
                  <a:pt x="13618" y="10740"/>
                </a:cubicBezTo>
                <a:cubicBezTo>
                  <a:pt x="13595" y="10763"/>
                  <a:pt x="13587" y="10767"/>
                  <a:pt x="13593" y="10790"/>
                </a:cubicBezTo>
                <a:cubicBezTo>
                  <a:pt x="13593" y="10745"/>
                  <a:pt x="13608" y="10730"/>
                  <a:pt x="13618" y="10691"/>
                </a:cubicBezTo>
              </a:path>
              <a:path w="497" h="497">
                <a:moveTo>
                  <a:pt x="13618" y="10443"/>
                </a:moveTo>
                <a:cubicBezTo>
                  <a:pt x="13618" y="10435"/>
                  <a:pt x="13618" y="10426"/>
                  <a:pt x="13618" y="10418"/>
                </a:cubicBezTo>
                <a:cubicBezTo>
                  <a:pt x="13663" y="10452"/>
                  <a:pt x="13655" y="10451"/>
                  <a:pt x="13692" y="10492"/>
                </a:cubicBezTo>
                <a:cubicBezTo>
                  <a:pt x="13738" y="10544"/>
                  <a:pt x="13791" y="10583"/>
                  <a:pt x="13841" y="10616"/>
                </a:cubicBezTo>
                <a:cubicBezTo>
                  <a:pt x="13878" y="10640"/>
                  <a:pt x="13906" y="10678"/>
                  <a:pt x="13915" y="10716"/>
                </a:cubicBezTo>
                <a:cubicBezTo>
                  <a:pt x="13955" y="10726"/>
                  <a:pt x="13978" y="10753"/>
                  <a:pt x="14015" y="10765"/>
                </a:cubicBezTo>
                <a:cubicBezTo>
                  <a:pt x="14023" y="10765"/>
                  <a:pt x="14031" y="10765"/>
                  <a:pt x="14039" y="10765"/>
                </a:cubicBezTo>
                <a:cubicBezTo>
                  <a:pt x="14050" y="10797"/>
                  <a:pt x="14061" y="10803"/>
                  <a:pt x="14089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nk 22"/>
          <p:cNvSpPr/>
          <p:nvPr/>
        </p:nvSpPr>
        <p:spPr>
          <a:xfrm>
            <a:off x="5527800" y="3625920"/>
            <a:ext cx="241200" cy="3571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15776" y="10120"/>
                </a:moveTo>
                <a:cubicBezTo>
                  <a:pt x="15776" y="10104"/>
                  <a:pt x="15776" y="10087"/>
                  <a:pt x="15776" y="10071"/>
                </a:cubicBezTo>
                <a:cubicBezTo>
                  <a:pt x="15738" y="10084"/>
                  <a:pt x="15751" y="10100"/>
                  <a:pt x="15751" y="10145"/>
                </a:cubicBezTo>
                <a:cubicBezTo>
                  <a:pt x="15751" y="10229"/>
                  <a:pt x="15750" y="10297"/>
                  <a:pt x="15726" y="10368"/>
                </a:cubicBezTo>
                <a:cubicBezTo>
                  <a:pt x="15726" y="10376"/>
                  <a:pt x="15726" y="10385"/>
                  <a:pt x="15726" y="10393"/>
                </a:cubicBezTo>
              </a:path>
              <a:path w="671" h="993">
                <a:moveTo>
                  <a:pt x="15354" y="10492"/>
                </a:moveTo>
                <a:cubicBezTo>
                  <a:pt x="15398" y="10525"/>
                  <a:pt x="15420" y="10517"/>
                  <a:pt x="15478" y="10517"/>
                </a:cubicBezTo>
                <a:cubicBezTo>
                  <a:pt x="15668" y="10517"/>
                  <a:pt x="16194" y="10407"/>
                  <a:pt x="16024" y="10492"/>
                </a:cubicBezTo>
                <a:cubicBezTo>
                  <a:pt x="16016" y="10500"/>
                  <a:pt x="16007" y="10509"/>
                  <a:pt x="15999" y="10517"/>
                </a:cubicBezTo>
              </a:path>
              <a:path w="671" h="993">
                <a:moveTo>
                  <a:pt x="15701" y="10641"/>
                </a:moveTo>
                <a:cubicBezTo>
                  <a:pt x="15674" y="10678"/>
                  <a:pt x="15663" y="10704"/>
                  <a:pt x="15627" y="10740"/>
                </a:cubicBezTo>
                <a:cubicBezTo>
                  <a:pt x="15601" y="10766"/>
                  <a:pt x="15566" y="10830"/>
                  <a:pt x="15553" y="10864"/>
                </a:cubicBezTo>
                <a:cubicBezTo>
                  <a:pt x="15542" y="10891"/>
                  <a:pt x="15531" y="10937"/>
                  <a:pt x="15528" y="10964"/>
                </a:cubicBezTo>
                <a:cubicBezTo>
                  <a:pt x="15521" y="11022"/>
                  <a:pt x="15542" y="11014"/>
                  <a:pt x="15577" y="11038"/>
                </a:cubicBezTo>
                <a:cubicBezTo>
                  <a:pt x="15603" y="11056"/>
                  <a:pt x="15664" y="11084"/>
                  <a:pt x="15701" y="11063"/>
                </a:cubicBezTo>
                <a:cubicBezTo>
                  <a:pt x="15739" y="11041"/>
                  <a:pt x="15767" y="11022"/>
                  <a:pt x="15801" y="10988"/>
                </a:cubicBezTo>
                <a:cubicBezTo>
                  <a:pt x="15826" y="10963"/>
                  <a:pt x="15846" y="10912"/>
                  <a:pt x="15801" y="10889"/>
                </a:cubicBezTo>
                <a:cubicBezTo>
                  <a:pt x="15754" y="10865"/>
                  <a:pt x="15631" y="10889"/>
                  <a:pt x="15577" y="10889"/>
                </a:cubicBezTo>
                <a:cubicBezTo>
                  <a:pt x="15577" y="10941"/>
                  <a:pt x="15575" y="10939"/>
                  <a:pt x="15627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Ink 23"/>
          <p:cNvSpPr/>
          <p:nvPr/>
        </p:nvSpPr>
        <p:spPr>
          <a:xfrm>
            <a:off x="6269040" y="3830760"/>
            <a:ext cx="152280" cy="63360"/>
          </a:xfrm>
          <a:custGeom>
            <a:avLst/>
            <a:gdLst/>
            <a:ahLst/>
            <a:rect l="l" t="t" r="r" b="b"/>
            <a:pathLst>
              <a:path w="423" h="175">
                <a:moveTo>
                  <a:pt x="17438" y="10641"/>
                </a:moveTo>
                <a:cubicBezTo>
                  <a:pt x="17507" y="10641"/>
                  <a:pt x="17705" y="10641"/>
                  <a:pt x="17686" y="10641"/>
                </a:cubicBezTo>
                <a:cubicBezTo>
                  <a:pt x="17661" y="10641"/>
                  <a:pt x="17653" y="10641"/>
                  <a:pt x="17636" y="10641"/>
                </a:cubicBezTo>
              </a:path>
              <a:path w="423" h="175">
                <a:moveTo>
                  <a:pt x="17413" y="10790"/>
                </a:moveTo>
                <a:cubicBezTo>
                  <a:pt x="17421" y="10790"/>
                  <a:pt x="17430" y="10790"/>
                  <a:pt x="17438" y="10790"/>
                </a:cubicBezTo>
                <a:cubicBezTo>
                  <a:pt x="17447" y="10818"/>
                  <a:pt x="17494" y="10833"/>
                  <a:pt x="17537" y="10815"/>
                </a:cubicBezTo>
                <a:cubicBezTo>
                  <a:pt x="17584" y="10796"/>
                  <a:pt x="17601" y="10790"/>
                  <a:pt x="17661" y="10790"/>
                </a:cubicBezTo>
                <a:cubicBezTo>
                  <a:pt x="17716" y="10790"/>
                  <a:pt x="17744" y="10774"/>
                  <a:pt x="17785" y="10765"/>
                </a:cubicBezTo>
                <a:cubicBezTo>
                  <a:pt x="17802" y="10765"/>
                  <a:pt x="17818" y="10765"/>
                  <a:pt x="17835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Ink 24"/>
          <p:cNvSpPr/>
          <p:nvPr/>
        </p:nvSpPr>
        <p:spPr>
          <a:xfrm>
            <a:off x="6885000" y="3633840"/>
            <a:ext cx="401760" cy="474480"/>
          </a:xfrm>
          <a:custGeom>
            <a:avLst/>
            <a:gdLst/>
            <a:ahLst/>
            <a:rect l="l" t="t" r="r" b="b"/>
            <a:pathLst>
              <a:path w="1118" h="1315">
                <a:moveTo>
                  <a:pt x="19745" y="10145"/>
                </a:moveTo>
                <a:cubicBezTo>
                  <a:pt x="19745" y="10120"/>
                  <a:pt x="19745" y="10112"/>
                  <a:pt x="19745" y="10096"/>
                </a:cubicBezTo>
                <a:cubicBezTo>
                  <a:pt x="19691" y="10113"/>
                  <a:pt x="19744" y="10127"/>
                  <a:pt x="19720" y="10170"/>
                </a:cubicBezTo>
                <a:cubicBezTo>
                  <a:pt x="19692" y="10220"/>
                  <a:pt x="19695" y="10230"/>
                  <a:pt x="19695" y="10294"/>
                </a:cubicBezTo>
                <a:cubicBezTo>
                  <a:pt x="19695" y="10340"/>
                  <a:pt x="19675" y="10352"/>
                  <a:pt x="19670" y="10393"/>
                </a:cubicBezTo>
                <a:cubicBezTo>
                  <a:pt x="19664" y="10447"/>
                  <a:pt x="19692" y="10526"/>
                  <a:pt x="19645" y="10542"/>
                </a:cubicBezTo>
              </a:path>
              <a:path w="1118" h="1315">
                <a:moveTo>
                  <a:pt x="19149" y="10567"/>
                </a:moveTo>
                <a:cubicBezTo>
                  <a:pt x="19209" y="10567"/>
                  <a:pt x="19237" y="10583"/>
                  <a:pt x="19298" y="10592"/>
                </a:cubicBezTo>
                <a:cubicBezTo>
                  <a:pt x="19543" y="10629"/>
                  <a:pt x="19963" y="10636"/>
                  <a:pt x="20191" y="10567"/>
                </a:cubicBezTo>
                <a:cubicBezTo>
                  <a:pt x="20250" y="10549"/>
                  <a:pt x="20240" y="10567"/>
                  <a:pt x="20166" y="10567"/>
                </a:cubicBezTo>
                <a:cubicBezTo>
                  <a:pt x="20150" y="10567"/>
                  <a:pt x="20133" y="10567"/>
                  <a:pt x="20117" y="10567"/>
                </a:cubicBezTo>
              </a:path>
              <a:path w="1118" h="1315">
                <a:moveTo>
                  <a:pt x="19149" y="10864"/>
                </a:moveTo>
                <a:cubicBezTo>
                  <a:pt x="19167" y="10917"/>
                  <a:pt x="19195" y="10869"/>
                  <a:pt x="19248" y="10864"/>
                </a:cubicBezTo>
                <a:cubicBezTo>
                  <a:pt x="19329" y="10856"/>
                  <a:pt x="19415" y="10864"/>
                  <a:pt x="19496" y="10864"/>
                </a:cubicBezTo>
                <a:cubicBezTo>
                  <a:pt x="19496" y="10898"/>
                  <a:pt x="19490" y="10926"/>
                  <a:pt x="19472" y="10939"/>
                </a:cubicBezTo>
                <a:cubicBezTo>
                  <a:pt x="19442" y="10961"/>
                  <a:pt x="19359" y="11001"/>
                  <a:pt x="19323" y="11013"/>
                </a:cubicBezTo>
                <a:cubicBezTo>
                  <a:pt x="19312" y="11017"/>
                  <a:pt x="19223" y="11037"/>
                  <a:pt x="19224" y="11038"/>
                </a:cubicBezTo>
                <a:cubicBezTo>
                  <a:pt x="19242" y="11057"/>
                  <a:pt x="19259" y="11063"/>
                  <a:pt x="19298" y="11063"/>
                </a:cubicBezTo>
                <a:cubicBezTo>
                  <a:pt x="19374" y="11063"/>
                  <a:pt x="19372" y="11137"/>
                  <a:pt x="19397" y="11162"/>
                </a:cubicBezTo>
                <a:cubicBezTo>
                  <a:pt x="19426" y="11191"/>
                  <a:pt x="19422" y="11194"/>
                  <a:pt x="19422" y="11261"/>
                </a:cubicBezTo>
                <a:cubicBezTo>
                  <a:pt x="19422" y="11299"/>
                  <a:pt x="19383" y="11307"/>
                  <a:pt x="19348" y="11336"/>
                </a:cubicBezTo>
                <a:cubicBezTo>
                  <a:pt x="19311" y="11367"/>
                  <a:pt x="19293" y="11393"/>
                  <a:pt x="19248" y="11410"/>
                </a:cubicBezTo>
                <a:cubicBezTo>
                  <a:pt x="19219" y="11420"/>
                  <a:pt x="19157" y="11410"/>
                  <a:pt x="19124" y="11410"/>
                </a:cubicBezTo>
                <a:cubicBezTo>
                  <a:pt x="19130" y="11391"/>
                  <a:pt x="19168" y="11351"/>
                  <a:pt x="19199" y="11336"/>
                </a:cubicBezTo>
                <a:cubicBezTo>
                  <a:pt x="19258" y="11308"/>
                  <a:pt x="19298" y="11301"/>
                  <a:pt x="19348" y="11261"/>
                </a:cubicBezTo>
              </a:path>
              <a:path w="1118" h="1315">
                <a:moveTo>
                  <a:pt x="20017" y="10840"/>
                </a:moveTo>
                <a:cubicBezTo>
                  <a:pt x="19977" y="10850"/>
                  <a:pt x="19978" y="10849"/>
                  <a:pt x="19968" y="10889"/>
                </a:cubicBezTo>
                <a:cubicBezTo>
                  <a:pt x="19929" y="10860"/>
                  <a:pt x="19909" y="10862"/>
                  <a:pt x="19869" y="10889"/>
                </a:cubicBezTo>
                <a:cubicBezTo>
                  <a:pt x="19844" y="10906"/>
                  <a:pt x="19774" y="10980"/>
                  <a:pt x="19769" y="10988"/>
                </a:cubicBezTo>
                <a:cubicBezTo>
                  <a:pt x="19739" y="11040"/>
                  <a:pt x="19720" y="11070"/>
                  <a:pt x="19720" y="11137"/>
                </a:cubicBezTo>
                <a:cubicBezTo>
                  <a:pt x="19720" y="11207"/>
                  <a:pt x="19699" y="11309"/>
                  <a:pt x="19745" y="11361"/>
                </a:cubicBezTo>
                <a:cubicBezTo>
                  <a:pt x="19780" y="11400"/>
                  <a:pt x="19793" y="11410"/>
                  <a:pt x="19844" y="11410"/>
                </a:cubicBezTo>
                <a:cubicBezTo>
                  <a:pt x="19893" y="11410"/>
                  <a:pt x="19953" y="11405"/>
                  <a:pt x="19993" y="11385"/>
                </a:cubicBezTo>
                <a:cubicBezTo>
                  <a:pt x="20028" y="11368"/>
                  <a:pt x="20055" y="11328"/>
                  <a:pt x="20067" y="11311"/>
                </a:cubicBezTo>
                <a:cubicBezTo>
                  <a:pt x="20091" y="11279"/>
                  <a:pt x="20113" y="11266"/>
                  <a:pt x="20117" y="11237"/>
                </a:cubicBezTo>
                <a:cubicBezTo>
                  <a:pt x="20122" y="11197"/>
                  <a:pt x="20107" y="11155"/>
                  <a:pt x="20067" y="11137"/>
                </a:cubicBezTo>
                <a:cubicBezTo>
                  <a:pt x="20029" y="11120"/>
                  <a:pt x="19960" y="11098"/>
                  <a:pt x="19918" y="11088"/>
                </a:cubicBezTo>
                <a:cubicBezTo>
                  <a:pt x="19856" y="11073"/>
                  <a:pt x="19817" y="11096"/>
                  <a:pt x="19769" y="11112"/>
                </a:cubicBezTo>
                <a:cubicBezTo>
                  <a:pt x="19743" y="11121"/>
                  <a:pt x="19724" y="11131"/>
                  <a:pt x="19720" y="11162"/>
                </a:cubicBezTo>
                <a:cubicBezTo>
                  <a:pt x="19716" y="11194"/>
                  <a:pt x="19720" y="11229"/>
                  <a:pt x="19720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Ink 25"/>
          <p:cNvSpPr/>
          <p:nvPr/>
        </p:nvSpPr>
        <p:spPr>
          <a:xfrm>
            <a:off x="938160" y="4419720"/>
            <a:ext cx="204840" cy="206280"/>
          </a:xfrm>
          <a:custGeom>
            <a:avLst/>
            <a:gdLst/>
            <a:ahLst/>
            <a:rect l="l" t="t" r="r" b="b"/>
            <a:pathLst>
              <a:path w="572" h="572">
                <a:moveTo>
                  <a:pt x="2679" y="12353"/>
                </a:moveTo>
                <a:cubicBezTo>
                  <a:pt x="2679" y="12361"/>
                  <a:pt x="2679" y="12370"/>
                  <a:pt x="2679" y="12378"/>
                </a:cubicBezTo>
                <a:cubicBezTo>
                  <a:pt x="2641" y="12390"/>
                  <a:pt x="2654" y="12407"/>
                  <a:pt x="2654" y="12452"/>
                </a:cubicBezTo>
                <a:cubicBezTo>
                  <a:pt x="2654" y="12512"/>
                  <a:pt x="2644" y="12551"/>
                  <a:pt x="2629" y="12601"/>
                </a:cubicBezTo>
                <a:cubicBezTo>
                  <a:pt x="2619" y="12636"/>
                  <a:pt x="2615" y="12668"/>
                  <a:pt x="2604" y="12700"/>
                </a:cubicBezTo>
                <a:cubicBezTo>
                  <a:pt x="2604" y="12725"/>
                  <a:pt x="2604" y="12733"/>
                  <a:pt x="2629" y="12725"/>
                </a:cubicBezTo>
              </a:path>
              <a:path w="572" h="572">
                <a:moveTo>
                  <a:pt x="2853" y="12650"/>
                </a:moveTo>
                <a:cubicBezTo>
                  <a:pt x="2853" y="12696"/>
                  <a:pt x="2833" y="12709"/>
                  <a:pt x="2828" y="12750"/>
                </a:cubicBezTo>
                <a:cubicBezTo>
                  <a:pt x="2824" y="12782"/>
                  <a:pt x="2828" y="12817"/>
                  <a:pt x="2828" y="12849"/>
                </a:cubicBezTo>
              </a:path>
              <a:path w="572" h="572">
                <a:moveTo>
                  <a:pt x="3175" y="12278"/>
                </a:moveTo>
                <a:cubicBezTo>
                  <a:pt x="3175" y="12348"/>
                  <a:pt x="3169" y="12394"/>
                  <a:pt x="3150" y="12452"/>
                </a:cubicBezTo>
                <a:cubicBezTo>
                  <a:pt x="3139" y="12484"/>
                  <a:pt x="3135" y="12521"/>
                  <a:pt x="3125" y="12551"/>
                </a:cubicBezTo>
                <a:cubicBezTo>
                  <a:pt x="3110" y="12595"/>
                  <a:pt x="3120" y="12665"/>
                  <a:pt x="3150" y="126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Ink 26"/>
          <p:cNvSpPr/>
          <p:nvPr/>
        </p:nvSpPr>
        <p:spPr>
          <a:xfrm>
            <a:off x="1581120" y="4464000"/>
            <a:ext cx="312840" cy="189000"/>
          </a:xfrm>
          <a:custGeom>
            <a:avLst/>
            <a:gdLst/>
            <a:ahLst/>
            <a:rect l="l" t="t" r="r" b="b"/>
            <a:pathLst>
              <a:path w="870" h="522">
                <a:moveTo>
                  <a:pt x="4390" y="12402"/>
                </a:moveTo>
                <a:cubicBezTo>
                  <a:pt x="4446" y="12402"/>
                  <a:pt x="4497" y="12390"/>
                  <a:pt x="4539" y="12427"/>
                </a:cubicBezTo>
                <a:cubicBezTo>
                  <a:pt x="4589" y="12472"/>
                  <a:pt x="4554" y="12483"/>
                  <a:pt x="4539" y="12526"/>
                </a:cubicBezTo>
                <a:cubicBezTo>
                  <a:pt x="4527" y="12563"/>
                  <a:pt x="4518" y="12595"/>
                  <a:pt x="4490" y="12626"/>
                </a:cubicBezTo>
                <a:cubicBezTo>
                  <a:pt x="4447" y="12674"/>
                  <a:pt x="4467" y="12651"/>
                  <a:pt x="4440" y="12700"/>
                </a:cubicBezTo>
                <a:cubicBezTo>
                  <a:pt x="4417" y="12723"/>
                  <a:pt x="4409" y="12727"/>
                  <a:pt x="4415" y="12750"/>
                </a:cubicBezTo>
                <a:cubicBezTo>
                  <a:pt x="4457" y="12750"/>
                  <a:pt x="4480" y="12740"/>
                  <a:pt x="4514" y="12725"/>
                </a:cubicBezTo>
                <a:cubicBezTo>
                  <a:pt x="4555" y="12707"/>
                  <a:pt x="4598" y="12679"/>
                  <a:pt x="4638" y="12675"/>
                </a:cubicBezTo>
                <a:cubicBezTo>
                  <a:pt x="4681" y="12670"/>
                  <a:pt x="4680" y="12694"/>
                  <a:pt x="4688" y="12725"/>
                </a:cubicBezTo>
              </a:path>
              <a:path w="870" h="522">
                <a:moveTo>
                  <a:pt x="4787" y="12774"/>
                </a:moveTo>
                <a:cubicBezTo>
                  <a:pt x="4787" y="12827"/>
                  <a:pt x="4738" y="12876"/>
                  <a:pt x="4762" y="12923"/>
                </a:cubicBezTo>
                <a:cubicBezTo>
                  <a:pt x="4770" y="12923"/>
                  <a:pt x="4779" y="12923"/>
                  <a:pt x="4787" y="12923"/>
                </a:cubicBezTo>
              </a:path>
              <a:path w="870" h="522">
                <a:moveTo>
                  <a:pt x="4961" y="12427"/>
                </a:moveTo>
                <a:cubicBezTo>
                  <a:pt x="5024" y="12427"/>
                  <a:pt x="5058" y="12419"/>
                  <a:pt x="5110" y="12402"/>
                </a:cubicBezTo>
                <a:cubicBezTo>
                  <a:pt x="5118" y="12402"/>
                  <a:pt x="5127" y="12402"/>
                  <a:pt x="5135" y="12402"/>
                </a:cubicBezTo>
                <a:cubicBezTo>
                  <a:pt x="5150" y="12464"/>
                  <a:pt x="5147" y="12446"/>
                  <a:pt x="5135" y="12502"/>
                </a:cubicBezTo>
                <a:cubicBezTo>
                  <a:pt x="5124" y="12554"/>
                  <a:pt x="5113" y="12609"/>
                  <a:pt x="5085" y="12650"/>
                </a:cubicBezTo>
                <a:cubicBezTo>
                  <a:pt x="5061" y="12685"/>
                  <a:pt x="5040" y="12732"/>
                  <a:pt x="5035" y="12774"/>
                </a:cubicBezTo>
                <a:cubicBezTo>
                  <a:pt x="5035" y="12782"/>
                  <a:pt x="5035" y="12791"/>
                  <a:pt x="5035" y="12799"/>
                </a:cubicBezTo>
                <a:cubicBezTo>
                  <a:pt x="5110" y="12799"/>
                  <a:pt x="5184" y="12799"/>
                  <a:pt x="5259" y="1279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Ink 27"/>
          <p:cNvSpPr/>
          <p:nvPr/>
        </p:nvSpPr>
        <p:spPr>
          <a:xfrm>
            <a:off x="2374920" y="4429080"/>
            <a:ext cx="339840" cy="196920"/>
          </a:xfrm>
          <a:custGeom>
            <a:avLst/>
            <a:gdLst/>
            <a:ahLst/>
            <a:rect l="l" t="t" r="r" b="b"/>
            <a:pathLst>
              <a:path w="944" h="547">
                <a:moveTo>
                  <a:pt x="6598" y="12353"/>
                </a:moveTo>
                <a:cubicBezTo>
                  <a:pt x="6611" y="12315"/>
                  <a:pt x="6627" y="12328"/>
                  <a:pt x="6672" y="12328"/>
                </a:cubicBezTo>
                <a:cubicBezTo>
                  <a:pt x="6705" y="12328"/>
                  <a:pt x="6739" y="12328"/>
                  <a:pt x="6772" y="12328"/>
                </a:cubicBezTo>
                <a:cubicBezTo>
                  <a:pt x="6772" y="12380"/>
                  <a:pt x="6760" y="12410"/>
                  <a:pt x="6747" y="12452"/>
                </a:cubicBezTo>
                <a:cubicBezTo>
                  <a:pt x="6735" y="12493"/>
                  <a:pt x="6735" y="12462"/>
                  <a:pt x="6722" y="12502"/>
                </a:cubicBezTo>
                <a:cubicBezTo>
                  <a:pt x="6729" y="12523"/>
                  <a:pt x="6766" y="12541"/>
                  <a:pt x="6796" y="12551"/>
                </a:cubicBezTo>
                <a:cubicBezTo>
                  <a:pt x="6823" y="12560"/>
                  <a:pt x="6842" y="12569"/>
                  <a:pt x="6846" y="12601"/>
                </a:cubicBezTo>
                <a:cubicBezTo>
                  <a:pt x="6851" y="12643"/>
                  <a:pt x="6836" y="12661"/>
                  <a:pt x="6796" y="12675"/>
                </a:cubicBezTo>
                <a:cubicBezTo>
                  <a:pt x="6759" y="12687"/>
                  <a:pt x="6750" y="12697"/>
                  <a:pt x="6722" y="12700"/>
                </a:cubicBezTo>
                <a:cubicBezTo>
                  <a:pt x="6658" y="12708"/>
                  <a:pt x="6736" y="12700"/>
                  <a:pt x="6747" y="12700"/>
                </a:cubicBezTo>
              </a:path>
              <a:path w="944" h="547">
                <a:moveTo>
                  <a:pt x="7069" y="12675"/>
                </a:moveTo>
                <a:cubicBezTo>
                  <a:pt x="7061" y="12675"/>
                  <a:pt x="7053" y="12675"/>
                  <a:pt x="7045" y="12675"/>
                </a:cubicBezTo>
                <a:cubicBezTo>
                  <a:pt x="7045" y="12730"/>
                  <a:pt x="7064" y="12834"/>
                  <a:pt x="7020" y="12849"/>
                </a:cubicBezTo>
                <a:cubicBezTo>
                  <a:pt x="7045" y="12849"/>
                  <a:pt x="7053" y="12849"/>
                  <a:pt x="7069" y="12849"/>
                </a:cubicBezTo>
              </a:path>
              <a:path w="944" h="547">
                <a:moveTo>
                  <a:pt x="7317" y="12328"/>
                </a:moveTo>
                <a:cubicBezTo>
                  <a:pt x="7363" y="12328"/>
                  <a:pt x="7376" y="12308"/>
                  <a:pt x="7417" y="12303"/>
                </a:cubicBezTo>
                <a:cubicBezTo>
                  <a:pt x="7425" y="12303"/>
                  <a:pt x="7433" y="12303"/>
                  <a:pt x="7441" y="12303"/>
                </a:cubicBezTo>
                <a:cubicBezTo>
                  <a:pt x="7441" y="12353"/>
                  <a:pt x="7441" y="12402"/>
                  <a:pt x="7441" y="12452"/>
                </a:cubicBezTo>
                <a:cubicBezTo>
                  <a:pt x="7491" y="12462"/>
                  <a:pt x="7535" y="12471"/>
                  <a:pt x="7541" y="12526"/>
                </a:cubicBezTo>
                <a:cubicBezTo>
                  <a:pt x="7545" y="12564"/>
                  <a:pt x="7556" y="12655"/>
                  <a:pt x="7516" y="12675"/>
                </a:cubicBezTo>
                <a:cubicBezTo>
                  <a:pt x="7491" y="12675"/>
                  <a:pt x="7483" y="12675"/>
                  <a:pt x="7466" y="12675"/>
                </a:cubicBezTo>
                <a:cubicBezTo>
                  <a:pt x="7454" y="12724"/>
                  <a:pt x="7442" y="12725"/>
                  <a:pt x="7392" y="12725"/>
                </a:cubicBezTo>
                <a:cubicBezTo>
                  <a:pt x="7384" y="12725"/>
                  <a:pt x="7375" y="12725"/>
                  <a:pt x="7367" y="127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Ink 28"/>
          <p:cNvSpPr/>
          <p:nvPr/>
        </p:nvSpPr>
        <p:spPr>
          <a:xfrm>
            <a:off x="3276720" y="4429080"/>
            <a:ext cx="376200" cy="223920"/>
          </a:xfrm>
          <a:custGeom>
            <a:avLst/>
            <a:gdLst/>
            <a:ahLst/>
            <a:rect l="l" t="t" r="r" b="b"/>
            <a:pathLst>
              <a:path w="1043" h="621">
                <a:moveTo>
                  <a:pt x="9252" y="12303"/>
                </a:moveTo>
                <a:cubicBezTo>
                  <a:pt x="9241" y="12347"/>
                  <a:pt x="9215" y="12378"/>
                  <a:pt x="9203" y="12427"/>
                </a:cubicBezTo>
                <a:cubicBezTo>
                  <a:pt x="9192" y="12471"/>
                  <a:pt x="9165" y="12502"/>
                  <a:pt x="9153" y="12551"/>
                </a:cubicBezTo>
                <a:cubicBezTo>
                  <a:pt x="9139" y="12605"/>
                  <a:pt x="9108" y="12613"/>
                  <a:pt x="9103" y="12675"/>
                </a:cubicBezTo>
                <a:cubicBezTo>
                  <a:pt x="9101" y="12700"/>
                  <a:pt x="9103" y="12725"/>
                  <a:pt x="9103" y="12750"/>
                </a:cubicBezTo>
                <a:cubicBezTo>
                  <a:pt x="9144" y="12750"/>
                  <a:pt x="9169" y="12740"/>
                  <a:pt x="9203" y="12725"/>
                </a:cubicBezTo>
                <a:cubicBezTo>
                  <a:pt x="9251" y="12704"/>
                  <a:pt x="9279" y="12655"/>
                  <a:pt x="9327" y="12650"/>
                </a:cubicBezTo>
                <a:cubicBezTo>
                  <a:pt x="9358" y="12646"/>
                  <a:pt x="9371" y="12633"/>
                  <a:pt x="9401" y="12626"/>
                </a:cubicBezTo>
              </a:path>
              <a:path w="1043" h="621">
                <a:moveTo>
                  <a:pt x="9327" y="12502"/>
                </a:moveTo>
                <a:cubicBezTo>
                  <a:pt x="9327" y="12547"/>
                  <a:pt x="9306" y="12561"/>
                  <a:pt x="9302" y="12601"/>
                </a:cubicBezTo>
                <a:cubicBezTo>
                  <a:pt x="9297" y="12644"/>
                  <a:pt x="9327" y="12679"/>
                  <a:pt x="9327" y="12725"/>
                </a:cubicBezTo>
                <a:cubicBezTo>
                  <a:pt x="9327" y="12765"/>
                  <a:pt x="9309" y="12853"/>
                  <a:pt x="9351" y="12874"/>
                </a:cubicBezTo>
                <a:cubicBezTo>
                  <a:pt x="9359" y="12874"/>
                  <a:pt x="9368" y="12874"/>
                  <a:pt x="9376" y="12874"/>
                </a:cubicBezTo>
              </a:path>
              <a:path w="1043" h="621">
                <a:moveTo>
                  <a:pt x="9575" y="12750"/>
                </a:moveTo>
                <a:cubicBezTo>
                  <a:pt x="9564" y="12791"/>
                  <a:pt x="9530" y="12806"/>
                  <a:pt x="9525" y="12849"/>
                </a:cubicBezTo>
                <a:cubicBezTo>
                  <a:pt x="9520" y="12890"/>
                  <a:pt x="9518" y="12888"/>
                  <a:pt x="9550" y="12898"/>
                </a:cubicBezTo>
              </a:path>
              <a:path w="1043" h="621">
                <a:moveTo>
                  <a:pt x="9922" y="12378"/>
                </a:moveTo>
                <a:cubicBezTo>
                  <a:pt x="9922" y="12425"/>
                  <a:pt x="9902" y="12457"/>
                  <a:pt x="9897" y="12502"/>
                </a:cubicBezTo>
                <a:cubicBezTo>
                  <a:pt x="9891" y="12561"/>
                  <a:pt x="9886" y="12593"/>
                  <a:pt x="9872" y="12650"/>
                </a:cubicBezTo>
                <a:cubicBezTo>
                  <a:pt x="9864" y="12681"/>
                  <a:pt x="9865" y="12734"/>
                  <a:pt x="9897" y="12750"/>
                </a:cubicBezTo>
                <a:cubicBezTo>
                  <a:pt x="9934" y="12768"/>
                  <a:pt x="10018" y="12744"/>
                  <a:pt x="10046" y="12725"/>
                </a:cubicBezTo>
                <a:cubicBezTo>
                  <a:pt x="10083" y="12700"/>
                  <a:pt x="10107" y="12698"/>
                  <a:pt x="10145" y="12675"/>
                </a:cubicBezTo>
              </a:path>
              <a:path w="1043" h="621">
                <a:moveTo>
                  <a:pt x="10096" y="12601"/>
                </a:moveTo>
                <a:cubicBezTo>
                  <a:pt x="10083" y="12651"/>
                  <a:pt x="10071" y="12664"/>
                  <a:pt x="10071" y="12725"/>
                </a:cubicBezTo>
                <a:cubicBezTo>
                  <a:pt x="10071" y="12775"/>
                  <a:pt x="10071" y="12824"/>
                  <a:pt x="10071" y="12874"/>
                </a:cubicBezTo>
                <a:cubicBezTo>
                  <a:pt x="10036" y="12885"/>
                  <a:pt x="10046" y="12881"/>
                  <a:pt x="10046" y="1292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Ink 29"/>
          <p:cNvSpPr/>
          <p:nvPr/>
        </p:nvSpPr>
        <p:spPr>
          <a:xfrm>
            <a:off x="4303800" y="4429080"/>
            <a:ext cx="357120" cy="26820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12055" y="12353"/>
                </a:moveTo>
                <a:cubicBezTo>
                  <a:pt x="12062" y="12325"/>
                  <a:pt x="12116" y="12277"/>
                  <a:pt x="12080" y="12303"/>
                </a:cubicBezTo>
                <a:cubicBezTo>
                  <a:pt x="12036" y="12335"/>
                  <a:pt x="11988" y="12314"/>
                  <a:pt x="11981" y="12378"/>
                </a:cubicBezTo>
                <a:cubicBezTo>
                  <a:pt x="11978" y="12409"/>
                  <a:pt x="11964" y="12422"/>
                  <a:pt x="11956" y="12452"/>
                </a:cubicBezTo>
                <a:cubicBezTo>
                  <a:pt x="12001" y="12463"/>
                  <a:pt x="12039" y="12480"/>
                  <a:pt x="12080" y="12502"/>
                </a:cubicBezTo>
                <a:cubicBezTo>
                  <a:pt x="12127" y="12527"/>
                  <a:pt x="12153" y="12584"/>
                  <a:pt x="12179" y="12601"/>
                </a:cubicBezTo>
                <a:cubicBezTo>
                  <a:pt x="12197" y="12613"/>
                  <a:pt x="12234" y="12648"/>
                  <a:pt x="12179" y="12675"/>
                </a:cubicBezTo>
                <a:cubicBezTo>
                  <a:pt x="12149" y="12690"/>
                  <a:pt x="12133" y="12720"/>
                  <a:pt x="12080" y="12725"/>
                </a:cubicBezTo>
                <a:cubicBezTo>
                  <a:pt x="12017" y="12731"/>
                  <a:pt x="12030" y="12668"/>
                  <a:pt x="12030" y="12626"/>
                </a:cubicBezTo>
              </a:path>
              <a:path w="993" h="745">
                <a:moveTo>
                  <a:pt x="12055" y="12303"/>
                </a:moveTo>
                <a:cubicBezTo>
                  <a:pt x="12109" y="12303"/>
                  <a:pt x="12137" y="12319"/>
                  <a:pt x="12179" y="12328"/>
                </a:cubicBezTo>
                <a:cubicBezTo>
                  <a:pt x="12245" y="12342"/>
                  <a:pt x="12253" y="12353"/>
                  <a:pt x="12303" y="12402"/>
                </a:cubicBezTo>
                <a:cubicBezTo>
                  <a:pt x="12328" y="12427"/>
                  <a:pt x="12336" y="12435"/>
                  <a:pt x="12353" y="12452"/>
                </a:cubicBezTo>
              </a:path>
              <a:path w="993" h="745">
                <a:moveTo>
                  <a:pt x="12675" y="12378"/>
                </a:moveTo>
                <a:cubicBezTo>
                  <a:pt x="12675" y="12370"/>
                  <a:pt x="12675" y="12361"/>
                  <a:pt x="12675" y="12353"/>
                </a:cubicBezTo>
                <a:cubicBezTo>
                  <a:pt x="12675" y="12391"/>
                  <a:pt x="12659" y="12457"/>
                  <a:pt x="12700" y="12477"/>
                </a:cubicBezTo>
                <a:cubicBezTo>
                  <a:pt x="12725" y="12490"/>
                  <a:pt x="12745" y="12441"/>
                  <a:pt x="12750" y="12427"/>
                </a:cubicBezTo>
              </a:path>
              <a:path w="993" h="745">
                <a:moveTo>
                  <a:pt x="12675" y="12402"/>
                </a:moveTo>
                <a:cubicBezTo>
                  <a:pt x="12652" y="12410"/>
                  <a:pt x="12637" y="12444"/>
                  <a:pt x="12626" y="12477"/>
                </a:cubicBezTo>
                <a:cubicBezTo>
                  <a:pt x="12612" y="12521"/>
                  <a:pt x="12622" y="12595"/>
                  <a:pt x="12650" y="12626"/>
                </a:cubicBezTo>
                <a:cubicBezTo>
                  <a:pt x="12680" y="12659"/>
                  <a:pt x="12701" y="12657"/>
                  <a:pt x="12725" y="12675"/>
                </a:cubicBezTo>
                <a:cubicBezTo>
                  <a:pt x="12754" y="12697"/>
                  <a:pt x="12806" y="12711"/>
                  <a:pt x="12824" y="12750"/>
                </a:cubicBezTo>
                <a:cubicBezTo>
                  <a:pt x="12832" y="12767"/>
                  <a:pt x="12791" y="12840"/>
                  <a:pt x="12774" y="12849"/>
                </a:cubicBezTo>
                <a:cubicBezTo>
                  <a:pt x="12753" y="12860"/>
                  <a:pt x="12697" y="12872"/>
                  <a:pt x="12675" y="12874"/>
                </a:cubicBezTo>
                <a:cubicBezTo>
                  <a:pt x="12667" y="12874"/>
                  <a:pt x="12658" y="12874"/>
                  <a:pt x="12650" y="12874"/>
                </a:cubicBezTo>
                <a:cubicBezTo>
                  <a:pt x="12650" y="12799"/>
                  <a:pt x="12650" y="12725"/>
                  <a:pt x="12650" y="12650"/>
                </a:cubicBezTo>
              </a:path>
              <a:path w="993" h="745">
                <a:moveTo>
                  <a:pt x="12750" y="12353"/>
                </a:moveTo>
                <a:cubicBezTo>
                  <a:pt x="12791" y="12353"/>
                  <a:pt x="12833" y="12353"/>
                  <a:pt x="12874" y="12353"/>
                </a:cubicBezTo>
                <a:cubicBezTo>
                  <a:pt x="12887" y="12393"/>
                  <a:pt x="12885" y="12363"/>
                  <a:pt x="12898" y="12402"/>
                </a:cubicBezTo>
                <a:cubicBezTo>
                  <a:pt x="12938" y="12415"/>
                  <a:pt x="12908" y="12414"/>
                  <a:pt x="12948" y="12427"/>
                </a:cubicBezTo>
                <a:cubicBezTo>
                  <a:pt x="12948" y="12452"/>
                  <a:pt x="12948" y="12460"/>
                  <a:pt x="12948" y="12477"/>
                </a:cubicBezTo>
              </a:path>
              <a:path w="993" h="745">
                <a:moveTo>
                  <a:pt x="12427" y="12849"/>
                </a:moveTo>
                <a:cubicBezTo>
                  <a:pt x="12427" y="12905"/>
                  <a:pt x="12417" y="12927"/>
                  <a:pt x="12402" y="12973"/>
                </a:cubicBezTo>
                <a:cubicBezTo>
                  <a:pt x="12390" y="13008"/>
                  <a:pt x="12383" y="13017"/>
                  <a:pt x="12353" y="1304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Ink 30"/>
          <p:cNvSpPr/>
          <p:nvPr/>
        </p:nvSpPr>
        <p:spPr>
          <a:xfrm>
            <a:off x="5106960" y="4384800"/>
            <a:ext cx="349200" cy="28548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14436" y="12179"/>
                </a:moveTo>
                <a:cubicBezTo>
                  <a:pt x="14395" y="12232"/>
                  <a:pt x="14368" y="12292"/>
                  <a:pt x="14337" y="12353"/>
                </a:cubicBezTo>
                <a:cubicBezTo>
                  <a:pt x="14294" y="12438"/>
                  <a:pt x="14299" y="12496"/>
                  <a:pt x="14238" y="12551"/>
                </a:cubicBezTo>
                <a:cubicBezTo>
                  <a:pt x="14211" y="12576"/>
                  <a:pt x="14196" y="12682"/>
                  <a:pt x="14188" y="12725"/>
                </a:cubicBezTo>
                <a:cubicBezTo>
                  <a:pt x="14176" y="12792"/>
                  <a:pt x="14198" y="12818"/>
                  <a:pt x="14238" y="12849"/>
                </a:cubicBezTo>
                <a:cubicBezTo>
                  <a:pt x="14277" y="12880"/>
                  <a:pt x="14333" y="12891"/>
                  <a:pt x="14387" y="12874"/>
                </a:cubicBezTo>
                <a:cubicBezTo>
                  <a:pt x="14433" y="12859"/>
                  <a:pt x="14456" y="12818"/>
                  <a:pt x="14461" y="12774"/>
                </a:cubicBezTo>
                <a:cubicBezTo>
                  <a:pt x="14468" y="12712"/>
                  <a:pt x="14445" y="12675"/>
                  <a:pt x="14387" y="12650"/>
                </a:cubicBezTo>
                <a:cubicBezTo>
                  <a:pt x="14364" y="12640"/>
                  <a:pt x="14314" y="12650"/>
                  <a:pt x="14288" y="12650"/>
                </a:cubicBezTo>
                <a:cubicBezTo>
                  <a:pt x="14300" y="12687"/>
                  <a:pt x="14339" y="12690"/>
                  <a:pt x="14387" y="12700"/>
                </a:cubicBezTo>
              </a:path>
              <a:path w="969" h="795">
                <a:moveTo>
                  <a:pt x="14610" y="12849"/>
                </a:moveTo>
                <a:cubicBezTo>
                  <a:pt x="14610" y="12895"/>
                  <a:pt x="14616" y="12913"/>
                  <a:pt x="14585" y="12948"/>
                </a:cubicBezTo>
                <a:cubicBezTo>
                  <a:pt x="14562" y="12971"/>
                  <a:pt x="14551" y="12979"/>
                  <a:pt x="14585" y="12973"/>
                </a:cubicBezTo>
              </a:path>
              <a:path w="969" h="795">
                <a:moveTo>
                  <a:pt x="15081" y="12303"/>
                </a:moveTo>
                <a:cubicBezTo>
                  <a:pt x="15069" y="12350"/>
                  <a:pt x="15069" y="12437"/>
                  <a:pt x="15032" y="12477"/>
                </a:cubicBezTo>
                <a:cubicBezTo>
                  <a:pt x="14976" y="12537"/>
                  <a:pt x="14948" y="12530"/>
                  <a:pt x="14932" y="12626"/>
                </a:cubicBezTo>
                <a:cubicBezTo>
                  <a:pt x="14925" y="12666"/>
                  <a:pt x="14906" y="12883"/>
                  <a:pt x="14957" y="12898"/>
                </a:cubicBezTo>
                <a:cubicBezTo>
                  <a:pt x="15001" y="12911"/>
                  <a:pt x="15074" y="12902"/>
                  <a:pt x="15106" y="12874"/>
                </a:cubicBezTo>
                <a:cubicBezTo>
                  <a:pt x="15120" y="12862"/>
                  <a:pt x="15189" y="12800"/>
                  <a:pt x="15156" y="12774"/>
                </a:cubicBezTo>
                <a:cubicBezTo>
                  <a:pt x="15133" y="12756"/>
                  <a:pt x="15089" y="12750"/>
                  <a:pt x="15056" y="12750"/>
                </a:cubicBezTo>
                <a:cubicBezTo>
                  <a:pt x="14992" y="12750"/>
                  <a:pt x="14961" y="12761"/>
                  <a:pt x="15007" y="1270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Ink 31"/>
          <p:cNvSpPr/>
          <p:nvPr/>
        </p:nvSpPr>
        <p:spPr>
          <a:xfrm>
            <a:off x="6572160" y="4589640"/>
            <a:ext cx="162000" cy="80640"/>
          </a:xfrm>
          <a:custGeom>
            <a:avLst/>
            <a:gdLst/>
            <a:ahLst/>
            <a:rect l="l" t="t" r="r" b="b"/>
            <a:pathLst>
              <a:path w="448" h="224">
                <a:moveTo>
                  <a:pt x="18355" y="12774"/>
                </a:moveTo>
                <a:cubicBezTo>
                  <a:pt x="18371" y="12729"/>
                  <a:pt x="18423" y="12750"/>
                  <a:pt x="18479" y="12750"/>
                </a:cubicBezTo>
                <a:cubicBezTo>
                  <a:pt x="18545" y="12750"/>
                  <a:pt x="18612" y="12750"/>
                  <a:pt x="18678" y="12750"/>
                </a:cubicBezTo>
                <a:cubicBezTo>
                  <a:pt x="18661" y="12815"/>
                  <a:pt x="18646" y="12775"/>
                  <a:pt x="18604" y="12799"/>
                </a:cubicBezTo>
                <a:cubicBezTo>
                  <a:pt x="18574" y="12829"/>
                  <a:pt x="18560" y="12840"/>
                  <a:pt x="18529" y="12849"/>
                </a:cubicBezTo>
              </a:path>
              <a:path w="448" h="224">
                <a:moveTo>
                  <a:pt x="18256" y="12973"/>
                </a:moveTo>
                <a:cubicBezTo>
                  <a:pt x="18256" y="12965"/>
                  <a:pt x="18256" y="12956"/>
                  <a:pt x="18256" y="12948"/>
                </a:cubicBezTo>
                <a:cubicBezTo>
                  <a:pt x="18302" y="12948"/>
                  <a:pt x="18315" y="12928"/>
                  <a:pt x="18355" y="12923"/>
                </a:cubicBezTo>
                <a:cubicBezTo>
                  <a:pt x="18422" y="12916"/>
                  <a:pt x="18469" y="12956"/>
                  <a:pt x="18529" y="12973"/>
                </a:cubicBezTo>
                <a:cubicBezTo>
                  <a:pt x="18577" y="12987"/>
                  <a:pt x="18652" y="12973"/>
                  <a:pt x="18703" y="1297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k 32"/>
          <p:cNvSpPr/>
          <p:nvPr/>
        </p:nvSpPr>
        <p:spPr>
          <a:xfrm>
            <a:off x="7010280" y="4375080"/>
            <a:ext cx="392400" cy="563760"/>
          </a:xfrm>
          <a:custGeom>
            <a:avLst/>
            <a:gdLst/>
            <a:ahLst/>
            <a:rect l="l" t="t" r="r" b="b"/>
            <a:pathLst>
              <a:path w="1092" h="1564">
                <a:moveTo>
                  <a:pt x="20166" y="12154"/>
                </a:moveTo>
                <a:cubicBezTo>
                  <a:pt x="20126" y="12154"/>
                  <a:pt x="20073" y="12144"/>
                  <a:pt x="20042" y="12179"/>
                </a:cubicBezTo>
                <a:cubicBezTo>
                  <a:pt x="20018" y="12207"/>
                  <a:pt x="19996" y="12291"/>
                  <a:pt x="19968" y="12328"/>
                </a:cubicBezTo>
                <a:cubicBezTo>
                  <a:pt x="19940" y="12365"/>
                  <a:pt x="19900" y="12436"/>
                  <a:pt x="19893" y="12452"/>
                </a:cubicBezTo>
                <a:cubicBezTo>
                  <a:pt x="19879" y="12484"/>
                  <a:pt x="19847" y="12515"/>
                  <a:pt x="19844" y="12551"/>
                </a:cubicBezTo>
                <a:cubicBezTo>
                  <a:pt x="19839" y="12619"/>
                  <a:pt x="19848" y="12629"/>
                  <a:pt x="19893" y="12675"/>
                </a:cubicBezTo>
                <a:cubicBezTo>
                  <a:pt x="19926" y="12708"/>
                  <a:pt x="19997" y="12721"/>
                  <a:pt x="20042" y="12725"/>
                </a:cubicBezTo>
                <a:cubicBezTo>
                  <a:pt x="20091" y="12729"/>
                  <a:pt x="20128" y="12730"/>
                  <a:pt x="20166" y="12700"/>
                </a:cubicBezTo>
                <a:cubicBezTo>
                  <a:pt x="20200" y="12673"/>
                  <a:pt x="20199" y="12649"/>
                  <a:pt x="20216" y="12626"/>
                </a:cubicBezTo>
                <a:cubicBezTo>
                  <a:pt x="20240" y="12594"/>
                  <a:pt x="20246" y="12566"/>
                  <a:pt x="20216" y="12551"/>
                </a:cubicBezTo>
                <a:cubicBezTo>
                  <a:pt x="20184" y="12535"/>
                  <a:pt x="20156" y="12526"/>
                  <a:pt x="20117" y="12526"/>
                </a:cubicBezTo>
                <a:cubicBezTo>
                  <a:pt x="20050" y="12526"/>
                  <a:pt x="19968" y="12506"/>
                  <a:pt x="19918" y="12551"/>
                </a:cubicBezTo>
                <a:cubicBezTo>
                  <a:pt x="19896" y="12573"/>
                  <a:pt x="19891" y="12582"/>
                  <a:pt x="19869" y="12576"/>
                </a:cubicBezTo>
              </a:path>
              <a:path w="1092" h="1564">
                <a:moveTo>
                  <a:pt x="19472" y="12923"/>
                </a:moveTo>
                <a:cubicBezTo>
                  <a:pt x="19552" y="12907"/>
                  <a:pt x="19584" y="12919"/>
                  <a:pt x="19670" y="12923"/>
                </a:cubicBezTo>
                <a:cubicBezTo>
                  <a:pt x="19868" y="12932"/>
                  <a:pt x="20076" y="12930"/>
                  <a:pt x="20265" y="12898"/>
                </a:cubicBezTo>
                <a:cubicBezTo>
                  <a:pt x="20332" y="12887"/>
                  <a:pt x="20556" y="12898"/>
                  <a:pt x="20538" y="12898"/>
                </a:cubicBezTo>
                <a:cubicBezTo>
                  <a:pt x="20494" y="12898"/>
                  <a:pt x="20480" y="12895"/>
                  <a:pt x="20464" y="12923"/>
                </a:cubicBezTo>
              </a:path>
              <a:path w="1092" h="1564">
                <a:moveTo>
                  <a:pt x="19546" y="13171"/>
                </a:moveTo>
                <a:cubicBezTo>
                  <a:pt x="19637" y="13171"/>
                  <a:pt x="19728" y="13171"/>
                  <a:pt x="19819" y="13171"/>
                </a:cubicBezTo>
                <a:cubicBezTo>
                  <a:pt x="19811" y="13195"/>
                  <a:pt x="19787" y="13218"/>
                  <a:pt x="19769" y="13246"/>
                </a:cubicBezTo>
                <a:cubicBezTo>
                  <a:pt x="19759" y="13261"/>
                  <a:pt x="19679" y="13314"/>
                  <a:pt x="19670" y="13320"/>
                </a:cubicBezTo>
                <a:cubicBezTo>
                  <a:pt x="19645" y="13320"/>
                  <a:pt x="19637" y="13320"/>
                  <a:pt x="19645" y="13345"/>
                </a:cubicBezTo>
                <a:cubicBezTo>
                  <a:pt x="19691" y="13345"/>
                  <a:pt x="19710" y="13338"/>
                  <a:pt x="19745" y="13370"/>
                </a:cubicBezTo>
                <a:cubicBezTo>
                  <a:pt x="19772" y="13394"/>
                  <a:pt x="19783" y="13458"/>
                  <a:pt x="19769" y="13494"/>
                </a:cubicBezTo>
                <a:cubicBezTo>
                  <a:pt x="19759" y="13519"/>
                  <a:pt x="19693" y="13545"/>
                  <a:pt x="19670" y="13568"/>
                </a:cubicBezTo>
                <a:cubicBezTo>
                  <a:pt x="19632" y="13606"/>
                  <a:pt x="19624" y="13618"/>
                  <a:pt x="19571" y="13618"/>
                </a:cubicBezTo>
                <a:cubicBezTo>
                  <a:pt x="19563" y="13618"/>
                  <a:pt x="19554" y="13618"/>
                  <a:pt x="19546" y="13618"/>
                </a:cubicBezTo>
                <a:cubicBezTo>
                  <a:pt x="19546" y="13557"/>
                  <a:pt x="19576" y="13553"/>
                  <a:pt x="19596" y="13494"/>
                </a:cubicBezTo>
                <a:cubicBezTo>
                  <a:pt x="19596" y="13469"/>
                  <a:pt x="19596" y="13461"/>
                  <a:pt x="19621" y="13469"/>
                </a:cubicBezTo>
              </a:path>
              <a:path w="1092" h="1564">
                <a:moveTo>
                  <a:pt x="20365" y="13171"/>
                </a:moveTo>
                <a:cubicBezTo>
                  <a:pt x="20314" y="13171"/>
                  <a:pt x="20324" y="13180"/>
                  <a:pt x="20290" y="13196"/>
                </a:cubicBezTo>
                <a:cubicBezTo>
                  <a:pt x="20238" y="13220"/>
                  <a:pt x="20206" y="13255"/>
                  <a:pt x="20166" y="13295"/>
                </a:cubicBezTo>
                <a:cubicBezTo>
                  <a:pt x="20137" y="13323"/>
                  <a:pt x="20104" y="13360"/>
                  <a:pt x="20092" y="13395"/>
                </a:cubicBezTo>
                <a:cubicBezTo>
                  <a:pt x="20078" y="13435"/>
                  <a:pt x="20071" y="13476"/>
                  <a:pt x="20067" y="13519"/>
                </a:cubicBezTo>
                <a:cubicBezTo>
                  <a:pt x="20061" y="13595"/>
                  <a:pt x="20092" y="13587"/>
                  <a:pt x="20117" y="13643"/>
                </a:cubicBezTo>
                <a:cubicBezTo>
                  <a:pt x="20125" y="13660"/>
                  <a:pt x="20160" y="13703"/>
                  <a:pt x="20191" y="13717"/>
                </a:cubicBezTo>
                <a:cubicBezTo>
                  <a:pt x="20230" y="13734"/>
                  <a:pt x="20287" y="13714"/>
                  <a:pt x="20315" y="13692"/>
                </a:cubicBezTo>
                <a:cubicBezTo>
                  <a:pt x="20338" y="13673"/>
                  <a:pt x="20403" y="13640"/>
                  <a:pt x="20414" y="13618"/>
                </a:cubicBezTo>
                <a:cubicBezTo>
                  <a:pt x="20437" y="13572"/>
                  <a:pt x="20407" y="13508"/>
                  <a:pt x="20389" y="13494"/>
                </a:cubicBezTo>
                <a:cubicBezTo>
                  <a:pt x="20347" y="13462"/>
                  <a:pt x="20321" y="13469"/>
                  <a:pt x="20265" y="13469"/>
                </a:cubicBezTo>
                <a:cubicBezTo>
                  <a:pt x="20191" y="13469"/>
                  <a:pt x="20120" y="13391"/>
                  <a:pt x="20067" y="13444"/>
                </a:cubicBezTo>
                <a:cubicBezTo>
                  <a:pt x="20035" y="13476"/>
                  <a:pt x="20078" y="13437"/>
                  <a:pt x="20092" y="1341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Ink 33"/>
          <p:cNvSpPr/>
          <p:nvPr/>
        </p:nvSpPr>
        <p:spPr>
          <a:xfrm>
            <a:off x="7688160" y="4599000"/>
            <a:ext cx="384120" cy="133200"/>
          </a:xfrm>
          <a:custGeom>
            <a:avLst/>
            <a:gdLst/>
            <a:ahLst/>
            <a:rect l="l" t="t" r="r" b="b"/>
            <a:pathLst>
              <a:path w="1067" h="373">
                <a:moveTo>
                  <a:pt x="21431" y="12874"/>
                </a:moveTo>
                <a:cubicBezTo>
                  <a:pt x="21408" y="12914"/>
                  <a:pt x="21362" y="12956"/>
                  <a:pt x="21357" y="12998"/>
                </a:cubicBezTo>
                <a:cubicBezTo>
                  <a:pt x="21353" y="13034"/>
                  <a:pt x="21344" y="13103"/>
                  <a:pt x="21382" y="13122"/>
                </a:cubicBezTo>
                <a:cubicBezTo>
                  <a:pt x="21400" y="13131"/>
                  <a:pt x="21493" y="13151"/>
                  <a:pt x="21506" y="13146"/>
                </a:cubicBezTo>
                <a:cubicBezTo>
                  <a:pt x="21538" y="13133"/>
                  <a:pt x="21597" y="13081"/>
                  <a:pt x="21605" y="13072"/>
                </a:cubicBezTo>
                <a:cubicBezTo>
                  <a:pt x="21635" y="13038"/>
                  <a:pt x="21648" y="12988"/>
                  <a:pt x="21605" y="12948"/>
                </a:cubicBezTo>
                <a:cubicBezTo>
                  <a:pt x="21585" y="12930"/>
                  <a:pt x="21506" y="12900"/>
                  <a:pt x="21481" y="12898"/>
                </a:cubicBezTo>
                <a:cubicBezTo>
                  <a:pt x="21426" y="12894"/>
                  <a:pt x="21388" y="12918"/>
                  <a:pt x="21382" y="12973"/>
                </a:cubicBezTo>
                <a:cubicBezTo>
                  <a:pt x="21379" y="13005"/>
                  <a:pt x="21450" y="13009"/>
                  <a:pt x="21481" y="13022"/>
                </a:cubicBezTo>
              </a:path>
              <a:path w="1067" h="373">
                <a:moveTo>
                  <a:pt x="21977" y="12898"/>
                </a:moveTo>
                <a:cubicBezTo>
                  <a:pt x="21964" y="12929"/>
                  <a:pt x="21966" y="12997"/>
                  <a:pt x="21952" y="13022"/>
                </a:cubicBezTo>
                <a:cubicBezTo>
                  <a:pt x="21929" y="13063"/>
                  <a:pt x="21927" y="13071"/>
                  <a:pt x="21927" y="13122"/>
                </a:cubicBezTo>
                <a:cubicBezTo>
                  <a:pt x="21927" y="13130"/>
                  <a:pt x="21927" y="13138"/>
                  <a:pt x="21927" y="13146"/>
                </a:cubicBezTo>
                <a:cubicBezTo>
                  <a:pt x="21938" y="13101"/>
                  <a:pt x="21955" y="13063"/>
                  <a:pt x="21977" y="13022"/>
                </a:cubicBezTo>
                <a:cubicBezTo>
                  <a:pt x="22013" y="12956"/>
                  <a:pt x="22060" y="12925"/>
                  <a:pt x="22101" y="12874"/>
                </a:cubicBezTo>
                <a:cubicBezTo>
                  <a:pt x="22136" y="12831"/>
                  <a:pt x="22146" y="12792"/>
                  <a:pt x="22200" y="12774"/>
                </a:cubicBezTo>
                <a:cubicBezTo>
                  <a:pt x="22208" y="12774"/>
                  <a:pt x="22217" y="12774"/>
                  <a:pt x="22225" y="12774"/>
                </a:cubicBezTo>
                <a:cubicBezTo>
                  <a:pt x="22225" y="12802"/>
                  <a:pt x="22213" y="12883"/>
                  <a:pt x="22200" y="12898"/>
                </a:cubicBezTo>
                <a:cubicBezTo>
                  <a:pt x="22199" y="12899"/>
                  <a:pt x="22090" y="12967"/>
                  <a:pt x="22076" y="12973"/>
                </a:cubicBezTo>
                <a:cubicBezTo>
                  <a:pt x="22040" y="12989"/>
                  <a:pt x="22038" y="12979"/>
                  <a:pt x="22027" y="13022"/>
                </a:cubicBezTo>
                <a:cubicBezTo>
                  <a:pt x="22077" y="13022"/>
                  <a:pt x="22085" y="13033"/>
                  <a:pt x="22126" y="13047"/>
                </a:cubicBezTo>
                <a:cubicBezTo>
                  <a:pt x="22179" y="13065"/>
                  <a:pt x="22275" y="13061"/>
                  <a:pt x="22324" y="13072"/>
                </a:cubicBezTo>
                <a:cubicBezTo>
                  <a:pt x="22373" y="13083"/>
                  <a:pt x="22384" y="13057"/>
                  <a:pt x="22423" y="1304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Ink 34"/>
          <p:cNvSpPr/>
          <p:nvPr/>
        </p:nvSpPr>
        <p:spPr>
          <a:xfrm>
            <a:off x="8340840" y="4367160"/>
            <a:ext cx="322200" cy="500040"/>
          </a:xfrm>
          <a:custGeom>
            <a:avLst/>
            <a:gdLst/>
            <a:ahLst/>
            <a:rect l="l" t="t" r="r" b="b"/>
            <a:pathLst>
              <a:path w="894" h="1391">
                <a:moveTo>
                  <a:pt x="23763" y="12129"/>
                </a:moveTo>
                <a:cubicBezTo>
                  <a:pt x="23763" y="12196"/>
                  <a:pt x="23748" y="12242"/>
                  <a:pt x="23738" y="12303"/>
                </a:cubicBezTo>
                <a:cubicBezTo>
                  <a:pt x="23730" y="12352"/>
                  <a:pt x="23718" y="12405"/>
                  <a:pt x="23713" y="12452"/>
                </a:cubicBezTo>
                <a:cubicBezTo>
                  <a:pt x="23706" y="12525"/>
                  <a:pt x="23713" y="12602"/>
                  <a:pt x="23713" y="12675"/>
                </a:cubicBezTo>
              </a:path>
              <a:path w="894" h="1391">
                <a:moveTo>
                  <a:pt x="23168" y="12700"/>
                </a:moveTo>
                <a:cubicBezTo>
                  <a:pt x="23233" y="12700"/>
                  <a:pt x="23282" y="12717"/>
                  <a:pt x="23341" y="12725"/>
                </a:cubicBezTo>
                <a:cubicBezTo>
                  <a:pt x="23572" y="12755"/>
                  <a:pt x="23827" y="12725"/>
                  <a:pt x="24061" y="12725"/>
                </a:cubicBezTo>
              </a:path>
              <a:path w="894" h="1391">
                <a:moveTo>
                  <a:pt x="23639" y="12874"/>
                </a:moveTo>
                <a:cubicBezTo>
                  <a:pt x="23567" y="12891"/>
                  <a:pt x="23570" y="12931"/>
                  <a:pt x="23540" y="12998"/>
                </a:cubicBezTo>
                <a:cubicBezTo>
                  <a:pt x="23511" y="13063"/>
                  <a:pt x="23454" y="13089"/>
                  <a:pt x="23416" y="13146"/>
                </a:cubicBezTo>
                <a:cubicBezTo>
                  <a:pt x="23380" y="13200"/>
                  <a:pt x="23346" y="13260"/>
                  <a:pt x="23341" y="13320"/>
                </a:cubicBezTo>
                <a:cubicBezTo>
                  <a:pt x="23337" y="13372"/>
                  <a:pt x="23333" y="13407"/>
                  <a:pt x="23366" y="13444"/>
                </a:cubicBezTo>
                <a:cubicBezTo>
                  <a:pt x="23407" y="13490"/>
                  <a:pt x="23417" y="13477"/>
                  <a:pt x="23465" y="13494"/>
                </a:cubicBezTo>
                <a:cubicBezTo>
                  <a:pt x="23512" y="13511"/>
                  <a:pt x="23560" y="13535"/>
                  <a:pt x="23614" y="13519"/>
                </a:cubicBezTo>
                <a:cubicBezTo>
                  <a:pt x="23682" y="13499"/>
                  <a:pt x="23683" y="13489"/>
                  <a:pt x="23713" y="13444"/>
                </a:cubicBezTo>
                <a:cubicBezTo>
                  <a:pt x="23740" y="13404"/>
                  <a:pt x="23738" y="13395"/>
                  <a:pt x="23738" y="13345"/>
                </a:cubicBezTo>
                <a:cubicBezTo>
                  <a:pt x="23675" y="13345"/>
                  <a:pt x="23648" y="13325"/>
                  <a:pt x="23589" y="13320"/>
                </a:cubicBezTo>
                <a:cubicBezTo>
                  <a:pt x="23480" y="13311"/>
                  <a:pt x="23440" y="13326"/>
                  <a:pt x="23366" y="13370"/>
                </a:cubicBezTo>
                <a:cubicBezTo>
                  <a:pt x="23341" y="13370"/>
                  <a:pt x="23333" y="13370"/>
                  <a:pt x="23316" y="1337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Ink 35"/>
          <p:cNvSpPr/>
          <p:nvPr/>
        </p:nvSpPr>
        <p:spPr>
          <a:xfrm>
            <a:off x="6483240" y="5483160"/>
            <a:ext cx="231840" cy="88920"/>
          </a:xfrm>
          <a:custGeom>
            <a:avLst/>
            <a:gdLst/>
            <a:ahLst/>
            <a:rect l="l" t="t" r="r" b="b"/>
            <a:pathLst>
              <a:path w="646" h="249">
                <a:moveTo>
                  <a:pt x="18033" y="15255"/>
                </a:moveTo>
                <a:cubicBezTo>
                  <a:pt x="18078" y="15255"/>
                  <a:pt x="18091" y="15259"/>
                  <a:pt x="18107" y="15230"/>
                </a:cubicBezTo>
                <a:cubicBezTo>
                  <a:pt x="18120" y="15270"/>
                  <a:pt x="18156" y="15255"/>
                  <a:pt x="18207" y="15255"/>
                </a:cubicBezTo>
                <a:cubicBezTo>
                  <a:pt x="18347" y="15255"/>
                  <a:pt x="18488" y="15255"/>
                  <a:pt x="18628" y="15255"/>
                </a:cubicBezTo>
                <a:cubicBezTo>
                  <a:pt x="18628" y="15280"/>
                  <a:pt x="18628" y="15288"/>
                  <a:pt x="18604" y="15280"/>
                </a:cubicBezTo>
              </a:path>
              <a:path w="646" h="249">
                <a:moveTo>
                  <a:pt x="18008" y="15478"/>
                </a:moveTo>
                <a:cubicBezTo>
                  <a:pt x="18231" y="15478"/>
                  <a:pt x="18851" y="15478"/>
                  <a:pt x="18628" y="15478"/>
                </a:cubicBezTo>
                <a:cubicBezTo>
                  <a:pt x="18620" y="15478"/>
                  <a:pt x="18612" y="15478"/>
                  <a:pt x="18604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nk 36"/>
          <p:cNvSpPr/>
          <p:nvPr/>
        </p:nvSpPr>
        <p:spPr>
          <a:xfrm>
            <a:off x="7215120" y="5259240"/>
            <a:ext cx="473040" cy="563760"/>
          </a:xfrm>
          <a:custGeom>
            <a:avLst/>
            <a:gdLst/>
            <a:ahLst/>
            <a:rect l="l" t="t" r="r" b="b"/>
            <a:pathLst>
              <a:path w="1316" h="1564">
                <a:moveTo>
                  <a:pt x="20662" y="14684"/>
                </a:moveTo>
                <a:cubicBezTo>
                  <a:pt x="20670" y="14684"/>
                  <a:pt x="20679" y="14684"/>
                  <a:pt x="20687" y="14684"/>
                </a:cubicBezTo>
                <a:cubicBezTo>
                  <a:pt x="20682" y="14717"/>
                  <a:pt x="20678" y="14779"/>
                  <a:pt x="20662" y="14808"/>
                </a:cubicBezTo>
                <a:cubicBezTo>
                  <a:pt x="20642" y="14846"/>
                  <a:pt x="20618" y="14889"/>
                  <a:pt x="20613" y="14932"/>
                </a:cubicBezTo>
                <a:cubicBezTo>
                  <a:pt x="20611" y="14952"/>
                  <a:pt x="20598" y="15014"/>
                  <a:pt x="20588" y="15032"/>
                </a:cubicBezTo>
                <a:cubicBezTo>
                  <a:pt x="20565" y="15054"/>
                  <a:pt x="20554" y="15062"/>
                  <a:pt x="20588" y="15056"/>
                </a:cubicBezTo>
              </a:path>
              <a:path w="1316" h="1564">
                <a:moveTo>
                  <a:pt x="20960" y="14635"/>
                </a:moveTo>
                <a:cubicBezTo>
                  <a:pt x="20952" y="14635"/>
                  <a:pt x="20943" y="14635"/>
                  <a:pt x="20935" y="14635"/>
                </a:cubicBezTo>
                <a:cubicBezTo>
                  <a:pt x="20957" y="14570"/>
                  <a:pt x="20950" y="14642"/>
                  <a:pt x="20985" y="14660"/>
                </a:cubicBezTo>
                <a:cubicBezTo>
                  <a:pt x="21033" y="14684"/>
                  <a:pt x="21223" y="14664"/>
                  <a:pt x="21233" y="14635"/>
                </a:cubicBezTo>
                <a:cubicBezTo>
                  <a:pt x="21233" y="14660"/>
                  <a:pt x="21233" y="14668"/>
                  <a:pt x="21208" y="14660"/>
                </a:cubicBezTo>
              </a:path>
              <a:path w="1316" h="1564">
                <a:moveTo>
                  <a:pt x="21034" y="14660"/>
                </a:moveTo>
                <a:cubicBezTo>
                  <a:pt x="20994" y="14673"/>
                  <a:pt x="20990" y="14680"/>
                  <a:pt x="20985" y="14734"/>
                </a:cubicBezTo>
                <a:cubicBezTo>
                  <a:pt x="20985" y="14739"/>
                  <a:pt x="20961" y="14832"/>
                  <a:pt x="20960" y="14833"/>
                </a:cubicBezTo>
                <a:cubicBezTo>
                  <a:pt x="20935" y="14833"/>
                  <a:pt x="20927" y="14833"/>
                  <a:pt x="20935" y="14858"/>
                </a:cubicBezTo>
                <a:cubicBezTo>
                  <a:pt x="20948" y="14896"/>
                  <a:pt x="20965" y="14883"/>
                  <a:pt x="21010" y="14883"/>
                </a:cubicBezTo>
                <a:cubicBezTo>
                  <a:pt x="21061" y="14883"/>
                  <a:pt x="21063" y="14898"/>
                  <a:pt x="21084" y="14908"/>
                </a:cubicBezTo>
                <a:cubicBezTo>
                  <a:pt x="21119" y="14925"/>
                  <a:pt x="21109" y="14933"/>
                  <a:pt x="21109" y="14982"/>
                </a:cubicBezTo>
                <a:cubicBezTo>
                  <a:pt x="21109" y="15009"/>
                  <a:pt x="21084" y="15029"/>
                  <a:pt x="21059" y="15032"/>
                </a:cubicBezTo>
                <a:cubicBezTo>
                  <a:pt x="21014" y="15038"/>
                  <a:pt x="20982" y="15056"/>
                  <a:pt x="20935" y="15056"/>
                </a:cubicBezTo>
                <a:cubicBezTo>
                  <a:pt x="20890" y="15056"/>
                  <a:pt x="20874" y="15043"/>
                  <a:pt x="20861" y="15081"/>
                </a:cubicBezTo>
              </a:path>
              <a:path w="1316" h="1564">
                <a:moveTo>
                  <a:pt x="20042" y="15354"/>
                </a:moveTo>
                <a:cubicBezTo>
                  <a:pt x="20116" y="15339"/>
                  <a:pt x="20140" y="15351"/>
                  <a:pt x="20216" y="15354"/>
                </a:cubicBezTo>
                <a:cubicBezTo>
                  <a:pt x="20313" y="15358"/>
                  <a:pt x="20399" y="15341"/>
                  <a:pt x="20489" y="15329"/>
                </a:cubicBezTo>
                <a:cubicBezTo>
                  <a:pt x="20570" y="15318"/>
                  <a:pt x="20657" y="15308"/>
                  <a:pt x="20737" y="15304"/>
                </a:cubicBezTo>
                <a:cubicBezTo>
                  <a:pt x="20889" y="15296"/>
                  <a:pt x="21044" y="15307"/>
                  <a:pt x="21183" y="15280"/>
                </a:cubicBezTo>
                <a:cubicBezTo>
                  <a:pt x="21239" y="15269"/>
                  <a:pt x="21260" y="15271"/>
                  <a:pt x="21307" y="15255"/>
                </a:cubicBezTo>
                <a:cubicBezTo>
                  <a:pt x="21350" y="15241"/>
                  <a:pt x="21371" y="15255"/>
                  <a:pt x="21307" y="15255"/>
                </a:cubicBezTo>
                <a:cubicBezTo>
                  <a:pt x="21282" y="15255"/>
                  <a:pt x="21274" y="15255"/>
                  <a:pt x="21258" y="15255"/>
                </a:cubicBezTo>
              </a:path>
              <a:path w="1316" h="1564">
                <a:moveTo>
                  <a:pt x="20365" y="15553"/>
                </a:moveTo>
                <a:cubicBezTo>
                  <a:pt x="20377" y="15589"/>
                  <a:pt x="20395" y="15577"/>
                  <a:pt x="20439" y="15577"/>
                </a:cubicBezTo>
                <a:cubicBezTo>
                  <a:pt x="20490" y="15577"/>
                  <a:pt x="20521" y="15565"/>
                  <a:pt x="20563" y="15553"/>
                </a:cubicBezTo>
                <a:cubicBezTo>
                  <a:pt x="20592" y="15545"/>
                  <a:pt x="20647" y="15547"/>
                  <a:pt x="20662" y="15577"/>
                </a:cubicBezTo>
                <a:cubicBezTo>
                  <a:pt x="20679" y="15612"/>
                  <a:pt x="20643" y="15664"/>
                  <a:pt x="20613" y="15677"/>
                </a:cubicBezTo>
                <a:cubicBezTo>
                  <a:pt x="20585" y="15690"/>
                  <a:pt x="20559" y="15698"/>
                  <a:pt x="20538" y="15701"/>
                </a:cubicBezTo>
                <a:cubicBezTo>
                  <a:pt x="20497" y="15706"/>
                  <a:pt x="20474" y="15722"/>
                  <a:pt x="20464" y="15751"/>
                </a:cubicBezTo>
                <a:cubicBezTo>
                  <a:pt x="20472" y="15753"/>
                  <a:pt x="20561" y="15773"/>
                  <a:pt x="20563" y="15776"/>
                </a:cubicBezTo>
                <a:cubicBezTo>
                  <a:pt x="20589" y="15808"/>
                  <a:pt x="20613" y="15790"/>
                  <a:pt x="20613" y="15850"/>
                </a:cubicBezTo>
                <a:cubicBezTo>
                  <a:pt x="20613" y="15906"/>
                  <a:pt x="20620" y="15925"/>
                  <a:pt x="20588" y="15949"/>
                </a:cubicBezTo>
                <a:cubicBezTo>
                  <a:pt x="20544" y="15982"/>
                  <a:pt x="20541" y="16031"/>
                  <a:pt x="20489" y="16049"/>
                </a:cubicBezTo>
                <a:cubicBezTo>
                  <a:pt x="20441" y="16065"/>
                  <a:pt x="20422" y="16098"/>
                  <a:pt x="20365" y="16098"/>
                </a:cubicBezTo>
                <a:cubicBezTo>
                  <a:pt x="20330" y="16098"/>
                  <a:pt x="20285" y="16111"/>
                  <a:pt x="20265" y="16073"/>
                </a:cubicBezTo>
                <a:cubicBezTo>
                  <a:pt x="20240" y="16024"/>
                  <a:pt x="20282" y="16024"/>
                  <a:pt x="20315" y="16024"/>
                </a:cubicBezTo>
                <a:cubicBezTo>
                  <a:pt x="20323" y="16024"/>
                  <a:pt x="20332" y="16024"/>
                  <a:pt x="20340" y="16024"/>
                </a:cubicBezTo>
              </a:path>
              <a:path w="1316" h="1564">
                <a:moveTo>
                  <a:pt x="21134" y="15627"/>
                </a:moveTo>
                <a:cubicBezTo>
                  <a:pt x="21108" y="15633"/>
                  <a:pt x="21065" y="15666"/>
                  <a:pt x="21059" y="15677"/>
                </a:cubicBezTo>
                <a:cubicBezTo>
                  <a:pt x="21044" y="15706"/>
                  <a:pt x="21014" y="15728"/>
                  <a:pt x="20985" y="15751"/>
                </a:cubicBezTo>
                <a:cubicBezTo>
                  <a:pt x="20959" y="15771"/>
                  <a:pt x="20938" y="15819"/>
                  <a:pt x="20935" y="15850"/>
                </a:cubicBezTo>
                <a:cubicBezTo>
                  <a:pt x="20930" y="15890"/>
                  <a:pt x="20910" y="15904"/>
                  <a:pt x="20910" y="15949"/>
                </a:cubicBezTo>
                <a:cubicBezTo>
                  <a:pt x="20910" y="16016"/>
                  <a:pt x="20918" y="16064"/>
                  <a:pt x="20935" y="16098"/>
                </a:cubicBezTo>
                <a:cubicBezTo>
                  <a:pt x="20964" y="16156"/>
                  <a:pt x="20963" y="16121"/>
                  <a:pt x="21010" y="16148"/>
                </a:cubicBezTo>
                <a:cubicBezTo>
                  <a:pt x="21051" y="16171"/>
                  <a:pt x="21058" y="16173"/>
                  <a:pt x="21109" y="16173"/>
                </a:cubicBezTo>
                <a:cubicBezTo>
                  <a:pt x="21140" y="16173"/>
                  <a:pt x="21194" y="16129"/>
                  <a:pt x="21208" y="16098"/>
                </a:cubicBezTo>
                <a:cubicBezTo>
                  <a:pt x="21223" y="16063"/>
                  <a:pt x="21203" y="16022"/>
                  <a:pt x="21183" y="15999"/>
                </a:cubicBezTo>
                <a:cubicBezTo>
                  <a:pt x="21153" y="15965"/>
                  <a:pt x="21127" y="15974"/>
                  <a:pt x="21084" y="15974"/>
                </a:cubicBezTo>
                <a:cubicBezTo>
                  <a:pt x="21014" y="15974"/>
                  <a:pt x="20913" y="15953"/>
                  <a:pt x="20861" y="15999"/>
                </a:cubicBezTo>
                <a:cubicBezTo>
                  <a:pt x="20838" y="16022"/>
                  <a:pt x="20834" y="16030"/>
                  <a:pt x="20811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nk 37"/>
          <p:cNvSpPr/>
          <p:nvPr/>
        </p:nvSpPr>
        <p:spPr>
          <a:xfrm>
            <a:off x="812880" y="5205240"/>
            <a:ext cx="2761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2431" y="14486"/>
                </a:moveTo>
                <a:cubicBezTo>
                  <a:pt x="2393" y="14499"/>
                  <a:pt x="2402" y="14508"/>
                  <a:pt x="2381" y="14536"/>
                </a:cubicBezTo>
                <a:cubicBezTo>
                  <a:pt x="2355" y="14570"/>
                  <a:pt x="2320" y="14597"/>
                  <a:pt x="2307" y="14635"/>
                </a:cubicBezTo>
                <a:cubicBezTo>
                  <a:pt x="2295" y="14672"/>
                  <a:pt x="2286" y="14681"/>
                  <a:pt x="2282" y="14709"/>
                </a:cubicBezTo>
                <a:cubicBezTo>
                  <a:pt x="2275" y="14762"/>
                  <a:pt x="2270" y="14746"/>
                  <a:pt x="2257" y="14784"/>
                </a:cubicBezTo>
                <a:cubicBezTo>
                  <a:pt x="2268" y="14816"/>
                  <a:pt x="2297" y="14814"/>
                  <a:pt x="2307" y="14833"/>
                </a:cubicBezTo>
                <a:cubicBezTo>
                  <a:pt x="2324" y="14868"/>
                  <a:pt x="2333" y="14858"/>
                  <a:pt x="2381" y="14858"/>
                </a:cubicBezTo>
                <a:cubicBezTo>
                  <a:pt x="2432" y="14858"/>
                  <a:pt x="2467" y="14867"/>
                  <a:pt x="2505" y="14833"/>
                </a:cubicBezTo>
                <a:cubicBezTo>
                  <a:pt x="2535" y="14807"/>
                  <a:pt x="2546" y="14785"/>
                  <a:pt x="2555" y="14759"/>
                </a:cubicBezTo>
                <a:cubicBezTo>
                  <a:pt x="2517" y="14731"/>
                  <a:pt x="2504" y="14734"/>
                  <a:pt x="2456" y="14734"/>
                </a:cubicBezTo>
                <a:cubicBezTo>
                  <a:pt x="2419" y="14734"/>
                  <a:pt x="2352" y="14718"/>
                  <a:pt x="2332" y="14759"/>
                </a:cubicBezTo>
                <a:cubicBezTo>
                  <a:pt x="2318" y="14789"/>
                  <a:pt x="2287" y="14787"/>
                  <a:pt x="2282" y="14833"/>
                </a:cubicBezTo>
                <a:cubicBezTo>
                  <a:pt x="2282" y="14841"/>
                  <a:pt x="2282" y="14850"/>
                  <a:pt x="2282" y="14858"/>
                </a:cubicBezTo>
              </a:path>
              <a:path w="770" h="621">
                <a:moveTo>
                  <a:pt x="2853" y="14461"/>
                </a:moveTo>
                <a:cubicBezTo>
                  <a:pt x="2886" y="14461"/>
                  <a:pt x="2919" y="14461"/>
                  <a:pt x="2952" y="14461"/>
                </a:cubicBezTo>
                <a:cubicBezTo>
                  <a:pt x="2965" y="14499"/>
                  <a:pt x="2981" y="14486"/>
                  <a:pt x="3026" y="14486"/>
                </a:cubicBezTo>
              </a:path>
              <a:path w="770" h="621">
                <a:moveTo>
                  <a:pt x="2828" y="14511"/>
                </a:moveTo>
                <a:cubicBezTo>
                  <a:pt x="2828" y="14561"/>
                  <a:pt x="2817" y="14569"/>
                  <a:pt x="2803" y="14610"/>
                </a:cubicBezTo>
                <a:cubicBezTo>
                  <a:pt x="2803" y="14635"/>
                  <a:pt x="2803" y="14643"/>
                  <a:pt x="2803" y="14660"/>
                </a:cubicBezTo>
                <a:cubicBezTo>
                  <a:pt x="2836" y="14660"/>
                  <a:pt x="2869" y="14660"/>
                  <a:pt x="2902" y="14660"/>
                </a:cubicBezTo>
                <a:cubicBezTo>
                  <a:pt x="2914" y="14694"/>
                  <a:pt x="2910" y="14684"/>
                  <a:pt x="2952" y="14684"/>
                </a:cubicBezTo>
                <a:cubicBezTo>
                  <a:pt x="2952" y="14735"/>
                  <a:pt x="2963" y="14743"/>
                  <a:pt x="2977" y="14784"/>
                </a:cubicBezTo>
                <a:cubicBezTo>
                  <a:pt x="2983" y="14803"/>
                  <a:pt x="2977" y="14838"/>
                  <a:pt x="2977" y="14858"/>
                </a:cubicBezTo>
                <a:cubicBezTo>
                  <a:pt x="2934" y="14858"/>
                  <a:pt x="2939" y="14848"/>
                  <a:pt x="2927" y="14883"/>
                </a:cubicBezTo>
                <a:cubicBezTo>
                  <a:pt x="2882" y="14883"/>
                  <a:pt x="2865" y="14896"/>
                  <a:pt x="2853" y="14858"/>
                </a:cubicBezTo>
              </a:path>
              <a:path w="770" h="621">
                <a:moveTo>
                  <a:pt x="2729" y="14982"/>
                </a:moveTo>
                <a:cubicBezTo>
                  <a:pt x="2719" y="15021"/>
                  <a:pt x="2704" y="15037"/>
                  <a:pt x="2704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Ink 38"/>
          <p:cNvSpPr/>
          <p:nvPr/>
        </p:nvSpPr>
        <p:spPr>
          <a:xfrm>
            <a:off x="1374840" y="522432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3969" y="14511"/>
                </a:moveTo>
                <a:cubicBezTo>
                  <a:pt x="3930" y="14524"/>
                  <a:pt x="3942" y="14550"/>
                  <a:pt x="3919" y="14585"/>
                </a:cubicBezTo>
                <a:cubicBezTo>
                  <a:pt x="3893" y="14624"/>
                  <a:pt x="3850" y="14636"/>
                  <a:pt x="3845" y="14684"/>
                </a:cubicBezTo>
                <a:cubicBezTo>
                  <a:pt x="3840" y="14725"/>
                  <a:pt x="3820" y="14738"/>
                  <a:pt x="3820" y="14784"/>
                </a:cubicBezTo>
                <a:cubicBezTo>
                  <a:pt x="3820" y="14829"/>
                  <a:pt x="3841" y="14843"/>
                  <a:pt x="3845" y="14883"/>
                </a:cubicBezTo>
                <a:cubicBezTo>
                  <a:pt x="3845" y="14891"/>
                  <a:pt x="3845" y="14900"/>
                  <a:pt x="3845" y="14908"/>
                </a:cubicBezTo>
                <a:cubicBezTo>
                  <a:pt x="3890" y="14908"/>
                  <a:pt x="3904" y="14928"/>
                  <a:pt x="3944" y="14932"/>
                </a:cubicBezTo>
                <a:cubicBezTo>
                  <a:pt x="3967" y="14934"/>
                  <a:pt x="4032" y="14905"/>
                  <a:pt x="4043" y="14883"/>
                </a:cubicBezTo>
                <a:cubicBezTo>
                  <a:pt x="4056" y="14857"/>
                  <a:pt x="4066" y="14827"/>
                  <a:pt x="4068" y="14808"/>
                </a:cubicBezTo>
                <a:cubicBezTo>
                  <a:pt x="4075" y="14756"/>
                  <a:pt x="4031" y="14759"/>
                  <a:pt x="3994" y="14759"/>
                </a:cubicBezTo>
                <a:cubicBezTo>
                  <a:pt x="3984" y="14759"/>
                  <a:pt x="3889" y="14794"/>
                  <a:pt x="3894" y="14808"/>
                </a:cubicBezTo>
                <a:cubicBezTo>
                  <a:pt x="3902" y="14808"/>
                  <a:pt x="3911" y="14808"/>
                  <a:pt x="3919" y="14808"/>
                </a:cubicBezTo>
              </a:path>
              <a:path w="671" h="621">
                <a:moveTo>
                  <a:pt x="4316" y="14560"/>
                </a:moveTo>
                <a:cubicBezTo>
                  <a:pt x="4316" y="14568"/>
                  <a:pt x="4316" y="14577"/>
                  <a:pt x="4316" y="14585"/>
                </a:cubicBezTo>
                <a:cubicBezTo>
                  <a:pt x="4293" y="14593"/>
                  <a:pt x="4277" y="14628"/>
                  <a:pt x="4266" y="14660"/>
                </a:cubicBezTo>
                <a:cubicBezTo>
                  <a:pt x="4260" y="14679"/>
                  <a:pt x="4266" y="14714"/>
                  <a:pt x="4266" y="14734"/>
                </a:cubicBezTo>
                <a:cubicBezTo>
                  <a:pt x="4230" y="14747"/>
                  <a:pt x="4242" y="14764"/>
                  <a:pt x="4242" y="14808"/>
                </a:cubicBezTo>
                <a:cubicBezTo>
                  <a:pt x="4242" y="14816"/>
                  <a:pt x="4242" y="14825"/>
                  <a:pt x="4242" y="14833"/>
                </a:cubicBezTo>
                <a:cubicBezTo>
                  <a:pt x="4292" y="14833"/>
                  <a:pt x="4300" y="14822"/>
                  <a:pt x="4341" y="14808"/>
                </a:cubicBezTo>
                <a:cubicBezTo>
                  <a:pt x="4372" y="14798"/>
                  <a:pt x="4411" y="14793"/>
                  <a:pt x="4440" y="14784"/>
                </a:cubicBezTo>
                <a:cubicBezTo>
                  <a:pt x="4465" y="14784"/>
                  <a:pt x="4473" y="14784"/>
                  <a:pt x="4490" y="14784"/>
                </a:cubicBezTo>
              </a:path>
              <a:path w="671" h="621">
                <a:moveTo>
                  <a:pt x="4415" y="14684"/>
                </a:moveTo>
                <a:cubicBezTo>
                  <a:pt x="4415" y="14748"/>
                  <a:pt x="4391" y="14941"/>
                  <a:pt x="4440" y="14957"/>
                </a:cubicBezTo>
              </a:path>
              <a:path w="671" h="621">
                <a:moveTo>
                  <a:pt x="4242" y="14982"/>
                </a:moveTo>
                <a:cubicBezTo>
                  <a:pt x="4242" y="14990"/>
                  <a:pt x="4242" y="14999"/>
                  <a:pt x="4242" y="15007"/>
                </a:cubicBezTo>
                <a:cubicBezTo>
                  <a:pt x="4207" y="15019"/>
                  <a:pt x="4217" y="15014"/>
                  <a:pt x="4217" y="15056"/>
                </a:cubicBezTo>
                <a:cubicBezTo>
                  <a:pt x="4185" y="15067"/>
                  <a:pt x="4177" y="15090"/>
                  <a:pt x="416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Ink 39"/>
          <p:cNvSpPr/>
          <p:nvPr/>
        </p:nvSpPr>
        <p:spPr>
          <a:xfrm>
            <a:off x="1919160" y="5224320"/>
            <a:ext cx="179640" cy="23184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5432" y="14536"/>
                </a:moveTo>
                <a:cubicBezTo>
                  <a:pt x="5432" y="14475"/>
                  <a:pt x="5418" y="14591"/>
                  <a:pt x="5407" y="14610"/>
                </a:cubicBezTo>
                <a:cubicBezTo>
                  <a:pt x="5383" y="14650"/>
                  <a:pt x="5349" y="14685"/>
                  <a:pt x="5333" y="14734"/>
                </a:cubicBezTo>
                <a:cubicBezTo>
                  <a:pt x="5319" y="14775"/>
                  <a:pt x="5320" y="14913"/>
                  <a:pt x="5358" y="14932"/>
                </a:cubicBezTo>
                <a:cubicBezTo>
                  <a:pt x="5398" y="14951"/>
                  <a:pt x="5432" y="14957"/>
                  <a:pt x="5482" y="14957"/>
                </a:cubicBezTo>
                <a:cubicBezTo>
                  <a:pt x="5517" y="14957"/>
                  <a:pt x="5553" y="14935"/>
                  <a:pt x="5556" y="14908"/>
                </a:cubicBezTo>
                <a:cubicBezTo>
                  <a:pt x="5561" y="14869"/>
                  <a:pt x="5547" y="14826"/>
                  <a:pt x="5507" y="14808"/>
                </a:cubicBezTo>
                <a:cubicBezTo>
                  <a:pt x="5483" y="14797"/>
                  <a:pt x="5383" y="14825"/>
                  <a:pt x="5407" y="14833"/>
                </a:cubicBezTo>
                <a:cubicBezTo>
                  <a:pt x="5424" y="14833"/>
                  <a:pt x="5440" y="14833"/>
                  <a:pt x="5457" y="14833"/>
                </a:cubicBezTo>
              </a:path>
              <a:path w="497" h="646">
                <a:moveTo>
                  <a:pt x="5680" y="14635"/>
                </a:moveTo>
                <a:cubicBezTo>
                  <a:pt x="5715" y="14635"/>
                  <a:pt x="5760" y="14622"/>
                  <a:pt x="5779" y="14660"/>
                </a:cubicBezTo>
                <a:cubicBezTo>
                  <a:pt x="5800" y="14702"/>
                  <a:pt x="5759" y="14725"/>
                  <a:pt x="5755" y="14734"/>
                </a:cubicBezTo>
                <a:cubicBezTo>
                  <a:pt x="5755" y="14742"/>
                  <a:pt x="5755" y="14751"/>
                  <a:pt x="5755" y="14759"/>
                </a:cubicBezTo>
                <a:cubicBezTo>
                  <a:pt x="5767" y="14795"/>
                  <a:pt x="5809" y="14788"/>
                  <a:pt x="5829" y="14833"/>
                </a:cubicBezTo>
                <a:cubicBezTo>
                  <a:pt x="5842" y="14862"/>
                  <a:pt x="5834" y="14942"/>
                  <a:pt x="5804" y="14957"/>
                </a:cubicBezTo>
                <a:cubicBezTo>
                  <a:pt x="5781" y="14968"/>
                  <a:pt x="5756" y="14975"/>
                  <a:pt x="5730" y="14982"/>
                </a:cubicBezTo>
                <a:cubicBezTo>
                  <a:pt x="5730" y="14954"/>
                  <a:pt x="5732" y="14943"/>
                  <a:pt x="5755" y="14932"/>
                </a:cubicBezTo>
              </a:path>
              <a:path w="497" h="646">
                <a:moveTo>
                  <a:pt x="5581" y="15056"/>
                </a:moveTo>
                <a:cubicBezTo>
                  <a:pt x="5581" y="15081"/>
                  <a:pt x="5581" y="15089"/>
                  <a:pt x="5581" y="15106"/>
                </a:cubicBezTo>
                <a:cubicBezTo>
                  <a:pt x="5552" y="15126"/>
                  <a:pt x="5560" y="15136"/>
                  <a:pt x="5531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Ink 40"/>
          <p:cNvSpPr/>
          <p:nvPr/>
        </p:nvSpPr>
        <p:spPr>
          <a:xfrm>
            <a:off x="2428920" y="5214960"/>
            <a:ext cx="233280" cy="241200"/>
          </a:xfrm>
          <a:custGeom>
            <a:avLst/>
            <a:gdLst/>
            <a:ahLst/>
            <a:rect l="l" t="t" r="r" b="b"/>
            <a:pathLst>
              <a:path w="646" h="671">
                <a:moveTo>
                  <a:pt x="6846" y="14486"/>
                </a:moveTo>
                <a:cubicBezTo>
                  <a:pt x="6817" y="14515"/>
                  <a:pt x="6784" y="14549"/>
                  <a:pt x="6772" y="14585"/>
                </a:cubicBezTo>
                <a:cubicBezTo>
                  <a:pt x="6760" y="14621"/>
                  <a:pt x="6751" y="14675"/>
                  <a:pt x="6747" y="14709"/>
                </a:cubicBezTo>
                <a:cubicBezTo>
                  <a:pt x="6742" y="14751"/>
                  <a:pt x="6730" y="14861"/>
                  <a:pt x="6772" y="14883"/>
                </a:cubicBezTo>
                <a:cubicBezTo>
                  <a:pt x="6798" y="14896"/>
                  <a:pt x="6867" y="14883"/>
                  <a:pt x="6896" y="14883"/>
                </a:cubicBezTo>
                <a:cubicBezTo>
                  <a:pt x="6896" y="14842"/>
                  <a:pt x="6913" y="14789"/>
                  <a:pt x="6871" y="14784"/>
                </a:cubicBezTo>
                <a:cubicBezTo>
                  <a:pt x="6861" y="14783"/>
                  <a:pt x="6737" y="14782"/>
                  <a:pt x="6772" y="14808"/>
                </a:cubicBezTo>
                <a:cubicBezTo>
                  <a:pt x="6780" y="14808"/>
                  <a:pt x="6788" y="14808"/>
                  <a:pt x="6796" y="14808"/>
                </a:cubicBezTo>
              </a:path>
              <a:path w="646" h="671">
                <a:moveTo>
                  <a:pt x="7094" y="14560"/>
                </a:moveTo>
                <a:cubicBezTo>
                  <a:pt x="7094" y="14552"/>
                  <a:pt x="7094" y="14544"/>
                  <a:pt x="7094" y="14536"/>
                </a:cubicBezTo>
                <a:cubicBezTo>
                  <a:pt x="7139" y="14536"/>
                  <a:pt x="7159" y="14530"/>
                  <a:pt x="7193" y="14560"/>
                </a:cubicBezTo>
                <a:cubicBezTo>
                  <a:pt x="7227" y="14590"/>
                  <a:pt x="7218" y="14617"/>
                  <a:pt x="7218" y="14660"/>
                </a:cubicBezTo>
                <a:cubicBezTo>
                  <a:pt x="7218" y="14700"/>
                  <a:pt x="7212" y="14752"/>
                  <a:pt x="7193" y="14784"/>
                </a:cubicBezTo>
                <a:cubicBezTo>
                  <a:pt x="7173" y="14818"/>
                  <a:pt x="7149" y="14842"/>
                  <a:pt x="7144" y="14883"/>
                </a:cubicBezTo>
                <a:cubicBezTo>
                  <a:pt x="7144" y="14891"/>
                  <a:pt x="7144" y="14900"/>
                  <a:pt x="7144" y="14908"/>
                </a:cubicBezTo>
                <a:cubicBezTo>
                  <a:pt x="7210" y="14908"/>
                  <a:pt x="7276" y="14908"/>
                  <a:pt x="7342" y="14908"/>
                </a:cubicBezTo>
                <a:cubicBezTo>
                  <a:pt x="7354" y="14873"/>
                  <a:pt x="7349" y="14883"/>
                  <a:pt x="7392" y="14883"/>
                </a:cubicBezTo>
              </a:path>
              <a:path w="646" h="671">
                <a:moveTo>
                  <a:pt x="7020" y="15032"/>
                </a:moveTo>
                <a:cubicBezTo>
                  <a:pt x="7012" y="15024"/>
                  <a:pt x="7003" y="15015"/>
                  <a:pt x="6995" y="15007"/>
                </a:cubicBezTo>
                <a:cubicBezTo>
                  <a:pt x="6988" y="15033"/>
                  <a:pt x="6974" y="15091"/>
                  <a:pt x="6945" y="15106"/>
                </a:cubicBezTo>
                <a:cubicBezTo>
                  <a:pt x="6914" y="15122"/>
                  <a:pt x="6921" y="15111"/>
                  <a:pt x="6921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Ink 41"/>
          <p:cNvSpPr/>
          <p:nvPr/>
        </p:nvSpPr>
        <p:spPr>
          <a:xfrm>
            <a:off x="2874960" y="5249880"/>
            <a:ext cx="169920" cy="2430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8161" y="14585"/>
                </a:moveTo>
                <a:cubicBezTo>
                  <a:pt x="8101" y="14600"/>
                  <a:pt x="8099" y="14635"/>
                  <a:pt x="8062" y="14684"/>
                </a:cubicBezTo>
                <a:cubicBezTo>
                  <a:pt x="8021" y="14739"/>
                  <a:pt x="7993" y="14735"/>
                  <a:pt x="7987" y="14808"/>
                </a:cubicBezTo>
                <a:cubicBezTo>
                  <a:pt x="7982" y="14863"/>
                  <a:pt x="8002" y="14909"/>
                  <a:pt x="8012" y="14932"/>
                </a:cubicBezTo>
                <a:cubicBezTo>
                  <a:pt x="8020" y="14950"/>
                  <a:pt x="8055" y="14993"/>
                  <a:pt x="8086" y="15007"/>
                </a:cubicBezTo>
                <a:cubicBezTo>
                  <a:pt x="8113" y="15019"/>
                  <a:pt x="8172" y="15009"/>
                  <a:pt x="8186" y="14982"/>
                </a:cubicBezTo>
                <a:cubicBezTo>
                  <a:pt x="8194" y="14965"/>
                  <a:pt x="8227" y="14940"/>
                  <a:pt x="8210" y="14908"/>
                </a:cubicBezTo>
                <a:cubicBezTo>
                  <a:pt x="8190" y="14870"/>
                  <a:pt x="8147" y="14883"/>
                  <a:pt x="8111" y="14883"/>
                </a:cubicBezTo>
                <a:cubicBezTo>
                  <a:pt x="8050" y="14883"/>
                  <a:pt x="8103" y="14908"/>
                  <a:pt x="8136" y="14908"/>
                </a:cubicBezTo>
              </a:path>
              <a:path w="472" h="671">
                <a:moveTo>
                  <a:pt x="8458" y="14585"/>
                </a:moveTo>
                <a:cubicBezTo>
                  <a:pt x="8458" y="14647"/>
                  <a:pt x="8451" y="14682"/>
                  <a:pt x="8434" y="14734"/>
                </a:cubicBezTo>
                <a:cubicBezTo>
                  <a:pt x="8413" y="14801"/>
                  <a:pt x="8434" y="14911"/>
                  <a:pt x="8434" y="14982"/>
                </a:cubicBezTo>
              </a:path>
              <a:path w="472" h="671">
                <a:moveTo>
                  <a:pt x="8310" y="15081"/>
                </a:moveTo>
                <a:cubicBezTo>
                  <a:pt x="8310" y="15132"/>
                  <a:pt x="8319" y="15167"/>
                  <a:pt x="8285" y="15205"/>
                </a:cubicBezTo>
                <a:cubicBezTo>
                  <a:pt x="8252" y="15242"/>
                  <a:pt x="8272" y="15243"/>
                  <a:pt x="8235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Ink 42"/>
          <p:cNvSpPr/>
          <p:nvPr/>
        </p:nvSpPr>
        <p:spPr>
          <a:xfrm>
            <a:off x="3581280" y="5249880"/>
            <a:ext cx="312840" cy="24300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9996" y="14585"/>
                </a:moveTo>
                <a:cubicBezTo>
                  <a:pt x="10062" y="14585"/>
                  <a:pt x="10129" y="14585"/>
                  <a:pt x="10195" y="14585"/>
                </a:cubicBezTo>
              </a:path>
              <a:path w="869" h="671">
                <a:moveTo>
                  <a:pt x="10021" y="14610"/>
                </a:moveTo>
                <a:cubicBezTo>
                  <a:pt x="10021" y="14656"/>
                  <a:pt x="10001" y="14668"/>
                  <a:pt x="9996" y="14709"/>
                </a:cubicBezTo>
                <a:cubicBezTo>
                  <a:pt x="9993" y="14733"/>
                  <a:pt x="9996" y="14760"/>
                  <a:pt x="9996" y="14784"/>
                </a:cubicBezTo>
                <a:cubicBezTo>
                  <a:pt x="10056" y="14784"/>
                  <a:pt x="10091" y="14794"/>
                  <a:pt x="10120" y="14808"/>
                </a:cubicBezTo>
                <a:cubicBezTo>
                  <a:pt x="10166" y="14830"/>
                  <a:pt x="10170" y="14789"/>
                  <a:pt x="10170" y="14858"/>
                </a:cubicBezTo>
                <a:cubicBezTo>
                  <a:pt x="10170" y="14892"/>
                  <a:pt x="10183" y="14938"/>
                  <a:pt x="10145" y="14957"/>
                </a:cubicBezTo>
                <a:cubicBezTo>
                  <a:pt x="10117" y="14971"/>
                  <a:pt x="10058" y="14976"/>
                  <a:pt x="10046" y="14982"/>
                </a:cubicBezTo>
                <a:cubicBezTo>
                  <a:pt x="10031" y="14990"/>
                  <a:pt x="9897" y="14989"/>
                  <a:pt x="9971" y="14957"/>
                </a:cubicBezTo>
                <a:cubicBezTo>
                  <a:pt x="9979" y="14957"/>
                  <a:pt x="9988" y="14957"/>
                  <a:pt x="9996" y="14957"/>
                </a:cubicBezTo>
              </a:path>
              <a:path w="869" h="671">
                <a:moveTo>
                  <a:pt x="10567" y="14635"/>
                </a:moveTo>
                <a:cubicBezTo>
                  <a:pt x="10567" y="14643"/>
                  <a:pt x="10567" y="14652"/>
                  <a:pt x="10567" y="14660"/>
                </a:cubicBezTo>
                <a:cubicBezTo>
                  <a:pt x="10544" y="14667"/>
                  <a:pt x="10528" y="14702"/>
                  <a:pt x="10517" y="14734"/>
                </a:cubicBezTo>
                <a:cubicBezTo>
                  <a:pt x="10505" y="14771"/>
                  <a:pt x="10492" y="14790"/>
                  <a:pt x="10492" y="14833"/>
                </a:cubicBezTo>
                <a:cubicBezTo>
                  <a:pt x="10492" y="14841"/>
                  <a:pt x="10492" y="14850"/>
                  <a:pt x="10492" y="14858"/>
                </a:cubicBezTo>
                <a:cubicBezTo>
                  <a:pt x="10439" y="14876"/>
                  <a:pt x="10480" y="14883"/>
                  <a:pt x="10517" y="14883"/>
                </a:cubicBezTo>
                <a:cubicBezTo>
                  <a:pt x="10605" y="14883"/>
                  <a:pt x="10747" y="14909"/>
                  <a:pt x="10815" y="14858"/>
                </a:cubicBezTo>
              </a:path>
              <a:path w="869" h="671">
                <a:moveTo>
                  <a:pt x="10716" y="14759"/>
                </a:moveTo>
                <a:cubicBezTo>
                  <a:pt x="10708" y="14759"/>
                  <a:pt x="10699" y="14759"/>
                  <a:pt x="10691" y="14759"/>
                </a:cubicBezTo>
                <a:cubicBezTo>
                  <a:pt x="10691" y="14850"/>
                  <a:pt x="10691" y="14941"/>
                  <a:pt x="10691" y="15032"/>
                </a:cubicBezTo>
              </a:path>
              <a:path w="869" h="671">
                <a:moveTo>
                  <a:pt x="10319" y="15106"/>
                </a:moveTo>
                <a:cubicBezTo>
                  <a:pt x="10319" y="15131"/>
                  <a:pt x="10319" y="15155"/>
                  <a:pt x="10319" y="15180"/>
                </a:cubicBezTo>
                <a:cubicBezTo>
                  <a:pt x="10284" y="15192"/>
                  <a:pt x="10294" y="15187"/>
                  <a:pt x="10294" y="15230"/>
                </a:cubicBezTo>
                <a:cubicBezTo>
                  <a:pt x="10258" y="15242"/>
                  <a:pt x="10258" y="15243"/>
                  <a:pt x="10294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Ink 43"/>
          <p:cNvSpPr/>
          <p:nvPr/>
        </p:nvSpPr>
        <p:spPr>
          <a:xfrm>
            <a:off x="4089240" y="5249880"/>
            <a:ext cx="233640" cy="233280"/>
          </a:xfrm>
          <a:custGeom>
            <a:avLst/>
            <a:gdLst/>
            <a:ahLst/>
            <a:rect l="l" t="t" r="r" b="b"/>
            <a:pathLst>
              <a:path w="645" h="646">
                <a:moveTo>
                  <a:pt x="11385" y="14635"/>
                </a:moveTo>
                <a:cubicBezTo>
                  <a:pt x="11453" y="14635"/>
                  <a:pt x="11531" y="14650"/>
                  <a:pt x="11584" y="14610"/>
                </a:cubicBezTo>
              </a:path>
              <a:path w="645" h="646">
                <a:moveTo>
                  <a:pt x="11435" y="14635"/>
                </a:moveTo>
                <a:cubicBezTo>
                  <a:pt x="11403" y="14667"/>
                  <a:pt x="11366" y="14689"/>
                  <a:pt x="11361" y="14734"/>
                </a:cubicBezTo>
                <a:cubicBezTo>
                  <a:pt x="11357" y="14776"/>
                  <a:pt x="11369" y="14795"/>
                  <a:pt x="11410" y="14808"/>
                </a:cubicBezTo>
                <a:cubicBezTo>
                  <a:pt x="11447" y="14820"/>
                  <a:pt x="11468" y="14824"/>
                  <a:pt x="11485" y="14833"/>
                </a:cubicBezTo>
                <a:cubicBezTo>
                  <a:pt x="11518" y="14850"/>
                  <a:pt x="11509" y="14861"/>
                  <a:pt x="11509" y="14908"/>
                </a:cubicBezTo>
                <a:cubicBezTo>
                  <a:pt x="11509" y="14982"/>
                  <a:pt x="11457" y="14930"/>
                  <a:pt x="11435" y="14957"/>
                </a:cubicBezTo>
                <a:cubicBezTo>
                  <a:pt x="11423" y="14972"/>
                  <a:pt x="11389" y="15015"/>
                  <a:pt x="11361" y="14957"/>
                </a:cubicBezTo>
                <a:cubicBezTo>
                  <a:pt x="11337" y="14907"/>
                  <a:pt x="11410" y="14908"/>
                  <a:pt x="11435" y="14908"/>
                </a:cubicBezTo>
              </a:path>
              <a:path w="645" h="646">
                <a:moveTo>
                  <a:pt x="11782" y="14635"/>
                </a:moveTo>
                <a:cubicBezTo>
                  <a:pt x="11818" y="14623"/>
                  <a:pt x="11822" y="14610"/>
                  <a:pt x="11881" y="14610"/>
                </a:cubicBezTo>
                <a:cubicBezTo>
                  <a:pt x="11922" y="14610"/>
                  <a:pt x="11894" y="14597"/>
                  <a:pt x="11931" y="14585"/>
                </a:cubicBezTo>
                <a:cubicBezTo>
                  <a:pt x="11985" y="14639"/>
                  <a:pt x="11973" y="14627"/>
                  <a:pt x="11956" y="14660"/>
                </a:cubicBezTo>
                <a:cubicBezTo>
                  <a:pt x="11938" y="14695"/>
                  <a:pt x="11916" y="14705"/>
                  <a:pt x="11906" y="14734"/>
                </a:cubicBezTo>
                <a:cubicBezTo>
                  <a:pt x="11917" y="14768"/>
                  <a:pt x="11925" y="14770"/>
                  <a:pt x="11956" y="14784"/>
                </a:cubicBezTo>
                <a:cubicBezTo>
                  <a:pt x="12019" y="14813"/>
                  <a:pt x="12005" y="14823"/>
                  <a:pt x="12005" y="14883"/>
                </a:cubicBezTo>
                <a:cubicBezTo>
                  <a:pt x="12005" y="14914"/>
                  <a:pt x="11965" y="14928"/>
                  <a:pt x="11931" y="14932"/>
                </a:cubicBezTo>
                <a:cubicBezTo>
                  <a:pt x="11890" y="14936"/>
                  <a:pt x="11913" y="14957"/>
                  <a:pt x="11857" y="14957"/>
                </a:cubicBezTo>
              </a:path>
              <a:path w="645" h="646">
                <a:moveTo>
                  <a:pt x="11683" y="15081"/>
                </a:moveTo>
                <a:cubicBezTo>
                  <a:pt x="11675" y="15081"/>
                  <a:pt x="11666" y="15081"/>
                  <a:pt x="11658" y="15081"/>
                </a:cubicBezTo>
                <a:cubicBezTo>
                  <a:pt x="11649" y="15108"/>
                  <a:pt x="11650" y="15144"/>
                  <a:pt x="11633" y="15180"/>
                </a:cubicBezTo>
                <a:cubicBezTo>
                  <a:pt x="11614" y="15219"/>
                  <a:pt x="11587" y="15214"/>
                  <a:pt x="11633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Ink 44"/>
          <p:cNvSpPr/>
          <p:nvPr/>
        </p:nvSpPr>
        <p:spPr>
          <a:xfrm>
            <a:off x="4589640" y="5259240"/>
            <a:ext cx="223560" cy="22392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2799" y="14610"/>
                </a:moveTo>
                <a:cubicBezTo>
                  <a:pt x="12865" y="14610"/>
                  <a:pt x="12932" y="14610"/>
                  <a:pt x="12998" y="14610"/>
                </a:cubicBezTo>
              </a:path>
              <a:path w="621" h="621">
                <a:moveTo>
                  <a:pt x="12824" y="14660"/>
                </a:moveTo>
                <a:cubicBezTo>
                  <a:pt x="12802" y="14676"/>
                  <a:pt x="12733" y="14693"/>
                  <a:pt x="12750" y="14734"/>
                </a:cubicBezTo>
                <a:cubicBezTo>
                  <a:pt x="12761" y="14759"/>
                  <a:pt x="12852" y="14781"/>
                  <a:pt x="12874" y="14784"/>
                </a:cubicBezTo>
                <a:cubicBezTo>
                  <a:pt x="12910" y="14788"/>
                  <a:pt x="12944" y="14803"/>
                  <a:pt x="12948" y="14833"/>
                </a:cubicBezTo>
                <a:cubicBezTo>
                  <a:pt x="12955" y="14886"/>
                  <a:pt x="12951" y="14911"/>
                  <a:pt x="12923" y="14932"/>
                </a:cubicBezTo>
                <a:cubicBezTo>
                  <a:pt x="12896" y="14952"/>
                  <a:pt x="12868" y="15006"/>
                  <a:pt x="12824" y="14982"/>
                </a:cubicBezTo>
                <a:cubicBezTo>
                  <a:pt x="12801" y="14959"/>
                  <a:pt x="12793" y="14955"/>
                  <a:pt x="12799" y="14932"/>
                </a:cubicBezTo>
                <a:cubicBezTo>
                  <a:pt x="12840" y="14922"/>
                  <a:pt x="12851" y="14915"/>
                  <a:pt x="12898" y="14908"/>
                </a:cubicBezTo>
              </a:path>
              <a:path w="621" h="621">
                <a:moveTo>
                  <a:pt x="13221" y="14684"/>
                </a:moveTo>
                <a:cubicBezTo>
                  <a:pt x="13278" y="14684"/>
                  <a:pt x="13296" y="14669"/>
                  <a:pt x="13320" y="14734"/>
                </a:cubicBezTo>
                <a:cubicBezTo>
                  <a:pt x="13336" y="14780"/>
                  <a:pt x="13299" y="14805"/>
                  <a:pt x="13271" y="14833"/>
                </a:cubicBezTo>
                <a:cubicBezTo>
                  <a:pt x="13227" y="14877"/>
                  <a:pt x="13265" y="14915"/>
                  <a:pt x="13196" y="14932"/>
                </a:cubicBezTo>
                <a:cubicBezTo>
                  <a:pt x="13205" y="14959"/>
                  <a:pt x="13214" y="14978"/>
                  <a:pt x="13246" y="14982"/>
                </a:cubicBezTo>
                <a:cubicBezTo>
                  <a:pt x="13286" y="14987"/>
                  <a:pt x="13330" y="14982"/>
                  <a:pt x="13370" y="14982"/>
                </a:cubicBezTo>
                <a:cubicBezTo>
                  <a:pt x="13345" y="15007"/>
                  <a:pt x="13337" y="15015"/>
                  <a:pt x="13320" y="15032"/>
                </a:cubicBezTo>
              </a:path>
              <a:path w="621" h="621">
                <a:moveTo>
                  <a:pt x="13122" y="15106"/>
                </a:moveTo>
                <a:cubicBezTo>
                  <a:pt x="13114" y="15106"/>
                  <a:pt x="13105" y="15106"/>
                  <a:pt x="13097" y="15106"/>
                </a:cubicBezTo>
                <a:cubicBezTo>
                  <a:pt x="13097" y="15147"/>
                  <a:pt x="13097" y="15189"/>
                  <a:pt x="13097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Ink 45"/>
          <p:cNvSpPr/>
          <p:nvPr/>
        </p:nvSpPr>
        <p:spPr>
          <a:xfrm>
            <a:off x="5143680" y="5249880"/>
            <a:ext cx="134640" cy="2160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14312" y="14660"/>
                </a:moveTo>
                <a:cubicBezTo>
                  <a:pt x="14320" y="14637"/>
                  <a:pt x="14363" y="14613"/>
                  <a:pt x="14387" y="14610"/>
                </a:cubicBezTo>
                <a:cubicBezTo>
                  <a:pt x="14412" y="14610"/>
                  <a:pt x="14420" y="14610"/>
                  <a:pt x="14412" y="14585"/>
                </a:cubicBezTo>
                <a:cubicBezTo>
                  <a:pt x="14403" y="14622"/>
                  <a:pt x="14375" y="14647"/>
                  <a:pt x="14337" y="14660"/>
                </a:cubicBezTo>
                <a:cubicBezTo>
                  <a:pt x="14322" y="14665"/>
                  <a:pt x="14248" y="14701"/>
                  <a:pt x="14288" y="14734"/>
                </a:cubicBezTo>
                <a:cubicBezTo>
                  <a:pt x="14302" y="14745"/>
                  <a:pt x="14366" y="14799"/>
                  <a:pt x="14387" y="14808"/>
                </a:cubicBezTo>
                <a:cubicBezTo>
                  <a:pt x="14442" y="14832"/>
                  <a:pt x="14436" y="14841"/>
                  <a:pt x="14436" y="14908"/>
                </a:cubicBezTo>
                <a:cubicBezTo>
                  <a:pt x="14436" y="14966"/>
                  <a:pt x="14428" y="14946"/>
                  <a:pt x="14387" y="14982"/>
                </a:cubicBezTo>
                <a:cubicBezTo>
                  <a:pt x="14357" y="15009"/>
                  <a:pt x="14325" y="15022"/>
                  <a:pt x="14288" y="15032"/>
                </a:cubicBezTo>
                <a:cubicBezTo>
                  <a:pt x="14288" y="15007"/>
                  <a:pt x="14288" y="14982"/>
                  <a:pt x="14288" y="14957"/>
                </a:cubicBezTo>
              </a:path>
              <a:path w="373" h="596">
                <a:moveTo>
                  <a:pt x="14387" y="14660"/>
                </a:moveTo>
                <a:cubicBezTo>
                  <a:pt x="14449" y="14613"/>
                  <a:pt x="14449" y="14660"/>
                  <a:pt x="14511" y="14684"/>
                </a:cubicBezTo>
                <a:cubicBezTo>
                  <a:pt x="14550" y="14699"/>
                  <a:pt x="14580" y="14710"/>
                  <a:pt x="14585" y="14759"/>
                </a:cubicBezTo>
                <a:cubicBezTo>
                  <a:pt x="14590" y="14804"/>
                  <a:pt x="14581" y="14794"/>
                  <a:pt x="14610" y="14833"/>
                </a:cubicBezTo>
              </a:path>
              <a:path w="373" h="596">
                <a:moveTo>
                  <a:pt x="14635" y="15056"/>
                </a:moveTo>
                <a:cubicBezTo>
                  <a:pt x="14635" y="15064"/>
                  <a:pt x="14635" y="15073"/>
                  <a:pt x="14635" y="15081"/>
                </a:cubicBezTo>
                <a:cubicBezTo>
                  <a:pt x="14597" y="15094"/>
                  <a:pt x="14610" y="15111"/>
                  <a:pt x="14610" y="15156"/>
                </a:cubicBezTo>
                <a:cubicBezTo>
                  <a:pt x="14555" y="15174"/>
                  <a:pt x="14598" y="15180"/>
                  <a:pt x="14635" y="15180"/>
                </a:cubicBezTo>
                <a:cubicBezTo>
                  <a:pt x="14643" y="15180"/>
                  <a:pt x="14652" y="15180"/>
                  <a:pt x="14660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Ink 46"/>
          <p:cNvSpPr/>
          <p:nvPr/>
        </p:nvSpPr>
        <p:spPr>
          <a:xfrm>
            <a:off x="5367240" y="5268960"/>
            <a:ext cx="34920" cy="152280"/>
          </a:xfrm>
          <a:custGeom>
            <a:avLst/>
            <a:gdLst/>
            <a:ahLst/>
            <a:rect l="l" t="t" r="r" b="b"/>
            <a:pathLst>
              <a:path w="100" h="422">
                <a:moveTo>
                  <a:pt x="14982" y="14635"/>
                </a:moveTo>
                <a:cubicBezTo>
                  <a:pt x="14990" y="14635"/>
                  <a:pt x="14999" y="14635"/>
                  <a:pt x="15007" y="14635"/>
                </a:cubicBezTo>
                <a:cubicBezTo>
                  <a:pt x="14996" y="14702"/>
                  <a:pt x="14962" y="14745"/>
                  <a:pt x="14957" y="14808"/>
                </a:cubicBezTo>
                <a:cubicBezTo>
                  <a:pt x="14952" y="14868"/>
                  <a:pt x="14937" y="14900"/>
                  <a:pt x="14932" y="14957"/>
                </a:cubicBezTo>
                <a:cubicBezTo>
                  <a:pt x="14929" y="14990"/>
                  <a:pt x="14898" y="15001"/>
                  <a:pt x="14908" y="15032"/>
                </a:cubicBezTo>
                <a:cubicBezTo>
                  <a:pt x="14916" y="15040"/>
                  <a:pt x="14924" y="15048"/>
                  <a:pt x="14932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Ink 47"/>
          <p:cNvSpPr/>
          <p:nvPr/>
        </p:nvSpPr>
        <p:spPr>
          <a:xfrm>
            <a:off x="731880" y="5581800"/>
            <a:ext cx="339840" cy="196560"/>
          </a:xfrm>
          <a:custGeom>
            <a:avLst/>
            <a:gdLst/>
            <a:ahLst/>
            <a:rect l="l" t="t" r="r" b="b"/>
            <a:pathLst>
              <a:path w="944" h="547">
                <a:moveTo>
                  <a:pt x="2183" y="15503"/>
                </a:moveTo>
                <a:cubicBezTo>
                  <a:pt x="2160" y="15534"/>
                  <a:pt x="2137" y="15563"/>
                  <a:pt x="2133" y="15602"/>
                </a:cubicBezTo>
                <a:cubicBezTo>
                  <a:pt x="2126" y="15662"/>
                  <a:pt x="2106" y="15644"/>
                  <a:pt x="2084" y="15677"/>
                </a:cubicBezTo>
                <a:cubicBezTo>
                  <a:pt x="2070" y="15698"/>
                  <a:pt x="2043" y="15775"/>
                  <a:pt x="2034" y="15801"/>
                </a:cubicBezTo>
                <a:cubicBezTo>
                  <a:pt x="2025" y="15827"/>
                  <a:pt x="2034" y="15873"/>
                  <a:pt x="2034" y="15900"/>
                </a:cubicBezTo>
                <a:cubicBezTo>
                  <a:pt x="2107" y="15900"/>
                  <a:pt x="2172" y="15888"/>
                  <a:pt x="2232" y="15875"/>
                </a:cubicBezTo>
                <a:cubicBezTo>
                  <a:pt x="2271" y="15867"/>
                  <a:pt x="2347" y="15869"/>
                  <a:pt x="2381" y="15850"/>
                </a:cubicBezTo>
                <a:cubicBezTo>
                  <a:pt x="2416" y="15831"/>
                  <a:pt x="2446" y="15829"/>
                  <a:pt x="2456" y="15801"/>
                </a:cubicBezTo>
              </a:path>
              <a:path w="944" h="547">
                <a:moveTo>
                  <a:pt x="2307" y="15701"/>
                </a:moveTo>
                <a:cubicBezTo>
                  <a:pt x="2307" y="15776"/>
                  <a:pt x="2307" y="15850"/>
                  <a:pt x="2307" y="15925"/>
                </a:cubicBezTo>
                <a:cubicBezTo>
                  <a:pt x="2345" y="15937"/>
                  <a:pt x="2328" y="15949"/>
                  <a:pt x="2381" y="15949"/>
                </a:cubicBezTo>
              </a:path>
              <a:path w="944" h="547">
                <a:moveTo>
                  <a:pt x="2729" y="15553"/>
                </a:moveTo>
                <a:cubicBezTo>
                  <a:pt x="2794" y="15553"/>
                  <a:pt x="2844" y="15561"/>
                  <a:pt x="2877" y="15577"/>
                </a:cubicBezTo>
                <a:cubicBezTo>
                  <a:pt x="2928" y="15601"/>
                  <a:pt x="2892" y="15607"/>
                  <a:pt x="2877" y="15652"/>
                </a:cubicBezTo>
                <a:cubicBezTo>
                  <a:pt x="2863" y="15694"/>
                  <a:pt x="2897" y="15686"/>
                  <a:pt x="2853" y="15701"/>
                </a:cubicBezTo>
                <a:cubicBezTo>
                  <a:pt x="2862" y="15728"/>
                  <a:pt x="2870" y="15747"/>
                  <a:pt x="2902" y="15751"/>
                </a:cubicBezTo>
                <a:cubicBezTo>
                  <a:pt x="2939" y="15756"/>
                  <a:pt x="2965" y="15791"/>
                  <a:pt x="2977" y="15825"/>
                </a:cubicBezTo>
                <a:cubicBezTo>
                  <a:pt x="2994" y="15876"/>
                  <a:pt x="2957" y="15873"/>
                  <a:pt x="2927" y="15900"/>
                </a:cubicBezTo>
                <a:cubicBezTo>
                  <a:pt x="2899" y="15925"/>
                  <a:pt x="2879" y="15946"/>
                  <a:pt x="2853" y="15949"/>
                </a:cubicBezTo>
                <a:cubicBezTo>
                  <a:pt x="2823" y="15953"/>
                  <a:pt x="2785" y="15939"/>
                  <a:pt x="2778" y="15925"/>
                </a:cubicBezTo>
                <a:cubicBezTo>
                  <a:pt x="2778" y="15917"/>
                  <a:pt x="2778" y="15908"/>
                  <a:pt x="2778" y="15900"/>
                </a:cubicBezTo>
              </a:path>
              <a:path w="944" h="547">
                <a:moveTo>
                  <a:pt x="2604" y="15925"/>
                </a:moveTo>
                <a:cubicBezTo>
                  <a:pt x="2604" y="15958"/>
                  <a:pt x="2604" y="15991"/>
                  <a:pt x="2604" y="16024"/>
                </a:cubicBezTo>
                <a:cubicBezTo>
                  <a:pt x="2580" y="16024"/>
                  <a:pt x="2572" y="16024"/>
                  <a:pt x="2580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Ink 48"/>
          <p:cNvSpPr/>
          <p:nvPr/>
        </p:nvSpPr>
        <p:spPr>
          <a:xfrm>
            <a:off x="1428840" y="5572080"/>
            <a:ext cx="27756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3969" y="15553"/>
                </a:moveTo>
                <a:cubicBezTo>
                  <a:pt x="3977" y="15553"/>
                  <a:pt x="3986" y="15553"/>
                  <a:pt x="3994" y="15553"/>
                </a:cubicBezTo>
                <a:cubicBezTo>
                  <a:pt x="3994" y="15636"/>
                  <a:pt x="3994" y="15718"/>
                  <a:pt x="3994" y="15801"/>
                </a:cubicBezTo>
                <a:cubicBezTo>
                  <a:pt x="4057" y="15801"/>
                  <a:pt x="4091" y="15793"/>
                  <a:pt x="4142" y="15776"/>
                </a:cubicBezTo>
                <a:cubicBezTo>
                  <a:pt x="4175" y="15765"/>
                  <a:pt x="4212" y="15761"/>
                  <a:pt x="4242" y="15751"/>
                </a:cubicBezTo>
                <a:cubicBezTo>
                  <a:pt x="4287" y="15736"/>
                  <a:pt x="4300" y="15774"/>
                  <a:pt x="4316" y="15726"/>
                </a:cubicBezTo>
              </a:path>
              <a:path w="770" h="547">
                <a:moveTo>
                  <a:pt x="4192" y="15652"/>
                </a:moveTo>
                <a:cubicBezTo>
                  <a:pt x="4192" y="15702"/>
                  <a:pt x="4192" y="15751"/>
                  <a:pt x="4192" y="15801"/>
                </a:cubicBezTo>
                <a:cubicBezTo>
                  <a:pt x="4230" y="15813"/>
                  <a:pt x="4217" y="15830"/>
                  <a:pt x="4217" y="15875"/>
                </a:cubicBezTo>
                <a:cubicBezTo>
                  <a:pt x="4217" y="15903"/>
                  <a:pt x="4219" y="15914"/>
                  <a:pt x="4242" y="15925"/>
                </a:cubicBezTo>
              </a:path>
              <a:path w="770" h="547">
                <a:moveTo>
                  <a:pt x="4440" y="15503"/>
                </a:moveTo>
                <a:cubicBezTo>
                  <a:pt x="4453" y="15465"/>
                  <a:pt x="4469" y="15478"/>
                  <a:pt x="4514" y="15478"/>
                </a:cubicBezTo>
                <a:cubicBezTo>
                  <a:pt x="4557" y="15478"/>
                  <a:pt x="4574" y="15483"/>
                  <a:pt x="4589" y="15528"/>
                </a:cubicBezTo>
                <a:cubicBezTo>
                  <a:pt x="4603" y="15571"/>
                  <a:pt x="4567" y="15589"/>
                  <a:pt x="4564" y="15627"/>
                </a:cubicBezTo>
                <a:cubicBezTo>
                  <a:pt x="4560" y="15679"/>
                  <a:pt x="4541" y="15684"/>
                  <a:pt x="4514" y="15726"/>
                </a:cubicBezTo>
                <a:cubicBezTo>
                  <a:pt x="4490" y="15762"/>
                  <a:pt x="4490" y="15757"/>
                  <a:pt x="4490" y="15801"/>
                </a:cubicBezTo>
                <a:cubicBezTo>
                  <a:pt x="4570" y="15801"/>
                  <a:pt x="4615" y="15794"/>
                  <a:pt x="4688" y="15776"/>
                </a:cubicBezTo>
                <a:cubicBezTo>
                  <a:pt x="4749" y="15761"/>
                  <a:pt x="4737" y="15789"/>
                  <a:pt x="4688" y="15801"/>
                </a:cubicBezTo>
              </a:path>
              <a:path w="770" h="547">
                <a:moveTo>
                  <a:pt x="4440" y="15875"/>
                </a:moveTo>
                <a:cubicBezTo>
                  <a:pt x="4440" y="15925"/>
                  <a:pt x="4440" y="15974"/>
                  <a:pt x="4440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Ink 49"/>
          <p:cNvSpPr/>
          <p:nvPr/>
        </p:nvSpPr>
        <p:spPr>
          <a:xfrm>
            <a:off x="1946160" y="5589720"/>
            <a:ext cx="233640" cy="23328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5482" y="15553"/>
                </a:moveTo>
                <a:cubicBezTo>
                  <a:pt x="5482" y="15610"/>
                  <a:pt x="5473" y="15631"/>
                  <a:pt x="5457" y="15677"/>
                </a:cubicBezTo>
                <a:cubicBezTo>
                  <a:pt x="5445" y="15712"/>
                  <a:pt x="5418" y="15742"/>
                  <a:pt x="5407" y="15776"/>
                </a:cubicBezTo>
                <a:cubicBezTo>
                  <a:pt x="5398" y="15802"/>
                  <a:pt x="5407" y="15847"/>
                  <a:pt x="5407" y="15875"/>
                </a:cubicBezTo>
                <a:cubicBezTo>
                  <a:pt x="5454" y="15875"/>
                  <a:pt x="5470" y="15858"/>
                  <a:pt x="5507" y="15850"/>
                </a:cubicBezTo>
                <a:cubicBezTo>
                  <a:pt x="5584" y="15833"/>
                  <a:pt x="5659" y="15846"/>
                  <a:pt x="5730" y="15825"/>
                </a:cubicBezTo>
                <a:cubicBezTo>
                  <a:pt x="5773" y="15812"/>
                  <a:pt x="5765" y="15844"/>
                  <a:pt x="5779" y="15801"/>
                </a:cubicBezTo>
              </a:path>
              <a:path w="646" h="646">
                <a:moveTo>
                  <a:pt x="5606" y="15701"/>
                </a:moveTo>
                <a:cubicBezTo>
                  <a:pt x="5606" y="15764"/>
                  <a:pt x="5614" y="15798"/>
                  <a:pt x="5631" y="15850"/>
                </a:cubicBezTo>
                <a:cubicBezTo>
                  <a:pt x="5643" y="15886"/>
                  <a:pt x="5609" y="15926"/>
                  <a:pt x="5655" y="15949"/>
                </a:cubicBezTo>
                <a:cubicBezTo>
                  <a:pt x="5691" y="15967"/>
                  <a:pt x="5722" y="15948"/>
                  <a:pt x="5730" y="15925"/>
                </a:cubicBezTo>
              </a:path>
              <a:path w="646" h="646">
                <a:moveTo>
                  <a:pt x="6052" y="15528"/>
                </a:moveTo>
                <a:cubicBezTo>
                  <a:pt x="6025" y="15566"/>
                  <a:pt x="6028" y="15579"/>
                  <a:pt x="6028" y="15627"/>
                </a:cubicBezTo>
                <a:cubicBezTo>
                  <a:pt x="6028" y="15693"/>
                  <a:pt x="6028" y="15759"/>
                  <a:pt x="6028" y="15825"/>
                </a:cubicBezTo>
              </a:path>
              <a:path w="646" h="646">
                <a:moveTo>
                  <a:pt x="5879" y="15974"/>
                </a:moveTo>
                <a:cubicBezTo>
                  <a:pt x="5879" y="16042"/>
                  <a:pt x="5894" y="16120"/>
                  <a:pt x="5854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Ink 50"/>
          <p:cNvSpPr/>
          <p:nvPr/>
        </p:nvSpPr>
        <p:spPr>
          <a:xfrm>
            <a:off x="2705040" y="5607000"/>
            <a:ext cx="287280" cy="196920"/>
          </a:xfrm>
          <a:custGeom>
            <a:avLst/>
            <a:gdLst/>
            <a:ahLst/>
            <a:rect l="l" t="t" r="r" b="b"/>
            <a:pathLst>
              <a:path w="795" h="547">
                <a:moveTo>
                  <a:pt x="7516" y="15602"/>
                </a:moveTo>
                <a:cubicBezTo>
                  <a:pt x="7554" y="15589"/>
                  <a:pt x="7536" y="15577"/>
                  <a:pt x="7590" y="15577"/>
                </a:cubicBezTo>
                <a:cubicBezTo>
                  <a:pt x="7616" y="15577"/>
                  <a:pt x="7677" y="15584"/>
                  <a:pt x="7689" y="15602"/>
                </a:cubicBezTo>
                <a:cubicBezTo>
                  <a:pt x="7706" y="15628"/>
                  <a:pt x="7704" y="15621"/>
                  <a:pt x="7714" y="15652"/>
                </a:cubicBezTo>
                <a:cubicBezTo>
                  <a:pt x="7695" y="15671"/>
                  <a:pt x="7649" y="15745"/>
                  <a:pt x="7640" y="15751"/>
                </a:cubicBezTo>
                <a:cubicBezTo>
                  <a:pt x="7632" y="15751"/>
                  <a:pt x="7623" y="15751"/>
                  <a:pt x="7615" y="15751"/>
                </a:cubicBezTo>
                <a:cubicBezTo>
                  <a:pt x="7654" y="15780"/>
                  <a:pt x="7712" y="15759"/>
                  <a:pt x="7739" y="15801"/>
                </a:cubicBezTo>
                <a:cubicBezTo>
                  <a:pt x="7756" y="15828"/>
                  <a:pt x="7742" y="15935"/>
                  <a:pt x="7714" y="15949"/>
                </a:cubicBezTo>
                <a:cubicBezTo>
                  <a:pt x="7691" y="15960"/>
                  <a:pt x="7647" y="15970"/>
                  <a:pt x="7640" y="15974"/>
                </a:cubicBezTo>
                <a:cubicBezTo>
                  <a:pt x="7632" y="15974"/>
                  <a:pt x="7623" y="15974"/>
                  <a:pt x="7615" y="15974"/>
                </a:cubicBezTo>
                <a:cubicBezTo>
                  <a:pt x="7615" y="15924"/>
                  <a:pt x="7616" y="15912"/>
                  <a:pt x="7665" y="15900"/>
                </a:cubicBezTo>
              </a:path>
              <a:path w="795" h="547">
                <a:moveTo>
                  <a:pt x="7987" y="15627"/>
                </a:moveTo>
                <a:cubicBezTo>
                  <a:pt x="8025" y="15614"/>
                  <a:pt x="8008" y="15602"/>
                  <a:pt x="8062" y="15602"/>
                </a:cubicBezTo>
                <a:cubicBezTo>
                  <a:pt x="8103" y="15602"/>
                  <a:pt x="8145" y="15602"/>
                  <a:pt x="8186" y="15602"/>
                </a:cubicBezTo>
                <a:cubicBezTo>
                  <a:pt x="8186" y="15648"/>
                  <a:pt x="8192" y="15666"/>
                  <a:pt x="8161" y="15701"/>
                </a:cubicBezTo>
                <a:cubicBezTo>
                  <a:pt x="8140" y="15724"/>
                  <a:pt x="8099" y="15772"/>
                  <a:pt x="8086" y="15801"/>
                </a:cubicBezTo>
                <a:cubicBezTo>
                  <a:pt x="8086" y="15825"/>
                  <a:pt x="8086" y="15834"/>
                  <a:pt x="8086" y="15850"/>
                </a:cubicBezTo>
                <a:cubicBezTo>
                  <a:pt x="8138" y="15850"/>
                  <a:pt x="8315" y="15850"/>
                  <a:pt x="8285" y="15850"/>
                </a:cubicBezTo>
                <a:cubicBezTo>
                  <a:pt x="8277" y="15850"/>
                  <a:pt x="8268" y="15850"/>
                  <a:pt x="8260" y="15850"/>
                </a:cubicBezTo>
              </a:path>
              <a:path w="795" h="547">
                <a:moveTo>
                  <a:pt x="7913" y="15974"/>
                </a:moveTo>
                <a:cubicBezTo>
                  <a:pt x="7913" y="16015"/>
                  <a:pt x="7913" y="16057"/>
                  <a:pt x="7913" y="16098"/>
                </a:cubicBezTo>
                <a:cubicBezTo>
                  <a:pt x="7943" y="16106"/>
                  <a:pt x="7957" y="16115"/>
                  <a:pt x="7987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Ink 51"/>
          <p:cNvSpPr/>
          <p:nvPr/>
        </p:nvSpPr>
        <p:spPr>
          <a:xfrm>
            <a:off x="3170160" y="5589720"/>
            <a:ext cx="214560" cy="233280"/>
          </a:xfrm>
          <a:custGeom>
            <a:avLst/>
            <a:gdLst/>
            <a:ahLst/>
            <a:rect l="l" t="t" r="r" b="b"/>
            <a:pathLst>
              <a:path w="596" h="646">
                <a:moveTo>
                  <a:pt x="8806" y="15577"/>
                </a:moveTo>
                <a:cubicBezTo>
                  <a:pt x="8889" y="15577"/>
                  <a:pt x="8971" y="15577"/>
                  <a:pt x="9054" y="15577"/>
                </a:cubicBezTo>
                <a:cubicBezTo>
                  <a:pt x="9054" y="15628"/>
                  <a:pt x="9043" y="15636"/>
                  <a:pt x="9029" y="15677"/>
                </a:cubicBezTo>
                <a:cubicBezTo>
                  <a:pt x="9014" y="15721"/>
                  <a:pt x="8974" y="15691"/>
                  <a:pt x="8954" y="15751"/>
                </a:cubicBezTo>
                <a:cubicBezTo>
                  <a:pt x="8954" y="15759"/>
                  <a:pt x="8954" y="15768"/>
                  <a:pt x="8954" y="15776"/>
                </a:cubicBezTo>
                <a:cubicBezTo>
                  <a:pt x="9010" y="15776"/>
                  <a:pt x="9061" y="15764"/>
                  <a:pt x="9103" y="15801"/>
                </a:cubicBezTo>
                <a:cubicBezTo>
                  <a:pt x="9124" y="15819"/>
                  <a:pt x="9145" y="15870"/>
                  <a:pt x="9128" y="15900"/>
                </a:cubicBezTo>
                <a:cubicBezTo>
                  <a:pt x="9120" y="15914"/>
                  <a:pt x="9045" y="15967"/>
                  <a:pt x="9029" y="15974"/>
                </a:cubicBezTo>
                <a:cubicBezTo>
                  <a:pt x="9021" y="15974"/>
                  <a:pt x="9012" y="15974"/>
                  <a:pt x="9004" y="15974"/>
                </a:cubicBezTo>
                <a:cubicBezTo>
                  <a:pt x="9004" y="15924"/>
                  <a:pt x="9005" y="15912"/>
                  <a:pt x="9054" y="15900"/>
                </a:cubicBezTo>
              </a:path>
              <a:path w="596" h="646">
                <a:moveTo>
                  <a:pt x="9401" y="15528"/>
                </a:moveTo>
                <a:cubicBezTo>
                  <a:pt x="9372" y="15566"/>
                  <a:pt x="9376" y="15579"/>
                  <a:pt x="9376" y="15627"/>
                </a:cubicBezTo>
                <a:cubicBezTo>
                  <a:pt x="9376" y="15672"/>
                  <a:pt x="9351" y="15695"/>
                  <a:pt x="9351" y="15751"/>
                </a:cubicBezTo>
                <a:cubicBezTo>
                  <a:pt x="9351" y="15803"/>
                  <a:pt x="9333" y="15886"/>
                  <a:pt x="9376" y="15900"/>
                </a:cubicBezTo>
              </a:path>
              <a:path w="596" h="646">
                <a:moveTo>
                  <a:pt x="9203" y="16024"/>
                </a:moveTo>
                <a:cubicBezTo>
                  <a:pt x="9203" y="16032"/>
                  <a:pt x="9203" y="16041"/>
                  <a:pt x="9203" y="16049"/>
                </a:cubicBezTo>
                <a:cubicBezTo>
                  <a:pt x="9203" y="15982"/>
                  <a:pt x="9203" y="16087"/>
                  <a:pt x="9203" y="16098"/>
                </a:cubicBezTo>
                <a:cubicBezTo>
                  <a:pt x="9203" y="16130"/>
                  <a:pt x="9186" y="16143"/>
                  <a:pt x="9178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Ink 52"/>
          <p:cNvSpPr/>
          <p:nvPr/>
        </p:nvSpPr>
        <p:spPr>
          <a:xfrm>
            <a:off x="3848040" y="5616720"/>
            <a:ext cx="295200" cy="169560"/>
          </a:xfrm>
          <a:custGeom>
            <a:avLst/>
            <a:gdLst/>
            <a:ahLst/>
            <a:rect l="l" t="t" r="r" b="b"/>
            <a:pathLst>
              <a:path w="819" h="472">
                <a:moveTo>
                  <a:pt x="10691" y="15627"/>
                </a:moveTo>
                <a:cubicBezTo>
                  <a:pt x="10751" y="15627"/>
                  <a:pt x="10820" y="15612"/>
                  <a:pt x="10864" y="15652"/>
                </a:cubicBezTo>
                <a:cubicBezTo>
                  <a:pt x="10905" y="15689"/>
                  <a:pt x="10914" y="15667"/>
                  <a:pt x="10914" y="15726"/>
                </a:cubicBezTo>
                <a:cubicBezTo>
                  <a:pt x="10914" y="15769"/>
                  <a:pt x="10869" y="15796"/>
                  <a:pt x="10840" y="15825"/>
                </a:cubicBezTo>
                <a:cubicBezTo>
                  <a:pt x="10807" y="15858"/>
                  <a:pt x="10803" y="15931"/>
                  <a:pt x="10765" y="15949"/>
                </a:cubicBezTo>
                <a:cubicBezTo>
                  <a:pt x="10740" y="15949"/>
                  <a:pt x="10732" y="15949"/>
                  <a:pt x="10740" y="15974"/>
                </a:cubicBezTo>
                <a:cubicBezTo>
                  <a:pt x="10811" y="15974"/>
                  <a:pt x="10875" y="15966"/>
                  <a:pt x="10914" y="15949"/>
                </a:cubicBezTo>
                <a:cubicBezTo>
                  <a:pt x="10951" y="15933"/>
                  <a:pt x="11025" y="15937"/>
                  <a:pt x="11063" y="15925"/>
                </a:cubicBezTo>
                <a:cubicBezTo>
                  <a:pt x="11082" y="15919"/>
                  <a:pt x="11117" y="15925"/>
                  <a:pt x="11137" y="15925"/>
                </a:cubicBezTo>
              </a:path>
              <a:path w="819" h="472">
                <a:moveTo>
                  <a:pt x="11485" y="15602"/>
                </a:moveTo>
                <a:cubicBezTo>
                  <a:pt x="11485" y="15670"/>
                  <a:pt x="11459" y="15908"/>
                  <a:pt x="11509" y="15925"/>
                </a:cubicBezTo>
              </a:path>
              <a:path w="819" h="472">
                <a:moveTo>
                  <a:pt x="11237" y="15900"/>
                </a:moveTo>
                <a:cubicBezTo>
                  <a:pt x="11237" y="15950"/>
                  <a:pt x="11237" y="15999"/>
                  <a:pt x="11237" y="16049"/>
                </a:cubicBezTo>
                <a:cubicBezTo>
                  <a:pt x="11200" y="16061"/>
                  <a:pt x="11215" y="16073"/>
                  <a:pt x="11162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Ink 53"/>
          <p:cNvSpPr/>
          <p:nvPr/>
        </p:nvSpPr>
        <p:spPr>
          <a:xfrm>
            <a:off x="652320" y="6081840"/>
            <a:ext cx="436680" cy="249120"/>
          </a:xfrm>
          <a:custGeom>
            <a:avLst/>
            <a:gdLst/>
            <a:ahLst/>
            <a:rect l="l" t="t" r="r" b="b"/>
            <a:pathLst>
              <a:path w="1216" h="696">
                <a:moveTo>
                  <a:pt x="1935" y="16892"/>
                </a:moveTo>
                <a:cubicBezTo>
                  <a:pt x="1893" y="16906"/>
                  <a:pt x="1918" y="16943"/>
                  <a:pt x="1885" y="16991"/>
                </a:cubicBezTo>
                <a:cubicBezTo>
                  <a:pt x="1860" y="17029"/>
                  <a:pt x="1841" y="17065"/>
                  <a:pt x="1836" y="17115"/>
                </a:cubicBezTo>
                <a:cubicBezTo>
                  <a:pt x="1831" y="17170"/>
                  <a:pt x="1811" y="17205"/>
                  <a:pt x="1811" y="17264"/>
                </a:cubicBezTo>
                <a:cubicBezTo>
                  <a:pt x="1811" y="17296"/>
                  <a:pt x="1811" y="17371"/>
                  <a:pt x="1836" y="17388"/>
                </a:cubicBezTo>
                <a:cubicBezTo>
                  <a:pt x="1865" y="17408"/>
                  <a:pt x="2041" y="17399"/>
                  <a:pt x="2059" y="17363"/>
                </a:cubicBezTo>
                <a:cubicBezTo>
                  <a:pt x="2059" y="17335"/>
                  <a:pt x="2061" y="17324"/>
                  <a:pt x="2084" y="17314"/>
                </a:cubicBezTo>
                <a:cubicBezTo>
                  <a:pt x="2075" y="17287"/>
                  <a:pt x="2066" y="17268"/>
                  <a:pt x="2034" y="17264"/>
                </a:cubicBezTo>
                <a:cubicBezTo>
                  <a:pt x="1983" y="17258"/>
                  <a:pt x="1974" y="17276"/>
                  <a:pt x="1935" y="17289"/>
                </a:cubicBezTo>
                <a:cubicBezTo>
                  <a:pt x="1900" y="17301"/>
                  <a:pt x="1910" y="17296"/>
                  <a:pt x="1910" y="17338"/>
                </a:cubicBezTo>
              </a:path>
              <a:path w="1216" h="696">
                <a:moveTo>
                  <a:pt x="2381" y="17363"/>
                </a:moveTo>
                <a:cubicBezTo>
                  <a:pt x="2357" y="17396"/>
                  <a:pt x="2342" y="17444"/>
                  <a:pt x="2332" y="17487"/>
                </a:cubicBezTo>
                <a:cubicBezTo>
                  <a:pt x="2322" y="17530"/>
                  <a:pt x="2326" y="17576"/>
                  <a:pt x="2356" y="17587"/>
                </a:cubicBezTo>
              </a:path>
              <a:path w="1216" h="696">
                <a:moveTo>
                  <a:pt x="2654" y="16942"/>
                </a:moveTo>
                <a:cubicBezTo>
                  <a:pt x="2667" y="16978"/>
                  <a:pt x="2685" y="16966"/>
                  <a:pt x="2729" y="16966"/>
                </a:cubicBezTo>
                <a:cubicBezTo>
                  <a:pt x="2782" y="16966"/>
                  <a:pt x="2808" y="16947"/>
                  <a:pt x="2853" y="16942"/>
                </a:cubicBezTo>
                <a:cubicBezTo>
                  <a:pt x="2877" y="16942"/>
                  <a:pt x="2886" y="16942"/>
                  <a:pt x="2902" y="16942"/>
                </a:cubicBezTo>
                <a:cubicBezTo>
                  <a:pt x="2902" y="16978"/>
                  <a:pt x="2894" y="17014"/>
                  <a:pt x="2877" y="17041"/>
                </a:cubicBezTo>
                <a:cubicBezTo>
                  <a:pt x="2860" y="17067"/>
                  <a:pt x="2786" y="17102"/>
                  <a:pt x="2803" y="17140"/>
                </a:cubicBezTo>
                <a:cubicBezTo>
                  <a:pt x="2820" y="17178"/>
                  <a:pt x="2869" y="17165"/>
                  <a:pt x="2902" y="17165"/>
                </a:cubicBezTo>
                <a:cubicBezTo>
                  <a:pt x="2933" y="17165"/>
                  <a:pt x="3009" y="17165"/>
                  <a:pt x="3026" y="17190"/>
                </a:cubicBezTo>
                <a:cubicBezTo>
                  <a:pt x="3057" y="17235"/>
                  <a:pt x="2985" y="17260"/>
                  <a:pt x="2977" y="17289"/>
                </a:cubicBezTo>
                <a:cubicBezTo>
                  <a:pt x="2956" y="17364"/>
                  <a:pt x="2962" y="17323"/>
                  <a:pt x="2902" y="17363"/>
                </a:cubicBezTo>
                <a:cubicBezTo>
                  <a:pt x="2856" y="17394"/>
                  <a:pt x="2862" y="17413"/>
                  <a:pt x="2803" y="17413"/>
                </a:cubicBezTo>
                <a:cubicBezTo>
                  <a:pt x="2766" y="17413"/>
                  <a:pt x="2732" y="17385"/>
                  <a:pt x="2704" y="1736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Ink 54"/>
          <p:cNvSpPr/>
          <p:nvPr/>
        </p:nvSpPr>
        <p:spPr>
          <a:xfrm>
            <a:off x="1955880" y="6107040"/>
            <a:ext cx="625320" cy="233280"/>
          </a:xfrm>
          <a:custGeom>
            <a:avLst/>
            <a:gdLst/>
            <a:ahLst/>
            <a:rect l="l" t="t" r="r" b="b"/>
            <a:pathLst>
              <a:path w="1738" h="646">
                <a:moveTo>
                  <a:pt x="5581" y="16966"/>
                </a:moveTo>
                <a:cubicBezTo>
                  <a:pt x="5581" y="17045"/>
                  <a:pt x="5593" y="17126"/>
                  <a:pt x="5556" y="17190"/>
                </a:cubicBezTo>
                <a:cubicBezTo>
                  <a:pt x="5525" y="17244"/>
                  <a:pt x="5506" y="17291"/>
                  <a:pt x="5482" y="17338"/>
                </a:cubicBezTo>
                <a:cubicBezTo>
                  <a:pt x="5464" y="17373"/>
                  <a:pt x="5442" y="17374"/>
                  <a:pt x="5432" y="17413"/>
                </a:cubicBezTo>
                <a:cubicBezTo>
                  <a:pt x="5484" y="17413"/>
                  <a:pt x="5514" y="17401"/>
                  <a:pt x="5556" y="17388"/>
                </a:cubicBezTo>
                <a:cubicBezTo>
                  <a:pt x="5635" y="17364"/>
                  <a:pt x="5729" y="17388"/>
                  <a:pt x="5804" y="17363"/>
                </a:cubicBezTo>
                <a:cubicBezTo>
                  <a:pt x="5840" y="17351"/>
                  <a:pt x="5869" y="17325"/>
                  <a:pt x="5904" y="17314"/>
                </a:cubicBezTo>
                <a:cubicBezTo>
                  <a:pt x="5930" y="17305"/>
                  <a:pt x="5945" y="17263"/>
                  <a:pt x="5953" y="17239"/>
                </a:cubicBezTo>
              </a:path>
              <a:path w="1738" h="646">
                <a:moveTo>
                  <a:pt x="5779" y="17190"/>
                </a:moveTo>
                <a:cubicBezTo>
                  <a:pt x="5769" y="17229"/>
                  <a:pt x="5755" y="17245"/>
                  <a:pt x="5755" y="17289"/>
                </a:cubicBezTo>
                <a:cubicBezTo>
                  <a:pt x="5755" y="17347"/>
                  <a:pt x="5755" y="17404"/>
                  <a:pt x="5755" y="17462"/>
                </a:cubicBezTo>
                <a:cubicBezTo>
                  <a:pt x="5797" y="17462"/>
                  <a:pt x="5794" y="17463"/>
                  <a:pt x="5829" y="17438"/>
                </a:cubicBezTo>
              </a:path>
              <a:path w="1738" h="646">
                <a:moveTo>
                  <a:pt x="6201" y="17438"/>
                </a:moveTo>
                <a:cubicBezTo>
                  <a:pt x="6177" y="17469"/>
                  <a:pt x="6156" y="17498"/>
                  <a:pt x="6152" y="17537"/>
                </a:cubicBezTo>
                <a:cubicBezTo>
                  <a:pt x="6149" y="17561"/>
                  <a:pt x="6152" y="17587"/>
                  <a:pt x="6152" y="17611"/>
                </a:cubicBezTo>
                <a:cubicBezTo>
                  <a:pt x="6180" y="17611"/>
                  <a:pt x="6190" y="17609"/>
                  <a:pt x="6201" y="17587"/>
                </a:cubicBezTo>
              </a:path>
              <a:path w="1738" h="646">
                <a:moveTo>
                  <a:pt x="6573" y="17090"/>
                </a:moveTo>
                <a:cubicBezTo>
                  <a:pt x="6582" y="17064"/>
                  <a:pt x="6592" y="17045"/>
                  <a:pt x="6623" y="17041"/>
                </a:cubicBezTo>
                <a:cubicBezTo>
                  <a:pt x="6667" y="17035"/>
                  <a:pt x="6704" y="17020"/>
                  <a:pt x="6747" y="17016"/>
                </a:cubicBezTo>
                <a:cubicBezTo>
                  <a:pt x="6789" y="17012"/>
                  <a:pt x="6807" y="17025"/>
                  <a:pt x="6821" y="17066"/>
                </a:cubicBezTo>
                <a:cubicBezTo>
                  <a:pt x="6835" y="17107"/>
                  <a:pt x="6812" y="17156"/>
                  <a:pt x="6796" y="17190"/>
                </a:cubicBezTo>
                <a:cubicBezTo>
                  <a:pt x="6768" y="17251"/>
                  <a:pt x="6729" y="17307"/>
                  <a:pt x="6697" y="17363"/>
                </a:cubicBezTo>
                <a:cubicBezTo>
                  <a:pt x="6663" y="17424"/>
                  <a:pt x="6648" y="17442"/>
                  <a:pt x="6648" y="17512"/>
                </a:cubicBezTo>
                <a:cubicBezTo>
                  <a:pt x="6648" y="17537"/>
                  <a:pt x="6648" y="17545"/>
                  <a:pt x="6648" y="17562"/>
                </a:cubicBezTo>
                <a:cubicBezTo>
                  <a:pt x="6716" y="17562"/>
                  <a:pt x="6759" y="17548"/>
                  <a:pt x="6821" y="17537"/>
                </a:cubicBezTo>
                <a:cubicBezTo>
                  <a:pt x="6899" y="17523"/>
                  <a:pt x="6969" y="17531"/>
                  <a:pt x="7045" y="17512"/>
                </a:cubicBezTo>
                <a:cubicBezTo>
                  <a:pt x="7089" y="17501"/>
                  <a:pt x="7163" y="17539"/>
                  <a:pt x="7169" y="17487"/>
                </a:cubicBezTo>
                <a:cubicBezTo>
                  <a:pt x="7169" y="17462"/>
                  <a:pt x="7169" y="17454"/>
                  <a:pt x="7169" y="1743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nk 55"/>
          <p:cNvSpPr/>
          <p:nvPr/>
        </p:nvSpPr>
        <p:spPr>
          <a:xfrm>
            <a:off x="3295800" y="6099120"/>
            <a:ext cx="473040" cy="250920"/>
          </a:xfrm>
          <a:custGeom>
            <a:avLst/>
            <a:gdLst/>
            <a:ahLst/>
            <a:rect l="l" t="t" r="r" b="b"/>
            <a:pathLst>
              <a:path w="1316" h="695">
                <a:moveTo>
                  <a:pt x="9153" y="17140"/>
                </a:moveTo>
                <a:cubicBezTo>
                  <a:pt x="9190" y="17140"/>
                  <a:pt x="9247" y="17130"/>
                  <a:pt x="9277" y="17115"/>
                </a:cubicBezTo>
                <a:cubicBezTo>
                  <a:pt x="9315" y="17096"/>
                  <a:pt x="9357" y="17069"/>
                  <a:pt x="9401" y="17066"/>
                </a:cubicBezTo>
                <a:cubicBezTo>
                  <a:pt x="9442" y="17066"/>
                  <a:pt x="9450" y="17066"/>
                  <a:pt x="9475" y="17066"/>
                </a:cubicBezTo>
                <a:cubicBezTo>
                  <a:pt x="9475" y="17119"/>
                  <a:pt x="9460" y="17171"/>
                  <a:pt x="9426" y="17214"/>
                </a:cubicBezTo>
                <a:cubicBezTo>
                  <a:pt x="9375" y="17280"/>
                  <a:pt x="9327" y="17347"/>
                  <a:pt x="9277" y="17413"/>
                </a:cubicBezTo>
                <a:cubicBezTo>
                  <a:pt x="9250" y="17448"/>
                  <a:pt x="9195" y="17498"/>
                  <a:pt x="9178" y="17537"/>
                </a:cubicBezTo>
                <a:cubicBezTo>
                  <a:pt x="9178" y="17545"/>
                  <a:pt x="9178" y="17554"/>
                  <a:pt x="9178" y="17562"/>
                </a:cubicBezTo>
                <a:cubicBezTo>
                  <a:pt x="9217" y="17552"/>
                  <a:pt x="9232" y="17537"/>
                  <a:pt x="9277" y="17537"/>
                </a:cubicBezTo>
                <a:cubicBezTo>
                  <a:pt x="9351" y="17537"/>
                  <a:pt x="9405" y="17528"/>
                  <a:pt x="9475" y="17512"/>
                </a:cubicBezTo>
                <a:cubicBezTo>
                  <a:pt x="9526" y="17500"/>
                  <a:pt x="9642" y="17543"/>
                  <a:pt x="9649" y="17487"/>
                </a:cubicBezTo>
                <a:cubicBezTo>
                  <a:pt x="9649" y="17462"/>
                  <a:pt x="9649" y="17454"/>
                  <a:pt x="9649" y="17438"/>
                </a:cubicBezTo>
              </a:path>
              <a:path w="1316" h="695">
                <a:moveTo>
                  <a:pt x="9947" y="17438"/>
                </a:moveTo>
                <a:cubicBezTo>
                  <a:pt x="9935" y="17519"/>
                  <a:pt x="9904" y="17490"/>
                  <a:pt x="9897" y="17562"/>
                </a:cubicBezTo>
                <a:cubicBezTo>
                  <a:pt x="9896" y="17568"/>
                  <a:pt x="9893" y="17675"/>
                  <a:pt x="9922" y="17636"/>
                </a:cubicBezTo>
                <a:cubicBezTo>
                  <a:pt x="9922" y="17611"/>
                  <a:pt x="9922" y="17603"/>
                  <a:pt x="9947" y="17611"/>
                </a:cubicBezTo>
              </a:path>
              <a:path w="1316" h="695">
                <a:moveTo>
                  <a:pt x="10443" y="16942"/>
                </a:moveTo>
                <a:cubicBezTo>
                  <a:pt x="10430" y="16992"/>
                  <a:pt x="10418" y="17005"/>
                  <a:pt x="10418" y="17066"/>
                </a:cubicBezTo>
                <a:cubicBezTo>
                  <a:pt x="10418" y="17132"/>
                  <a:pt x="10397" y="17175"/>
                  <a:pt x="10393" y="17239"/>
                </a:cubicBezTo>
                <a:cubicBezTo>
                  <a:pt x="10389" y="17310"/>
                  <a:pt x="10379" y="17380"/>
                  <a:pt x="10368" y="17438"/>
                </a:cubicBezTo>
                <a:cubicBezTo>
                  <a:pt x="10361" y="17475"/>
                  <a:pt x="10368" y="17524"/>
                  <a:pt x="10368" y="17562"/>
                </a:cubicBezTo>
                <a:cubicBezTo>
                  <a:pt x="10432" y="17562"/>
                  <a:pt x="10411" y="17533"/>
                  <a:pt x="10443" y="17512"/>
                </a:cubicBezTo>
                <a:cubicBezTo>
                  <a:pt x="10451" y="17512"/>
                  <a:pt x="10460" y="17512"/>
                  <a:pt x="10468" y="1751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Ink 56"/>
          <p:cNvSpPr/>
          <p:nvPr/>
        </p:nvSpPr>
        <p:spPr>
          <a:xfrm>
            <a:off x="4295880" y="6249960"/>
            <a:ext cx="196920" cy="90360"/>
          </a:xfrm>
          <a:custGeom>
            <a:avLst/>
            <a:gdLst/>
            <a:ahLst/>
            <a:rect l="l" t="t" r="r" b="b"/>
            <a:pathLst>
              <a:path w="547" h="249">
                <a:moveTo>
                  <a:pt x="11931" y="17388"/>
                </a:moveTo>
                <a:cubicBezTo>
                  <a:pt x="11975" y="17421"/>
                  <a:pt x="11997" y="17413"/>
                  <a:pt x="12055" y="17413"/>
                </a:cubicBezTo>
                <a:cubicBezTo>
                  <a:pt x="12153" y="17413"/>
                  <a:pt x="12244" y="17416"/>
                  <a:pt x="12328" y="17388"/>
                </a:cubicBezTo>
                <a:cubicBezTo>
                  <a:pt x="12371" y="17374"/>
                  <a:pt x="12361" y="17395"/>
                  <a:pt x="12402" y="17363"/>
                </a:cubicBezTo>
                <a:cubicBezTo>
                  <a:pt x="12359" y="17363"/>
                  <a:pt x="12363" y="17362"/>
                  <a:pt x="12328" y="17388"/>
                </a:cubicBezTo>
              </a:path>
              <a:path w="547" h="249">
                <a:moveTo>
                  <a:pt x="11956" y="17587"/>
                </a:moveTo>
                <a:cubicBezTo>
                  <a:pt x="11948" y="17587"/>
                  <a:pt x="11939" y="17587"/>
                  <a:pt x="11931" y="17587"/>
                </a:cubicBezTo>
                <a:cubicBezTo>
                  <a:pt x="11968" y="17599"/>
                  <a:pt x="11953" y="17611"/>
                  <a:pt x="12005" y="17611"/>
                </a:cubicBezTo>
                <a:cubicBezTo>
                  <a:pt x="12096" y="17611"/>
                  <a:pt x="12187" y="17611"/>
                  <a:pt x="12278" y="17611"/>
                </a:cubicBezTo>
                <a:cubicBezTo>
                  <a:pt x="12291" y="17575"/>
                  <a:pt x="12309" y="17587"/>
                  <a:pt x="12353" y="17587"/>
                </a:cubicBezTo>
                <a:cubicBezTo>
                  <a:pt x="12403" y="17587"/>
                  <a:pt x="12463" y="17603"/>
                  <a:pt x="12477" y="1756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Ink 57"/>
          <p:cNvSpPr/>
          <p:nvPr/>
        </p:nvSpPr>
        <p:spPr>
          <a:xfrm>
            <a:off x="5205240" y="6153120"/>
            <a:ext cx="455760" cy="598680"/>
          </a:xfrm>
          <a:custGeom>
            <a:avLst/>
            <a:gdLst/>
            <a:ahLst/>
            <a:rect l="l" t="t" r="r" b="b"/>
            <a:pathLst>
              <a:path w="1266" h="1663">
                <a:moveTo>
                  <a:pt x="15007" y="17165"/>
                </a:moveTo>
                <a:cubicBezTo>
                  <a:pt x="15014" y="17143"/>
                  <a:pt x="15049" y="17126"/>
                  <a:pt x="15081" y="17115"/>
                </a:cubicBezTo>
                <a:cubicBezTo>
                  <a:pt x="15128" y="17099"/>
                  <a:pt x="15186" y="17105"/>
                  <a:pt x="15230" y="17090"/>
                </a:cubicBezTo>
                <a:cubicBezTo>
                  <a:pt x="15278" y="17074"/>
                  <a:pt x="15353" y="17090"/>
                  <a:pt x="15404" y="17090"/>
                </a:cubicBezTo>
                <a:cubicBezTo>
                  <a:pt x="15404" y="17126"/>
                  <a:pt x="15397" y="17164"/>
                  <a:pt x="15379" y="17190"/>
                </a:cubicBezTo>
                <a:cubicBezTo>
                  <a:pt x="15365" y="17210"/>
                  <a:pt x="15276" y="17259"/>
                  <a:pt x="15255" y="17264"/>
                </a:cubicBezTo>
                <a:cubicBezTo>
                  <a:pt x="15211" y="17276"/>
                  <a:pt x="15162" y="17267"/>
                  <a:pt x="15156" y="17314"/>
                </a:cubicBezTo>
                <a:cubicBezTo>
                  <a:pt x="15156" y="17322"/>
                  <a:pt x="15156" y="17330"/>
                  <a:pt x="15156" y="17338"/>
                </a:cubicBezTo>
                <a:cubicBezTo>
                  <a:pt x="15205" y="17338"/>
                  <a:pt x="15266" y="17359"/>
                  <a:pt x="15280" y="17363"/>
                </a:cubicBezTo>
                <a:cubicBezTo>
                  <a:pt x="15329" y="17375"/>
                  <a:pt x="15350" y="17400"/>
                  <a:pt x="15379" y="17413"/>
                </a:cubicBezTo>
                <a:cubicBezTo>
                  <a:pt x="15405" y="17424"/>
                  <a:pt x="15425" y="17430"/>
                  <a:pt x="15429" y="17462"/>
                </a:cubicBezTo>
                <a:cubicBezTo>
                  <a:pt x="15433" y="17490"/>
                  <a:pt x="15388" y="17531"/>
                  <a:pt x="15379" y="17537"/>
                </a:cubicBezTo>
                <a:cubicBezTo>
                  <a:pt x="15333" y="17570"/>
                  <a:pt x="15272" y="17584"/>
                  <a:pt x="15230" y="17587"/>
                </a:cubicBezTo>
                <a:cubicBezTo>
                  <a:pt x="15164" y="17591"/>
                  <a:pt x="15157" y="17579"/>
                  <a:pt x="15106" y="17562"/>
                </a:cubicBezTo>
                <a:cubicBezTo>
                  <a:pt x="15081" y="17562"/>
                  <a:pt x="15073" y="17562"/>
                  <a:pt x="15056" y="17562"/>
                </a:cubicBezTo>
              </a:path>
              <a:path w="1266" h="1663">
                <a:moveTo>
                  <a:pt x="14461" y="17983"/>
                </a:moveTo>
                <a:cubicBezTo>
                  <a:pt x="14548" y="17983"/>
                  <a:pt x="14625" y="17968"/>
                  <a:pt x="14709" y="17959"/>
                </a:cubicBezTo>
                <a:cubicBezTo>
                  <a:pt x="14815" y="17948"/>
                  <a:pt x="14904" y="17919"/>
                  <a:pt x="15007" y="17884"/>
                </a:cubicBezTo>
                <a:cubicBezTo>
                  <a:pt x="15118" y="17847"/>
                  <a:pt x="15237" y="17800"/>
                  <a:pt x="15354" y="17785"/>
                </a:cubicBezTo>
                <a:cubicBezTo>
                  <a:pt x="15438" y="17774"/>
                  <a:pt x="15516" y="17760"/>
                  <a:pt x="15602" y="17760"/>
                </a:cubicBezTo>
                <a:cubicBezTo>
                  <a:pt x="15652" y="17760"/>
                  <a:pt x="15691" y="17820"/>
                  <a:pt x="15726" y="17785"/>
                </a:cubicBezTo>
                <a:cubicBezTo>
                  <a:pt x="15755" y="17755"/>
                  <a:pt x="15668" y="17760"/>
                  <a:pt x="15627" y="17760"/>
                </a:cubicBezTo>
              </a:path>
              <a:path w="1266" h="1663">
                <a:moveTo>
                  <a:pt x="14709" y="18256"/>
                </a:moveTo>
                <a:cubicBezTo>
                  <a:pt x="14759" y="18256"/>
                  <a:pt x="14768" y="18245"/>
                  <a:pt x="14808" y="18231"/>
                </a:cubicBezTo>
                <a:cubicBezTo>
                  <a:pt x="14851" y="18216"/>
                  <a:pt x="14902" y="18233"/>
                  <a:pt x="14932" y="18256"/>
                </a:cubicBezTo>
                <a:cubicBezTo>
                  <a:pt x="14916" y="18323"/>
                  <a:pt x="14892" y="18305"/>
                  <a:pt x="14858" y="18355"/>
                </a:cubicBezTo>
                <a:cubicBezTo>
                  <a:pt x="14835" y="18388"/>
                  <a:pt x="14795" y="18397"/>
                  <a:pt x="14784" y="18430"/>
                </a:cubicBezTo>
                <a:cubicBezTo>
                  <a:pt x="14802" y="18457"/>
                  <a:pt x="14864" y="18451"/>
                  <a:pt x="14883" y="18479"/>
                </a:cubicBezTo>
                <a:cubicBezTo>
                  <a:pt x="14918" y="18531"/>
                  <a:pt x="14896" y="18538"/>
                  <a:pt x="14957" y="18579"/>
                </a:cubicBezTo>
                <a:cubicBezTo>
                  <a:pt x="14899" y="18598"/>
                  <a:pt x="14966" y="18622"/>
                  <a:pt x="14932" y="18653"/>
                </a:cubicBezTo>
                <a:cubicBezTo>
                  <a:pt x="14907" y="18676"/>
                  <a:pt x="14841" y="18724"/>
                  <a:pt x="14808" y="18728"/>
                </a:cubicBezTo>
                <a:cubicBezTo>
                  <a:pt x="14751" y="18735"/>
                  <a:pt x="14764" y="18767"/>
                  <a:pt x="14709" y="18728"/>
                </a:cubicBezTo>
                <a:cubicBezTo>
                  <a:pt x="14723" y="18673"/>
                  <a:pt x="14766" y="18667"/>
                  <a:pt x="14808" y="18628"/>
                </a:cubicBezTo>
                <a:cubicBezTo>
                  <a:pt x="14825" y="18612"/>
                  <a:pt x="14841" y="18595"/>
                  <a:pt x="14858" y="18579"/>
                </a:cubicBezTo>
              </a:path>
              <a:path w="1266" h="1663">
                <a:moveTo>
                  <a:pt x="15478" y="18107"/>
                </a:moveTo>
                <a:cubicBezTo>
                  <a:pt x="15447" y="18107"/>
                  <a:pt x="15412" y="18115"/>
                  <a:pt x="15404" y="18132"/>
                </a:cubicBezTo>
                <a:cubicBezTo>
                  <a:pt x="15385" y="18171"/>
                  <a:pt x="15325" y="18185"/>
                  <a:pt x="15304" y="18231"/>
                </a:cubicBezTo>
                <a:cubicBezTo>
                  <a:pt x="15283" y="18277"/>
                  <a:pt x="15240" y="18323"/>
                  <a:pt x="15230" y="18380"/>
                </a:cubicBezTo>
                <a:cubicBezTo>
                  <a:pt x="15218" y="18446"/>
                  <a:pt x="15207" y="18485"/>
                  <a:pt x="15230" y="18554"/>
                </a:cubicBezTo>
                <a:cubicBezTo>
                  <a:pt x="15259" y="18640"/>
                  <a:pt x="15281" y="18615"/>
                  <a:pt x="15329" y="18678"/>
                </a:cubicBezTo>
                <a:cubicBezTo>
                  <a:pt x="15351" y="18707"/>
                  <a:pt x="15358" y="18737"/>
                  <a:pt x="15404" y="18752"/>
                </a:cubicBezTo>
                <a:cubicBezTo>
                  <a:pt x="15459" y="18770"/>
                  <a:pt x="15511" y="18740"/>
                  <a:pt x="15553" y="18728"/>
                </a:cubicBezTo>
                <a:cubicBezTo>
                  <a:pt x="15605" y="18713"/>
                  <a:pt x="15602" y="18690"/>
                  <a:pt x="15627" y="18653"/>
                </a:cubicBezTo>
                <a:cubicBezTo>
                  <a:pt x="15656" y="18610"/>
                  <a:pt x="15666" y="18598"/>
                  <a:pt x="15627" y="18554"/>
                </a:cubicBezTo>
                <a:cubicBezTo>
                  <a:pt x="15586" y="18508"/>
                  <a:pt x="15591" y="18479"/>
                  <a:pt x="15528" y="18479"/>
                </a:cubicBezTo>
                <a:cubicBezTo>
                  <a:pt x="15465" y="18479"/>
                  <a:pt x="15431" y="18488"/>
                  <a:pt x="15379" y="18504"/>
                </a:cubicBezTo>
                <a:cubicBezTo>
                  <a:pt x="15330" y="18519"/>
                  <a:pt x="15329" y="18490"/>
                  <a:pt x="15329" y="1855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Ink 58"/>
          <p:cNvSpPr/>
          <p:nvPr/>
        </p:nvSpPr>
        <p:spPr>
          <a:xfrm>
            <a:off x="6180120" y="6429240"/>
            <a:ext cx="365040" cy="135000"/>
          </a:xfrm>
          <a:custGeom>
            <a:avLst/>
            <a:gdLst/>
            <a:ahLst/>
            <a:rect l="l" t="t" r="r" b="b"/>
            <a:pathLst>
              <a:path w="1018" h="373">
                <a:moveTo>
                  <a:pt x="17239" y="17909"/>
                </a:moveTo>
                <a:cubicBezTo>
                  <a:pt x="17174" y="17926"/>
                  <a:pt x="17214" y="17940"/>
                  <a:pt x="17190" y="17983"/>
                </a:cubicBezTo>
                <a:cubicBezTo>
                  <a:pt x="17182" y="17998"/>
                  <a:pt x="17138" y="18086"/>
                  <a:pt x="17165" y="18107"/>
                </a:cubicBezTo>
                <a:cubicBezTo>
                  <a:pt x="17189" y="18125"/>
                  <a:pt x="17230" y="18132"/>
                  <a:pt x="17264" y="18132"/>
                </a:cubicBezTo>
                <a:cubicBezTo>
                  <a:pt x="17319" y="18132"/>
                  <a:pt x="17348" y="18142"/>
                  <a:pt x="17388" y="18107"/>
                </a:cubicBezTo>
                <a:cubicBezTo>
                  <a:pt x="17403" y="18094"/>
                  <a:pt x="17470" y="18037"/>
                  <a:pt x="17438" y="18008"/>
                </a:cubicBezTo>
                <a:cubicBezTo>
                  <a:pt x="17390" y="17965"/>
                  <a:pt x="17379" y="17959"/>
                  <a:pt x="17314" y="17959"/>
                </a:cubicBezTo>
                <a:cubicBezTo>
                  <a:pt x="17276" y="17959"/>
                  <a:pt x="17205" y="17932"/>
                  <a:pt x="17239" y="17959"/>
                </a:cubicBezTo>
                <a:cubicBezTo>
                  <a:pt x="17262" y="17981"/>
                  <a:pt x="17267" y="17989"/>
                  <a:pt x="17289" y="17983"/>
                </a:cubicBezTo>
              </a:path>
              <a:path w="1018" h="373">
                <a:moveTo>
                  <a:pt x="17686" y="17983"/>
                </a:moveTo>
                <a:cubicBezTo>
                  <a:pt x="17673" y="18033"/>
                  <a:pt x="17661" y="18047"/>
                  <a:pt x="17661" y="18107"/>
                </a:cubicBezTo>
                <a:cubicBezTo>
                  <a:pt x="17661" y="18142"/>
                  <a:pt x="17644" y="18247"/>
                  <a:pt x="17661" y="18207"/>
                </a:cubicBezTo>
                <a:cubicBezTo>
                  <a:pt x="17690" y="18138"/>
                  <a:pt x="17745" y="18093"/>
                  <a:pt x="17785" y="18033"/>
                </a:cubicBezTo>
                <a:cubicBezTo>
                  <a:pt x="17822" y="17977"/>
                  <a:pt x="17861" y="17932"/>
                  <a:pt x="17909" y="17884"/>
                </a:cubicBezTo>
                <a:cubicBezTo>
                  <a:pt x="17932" y="17861"/>
                  <a:pt x="17936" y="17853"/>
                  <a:pt x="17959" y="17859"/>
                </a:cubicBezTo>
                <a:cubicBezTo>
                  <a:pt x="17959" y="17912"/>
                  <a:pt x="17947" y="17921"/>
                  <a:pt x="17909" y="17959"/>
                </a:cubicBezTo>
                <a:cubicBezTo>
                  <a:pt x="17881" y="17986"/>
                  <a:pt x="17851" y="18050"/>
                  <a:pt x="17835" y="18058"/>
                </a:cubicBezTo>
                <a:cubicBezTo>
                  <a:pt x="17802" y="18075"/>
                  <a:pt x="17821" y="18071"/>
                  <a:pt x="17785" y="18083"/>
                </a:cubicBezTo>
                <a:cubicBezTo>
                  <a:pt x="17823" y="18110"/>
                  <a:pt x="17837" y="18107"/>
                  <a:pt x="17884" y="18107"/>
                </a:cubicBezTo>
                <a:cubicBezTo>
                  <a:pt x="17962" y="18107"/>
                  <a:pt x="18037" y="18102"/>
                  <a:pt x="18083" y="18083"/>
                </a:cubicBezTo>
                <a:cubicBezTo>
                  <a:pt x="18129" y="18064"/>
                  <a:pt x="18139" y="18076"/>
                  <a:pt x="18182" y="180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Ink 59"/>
          <p:cNvSpPr/>
          <p:nvPr/>
        </p:nvSpPr>
        <p:spPr>
          <a:xfrm>
            <a:off x="6929280" y="6170760"/>
            <a:ext cx="473400" cy="544320"/>
          </a:xfrm>
          <a:custGeom>
            <a:avLst/>
            <a:gdLst/>
            <a:ahLst/>
            <a:rect l="l" t="t" r="r" b="b"/>
            <a:pathLst>
              <a:path w="1316" h="1514">
                <a:moveTo>
                  <a:pt x="19794" y="17140"/>
                </a:moveTo>
                <a:cubicBezTo>
                  <a:pt x="19794" y="17266"/>
                  <a:pt x="19782" y="17401"/>
                  <a:pt x="19819" y="17512"/>
                </a:cubicBezTo>
                <a:cubicBezTo>
                  <a:pt x="19819" y="17520"/>
                  <a:pt x="19819" y="17529"/>
                  <a:pt x="19819" y="17537"/>
                </a:cubicBezTo>
              </a:path>
              <a:path w="1316" h="1514">
                <a:moveTo>
                  <a:pt x="19248" y="17835"/>
                </a:moveTo>
                <a:cubicBezTo>
                  <a:pt x="19482" y="17835"/>
                  <a:pt x="19712" y="17833"/>
                  <a:pt x="19943" y="17810"/>
                </a:cubicBezTo>
                <a:cubicBezTo>
                  <a:pt x="20059" y="17799"/>
                  <a:pt x="20175" y="17789"/>
                  <a:pt x="20290" y="17785"/>
                </a:cubicBezTo>
                <a:cubicBezTo>
                  <a:pt x="20376" y="17782"/>
                  <a:pt x="20433" y="17754"/>
                  <a:pt x="20513" y="17735"/>
                </a:cubicBezTo>
                <a:cubicBezTo>
                  <a:pt x="20571" y="17721"/>
                  <a:pt x="20556" y="17719"/>
                  <a:pt x="20513" y="17735"/>
                </a:cubicBezTo>
                <a:cubicBezTo>
                  <a:pt x="20497" y="17743"/>
                  <a:pt x="20480" y="17752"/>
                  <a:pt x="20464" y="17760"/>
                </a:cubicBezTo>
              </a:path>
              <a:path w="1316" h="1514">
                <a:moveTo>
                  <a:pt x="19546" y="18157"/>
                </a:moveTo>
                <a:cubicBezTo>
                  <a:pt x="19495" y="18174"/>
                  <a:pt x="19520" y="18208"/>
                  <a:pt x="19496" y="18256"/>
                </a:cubicBezTo>
                <a:cubicBezTo>
                  <a:pt x="19468" y="18313"/>
                  <a:pt x="19472" y="18361"/>
                  <a:pt x="19472" y="18430"/>
                </a:cubicBezTo>
                <a:cubicBezTo>
                  <a:pt x="19472" y="18494"/>
                  <a:pt x="19447" y="18538"/>
                  <a:pt x="19447" y="18604"/>
                </a:cubicBezTo>
                <a:cubicBezTo>
                  <a:pt x="19447" y="18628"/>
                  <a:pt x="19447" y="18637"/>
                  <a:pt x="19447" y="18653"/>
                </a:cubicBezTo>
                <a:cubicBezTo>
                  <a:pt x="19483" y="18644"/>
                  <a:pt x="19492" y="18632"/>
                  <a:pt x="19521" y="18604"/>
                </a:cubicBezTo>
              </a:path>
              <a:path w="1316" h="1514">
                <a:moveTo>
                  <a:pt x="19769" y="18182"/>
                </a:moveTo>
                <a:cubicBezTo>
                  <a:pt x="19845" y="18182"/>
                  <a:pt x="19959" y="18161"/>
                  <a:pt x="20017" y="18207"/>
                </a:cubicBezTo>
                <a:cubicBezTo>
                  <a:pt x="20083" y="18259"/>
                  <a:pt x="20020" y="18271"/>
                  <a:pt x="19993" y="18306"/>
                </a:cubicBezTo>
                <a:cubicBezTo>
                  <a:pt x="19952" y="18358"/>
                  <a:pt x="19931" y="18424"/>
                  <a:pt x="19893" y="18479"/>
                </a:cubicBezTo>
                <a:cubicBezTo>
                  <a:pt x="19866" y="18519"/>
                  <a:pt x="19838" y="18541"/>
                  <a:pt x="19819" y="18579"/>
                </a:cubicBezTo>
                <a:cubicBezTo>
                  <a:pt x="19826" y="18601"/>
                  <a:pt x="19870" y="18627"/>
                  <a:pt x="19893" y="18628"/>
                </a:cubicBezTo>
                <a:cubicBezTo>
                  <a:pt x="20005" y="18634"/>
                  <a:pt x="20119" y="18632"/>
                  <a:pt x="20216" y="18604"/>
                </a:cubicBezTo>
                <a:cubicBezTo>
                  <a:pt x="20263" y="18590"/>
                  <a:pt x="20275" y="18621"/>
                  <a:pt x="20290" y="18628"/>
                </a:cubicBezTo>
                <a:cubicBezTo>
                  <a:pt x="20322" y="18643"/>
                  <a:pt x="20362" y="18631"/>
                  <a:pt x="20365" y="18604"/>
                </a:cubicBezTo>
                <a:cubicBezTo>
                  <a:pt x="20365" y="18579"/>
                  <a:pt x="20365" y="18571"/>
                  <a:pt x="20389" y="185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08000" y="2852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08000" y="3649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08000" y="6045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108000" y="4448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08000" y="524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390960" y="2852640"/>
            <a:ext cx="46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600" y="3645000"/>
            <a:ext cx="60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MTB crash and being 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392400" y="443700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88440" y="5229360"/>
            <a:ext cx="67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late IF there was no cr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385200" y="6021360"/>
            <a:ext cx="77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Given that I crash my MTB find the probability of being 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 flipV="1">
            <a:off x="826920" y="98064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826920" y="162864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948040" y="711360"/>
            <a:ext cx="104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TB c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2"/>
          <p:cNvSpPr/>
          <p:nvPr/>
        </p:nvSpPr>
        <p:spPr>
          <a:xfrm>
            <a:off x="2987640" y="186372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3"/>
          <p:cNvSpPr/>
          <p:nvPr/>
        </p:nvSpPr>
        <p:spPr>
          <a:xfrm flipV="1">
            <a:off x="3995640" y="764640"/>
            <a:ext cx="201636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4"/>
          <p:cNvSpPr/>
          <p:nvPr/>
        </p:nvSpPr>
        <p:spPr>
          <a:xfrm>
            <a:off x="3995640" y="105264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5"/>
          <p:cNvSpPr/>
          <p:nvPr/>
        </p:nvSpPr>
        <p:spPr>
          <a:xfrm flipV="1">
            <a:off x="4067280" y="206064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6"/>
          <p:cNvSpPr/>
          <p:nvPr/>
        </p:nvSpPr>
        <p:spPr>
          <a:xfrm>
            <a:off x="4067280" y="234792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7"/>
          <p:cNvSpPr/>
          <p:nvPr/>
        </p:nvSpPr>
        <p:spPr>
          <a:xfrm>
            <a:off x="6084720" y="5842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6084720" y="119700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9"/>
          <p:cNvSpPr/>
          <p:nvPr/>
        </p:nvSpPr>
        <p:spPr>
          <a:xfrm>
            <a:off x="615636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156360" y="2457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1836720" y="8715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3640" y="47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003640" y="177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7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6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108000" y="2852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108000" y="3649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08000" y="6045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108000" y="4448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108000" y="524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90960" y="2852640"/>
            <a:ext cx="46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390600" y="3645000"/>
            <a:ext cx="60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MTB crash and being 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392400" y="443700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388440" y="5229360"/>
            <a:ext cx="67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late IF there was no cr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5200" y="6021360"/>
            <a:ext cx="77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Given that I crash my MTB find the probability of being 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 flipV="1">
            <a:off x="826920" y="98064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5"/>
          <p:cNvSpPr/>
          <p:nvPr/>
        </p:nvSpPr>
        <p:spPr>
          <a:xfrm>
            <a:off x="826920" y="162864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2948040" y="711360"/>
            <a:ext cx="104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TB c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2987640" y="186372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"/>
          <p:cNvSpPr/>
          <p:nvPr/>
        </p:nvSpPr>
        <p:spPr>
          <a:xfrm flipV="1">
            <a:off x="3995640" y="764640"/>
            <a:ext cx="201636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>
            <a:off x="3995640" y="105264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 flipV="1">
            <a:off x="4067280" y="206064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1"/>
          <p:cNvSpPr/>
          <p:nvPr/>
        </p:nvSpPr>
        <p:spPr>
          <a:xfrm>
            <a:off x="4067280" y="234792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6084720" y="5842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6084720" y="119700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615636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6156360" y="2457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1836720" y="8715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5003640" y="47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5003640" y="177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5003640" y="2205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5076720" y="90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1908000" y="1592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0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Ink 32"/>
          <p:cNvSpPr/>
          <p:nvPr/>
        </p:nvSpPr>
        <p:spPr>
          <a:xfrm>
            <a:off x="5983200" y="938160"/>
            <a:ext cx="893880" cy="1285920"/>
          </a:xfrm>
          <a:custGeom>
            <a:avLst/>
            <a:gdLst/>
            <a:ahLst/>
            <a:rect l="l" t="t" r="r" b="b"/>
            <a:pathLst>
              <a:path w="2482" h="3573">
                <a:moveTo>
                  <a:pt x="17562" y="6176"/>
                </a:moveTo>
                <a:cubicBezTo>
                  <a:pt x="17615" y="6176"/>
                  <a:pt x="17642" y="6157"/>
                  <a:pt x="17686" y="6152"/>
                </a:cubicBezTo>
                <a:cubicBezTo>
                  <a:pt x="17993" y="6119"/>
                  <a:pt x="18474" y="6086"/>
                  <a:pt x="18752" y="6176"/>
                </a:cubicBezTo>
                <a:cubicBezTo>
                  <a:pt x="18820" y="6198"/>
                  <a:pt x="18927" y="6176"/>
                  <a:pt x="19000" y="6176"/>
                </a:cubicBezTo>
                <a:cubicBezTo>
                  <a:pt x="18987" y="6137"/>
                  <a:pt x="18967" y="6152"/>
                  <a:pt x="19025" y="6152"/>
                </a:cubicBezTo>
                <a:cubicBezTo>
                  <a:pt x="19050" y="6152"/>
                  <a:pt x="19075" y="6152"/>
                  <a:pt x="19100" y="6152"/>
                </a:cubicBezTo>
                <a:cubicBezTo>
                  <a:pt x="19044" y="6152"/>
                  <a:pt x="19057" y="6145"/>
                  <a:pt x="19025" y="6102"/>
                </a:cubicBezTo>
              </a:path>
              <a:path w="2482" h="3573">
                <a:moveTo>
                  <a:pt x="17462" y="2604"/>
                </a:moveTo>
                <a:cubicBezTo>
                  <a:pt x="17462" y="2629"/>
                  <a:pt x="17462" y="2637"/>
                  <a:pt x="17462" y="2654"/>
                </a:cubicBezTo>
                <a:cubicBezTo>
                  <a:pt x="17515" y="2661"/>
                  <a:pt x="17557" y="2677"/>
                  <a:pt x="17611" y="2679"/>
                </a:cubicBezTo>
                <a:cubicBezTo>
                  <a:pt x="17764" y="2686"/>
                  <a:pt x="17912" y="2679"/>
                  <a:pt x="18058" y="2704"/>
                </a:cubicBezTo>
                <a:cubicBezTo>
                  <a:pt x="18148" y="2719"/>
                  <a:pt x="18244" y="2714"/>
                  <a:pt x="18331" y="2729"/>
                </a:cubicBezTo>
                <a:cubicBezTo>
                  <a:pt x="18452" y="2749"/>
                  <a:pt x="18591" y="2733"/>
                  <a:pt x="18703" y="2753"/>
                </a:cubicBezTo>
                <a:cubicBezTo>
                  <a:pt x="18795" y="2770"/>
                  <a:pt x="18906" y="2753"/>
                  <a:pt x="19000" y="2753"/>
                </a:cubicBezTo>
                <a:cubicBezTo>
                  <a:pt x="18976" y="2729"/>
                  <a:pt x="18967" y="2720"/>
                  <a:pt x="18951" y="2704"/>
                </a:cubicBezTo>
              </a:path>
              <a:path w="2482" h="3573">
                <a:moveTo>
                  <a:pt x="17239" y="5209"/>
                </a:moveTo>
                <a:cubicBezTo>
                  <a:pt x="17239" y="5201"/>
                  <a:pt x="17239" y="5192"/>
                  <a:pt x="17239" y="5184"/>
                </a:cubicBezTo>
                <a:cubicBezTo>
                  <a:pt x="17214" y="5184"/>
                  <a:pt x="17190" y="5184"/>
                  <a:pt x="17165" y="5184"/>
                </a:cubicBezTo>
                <a:cubicBezTo>
                  <a:pt x="17151" y="5240"/>
                  <a:pt x="17120" y="5234"/>
                  <a:pt x="17066" y="5259"/>
                </a:cubicBezTo>
                <a:cubicBezTo>
                  <a:pt x="17011" y="5285"/>
                  <a:pt x="16940" y="5329"/>
                  <a:pt x="16892" y="5358"/>
                </a:cubicBezTo>
                <a:cubicBezTo>
                  <a:pt x="16852" y="5382"/>
                  <a:pt x="16825" y="5428"/>
                  <a:pt x="16793" y="5432"/>
                </a:cubicBezTo>
                <a:cubicBezTo>
                  <a:pt x="16756" y="5437"/>
                  <a:pt x="16783" y="5437"/>
                  <a:pt x="16793" y="5407"/>
                </a:cubicBezTo>
              </a:path>
              <a:path w="2482" h="3573">
                <a:moveTo>
                  <a:pt x="16867" y="5110"/>
                </a:moveTo>
                <a:cubicBezTo>
                  <a:pt x="16867" y="5143"/>
                  <a:pt x="16867" y="5176"/>
                  <a:pt x="16867" y="5209"/>
                </a:cubicBezTo>
                <a:cubicBezTo>
                  <a:pt x="16939" y="5209"/>
                  <a:pt x="16892" y="5215"/>
                  <a:pt x="16917" y="5259"/>
                </a:cubicBezTo>
                <a:cubicBezTo>
                  <a:pt x="16940" y="5281"/>
                  <a:pt x="16948" y="5286"/>
                  <a:pt x="16942" y="5308"/>
                </a:cubicBezTo>
                <a:cubicBezTo>
                  <a:pt x="16985" y="5330"/>
                  <a:pt x="16991" y="5370"/>
                  <a:pt x="17016" y="5407"/>
                </a:cubicBezTo>
                <a:cubicBezTo>
                  <a:pt x="17041" y="5444"/>
                  <a:pt x="17041" y="5437"/>
                  <a:pt x="17041" y="5482"/>
                </a:cubicBezTo>
                <a:cubicBezTo>
                  <a:pt x="17069" y="5482"/>
                  <a:pt x="17080" y="5480"/>
                  <a:pt x="17090" y="5457"/>
                </a:cubicBezTo>
              </a:path>
              <a:path w="2482" h="3573">
                <a:moveTo>
                  <a:pt x="17090" y="5060"/>
                </a:moveTo>
                <a:cubicBezTo>
                  <a:pt x="17082" y="5060"/>
                  <a:pt x="17074" y="5060"/>
                  <a:pt x="17066" y="5060"/>
                </a:cubicBezTo>
                <a:cubicBezTo>
                  <a:pt x="17066" y="5096"/>
                  <a:pt x="17059" y="5132"/>
                  <a:pt x="17041" y="5159"/>
                </a:cubicBezTo>
                <a:cubicBezTo>
                  <a:pt x="17016" y="5196"/>
                  <a:pt x="17003" y="5243"/>
                  <a:pt x="16991" y="5283"/>
                </a:cubicBezTo>
                <a:cubicBezTo>
                  <a:pt x="16980" y="5320"/>
                  <a:pt x="16954" y="5347"/>
                  <a:pt x="16942" y="5383"/>
                </a:cubicBezTo>
                <a:cubicBezTo>
                  <a:pt x="16933" y="5411"/>
                  <a:pt x="16924" y="5428"/>
                  <a:pt x="16917" y="5457"/>
                </a:cubicBezTo>
                <a:cubicBezTo>
                  <a:pt x="16879" y="5470"/>
                  <a:pt x="16896" y="5482"/>
                  <a:pt x="16842" y="5482"/>
                </a:cubicBezTo>
              </a:path>
              <a:path w="2482" h="3573">
                <a:moveTo>
                  <a:pt x="16768" y="5259"/>
                </a:moveTo>
                <a:cubicBezTo>
                  <a:pt x="16836" y="5275"/>
                  <a:pt x="16841" y="5276"/>
                  <a:pt x="16917" y="5259"/>
                </a:cubicBezTo>
                <a:cubicBezTo>
                  <a:pt x="16978" y="5245"/>
                  <a:pt x="17041" y="5269"/>
                  <a:pt x="17090" y="5283"/>
                </a:cubicBezTo>
                <a:cubicBezTo>
                  <a:pt x="17130" y="5295"/>
                  <a:pt x="17156" y="5307"/>
                  <a:pt x="17190" y="5333"/>
                </a:cubicBezTo>
              </a:path>
              <a:path w="2482" h="3573">
                <a:moveTo>
                  <a:pt x="17016" y="3249"/>
                </a:moveTo>
                <a:cubicBezTo>
                  <a:pt x="17016" y="3257"/>
                  <a:pt x="17016" y="3266"/>
                  <a:pt x="17016" y="3274"/>
                </a:cubicBezTo>
                <a:cubicBezTo>
                  <a:pt x="16977" y="3287"/>
                  <a:pt x="16989" y="3314"/>
                  <a:pt x="16966" y="3349"/>
                </a:cubicBezTo>
                <a:cubicBezTo>
                  <a:pt x="16913" y="3430"/>
                  <a:pt x="16817" y="3491"/>
                  <a:pt x="16743" y="3547"/>
                </a:cubicBezTo>
                <a:cubicBezTo>
                  <a:pt x="16707" y="3574"/>
                  <a:pt x="16679" y="3607"/>
                  <a:pt x="16669" y="3646"/>
                </a:cubicBezTo>
                <a:cubicBezTo>
                  <a:pt x="16622" y="3662"/>
                  <a:pt x="16666" y="3680"/>
                  <a:pt x="16619" y="3696"/>
                </a:cubicBezTo>
                <a:cubicBezTo>
                  <a:pt x="16659" y="3683"/>
                  <a:pt x="16629" y="3684"/>
                  <a:pt x="16669" y="3671"/>
                </a:cubicBezTo>
              </a:path>
              <a:path w="2482" h="3573">
                <a:moveTo>
                  <a:pt x="16718" y="3225"/>
                </a:moveTo>
                <a:cubicBezTo>
                  <a:pt x="16718" y="3272"/>
                  <a:pt x="16735" y="3288"/>
                  <a:pt x="16743" y="3324"/>
                </a:cubicBezTo>
                <a:cubicBezTo>
                  <a:pt x="16757" y="3388"/>
                  <a:pt x="16769" y="3414"/>
                  <a:pt x="16793" y="3473"/>
                </a:cubicBezTo>
                <a:cubicBezTo>
                  <a:pt x="16812" y="3518"/>
                  <a:pt x="16800" y="3529"/>
                  <a:pt x="16842" y="3572"/>
                </a:cubicBezTo>
                <a:cubicBezTo>
                  <a:pt x="16880" y="3610"/>
                  <a:pt x="16889" y="3621"/>
                  <a:pt x="16942" y="3621"/>
                </a:cubicBezTo>
                <a:cubicBezTo>
                  <a:pt x="16942" y="3646"/>
                  <a:pt x="16942" y="3654"/>
                  <a:pt x="16966" y="3646"/>
                </a:cubicBezTo>
              </a:path>
              <a:path w="2482" h="3573">
                <a:moveTo>
                  <a:pt x="16619" y="3473"/>
                </a:moveTo>
                <a:cubicBezTo>
                  <a:pt x="16657" y="3445"/>
                  <a:pt x="16670" y="3448"/>
                  <a:pt x="16718" y="3448"/>
                </a:cubicBezTo>
                <a:cubicBezTo>
                  <a:pt x="16776" y="3448"/>
                  <a:pt x="16828" y="3473"/>
                  <a:pt x="16892" y="3473"/>
                </a:cubicBezTo>
                <a:cubicBezTo>
                  <a:pt x="16933" y="3473"/>
                  <a:pt x="16975" y="3473"/>
                  <a:pt x="17016" y="3473"/>
                </a:cubicBezTo>
                <a:cubicBezTo>
                  <a:pt x="17016" y="3448"/>
                  <a:pt x="17016" y="3440"/>
                  <a:pt x="17041" y="3448"/>
                </a:cubicBezTo>
              </a:path>
              <a:path w="2482" h="3573">
                <a:moveTo>
                  <a:pt x="16892" y="3175"/>
                </a:moveTo>
                <a:cubicBezTo>
                  <a:pt x="16878" y="3231"/>
                  <a:pt x="16829" y="3260"/>
                  <a:pt x="16818" y="3324"/>
                </a:cubicBezTo>
                <a:cubicBezTo>
                  <a:pt x="16809" y="3376"/>
                  <a:pt x="16816" y="3428"/>
                  <a:pt x="16793" y="3473"/>
                </a:cubicBezTo>
                <a:cubicBezTo>
                  <a:pt x="16768" y="3523"/>
                  <a:pt x="16748" y="3562"/>
                  <a:pt x="16743" y="3621"/>
                </a:cubicBezTo>
                <a:cubicBezTo>
                  <a:pt x="16741" y="3646"/>
                  <a:pt x="16743" y="3671"/>
                  <a:pt x="16743" y="369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Ink 33"/>
          <p:cNvSpPr/>
          <p:nvPr/>
        </p:nvSpPr>
        <p:spPr>
          <a:xfrm>
            <a:off x="7188120" y="677880"/>
            <a:ext cx="928800" cy="885960"/>
          </a:xfrm>
          <a:custGeom>
            <a:avLst/>
            <a:gdLst/>
            <a:ahLst/>
            <a:rect l="l" t="t" r="r" b="b"/>
            <a:pathLst>
              <a:path w="2580" h="2457">
                <a:moveTo>
                  <a:pt x="20290" y="1984"/>
                </a:moveTo>
                <a:cubicBezTo>
                  <a:pt x="20239" y="1984"/>
                  <a:pt x="20204" y="1975"/>
                  <a:pt x="20166" y="2009"/>
                </a:cubicBezTo>
                <a:cubicBezTo>
                  <a:pt x="20133" y="2038"/>
                  <a:pt x="20060" y="2094"/>
                  <a:pt x="20042" y="2133"/>
                </a:cubicBezTo>
                <a:cubicBezTo>
                  <a:pt x="20023" y="2175"/>
                  <a:pt x="20012" y="2240"/>
                  <a:pt x="19993" y="2282"/>
                </a:cubicBezTo>
                <a:cubicBezTo>
                  <a:pt x="19972" y="2329"/>
                  <a:pt x="19968" y="2346"/>
                  <a:pt x="19968" y="2406"/>
                </a:cubicBezTo>
                <a:cubicBezTo>
                  <a:pt x="19968" y="2459"/>
                  <a:pt x="19979" y="2467"/>
                  <a:pt x="20017" y="2505"/>
                </a:cubicBezTo>
                <a:cubicBezTo>
                  <a:pt x="20046" y="2535"/>
                  <a:pt x="20098" y="2552"/>
                  <a:pt x="20141" y="2555"/>
                </a:cubicBezTo>
                <a:cubicBezTo>
                  <a:pt x="20196" y="2559"/>
                  <a:pt x="20270" y="2553"/>
                  <a:pt x="20315" y="2530"/>
                </a:cubicBezTo>
                <a:cubicBezTo>
                  <a:pt x="20338" y="2519"/>
                  <a:pt x="20428" y="2470"/>
                  <a:pt x="20439" y="2456"/>
                </a:cubicBezTo>
                <a:cubicBezTo>
                  <a:pt x="20461" y="2429"/>
                  <a:pt x="20503" y="2363"/>
                  <a:pt x="20513" y="2332"/>
                </a:cubicBezTo>
                <a:cubicBezTo>
                  <a:pt x="20527" y="2288"/>
                  <a:pt x="20538" y="2261"/>
                  <a:pt x="20538" y="2208"/>
                </a:cubicBezTo>
                <a:cubicBezTo>
                  <a:pt x="20538" y="2142"/>
                  <a:pt x="20556" y="2059"/>
                  <a:pt x="20513" y="2009"/>
                </a:cubicBezTo>
                <a:cubicBezTo>
                  <a:pt x="20488" y="1980"/>
                  <a:pt x="20448" y="1946"/>
                  <a:pt x="20414" y="1935"/>
                </a:cubicBezTo>
                <a:cubicBezTo>
                  <a:pt x="20362" y="1918"/>
                  <a:pt x="20283" y="1935"/>
                  <a:pt x="20265" y="1960"/>
                </a:cubicBezTo>
                <a:cubicBezTo>
                  <a:pt x="20233" y="2003"/>
                  <a:pt x="20241" y="2027"/>
                  <a:pt x="20241" y="2084"/>
                </a:cubicBezTo>
              </a:path>
              <a:path w="2580" h="2457">
                <a:moveTo>
                  <a:pt x="20836" y="2208"/>
                </a:moveTo>
                <a:cubicBezTo>
                  <a:pt x="20836" y="2144"/>
                  <a:pt x="20843" y="2270"/>
                  <a:pt x="20811" y="2208"/>
                </a:cubicBezTo>
                <a:cubicBezTo>
                  <a:pt x="20856" y="2208"/>
                  <a:pt x="20871" y="2193"/>
                  <a:pt x="20910" y="2183"/>
                </a:cubicBezTo>
              </a:path>
              <a:path w="2580" h="2457">
                <a:moveTo>
                  <a:pt x="21332" y="1885"/>
                </a:moveTo>
                <a:cubicBezTo>
                  <a:pt x="21332" y="1938"/>
                  <a:pt x="21312" y="1955"/>
                  <a:pt x="21307" y="2009"/>
                </a:cubicBezTo>
                <a:cubicBezTo>
                  <a:pt x="21303" y="2062"/>
                  <a:pt x="21282" y="2160"/>
                  <a:pt x="21258" y="2208"/>
                </a:cubicBezTo>
                <a:cubicBezTo>
                  <a:pt x="21231" y="2262"/>
                  <a:pt x="21228" y="2322"/>
                  <a:pt x="21208" y="2381"/>
                </a:cubicBezTo>
                <a:cubicBezTo>
                  <a:pt x="21192" y="2428"/>
                  <a:pt x="21168" y="2486"/>
                  <a:pt x="21158" y="2505"/>
                </a:cubicBezTo>
                <a:cubicBezTo>
                  <a:pt x="21138" y="2544"/>
                  <a:pt x="21190" y="2530"/>
                  <a:pt x="21208" y="2530"/>
                </a:cubicBezTo>
              </a:path>
              <a:path w="2580" h="2457">
                <a:moveTo>
                  <a:pt x="21530" y="1984"/>
                </a:moveTo>
                <a:cubicBezTo>
                  <a:pt x="21563" y="1942"/>
                  <a:pt x="21549" y="1935"/>
                  <a:pt x="21605" y="1935"/>
                </a:cubicBezTo>
                <a:cubicBezTo>
                  <a:pt x="21663" y="1935"/>
                  <a:pt x="21704" y="1947"/>
                  <a:pt x="21729" y="1960"/>
                </a:cubicBezTo>
                <a:cubicBezTo>
                  <a:pt x="21767" y="1979"/>
                  <a:pt x="21797" y="1981"/>
                  <a:pt x="21803" y="2034"/>
                </a:cubicBezTo>
                <a:cubicBezTo>
                  <a:pt x="21809" y="2091"/>
                  <a:pt x="21781" y="2113"/>
                  <a:pt x="21754" y="2158"/>
                </a:cubicBezTo>
                <a:cubicBezTo>
                  <a:pt x="21718" y="2219"/>
                  <a:pt x="21673" y="2276"/>
                  <a:pt x="21630" y="2332"/>
                </a:cubicBezTo>
                <a:cubicBezTo>
                  <a:pt x="21603" y="2366"/>
                  <a:pt x="21575" y="2401"/>
                  <a:pt x="21555" y="2431"/>
                </a:cubicBezTo>
                <a:cubicBezTo>
                  <a:pt x="21547" y="2439"/>
                  <a:pt x="21538" y="2448"/>
                  <a:pt x="21530" y="2456"/>
                </a:cubicBezTo>
                <a:cubicBezTo>
                  <a:pt x="21695" y="2456"/>
                  <a:pt x="22136" y="2383"/>
                  <a:pt x="22002" y="2480"/>
                </a:cubicBezTo>
                <a:cubicBezTo>
                  <a:pt x="21994" y="2480"/>
                  <a:pt x="21985" y="2480"/>
                  <a:pt x="21977" y="2480"/>
                </a:cubicBezTo>
              </a:path>
              <a:path w="2580" h="2457">
                <a:moveTo>
                  <a:pt x="20836" y="3721"/>
                </a:moveTo>
                <a:cubicBezTo>
                  <a:pt x="20772" y="3742"/>
                  <a:pt x="20850" y="3726"/>
                  <a:pt x="20786" y="3721"/>
                </a:cubicBezTo>
                <a:cubicBezTo>
                  <a:pt x="20729" y="3717"/>
                  <a:pt x="20729" y="3757"/>
                  <a:pt x="20687" y="3795"/>
                </a:cubicBezTo>
                <a:cubicBezTo>
                  <a:pt x="20631" y="3845"/>
                  <a:pt x="20651" y="3883"/>
                  <a:pt x="20613" y="3944"/>
                </a:cubicBezTo>
                <a:cubicBezTo>
                  <a:pt x="20583" y="3993"/>
                  <a:pt x="20588" y="4032"/>
                  <a:pt x="20588" y="4093"/>
                </a:cubicBezTo>
                <a:cubicBezTo>
                  <a:pt x="20588" y="4113"/>
                  <a:pt x="20615" y="4185"/>
                  <a:pt x="20638" y="4192"/>
                </a:cubicBezTo>
                <a:cubicBezTo>
                  <a:pt x="20702" y="4212"/>
                  <a:pt x="20805" y="4192"/>
                  <a:pt x="20861" y="4167"/>
                </a:cubicBezTo>
                <a:cubicBezTo>
                  <a:pt x="20924" y="4139"/>
                  <a:pt x="21040" y="4059"/>
                  <a:pt x="21059" y="3994"/>
                </a:cubicBezTo>
                <a:cubicBezTo>
                  <a:pt x="21075" y="3939"/>
                  <a:pt x="21084" y="3879"/>
                  <a:pt x="21084" y="3820"/>
                </a:cubicBezTo>
                <a:cubicBezTo>
                  <a:pt x="21084" y="3774"/>
                  <a:pt x="21090" y="3756"/>
                  <a:pt x="21059" y="3721"/>
                </a:cubicBezTo>
                <a:cubicBezTo>
                  <a:pt x="21034" y="3693"/>
                  <a:pt x="20971" y="3675"/>
                  <a:pt x="20935" y="3671"/>
                </a:cubicBezTo>
                <a:cubicBezTo>
                  <a:pt x="20885" y="3665"/>
                  <a:pt x="20875" y="3683"/>
                  <a:pt x="20836" y="3696"/>
                </a:cubicBezTo>
                <a:cubicBezTo>
                  <a:pt x="20811" y="3704"/>
                  <a:pt x="20768" y="3722"/>
                  <a:pt x="20786" y="3770"/>
                </a:cubicBezTo>
                <a:cubicBezTo>
                  <a:pt x="20809" y="3793"/>
                  <a:pt x="20817" y="3797"/>
                  <a:pt x="20811" y="3820"/>
                </a:cubicBezTo>
              </a:path>
              <a:path w="2580" h="2457">
                <a:moveTo>
                  <a:pt x="21307" y="3994"/>
                </a:moveTo>
                <a:cubicBezTo>
                  <a:pt x="21329" y="3994"/>
                  <a:pt x="21418" y="3994"/>
                  <a:pt x="21307" y="3994"/>
                </a:cubicBezTo>
              </a:path>
              <a:path w="2580" h="2457">
                <a:moveTo>
                  <a:pt x="21307" y="3994"/>
                </a:moveTo>
                <a:cubicBezTo>
                  <a:pt x="21512" y="3823"/>
                  <a:pt x="21611" y="3862"/>
                  <a:pt x="21605" y="3721"/>
                </a:cubicBezTo>
                <a:cubicBezTo>
                  <a:pt x="21568" y="3730"/>
                  <a:pt x="21543" y="3757"/>
                  <a:pt x="21530" y="3795"/>
                </a:cubicBezTo>
                <a:cubicBezTo>
                  <a:pt x="21517" y="3833"/>
                  <a:pt x="21509" y="3905"/>
                  <a:pt x="21506" y="3944"/>
                </a:cubicBezTo>
                <a:cubicBezTo>
                  <a:pt x="21501" y="4019"/>
                  <a:pt x="21485" y="4023"/>
                  <a:pt x="21506" y="4093"/>
                </a:cubicBezTo>
                <a:cubicBezTo>
                  <a:pt x="21524" y="4154"/>
                  <a:pt x="21531" y="4124"/>
                  <a:pt x="21580" y="4142"/>
                </a:cubicBezTo>
                <a:cubicBezTo>
                  <a:pt x="21644" y="4165"/>
                  <a:pt x="21693" y="4171"/>
                  <a:pt x="21754" y="4142"/>
                </a:cubicBezTo>
                <a:cubicBezTo>
                  <a:pt x="21807" y="4116"/>
                  <a:pt x="21830" y="4121"/>
                  <a:pt x="21853" y="4068"/>
                </a:cubicBezTo>
                <a:cubicBezTo>
                  <a:pt x="21877" y="4013"/>
                  <a:pt x="21903" y="3979"/>
                  <a:pt x="21903" y="3919"/>
                </a:cubicBezTo>
                <a:cubicBezTo>
                  <a:pt x="21903" y="3857"/>
                  <a:pt x="21913" y="3821"/>
                  <a:pt x="21878" y="3795"/>
                </a:cubicBezTo>
                <a:cubicBezTo>
                  <a:pt x="21835" y="3762"/>
                  <a:pt x="21835" y="3746"/>
                  <a:pt x="21779" y="3746"/>
                </a:cubicBezTo>
                <a:cubicBezTo>
                  <a:pt x="21746" y="3746"/>
                  <a:pt x="21696" y="3746"/>
                  <a:pt x="21729" y="3746"/>
                </a:cubicBezTo>
              </a:path>
              <a:path w="2580" h="2457">
                <a:moveTo>
                  <a:pt x="22151" y="3746"/>
                </a:moveTo>
                <a:cubicBezTo>
                  <a:pt x="22158" y="3723"/>
                  <a:pt x="22193" y="3707"/>
                  <a:pt x="22225" y="3696"/>
                </a:cubicBezTo>
                <a:cubicBezTo>
                  <a:pt x="22281" y="3677"/>
                  <a:pt x="22378" y="3692"/>
                  <a:pt x="22399" y="3721"/>
                </a:cubicBezTo>
                <a:cubicBezTo>
                  <a:pt x="22421" y="3743"/>
                  <a:pt x="22429" y="3748"/>
                  <a:pt x="22423" y="3770"/>
                </a:cubicBezTo>
                <a:cubicBezTo>
                  <a:pt x="22385" y="3798"/>
                  <a:pt x="22320" y="3846"/>
                  <a:pt x="22299" y="3894"/>
                </a:cubicBezTo>
                <a:cubicBezTo>
                  <a:pt x="22279" y="3939"/>
                  <a:pt x="22305" y="3980"/>
                  <a:pt x="22324" y="3994"/>
                </a:cubicBezTo>
                <a:cubicBezTo>
                  <a:pt x="22384" y="4037"/>
                  <a:pt x="22438" y="4031"/>
                  <a:pt x="22498" y="4068"/>
                </a:cubicBezTo>
                <a:cubicBezTo>
                  <a:pt x="22540" y="4094"/>
                  <a:pt x="22547" y="4123"/>
                  <a:pt x="22547" y="4167"/>
                </a:cubicBezTo>
                <a:cubicBezTo>
                  <a:pt x="22547" y="4238"/>
                  <a:pt x="22529" y="4225"/>
                  <a:pt x="22473" y="4266"/>
                </a:cubicBezTo>
                <a:cubicBezTo>
                  <a:pt x="22427" y="4300"/>
                  <a:pt x="22411" y="4335"/>
                  <a:pt x="22349" y="4341"/>
                </a:cubicBezTo>
                <a:cubicBezTo>
                  <a:pt x="22309" y="4345"/>
                  <a:pt x="22268" y="4332"/>
                  <a:pt x="22250" y="4291"/>
                </a:cubicBezTo>
                <a:cubicBezTo>
                  <a:pt x="22250" y="4283"/>
                  <a:pt x="22250" y="4274"/>
                  <a:pt x="22250" y="4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Ink 34"/>
          <p:cNvSpPr/>
          <p:nvPr/>
        </p:nvSpPr>
        <p:spPr>
          <a:xfrm>
            <a:off x="7099200" y="1911240"/>
            <a:ext cx="1224000" cy="320760"/>
          </a:xfrm>
          <a:custGeom>
            <a:avLst/>
            <a:gdLst/>
            <a:ahLst/>
            <a:rect l="l" t="t" r="r" b="b"/>
            <a:pathLst>
              <a:path w="3399" h="894">
                <a:moveTo>
                  <a:pt x="19918" y="5482"/>
                </a:moveTo>
                <a:cubicBezTo>
                  <a:pt x="19895" y="5474"/>
                  <a:pt x="19872" y="5448"/>
                  <a:pt x="19844" y="5482"/>
                </a:cubicBezTo>
                <a:cubicBezTo>
                  <a:pt x="19815" y="5517"/>
                  <a:pt x="19791" y="5589"/>
                  <a:pt x="19769" y="5631"/>
                </a:cubicBezTo>
                <a:cubicBezTo>
                  <a:pt x="19739" y="5689"/>
                  <a:pt x="19724" y="5765"/>
                  <a:pt x="19720" y="5829"/>
                </a:cubicBezTo>
                <a:cubicBezTo>
                  <a:pt x="19716" y="5898"/>
                  <a:pt x="19709" y="5996"/>
                  <a:pt x="19745" y="6028"/>
                </a:cubicBezTo>
                <a:cubicBezTo>
                  <a:pt x="19794" y="6071"/>
                  <a:pt x="19801" y="6077"/>
                  <a:pt x="19869" y="6077"/>
                </a:cubicBezTo>
                <a:cubicBezTo>
                  <a:pt x="19952" y="6077"/>
                  <a:pt x="19971" y="6065"/>
                  <a:pt x="20042" y="6028"/>
                </a:cubicBezTo>
                <a:cubicBezTo>
                  <a:pt x="20123" y="5985"/>
                  <a:pt x="20106" y="5934"/>
                  <a:pt x="20166" y="5879"/>
                </a:cubicBezTo>
                <a:cubicBezTo>
                  <a:pt x="20223" y="5827"/>
                  <a:pt x="20227" y="5767"/>
                  <a:pt x="20241" y="5680"/>
                </a:cubicBezTo>
                <a:cubicBezTo>
                  <a:pt x="20247" y="5643"/>
                  <a:pt x="20239" y="5532"/>
                  <a:pt x="20216" y="5507"/>
                </a:cubicBezTo>
                <a:cubicBezTo>
                  <a:pt x="20210" y="5500"/>
                  <a:pt x="20104" y="5410"/>
                  <a:pt x="20092" y="5407"/>
                </a:cubicBezTo>
                <a:cubicBezTo>
                  <a:pt x="20018" y="5386"/>
                  <a:pt x="19974" y="5423"/>
                  <a:pt x="19918" y="5457"/>
                </a:cubicBezTo>
                <a:cubicBezTo>
                  <a:pt x="19848" y="5499"/>
                  <a:pt x="19844" y="5498"/>
                  <a:pt x="19844" y="5581"/>
                </a:cubicBezTo>
                <a:cubicBezTo>
                  <a:pt x="19844" y="5640"/>
                  <a:pt x="19833" y="5684"/>
                  <a:pt x="19869" y="5730"/>
                </a:cubicBezTo>
                <a:cubicBezTo>
                  <a:pt x="19877" y="5738"/>
                  <a:pt x="19885" y="5747"/>
                  <a:pt x="19893" y="5755"/>
                </a:cubicBezTo>
              </a:path>
              <a:path w="3399" h="894">
                <a:moveTo>
                  <a:pt x="20489" y="5854"/>
                </a:moveTo>
                <a:cubicBezTo>
                  <a:pt x="20498" y="5872"/>
                  <a:pt x="20576" y="5854"/>
                  <a:pt x="20489" y="5854"/>
                </a:cubicBezTo>
              </a:path>
              <a:path w="3399" h="894">
                <a:moveTo>
                  <a:pt x="21134" y="5457"/>
                </a:moveTo>
                <a:cubicBezTo>
                  <a:pt x="21124" y="5487"/>
                  <a:pt x="21113" y="5498"/>
                  <a:pt x="21084" y="5531"/>
                </a:cubicBezTo>
                <a:cubicBezTo>
                  <a:pt x="21047" y="5572"/>
                  <a:pt x="21051" y="5569"/>
                  <a:pt x="21010" y="5606"/>
                </a:cubicBezTo>
                <a:cubicBezTo>
                  <a:pt x="20978" y="5635"/>
                  <a:pt x="20980" y="5674"/>
                  <a:pt x="20960" y="5705"/>
                </a:cubicBezTo>
                <a:cubicBezTo>
                  <a:pt x="20929" y="5752"/>
                  <a:pt x="20926" y="5781"/>
                  <a:pt x="20910" y="5829"/>
                </a:cubicBezTo>
                <a:cubicBezTo>
                  <a:pt x="20889" y="5891"/>
                  <a:pt x="20886" y="5911"/>
                  <a:pt x="20886" y="5978"/>
                </a:cubicBezTo>
                <a:cubicBezTo>
                  <a:pt x="20886" y="6024"/>
                  <a:pt x="20914" y="6036"/>
                  <a:pt x="20935" y="6052"/>
                </a:cubicBezTo>
                <a:cubicBezTo>
                  <a:pt x="20973" y="6080"/>
                  <a:pt x="20986" y="6077"/>
                  <a:pt x="21034" y="6077"/>
                </a:cubicBezTo>
                <a:cubicBezTo>
                  <a:pt x="21103" y="6077"/>
                  <a:pt x="21119" y="6068"/>
                  <a:pt x="21183" y="6052"/>
                </a:cubicBezTo>
                <a:cubicBezTo>
                  <a:pt x="21228" y="6041"/>
                  <a:pt x="21248" y="6013"/>
                  <a:pt x="21282" y="5978"/>
                </a:cubicBezTo>
                <a:cubicBezTo>
                  <a:pt x="21325" y="5934"/>
                  <a:pt x="21346" y="5878"/>
                  <a:pt x="21382" y="5829"/>
                </a:cubicBezTo>
                <a:cubicBezTo>
                  <a:pt x="21424" y="5772"/>
                  <a:pt x="21431" y="5782"/>
                  <a:pt x="21431" y="5705"/>
                </a:cubicBezTo>
                <a:cubicBezTo>
                  <a:pt x="21431" y="5626"/>
                  <a:pt x="21451" y="5526"/>
                  <a:pt x="21406" y="5457"/>
                </a:cubicBezTo>
                <a:cubicBezTo>
                  <a:pt x="21387" y="5428"/>
                  <a:pt x="21314" y="5411"/>
                  <a:pt x="21282" y="5407"/>
                </a:cubicBezTo>
                <a:cubicBezTo>
                  <a:pt x="21268" y="5405"/>
                  <a:pt x="21151" y="5425"/>
                  <a:pt x="21134" y="5432"/>
                </a:cubicBezTo>
                <a:cubicBezTo>
                  <a:pt x="21088" y="5451"/>
                  <a:pt x="21094" y="5495"/>
                  <a:pt x="21059" y="5507"/>
                </a:cubicBezTo>
              </a:path>
              <a:path w="3399" h="894">
                <a:moveTo>
                  <a:pt x="21853" y="5432"/>
                </a:moveTo>
                <a:cubicBezTo>
                  <a:pt x="21825" y="5450"/>
                  <a:pt x="21818" y="5492"/>
                  <a:pt x="21779" y="5531"/>
                </a:cubicBezTo>
                <a:cubicBezTo>
                  <a:pt x="21752" y="5558"/>
                  <a:pt x="21717" y="5617"/>
                  <a:pt x="21704" y="5655"/>
                </a:cubicBezTo>
                <a:cubicBezTo>
                  <a:pt x="21689" y="5700"/>
                  <a:pt x="21656" y="5736"/>
                  <a:pt x="21630" y="5779"/>
                </a:cubicBezTo>
                <a:cubicBezTo>
                  <a:pt x="21599" y="5830"/>
                  <a:pt x="21603" y="5882"/>
                  <a:pt x="21580" y="5928"/>
                </a:cubicBezTo>
                <a:cubicBezTo>
                  <a:pt x="21563" y="5961"/>
                  <a:pt x="21584" y="6005"/>
                  <a:pt x="21555" y="6028"/>
                </a:cubicBezTo>
                <a:cubicBezTo>
                  <a:pt x="21530" y="6028"/>
                  <a:pt x="21522" y="6028"/>
                  <a:pt x="21530" y="6052"/>
                </a:cubicBezTo>
                <a:cubicBezTo>
                  <a:pt x="21587" y="6052"/>
                  <a:pt x="21633" y="6037"/>
                  <a:pt x="21679" y="6028"/>
                </a:cubicBezTo>
                <a:cubicBezTo>
                  <a:pt x="21755" y="6013"/>
                  <a:pt x="21828" y="6020"/>
                  <a:pt x="21903" y="6003"/>
                </a:cubicBezTo>
                <a:cubicBezTo>
                  <a:pt x="21942" y="5994"/>
                  <a:pt x="21989" y="5984"/>
                  <a:pt x="22002" y="5978"/>
                </a:cubicBezTo>
                <a:cubicBezTo>
                  <a:pt x="22050" y="5958"/>
                  <a:pt x="22083" y="6007"/>
                  <a:pt x="22101" y="5953"/>
                </a:cubicBezTo>
              </a:path>
              <a:path w="3399" h="894">
                <a:moveTo>
                  <a:pt x="21903" y="5829"/>
                </a:moveTo>
                <a:cubicBezTo>
                  <a:pt x="21903" y="5891"/>
                  <a:pt x="21895" y="5928"/>
                  <a:pt x="21878" y="5978"/>
                </a:cubicBezTo>
                <a:cubicBezTo>
                  <a:pt x="21858" y="6039"/>
                  <a:pt x="21878" y="6136"/>
                  <a:pt x="21878" y="6201"/>
                </a:cubicBezTo>
                <a:cubicBezTo>
                  <a:pt x="21903" y="6201"/>
                  <a:pt x="21911" y="6201"/>
                  <a:pt x="21927" y="6201"/>
                </a:cubicBezTo>
              </a:path>
              <a:path w="3399" h="894">
                <a:moveTo>
                  <a:pt x="22225" y="5507"/>
                </a:moveTo>
                <a:cubicBezTo>
                  <a:pt x="22279" y="5466"/>
                  <a:pt x="22295" y="5500"/>
                  <a:pt x="22324" y="5507"/>
                </a:cubicBezTo>
                <a:cubicBezTo>
                  <a:pt x="22362" y="5516"/>
                  <a:pt x="22425" y="5485"/>
                  <a:pt x="22448" y="5531"/>
                </a:cubicBezTo>
                <a:cubicBezTo>
                  <a:pt x="22469" y="5573"/>
                  <a:pt x="22429" y="5627"/>
                  <a:pt x="22423" y="5655"/>
                </a:cubicBezTo>
                <a:cubicBezTo>
                  <a:pt x="22410" y="5721"/>
                  <a:pt x="22382" y="5764"/>
                  <a:pt x="22349" y="5829"/>
                </a:cubicBezTo>
                <a:cubicBezTo>
                  <a:pt x="22326" y="5875"/>
                  <a:pt x="22283" y="5918"/>
                  <a:pt x="22275" y="5953"/>
                </a:cubicBezTo>
                <a:cubicBezTo>
                  <a:pt x="22270" y="5975"/>
                  <a:pt x="22275" y="6005"/>
                  <a:pt x="22275" y="6028"/>
                </a:cubicBezTo>
                <a:cubicBezTo>
                  <a:pt x="22366" y="6028"/>
                  <a:pt x="22438" y="6025"/>
                  <a:pt x="22523" y="6003"/>
                </a:cubicBezTo>
                <a:cubicBezTo>
                  <a:pt x="22577" y="5989"/>
                  <a:pt x="22618" y="5993"/>
                  <a:pt x="22647" y="5978"/>
                </a:cubicBezTo>
                <a:cubicBezTo>
                  <a:pt x="22677" y="5962"/>
                  <a:pt x="22668" y="5966"/>
                  <a:pt x="22696" y="5928"/>
                </a:cubicBezTo>
              </a:path>
              <a:path w="3399" h="894">
                <a:moveTo>
                  <a:pt x="22796" y="5358"/>
                </a:moveTo>
                <a:cubicBezTo>
                  <a:pt x="22796" y="5366"/>
                  <a:pt x="22796" y="5375"/>
                  <a:pt x="22796" y="5383"/>
                </a:cubicBezTo>
                <a:cubicBezTo>
                  <a:pt x="22872" y="5383"/>
                  <a:pt x="22930" y="5377"/>
                  <a:pt x="22994" y="5358"/>
                </a:cubicBezTo>
                <a:cubicBezTo>
                  <a:pt x="23043" y="5343"/>
                  <a:pt x="23044" y="5372"/>
                  <a:pt x="23044" y="5308"/>
                </a:cubicBezTo>
              </a:path>
              <a:path w="3399" h="894">
                <a:moveTo>
                  <a:pt x="22895" y="5383"/>
                </a:moveTo>
                <a:cubicBezTo>
                  <a:pt x="22863" y="5425"/>
                  <a:pt x="22870" y="5451"/>
                  <a:pt x="22870" y="5507"/>
                </a:cubicBezTo>
                <a:cubicBezTo>
                  <a:pt x="22870" y="5581"/>
                  <a:pt x="22870" y="5656"/>
                  <a:pt x="22870" y="5730"/>
                </a:cubicBezTo>
                <a:cubicBezTo>
                  <a:pt x="22920" y="5730"/>
                  <a:pt x="23068" y="5705"/>
                  <a:pt x="23093" y="5755"/>
                </a:cubicBezTo>
                <a:cubicBezTo>
                  <a:pt x="23093" y="5779"/>
                  <a:pt x="23093" y="5788"/>
                  <a:pt x="23093" y="5804"/>
                </a:cubicBezTo>
                <a:cubicBezTo>
                  <a:pt x="23127" y="5826"/>
                  <a:pt x="23118" y="5853"/>
                  <a:pt x="23118" y="5904"/>
                </a:cubicBezTo>
                <a:cubicBezTo>
                  <a:pt x="23118" y="5955"/>
                  <a:pt x="23127" y="5990"/>
                  <a:pt x="23093" y="6028"/>
                </a:cubicBezTo>
                <a:cubicBezTo>
                  <a:pt x="23059" y="6065"/>
                  <a:pt x="23058" y="6076"/>
                  <a:pt x="23019" y="6102"/>
                </a:cubicBezTo>
                <a:cubicBezTo>
                  <a:pt x="22986" y="6124"/>
                  <a:pt x="22960" y="6148"/>
                  <a:pt x="22920" y="6152"/>
                </a:cubicBezTo>
                <a:cubicBezTo>
                  <a:pt x="22866" y="6158"/>
                  <a:pt x="22840" y="6143"/>
                  <a:pt x="22796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Ink 35"/>
          <p:cNvSpPr/>
          <p:nvPr/>
        </p:nvSpPr>
        <p:spPr>
          <a:xfrm>
            <a:off x="7392960" y="2544840"/>
            <a:ext cx="1152720" cy="285840"/>
          </a:xfrm>
          <a:custGeom>
            <a:avLst/>
            <a:gdLst/>
            <a:ahLst/>
            <a:rect l="l" t="t" r="r" b="b"/>
            <a:pathLst>
              <a:path w="3201" h="795">
                <a:moveTo>
                  <a:pt x="20786" y="7094"/>
                </a:moveTo>
                <a:cubicBezTo>
                  <a:pt x="20774" y="7055"/>
                  <a:pt x="20746" y="7072"/>
                  <a:pt x="20712" y="7094"/>
                </a:cubicBezTo>
                <a:cubicBezTo>
                  <a:pt x="20677" y="7118"/>
                  <a:pt x="20665" y="7182"/>
                  <a:pt x="20638" y="7218"/>
                </a:cubicBezTo>
                <a:cubicBezTo>
                  <a:pt x="20617" y="7247"/>
                  <a:pt x="20572" y="7309"/>
                  <a:pt x="20563" y="7342"/>
                </a:cubicBezTo>
                <a:cubicBezTo>
                  <a:pt x="20549" y="7396"/>
                  <a:pt x="20542" y="7464"/>
                  <a:pt x="20538" y="7516"/>
                </a:cubicBezTo>
                <a:cubicBezTo>
                  <a:pt x="20534" y="7559"/>
                  <a:pt x="20517" y="7667"/>
                  <a:pt x="20563" y="7689"/>
                </a:cubicBezTo>
                <a:cubicBezTo>
                  <a:pt x="20621" y="7717"/>
                  <a:pt x="20716" y="7675"/>
                  <a:pt x="20762" y="7665"/>
                </a:cubicBezTo>
                <a:cubicBezTo>
                  <a:pt x="20819" y="7653"/>
                  <a:pt x="20842" y="7630"/>
                  <a:pt x="20886" y="7590"/>
                </a:cubicBezTo>
                <a:cubicBezTo>
                  <a:pt x="20924" y="7556"/>
                  <a:pt x="20943" y="7506"/>
                  <a:pt x="20960" y="7466"/>
                </a:cubicBezTo>
                <a:cubicBezTo>
                  <a:pt x="20989" y="7400"/>
                  <a:pt x="21010" y="7392"/>
                  <a:pt x="21010" y="7317"/>
                </a:cubicBezTo>
                <a:cubicBezTo>
                  <a:pt x="21010" y="7271"/>
                  <a:pt x="21016" y="7253"/>
                  <a:pt x="20985" y="7218"/>
                </a:cubicBezTo>
                <a:cubicBezTo>
                  <a:pt x="20941" y="7168"/>
                  <a:pt x="20926" y="7169"/>
                  <a:pt x="20861" y="7169"/>
                </a:cubicBezTo>
                <a:cubicBezTo>
                  <a:pt x="20803" y="7169"/>
                  <a:pt x="20782" y="7179"/>
                  <a:pt x="20737" y="7193"/>
                </a:cubicBezTo>
                <a:cubicBezTo>
                  <a:pt x="20719" y="7199"/>
                  <a:pt x="20639" y="7173"/>
                  <a:pt x="20662" y="7218"/>
                </a:cubicBezTo>
                <a:cubicBezTo>
                  <a:pt x="20670" y="7226"/>
                  <a:pt x="20679" y="7235"/>
                  <a:pt x="20687" y="7243"/>
                </a:cubicBezTo>
              </a:path>
              <a:path w="3201" h="795">
                <a:moveTo>
                  <a:pt x="21233" y="7541"/>
                </a:moveTo>
                <a:cubicBezTo>
                  <a:pt x="21233" y="7627"/>
                  <a:pt x="21233" y="7452"/>
                  <a:pt x="21233" y="7541"/>
                </a:cubicBezTo>
              </a:path>
              <a:path w="3201" h="795">
                <a:moveTo>
                  <a:pt x="21803" y="7094"/>
                </a:moveTo>
                <a:cubicBezTo>
                  <a:pt x="21790" y="7052"/>
                  <a:pt x="21763" y="7063"/>
                  <a:pt x="21729" y="7094"/>
                </a:cubicBezTo>
                <a:cubicBezTo>
                  <a:pt x="21688" y="7130"/>
                  <a:pt x="21645" y="7154"/>
                  <a:pt x="21605" y="7193"/>
                </a:cubicBezTo>
                <a:cubicBezTo>
                  <a:pt x="21590" y="7208"/>
                  <a:pt x="21547" y="7299"/>
                  <a:pt x="21555" y="7317"/>
                </a:cubicBezTo>
                <a:cubicBezTo>
                  <a:pt x="21578" y="7367"/>
                  <a:pt x="21633" y="7389"/>
                  <a:pt x="21679" y="7392"/>
                </a:cubicBezTo>
                <a:cubicBezTo>
                  <a:pt x="21731" y="7395"/>
                  <a:pt x="21788" y="7409"/>
                  <a:pt x="21828" y="7441"/>
                </a:cubicBezTo>
                <a:cubicBezTo>
                  <a:pt x="21858" y="7465"/>
                  <a:pt x="21914" y="7499"/>
                  <a:pt x="21952" y="7516"/>
                </a:cubicBezTo>
                <a:cubicBezTo>
                  <a:pt x="21997" y="7536"/>
                  <a:pt x="22002" y="7534"/>
                  <a:pt x="22002" y="7590"/>
                </a:cubicBezTo>
                <a:cubicBezTo>
                  <a:pt x="22002" y="7662"/>
                  <a:pt x="22009" y="7643"/>
                  <a:pt x="21952" y="7689"/>
                </a:cubicBezTo>
                <a:cubicBezTo>
                  <a:pt x="21919" y="7716"/>
                  <a:pt x="21872" y="7749"/>
                  <a:pt x="21828" y="7764"/>
                </a:cubicBezTo>
                <a:cubicBezTo>
                  <a:pt x="21781" y="7780"/>
                  <a:pt x="21739" y="7749"/>
                  <a:pt x="21704" y="7739"/>
                </a:cubicBezTo>
                <a:cubicBezTo>
                  <a:pt x="21684" y="7733"/>
                  <a:pt x="21651" y="7739"/>
                  <a:pt x="21630" y="7739"/>
                </a:cubicBezTo>
                <a:cubicBezTo>
                  <a:pt x="21630" y="7689"/>
                  <a:pt x="21647" y="7657"/>
                  <a:pt x="21679" y="7615"/>
                </a:cubicBezTo>
                <a:cubicBezTo>
                  <a:pt x="21720" y="7560"/>
                  <a:pt x="21780" y="7536"/>
                  <a:pt x="21828" y="7491"/>
                </a:cubicBezTo>
                <a:cubicBezTo>
                  <a:pt x="21891" y="7432"/>
                  <a:pt x="21949" y="7405"/>
                  <a:pt x="21977" y="7317"/>
                </a:cubicBezTo>
                <a:cubicBezTo>
                  <a:pt x="21990" y="7275"/>
                  <a:pt x="22015" y="7233"/>
                  <a:pt x="22027" y="7193"/>
                </a:cubicBezTo>
                <a:cubicBezTo>
                  <a:pt x="22039" y="7154"/>
                  <a:pt x="22026" y="7120"/>
                  <a:pt x="22002" y="7094"/>
                </a:cubicBezTo>
                <a:cubicBezTo>
                  <a:pt x="21972" y="7060"/>
                  <a:pt x="21946" y="7069"/>
                  <a:pt x="21903" y="7069"/>
                </a:cubicBezTo>
                <a:cubicBezTo>
                  <a:pt x="21869" y="7069"/>
                  <a:pt x="21822" y="7056"/>
                  <a:pt x="21803" y="7094"/>
                </a:cubicBezTo>
                <a:cubicBezTo>
                  <a:pt x="21796" y="7109"/>
                  <a:pt x="21803" y="7152"/>
                  <a:pt x="21803" y="7169"/>
                </a:cubicBezTo>
              </a:path>
              <a:path w="3201" h="795">
                <a:moveTo>
                  <a:pt x="22324" y="7243"/>
                </a:moveTo>
                <a:cubicBezTo>
                  <a:pt x="22254" y="7243"/>
                  <a:pt x="22244" y="7302"/>
                  <a:pt x="22225" y="7367"/>
                </a:cubicBezTo>
                <a:cubicBezTo>
                  <a:pt x="22216" y="7399"/>
                  <a:pt x="22202" y="7436"/>
                  <a:pt x="22200" y="7466"/>
                </a:cubicBezTo>
                <a:cubicBezTo>
                  <a:pt x="22196" y="7518"/>
                  <a:pt x="22192" y="7553"/>
                  <a:pt x="22225" y="7590"/>
                </a:cubicBezTo>
                <a:cubicBezTo>
                  <a:pt x="22251" y="7619"/>
                  <a:pt x="22257" y="7671"/>
                  <a:pt x="22299" y="7689"/>
                </a:cubicBezTo>
                <a:cubicBezTo>
                  <a:pt x="22359" y="7715"/>
                  <a:pt x="22450" y="7680"/>
                  <a:pt x="22498" y="7665"/>
                </a:cubicBezTo>
                <a:cubicBezTo>
                  <a:pt x="22526" y="7656"/>
                  <a:pt x="22565" y="7599"/>
                  <a:pt x="22572" y="7565"/>
                </a:cubicBezTo>
                <a:cubicBezTo>
                  <a:pt x="22587" y="7495"/>
                  <a:pt x="22565" y="7446"/>
                  <a:pt x="22547" y="7392"/>
                </a:cubicBezTo>
                <a:cubicBezTo>
                  <a:pt x="22536" y="7360"/>
                  <a:pt x="22512" y="7310"/>
                  <a:pt x="22473" y="7293"/>
                </a:cubicBezTo>
                <a:cubicBezTo>
                  <a:pt x="22438" y="7278"/>
                  <a:pt x="22450" y="7268"/>
                  <a:pt x="22399" y="7268"/>
                </a:cubicBezTo>
                <a:cubicBezTo>
                  <a:pt x="22382" y="7268"/>
                  <a:pt x="22366" y="7268"/>
                  <a:pt x="22349" y="7268"/>
                </a:cubicBezTo>
              </a:path>
              <a:path w="3201" h="795">
                <a:moveTo>
                  <a:pt x="22771" y="7144"/>
                </a:moveTo>
                <a:cubicBezTo>
                  <a:pt x="22868" y="7144"/>
                  <a:pt x="22960" y="7148"/>
                  <a:pt x="23044" y="7119"/>
                </a:cubicBezTo>
                <a:cubicBezTo>
                  <a:pt x="23052" y="7119"/>
                  <a:pt x="23060" y="7119"/>
                  <a:pt x="23068" y="7119"/>
                </a:cubicBezTo>
                <a:cubicBezTo>
                  <a:pt x="23068" y="7185"/>
                  <a:pt x="23052" y="7232"/>
                  <a:pt x="23044" y="7293"/>
                </a:cubicBezTo>
                <a:cubicBezTo>
                  <a:pt x="23033" y="7377"/>
                  <a:pt x="23008" y="7434"/>
                  <a:pt x="22969" y="7516"/>
                </a:cubicBezTo>
                <a:cubicBezTo>
                  <a:pt x="22942" y="7573"/>
                  <a:pt x="22892" y="7635"/>
                  <a:pt x="22870" y="7689"/>
                </a:cubicBezTo>
                <a:cubicBezTo>
                  <a:pt x="22856" y="7724"/>
                  <a:pt x="22845" y="7747"/>
                  <a:pt x="22845" y="7789"/>
                </a:cubicBezTo>
                <a:cubicBezTo>
                  <a:pt x="22869" y="7771"/>
                  <a:pt x="22927" y="7698"/>
                  <a:pt x="22944" y="7689"/>
                </a:cubicBezTo>
                <a:cubicBezTo>
                  <a:pt x="22961" y="7689"/>
                  <a:pt x="22977" y="7689"/>
                  <a:pt x="22994" y="7689"/>
                </a:cubicBezTo>
              </a:path>
              <a:path w="3201" h="795">
                <a:moveTo>
                  <a:pt x="23490" y="7094"/>
                </a:moveTo>
                <a:cubicBezTo>
                  <a:pt x="23541" y="7094"/>
                  <a:pt x="23548" y="7083"/>
                  <a:pt x="23589" y="7069"/>
                </a:cubicBezTo>
                <a:cubicBezTo>
                  <a:pt x="23628" y="7056"/>
                  <a:pt x="23696" y="7069"/>
                  <a:pt x="23738" y="7069"/>
                </a:cubicBezTo>
              </a:path>
              <a:path w="3201" h="795">
                <a:moveTo>
                  <a:pt x="23391" y="7119"/>
                </a:moveTo>
                <a:cubicBezTo>
                  <a:pt x="23359" y="7151"/>
                  <a:pt x="23338" y="7176"/>
                  <a:pt x="23316" y="7193"/>
                </a:cubicBezTo>
                <a:cubicBezTo>
                  <a:pt x="23281" y="7220"/>
                  <a:pt x="23292" y="7254"/>
                  <a:pt x="23292" y="7293"/>
                </a:cubicBezTo>
                <a:cubicBezTo>
                  <a:pt x="23292" y="7307"/>
                  <a:pt x="23324" y="7367"/>
                  <a:pt x="23341" y="7392"/>
                </a:cubicBezTo>
                <a:cubicBezTo>
                  <a:pt x="23365" y="7429"/>
                  <a:pt x="23402" y="7417"/>
                  <a:pt x="23440" y="7417"/>
                </a:cubicBezTo>
                <a:cubicBezTo>
                  <a:pt x="23500" y="7417"/>
                  <a:pt x="23491" y="7444"/>
                  <a:pt x="23540" y="7466"/>
                </a:cubicBezTo>
                <a:cubicBezTo>
                  <a:pt x="23564" y="7477"/>
                  <a:pt x="23585" y="7527"/>
                  <a:pt x="23589" y="7565"/>
                </a:cubicBezTo>
                <a:cubicBezTo>
                  <a:pt x="23596" y="7627"/>
                  <a:pt x="23604" y="7718"/>
                  <a:pt x="23564" y="7764"/>
                </a:cubicBezTo>
                <a:cubicBezTo>
                  <a:pt x="23530" y="7803"/>
                  <a:pt x="23529" y="7812"/>
                  <a:pt x="23490" y="7838"/>
                </a:cubicBezTo>
                <a:cubicBezTo>
                  <a:pt x="23447" y="7867"/>
                  <a:pt x="23418" y="7863"/>
                  <a:pt x="23366" y="7863"/>
                </a:cubicBezTo>
                <a:cubicBezTo>
                  <a:pt x="23307" y="7863"/>
                  <a:pt x="23268" y="7872"/>
                  <a:pt x="23242" y="7838"/>
                </a:cubicBezTo>
                <a:cubicBezTo>
                  <a:pt x="23214" y="7801"/>
                  <a:pt x="23214" y="7730"/>
                  <a:pt x="23168" y="7739"/>
                </a:cubicBezTo>
                <a:cubicBezTo>
                  <a:pt x="23160" y="7747"/>
                  <a:pt x="23151" y="7756"/>
                  <a:pt x="23143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Ink 36"/>
          <p:cNvSpPr/>
          <p:nvPr/>
        </p:nvSpPr>
        <p:spPr>
          <a:xfrm>
            <a:off x="6715080" y="3732120"/>
            <a:ext cx="758880" cy="206640"/>
          </a:xfrm>
          <a:custGeom>
            <a:avLst/>
            <a:gdLst/>
            <a:ahLst/>
            <a:rect l="l" t="t" r="r" b="b"/>
            <a:pathLst>
              <a:path w="2110" h="572">
                <a:moveTo>
                  <a:pt x="18752" y="10517"/>
                </a:moveTo>
                <a:cubicBezTo>
                  <a:pt x="18743" y="10546"/>
                  <a:pt x="18732" y="10560"/>
                  <a:pt x="18703" y="10592"/>
                </a:cubicBezTo>
                <a:cubicBezTo>
                  <a:pt x="18679" y="10619"/>
                  <a:pt x="18656" y="10681"/>
                  <a:pt x="18653" y="10716"/>
                </a:cubicBezTo>
                <a:cubicBezTo>
                  <a:pt x="18650" y="10756"/>
                  <a:pt x="18632" y="10891"/>
                  <a:pt x="18678" y="10914"/>
                </a:cubicBezTo>
                <a:cubicBezTo>
                  <a:pt x="18720" y="10935"/>
                  <a:pt x="18749" y="10939"/>
                  <a:pt x="18802" y="10939"/>
                </a:cubicBezTo>
                <a:cubicBezTo>
                  <a:pt x="18859" y="10939"/>
                  <a:pt x="18880" y="10929"/>
                  <a:pt x="18926" y="10914"/>
                </a:cubicBezTo>
                <a:cubicBezTo>
                  <a:pt x="18971" y="10899"/>
                  <a:pt x="18984" y="10866"/>
                  <a:pt x="19025" y="10840"/>
                </a:cubicBezTo>
                <a:cubicBezTo>
                  <a:pt x="19068" y="10813"/>
                  <a:pt x="19094" y="10786"/>
                  <a:pt x="19124" y="10740"/>
                </a:cubicBezTo>
                <a:cubicBezTo>
                  <a:pt x="19153" y="10694"/>
                  <a:pt x="19149" y="10666"/>
                  <a:pt x="19149" y="10616"/>
                </a:cubicBezTo>
                <a:cubicBezTo>
                  <a:pt x="19149" y="10571"/>
                  <a:pt x="19142" y="10544"/>
                  <a:pt x="19100" y="10517"/>
                </a:cubicBezTo>
                <a:cubicBezTo>
                  <a:pt x="19070" y="10497"/>
                  <a:pt x="19009" y="10472"/>
                  <a:pt x="18976" y="10468"/>
                </a:cubicBezTo>
                <a:cubicBezTo>
                  <a:pt x="18907" y="10461"/>
                  <a:pt x="18858" y="10476"/>
                  <a:pt x="18802" y="10492"/>
                </a:cubicBezTo>
                <a:cubicBezTo>
                  <a:pt x="18761" y="10504"/>
                  <a:pt x="18733" y="10519"/>
                  <a:pt x="18728" y="10567"/>
                </a:cubicBezTo>
                <a:cubicBezTo>
                  <a:pt x="18722" y="10620"/>
                  <a:pt x="18723" y="10651"/>
                  <a:pt x="18752" y="10691"/>
                </a:cubicBezTo>
              </a:path>
              <a:path w="2110" h="572">
                <a:moveTo>
                  <a:pt x="19422" y="10666"/>
                </a:moveTo>
                <a:cubicBezTo>
                  <a:pt x="19422" y="10699"/>
                  <a:pt x="19422" y="10732"/>
                  <a:pt x="19422" y="10765"/>
                </a:cubicBezTo>
                <a:cubicBezTo>
                  <a:pt x="19448" y="10756"/>
                  <a:pt x="19468" y="10747"/>
                  <a:pt x="19472" y="10716"/>
                </a:cubicBezTo>
                <a:cubicBezTo>
                  <a:pt x="19472" y="10688"/>
                  <a:pt x="19474" y="10682"/>
                  <a:pt x="19496" y="10716"/>
                </a:cubicBezTo>
              </a:path>
              <a:path w="2110" h="572">
                <a:moveTo>
                  <a:pt x="19968" y="10393"/>
                </a:moveTo>
                <a:cubicBezTo>
                  <a:pt x="19968" y="10312"/>
                  <a:pt x="19973" y="10459"/>
                  <a:pt x="19968" y="10468"/>
                </a:cubicBezTo>
                <a:cubicBezTo>
                  <a:pt x="19937" y="10522"/>
                  <a:pt x="19942" y="10585"/>
                  <a:pt x="19918" y="10641"/>
                </a:cubicBezTo>
                <a:cubicBezTo>
                  <a:pt x="19910" y="10659"/>
                  <a:pt x="19897" y="10785"/>
                  <a:pt x="19893" y="10790"/>
                </a:cubicBezTo>
                <a:cubicBezTo>
                  <a:pt x="19864" y="10820"/>
                  <a:pt x="19864" y="10816"/>
                  <a:pt x="19893" y="10864"/>
                </a:cubicBezTo>
                <a:cubicBezTo>
                  <a:pt x="19943" y="10828"/>
                  <a:pt x="19928" y="10850"/>
                  <a:pt x="19968" y="10790"/>
                </a:cubicBezTo>
              </a:path>
              <a:path w="2110" h="572">
                <a:moveTo>
                  <a:pt x="20241" y="10418"/>
                </a:moveTo>
                <a:cubicBezTo>
                  <a:pt x="20297" y="10418"/>
                  <a:pt x="20274" y="10398"/>
                  <a:pt x="20315" y="10393"/>
                </a:cubicBezTo>
                <a:cubicBezTo>
                  <a:pt x="20377" y="10385"/>
                  <a:pt x="20415" y="10402"/>
                  <a:pt x="20464" y="10418"/>
                </a:cubicBezTo>
                <a:cubicBezTo>
                  <a:pt x="20502" y="10431"/>
                  <a:pt x="20489" y="10447"/>
                  <a:pt x="20489" y="10492"/>
                </a:cubicBezTo>
                <a:cubicBezTo>
                  <a:pt x="20489" y="10566"/>
                  <a:pt x="20476" y="10580"/>
                  <a:pt x="20439" y="10641"/>
                </a:cubicBezTo>
                <a:cubicBezTo>
                  <a:pt x="20403" y="10701"/>
                  <a:pt x="20357" y="10759"/>
                  <a:pt x="20315" y="10815"/>
                </a:cubicBezTo>
                <a:cubicBezTo>
                  <a:pt x="20304" y="10830"/>
                  <a:pt x="20245" y="10911"/>
                  <a:pt x="20241" y="10914"/>
                </a:cubicBezTo>
                <a:cubicBezTo>
                  <a:pt x="20216" y="10914"/>
                  <a:pt x="20208" y="10914"/>
                  <a:pt x="20216" y="10939"/>
                </a:cubicBezTo>
                <a:cubicBezTo>
                  <a:pt x="20344" y="10939"/>
                  <a:pt x="20475" y="10938"/>
                  <a:pt x="20588" y="10914"/>
                </a:cubicBezTo>
                <a:cubicBezTo>
                  <a:pt x="20627" y="10906"/>
                  <a:pt x="20689" y="10936"/>
                  <a:pt x="20712" y="10889"/>
                </a:cubicBezTo>
                <a:cubicBezTo>
                  <a:pt x="20712" y="10856"/>
                  <a:pt x="20720" y="10847"/>
                  <a:pt x="20762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Ink 37"/>
          <p:cNvSpPr/>
          <p:nvPr/>
        </p:nvSpPr>
        <p:spPr>
          <a:xfrm>
            <a:off x="4545000" y="4616280"/>
            <a:ext cx="135000" cy="7164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2626" y="12824"/>
                </a:moveTo>
                <a:cubicBezTo>
                  <a:pt x="12676" y="12824"/>
                  <a:pt x="12684" y="12835"/>
                  <a:pt x="12725" y="12849"/>
                </a:cubicBezTo>
                <a:cubicBezTo>
                  <a:pt x="12780" y="12867"/>
                  <a:pt x="12832" y="12838"/>
                  <a:pt x="12874" y="12824"/>
                </a:cubicBezTo>
                <a:cubicBezTo>
                  <a:pt x="12900" y="12815"/>
                  <a:pt x="12946" y="12824"/>
                  <a:pt x="12973" y="12824"/>
                </a:cubicBezTo>
                <a:cubicBezTo>
                  <a:pt x="12973" y="12852"/>
                  <a:pt x="12971" y="12863"/>
                  <a:pt x="12948" y="12874"/>
                </a:cubicBezTo>
              </a:path>
              <a:path w="373" h="199">
                <a:moveTo>
                  <a:pt x="12626" y="12998"/>
                </a:moveTo>
                <a:cubicBezTo>
                  <a:pt x="12688" y="12998"/>
                  <a:pt x="12723" y="13005"/>
                  <a:pt x="12774" y="13022"/>
                </a:cubicBezTo>
                <a:cubicBezTo>
                  <a:pt x="12808" y="13033"/>
                  <a:pt x="12857" y="12998"/>
                  <a:pt x="12898" y="12998"/>
                </a:cubicBezTo>
                <a:cubicBezTo>
                  <a:pt x="12923" y="12998"/>
                  <a:pt x="12948" y="12998"/>
                  <a:pt x="12973" y="12998"/>
                </a:cubicBezTo>
                <a:cubicBezTo>
                  <a:pt x="12973" y="12973"/>
                  <a:pt x="12973" y="12965"/>
                  <a:pt x="12998" y="1297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Ink 38"/>
          <p:cNvSpPr/>
          <p:nvPr/>
        </p:nvSpPr>
        <p:spPr>
          <a:xfrm>
            <a:off x="4946760" y="4599000"/>
            <a:ext cx="714240" cy="196920"/>
          </a:xfrm>
          <a:custGeom>
            <a:avLst/>
            <a:gdLst/>
            <a:ahLst/>
            <a:rect l="l" t="t" r="r" b="b"/>
            <a:pathLst>
              <a:path w="1985" h="547">
                <a:moveTo>
                  <a:pt x="13940" y="12799"/>
                </a:moveTo>
                <a:cubicBezTo>
                  <a:pt x="13940" y="12753"/>
                  <a:pt x="13927" y="12808"/>
                  <a:pt x="13915" y="12824"/>
                </a:cubicBezTo>
                <a:cubicBezTo>
                  <a:pt x="13886" y="12864"/>
                  <a:pt x="13838" y="12894"/>
                  <a:pt x="13816" y="12923"/>
                </a:cubicBezTo>
                <a:cubicBezTo>
                  <a:pt x="13787" y="12960"/>
                  <a:pt x="13747" y="13002"/>
                  <a:pt x="13742" y="13047"/>
                </a:cubicBezTo>
                <a:cubicBezTo>
                  <a:pt x="13736" y="13099"/>
                  <a:pt x="13735" y="13134"/>
                  <a:pt x="13767" y="13171"/>
                </a:cubicBezTo>
                <a:cubicBezTo>
                  <a:pt x="13806" y="13216"/>
                  <a:pt x="13857" y="13236"/>
                  <a:pt x="13915" y="13246"/>
                </a:cubicBezTo>
                <a:cubicBezTo>
                  <a:pt x="14015" y="13263"/>
                  <a:pt x="14121" y="13242"/>
                  <a:pt x="14213" y="13221"/>
                </a:cubicBezTo>
                <a:cubicBezTo>
                  <a:pt x="14275" y="13207"/>
                  <a:pt x="14315" y="13189"/>
                  <a:pt x="14337" y="13122"/>
                </a:cubicBezTo>
                <a:cubicBezTo>
                  <a:pt x="14352" y="13078"/>
                  <a:pt x="14362" y="13051"/>
                  <a:pt x="14362" y="12998"/>
                </a:cubicBezTo>
                <a:cubicBezTo>
                  <a:pt x="14362" y="12914"/>
                  <a:pt x="14342" y="12894"/>
                  <a:pt x="14288" y="12849"/>
                </a:cubicBezTo>
                <a:cubicBezTo>
                  <a:pt x="14237" y="12807"/>
                  <a:pt x="14205" y="12789"/>
                  <a:pt x="14139" y="12774"/>
                </a:cubicBezTo>
                <a:cubicBezTo>
                  <a:pt x="14102" y="12765"/>
                  <a:pt x="13960" y="12758"/>
                  <a:pt x="13940" y="12799"/>
                </a:cubicBezTo>
                <a:cubicBezTo>
                  <a:pt x="13932" y="12815"/>
                  <a:pt x="13983" y="12864"/>
                  <a:pt x="13940" y="12799"/>
                </a:cubicBezTo>
              </a:path>
              <a:path w="1985" h="547">
                <a:moveTo>
                  <a:pt x="14635" y="13047"/>
                </a:moveTo>
                <a:cubicBezTo>
                  <a:pt x="14635" y="13072"/>
                  <a:pt x="14635" y="13097"/>
                  <a:pt x="14635" y="13122"/>
                </a:cubicBezTo>
                <a:cubicBezTo>
                  <a:pt x="14635" y="13120"/>
                  <a:pt x="14668" y="13003"/>
                  <a:pt x="14635" y="13047"/>
                </a:cubicBezTo>
                <a:cubicBezTo>
                  <a:pt x="14613" y="13077"/>
                  <a:pt x="14633" y="13104"/>
                  <a:pt x="14635" y="13097"/>
                </a:cubicBezTo>
                <a:cubicBezTo>
                  <a:pt x="14635" y="13080"/>
                  <a:pt x="14635" y="13064"/>
                  <a:pt x="14635" y="13047"/>
                </a:cubicBezTo>
              </a:path>
              <a:path w="1985" h="547">
                <a:moveTo>
                  <a:pt x="14932" y="12799"/>
                </a:moveTo>
                <a:cubicBezTo>
                  <a:pt x="14896" y="12812"/>
                  <a:pt x="14908" y="12830"/>
                  <a:pt x="14908" y="12874"/>
                </a:cubicBezTo>
                <a:cubicBezTo>
                  <a:pt x="14908" y="12938"/>
                  <a:pt x="14883" y="12982"/>
                  <a:pt x="14883" y="13047"/>
                </a:cubicBezTo>
                <a:cubicBezTo>
                  <a:pt x="14883" y="13106"/>
                  <a:pt x="14864" y="13141"/>
                  <a:pt x="14858" y="13196"/>
                </a:cubicBezTo>
                <a:cubicBezTo>
                  <a:pt x="14854" y="13236"/>
                  <a:pt x="14858" y="13279"/>
                  <a:pt x="14858" y="13320"/>
                </a:cubicBezTo>
                <a:cubicBezTo>
                  <a:pt x="14898" y="13310"/>
                  <a:pt x="14898" y="13311"/>
                  <a:pt x="14908" y="13271"/>
                </a:cubicBezTo>
              </a:path>
              <a:path w="1985" h="547">
                <a:moveTo>
                  <a:pt x="15131" y="12849"/>
                </a:moveTo>
                <a:cubicBezTo>
                  <a:pt x="15201" y="12849"/>
                  <a:pt x="15302" y="12829"/>
                  <a:pt x="15354" y="12874"/>
                </a:cubicBezTo>
                <a:cubicBezTo>
                  <a:pt x="15382" y="12899"/>
                  <a:pt x="15382" y="12918"/>
                  <a:pt x="15404" y="12948"/>
                </a:cubicBezTo>
                <a:cubicBezTo>
                  <a:pt x="15377" y="12993"/>
                  <a:pt x="15359" y="13025"/>
                  <a:pt x="15329" y="13072"/>
                </a:cubicBezTo>
                <a:cubicBezTo>
                  <a:pt x="15291" y="13131"/>
                  <a:pt x="15252" y="13193"/>
                  <a:pt x="15205" y="13246"/>
                </a:cubicBezTo>
                <a:cubicBezTo>
                  <a:pt x="15176" y="13278"/>
                  <a:pt x="15180" y="13279"/>
                  <a:pt x="15180" y="13320"/>
                </a:cubicBezTo>
                <a:cubicBezTo>
                  <a:pt x="15277" y="13320"/>
                  <a:pt x="15362" y="13310"/>
                  <a:pt x="15453" y="13295"/>
                </a:cubicBezTo>
                <a:cubicBezTo>
                  <a:pt x="15499" y="13287"/>
                  <a:pt x="15537" y="13275"/>
                  <a:pt x="15577" y="13271"/>
                </a:cubicBezTo>
                <a:cubicBezTo>
                  <a:pt x="15607" y="13268"/>
                  <a:pt x="15638" y="13242"/>
                  <a:pt x="15677" y="13221"/>
                </a:cubicBezTo>
                <a:cubicBezTo>
                  <a:pt x="15693" y="13213"/>
                  <a:pt x="15710" y="13204"/>
                  <a:pt x="15726" y="1319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Ink 39"/>
          <p:cNvSpPr/>
          <p:nvPr/>
        </p:nvSpPr>
        <p:spPr>
          <a:xfrm>
            <a:off x="5823000" y="4633920"/>
            <a:ext cx="204840" cy="162000"/>
          </a:xfrm>
          <a:custGeom>
            <a:avLst/>
            <a:gdLst/>
            <a:ahLst/>
            <a:rect l="l" t="t" r="r" b="b"/>
            <a:pathLst>
              <a:path w="571" h="447">
                <a:moveTo>
                  <a:pt x="16173" y="13047"/>
                </a:moveTo>
                <a:cubicBezTo>
                  <a:pt x="16220" y="13047"/>
                  <a:pt x="16236" y="13064"/>
                  <a:pt x="16272" y="13072"/>
                </a:cubicBezTo>
                <a:cubicBezTo>
                  <a:pt x="16394" y="13098"/>
                  <a:pt x="16589" y="13079"/>
                  <a:pt x="16694" y="13047"/>
                </a:cubicBezTo>
                <a:cubicBezTo>
                  <a:pt x="16722" y="13047"/>
                  <a:pt x="16732" y="13044"/>
                  <a:pt x="16743" y="13022"/>
                </a:cubicBezTo>
                <a:cubicBezTo>
                  <a:pt x="16716" y="12987"/>
                  <a:pt x="16726" y="12984"/>
                  <a:pt x="16694" y="12973"/>
                </a:cubicBezTo>
              </a:path>
              <a:path w="571" h="447">
                <a:moveTo>
                  <a:pt x="16421" y="12898"/>
                </a:moveTo>
                <a:cubicBezTo>
                  <a:pt x="16421" y="12890"/>
                  <a:pt x="16421" y="12882"/>
                  <a:pt x="16421" y="12874"/>
                </a:cubicBezTo>
                <a:cubicBezTo>
                  <a:pt x="16421" y="12937"/>
                  <a:pt x="16413" y="12971"/>
                  <a:pt x="16396" y="13022"/>
                </a:cubicBezTo>
                <a:cubicBezTo>
                  <a:pt x="16373" y="13091"/>
                  <a:pt x="16383" y="13269"/>
                  <a:pt x="16421" y="13320"/>
                </a:cubicBezTo>
                <a:cubicBezTo>
                  <a:pt x="16421" y="13295"/>
                  <a:pt x="16421" y="13287"/>
                  <a:pt x="16421" y="1327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Ink 40"/>
          <p:cNvSpPr/>
          <p:nvPr/>
        </p:nvSpPr>
        <p:spPr>
          <a:xfrm>
            <a:off x="6340320" y="4606920"/>
            <a:ext cx="1224000" cy="268200"/>
          </a:xfrm>
          <a:custGeom>
            <a:avLst/>
            <a:gdLst/>
            <a:ahLst/>
            <a:rect l="l" t="t" r="r" b="b"/>
            <a:pathLst>
              <a:path w="3400" h="745">
                <a:moveTo>
                  <a:pt x="17835" y="12824"/>
                </a:moveTo>
                <a:cubicBezTo>
                  <a:pt x="17835" y="12770"/>
                  <a:pt x="17823" y="12843"/>
                  <a:pt x="17810" y="12849"/>
                </a:cubicBezTo>
                <a:cubicBezTo>
                  <a:pt x="17771" y="12869"/>
                  <a:pt x="17774" y="12879"/>
                  <a:pt x="17735" y="12898"/>
                </a:cubicBezTo>
                <a:cubicBezTo>
                  <a:pt x="17667" y="12932"/>
                  <a:pt x="17693" y="12936"/>
                  <a:pt x="17661" y="12998"/>
                </a:cubicBezTo>
                <a:cubicBezTo>
                  <a:pt x="17637" y="13046"/>
                  <a:pt x="17611" y="13064"/>
                  <a:pt x="17611" y="13122"/>
                </a:cubicBezTo>
                <a:cubicBezTo>
                  <a:pt x="17611" y="13187"/>
                  <a:pt x="17619" y="13195"/>
                  <a:pt x="17636" y="13246"/>
                </a:cubicBezTo>
                <a:cubicBezTo>
                  <a:pt x="17647" y="13278"/>
                  <a:pt x="17673" y="13312"/>
                  <a:pt x="17711" y="13320"/>
                </a:cubicBezTo>
                <a:cubicBezTo>
                  <a:pt x="17773" y="13333"/>
                  <a:pt x="17804" y="13309"/>
                  <a:pt x="17859" y="13295"/>
                </a:cubicBezTo>
                <a:cubicBezTo>
                  <a:pt x="17903" y="13284"/>
                  <a:pt x="17925" y="13256"/>
                  <a:pt x="17959" y="13221"/>
                </a:cubicBezTo>
                <a:cubicBezTo>
                  <a:pt x="18005" y="13174"/>
                  <a:pt x="18027" y="13162"/>
                  <a:pt x="18033" y="13097"/>
                </a:cubicBezTo>
                <a:cubicBezTo>
                  <a:pt x="18037" y="13050"/>
                  <a:pt x="18079" y="12999"/>
                  <a:pt x="18058" y="12948"/>
                </a:cubicBezTo>
                <a:cubicBezTo>
                  <a:pt x="18040" y="12906"/>
                  <a:pt x="17988" y="12900"/>
                  <a:pt x="17959" y="12874"/>
                </a:cubicBezTo>
                <a:cubicBezTo>
                  <a:pt x="17929" y="12847"/>
                  <a:pt x="17874" y="12828"/>
                  <a:pt x="17835" y="12824"/>
                </a:cubicBezTo>
                <a:cubicBezTo>
                  <a:pt x="17790" y="12819"/>
                  <a:pt x="17764" y="12826"/>
                  <a:pt x="17760" y="12874"/>
                </a:cubicBezTo>
                <a:cubicBezTo>
                  <a:pt x="17760" y="12890"/>
                  <a:pt x="17760" y="12907"/>
                  <a:pt x="17760" y="12923"/>
                </a:cubicBezTo>
              </a:path>
              <a:path w="3400" h="745">
                <a:moveTo>
                  <a:pt x="18182" y="13171"/>
                </a:moveTo>
                <a:cubicBezTo>
                  <a:pt x="18182" y="13204"/>
                  <a:pt x="18192" y="13116"/>
                  <a:pt x="18207" y="13146"/>
                </a:cubicBezTo>
                <a:cubicBezTo>
                  <a:pt x="18225" y="13183"/>
                  <a:pt x="18247" y="13171"/>
                  <a:pt x="18182" y="13171"/>
                </a:cubicBezTo>
              </a:path>
              <a:path w="3400" h="745">
                <a:moveTo>
                  <a:pt x="18752" y="12948"/>
                </a:moveTo>
                <a:cubicBezTo>
                  <a:pt x="18752" y="12905"/>
                  <a:pt x="18744" y="12959"/>
                  <a:pt x="18703" y="12973"/>
                </a:cubicBezTo>
                <a:cubicBezTo>
                  <a:pt x="18671" y="12984"/>
                  <a:pt x="18650" y="13018"/>
                  <a:pt x="18628" y="13047"/>
                </a:cubicBezTo>
                <a:cubicBezTo>
                  <a:pt x="18598" y="13087"/>
                  <a:pt x="18547" y="13125"/>
                  <a:pt x="18529" y="13171"/>
                </a:cubicBezTo>
                <a:cubicBezTo>
                  <a:pt x="18515" y="13207"/>
                  <a:pt x="18524" y="13301"/>
                  <a:pt x="18554" y="13320"/>
                </a:cubicBezTo>
                <a:cubicBezTo>
                  <a:pt x="18593" y="13344"/>
                  <a:pt x="18628" y="13366"/>
                  <a:pt x="18678" y="13370"/>
                </a:cubicBezTo>
                <a:cubicBezTo>
                  <a:pt x="18707" y="13372"/>
                  <a:pt x="18786" y="13402"/>
                  <a:pt x="18802" y="13395"/>
                </a:cubicBezTo>
                <a:cubicBezTo>
                  <a:pt x="18843" y="13377"/>
                  <a:pt x="18879" y="13349"/>
                  <a:pt x="18901" y="13320"/>
                </a:cubicBezTo>
                <a:cubicBezTo>
                  <a:pt x="18942" y="13267"/>
                  <a:pt x="18950" y="13250"/>
                  <a:pt x="18976" y="13196"/>
                </a:cubicBezTo>
                <a:cubicBezTo>
                  <a:pt x="19001" y="13144"/>
                  <a:pt x="19000" y="13112"/>
                  <a:pt x="19000" y="13047"/>
                </a:cubicBezTo>
                <a:cubicBezTo>
                  <a:pt x="19000" y="13015"/>
                  <a:pt x="18957" y="12962"/>
                  <a:pt x="18926" y="12948"/>
                </a:cubicBezTo>
                <a:cubicBezTo>
                  <a:pt x="18887" y="12931"/>
                  <a:pt x="18781" y="12942"/>
                  <a:pt x="18777" y="12973"/>
                </a:cubicBezTo>
                <a:cubicBezTo>
                  <a:pt x="18777" y="12998"/>
                  <a:pt x="18777" y="13006"/>
                  <a:pt x="18777" y="13022"/>
                </a:cubicBezTo>
              </a:path>
              <a:path w="3400" h="745">
                <a:moveTo>
                  <a:pt x="19447" y="12874"/>
                </a:moveTo>
                <a:cubicBezTo>
                  <a:pt x="19447" y="12935"/>
                  <a:pt x="19437" y="12973"/>
                  <a:pt x="19422" y="13022"/>
                </a:cubicBezTo>
                <a:cubicBezTo>
                  <a:pt x="19408" y="13069"/>
                  <a:pt x="19401" y="13124"/>
                  <a:pt x="19372" y="13171"/>
                </a:cubicBezTo>
                <a:cubicBezTo>
                  <a:pt x="19349" y="13209"/>
                  <a:pt x="19317" y="13253"/>
                  <a:pt x="19298" y="13295"/>
                </a:cubicBezTo>
                <a:cubicBezTo>
                  <a:pt x="19288" y="13317"/>
                  <a:pt x="19298" y="13370"/>
                  <a:pt x="19298" y="13395"/>
                </a:cubicBezTo>
                <a:cubicBezTo>
                  <a:pt x="19397" y="13395"/>
                  <a:pt x="19479" y="13393"/>
                  <a:pt x="19571" y="13370"/>
                </a:cubicBezTo>
                <a:cubicBezTo>
                  <a:pt x="19610" y="13360"/>
                  <a:pt x="19626" y="13345"/>
                  <a:pt x="19670" y="13345"/>
                </a:cubicBezTo>
                <a:cubicBezTo>
                  <a:pt x="19715" y="13345"/>
                  <a:pt x="19732" y="13358"/>
                  <a:pt x="19745" y="13320"/>
                </a:cubicBezTo>
              </a:path>
              <a:path w="3400" h="745">
                <a:moveTo>
                  <a:pt x="19571" y="13171"/>
                </a:moveTo>
                <a:cubicBezTo>
                  <a:pt x="19571" y="13248"/>
                  <a:pt x="19558" y="13543"/>
                  <a:pt x="19596" y="13519"/>
                </a:cubicBezTo>
              </a:path>
              <a:path w="3400" h="745">
                <a:moveTo>
                  <a:pt x="19943" y="12973"/>
                </a:moveTo>
                <a:cubicBezTo>
                  <a:pt x="19949" y="12951"/>
                  <a:pt x="19988" y="12894"/>
                  <a:pt x="20017" y="12898"/>
                </a:cubicBezTo>
                <a:cubicBezTo>
                  <a:pt x="20065" y="12905"/>
                  <a:pt x="20089" y="12923"/>
                  <a:pt x="20141" y="12923"/>
                </a:cubicBezTo>
                <a:cubicBezTo>
                  <a:pt x="20187" y="12923"/>
                  <a:pt x="20210" y="12921"/>
                  <a:pt x="20216" y="12973"/>
                </a:cubicBezTo>
                <a:cubicBezTo>
                  <a:pt x="20227" y="13070"/>
                  <a:pt x="20205" y="13094"/>
                  <a:pt x="20166" y="13171"/>
                </a:cubicBezTo>
                <a:cubicBezTo>
                  <a:pt x="20142" y="13218"/>
                  <a:pt x="20120" y="13260"/>
                  <a:pt x="20092" y="13295"/>
                </a:cubicBezTo>
                <a:cubicBezTo>
                  <a:pt x="20063" y="13332"/>
                  <a:pt x="20067" y="13347"/>
                  <a:pt x="20067" y="13395"/>
                </a:cubicBezTo>
                <a:cubicBezTo>
                  <a:pt x="20135" y="13395"/>
                  <a:pt x="20178" y="13386"/>
                  <a:pt x="20241" y="13370"/>
                </a:cubicBezTo>
                <a:cubicBezTo>
                  <a:pt x="20307" y="13353"/>
                  <a:pt x="20349" y="13374"/>
                  <a:pt x="20389" y="13345"/>
                </a:cubicBezTo>
                <a:cubicBezTo>
                  <a:pt x="20430" y="13325"/>
                  <a:pt x="20436" y="13316"/>
                  <a:pt x="20464" y="13320"/>
                </a:cubicBezTo>
              </a:path>
              <a:path w="3400" h="745">
                <a:moveTo>
                  <a:pt x="20712" y="12799"/>
                </a:moveTo>
                <a:cubicBezTo>
                  <a:pt x="20790" y="12799"/>
                  <a:pt x="20846" y="12802"/>
                  <a:pt x="20910" y="12824"/>
                </a:cubicBezTo>
                <a:cubicBezTo>
                  <a:pt x="20935" y="12824"/>
                  <a:pt x="20943" y="12824"/>
                  <a:pt x="20960" y="12824"/>
                </a:cubicBezTo>
                <a:cubicBezTo>
                  <a:pt x="20972" y="12859"/>
                  <a:pt x="20967" y="12849"/>
                  <a:pt x="21010" y="12849"/>
                </a:cubicBezTo>
              </a:path>
              <a:path w="3400" h="745">
                <a:moveTo>
                  <a:pt x="20762" y="12874"/>
                </a:moveTo>
                <a:cubicBezTo>
                  <a:pt x="20733" y="12883"/>
                  <a:pt x="20717" y="12907"/>
                  <a:pt x="20712" y="12948"/>
                </a:cubicBezTo>
                <a:cubicBezTo>
                  <a:pt x="20709" y="12978"/>
                  <a:pt x="20667" y="13012"/>
                  <a:pt x="20687" y="13047"/>
                </a:cubicBezTo>
                <a:cubicBezTo>
                  <a:pt x="20709" y="13086"/>
                  <a:pt x="20712" y="13076"/>
                  <a:pt x="20712" y="13122"/>
                </a:cubicBezTo>
                <a:cubicBezTo>
                  <a:pt x="20768" y="13122"/>
                  <a:pt x="20786" y="13109"/>
                  <a:pt x="20811" y="13097"/>
                </a:cubicBezTo>
                <a:cubicBezTo>
                  <a:pt x="20838" y="13084"/>
                  <a:pt x="20897" y="13096"/>
                  <a:pt x="20910" y="13122"/>
                </a:cubicBezTo>
                <a:cubicBezTo>
                  <a:pt x="20938" y="13179"/>
                  <a:pt x="20897" y="13297"/>
                  <a:pt x="20886" y="13320"/>
                </a:cubicBezTo>
                <a:cubicBezTo>
                  <a:pt x="20859" y="13376"/>
                  <a:pt x="20881" y="13389"/>
                  <a:pt x="20811" y="13395"/>
                </a:cubicBezTo>
                <a:cubicBezTo>
                  <a:pt x="20771" y="13399"/>
                  <a:pt x="20757" y="13419"/>
                  <a:pt x="20712" y="13419"/>
                </a:cubicBezTo>
                <a:cubicBezTo>
                  <a:pt x="20674" y="13419"/>
                  <a:pt x="20643" y="13478"/>
                  <a:pt x="20613" y="13419"/>
                </a:cubicBezTo>
                <a:cubicBezTo>
                  <a:pt x="20613" y="13395"/>
                  <a:pt x="20613" y="13387"/>
                  <a:pt x="20588" y="1339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Ink 41"/>
          <p:cNvSpPr/>
          <p:nvPr/>
        </p:nvSpPr>
        <p:spPr>
          <a:xfrm>
            <a:off x="4545000" y="5054760"/>
            <a:ext cx="152280" cy="88920"/>
          </a:xfrm>
          <a:custGeom>
            <a:avLst/>
            <a:gdLst/>
            <a:ahLst/>
            <a:rect l="l" t="t" r="r" b="b"/>
            <a:pathLst>
              <a:path w="422" h="250">
                <a:moveTo>
                  <a:pt x="12626" y="14064"/>
                </a:moveTo>
                <a:cubicBezTo>
                  <a:pt x="12689" y="14064"/>
                  <a:pt x="12717" y="14049"/>
                  <a:pt x="12774" y="14039"/>
                </a:cubicBezTo>
                <a:cubicBezTo>
                  <a:pt x="12826" y="14030"/>
                  <a:pt x="12960" y="14026"/>
                  <a:pt x="12973" y="14064"/>
                </a:cubicBezTo>
              </a:path>
              <a:path w="422" h="250">
                <a:moveTo>
                  <a:pt x="12650" y="14263"/>
                </a:moveTo>
                <a:cubicBezTo>
                  <a:pt x="12683" y="14263"/>
                  <a:pt x="12729" y="14298"/>
                  <a:pt x="12750" y="14288"/>
                </a:cubicBezTo>
                <a:cubicBezTo>
                  <a:pt x="12801" y="14265"/>
                  <a:pt x="12808" y="14263"/>
                  <a:pt x="12874" y="14263"/>
                </a:cubicBezTo>
                <a:cubicBezTo>
                  <a:pt x="12898" y="14263"/>
                  <a:pt x="12907" y="14263"/>
                  <a:pt x="12923" y="14263"/>
                </a:cubicBezTo>
                <a:cubicBezTo>
                  <a:pt x="12936" y="14225"/>
                  <a:pt x="12953" y="14238"/>
                  <a:pt x="12998" y="14238"/>
                </a:cubicBezTo>
                <a:cubicBezTo>
                  <a:pt x="13022" y="14238"/>
                  <a:pt x="13031" y="14238"/>
                  <a:pt x="13047" y="1423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Ink 42"/>
          <p:cNvSpPr/>
          <p:nvPr/>
        </p:nvSpPr>
        <p:spPr>
          <a:xfrm>
            <a:off x="5081760" y="5045040"/>
            <a:ext cx="268200" cy="196920"/>
          </a:xfrm>
          <a:custGeom>
            <a:avLst/>
            <a:gdLst/>
            <a:ahLst/>
            <a:rect l="l" t="t" r="r" b="b"/>
            <a:pathLst>
              <a:path w="745" h="546">
                <a:moveTo>
                  <a:pt x="14337" y="14039"/>
                </a:moveTo>
                <a:cubicBezTo>
                  <a:pt x="14325" y="14076"/>
                  <a:pt x="14280" y="14063"/>
                  <a:pt x="14263" y="14089"/>
                </a:cubicBezTo>
                <a:cubicBezTo>
                  <a:pt x="14263" y="14114"/>
                  <a:pt x="14263" y="14122"/>
                  <a:pt x="14263" y="14139"/>
                </a:cubicBezTo>
                <a:cubicBezTo>
                  <a:pt x="14228" y="14144"/>
                  <a:pt x="14158" y="14149"/>
                  <a:pt x="14139" y="14188"/>
                </a:cubicBezTo>
                <a:cubicBezTo>
                  <a:pt x="14120" y="14228"/>
                  <a:pt x="14114" y="14262"/>
                  <a:pt x="14114" y="14312"/>
                </a:cubicBezTo>
                <a:cubicBezTo>
                  <a:pt x="14114" y="14383"/>
                  <a:pt x="14148" y="14384"/>
                  <a:pt x="14163" y="14436"/>
                </a:cubicBezTo>
                <a:cubicBezTo>
                  <a:pt x="14188" y="14524"/>
                  <a:pt x="14186" y="14492"/>
                  <a:pt x="14263" y="14536"/>
                </a:cubicBezTo>
                <a:cubicBezTo>
                  <a:pt x="14303" y="14559"/>
                  <a:pt x="14384" y="14579"/>
                  <a:pt x="14436" y="14560"/>
                </a:cubicBezTo>
                <a:cubicBezTo>
                  <a:pt x="14479" y="14544"/>
                  <a:pt x="14531" y="14532"/>
                  <a:pt x="14560" y="14486"/>
                </a:cubicBezTo>
                <a:cubicBezTo>
                  <a:pt x="14579" y="14457"/>
                  <a:pt x="14628" y="14393"/>
                  <a:pt x="14635" y="14362"/>
                </a:cubicBezTo>
                <a:cubicBezTo>
                  <a:pt x="14648" y="14303"/>
                  <a:pt x="14660" y="14250"/>
                  <a:pt x="14660" y="14188"/>
                </a:cubicBezTo>
                <a:cubicBezTo>
                  <a:pt x="14660" y="14119"/>
                  <a:pt x="14658" y="14112"/>
                  <a:pt x="14610" y="14064"/>
                </a:cubicBezTo>
                <a:cubicBezTo>
                  <a:pt x="14585" y="14039"/>
                  <a:pt x="14546" y="14019"/>
                  <a:pt x="14511" y="14015"/>
                </a:cubicBezTo>
                <a:cubicBezTo>
                  <a:pt x="14477" y="14011"/>
                  <a:pt x="14436" y="14023"/>
                  <a:pt x="14412" y="14039"/>
                </a:cubicBezTo>
                <a:cubicBezTo>
                  <a:pt x="14370" y="14067"/>
                  <a:pt x="14387" y="14120"/>
                  <a:pt x="14387" y="14163"/>
                </a:cubicBezTo>
              </a:path>
              <a:path w="745" h="546">
                <a:moveTo>
                  <a:pt x="14858" y="14362"/>
                </a:moveTo>
                <a:cubicBezTo>
                  <a:pt x="14823" y="14371"/>
                  <a:pt x="14808" y="14472"/>
                  <a:pt x="14808" y="14436"/>
                </a:cubicBezTo>
                <a:cubicBezTo>
                  <a:pt x="14808" y="14400"/>
                  <a:pt x="14807" y="14311"/>
                  <a:pt x="14833" y="14337"/>
                </a:cubicBezTo>
                <a:cubicBezTo>
                  <a:pt x="14833" y="14362"/>
                  <a:pt x="14833" y="14370"/>
                  <a:pt x="14858" y="1436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Ink 43"/>
          <p:cNvSpPr/>
          <p:nvPr/>
        </p:nvSpPr>
        <p:spPr>
          <a:xfrm>
            <a:off x="5510160" y="5072040"/>
            <a:ext cx="723960" cy="214200"/>
          </a:xfrm>
          <a:custGeom>
            <a:avLst/>
            <a:gdLst/>
            <a:ahLst/>
            <a:rect l="l" t="t" r="r" b="b"/>
            <a:pathLst>
              <a:path w="2011" h="596">
                <a:moveTo>
                  <a:pt x="15354" y="14163"/>
                </a:moveTo>
                <a:cubicBezTo>
                  <a:pt x="15354" y="14208"/>
                  <a:pt x="15354" y="14136"/>
                  <a:pt x="15354" y="14213"/>
                </a:cubicBezTo>
                <a:cubicBezTo>
                  <a:pt x="15354" y="14260"/>
                  <a:pt x="15332" y="14292"/>
                  <a:pt x="15329" y="14337"/>
                </a:cubicBezTo>
                <a:cubicBezTo>
                  <a:pt x="15322" y="14444"/>
                  <a:pt x="15208" y="14587"/>
                  <a:pt x="15304" y="14635"/>
                </a:cubicBezTo>
                <a:cubicBezTo>
                  <a:pt x="15340" y="14653"/>
                  <a:pt x="15347" y="14631"/>
                  <a:pt x="15354" y="14610"/>
                </a:cubicBezTo>
              </a:path>
              <a:path w="2011" h="596">
                <a:moveTo>
                  <a:pt x="15850" y="14139"/>
                </a:moveTo>
                <a:cubicBezTo>
                  <a:pt x="15837" y="14176"/>
                  <a:pt x="15813" y="14155"/>
                  <a:pt x="15776" y="14188"/>
                </a:cubicBezTo>
                <a:cubicBezTo>
                  <a:pt x="15736" y="14224"/>
                  <a:pt x="15707" y="14257"/>
                  <a:pt x="15701" y="14312"/>
                </a:cubicBezTo>
                <a:cubicBezTo>
                  <a:pt x="15696" y="14361"/>
                  <a:pt x="15677" y="14377"/>
                  <a:pt x="15677" y="14436"/>
                </a:cubicBezTo>
                <a:cubicBezTo>
                  <a:pt x="15677" y="14492"/>
                  <a:pt x="15664" y="14543"/>
                  <a:pt x="15701" y="14585"/>
                </a:cubicBezTo>
                <a:cubicBezTo>
                  <a:pt x="15732" y="14620"/>
                  <a:pt x="15723" y="14654"/>
                  <a:pt x="15776" y="14660"/>
                </a:cubicBezTo>
                <a:cubicBezTo>
                  <a:pt x="15817" y="14665"/>
                  <a:pt x="15837" y="14680"/>
                  <a:pt x="15875" y="14684"/>
                </a:cubicBezTo>
                <a:cubicBezTo>
                  <a:pt x="15898" y="14686"/>
                  <a:pt x="15963" y="14657"/>
                  <a:pt x="15974" y="14635"/>
                </a:cubicBezTo>
                <a:cubicBezTo>
                  <a:pt x="15994" y="14596"/>
                  <a:pt x="15999" y="14561"/>
                  <a:pt x="15999" y="14511"/>
                </a:cubicBezTo>
                <a:cubicBezTo>
                  <a:pt x="15999" y="14448"/>
                  <a:pt x="15919" y="14461"/>
                  <a:pt x="15875" y="14461"/>
                </a:cubicBezTo>
                <a:cubicBezTo>
                  <a:pt x="15825" y="14461"/>
                  <a:pt x="15776" y="14461"/>
                  <a:pt x="15726" y="14461"/>
                </a:cubicBezTo>
                <a:cubicBezTo>
                  <a:pt x="15739" y="14501"/>
                  <a:pt x="15774" y="14486"/>
                  <a:pt x="15825" y="14486"/>
                </a:cubicBezTo>
              </a:path>
              <a:path w="2011" h="596">
                <a:moveTo>
                  <a:pt x="16297" y="14163"/>
                </a:moveTo>
                <a:cubicBezTo>
                  <a:pt x="16309" y="14127"/>
                  <a:pt x="16327" y="14139"/>
                  <a:pt x="16371" y="14139"/>
                </a:cubicBezTo>
                <a:cubicBezTo>
                  <a:pt x="16412" y="14139"/>
                  <a:pt x="16454" y="14139"/>
                  <a:pt x="16495" y="14139"/>
                </a:cubicBezTo>
                <a:cubicBezTo>
                  <a:pt x="16495" y="14195"/>
                  <a:pt x="16515" y="14172"/>
                  <a:pt x="16520" y="14213"/>
                </a:cubicBezTo>
                <a:cubicBezTo>
                  <a:pt x="16525" y="14253"/>
                  <a:pt x="16509" y="14280"/>
                  <a:pt x="16495" y="14312"/>
                </a:cubicBezTo>
                <a:cubicBezTo>
                  <a:pt x="16468" y="14374"/>
                  <a:pt x="16423" y="14433"/>
                  <a:pt x="16396" y="14486"/>
                </a:cubicBezTo>
                <a:cubicBezTo>
                  <a:pt x="16374" y="14530"/>
                  <a:pt x="16327" y="14534"/>
                  <a:pt x="16321" y="14585"/>
                </a:cubicBezTo>
                <a:cubicBezTo>
                  <a:pt x="16321" y="14593"/>
                  <a:pt x="16321" y="14602"/>
                  <a:pt x="16321" y="14610"/>
                </a:cubicBezTo>
                <a:cubicBezTo>
                  <a:pt x="16430" y="14610"/>
                  <a:pt x="16573" y="14600"/>
                  <a:pt x="16644" y="14635"/>
                </a:cubicBezTo>
                <a:cubicBezTo>
                  <a:pt x="16691" y="14659"/>
                  <a:pt x="16713" y="14605"/>
                  <a:pt x="16743" y="14585"/>
                </a:cubicBezTo>
                <a:cubicBezTo>
                  <a:pt x="16760" y="14577"/>
                  <a:pt x="16776" y="14568"/>
                  <a:pt x="16793" y="14560"/>
                </a:cubicBezTo>
              </a:path>
              <a:path w="2011" h="596">
                <a:moveTo>
                  <a:pt x="17016" y="14089"/>
                </a:moveTo>
                <a:cubicBezTo>
                  <a:pt x="17016" y="14097"/>
                  <a:pt x="17016" y="14106"/>
                  <a:pt x="17016" y="14114"/>
                </a:cubicBezTo>
                <a:cubicBezTo>
                  <a:pt x="17029" y="14074"/>
                  <a:pt x="17064" y="14089"/>
                  <a:pt x="17115" y="14089"/>
                </a:cubicBezTo>
                <a:cubicBezTo>
                  <a:pt x="17181" y="14089"/>
                  <a:pt x="17248" y="14089"/>
                  <a:pt x="17314" y="14089"/>
                </a:cubicBezTo>
              </a:path>
              <a:path w="2011" h="596">
                <a:moveTo>
                  <a:pt x="17041" y="14139"/>
                </a:moveTo>
                <a:cubicBezTo>
                  <a:pt x="17041" y="14211"/>
                  <a:pt x="17018" y="14158"/>
                  <a:pt x="16991" y="14213"/>
                </a:cubicBezTo>
                <a:cubicBezTo>
                  <a:pt x="16971" y="14253"/>
                  <a:pt x="16991" y="14364"/>
                  <a:pt x="16991" y="14412"/>
                </a:cubicBezTo>
                <a:cubicBezTo>
                  <a:pt x="17047" y="14412"/>
                  <a:pt x="17065" y="14400"/>
                  <a:pt x="17090" y="14387"/>
                </a:cubicBezTo>
                <a:cubicBezTo>
                  <a:pt x="17139" y="14362"/>
                  <a:pt x="17200" y="14405"/>
                  <a:pt x="17214" y="14412"/>
                </a:cubicBezTo>
                <a:cubicBezTo>
                  <a:pt x="17249" y="14429"/>
                  <a:pt x="17239" y="14437"/>
                  <a:pt x="17239" y="14486"/>
                </a:cubicBezTo>
                <a:cubicBezTo>
                  <a:pt x="17239" y="14527"/>
                  <a:pt x="17257" y="14613"/>
                  <a:pt x="17214" y="14635"/>
                </a:cubicBezTo>
                <a:cubicBezTo>
                  <a:pt x="17186" y="14650"/>
                  <a:pt x="17186" y="14679"/>
                  <a:pt x="17140" y="14684"/>
                </a:cubicBezTo>
                <a:cubicBezTo>
                  <a:pt x="17081" y="14690"/>
                  <a:pt x="17042" y="14673"/>
                  <a:pt x="17016" y="14660"/>
                </a:cubicBezTo>
                <a:cubicBezTo>
                  <a:pt x="16985" y="14645"/>
                  <a:pt x="16981" y="14615"/>
                  <a:pt x="16966" y="1466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nk 44"/>
          <p:cNvSpPr/>
          <p:nvPr/>
        </p:nvSpPr>
        <p:spPr>
          <a:xfrm>
            <a:off x="714240" y="5670720"/>
            <a:ext cx="330480" cy="196560"/>
          </a:xfrm>
          <a:custGeom>
            <a:avLst/>
            <a:gdLst/>
            <a:ahLst/>
            <a:rect l="l" t="t" r="r" b="b"/>
            <a:pathLst>
              <a:path w="919" h="547">
                <a:moveTo>
                  <a:pt x="2108" y="15850"/>
                </a:moveTo>
                <a:cubicBezTo>
                  <a:pt x="2098" y="15882"/>
                  <a:pt x="2099" y="15885"/>
                  <a:pt x="2084" y="15925"/>
                </a:cubicBezTo>
                <a:cubicBezTo>
                  <a:pt x="2065" y="15977"/>
                  <a:pt x="2021" y="16021"/>
                  <a:pt x="2009" y="16073"/>
                </a:cubicBezTo>
                <a:cubicBezTo>
                  <a:pt x="1994" y="16136"/>
                  <a:pt x="2003" y="16191"/>
                  <a:pt x="1984" y="16247"/>
                </a:cubicBezTo>
                <a:cubicBezTo>
                  <a:pt x="1963" y="16309"/>
                  <a:pt x="1967" y="16278"/>
                  <a:pt x="1984" y="16247"/>
                </a:cubicBezTo>
                <a:cubicBezTo>
                  <a:pt x="2013" y="16195"/>
                  <a:pt x="2014" y="16153"/>
                  <a:pt x="2034" y="16098"/>
                </a:cubicBezTo>
                <a:cubicBezTo>
                  <a:pt x="2051" y="16050"/>
                  <a:pt x="2059" y="15987"/>
                  <a:pt x="2084" y="15949"/>
                </a:cubicBezTo>
                <a:cubicBezTo>
                  <a:pt x="2114" y="15903"/>
                  <a:pt x="2133" y="15908"/>
                  <a:pt x="2133" y="15850"/>
                </a:cubicBezTo>
                <a:cubicBezTo>
                  <a:pt x="2167" y="15861"/>
                  <a:pt x="2178" y="15901"/>
                  <a:pt x="2183" y="15949"/>
                </a:cubicBezTo>
                <a:cubicBezTo>
                  <a:pt x="2188" y="16003"/>
                  <a:pt x="2222" y="16083"/>
                  <a:pt x="2257" y="16123"/>
                </a:cubicBezTo>
                <a:cubicBezTo>
                  <a:pt x="2288" y="16158"/>
                  <a:pt x="2279" y="16191"/>
                  <a:pt x="2332" y="16197"/>
                </a:cubicBezTo>
                <a:cubicBezTo>
                  <a:pt x="2383" y="16203"/>
                  <a:pt x="2396" y="16182"/>
                  <a:pt x="2431" y="16148"/>
                </a:cubicBezTo>
                <a:cubicBezTo>
                  <a:pt x="2472" y="16108"/>
                  <a:pt x="2503" y="16050"/>
                  <a:pt x="2530" y="15999"/>
                </a:cubicBezTo>
                <a:cubicBezTo>
                  <a:pt x="2557" y="15949"/>
                  <a:pt x="2587" y="15880"/>
                  <a:pt x="2604" y="15825"/>
                </a:cubicBezTo>
                <a:cubicBezTo>
                  <a:pt x="2610" y="15805"/>
                  <a:pt x="2629" y="15721"/>
                  <a:pt x="2629" y="15776"/>
                </a:cubicBezTo>
                <a:cubicBezTo>
                  <a:pt x="2629" y="15784"/>
                  <a:pt x="2629" y="15793"/>
                  <a:pt x="2629" y="15801"/>
                </a:cubicBezTo>
              </a:path>
              <a:path w="919" h="547">
                <a:moveTo>
                  <a:pt x="2753" y="16073"/>
                </a:moveTo>
                <a:cubicBezTo>
                  <a:pt x="2725" y="16083"/>
                  <a:pt x="2708" y="16108"/>
                  <a:pt x="2704" y="16148"/>
                </a:cubicBezTo>
                <a:cubicBezTo>
                  <a:pt x="2700" y="16180"/>
                  <a:pt x="2704" y="16215"/>
                  <a:pt x="2704" y="16247"/>
                </a:cubicBezTo>
                <a:cubicBezTo>
                  <a:pt x="2745" y="16247"/>
                  <a:pt x="2831" y="16265"/>
                  <a:pt x="2853" y="16222"/>
                </a:cubicBezTo>
                <a:cubicBezTo>
                  <a:pt x="2874" y="16181"/>
                  <a:pt x="2898" y="16193"/>
                  <a:pt x="2902" y="16123"/>
                </a:cubicBezTo>
                <a:cubicBezTo>
                  <a:pt x="2904" y="16091"/>
                  <a:pt x="2902" y="16057"/>
                  <a:pt x="2902" y="16024"/>
                </a:cubicBezTo>
                <a:cubicBezTo>
                  <a:pt x="2847" y="16024"/>
                  <a:pt x="2845" y="16015"/>
                  <a:pt x="2803" y="16024"/>
                </a:cubicBezTo>
                <a:cubicBezTo>
                  <a:pt x="2753" y="16035"/>
                  <a:pt x="2753" y="16013"/>
                  <a:pt x="2753" y="1607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Ink 45"/>
          <p:cNvSpPr/>
          <p:nvPr/>
        </p:nvSpPr>
        <p:spPr>
          <a:xfrm>
            <a:off x="1241280" y="5697360"/>
            <a:ext cx="581040" cy="21456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3671" y="15974"/>
                </a:moveTo>
                <a:cubicBezTo>
                  <a:pt x="3618" y="15974"/>
                  <a:pt x="3610" y="15986"/>
                  <a:pt x="3572" y="16024"/>
                </a:cubicBezTo>
                <a:cubicBezTo>
                  <a:pt x="3528" y="16068"/>
                  <a:pt x="3509" y="16125"/>
                  <a:pt x="3473" y="16173"/>
                </a:cubicBezTo>
                <a:cubicBezTo>
                  <a:pt x="3435" y="16223"/>
                  <a:pt x="3440" y="16246"/>
                  <a:pt x="3473" y="16272"/>
                </a:cubicBezTo>
                <a:cubicBezTo>
                  <a:pt x="3530" y="16316"/>
                  <a:pt x="3530" y="16289"/>
                  <a:pt x="3597" y="16272"/>
                </a:cubicBezTo>
                <a:cubicBezTo>
                  <a:pt x="3633" y="16263"/>
                  <a:pt x="3685" y="16227"/>
                  <a:pt x="3696" y="16222"/>
                </a:cubicBezTo>
                <a:cubicBezTo>
                  <a:pt x="3720" y="16212"/>
                  <a:pt x="3744" y="16204"/>
                  <a:pt x="3770" y="16197"/>
                </a:cubicBezTo>
              </a:path>
              <a:path w="1613" h="597">
                <a:moveTo>
                  <a:pt x="3770" y="16073"/>
                </a:moveTo>
                <a:cubicBezTo>
                  <a:pt x="3770" y="16156"/>
                  <a:pt x="3770" y="16238"/>
                  <a:pt x="3770" y="16321"/>
                </a:cubicBezTo>
                <a:cubicBezTo>
                  <a:pt x="3824" y="16304"/>
                  <a:pt x="3771" y="16290"/>
                  <a:pt x="3795" y="16247"/>
                </a:cubicBezTo>
                <a:cubicBezTo>
                  <a:pt x="3818" y="16206"/>
                  <a:pt x="3836" y="16162"/>
                  <a:pt x="3870" y="16123"/>
                </a:cubicBezTo>
                <a:cubicBezTo>
                  <a:pt x="3902" y="16086"/>
                  <a:pt x="3936" y="16071"/>
                  <a:pt x="3969" y="16049"/>
                </a:cubicBezTo>
                <a:cubicBezTo>
                  <a:pt x="4006" y="16024"/>
                  <a:pt x="3998" y="16024"/>
                  <a:pt x="4043" y="16024"/>
                </a:cubicBezTo>
              </a:path>
              <a:path w="1613" h="597">
                <a:moveTo>
                  <a:pt x="4266" y="16073"/>
                </a:moveTo>
                <a:cubicBezTo>
                  <a:pt x="4223" y="16073"/>
                  <a:pt x="4116" y="16052"/>
                  <a:pt x="4093" y="16098"/>
                </a:cubicBezTo>
                <a:cubicBezTo>
                  <a:pt x="4076" y="16133"/>
                  <a:pt x="4048" y="16163"/>
                  <a:pt x="4018" y="16197"/>
                </a:cubicBezTo>
                <a:cubicBezTo>
                  <a:pt x="3996" y="16220"/>
                  <a:pt x="3988" y="16225"/>
                  <a:pt x="3994" y="16247"/>
                </a:cubicBezTo>
                <a:cubicBezTo>
                  <a:pt x="4025" y="16271"/>
                  <a:pt x="4054" y="16293"/>
                  <a:pt x="4093" y="16297"/>
                </a:cubicBezTo>
                <a:cubicBezTo>
                  <a:pt x="4119" y="16300"/>
                  <a:pt x="4173" y="16259"/>
                  <a:pt x="4192" y="16247"/>
                </a:cubicBezTo>
                <a:cubicBezTo>
                  <a:pt x="4221" y="16227"/>
                  <a:pt x="4256" y="16178"/>
                  <a:pt x="4266" y="16148"/>
                </a:cubicBezTo>
                <a:cubicBezTo>
                  <a:pt x="4280" y="16104"/>
                  <a:pt x="4271" y="16111"/>
                  <a:pt x="4266" y="16148"/>
                </a:cubicBezTo>
                <a:cubicBezTo>
                  <a:pt x="4261" y="16190"/>
                  <a:pt x="4252" y="16267"/>
                  <a:pt x="4291" y="16272"/>
                </a:cubicBezTo>
                <a:cubicBezTo>
                  <a:pt x="4299" y="16272"/>
                  <a:pt x="4308" y="16272"/>
                  <a:pt x="4316" y="16272"/>
                </a:cubicBezTo>
              </a:path>
              <a:path w="1613" h="597">
                <a:moveTo>
                  <a:pt x="4490" y="16049"/>
                </a:moveTo>
                <a:cubicBezTo>
                  <a:pt x="4458" y="16080"/>
                  <a:pt x="4420" y="16104"/>
                  <a:pt x="4415" y="16148"/>
                </a:cubicBezTo>
                <a:cubicBezTo>
                  <a:pt x="4412" y="16172"/>
                  <a:pt x="4415" y="16198"/>
                  <a:pt x="4415" y="16222"/>
                </a:cubicBezTo>
                <a:cubicBezTo>
                  <a:pt x="4461" y="16222"/>
                  <a:pt x="4479" y="16216"/>
                  <a:pt x="4514" y="16247"/>
                </a:cubicBezTo>
                <a:cubicBezTo>
                  <a:pt x="4553" y="16282"/>
                  <a:pt x="4564" y="16295"/>
                  <a:pt x="4564" y="16346"/>
                </a:cubicBezTo>
                <a:cubicBezTo>
                  <a:pt x="4564" y="16383"/>
                  <a:pt x="4521" y="16410"/>
                  <a:pt x="4490" y="16421"/>
                </a:cubicBezTo>
                <a:cubicBezTo>
                  <a:pt x="4465" y="16421"/>
                  <a:pt x="4457" y="16421"/>
                  <a:pt x="4440" y="16421"/>
                </a:cubicBezTo>
                <a:cubicBezTo>
                  <a:pt x="4440" y="16372"/>
                  <a:pt x="4436" y="16359"/>
                  <a:pt x="4465" y="16321"/>
                </a:cubicBezTo>
              </a:path>
              <a:path w="1613" h="597">
                <a:moveTo>
                  <a:pt x="4688" y="15825"/>
                </a:moveTo>
                <a:cubicBezTo>
                  <a:pt x="4726" y="15838"/>
                  <a:pt x="4713" y="15855"/>
                  <a:pt x="4713" y="15900"/>
                </a:cubicBezTo>
                <a:cubicBezTo>
                  <a:pt x="4713" y="16016"/>
                  <a:pt x="4713" y="16131"/>
                  <a:pt x="4713" y="16247"/>
                </a:cubicBezTo>
                <a:cubicBezTo>
                  <a:pt x="4759" y="16247"/>
                  <a:pt x="4777" y="16253"/>
                  <a:pt x="4812" y="16222"/>
                </a:cubicBezTo>
                <a:cubicBezTo>
                  <a:pt x="4834" y="16202"/>
                  <a:pt x="4883" y="16160"/>
                  <a:pt x="4911" y="16148"/>
                </a:cubicBezTo>
                <a:cubicBezTo>
                  <a:pt x="4953" y="16129"/>
                  <a:pt x="4982" y="16161"/>
                  <a:pt x="4986" y="16197"/>
                </a:cubicBezTo>
                <a:cubicBezTo>
                  <a:pt x="4991" y="16245"/>
                  <a:pt x="4986" y="16297"/>
                  <a:pt x="4986" y="16346"/>
                </a:cubicBezTo>
                <a:cubicBezTo>
                  <a:pt x="5035" y="16334"/>
                  <a:pt x="5031" y="16310"/>
                  <a:pt x="5060" y="1627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Ink 46"/>
          <p:cNvSpPr/>
          <p:nvPr/>
        </p:nvSpPr>
        <p:spPr>
          <a:xfrm>
            <a:off x="2089080" y="5742000"/>
            <a:ext cx="716040" cy="374760"/>
          </a:xfrm>
          <a:custGeom>
            <a:avLst/>
            <a:gdLst/>
            <a:ahLst/>
            <a:rect l="l" t="t" r="r" b="b"/>
            <a:pathLst>
              <a:path w="1986" h="1043">
                <a:moveTo>
                  <a:pt x="6102" y="16123"/>
                </a:moveTo>
                <a:cubicBezTo>
                  <a:pt x="6089" y="16085"/>
                  <a:pt x="6073" y="16098"/>
                  <a:pt x="6028" y="16098"/>
                </a:cubicBezTo>
                <a:cubicBezTo>
                  <a:pt x="5992" y="16098"/>
                  <a:pt x="5948" y="16142"/>
                  <a:pt x="5928" y="16173"/>
                </a:cubicBezTo>
                <a:cubicBezTo>
                  <a:pt x="5899" y="16218"/>
                  <a:pt x="5904" y="16248"/>
                  <a:pt x="5904" y="16297"/>
                </a:cubicBezTo>
                <a:cubicBezTo>
                  <a:pt x="5904" y="16338"/>
                  <a:pt x="5938" y="16360"/>
                  <a:pt x="5978" y="16346"/>
                </a:cubicBezTo>
                <a:cubicBezTo>
                  <a:pt x="6064" y="16315"/>
                  <a:pt x="6039" y="16296"/>
                  <a:pt x="6102" y="16247"/>
                </a:cubicBezTo>
                <a:cubicBezTo>
                  <a:pt x="6139" y="16218"/>
                  <a:pt x="6152" y="16234"/>
                  <a:pt x="6152" y="16173"/>
                </a:cubicBezTo>
                <a:cubicBezTo>
                  <a:pt x="6152" y="16165"/>
                  <a:pt x="6152" y="16156"/>
                  <a:pt x="6152" y="16148"/>
                </a:cubicBezTo>
                <a:cubicBezTo>
                  <a:pt x="6152" y="16276"/>
                  <a:pt x="6142" y="16399"/>
                  <a:pt x="6127" y="16520"/>
                </a:cubicBezTo>
                <a:cubicBezTo>
                  <a:pt x="6115" y="16613"/>
                  <a:pt x="6095" y="16676"/>
                  <a:pt x="6077" y="16768"/>
                </a:cubicBezTo>
                <a:cubicBezTo>
                  <a:pt x="6066" y="16827"/>
                  <a:pt x="6066" y="16895"/>
                  <a:pt x="6028" y="16942"/>
                </a:cubicBezTo>
                <a:cubicBezTo>
                  <a:pt x="6013" y="16960"/>
                  <a:pt x="5951" y="16998"/>
                  <a:pt x="5928" y="16991"/>
                </a:cubicBezTo>
                <a:cubicBezTo>
                  <a:pt x="5839" y="16965"/>
                  <a:pt x="5852" y="16910"/>
                  <a:pt x="5829" y="16842"/>
                </a:cubicBezTo>
                <a:cubicBezTo>
                  <a:pt x="5817" y="16805"/>
                  <a:pt x="5788" y="16761"/>
                  <a:pt x="5804" y="16718"/>
                </a:cubicBezTo>
                <a:cubicBezTo>
                  <a:pt x="5824" y="16663"/>
                  <a:pt x="5862" y="16653"/>
                  <a:pt x="5904" y="16619"/>
                </a:cubicBezTo>
              </a:path>
              <a:path w="1986" h="1043">
                <a:moveTo>
                  <a:pt x="6400" y="16173"/>
                </a:moveTo>
                <a:cubicBezTo>
                  <a:pt x="6390" y="16212"/>
                  <a:pt x="6375" y="16227"/>
                  <a:pt x="6375" y="16272"/>
                </a:cubicBezTo>
                <a:cubicBezTo>
                  <a:pt x="6375" y="16326"/>
                  <a:pt x="6363" y="16308"/>
                  <a:pt x="6350" y="16346"/>
                </a:cubicBezTo>
                <a:cubicBezTo>
                  <a:pt x="6375" y="16321"/>
                  <a:pt x="6383" y="16313"/>
                  <a:pt x="6400" y="16297"/>
                </a:cubicBezTo>
              </a:path>
              <a:path w="1986" h="1043">
                <a:moveTo>
                  <a:pt x="6424" y="15949"/>
                </a:moveTo>
                <a:cubicBezTo>
                  <a:pt x="6449" y="15974"/>
                  <a:pt x="6457" y="15982"/>
                  <a:pt x="6424" y="15949"/>
                </a:cubicBezTo>
              </a:path>
              <a:path w="1986" h="1043">
                <a:moveTo>
                  <a:pt x="6424" y="15949"/>
                </a:moveTo>
                <a:cubicBezTo>
                  <a:pt x="6496" y="16103"/>
                  <a:pt x="6501" y="16168"/>
                  <a:pt x="6548" y="16272"/>
                </a:cubicBezTo>
                <a:cubicBezTo>
                  <a:pt x="6560" y="16298"/>
                  <a:pt x="6583" y="16350"/>
                  <a:pt x="6598" y="16371"/>
                </a:cubicBezTo>
                <a:cubicBezTo>
                  <a:pt x="6604" y="16380"/>
                  <a:pt x="6639" y="16387"/>
                  <a:pt x="6648" y="16396"/>
                </a:cubicBezTo>
                <a:cubicBezTo>
                  <a:pt x="6658" y="16382"/>
                  <a:pt x="6713" y="16332"/>
                  <a:pt x="6722" y="16297"/>
                </a:cubicBezTo>
                <a:cubicBezTo>
                  <a:pt x="6736" y="16244"/>
                  <a:pt x="6743" y="16206"/>
                  <a:pt x="6747" y="16148"/>
                </a:cubicBezTo>
                <a:cubicBezTo>
                  <a:pt x="6747" y="16140"/>
                  <a:pt x="6747" y="16131"/>
                  <a:pt x="6747" y="16123"/>
                </a:cubicBezTo>
                <a:cubicBezTo>
                  <a:pt x="6763" y="16139"/>
                  <a:pt x="6792" y="16168"/>
                  <a:pt x="6821" y="16197"/>
                </a:cubicBezTo>
                <a:cubicBezTo>
                  <a:pt x="6867" y="16243"/>
                  <a:pt x="6879" y="16268"/>
                  <a:pt x="6945" y="16272"/>
                </a:cubicBezTo>
                <a:cubicBezTo>
                  <a:pt x="6986" y="16274"/>
                  <a:pt x="7073" y="16292"/>
                  <a:pt x="7094" y="16247"/>
                </a:cubicBezTo>
                <a:cubicBezTo>
                  <a:pt x="7113" y="16205"/>
                  <a:pt x="7092" y="16127"/>
                  <a:pt x="7069" y="16098"/>
                </a:cubicBezTo>
                <a:cubicBezTo>
                  <a:pt x="7041" y="16063"/>
                  <a:pt x="6997" y="16073"/>
                  <a:pt x="6970" y="16098"/>
                </a:cubicBezTo>
                <a:cubicBezTo>
                  <a:pt x="6944" y="16122"/>
                  <a:pt x="6947" y="16184"/>
                  <a:pt x="6945" y="16222"/>
                </a:cubicBezTo>
                <a:cubicBezTo>
                  <a:pt x="6943" y="16269"/>
                  <a:pt x="6941" y="16286"/>
                  <a:pt x="6970" y="16321"/>
                </a:cubicBezTo>
                <a:cubicBezTo>
                  <a:pt x="6994" y="16351"/>
                  <a:pt x="7055" y="16378"/>
                  <a:pt x="7094" y="16371"/>
                </a:cubicBezTo>
                <a:cubicBezTo>
                  <a:pt x="7142" y="16362"/>
                  <a:pt x="7182" y="16350"/>
                  <a:pt x="7218" y="16321"/>
                </a:cubicBezTo>
                <a:cubicBezTo>
                  <a:pt x="7260" y="16287"/>
                  <a:pt x="7299" y="16254"/>
                  <a:pt x="7342" y="16222"/>
                </a:cubicBezTo>
                <a:cubicBezTo>
                  <a:pt x="7342" y="16197"/>
                  <a:pt x="7342" y="16189"/>
                  <a:pt x="7367" y="16197"/>
                </a:cubicBezTo>
                <a:cubicBezTo>
                  <a:pt x="7390" y="16220"/>
                  <a:pt x="7406" y="16207"/>
                  <a:pt x="7417" y="16247"/>
                </a:cubicBezTo>
                <a:cubicBezTo>
                  <a:pt x="7427" y="16282"/>
                  <a:pt x="7417" y="16335"/>
                  <a:pt x="7417" y="16371"/>
                </a:cubicBezTo>
                <a:cubicBezTo>
                  <a:pt x="7438" y="16318"/>
                  <a:pt x="7449" y="16289"/>
                  <a:pt x="7491" y="16247"/>
                </a:cubicBezTo>
                <a:cubicBezTo>
                  <a:pt x="7530" y="16208"/>
                  <a:pt x="7534" y="16162"/>
                  <a:pt x="7565" y="16123"/>
                </a:cubicBezTo>
                <a:cubicBezTo>
                  <a:pt x="7590" y="16098"/>
                  <a:pt x="7598" y="16090"/>
                  <a:pt x="7615" y="16073"/>
                </a:cubicBezTo>
                <a:cubicBezTo>
                  <a:pt x="7632" y="16090"/>
                  <a:pt x="7649" y="16118"/>
                  <a:pt x="7665" y="16148"/>
                </a:cubicBezTo>
                <a:cubicBezTo>
                  <a:pt x="7680" y="16177"/>
                  <a:pt x="7675" y="16219"/>
                  <a:pt x="7689" y="16247"/>
                </a:cubicBezTo>
                <a:cubicBezTo>
                  <a:pt x="7694" y="16257"/>
                  <a:pt x="7738" y="16345"/>
                  <a:pt x="7739" y="16346"/>
                </a:cubicBezTo>
                <a:cubicBezTo>
                  <a:pt x="7764" y="16346"/>
                  <a:pt x="7772" y="16346"/>
                  <a:pt x="7789" y="1634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Ink 47"/>
          <p:cNvSpPr/>
          <p:nvPr/>
        </p:nvSpPr>
        <p:spPr>
          <a:xfrm>
            <a:off x="3321000" y="5776920"/>
            <a:ext cx="287280" cy="135000"/>
          </a:xfrm>
          <a:custGeom>
            <a:avLst/>
            <a:gdLst/>
            <a:ahLst/>
            <a:rect l="l" t="t" r="r" b="b"/>
            <a:pathLst>
              <a:path w="795" h="373">
                <a:moveTo>
                  <a:pt x="9401" y="16073"/>
                </a:moveTo>
                <a:cubicBezTo>
                  <a:pt x="9376" y="16073"/>
                  <a:pt x="9368" y="16073"/>
                  <a:pt x="9376" y="16049"/>
                </a:cubicBezTo>
                <a:cubicBezTo>
                  <a:pt x="9364" y="16083"/>
                  <a:pt x="9322" y="16079"/>
                  <a:pt x="9302" y="16123"/>
                </a:cubicBezTo>
                <a:cubicBezTo>
                  <a:pt x="9294" y="16141"/>
                  <a:pt x="9258" y="16163"/>
                  <a:pt x="9277" y="16197"/>
                </a:cubicBezTo>
                <a:cubicBezTo>
                  <a:pt x="9292" y="16223"/>
                  <a:pt x="9350" y="16244"/>
                  <a:pt x="9376" y="16247"/>
                </a:cubicBezTo>
                <a:cubicBezTo>
                  <a:pt x="9424" y="16252"/>
                  <a:pt x="9453" y="16293"/>
                  <a:pt x="9475" y="16321"/>
                </a:cubicBezTo>
                <a:cubicBezTo>
                  <a:pt x="9483" y="16329"/>
                  <a:pt x="9492" y="16338"/>
                  <a:pt x="9500" y="16346"/>
                </a:cubicBezTo>
                <a:cubicBezTo>
                  <a:pt x="9495" y="16362"/>
                  <a:pt x="9477" y="16408"/>
                  <a:pt x="9451" y="16421"/>
                </a:cubicBezTo>
                <a:cubicBezTo>
                  <a:pt x="9400" y="16447"/>
                  <a:pt x="9316" y="16409"/>
                  <a:pt x="9277" y="16396"/>
                </a:cubicBezTo>
                <a:cubicBezTo>
                  <a:pt x="9237" y="16383"/>
                  <a:pt x="9267" y="16384"/>
                  <a:pt x="9227" y="16371"/>
                </a:cubicBezTo>
                <a:cubicBezTo>
                  <a:pt x="9269" y="16340"/>
                  <a:pt x="9305" y="16354"/>
                  <a:pt x="9327" y="16321"/>
                </a:cubicBezTo>
              </a:path>
              <a:path w="795" h="373">
                <a:moveTo>
                  <a:pt x="9748" y="16247"/>
                </a:moveTo>
                <a:cubicBezTo>
                  <a:pt x="9699" y="16284"/>
                  <a:pt x="9699" y="16277"/>
                  <a:pt x="9699" y="16346"/>
                </a:cubicBezTo>
                <a:cubicBezTo>
                  <a:pt x="9699" y="16392"/>
                  <a:pt x="9781" y="16393"/>
                  <a:pt x="9823" y="16396"/>
                </a:cubicBezTo>
                <a:cubicBezTo>
                  <a:pt x="9872" y="16400"/>
                  <a:pt x="9909" y="16402"/>
                  <a:pt x="9947" y="16371"/>
                </a:cubicBezTo>
                <a:cubicBezTo>
                  <a:pt x="9975" y="16348"/>
                  <a:pt x="10010" y="16304"/>
                  <a:pt x="10021" y="16272"/>
                </a:cubicBezTo>
                <a:cubicBezTo>
                  <a:pt x="10039" y="16218"/>
                  <a:pt x="9992" y="16188"/>
                  <a:pt x="9947" y="16173"/>
                </a:cubicBezTo>
                <a:cubicBezTo>
                  <a:pt x="9887" y="16154"/>
                  <a:pt x="9820" y="16183"/>
                  <a:pt x="9773" y="16197"/>
                </a:cubicBezTo>
                <a:cubicBezTo>
                  <a:pt x="9737" y="16207"/>
                  <a:pt x="9748" y="16205"/>
                  <a:pt x="9748" y="16247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Ink 48"/>
          <p:cNvSpPr/>
          <p:nvPr/>
        </p:nvSpPr>
        <p:spPr>
          <a:xfrm>
            <a:off x="4295880" y="5670720"/>
            <a:ext cx="615960" cy="276120"/>
          </a:xfrm>
          <a:custGeom>
            <a:avLst/>
            <a:gdLst/>
            <a:ahLst/>
            <a:rect l="l" t="t" r="r" b="b"/>
            <a:pathLst>
              <a:path w="1713" h="770">
                <a:moveTo>
                  <a:pt x="12030" y="16098"/>
                </a:moveTo>
                <a:cubicBezTo>
                  <a:pt x="12001" y="16146"/>
                  <a:pt x="11986" y="16189"/>
                  <a:pt x="11981" y="16247"/>
                </a:cubicBezTo>
                <a:cubicBezTo>
                  <a:pt x="11976" y="16304"/>
                  <a:pt x="11971" y="16326"/>
                  <a:pt x="11956" y="16371"/>
                </a:cubicBezTo>
                <a:cubicBezTo>
                  <a:pt x="11942" y="16414"/>
                  <a:pt x="11962" y="16405"/>
                  <a:pt x="11931" y="16446"/>
                </a:cubicBezTo>
                <a:cubicBezTo>
                  <a:pt x="11971" y="16433"/>
                  <a:pt x="11963" y="16392"/>
                  <a:pt x="11981" y="16346"/>
                </a:cubicBezTo>
                <a:cubicBezTo>
                  <a:pt x="12008" y="16278"/>
                  <a:pt x="12033" y="16213"/>
                  <a:pt x="12055" y="16148"/>
                </a:cubicBezTo>
                <a:cubicBezTo>
                  <a:pt x="12074" y="16091"/>
                  <a:pt x="12118" y="16022"/>
                  <a:pt x="12154" y="15974"/>
                </a:cubicBezTo>
                <a:cubicBezTo>
                  <a:pt x="12172" y="15949"/>
                  <a:pt x="12225" y="15909"/>
                  <a:pt x="12229" y="15900"/>
                </a:cubicBezTo>
                <a:cubicBezTo>
                  <a:pt x="12229" y="15875"/>
                  <a:pt x="12229" y="15867"/>
                  <a:pt x="12254" y="15875"/>
                </a:cubicBezTo>
                <a:cubicBezTo>
                  <a:pt x="12278" y="15908"/>
                  <a:pt x="12299" y="15921"/>
                  <a:pt x="12303" y="15949"/>
                </a:cubicBezTo>
                <a:cubicBezTo>
                  <a:pt x="12310" y="16005"/>
                  <a:pt x="12293" y="16029"/>
                  <a:pt x="12278" y="16073"/>
                </a:cubicBezTo>
                <a:cubicBezTo>
                  <a:pt x="12264" y="16116"/>
                  <a:pt x="12221" y="16098"/>
                  <a:pt x="12179" y="16123"/>
                </a:cubicBezTo>
                <a:cubicBezTo>
                  <a:pt x="12155" y="16138"/>
                  <a:pt x="12081" y="16173"/>
                  <a:pt x="12080" y="16173"/>
                </a:cubicBezTo>
                <a:cubicBezTo>
                  <a:pt x="12038" y="16173"/>
                  <a:pt x="12030" y="16173"/>
                  <a:pt x="12005" y="16173"/>
                </a:cubicBezTo>
                <a:cubicBezTo>
                  <a:pt x="12041" y="16146"/>
                  <a:pt x="12058" y="16143"/>
                  <a:pt x="12105" y="16123"/>
                </a:cubicBezTo>
              </a:path>
              <a:path w="1713" h="770">
                <a:moveTo>
                  <a:pt x="12774" y="15751"/>
                </a:moveTo>
                <a:cubicBezTo>
                  <a:pt x="12722" y="15751"/>
                  <a:pt x="12722" y="15746"/>
                  <a:pt x="12700" y="15776"/>
                </a:cubicBezTo>
                <a:cubicBezTo>
                  <a:pt x="12668" y="15818"/>
                  <a:pt x="12636" y="15850"/>
                  <a:pt x="12626" y="15900"/>
                </a:cubicBezTo>
                <a:cubicBezTo>
                  <a:pt x="12614" y="15963"/>
                  <a:pt x="12611" y="16037"/>
                  <a:pt x="12601" y="16098"/>
                </a:cubicBezTo>
                <a:cubicBezTo>
                  <a:pt x="12588" y="16180"/>
                  <a:pt x="12607" y="16247"/>
                  <a:pt x="12626" y="16321"/>
                </a:cubicBezTo>
                <a:cubicBezTo>
                  <a:pt x="12638" y="16367"/>
                  <a:pt x="12649" y="16376"/>
                  <a:pt x="12675" y="16396"/>
                </a:cubicBezTo>
                <a:cubicBezTo>
                  <a:pt x="12712" y="16424"/>
                  <a:pt x="12718" y="16435"/>
                  <a:pt x="12750" y="16446"/>
                </a:cubicBezTo>
                <a:cubicBezTo>
                  <a:pt x="12785" y="16419"/>
                  <a:pt x="12818" y="16421"/>
                  <a:pt x="12824" y="16371"/>
                </a:cubicBezTo>
                <a:cubicBezTo>
                  <a:pt x="12824" y="16363"/>
                  <a:pt x="12824" y="16354"/>
                  <a:pt x="12824" y="16346"/>
                </a:cubicBezTo>
              </a:path>
              <a:path w="1713" h="770">
                <a:moveTo>
                  <a:pt x="13047" y="15900"/>
                </a:moveTo>
                <a:cubicBezTo>
                  <a:pt x="13047" y="15962"/>
                  <a:pt x="13037" y="15990"/>
                  <a:pt x="13022" y="16049"/>
                </a:cubicBezTo>
                <a:cubicBezTo>
                  <a:pt x="13013" y="16083"/>
                  <a:pt x="13001" y="16115"/>
                  <a:pt x="12998" y="16148"/>
                </a:cubicBezTo>
                <a:cubicBezTo>
                  <a:pt x="12992" y="16204"/>
                  <a:pt x="12998" y="16264"/>
                  <a:pt x="12998" y="16321"/>
                </a:cubicBezTo>
                <a:cubicBezTo>
                  <a:pt x="13043" y="16321"/>
                  <a:pt x="13057" y="16301"/>
                  <a:pt x="13097" y="16297"/>
                </a:cubicBezTo>
                <a:cubicBezTo>
                  <a:pt x="13145" y="16292"/>
                  <a:pt x="13197" y="16297"/>
                  <a:pt x="13246" y="16297"/>
                </a:cubicBezTo>
                <a:cubicBezTo>
                  <a:pt x="13257" y="16264"/>
                  <a:pt x="13259" y="16275"/>
                  <a:pt x="13295" y="16247"/>
                </a:cubicBezTo>
              </a:path>
              <a:path w="1713" h="770">
                <a:moveTo>
                  <a:pt x="13444" y="15776"/>
                </a:moveTo>
                <a:cubicBezTo>
                  <a:pt x="13475" y="15806"/>
                  <a:pt x="13529" y="15809"/>
                  <a:pt x="13543" y="15850"/>
                </a:cubicBezTo>
                <a:cubicBezTo>
                  <a:pt x="13562" y="15903"/>
                  <a:pt x="13574" y="15946"/>
                  <a:pt x="13593" y="15999"/>
                </a:cubicBezTo>
                <a:cubicBezTo>
                  <a:pt x="13615" y="16061"/>
                  <a:pt x="13638" y="16106"/>
                  <a:pt x="13643" y="16173"/>
                </a:cubicBezTo>
                <a:cubicBezTo>
                  <a:pt x="13649" y="16249"/>
                  <a:pt x="13634" y="16301"/>
                  <a:pt x="13618" y="16371"/>
                </a:cubicBezTo>
                <a:cubicBezTo>
                  <a:pt x="13607" y="16420"/>
                  <a:pt x="13562" y="16427"/>
                  <a:pt x="13543" y="16470"/>
                </a:cubicBezTo>
                <a:cubicBezTo>
                  <a:pt x="13521" y="16520"/>
                  <a:pt x="13495" y="16463"/>
                  <a:pt x="13469" y="16495"/>
                </a:cubicBezTo>
                <a:cubicBezTo>
                  <a:pt x="13455" y="16513"/>
                  <a:pt x="13474" y="16486"/>
                  <a:pt x="13519" y="16470"/>
                </a:cubicBezTo>
                <a:cubicBezTo>
                  <a:pt x="13568" y="16446"/>
                  <a:pt x="13585" y="16437"/>
                  <a:pt x="13593" y="1639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Ink 49"/>
          <p:cNvSpPr/>
          <p:nvPr/>
        </p:nvSpPr>
        <p:spPr>
          <a:xfrm>
            <a:off x="5062680" y="5776920"/>
            <a:ext cx="13464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14114" y="16049"/>
                </a:moveTo>
                <a:cubicBezTo>
                  <a:pt x="14205" y="16049"/>
                  <a:pt x="14296" y="16049"/>
                  <a:pt x="14387" y="16049"/>
                </a:cubicBezTo>
                <a:cubicBezTo>
                  <a:pt x="14387" y="16073"/>
                  <a:pt x="14387" y="16081"/>
                  <a:pt x="14362" y="16073"/>
                </a:cubicBezTo>
              </a:path>
              <a:path w="373" h="224">
                <a:moveTo>
                  <a:pt x="14064" y="16222"/>
                </a:moveTo>
                <a:cubicBezTo>
                  <a:pt x="14089" y="16222"/>
                  <a:pt x="14097" y="16222"/>
                  <a:pt x="14114" y="16222"/>
                </a:cubicBezTo>
                <a:cubicBezTo>
                  <a:pt x="14136" y="16256"/>
                  <a:pt x="14162" y="16247"/>
                  <a:pt x="14213" y="16247"/>
                </a:cubicBezTo>
                <a:cubicBezTo>
                  <a:pt x="14270" y="16247"/>
                  <a:pt x="14291" y="16257"/>
                  <a:pt x="14337" y="16272"/>
                </a:cubicBezTo>
                <a:cubicBezTo>
                  <a:pt x="14363" y="16281"/>
                  <a:pt x="14408" y="16272"/>
                  <a:pt x="14436" y="1627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Ink 50"/>
          <p:cNvSpPr/>
          <p:nvPr/>
        </p:nvSpPr>
        <p:spPr>
          <a:xfrm>
            <a:off x="5402160" y="5796000"/>
            <a:ext cx="750960" cy="177840"/>
          </a:xfrm>
          <a:custGeom>
            <a:avLst/>
            <a:gdLst/>
            <a:ahLst/>
            <a:rect l="l" t="t" r="r" b="b"/>
            <a:pathLst>
              <a:path w="2084" h="497">
                <a:moveTo>
                  <a:pt x="15106" y="16173"/>
                </a:moveTo>
                <a:cubicBezTo>
                  <a:pt x="15154" y="16173"/>
                  <a:pt x="15096" y="16186"/>
                  <a:pt x="15081" y="16197"/>
                </a:cubicBezTo>
                <a:cubicBezTo>
                  <a:pt x="15072" y="16204"/>
                  <a:pt x="15009" y="16265"/>
                  <a:pt x="15007" y="16272"/>
                </a:cubicBezTo>
                <a:cubicBezTo>
                  <a:pt x="14990" y="16326"/>
                  <a:pt x="14998" y="16456"/>
                  <a:pt x="15032" y="16495"/>
                </a:cubicBezTo>
                <a:cubicBezTo>
                  <a:pt x="15069" y="16537"/>
                  <a:pt x="15127" y="16520"/>
                  <a:pt x="15180" y="16520"/>
                </a:cubicBezTo>
                <a:cubicBezTo>
                  <a:pt x="15227" y="16520"/>
                  <a:pt x="15317" y="16518"/>
                  <a:pt x="15354" y="16495"/>
                </a:cubicBezTo>
                <a:cubicBezTo>
                  <a:pt x="15398" y="16469"/>
                  <a:pt x="15441" y="16408"/>
                  <a:pt x="15478" y="16371"/>
                </a:cubicBezTo>
                <a:cubicBezTo>
                  <a:pt x="15515" y="16334"/>
                  <a:pt x="15503" y="16298"/>
                  <a:pt x="15503" y="16247"/>
                </a:cubicBezTo>
                <a:cubicBezTo>
                  <a:pt x="15503" y="16193"/>
                  <a:pt x="15491" y="16187"/>
                  <a:pt x="15453" y="16148"/>
                </a:cubicBezTo>
                <a:cubicBezTo>
                  <a:pt x="15414" y="16108"/>
                  <a:pt x="15382" y="16098"/>
                  <a:pt x="15329" y="16098"/>
                </a:cubicBezTo>
                <a:cubicBezTo>
                  <a:pt x="15271" y="16098"/>
                  <a:pt x="15223" y="16084"/>
                  <a:pt x="15180" y="16123"/>
                </a:cubicBezTo>
                <a:cubicBezTo>
                  <a:pt x="15148" y="16152"/>
                  <a:pt x="15111" y="16181"/>
                  <a:pt x="15106" y="16222"/>
                </a:cubicBezTo>
                <a:cubicBezTo>
                  <a:pt x="15101" y="16268"/>
                  <a:pt x="15105" y="16287"/>
                  <a:pt x="15131" y="16321"/>
                </a:cubicBezTo>
              </a:path>
              <a:path w="2084" h="497">
                <a:moveTo>
                  <a:pt x="15726" y="16321"/>
                </a:moveTo>
                <a:cubicBezTo>
                  <a:pt x="15713" y="16361"/>
                  <a:pt x="15714" y="16331"/>
                  <a:pt x="15701" y="16371"/>
                </a:cubicBezTo>
                <a:cubicBezTo>
                  <a:pt x="15717" y="16404"/>
                  <a:pt x="15763" y="16381"/>
                  <a:pt x="15751" y="16346"/>
                </a:cubicBezTo>
                <a:cubicBezTo>
                  <a:pt x="15743" y="16338"/>
                  <a:pt x="15734" y="16329"/>
                  <a:pt x="15726" y="16321"/>
                </a:cubicBezTo>
              </a:path>
              <a:path w="2084" h="497">
                <a:moveTo>
                  <a:pt x="16173" y="16148"/>
                </a:moveTo>
                <a:cubicBezTo>
                  <a:pt x="16150" y="16156"/>
                  <a:pt x="16125" y="16179"/>
                  <a:pt x="16098" y="16197"/>
                </a:cubicBezTo>
                <a:cubicBezTo>
                  <a:pt x="16040" y="16235"/>
                  <a:pt x="16048" y="16273"/>
                  <a:pt x="16024" y="16321"/>
                </a:cubicBezTo>
                <a:cubicBezTo>
                  <a:pt x="15998" y="16372"/>
                  <a:pt x="15982" y="16385"/>
                  <a:pt x="16024" y="16446"/>
                </a:cubicBezTo>
                <a:cubicBezTo>
                  <a:pt x="16057" y="16495"/>
                  <a:pt x="16093" y="16517"/>
                  <a:pt x="16148" y="16520"/>
                </a:cubicBezTo>
                <a:cubicBezTo>
                  <a:pt x="16230" y="16525"/>
                  <a:pt x="16295" y="16513"/>
                  <a:pt x="16371" y="16495"/>
                </a:cubicBezTo>
                <a:cubicBezTo>
                  <a:pt x="16415" y="16485"/>
                  <a:pt x="16436" y="16455"/>
                  <a:pt x="16470" y="16421"/>
                </a:cubicBezTo>
                <a:cubicBezTo>
                  <a:pt x="16506" y="16384"/>
                  <a:pt x="16495" y="16348"/>
                  <a:pt x="16495" y="16297"/>
                </a:cubicBezTo>
                <a:cubicBezTo>
                  <a:pt x="16495" y="16271"/>
                  <a:pt x="16494" y="16182"/>
                  <a:pt x="16470" y="16173"/>
                </a:cubicBezTo>
                <a:cubicBezTo>
                  <a:pt x="16433" y="16160"/>
                  <a:pt x="16357" y="16152"/>
                  <a:pt x="16321" y="16148"/>
                </a:cubicBezTo>
                <a:cubicBezTo>
                  <a:pt x="16305" y="16146"/>
                  <a:pt x="16197" y="16141"/>
                  <a:pt x="16272" y="16173"/>
                </a:cubicBezTo>
                <a:cubicBezTo>
                  <a:pt x="16297" y="16173"/>
                  <a:pt x="16305" y="16173"/>
                  <a:pt x="16297" y="16197"/>
                </a:cubicBezTo>
              </a:path>
              <a:path w="2084" h="497">
                <a:moveTo>
                  <a:pt x="16842" y="16098"/>
                </a:moveTo>
                <a:cubicBezTo>
                  <a:pt x="16925" y="16098"/>
                  <a:pt x="17007" y="16098"/>
                  <a:pt x="17090" y="16098"/>
                </a:cubicBezTo>
              </a:path>
              <a:path w="2084" h="497">
                <a:moveTo>
                  <a:pt x="16867" y="16123"/>
                </a:moveTo>
                <a:cubicBezTo>
                  <a:pt x="16867" y="16196"/>
                  <a:pt x="16845" y="16143"/>
                  <a:pt x="16818" y="16197"/>
                </a:cubicBezTo>
                <a:cubicBezTo>
                  <a:pt x="16805" y="16223"/>
                  <a:pt x="16747" y="16284"/>
                  <a:pt x="16768" y="16321"/>
                </a:cubicBezTo>
                <a:cubicBezTo>
                  <a:pt x="16789" y="16358"/>
                  <a:pt x="16831" y="16346"/>
                  <a:pt x="16867" y="16346"/>
                </a:cubicBezTo>
                <a:cubicBezTo>
                  <a:pt x="16924" y="16346"/>
                  <a:pt x="16945" y="16356"/>
                  <a:pt x="16991" y="16371"/>
                </a:cubicBezTo>
                <a:cubicBezTo>
                  <a:pt x="17029" y="16384"/>
                  <a:pt x="17016" y="16401"/>
                  <a:pt x="17016" y="16446"/>
                </a:cubicBezTo>
                <a:cubicBezTo>
                  <a:pt x="17016" y="16498"/>
                  <a:pt x="17021" y="16498"/>
                  <a:pt x="16991" y="16520"/>
                </a:cubicBezTo>
                <a:cubicBezTo>
                  <a:pt x="16941" y="16557"/>
                  <a:pt x="16975" y="16580"/>
                  <a:pt x="16892" y="16594"/>
                </a:cubicBezTo>
                <a:cubicBezTo>
                  <a:pt x="16823" y="16606"/>
                  <a:pt x="16752" y="16587"/>
                  <a:pt x="16718" y="16570"/>
                </a:cubicBezTo>
                <a:cubicBezTo>
                  <a:pt x="16694" y="16570"/>
                  <a:pt x="16685" y="16570"/>
                  <a:pt x="16669" y="1657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Ink 51"/>
          <p:cNvSpPr/>
          <p:nvPr/>
        </p:nvSpPr>
        <p:spPr>
          <a:xfrm>
            <a:off x="1544760" y="647388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4514" y="18083"/>
                </a:moveTo>
                <a:cubicBezTo>
                  <a:pt x="4514" y="18107"/>
                  <a:pt x="4514" y="18116"/>
                  <a:pt x="4514" y="18132"/>
                </a:cubicBezTo>
                <a:cubicBezTo>
                  <a:pt x="4480" y="18144"/>
                  <a:pt x="4474" y="18193"/>
                  <a:pt x="4440" y="18231"/>
                </a:cubicBezTo>
                <a:cubicBezTo>
                  <a:pt x="4420" y="18253"/>
                  <a:pt x="4379" y="18302"/>
                  <a:pt x="4366" y="18331"/>
                </a:cubicBezTo>
                <a:cubicBezTo>
                  <a:pt x="4366" y="18339"/>
                  <a:pt x="4366" y="18347"/>
                  <a:pt x="4366" y="18355"/>
                </a:cubicBezTo>
                <a:cubicBezTo>
                  <a:pt x="4326" y="18368"/>
                  <a:pt x="4356" y="18367"/>
                  <a:pt x="4316" y="18380"/>
                </a:cubicBezTo>
                <a:cubicBezTo>
                  <a:pt x="4304" y="18416"/>
                  <a:pt x="4303" y="18416"/>
                  <a:pt x="4291" y="18380"/>
                </a:cubicBezTo>
              </a:path>
              <a:path w="348" h="423">
                <a:moveTo>
                  <a:pt x="4316" y="18033"/>
                </a:moveTo>
                <a:cubicBezTo>
                  <a:pt x="4324" y="18033"/>
                  <a:pt x="4333" y="18033"/>
                  <a:pt x="4341" y="18033"/>
                </a:cubicBezTo>
                <a:cubicBezTo>
                  <a:pt x="4348" y="18062"/>
                  <a:pt x="4358" y="18078"/>
                  <a:pt x="4366" y="18107"/>
                </a:cubicBezTo>
                <a:cubicBezTo>
                  <a:pt x="4411" y="18119"/>
                  <a:pt x="4429" y="18137"/>
                  <a:pt x="4440" y="18182"/>
                </a:cubicBezTo>
                <a:cubicBezTo>
                  <a:pt x="4458" y="18188"/>
                  <a:pt x="4500" y="18225"/>
                  <a:pt x="4514" y="18256"/>
                </a:cubicBezTo>
                <a:cubicBezTo>
                  <a:pt x="4528" y="18289"/>
                  <a:pt x="4526" y="18278"/>
                  <a:pt x="4564" y="18306"/>
                </a:cubicBezTo>
              </a:path>
              <a:path w="348" h="423">
                <a:moveTo>
                  <a:pt x="4440" y="17983"/>
                </a:moveTo>
                <a:cubicBezTo>
                  <a:pt x="4411" y="18021"/>
                  <a:pt x="4415" y="18034"/>
                  <a:pt x="4415" y="18083"/>
                </a:cubicBezTo>
                <a:cubicBezTo>
                  <a:pt x="4415" y="18135"/>
                  <a:pt x="4379" y="18166"/>
                  <a:pt x="4366" y="18207"/>
                </a:cubicBezTo>
                <a:cubicBezTo>
                  <a:pt x="4355" y="18241"/>
                  <a:pt x="4360" y="18277"/>
                  <a:pt x="4341" y="18306"/>
                </a:cubicBezTo>
                <a:cubicBezTo>
                  <a:pt x="4317" y="18342"/>
                  <a:pt x="4322" y="18345"/>
                  <a:pt x="4291" y="18355"/>
                </a:cubicBezTo>
              </a:path>
              <a:path w="348" h="423">
                <a:moveTo>
                  <a:pt x="4316" y="18256"/>
                </a:moveTo>
                <a:cubicBezTo>
                  <a:pt x="4368" y="18256"/>
                  <a:pt x="4398" y="18244"/>
                  <a:pt x="4440" y="18231"/>
                </a:cubicBezTo>
                <a:cubicBezTo>
                  <a:pt x="4498" y="18213"/>
                  <a:pt x="4619" y="18264"/>
                  <a:pt x="4638" y="1820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Ink 52"/>
          <p:cNvSpPr/>
          <p:nvPr/>
        </p:nvSpPr>
        <p:spPr>
          <a:xfrm>
            <a:off x="2116080" y="6483240"/>
            <a:ext cx="642960" cy="196920"/>
          </a:xfrm>
          <a:custGeom>
            <a:avLst/>
            <a:gdLst/>
            <a:ahLst/>
            <a:rect l="l" t="t" r="r" b="b"/>
            <a:pathLst>
              <a:path w="1787" h="547">
                <a:moveTo>
                  <a:pt x="6052" y="18157"/>
                </a:moveTo>
                <a:cubicBezTo>
                  <a:pt x="6000" y="18157"/>
                  <a:pt x="6000" y="18152"/>
                  <a:pt x="5978" y="18182"/>
                </a:cubicBezTo>
                <a:cubicBezTo>
                  <a:pt x="5950" y="18219"/>
                  <a:pt x="5908" y="18221"/>
                  <a:pt x="5904" y="18256"/>
                </a:cubicBezTo>
                <a:cubicBezTo>
                  <a:pt x="5898" y="18308"/>
                  <a:pt x="5884" y="18293"/>
                  <a:pt x="5879" y="18331"/>
                </a:cubicBezTo>
                <a:cubicBezTo>
                  <a:pt x="5872" y="18382"/>
                  <a:pt x="5895" y="18386"/>
                  <a:pt x="5904" y="18405"/>
                </a:cubicBezTo>
                <a:cubicBezTo>
                  <a:pt x="5916" y="18429"/>
                  <a:pt x="5949" y="18472"/>
                  <a:pt x="5953" y="18479"/>
                </a:cubicBezTo>
                <a:cubicBezTo>
                  <a:pt x="5963" y="18499"/>
                  <a:pt x="6020" y="18527"/>
                  <a:pt x="6028" y="18529"/>
                </a:cubicBezTo>
                <a:cubicBezTo>
                  <a:pt x="6089" y="18545"/>
                  <a:pt x="6146" y="18493"/>
                  <a:pt x="6201" y="18479"/>
                </a:cubicBezTo>
                <a:cubicBezTo>
                  <a:pt x="6244" y="18468"/>
                  <a:pt x="6248" y="18477"/>
                  <a:pt x="6276" y="18455"/>
                </a:cubicBezTo>
                <a:cubicBezTo>
                  <a:pt x="6298" y="18432"/>
                  <a:pt x="6303" y="18424"/>
                  <a:pt x="6325" y="18430"/>
                </a:cubicBezTo>
              </a:path>
              <a:path w="1787" h="547">
                <a:moveTo>
                  <a:pt x="6375" y="18331"/>
                </a:moveTo>
                <a:cubicBezTo>
                  <a:pt x="6375" y="18389"/>
                  <a:pt x="6375" y="18446"/>
                  <a:pt x="6375" y="18504"/>
                </a:cubicBezTo>
                <a:cubicBezTo>
                  <a:pt x="6401" y="18461"/>
                  <a:pt x="6399" y="18424"/>
                  <a:pt x="6424" y="18380"/>
                </a:cubicBezTo>
                <a:cubicBezTo>
                  <a:pt x="6446" y="18341"/>
                  <a:pt x="6512" y="18277"/>
                  <a:pt x="6524" y="18256"/>
                </a:cubicBezTo>
                <a:cubicBezTo>
                  <a:pt x="6543" y="18223"/>
                  <a:pt x="6548" y="18231"/>
                  <a:pt x="6598" y="18231"/>
                </a:cubicBezTo>
                <a:cubicBezTo>
                  <a:pt x="6642" y="18231"/>
                  <a:pt x="6637" y="18229"/>
                  <a:pt x="6672" y="18256"/>
                </a:cubicBezTo>
              </a:path>
              <a:path w="1787" h="547">
                <a:moveTo>
                  <a:pt x="6896" y="18306"/>
                </a:moveTo>
                <a:cubicBezTo>
                  <a:pt x="6883" y="18268"/>
                  <a:pt x="6866" y="18281"/>
                  <a:pt x="6821" y="18281"/>
                </a:cubicBezTo>
                <a:cubicBezTo>
                  <a:pt x="6780" y="18281"/>
                  <a:pt x="6729" y="18327"/>
                  <a:pt x="6697" y="18355"/>
                </a:cubicBezTo>
                <a:cubicBezTo>
                  <a:pt x="6656" y="18392"/>
                  <a:pt x="6648" y="18371"/>
                  <a:pt x="6648" y="18430"/>
                </a:cubicBezTo>
                <a:cubicBezTo>
                  <a:pt x="6648" y="18438"/>
                  <a:pt x="6648" y="18447"/>
                  <a:pt x="6648" y="18455"/>
                </a:cubicBezTo>
                <a:cubicBezTo>
                  <a:pt x="6699" y="18455"/>
                  <a:pt x="6701" y="18440"/>
                  <a:pt x="6722" y="18430"/>
                </a:cubicBezTo>
                <a:cubicBezTo>
                  <a:pt x="6757" y="18412"/>
                  <a:pt x="6789" y="18409"/>
                  <a:pt x="6821" y="18380"/>
                </a:cubicBezTo>
                <a:cubicBezTo>
                  <a:pt x="6843" y="18360"/>
                  <a:pt x="6890" y="18343"/>
                  <a:pt x="6896" y="18331"/>
                </a:cubicBezTo>
                <a:cubicBezTo>
                  <a:pt x="6896" y="18323"/>
                  <a:pt x="6896" y="18314"/>
                  <a:pt x="6896" y="18306"/>
                </a:cubicBezTo>
                <a:cubicBezTo>
                  <a:pt x="6896" y="18383"/>
                  <a:pt x="6870" y="18442"/>
                  <a:pt x="6945" y="18455"/>
                </a:cubicBezTo>
              </a:path>
              <a:path w="1787" h="547">
                <a:moveTo>
                  <a:pt x="7193" y="18256"/>
                </a:moveTo>
                <a:cubicBezTo>
                  <a:pt x="7157" y="18256"/>
                  <a:pt x="7120" y="18263"/>
                  <a:pt x="7094" y="18281"/>
                </a:cubicBezTo>
                <a:cubicBezTo>
                  <a:pt x="7057" y="18305"/>
                  <a:pt x="7069" y="18342"/>
                  <a:pt x="7069" y="18380"/>
                </a:cubicBezTo>
                <a:cubicBezTo>
                  <a:pt x="7097" y="18380"/>
                  <a:pt x="7155" y="18391"/>
                  <a:pt x="7169" y="18405"/>
                </a:cubicBezTo>
                <a:cubicBezTo>
                  <a:pt x="7187" y="18423"/>
                  <a:pt x="7193" y="18474"/>
                  <a:pt x="7193" y="18504"/>
                </a:cubicBezTo>
                <a:cubicBezTo>
                  <a:pt x="7193" y="18512"/>
                  <a:pt x="7193" y="18521"/>
                  <a:pt x="7193" y="18529"/>
                </a:cubicBezTo>
                <a:cubicBezTo>
                  <a:pt x="7137" y="18529"/>
                  <a:pt x="7160" y="18549"/>
                  <a:pt x="7119" y="18554"/>
                </a:cubicBezTo>
                <a:cubicBezTo>
                  <a:pt x="7101" y="18556"/>
                  <a:pt x="7007" y="18544"/>
                  <a:pt x="7045" y="18504"/>
                </a:cubicBezTo>
                <a:cubicBezTo>
                  <a:pt x="7069" y="18504"/>
                  <a:pt x="7077" y="18504"/>
                  <a:pt x="7069" y="18479"/>
                </a:cubicBezTo>
              </a:path>
              <a:path w="1787" h="547">
                <a:moveTo>
                  <a:pt x="7441" y="18008"/>
                </a:moveTo>
                <a:cubicBezTo>
                  <a:pt x="7432" y="18047"/>
                  <a:pt x="7417" y="18063"/>
                  <a:pt x="7417" y="18107"/>
                </a:cubicBezTo>
                <a:cubicBezTo>
                  <a:pt x="7417" y="18191"/>
                  <a:pt x="7414" y="18260"/>
                  <a:pt x="7392" y="18331"/>
                </a:cubicBezTo>
                <a:cubicBezTo>
                  <a:pt x="7392" y="18355"/>
                  <a:pt x="7392" y="18364"/>
                  <a:pt x="7392" y="18380"/>
                </a:cubicBezTo>
                <a:cubicBezTo>
                  <a:pt x="7432" y="18380"/>
                  <a:pt x="7490" y="18364"/>
                  <a:pt x="7516" y="18331"/>
                </a:cubicBezTo>
                <a:cubicBezTo>
                  <a:pt x="7534" y="18308"/>
                  <a:pt x="7576" y="18324"/>
                  <a:pt x="7590" y="18306"/>
                </a:cubicBezTo>
                <a:cubicBezTo>
                  <a:pt x="7618" y="18271"/>
                  <a:pt x="7615" y="18313"/>
                  <a:pt x="7615" y="18355"/>
                </a:cubicBezTo>
                <a:cubicBezTo>
                  <a:pt x="7615" y="18426"/>
                  <a:pt x="7594" y="18443"/>
                  <a:pt x="7665" y="1845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Ink 53"/>
          <p:cNvSpPr/>
          <p:nvPr/>
        </p:nvSpPr>
        <p:spPr>
          <a:xfrm>
            <a:off x="3027240" y="6562800"/>
            <a:ext cx="731880" cy="28728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8781" y="18306"/>
                </a:moveTo>
                <a:cubicBezTo>
                  <a:pt x="8743" y="18278"/>
                  <a:pt x="8730" y="18281"/>
                  <a:pt x="8682" y="18281"/>
                </a:cubicBezTo>
                <a:cubicBezTo>
                  <a:pt x="8610" y="18281"/>
                  <a:pt x="8596" y="18283"/>
                  <a:pt x="8558" y="18331"/>
                </a:cubicBezTo>
                <a:cubicBezTo>
                  <a:pt x="8514" y="18387"/>
                  <a:pt x="8489" y="18402"/>
                  <a:pt x="8483" y="18479"/>
                </a:cubicBezTo>
                <a:cubicBezTo>
                  <a:pt x="8481" y="18506"/>
                  <a:pt x="8510" y="18526"/>
                  <a:pt x="8533" y="18529"/>
                </a:cubicBezTo>
                <a:cubicBezTo>
                  <a:pt x="8585" y="18536"/>
                  <a:pt x="8637" y="18532"/>
                  <a:pt x="8682" y="18504"/>
                </a:cubicBezTo>
                <a:cubicBezTo>
                  <a:pt x="8702" y="18492"/>
                  <a:pt x="8772" y="18424"/>
                  <a:pt x="8781" y="18405"/>
                </a:cubicBezTo>
                <a:cubicBezTo>
                  <a:pt x="8781" y="18380"/>
                  <a:pt x="8781" y="18372"/>
                  <a:pt x="8781" y="18355"/>
                </a:cubicBezTo>
                <a:cubicBezTo>
                  <a:pt x="8729" y="18355"/>
                  <a:pt x="8731" y="18353"/>
                  <a:pt x="8731" y="18405"/>
                </a:cubicBezTo>
                <a:cubicBezTo>
                  <a:pt x="8731" y="18487"/>
                  <a:pt x="8710" y="18548"/>
                  <a:pt x="8706" y="18628"/>
                </a:cubicBezTo>
                <a:cubicBezTo>
                  <a:pt x="8702" y="18709"/>
                  <a:pt x="8694" y="18777"/>
                  <a:pt x="8682" y="18852"/>
                </a:cubicBezTo>
                <a:cubicBezTo>
                  <a:pt x="8670" y="18928"/>
                  <a:pt x="8634" y="18940"/>
                  <a:pt x="8607" y="19000"/>
                </a:cubicBezTo>
                <a:cubicBezTo>
                  <a:pt x="8591" y="19036"/>
                  <a:pt x="8580" y="19025"/>
                  <a:pt x="8533" y="19025"/>
                </a:cubicBezTo>
                <a:cubicBezTo>
                  <a:pt x="8492" y="19025"/>
                  <a:pt x="8450" y="19025"/>
                  <a:pt x="8409" y="19025"/>
                </a:cubicBezTo>
                <a:cubicBezTo>
                  <a:pt x="8409" y="18970"/>
                  <a:pt x="8403" y="18950"/>
                  <a:pt x="8434" y="18926"/>
                </a:cubicBezTo>
                <a:cubicBezTo>
                  <a:pt x="8442" y="18918"/>
                  <a:pt x="8450" y="18909"/>
                  <a:pt x="8458" y="18901"/>
                </a:cubicBezTo>
              </a:path>
              <a:path w="2035" h="795">
                <a:moveTo>
                  <a:pt x="9029" y="18355"/>
                </a:moveTo>
                <a:cubicBezTo>
                  <a:pt x="9016" y="18405"/>
                  <a:pt x="9004" y="18419"/>
                  <a:pt x="9004" y="18479"/>
                </a:cubicBezTo>
                <a:cubicBezTo>
                  <a:pt x="9004" y="18504"/>
                  <a:pt x="9004" y="18529"/>
                  <a:pt x="9004" y="18554"/>
                </a:cubicBezTo>
                <a:cubicBezTo>
                  <a:pt x="9029" y="18554"/>
                  <a:pt x="9037" y="18554"/>
                  <a:pt x="9054" y="18554"/>
                </a:cubicBezTo>
              </a:path>
              <a:path w="2035" h="795">
                <a:moveTo>
                  <a:pt x="9079" y="18231"/>
                </a:moveTo>
                <a:cubicBezTo>
                  <a:pt x="9111" y="18231"/>
                  <a:pt x="9106" y="18277"/>
                  <a:pt x="9128" y="18306"/>
                </a:cubicBezTo>
              </a:path>
              <a:path w="2035" h="795">
                <a:moveTo>
                  <a:pt x="9203" y="18355"/>
                </a:moveTo>
                <a:cubicBezTo>
                  <a:pt x="9203" y="18404"/>
                  <a:pt x="9214" y="18415"/>
                  <a:pt x="9227" y="18455"/>
                </a:cubicBezTo>
                <a:cubicBezTo>
                  <a:pt x="9239" y="18493"/>
                  <a:pt x="9248" y="18501"/>
                  <a:pt x="9252" y="18529"/>
                </a:cubicBezTo>
                <a:cubicBezTo>
                  <a:pt x="9257" y="18570"/>
                  <a:pt x="9288" y="18554"/>
                  <a:pt x="9327" y="18554"/>
                </a:cubicBezTo>
                <a:cubicBezTo>
                  <a:pt x="9351" y="18554"/>
                  <a:pt x="9389" y="18485"/>
                  <a:pt x="9401" y="18455"/>
                </a:cubicBezTo>
                <a:cubicBezTo>
                  <a:pt x="9418" y="18414"/>
                  <a:pt x="9444" y="18365"/>
                  <a:pt x="9475" y="18331"/>
                </a:cubicBezTo>
                <a:cubicBezTo>
                  <a:pt x="9504" y="18299"/>
                  <a:pt x="9500" y="18298"/>
                  <a:pt x="9500" y="18256"/>
                </a:cubicBezTo>
                <a:cubicBezTo>
                  <a:pt x="9528" y="18284"/>
                  <a:pt x="9564" y="18319"/>
                  <a:pt x="9599" y="18331"/>
                </a:cubicBezTo>
                <a:cubicBezTo>
                  <a:pt x="9642" y="18345"/>
                  <a:pt x="9704" y="18351"/>
                  <a:pt x="9748" y="18355"/>
                </a:cubicBezTo>
                <a:cubicBezTo>
                  <a:pt x="9798" y="18359"/>
                  <a:pt x="9808" y="18344"/>
                  <a:pt x="9847" y="18331"/>
                </a:cubicBezTo>
                <a:cubicBezTo>
                  <a:pt x="9875" y="18331"/>
                  <a:pt x="9886" y="18329"/>
                  <a:pt x="9897" y="18306"/>
                </a:cubicBezTo>
                <a:cubicBezTo>
                  <a:pt x="9888" y="18278"/>
                  <a:pt x="9863" y="18261"/>
                  <a:pt x="9823" y="18256"/>
                </a:cubicBezTo>
                <a:cubicBezTo>
                  <a:pt x="9785" y="18252"/>
                  <a:pt x="9728" y="18263"/>
                  <a:pt x="9699" y="18281"/>
                </a:cubicBezTo>
                <a:cubicBezTo>
                  <a:pt x="9648" y="18312"/>
                  <a:pt x="9628" y="18352"/>
                  <a:pt x="9624" y="18405"/>
                </a:cubicBezTo>
                <a:cubicBezTo>
                  <a:pt x="9620" y="18447"/>
                  <a:pt x="9662" y="18476"/>
                  <a:pt x="9699" y="18479"/>
                </a:cubicBezTo>
                <a:cubicBezTo>
                  <a:pt x="9807" y="18486"/>
                  <a:pt x="9851" y="18460"/>
                  <a:pt x="9922" y="18430"/>
                </a:cubicBezTo>
                <a:cubicBezTo>
                  <a:pt x="9982" y="18405"/>
                  <a:pt x="9996" y="18398"/>
                  <a:pt x="9996" y="18455"/>
                </a:cubicBezTo>
                <a:cubicBezTo>
                  <a:pt x="9996" y="18483"/>
                  <a:pt x="9993" y="18493"/>
                  <a:pt x="9971" y="18504"/>
                </a:cubicBezTo>
                <a:cubicBezTo>
                  <a:pt x="10029" y="18504"/>
                  <a:pt x="10025" y="18485"/>
                  <a:pt x="10071" y="18455"/>
                </a:cubicBezTo>
                <a:cubicBezTo>
                  <a:pt x="10107" y="18432"/>
                  <a:pt x="10158" y="18392"/>
                  <a:pt x="10195" y="18380"/>
                </a:cubicBezTo>
                <a:cubicBezTo>
                  <a:pt x="10235" y="18367"/>
                  <a:pt x="10301" y="18380"/>
                  <a:pt x="10344" y="18380"/>
                </a:cubicBezTo>
                <a:cubicBezTo>
                  <a:pt x="10344" y="18439"/>
                  <a:pt x="10334" y="18458"/>
                  <a:pt x="10319" y="18504"/>
                </a:cubicBezTo>
                <a:cubicBezTo>
                  <a:pt x="10305" y="18547"/>
                  <a:pt x="10325" y="18538"/>
                  <a:pt x="10294" y="18579"/>
                </a:cubicBezTo>
                <a:cubicBezTo>
                  <a:pt x="10355" y="18579"/>
                  <a:pt x="10379" y="18573"/>
                  <a:pt x="10443" y="1855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Ink 54"/>
          <p:cNvSpPr/>
          <p:nvPr/>
        </p:nvSpPr>
        <p:spPr>
          <a:xfrm>
            <a:off x="4133880" y="6572160"/>
            <a:ext cx="277920" cy="135000"/>
          </a:xfrm>
          <a:custGeom>
            <a:avLst/>
            <a:gdLst/>
            <a:ahLst/>
            <a:rect l="l" t="t" r="r" b="b"/>
            <a:pathLst>
              <a:path w="770" h="373">
                <a:moveTo>
                  <a:pt x="11708" y="18256"/>
                </a:moveTo>
                <a:cubicBezTo>
                  <a:pt x="11651" y="18256"/>
                  <a:pt x="11630" y="18266"/>
                  <a:pt x="11584" y="18281"/>
                </a:cubicBezTo>
                <a:cubicBezTo>
                  <a:pt x="11536" y="18297"/>
                  <a:pt x="11491" y="18296"/>
                  <a:pt x="11485" y="18355"/>
                </a:cubicBezTo>
                <a:cubicBezTo>
                  <a:pt x="11476" y="18437"/>
                  <a:pt x="11567" y="18389"/>
                  <a:pt x="11609" y="18405"/>
                </a:cubicBezTo>
                <a:cubicBezTo>
                  <a:pt x="11631" y="18414"/>
                  <a:pt x="11719" y="18461"/>
                  <a:pt x="11733" y="18479"/>
                </a:cubicBezTo>
                <a:cubicBezTo>
                  <a:pt x="11743" y="18492"/>
                  <a:pt x="11733" y="18561"/>
                  <a:pt x="11733" y="18579"/>
                </a:cubicBezTo>
                <a:cubicBezTo>
                  <a:pt x="11653" y="18590"/>
                  <a:pt x="11679" y="18622"/>
                  <a:pt x="11609" y="18628"/>
                </a:cubicBezTo>
                <a:cubicBezTo>
                  <a:pt x="11563" y="18632"/>
                  <a:pt x="11544" y="18629"/>
                  <a:pt x="11509" y="18604"/>
                </a:cubicBezTo>
                <a:cubicBezTo>
                  <a:pt x="11535" y="18578"/>
                  <a:pt x="11576" y="18536"/>
                  <a:pt x="11609" y="18529"/>
                </a:cubicBezTo>
                <a:cubicBezTo>
                  <a:pt x="11660" y="18529"/>
                  <a:pt x="11679" y="18528"/>
                  <a:pt x="11708" y="18504"/>
                </a:cubicBezTo>
              </a:path>
              <a:path w="770" h="373">
                <a:moveTo>
                  <a:pt x="11956" y="18380"/>
                </a:moveTo>
                <a:cubicBezTo>
                  <a:pt x="11930" y="18424"/>
                  <a:pt x="11931" y="18451"/>
                  <a:pt x="11931" y="18504"/>
                </a:cubicBezTo>
                <a:cubicBezTo>
                  <a:pt x="11931" y="18560"/>
                  <a:pt x="11959" y="18576"/>
                  <a:pt x="12005" y="18579"/>
                </a:cubicBezTo>
                <a:cubicBezTo>
                  <a:pt x="12082" y="18584"/>
                  <a:pt x="12134" y="18572"/>
                  <a:pt x="12204" y="18554"/>
                </a:cubicBezTo>
                <a:cubicBezTo>
                  <a:pt x="12254" y="18542"/>
                  <a:pt x="12254" y="18530"/>
                  <a:pt x="12254" y="18479"/>
                </a:cubicBezTo>
                <a:cubicBezTo>
                  <a:pt x="12254" y="18429"/>
                  <a:pt x="12260" y="18392"/>
                  <a:pt x="12204" y="18380"/>
                </a:cubicBezTo>
                <a:cubicBezTo>
                  <a:pt x="12146" y="18368"/>
                  <a:pt x="11931" y="18380"/>
                  <a:pt x="11956" y="1838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Ink 55"/>
          <p:cNvSpPr/>
          <p:nvPr/>
        </p:nvSpPr>
        <p:spPr>
          <a:xfrm>
            <a:off x="4973760" y="6465960"/>
            <a:ext cx="733320" cy="2761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3940" y="18355"/>
                </a:moveTo>
                <a:cubicBezTo>
                  <a:pt x="13918" y="18333"/>
                  <a:pt x="13913" y="18325"/>
                  <a:pt x="13891" y="18331"/>
                </a:cubicBezTo>
                <a:cubicBezTo>
                  <a:pt x="13881" y="18370"/>
                  <a:pt x="13858" y="18443"/>
                  <a:pt x="13841" y="18479"/>
                </a:cubicBezTo>
                <a:cubicBezTo>
                  <a:pt x="13816" y="18532"/>
                  <a:pt x="13816" y="18565"/>
                  <a:pt x="13816" y="18628"/>
                </a:cubicBezTo>
                <a:cubicBezTo>
                  <a:pt x="13816" y="18653"/>
                  <a:pt x="13816" y="18661"/>
                  <a:pt x="13816" y="18678"/>
                </a:cubicBezTo>
                <a:cubicBezTo>
                  <a:pt x="13877" y="18663"/>
                  <a:pt x="13887" y="18611"/>
                  <a:pt x="13915" y="18554"/>
                </a:cubicBezTo>
                <a:cubicBezTo>
                  <a:pt x="13969" y="18445"/>
                  <a:pt x="14048" y="18354"/>
                  <a:pt x="14114" y="18256"/>
                </a:cubicBezTo>
                <a:cubicBezTo>
                  <a:pt x="14140" y="18217"/>
                  <a:pt x="14191" y="18153"/>
                  <a:pt x="14238" y="18132"/>
                </a:cubicBezTo>
                <a:cubicBezTo>
                  <a:pt x="14267" y="18119"/>
                  <a:pt x="14306" y="18093"/>
                  <a:pt x="14337" y="18083"/>
                </a:cubicBezTo>
                <a:cubicBezTo>
                  <a:pt x="14345" y="18083"/>
                  <a:pt x="14354" y="18083"/>
                  <a:pt x="14362" y="18083"/>
                </a:cubicBezTo>
                <a:cubicBezTo>
                  <a:pt x="14372" y="18122"/>
                  <a:pt x="14387" y="18137"/>
                  <a:pt x="14387" y="18182"/>
                </a:cubicBezTo>
                <a:cubicBezTo>
                  <a:pt x="14387" y="18228"/>
                  <a:pt x="14393" y="18246"/>
                  <a:pt x="14362" y="18281"/>
                </a:cubicBezTo>
                <a:cubicBezTo>
                  <a:pt x="14322" y="18326"/>
                  <a:pt x="14242" y="18313"/>
                  <a:pt x="14188" y="18331"/>
                </a:cubicBezTo>
                <a:cubicBezTo>
                  <a:pt x="14129" y="18350"/>
                  <a:pt x="14103" y="18355"/>
                  <a:pt x="14039" y="18355"/>
                </a:cubicBezTo>
                <a:cubicBezTo>
                  <a:pt x="13968" y="18355"/>
                  <a:pt x="14086" y="18308"/>
                  <a:pt x="14089" y="18306"/>
                </a:cubicBezTo>
              </a:path>
              <a:path w="2035" h="770">
                <a:moveTo>
                  <a:pt x="14883" y="17959"/>
                </a:moveTo>
                <a:cubicBezTo>
                  <a:pt x="14837" y="17992"/>
                  <a:pt x="14845" y="17990"/>
                  <a:pt x="14808" y="18033"/>
                </a:cubicBezTo>
                <a:cubicBezTo>
                  <a:pt x="14784" y="18060"/>
                  <a:pt x="14741" y="18099"/>
                  <a:pt x="14734" y="18132"/>
                </a:cubicBezTo>
                <a:cubicBezTo>
                  <a:pt x="14721" y="18192"/>
                  <a:pt x="14709" y="18243"/>
                  <a:pt x="14709" y="18306"/>
                </a:cubicBezTo>
                <a:cubicBezTo>
                  <a:pt x="14709" y="18370"/>
                  <a:pt x="14714" y="18423"/>
                  <a:pt x="14734" y="18479"/>
                </a:cubicBezTo>
                <a:cubicBezTo>
                  <a:pt x="14754" y="18535"/>
                  <a:pt x="14766" y="18563"/>
                  <a:pt x="14808" y="18604"/>
                </a:cubicBezTo>
                <a:cubicBezTo>
                  <a:pt x="14834" y="18629"/>
                  <a:pt x="14854" y="18668"/>
                  <a:pt x="14858" y="18703"/>
                </a:cubicBezTo>
                <a:cubicBezTo>
                  <a:pt x="14863" y="18748"/>
                  <a:pt x="14874" y="18731"/>
                  <a:pt x="14883" y="18703"/>
                </a:cubicBezTo>
              </a:path>
              <a:path w="2035" h="770">
                <a:moveTo>
                  <a:pt x="15106" y="18306"/>
                </a:moveTo>
                <a:cubicBezTo>
                  <a:pt x="15075" y="18321"/>
                  <a:pt x="15045" y="18366"/>
                  <a:pt x="15032" y="18405"/>
                </a:cubicBezTo>
                <a:cubicBezTo>
                  <a:pt x="15017" y="18451"/>
                  <a:pt x="15027" y="18520"/>
                  <a:pt x="15056" y="18554"/>
                </a:cubicBezTo>
                <a:cubicBezTo>
                  <a:pt x="15086" y="18588"/>
                  <a:pt x="15113" y="18579"/>
                  <a:pt x="15156" y="18579"/>
                </a:cubicBezTo>
                <a:cubicBezTo>
                  <a:pt x="15237" y="18579"/>
                  <a:pt x="15284" y="18580"/>
                  <a:pt x="15329" y="18529"/>
                </a:cubicBezTo>
                <a:cubicBezTo>
                  <a:pt x="15359" y="18495"/>
                  <a:pt x="15374" y="18428"/>
                  <a:pt x="15379" y="18380"/>
                </a:cubicBezTo>
                <a:cubicBezTo>
                  <a:pt x="15386" y="18307"/>
                  <a:pt x="15329" y="18331"/>
                  <a:pt x="15304" y="18306"/>
                </a:cubicBezTo>
                <a:cubicBezTo>
                  <a:pt x="15287" y="18289"/>
                  <a:pt x="15248" y="18261"/>
                  <a:pt x="15205" y="18256"/>
                </a:cubicBezTo>
                <a:cubicBezTo>
                  <a:pt x="15180" y="18253"/>
                  <a:pt x="15116" y="18265"/>
                  <a:pt x="15106" y="18281"/>
                </a:cubicBezTo>
                <a:cubicBezTo>
                  <a:pt x="15078" y="18323"/>
                  <a:pt x="15173" y="18306"/>
                  <a:pt x="15106" y="18306"/>
                </a:cubicBezTo>
              </a:path>
              <a:path w="2035" h="770">
                <a:moveTo>
                  <a:pt x="15503" y="18504"/>
                </a:moveTo>
                <a:cubicBezTo>
                  <a:pt x="15493" y="18543"/>
                  <a:pt x="15478" y="18559"/>
                  <a:pt x="15478" y="18604"/>
                </a:cubicBezTo>
                <a:cubicBezTo>
                  <a:pt x="15478" y="18628"/>
                  <a:pt x="15478" y="18637"/>
                  <a:pt x="15478" y="18653"/>
                </a:cubicBezTo>
                <a:cubicBezTo>
                  <a:pt x="15541" y="18653"/>
                  <a:pt x="15521" y="18631"/>
                  <a:pt x="15553" y="18604"/>
                </a:cubicBezTo>
                <a:cubicBezTo>
                  <a:pt x="15588" y="18575"/>
                  <a:pt x="15639" y="18529"/>
                  <a:pt x="15677" y="18504"/>
                </a:cubicBezTo>
                <a:cubicBezTo>
                  <a:pt x="15720" y="18482"/>
                  <a:pt x="15731" y="18478"/>
                  <a:pt x="15751" y="18455"/>
                </a:cubicBezTo>
                <a:cubicBezTo>
                  <a:pt x="15793" y="18509"/>
                  <a:pt x="15757" y="18496"/>
                  <a:pt x="15751" y="18554"/>
                </a:cubicBezTo>
                <a:cubicBezTo>
                  <a:pt x="15747" y="18590"/>
                  <a:pt x="15736" y="18658"/>
                  <a:pt x="15776" y="18678"/>
                </a:cubicBezTo>
                <a:cubicBezTo>
                  <a:pt x="15811" y="18678"/>
                  <a:pt x="15828" y="18673"/>
                  <a:pt x="15850" y="1865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Ink 56"/>
          <p:cNvSpPr/>
          <p:nvPr/>
        </p:nvSpPr>
        <p:spPr>
          <a:xfrm>
            <a:off x="5892840" y="6500880"/>
            <a:ext cx="635040" cy="268200"/>
          </a:xfrm>
          <a:custGeom>
            <a:avLst/>
            <a:gdLst/>
            <a:ahLst/>
            <a:rect l="l" t="t" r="r" b="b"/>
            <a:pathLst>
              <a:path w="1762" h="745">
                <a:moveTo>
                  <a:pt x="16371" y="18256"/>
                </a:moveTo>
                <a:cubicBezTo>
                  <a:pt x="16439" y="18256"/>
                  <a:pt x="16490" y="18243"/>
                  <a:pt x="16545" y="18231"/>
                </a:cubicBezTo>
                <a:cubicBezTo>
                  <a:pt x="16583" y="18223"/>
                  <a:pt x="16834" y="18231"/>
                  <a:pt x="16718" y="18231"/>
                </a:cubicBezTo>
              </a:path>
              <a:path w="1762" h="745">
                <a:moveTo>
                  <a:pt x="16520" y="18083"/>
                </a:moveTo>
                <a:cubicBezTo>
                  <a:pt x="16520" y="18128"/>
                  <a:pt x="16541" y="18142"/>
                  <a:pt x="16545" y="18182"/>
                </a:cubicBezTo>
                <a:cubicBezTo>
                  <a:pt x="16555" y="18272"/>
                  <a:pt x="16510" y="18412"/>
                  <a:pt x="16520" y="18479"/>
                </a:cubicBezTo>
                <a:cubicBezTo>
                  <a:pt x="16533" y="18567"/>
                  <a:pt x="16528" y="18534"/>
                  <a:pt x="16520" y="18554"/>
                </a:cubicBezTo>
                <a:cubicBezTo>
                  <a:pt x="16520" y="18579"/>
                  <a:pt x="16520" y="18587"/>
                  <a:pt x="16545" y="18579"/>
                </a:cubicBezTo>
              </a:path>
              <a:path w="1762" h="745">
                <a:moveTo>
                  <a:pt x="16743" y="18405"/>
                </a:moveTo>
                <a:cubicBezTo>
                  <a:pt x="16743" y="18463"/>
                  <a:pt x="16731" y="18504"/>
                  <a:pt x="16718" y="18529"/>
                </a:cubicBezTo>
                <a:cubicBezTo>
                  <a:pt x="16718" y="18537"/>
                  <a:pt x="16718" y="18546"/>
                  <a:pt x="16718" y="18554"/>
                </a:cubicBezTo>
                <a:cubicBezTo>
                  <a:pt x="16735" y="18588"/>
                  <a:pt x="16774" y="18541"/>
                  <a:pt x="16793" y="18504"/>
                </a:cubicBezTo>
              </a:path>
              <a:path w="1762" h="745">
                <a:moveTo>
                  <a:pt x="16867" y="18256"/>
                </a:moveTo>
                <a:cubicBezTo>
                  <a:pt x="16867" y="18248"/>
                  <a:pt x="16867" y="18239"/>
                  <a:pt x="16867" y="18231"/>
                </a:cubicBezTo>
                <a:cubicBezTo>
                  <a:pt x="16905" y="18244"/>
                  <a:pt x="16892" y="18261"/>
                  <a:pt x="16892" y="18306"/>
                </a:cubicBezTo>
                <a:cubicBezTo>
                  <a:pt x="16892" y="18322"/>
                  <a:pt x="16892" y="18339"/>
                  <a:pt x="16892" y="18355"/>
                </a:cubicBezTo>
              </a:path>
              <a:path w="1762" h="745">
                <a:moveTo>
                  <a:pt x="16942" y="18455"/>
                </a:moveTo>
                <a:cubicBezTo>
                  <a:pt x="16932" y="18494"/>
                  <a:pt x="16904" y="18518"/>
                  <a:pt x="16892" y="18554"/>
                </a:cubicBezTo>
                <a:cubicBezTo>
                  <a:pt x="16892" y="18579"/>
                  <a:pt x="16892" y="18587"/>
                  <a:pt x="16892" y="18604"/>
                </a:cubicBezTo>
                <a:cubicBezTo>
                  <a:pt x="16944" y="18574"/>
                  <a:pt x="16974" y="18546"/>
                  <a:pt x="17016" y="18504"/>
                </a:cubicBezTo>
                <a:cubicBezTo>
                  <a:pt x="17043" y="18477"/>
                  <a:pt x="17101" y="18433"/>
                  <a:pt x="17115" y="18405"/>
                </a:cubicBezTo>
                <a:cubicBezTo>
                  <a:pt x="17115" y="18380"/>
                  <a:pt x="17115" y="18372"/>
                  <a:pt x="17140" y="18380"/>
                </a:cubicBezTo>
                <a:cubicBezTo>
                  <a:pt x="17140" y="18430"/>
                  <a:pt x="17140" y="18479"/>
                  <a:pt x="17140" y="18529"/>
                </a:cubicBezTo>
                <a:cubicBezTo>
                  <a:pt x="17166" y="18529"/>
                  <a:pt x="17227" y="18522"/>
                  <a:pt x="17239" y="18504"/>
                </a:cubicBezTo>
                <a:cubicBezTo>
                  <a:pt x="17254" y="18481"/>
                  <a:pt x="17284" y="18459"/>
                  <a:pt x="17314" y="18455"/>
                </a:cubicBezTo>
                <a:cubicBezTo>
                  <a:pt x="17338" y="18455"/>
                  <a:pt x="17347" y="18455"/>
                  <a:pt x="17363" y="18455"/>
                </a:cubicBezTo>
                <a:cubicBezTo>
                  <a:pt x="17363" y="18506"/>
                  <a:pt x="17378" y="18508"/>
                  <a:pt x="17388" y="18529"/>
                </a:cubicBezTo>
                <a:cubicBezTo>
                  <a:pt x="17401" y="18555"/>
                  <a:pt x="17403" y="18575"/>
                  <a:pt x="17438" y="18579"/>
                </a:cubicBezTo>
                <a:cubicBezTo>
                  <a:pt x="17486" y="18585"/>
                  <a:pt x="17500" y="18575"/>
                  <a:pt x="17537" y="18554"/>
                </a:cubicBezTo>
                <a:cubicBezTo>
                  <a:pt x="17586" y="18526"/>
                  <a:pt x="17674" y="18508"/>
                  <a:pt x="17686" y="18455"/>
                </a:cubicBezTo>
                <a:cubicBezTo>
                  <a:pt x="17686" y="18447"/>
                  <a:pt x="17686" y="18438"/>
                  <a:pt x="17686" y="18430"/>
                </a:cubicBezTo>
                <a:cubicBezTo>
                  <a:pt x="17671" y="18386"/>
                  <a:pt x="17615" y="18405"/>
                  <a:pt x="17562" y="18405"/>
                </a:cubicBezTo>
                <a:cubicBezTo>
                  <a:pt x="17516" y="18405"/>
                  <a:pt x="17497" y="18398"/>
                  <a:pt x="17462" y="18430"/>
                </a:cubicBezTo>
                <a:cubicBezTo>
                  <a:pt x="17436" y="18453"/>
                  <a:pt x="17392" y="18502"/>
                  <a:pt x="17388" y="18529"/>
                </a:cubicBezTo>
                <a:cubicBezTo>
                  <a:pt x="17377" y="18603"/>
                  <a:pt x="17398" y="18635"/>
                  <a:pt x="17438" y="18653"/>
                </a:cubicBezTo>
                <a:cubicBezTo>
                  <a:pt x="17497" y="18679"/>
                  <a:pt x="17640" y="18647"/>
                  <a:pt x="17686" y="18628"/>
                </a:cubicBezTo>
                <a:cubicBezTo>
                  <a:pt x="17740" y="18606"/>
                  <a:pt x="17734" y="18567"/>
                  <a:pt x="17760" y="18554"/>
                </a:cubicBezTo>
                <a:cubicBezTo>
                  <a:pt x="17785" y="18554"/>
                  <a:pt x="17793" y="18554"/>
                  <a:pt x="17785" y="18529"/>
                </a:cubicBezTo>
              </a:path>
              <a:path w="1762" h="745">
                <a:moveTo>
                  <a:pt x="17934" y="18058"/>
                </a:moveTo>
                <a:cubicBezTo>
                  <a:pt x="17986" y="18071"/>
                  <a:pt x="17983" y="18095"/>
                  <a:pt x="18008" y="18132"/>
                </a:cubicBezTo>
                <a:cubicBezTo>
                  <a:pt x="18036" y="18175"/>
                  <a:pt x="18065" y="18213"/>
                  <a:pt x="18083" y="18256"/>
                </a:cubicBezTo>
                <a:cubicBezTo>
                  <a:pt x="18105" y="18309"/>
                  <a:pt x="18142" y="18397"/>
                  <a:pt x="18132" y="18455"/>
                </a:cubicBezTo>
                <a:cubicBezTo>
                  <a:pt x="18119" y="18528"/>
                  <a:pt x="18107" y="18578"/>
                  <a:pt x="18107" y="18653"/>
                </a:cubicBezTo>
                <a:cubicBezTo>
                  <a:pt x="18107" y="18708"/>
                  <a:pt x="18083" y="18723"/>
                  <a:pt x="18083" y="18777"/>
                </a:cubicBezTo>
                <a:cubicBezTo>
                  <a:pt x="18083" y="18785"/>
                  <a:pt x="18083" y="18794"/>
                  <a:pt x="18083" y="18802"/>
                </a:cubicBezTo>
                <a:cubicBezTo>
                  <a:pt x="18034" y="18802"/>
                  <a:pt x="18021" y="18806"/>
                  <a:pt x="17983" y="1877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Ink 57"/>
          <p:cNvSpPr/>
          <p:nvPr/>
        </p:nvSpPr>
        <p:spPr>
          <a:xfrm>
            <a:off x="6875640" y="6616800"/>
            <a:ext cx="152280" cy="8100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19149" y="18405"/>
                </a:moveTo>
                <a:cubicBezTo>
                  <a:pt x="19194" y="18405"/>
                  <a:pt x="19208" y="18383"/>
                  <a:pt x="19248" y="18380"/>
                </a:cubicBezTo>
                <a:cubicBezTo>
                  <a:pt x="19314" y="18375"/>
                  <a:pt x="19381" y="18380"/>
                  <a:pt x="19447" y="18380"/>
                </a:cubicBezTo>
                <a:cubicBezTo>
                  <a:pt x="19404" y="18412"/>
                  <a:pt x="19407" y="18405"/>
                  <a:pt x="19348" y="18405"/>
                </a:cubicBezTo>
              </a:path>
              <a:path w="422" h="225">
                <a:moveTo>
                  <a:pt x="19100" y="18579"/>
                </a:moveTo>
                <a:cubicBezTo>
                  <a:pt x="19182" y="18579"/>
                  <a:pt x="19253" y="18590"/>
                  <a:pt x="19323" y="18604"/>
                </a:cubicBezTo>
                <a:cubicBezTo>
                  <a:pt x="19384" y="18616"/>
                  <a:pt x="19458" y="18604"/>
                  <a:pt x="19521" y="1860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Ink 58"/>
          <p:cNvSpPr/>
          <p:nvPr/>
        </p:nvSpPr>
        <p:spPr>
          <a:xfrm>
            <a:off x="7205760" y="6527880"/>
            <a:ext cx="617400" cy="241200"/>
          </a:xfrm>
          <a:custGeom>
            <a:avLst/>
            <a:gdLst/>
            <a:ahLst/>
            <a:rect l="l" t="t" r="r" b="b"/>
            <a:pathLst>
              <a:path w="1713" h="671">
                <a:moveTo>
                  <a:pt x="20265" y="18132"/>
                </a:moveTo>
                <a:cubicBezTo>
                  <a:pt x="20228" y="18142"/>
                  <a:pt x="20196" y="18155"/>
                  <a:pt x="20166" y="18182"/>
                </a:cubicBezTo>
                <a:cubicBezTo>
                  <a:pt x="20138" y="18207"/>
                  <a:pt x="20082" y="18258"/>
                  <a:pt x="20067" y="18281"/>
                </a:cubicBezTo>
                <a:cubicBezTo>
                  <a:pt x="20060" y="18291"/>
                  <a:pt x="20014" y="18363"/>
                  <a:pt x="20017" y="18380"/>
                </a:cubicBezTo>
                <a:cubicBezTo>
                  <a:pt x="20025" y="18420"/>
                  <a:pt x="20038" y="18428"/>
                  <a:pt x="20042" y="18479"/>
                </a:cubicBezTo>
                <a:cubicBezTo>
                  <a:pt x="20045" y="18527"/>
                  <a:pt x="20042" y="18567"/>
                  <a:pt x="20067" y="18604"/>
                </a:cubicBezTo>
                <a:cubicBezTo>
                  <a:pt x="20079" y="18621"/>
                  <a:pt x="20140" y="18677"/>
                  <a:pt x="20141" y="18678"/>
                </a:cubicBezTo>
                <a:cubicBezTo>
                  <a:pt x="20162" y="18689"/>
                  <a:pt x="20219" y="18700"/>
                  <a:pt x="20241" y="18703"/>
                </a:cubicBezTo>
                <a:cubicBezTo>
                  <a:pt x="20316" y="18711"/>
                  <a:pt x="20378" y="18698"/>
                  <a:pt x="20439" y="18678"/>
                </a:cubicBezTo>
                <a:cubicBezTo>
                  <a:pt x="20484" y="18663"/>
                  <a:pt x="20489" y="18620"/>
                  <a:pt x="20513" y="18604"/>
                </a:cubicBezTo>
                <a:cubicBezTo>
                  <a:pt x="20549" y="18580"/>
                  <a:pt x="20558" y="18566"/>
                  <a:pt x="20563" y="18504"/>
                </a:cubicBezTo>
                <a:cubicBezTo>
                  <a:pt x="20568" y="18443"/>
                  <a:pt x="20591" y="18422"/>
                  <a:pt x="20588" y="18380"/>
                </a:cubicBezTo>
                <a:cubicBezTo>
                  <a:pt x="20585" y="18332"/>
                  <a:pt x="20617" y="18295"/>
                  <a:pt x="20588" y="18256"/>
                </a:cubicBezTo>
                <a:cubicBezTo>
                  <a:pt x="20572" y="18235"/>
                  <a:pt x="20520" y="18226"/>
                  <a:pt x="20489" y="18207"/>
                </a:cubicBezTo>
                <a:cubicBezTo>
                  <a:pt x="20444" y="18180"/>
                  <a:pt x="20424" y="18182"/>
                  <a:pt x="20365" y="18182"/>
                </a:cubicBezTo>
                <a:cubicBezTo>
                  <a:pt x="20326" y="18182"/>
                  <a:pt x="20295" y="18166"/>
                  <a:pt x="20290" y="18207"/>
                </a:cubicBezTo>
                <a:cubicBezTo>
                  <a:pt x="20290" y="18215"/>
                  <a:pt x="20290" y="18223"/>
                  <a:pt x="20290" y="18231"/>
                </a:cubicBezTo>
              </a:path>
              <a:path w="1713" h="671">
                <a:moveTo>
                  <a:pt x="20836" y="18479"/>
                </a:moveTo>
                <a:cubicBezTo>
                  <a:pt x="20836" y="18512"/>
                  <a:pt x="20891" y="18539"/>
                  <a:pt x="20861" y="18554"/>
                </a:cubicBezTo>
                <a:cubicBezTo>
                  <a:pt x="20831" y="18569"/>
                  <a:pt x="20894" y="18554"/>
                  <a:pt x="20861" y="18554"/>
                </a:cubicBezTo>
                <a:cubicBezTo>
                  <a:pt x="20824" y="18554"/>
                  <a:pt x="20898" y="18529"/>
                  <a:pt x="20861" y="18529"/>
                </a:cubicBezTo>
                <a:cubicBezTo>
                  <a:pt x="20834" y="18529"/>
                  <a:pt x="20860" y="18550"/>
                  <a:pt x="20836" y="18479"/>
                </a:cubicBezTo>
              </a:path>
              <a:path w="1713" h="671">
                <a:moveTo>
                  <a:pt x="21134" y="18331"/>
                </a:moveTo>
                <a:cubicBezTo>
                  <a:pt x="21142" y="18307"/>
                  <a:pt x="21184" y="18284"/>
                  <a:pt x="21208" y="18281"/>
                </a:cubicBezTo>
                <a:cubicBezTo>
                  <a:pt x="21271" y="18273"/>
                  <a:pt x="21240" y="18260"/>
                  <a:pt x="21307" y="18256"/>
                </a:cubicBezTo>
                <a:cubicBezTo>
                  <a:pt x="21376" y="18252"/>
                  <a:pt x="21376" y="18266"/>
                  <a:pt x="21406" y="18281"/>
                </a:cubicBezTo>
                <a:cubicBezTo>
                  <a:pt x="21445" y="18300"/>
                  <a:pt x="21398" y="18318"/>
                  <a:pt x="21406" y="18355"/>
                </a:cubicBezTo>
                <a:cubicBezTo>
                  <a:pt x="21422" y="18430"/>
                  <a:pt x="21410" y="18413"/>
                  <a:pt x="21382" y="18479"/>
                </a:cubicBezTo>
                <a:cubicBezTo>
                  <a:pt x="21356" y="18539"/>
                  <a:pt x="21320" y="18601"/>
                  <a:pt x="21282" y="18653"/>
                </a:cubicBezTo>
                <a:cubicBezTo>
                  <a:pt x="21244" y="18705"/>
                  <a:pt x="21211" y="18701"/>
                  <a:pt x="21183" y="18728"/>
                </a:cubicBezTo>
                <a:cubicBezTo>
                  <a:pt x="21183" y="18736"/>
                  <a:pt x="21183" y="18744"/>
                  <a:pt x="21183" y="18752"/>
                </a:cubicBezTo>
                <a:cubicBezTo>
                  <a:pt x="21196" y="18790"/>
                  <a:pt x="21213" y="18777"/>
                  <a:pt x="21258" y="18777"/>
                </a:cubicBezTo>
                <a:cubicBezTo>
                  <a:pt x="21375" y="18777"/>
                  <a:pt x="21525" y="18780"/>
                  <a:pt x="21605" y="18802"/>
                </a:cubicBezTo>
                <a:cubicBezTo>
                  <a:pt x="21614" y="18804"/>
                  <a:pt x="21772" y="18802"/>
                  <a:pt x="21704" y="18802"/>
                </a:cubicBezTo>
                <a:cubicBezTo>
                  <a:pt x="21665" y="18802"/>
                  <a:pt x="21679" y="18785"/>
                  <a:pt x="21679" y="1875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Ink 59"/>
          <p:cNvSpPr/>
          <p:nvPr/>
        </p:nvSpPr>
        <p:spPr>
          <a:xfrm>
            <a:off x="7643880" y="874800"/>
            <a:ext cx="1179360" cy="2982960"/>
          </a:xfrm>
          <a:custGeom>
            <a:avLst/>
            <a:gdLst/>
            <a:ahLst/>
            <a:rect l="l" t="t" r="r" b="b"/>
            <a:pathLst>
              <a:path w="3275" h="8286">
                <a:moveTo>
                  <a:pt x="21233" y="10716"/>
                </a:moveTo>
                <a:cubicBezTo>
                  <a:pt x="21265" y="10706"/>
                  <a:pt x="21300" y="10703"/>
                  <a:pt x="21332" y="10691"/>
                </a:cubicBezTo>
                <a:cubicBezTo>
                  <a:pt x="21382" y="10672"/>
                  <a:pt x="21425" y="10652"/>
                  <a:pt x="21481" y="10641"/>
                </a:cubicBezTo>
                <a:cubicBezTo>
                  <a:pt x="21534" y="10631"/>
                  <a:pt x="21618" y="10630"/>
                  <a:pt x="21679" y="10616"/>
                </a:cubicBezTo>
                <a:cubicBezTo>
                  <a:pt x="21729" y="10605"/>
                  <a:pt x="21798" y="10582"/>
                  <a:pt x="21853" y="10567"/>
                </a:cubicBezTo>
                <a:cubicBezTo>
                  <a:pt x="21899" y="10555"/>
                  <a:pt x="21978" y="10535"/>
                  <a:pt x="22027" y="10517"/>
                </a:cubicBezTo>
                <a:cubicBezTo>
                  <a:pt x="22071" y="10501"/>
                  <a:pt x="22130" y="10487"/>
                  <a:pt x="22175" y="10468"/>
                </a:cubicBezTo>
                <a:cubicBezTo>
                  <a:pt x="22224" y="10447"/>
                  <a:pt x="22272" y="10414"/>
                  <a:pt x="22324" y="10393"/>
                </a:cubicBezTo>
                <a:cubicBezTo>
                  <a:pt x="22371" y="10374"/>
                  <a:pt x="22456" y="10340"/>
                  <a:pt x="22498" y="10319"/>
                </a:cubicBezTo>
                <a:cubicBezTo>
                  <a:pt x="22559" y="10288"/>
                  <a:pt x="22612" y="10253"/>
                  <a:pt x="22671" y="10220"/>
                </a:cubicBezTo>
                <a:cubicBezTo>
                  <a:pt x="22730" y="10187"/>
                  <a:pt x="22786" y="10154"/>
                  <a:pt x="22845" y="10120"/>
                </a:cubicBezTo>
                <a:cubicBezTo>
                  <a:pt x="22897" y="10091"/>
                  <a:pt x="22954" y="10060"/>
                  <a:pt x="23019" y="10021"/>
                </a:cubicBezTo>
                <a:cubicBezTo>
                  <a:pt x="23086" y="9981"/>
                  <a:pt x="23152" y="9932"/>
                  <a:pt x="23217" y="9897"/>
                </a:cubicBezTo>
                <a:cubicBezTo>
                  <a:pt x="23277" y="9865"/>
                  <a:pt x="23347" y="9839"/>
                  <a:pt x="23416" y="9798"/>
                </a:cubicBezTo>
                <a:cubicBezTo>
                  <a:pt x="23467" y="9768"/>
                  <a:pt x="23584" y="9728"/>
                  <a:pt x="23614" y="9699"/>
                </a:cubicBezTo>
                <a:cubicBezTo>
                  <a:pt x="23662" y="9652"/>
                  <a:pt x="23691" y="9575"/>
                  <a:pt x="23738" y="9525"/>
                </a:cubicBezTo>
                <a:cubicBezTo>
                  <a:pt x="23768" y="9493"/>
                  <a:pt x="23812" y="9456"/>
                  <a:pt x="23837" y="9426"/>
                </a:cubicBezTo>
                <a:cubicBezTo>
                  <a:pt x="23869" y="9388"/>
                  <a:pt x="23880" y="9346"/>
                  <a:pt x="23912" y="9302"/>
                </a:cubicBezTo>
                <a:cubicBezTo>
                  <a:pt x="23940" y="9263"/>
                  <a:pt x="23962" y="9262"/>
                  <a:pt x="23986" y="9203"/>
                </a:cubicBezTo>
                <a:cubicBezTo>
                  <a:pt x="24014" y="9135"/>
                  <a:pt x="24010" y="9053"/>
                  <a:pt x="24036" y="8979"/>
                </a:cubicBezTo>
                <a:cubicBezTo>
                  <a:pt x="24049" y="8940"/>
                  <a:pt x="24074" y="8891"/>
                  <a:pt x="24085" y="8855"/>
                </a:cubicBezTo>
                <a:cubicBezTo>
                  <a:pt x="24098" y="8812"/>
                  <a:pt x="24119" y="8773"/>
                  <a:pt x="24135" y="8731"/>
                </a:cubicBezTo>
                <a:cubicBezTo>
                  <a:pt x="24147" y="8698"/>
                  <a:pt x="24147" y="8664"/>
                  <a:pt x="24160" y="8632"/>
                </a:cubicBezTo>
                <a:cubicBezTo>
                  <a:pt x="24166" y="8619"/>
                  <a:pt x="24197" y="8568"/>
                  <a:pt x="24209" y="8533"/>
                </a:cubicBezTo>
                <a:cubicBezTo>
                  <a:pt x="24230" y="8472"/>
                  <a:pt x="24238" y="8414"/>
                  <a:pt x="24259" y="8359"/>
                </a:cubicBezTo>
                <a:cubicBezTo>
                  <a:pt x="24278" y="8309"/>
                  <a:pt x="24318" y="8267"/>
                  <a:pt x="24333" y="8210"/>
                </a:cubicBezTo>
                <a:cubicBezTo>
                  <a:pt x="24345" y="8165"/>
                  <a:pt x="24346" y="8127"/>
                  <a:pt x="24358" y="8086"/>
                </a:cubicBezTo>
                <a:cubicBezTo>
                  <a:pt x="24371" y="8041"/>
                  <a:pt x="24370" y="8006"/>
                  <a:pt x="24383" y="7962"/>
                </a:cubicBezTo>
                <a:cubicBezTo>
                  <a:pt x="24402" y="7895"/>
                  <a:pt x="24422" y="7816"/>
                  <a:pt x="24433" y="7739"/>
                </a:cubicBezTo>
                <a:cubicBezTo>
                  <a:pt x="24444" y="7663"/>
                  <a:pt x="24453" y="7596"/>
                  <a:pt x="24457" y="7516"/>
                </a:cubicBezTo>
                <a:cubicBezTo>
                  <a:pt x="24464" y="7379"/>
                  <a:pt x="24466" y="7252"/>
                  <a:pt x="24482" y="7119"/>
                </a:cubicBezTo>
                <a:cubicBezTo>
                  <a:pt x="24492" y="7042"/>
                  <a:pt x="24503" y="6965"/>
                  <a:pt x="24507" y="6896"/>
                </a:cubicBezTo>
                <a:cubicBezTo>
                  <a:pt x="24531" y="6497"/>
                  <a:pt x="24488" y="6101"/>
                  <a:pt x="24482" y="5705"/>
                </a:cubicBezTo>
                <a:cubicBezTo>
                  <a:pt x="24480" y="5592"/>
                  <a:pt x="24470" y="5493"/>
                  <a:pt x="24457" y="5383"/>
                </a:cubicBezTo>
                <a:cubicBezTo>
                  <a:pt x="24448" y="5305"/>
                  <a:pt x="24448" y="5234"/>
                  <a:pt x="24433" y="5159"/>
                </a:cubicBezTo>
                <a:cubicBezTo>
                  <a:pt x="24415" y="5070"/>
                  <a:pt x="24403" y="4975"/>
                  <a:pt x="24383" y="4887"/>
                </a:cubicBezTo>
                <a:cubicBezTo>
                  <a:pt x="24364" y="4805"/>
                  <a:pt x="24355" y="4715"/>
                  <a:pt x="24333" y="4638"/>
                </a:cubicBezTo>
                <a:cubicBezTo>
                  <a:pt x="24316" y="4580"/>
                  <a:pt x="24280" y="4504"/>
                  <a:pt x="24259" y="4440"/>
                </a:cubicBezTo>
                <a:cubicBezTo>
                  <a:pt x="24237" y="4373"/>
                  <a:pt x="24205" y="4310"/>
                  <a:pt x="24185" y="4242"/>
                </a:cubicBezTo>
                <a:cubicBezTo>
                  <a:pt x="24161" y="4160"/>
                  <a:pt x="24141" y="4075"/>
                  <a:pt x="24110" y="3994"/>
                </a:cubicBezTo>
                <a:cubicBezTo>
                  <a:pt x="24081" y="3920"/>
                  <a:pt x="24046" y="3845"/>
                  <a:pt x="24011" y="3770"/>
                </a:cubicBezTo>
                <a:cubicBezTo>
                  <a:pt x="23988" y="3721"/>
                  <a:pt x="23948" y="3640"/>
                  <a:pt x="23912" y="3572"/>
                </a:cubicBezTo>
                <a:cubicBezTo>
                  <a:pt x="23888" y="3527"/>
                  <a:pt x="23844" y="3483"/>
                  <a:pt x="23812" y="3423"/>
                </a:cubicBezTo>
                <a:cubicBezTo>
                  <a:pt x="23786" y="3373"/>
                  <a:pt x="23768" y="3315"/>
                  <a:pt x="23738" y="3274"/>
                </a:cubicBezTo>
                <a:cubicBezTo>
                  <a:pt x="23703" y="3225"/>
                  <a:pt x="23675" y="3198"/>
                  <a:pt x="23639" y="3150"/>
                </a:cubicBezTo>
                <a:cubicBezTo>
                  <a:pt x="23602" y="3100"/>
                  <a:pt x="23526" y="3031"/>
                  <a:pt x="23490" y="3001"/>
                </a:cubicBezTo>
                <a:cubicBezTo>
                  <a:pt x="23451" y="2968"/>
                  <a:pt x="23404" y="2949"/>
                  <a:pt x="23366" y="2927"/>
                </a:cubicBezTo>
                <a:cubicBezTo>
                  <a:pt x="23315" y="2898"/>
                  <a:pt x="23263" y="2876"/>
                  <a:pt x="23217" y="2853"/>
                </a:cubicBezTo>
                <a:cubicBezTo>
                  <a:pt x="23207" y="2848"/>
                  <a:pt x="23146" y="2819"/>
                  <a:pt x="23118" y="2803"/>
                </a:cubicBezTo>
                <a:cubicBezTo>
                  <a:pt x="23092" y="2788"/>
                  <a:pt x="23029" y="2733"/>
                  <a:pt x="23019" y="2729"/>
                </a:cubicBezTo>
                <a:cubicBezTo>
                  <a:pt x="22989" y="2717"/>
                  <a:pt x="22949" y="2717"/>
                  <a:pt x="22920" y="2704"/>
                </a:cubicBezTo>
                <a:cubicBezTo>
                  <a:pt x="22889" y="2690"/>
                  <a:pt x="22852" y="2666"/>
                  <a:pt x="22820" y="2654"/>
                </a:cubicBezTo>
                <a:cubicBezTo>
                  <a:pt x="22788" y="2642"/>
                  <a:pt x="22750" y="2648"/>
                  <a:pt x="22721" y="2629"/>
                </a:cubicBezTo>
                <a:cubicBezTo>
                  <a:pt x="22699" y="2614"/>
                  <a:pt x="22681" y="2575"/>
                  <a:pt x="22647" y="2555"/>
                </a:cubicBezTo>
                <a:cubicBezTo>
                  <a:pt x="22619" y="2539"/>
                  <a:pt x="22625" y="2546"/>
                  <a:pt x="22597" y="2530"/>
                </a:cubicBezTo>
                <a:cubicBezTo>
                  <a:pt x="22613" y="2571"/>
                  <a:pt x="22606" y="2572"/>
                  <a:pt x="22622" y="2604"/>
                </a:cubicBezTo>
                <a:cubicBezTo>
                  <a:pt x="22632" y="2624"/>
                  <a:pt x="22670" y="2676"/>
                  <a:pt x="22671" y="2679"/>
                </a:cubicBezTo>
                <a:cubicBezTo>
                  <a:pt x="22682" y="2705"/>
                  <a:pt x="22673" y="2760"/>
                  <a:pt x="22696" y="2778"/>
                </a:cubicBezTo>
                <a:cubicBezTo>
                  <a:pt x="22718" y="2796"/>
                  <a:pt x="22708" y="2844"/>
                  <a:pt x="22721" y="2803"/>
                </a:cubicBezTo>
                <a:cubicBezTo>
                  <a:pt x="22735" y="2757"/>
                  <a:pt x="22697" y="2710"/>
                  <a:pt x="22696" y="2704"/>
                </a:cubicBezTo>
                <a:cubicBezTo>
                  <a:pt x="22690" y="2657"/>
                  <a:pt x="22671" y="2662"/>
                  <a:pt x="22671" y="2629"/>
                </a:cubicBezTo>
                <a:cubicBezTo>
                  <a:pt x="22671" y="2544"/>
                  <a:pt x="22649" y="2469"/>
                  <a:pt x="22721" y="2431"/>
                </a:cubicBezTo>
                <a:cubicBezTo>
                  <a:pt x="22758" y="2412"/>
                  <a:pt x="22779" y="2454"/>
                  <a:pt x="22820" y="2456"/>
                </a:cubicBezTo>
                <a:cubicBezTo>
                  <a:pt x="22856" y="2458"/>
                  <a:pt x="22891" y="2479"/>
                  <a:pt x="22895" y="2480"/>
                </a:cubicBezTo>
                <a:cubicBezTo>
                  <a:pt x="22927" y="2487"/>
                  <a:pt x="22889" y="2495"/>
                  <a:pt x="22920" y="25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389520" y="238428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first spin being a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388800" y="3211560"/>
            <a:ext cx="74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being the sam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389880" y="4040280"/>
            <a:ext cx="59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adding to 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387000" y="5695920"/>
            <a:ext cx="74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the first spin being greater than the 2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9"/>
          <p:cNvGrpSpPr/>
          <p:nvPr/>
        </p:nvGrpSpPr>
        <p:grpSpPr>
          <a:xfrm>
            <a:off x="5938920" y="620640"/>
            <a:ext cx="2305080" cy="2305080"/>
            <a:chOff x="5938920" y="620640"/>
            <a:chExt cx="2305080" cy="2305080"/>
          </a:xfrm>
        </p:grpSpPr>
        <p:sp>
          <p:nvSpPr>
            <p:cNvPr id="488" name="Oval 20"/>
            <p:cNvSpPr/>
            <p:nvPr/>
          </p:nvSpPr>
          <p:spPr>
            <a:xfrm>
              <a:off x="5938920" y="620640"/>
              <a:ext cx="2305080" cy="230508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1"/>
            <p:cNvSpPr/>
            <p:nvPr/>
          </p:nvSpPr>
          <p:spPr>
            <a:xfrm>
              <a:off x="7091280" y="62064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2"/>
            <p:cNvSpPr/>
            <p:nvPr/>
          </p:nvSpPr>
          <p:spPr>
            <a:xfrm>
              <a:off x="5938920" y="1773360"/>
              <a:ext cx="23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3"/>
            <p:cNvSpPr/>
            <p:nvPr/>
          </p:nvSpPr>
          <p:spPr>
            <a:xfrm>
              <a:off x="6300720" y="85572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4"/>
            <p:cNvSpPr/>
            <p:nvPr/>
          </p:nvSpPr>
          <p:spPr>
            <a:xfrm>
              <a:off x="7378560" y="193500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25"/>
            <p:cNvSpPr/>
            <p:nvPr/>
          </p:nvSpPr>
          <p:spPr>
            <a:xfrm>
              <a:off x="6299280" y="193500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26"/>
            <p:cNvSpPr/>
            <p:nvPr/>
          </p:nvSpPr>
          <p:spPr>
            <a:xfrm rot="1389600">
              <a:off x="6662880" y="1663200"/>
              <a:ext cx="968400" cy="260640"/>
            </a:xfrm>
            <a:custGeom>
              <a:avLst/>
              <a:gdLst>
                <a:gd name="textAreaLeft" fmla="*/ 120960 w 968400"/>
                <a:gd name="textAreaRight" fmla="*/ 847440 w 968400"/>
                <a:gd name="textAreaTop" fmla="*/ 65160 h 260640"/>
                <a:gd name="textAreaBottom" fmla="*/ 195480 h 2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7020000" y="1700280"/>
              <a:ext cx="1429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8"/>
            <p:cNvSpPr/>
            <p:nvPr/>
          </p:nvSpPr>
          <p:spPr>
            <a:xfrm>
              <a:off x="7380360" y="90792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30"/>
          <p:cNvSpPr/>
          <p:nvPr/>
        </p:nvSpPr>
        <p:spPr>
          <a:xfrm>
            <a:off x="534960" y="83664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numbered lottery spinner is spun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389880" y="4869000"/>
            <a:ext cx="59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adding to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2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7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389520" y="238428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first spin being a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389880" y="4040280"/>
            <a:ext cx="59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adding to 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387000" y="5695920"/>
            <a:ext cx="74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the first spin being greater than the 2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3"/>
          <p:cNvGrpSpPr/>
          <p:nvPr/>
        </p:nvGrpSpPr>
        <p:grpSpPr>
          <a:xfrm>
            <a:off x="5938920" y="620640"/>
            <a:ext cx="2305080" cy="2305080"/>
            <a:chOff x="5938920" y="620640"/>
            <a:chExt cx="2305080" cy="2305080"/>
          </a:xfrm>
        </p:grpSpPr>
        <p:sp>
          <p:nvSpPr>
            <p:cNvPr id="510" name="Oval 14"/>
            <p:cNvSpPr/>
            <p:nvPr/>
          </p:nvSpPr>
          <p:spPr>
            <a:xfrm>
              <a:off x="5938920" y="620640"/>
              <a:ext cx="2305080" cy="230508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091280" y="62064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5938920" y="1773360"/>
              <a:ext cx="23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7"/>
            <p:cNvSpPr/>
            <p:nvPr/>
          </p:nvSpPr>
          <p:spPr>
            <a:xfrm>
              <a:off x="6300720" y="85572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8"/>
            <p:cNvSpPr/>
            <p:nvPr/>
          </p:nvSpPr>
          <p:spPr>
            <a:xfrm>
              <a:off x="7378560" y="193500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9"/>
            <p:cNvSpPr/>
            <p:nvPr/>
          </p:nvSpPr>
          <p:spPr>
            <a:xfrm>
              <a:off x="6299280" y="193500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20"/>
            <p:cNvSpPr/>
            <p:nvPr/>
          </p:nvSpPr>
          <p:spPr>
            <a:xfrm rot="1389600">
              <a:off x="6662880" y="1663200"/>
              <a:ext cx="968400" cy="260640"/>
            </a:xfrm>
            <a:custGeom>
              <a:avLst/>
              <a:gdLst>
                <a:gd name="textAreaLeft" fmla="*/ 120960 w 968400"/>
                <a:gd name="textAreaRight" fmla="*/ 847440 w 968400"/>
                <a:gd name="textAreaTop" fmla="*/ 65160 h 260640"/>
                <a:gd name="textAreaBottom" fmla="*/ 195480 h 2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21"/>
            <p:cNvSpPr/>
            <p:nvPr/>
          </p:nvSpPr>
          <p:spPr>
            <a:xfrm>
              <a:off x="7020000" y="1700280"/>
              <a:ext cx="1429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22"/>
            <p:cNvSpPr/>
            <p:nvPr/>
          </p:nvSpPr>
          <p:spPr>
            <a:xfrm>
              <a:off x="7380360" y="90792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Text Box 23"/>
          <p:cNvSpPr/>
          <p:nvPr/>
        </p:nvSpPr>
        <p:spPr>
          <a:xfrm>
            <a:off x="534960" y="83664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numbered lottery spinner is spun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4"/>
          <p:cNvSpPr/>
          <p:nvPr/>
        </p:nvSpPr>
        <p:spPr>
          <a:xfrm>
            <a:off x="389880" y="4869000"/>
            <a:ext cx="59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adding to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388800" y="3211560"/>
            <a:ext cx="74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being the sam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nk 26"/>
          <p:cNvSpPr/>
          <p:nvPr/>
        </p:nvSpPr>
        <p:spPr>
          <a:xfrm>
            <a:off x="1812960" y="2938320"/>
            <a:ext cx="152280" cy="9864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5035" y="8186"/>
                </a:moveTo>
                <a:cubicBezTo>
                  <a:pt x="5167" y="8186"/>
                  <a:pt x="5315" y="8200"/>
                  <a:pt x="5432" y="8161"/>
                </a:cubicBezTo>
                <a:cubicBezTo>
                  <a:pt x="5493" y="8141"/>
                  <a:pt x="5437" y="8203"/>
                  <a:pt x="5432" y="8210"/>
                </a:cubicBezTo>
              </a:path>
              <a:path w="423" h="274">
                <a:moveTo>
                  <a:pt x="5060" y="8434"/>
                </a:moveTo>
                <a:cubicBezTo>
                  <a:pt x="5186" y="8434"/>
                  <a:pt x="5321" y="8446"/>
                  <a:pt x="5432" y="8409"/>
                </a:cubicBezTo>
                <a:cubicBezTo>
                  <a:pt x="5440" y="8409"/>
                  <a:pt x="5449" y="8409"/>
                  <a:pt x="5457" y="840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nk 27"/>
          <p:cNvSpPr/>
          <p:nvPr/>
        </p:nvSpPr>
        <p:spPr>
          <a:xfrm>
            <a:off x="2170080" y="2768760"/>
            <a:ext cx="231840" cy="419040"/>
          </a:xfrm>
          <a:custGeom>
            <a:avLst/>
            <a:gdLst/>
            <a:ahLst/>
            <a:rect l="l" t="t" r="r" b="b"/>
            <a:pathLst>
              <a:path w="645" h="1167">
                <a:moveTo>
                  <a:pt x="6375" y="7714"/>
                </a:moveTo>
                <a:cubicBezTo>
                  <a:pt x="6350" y="7714"/>
                  <a:pt x="6342" y="7714"/>
                  <a:pt x="6350" y="7689"/>
                </a:cubicBezTo>
                <a:cubicBezTo>
                  <a:pt x="6350" y="7788"/>
                  <a:pt x="6350" y="7888"/>
                  <a:pt x="6350" y="7987"/>
                </a:cubicBezTo>
              </a:path>
              <a:path w="645" h="1167">
                <a:moveTo>
                  <a:pt x="6028" y="8161"/>
                </a:moveTo>
                <a:cubicBezTo>
                  <a:pt x="6179" y="8161"/>
                  <a:pt x="6338" y="8165"/>
                  <a:pt x="6474" y="8136"/>
                </a:cubicBezTo>
                <a:cubicBezTo>
                  <a:pt x="6501" y="8130"/>
                  <a:pt x="6544" y="8136"/>
                  <a:pt x="6573" y="8136"/>
                </a:cubicBezTo>
              </a:path>
              <a:path w="645" h="1167">
                <a:moveTo>
                  <a:pt x="6300" y="8310"/>
                </a:moveTo>
                <a:cubicBezTo>
                  <a:pt x="6294" y="8333"/>
                  <a:pt x="6288" y="8388"/>
                  <a:pt x="6276" y="8409"/>
                </a:cubicBezTo>
                <a:cubicBezTo>
                  <a:pt x="6255" y="8447"/>
                  <a:pt x="6214" y="8468"/>
                  <a:pt x="6201" y="8508"/>
                </a:cubicBezTo>
                <a:cubicBezTo>
                  <a:pt x="6185" y="8557"/>
                  <a:pt x="6152" y="8574"/>
                  <a:pt x="6152" y="8632"/>
                </a:cubicBezTo>
                <a:cubicBezTo>
                  <a:pt x="6152" y="8640"/>
                  <a:pt x="6152" y="8649"/>
                  <a:pt x="6152" y="8657"/>
                </a:cubicBezTo>
                <a:cubicBezTo>
                  <a:pt x="6249" y="8657"/>
                  <a:pt x="6341" y="8649"/>
                  <a:pt x="6424" y="8632"/>
                </a:cubicBezTo>
                <a:cubicBezTo>
                  <a:pt x="6474" y="8622"/>
                  <a:pt x="6521" y="8607"/>
                  <a:pt x="6573" y="8607"/>
                </a:cubicBezTo>
                <a:cubicBezTo>
                  <a:pt x="6625" y="8607"/>
                  <a:pt x="6626" y="8593"/>
                  <a:pt x="6648" y="8582"/>
                </a:cubicBezTo>
                <a:cubicBezTo>
                  <a:pt x="6672" y="8582"/>
                  <a:pt x="6680" y="8582"/>
                  <a:pt x="6672" y="8558"/>
                </a:cubicBezTo>
              </a:path>
              <a:path w="645" h="1167">
                <a:moveTo>
                  <a:pt x="6524" y="8434"/>
                </a:moveTo>
                <a:cubicBezTo>
                  <a:pt x="6516" y="8434"/>
                  <a:pt x="6507" y="8434"/>
                  <a:pt x="6499" y="8434"/>
                </a:cubicBezTo>
                <a:cubicBezTo>
                  <a:pt x="6499" y="8583"/>
                  <a:pt x="6499" y="8979"/>
                  <a:pt x="6499" y="883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nk 28"/>
          <p:cNvSpPr/>
          <p:nvPr/>
        </p:nvSpPr>
        <p:spPr>
          <a:xfrm>
            <a:off x="1339920" y="3652920"/>
            <a:ext cx="374760" cy="196920"/>
          </a:xfrm>
          <a:custGeom>
            <a:avLst/>
            <a:gdLst/>
            <a:ahLst/>
            <a:rect l="l" t="t" r="r" b="b"/>
            <a:pathLst>
              <a:path w="1042" h="547">
                <a:moveTo>
                  <a:pt x="3746" y="10170"/>
                </a:moveTo>
                <a:cubicBezTo>
                  <a:pt x="3759" y="10129"/>
                  <a:pt x="3794" y="10145"/>
                  <a:pt x="3845" y="10145"/>
                </a:cubicBezTo>
                <a:cubicBezTo>
                  <a:pt x="3883" y="10145"/>
                  <a:pt x="3973" y="10127"/>
                  <a:pt x="3994" y="10170"/>
                </a:cubicBezTo>
                <a:cubicBezTo>
                  <a:pt x="4010" y="10203"/>
                  <a:pt x="3985" y="10270"/>
                  <a:pt x="3969" y="10294"/>
                </a:cubicBezTo>
                <a:cubicBezTo>
                  <a:pt x="3932" y="10349"/>
                  <a:pt x="3893" y="10395"/>
                  <a:pt x="3845" y="10443"/>
                </a:cubicBezTo>
                <a:cubicBezTo>
                  <a:pt x="3820" y="10469"/>
                  <a:pt x="3754" y="10528"/>
                  <a:pt x="3746" y="10542"/>
                </a:cubicBezTo>
                <a:cubicBezTo>
                  <a:pt x="3729" y="10572"/>
                  <a:pt x="3732" y="10558"/>
                  <a:pt x="3721" y="10592"/>
                </a:cubicBezTo>
                <a:cubicBezTo>
                  <a:pt x="3760" y="10582"/>
                  <a:pt x="3775" y="10567"/>
                  <a:pt x="3820" y="10567"/>
                </a:cubicBezTo>
                <a:cubicBezTo>
                  <a:pt x="3865" y="10567"/>
                  <a:pt x="3888" y="10542"/>
                  <a:pt x="3944" y="10542"/>
                </a:cubicBezTo>
                <a:cubicBezTo>
                  <a:pt x="3996" y="10542"/>
                  <a:pt x="4008" y="10492"/>
                  <a:pt x="4068" y="10492"/>
                </a:cubicBezTo>
                <a:cubicBezTo>
                  <a:pt x="4096" y="10492"/>
                  <a:pt x="4107" y="10494"/>
                  <a:pt x="4118" y="10517"/>
                </a:cubicBezTo>
              </a:path>
              <a:path w="1042" h="547">
                <a:moveTo>
                  <a:pt x="4242" y="10542"/>
                </a:moveTo>
                <a:cubicBezTo>
                  <a:pt x="4242" y="10599"/>
                  <a:pt x="4232" y="10620"/>
                  <a:pt x="4217" y="10666"/>
                </a:cubicBezTo>
                <a:cubicBezTo>
                  <a:pt x="4217" y="10674"/>
                  <a:pt x="4217" y="10683"/>
                  <a:pt x="4217" y="10691"/>
                </a:cubicBezTo>
              </a:path>
              <a:path w="1042" h="547">
                <a:moveTo>
                  <a:pt x="4490" y="10170"/>
                </a:moveTo>
                <a:cubicBezTo>
                  <a:pt x="4497" y="10148"/>
                  <a:pt x="4528" y="10125"/>
                  <a:pt x="4564" y="10145"/>
                </a:cubicBezTo>
                <a:cubicBezTo>
                  <a:pt x="4608" y="10170"/>
                  <a:pt x="4614" y="10170"/>
                  <a:pt x="4614" y="10220"/>
                </a:cubicBezTo>
                <a:cubicBezTo>
                  <a:pt x="4614" y="10261"/>
                  <a:pt x="4583" y="10309"/>
                  <a:pt x="4564" y="10344"/>
                </a:cubicBezTo>
                <a:cubicBezTo>
                  <a:pt x="4542" y="10385"/>
                  <a:pt x="4503" y="10428"/>
                  <a:pt x="4490" y="10468"/>
                </a:cubicBezTo>
                <a:cubicBezTo>
                  <a:pt x="4484" y="10487"/>
                  <a:pt x="4490" y="10522"/>
                  <a:pt x="4490" y="10542"/>
                </a:cubicBezTo>
                <a:cubicBezTo>
                  <a:pt x="4547" y="10542"/>
                  <a:pt x="4568" y="10551"/>
                  <a:pt x="4614" y="10567"/>
                </a:cubicBezTo>
                <a:cubicBezTo>
                  <a:pt x="4639" y="10576"/>
                  <a:pt x="4678" y="10542"/>
                  <a:pt x="4713" y="10542"/>
                </a:cubicBezTo>
                <a:cubicBezTo>
                  <a:pt x="4741" y="10542"/>
                  <a:pt x="4752" y="10544"/>
                  <a:pt x="4762" y="1056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nk 29"/>
          <p:cNvSpPr/>
          <p:nvPr/>
        </p:nvSpPr>
        <p:spPr>
          <a:xfrm>
            <a:off x="2098800" y="3660840"/>
            <a:ext cx="250560" cy="117360"/>
          </a:xfrm>
          <a:custGeom>
            <a:avLst/>
            <a:gdLst/>
            <a:ahLst/>
            <a:rect l="l" t="t" r="r" b="b"/>
            <a:pathLst>
              <a:path w="696" h="323">
                <a:moveTo>
                  <a:pt x="5829" y="10319"/>
                </a:moveTo>
                <a:cubicBezTo>
                  <a:pt x="5829" y="10369"/>
                  <a:pt x="5829" y="10418"/>
                  <a:pt x="5829" y="10468"/>
                </a:cubicBezTo>
                <a:cubicBezTo>
                  <a:pt x="5902" y="10468"/>
                  <a:pt x="5943" y="10463"/>
                  <a:pt x="6003" y="10443"/>
                </a:cubicBezTo>
                <a:cubicBezTo>
                  <a:pt x="6043" y="10430"/>
                  <a:pt x="6028" y="10395"/>
                  <a:pt x="6028" y="10344"/>
                </a:cubicBezTo>
                <a:cubicBezTo>
                  <a:pt x="6028" y="10303"/>
                  <a:pt x="6022" y="10264"/>
                  <a:pt x="5978" y="10244"/>
                </a:cubicBezTo>
                <a:cubicBezTo>
                  <a:pt x="5930" y="10223"/>
                  <a:pt x="5928" y="10212"/>
                  <a:pt x="5928" y="10269"/>
                </a:cubicBezTo>
              </a:path>
              <a:path w="696" h="323">
                <a:moveTo>
                  <a:pt x="6176" y="10344"/>
                </a:moveTo>
                <a:cubicBezTo>
                  <a:pt x="6176" y="10412"/>
                  <a:pt x="6186" y="10413"/>
                  <a:pt x="6201" y="10443"/>
                </a:cubicBezTo>
                <a:cubicBezTo>
                  <a:pt x="6228" y="10497"/>
                  <a:pt x="6173" y="10493"/>
                  <a:pt x="6201" y="10443"/>
                </a:cubicBezTo>
                <a:cubicBezTo>
                  <a:pt x="6216" y="10416"/>
                  <a:pt x="6231" y="10335"/>
                  <a:pt x="6251" y="10319"/>
                </a:cubicBezTo>
                <a:cubicBezTo>
                  <a:pt x="6288" y="10288"/>
                  <a:pt x="6353" y="10244"/>
                  <a:pt x="6375" y="10195"/>
                </a:cubicBezTo>
                <a:cubicBezTo>
                  <a:pt x="6375" y="10170"/>
                  <a:pt x="6375" y="10162"/>
                  <a:pt x="6400" y="10170"/>
                </a:cubicBezTo>
                <a:cubicBezTo>
                  <a:pt x="6400" y="10216"/>
                  <a:pt x="6406" y="10234"/>
                  <a:pt x="6375" y="10269"/>
                </a:cubicBezTo>
                <a:cubicBezTo>
                  <a:pt x="6358" y="10288"/>
                  <a:pt x="6338" y="10360"/>
                  <a:pt x="6325" y="10368"/>
                </a:cubicBezTo>
                <a:cubicBezTo>
                  <a:pt x="6300" y="10368"/>
                  <a:pt x="6292" y="10368"/>
                  <a:pt x="6300" y="10393"/>
                </a:cubicBezTo>
                <a:cubicBezTo>
                  <a:pt x="6310" y="10422"/>
                  <a:pt x="6334" y="10438"/>
                  <a:pt x="6375" y="10443"/>
                </a:cubicBezTo>
                <a:cubicBezTo>
                  <a:pt x="6429" y="10449"/>
                  <a:pt x="6454" y="10453"/>
                  <a:pt x="6499" y="10468"/>
                </a:cubicBezTo>
                <a:cubicBezTo>
                  <a:pt x="6524" y="10468"/>
                  <a:pt x="6532" y="10468"/>
                  <a:pt x="6524" y="104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nk 30"/>
          <p:cNvSpPr/>
          <p:nvPr/>
        </p:nvSpPr>
        <p:spPr>
          <a:xfrm>
            <a:off x="2759040" y="3652920"/>
            <a:ext cx="366840" cy="187200"/>
          </a:xfrm>
          <a:custGeom>
            <a:avLst/>
            <a:gdLst/>
            <a:ahLst/>
            <a:rect l="l" t="t" r="r" b="b"/>
            <a:pathLst>
              <a:path w="1018" h="522">
                <a:moveTo>
                  <a:pt x="7689" y="10170"/>
                </a:moveTo>
                <a:cubicBezTo>
                  <a:pt x="7621" y="10170"/>
                  <a:pt x="7733" y="10174"/>
                  <a:pt x="7739" y="10170"/>
                </a:cubicBezTo>
                <a:cubicBezTo>
                  <a:pt x="7785" y="10144"/>
                  <a:pt x="7804" y="10145"/>
                  <a:pt x="7863" y="10145"/>
                </a:cubicBezTo>
                <a:cubicBezTo>
                  <a:pt x="7888" y="10145"/>
                  <a:pt x="7913" y="10145"/>
                  <a:pt x="7938" y="10145"/>
                </a:cubicBezTo>
                <a:cubicBezTo>
                  <a:pt x="7938" y="10225"/>
                  <a:pt x="7907" y="10189"/>
                  <a:pt x="7863" y="10244"/>
                </a:cubicBezTo>
                <a:cubicBezTo>
                  <a:pt x="7853" y="10257"/>
                  <a:pt x="7793" y="10313"/>
                  <a:pt x="7789" y="10319"/>
                </a:cubicBezTo>
                <a:cubicBezTo>
                  <a:pt x="7764" y="10358"/>
                  <a:pt x="7808" y="10390"/>
                  <a:pt x="7838" y="10393"/>
                </a:cubicBezTo>
                <a:cubicBezTo>
                  <a:pt x="7879" y="10398"/>
                  <a:pt x="7917" y="10395"/>
                  <a:pt x="7938" y="10443"/>
                </a:cubicBezTo>
                <a:cubicBezTo>
                  <a:pt x="7957" y="10487"/>
                  <a:pt x="7914" y="10516"/>
                  <a:pt x="7888" y="10542"/>
                </a:cubicBezTo>
                <a:cubicBezTo>
                  <a:pt x="7851" y="10579"/>
                  <a:pt x="7815" y="10567"/>
                  <a:pt x="7764" y="10567"/>
                </a:cubicBezTo>
                <a:cubicBezTo>
                  <a:pt x="7756" y="10567"/>
                  <a:pt x="7747" y="10567"/>
                  <a:pt x="7739" y="10567"/>
                </a:cubicBezTo>
                <a:cubicBezTo>
                  <a:pt x="7754" y="10506"/>
                  <a:pt x="7778" y="10501"/>
                  <a:pt x="7838" y="10492"/>
                </a:cubicBezTo>
              </a:path>
              <a:path w="1018" h="522">
                <a:moveTo>
                  <a:pt x="8161" y="10542"/>
                </a:moveTo>
                <a:cubicBezTo>
                  <a:pt x="8161" y="10588"/>
                  <a:pt x="8141" y="10600"/>
                  <a:pt x="8136" y="10641"/>
                </a:cubicBezTo>
                <a:cubicBezTo>
                  <a:pt x="8131" y="10683"/>
                  <a:pt x="8076" y="10666"/>
                  <a:pt x="8161" y="10666"/>
                </a:cubicBezTo>
              </a:path>
              <a:path w="1018" h="522">
                <a:moveTo>
                  <a:pt x="8458" y="10170"/>
                </a:moveTo>
                <a:cubicBezTo>
                  <a:pt x="8496" y="10157"/>
                  <a:pt x="8479" y="10145"/>
                  <a:pt x="8533" y="10145"/>
                </a:cubicBezTo>
                <a:cubicBezTo>
                  <a:pt x="8541" y="10145"/>
                  <a:pt x="8550" y="10145"/>
                  <a:pt x="8558" y="10145"/>
                </a:cubicBezTo>
                <a:cubicBezTo>
                  <a:pt x="8558" y="10202"/>
                  <a:pt x="8548" y="10223"/>
                  <a:pt x="8533" y="10269"/>
                </a:cubicBezTo>
                <a:cubicBezTo>
                  <a:pt x="8522" y="10301"/>
                  <a:pt x="8482" y="10343"/>
                  <a:pt x="8533" y="10368"/>
                </a:cubicBezTo>
                <a:cubicBezTo>
                  <a:pt x="8567" y="10384"/>
                  <a:pt x="8579" y="10414"/>
                  <a:pt x="8607" y="10418"/>
                </a:cubicBezTo>
                <a:cubicBezTo>
                  <a:pt x="8645" y="10423"/>
                  <a:pt x="8654" y="10440"/>
                  <a:pt x="8682" y="10468"/>
                </a:cubicBezTo>
                <a:cubicBezTo>
                  <a:pt x="8658" y="10500"/>
                  <a:pt x="8640" y="10567"/>
                  <a:pt x="8607" y="10592"/>
                </a:cubicBezTo>
                <a:cubicBezTo>
                  <a:pt x="8583" y="10611"/>
                  <a:pt x="8512" y="10632"/>
                  <a:pt x="8483" y="10641"/>
                </a:cubicBezTo>
                <a:cubicBezTo>
                  <a:pt x="8447" y="10652"/>
                  <a:pt x="8413" y="10648"/>
                  <a:pt x="8409" y="10616"/>
                </a:cubicBezTo>
                <a:cubicBezTo>
                  <a:pt x="8409" y="10608"/>
                  <a:pt x="8409" y="10600"/>
                  <a:pt x="8409" y="105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nk 31"/>
          <p:cNvSpPr/>
          <p:nvPr/>
        </p:nvSpPr>
        <p:spPr>
          <a:xfrm>
            <a:off x="3589200" y="3714840"/>
            <a:ext cx="216000" cy="142920"/>
          </a:xfrm>
          <a:custGeom>
            <a:avLst/>
            <a:gdLst/>
            <a:ahLst/>
            <a:rect l="l" t="t" r="r" b="b"/>
            <a:pathLst>
              <a:path w="597" h="398">
                <a:moveTo>
                  <a:pt x="10071" y="10418"/>
                </a:moveTo>
                <a:cubicBezTo>
                  <a:pt x="10031" y="10428"/>
                  <a:pt x="10019" y="10451"/>
                  <a:pt x="9996" y="10468"/>
                </a:cubicBezTo>
                <a:cubicBezTo>
                  <a:pt x="9981" y="10479"/>
                  <a:pt x="9948" y="10549"/>
                  <a:pt x="9971" y="10567"/>
                </a:cubicBezTo>
                <a:cubicBezTo>
                  <a:pt x="9989" y="10581"/>
                  <a:pt x="10044" y="10614"/>
                  <a:pt x="10071" y="10616"/>
                </a:cubicBezTo>
                <a:cubicBezTo>
                  <a:pt x="10121" y="10620"/>
                  <a:pt x="10158" y="10624"/>
                  <a:pt x="10195" y="10592"/>
                </a:cubicBezTo>
                <a:cubicBezTo>
                  <a:pt x="10216" y="10574"/>
                  <a:pt x="10237" y="10522"/>
                  <a:pt x="10220" y="10492"/>
                </a:cubicBezTo>
                <a:cubicBezTo>
                  <a:pt x="10204" y="10463"/>
                  <a:pt x="10147" y="10427"/>
                  <a:pt x="10120" y="10418"/>
                </a:cubicBezTo>
                <a:cubicBezTo>
                  <a:pt x="10096" y="10418"/>
                  <a:pt x="10087" y="10418"/>
                  <a:pt x="10071" y="10418"/>
                </a:cubicBezTo>
                <a:cubicBezTo>
                  <a:pt x="10107" y="10445"/>
                  <a:pt x="10123" y="10448"/>
                  <a:pt x="10170" y="10468"/>
                </a:cubicBezTo>
              </a:path>
              <a:path w="597" h="398">
                <a:moveTo>
                  <a:pt x="10319" y="10542"/>
                </a:moveTo>
                <a:cubicBezTo>
                  <a:pt x="10319" y="10599"/>
                  <a:pt x="10329" y="10620"/>
                  <a:pt x="10344" y="10666"/>
                </a:cubicBezTo>
                <a:cubicBezTo>
                  <a:pt x="10362" y="10719"/>
                  <a:pt x="10344" y="10638"/>
                  <a:pt x="10344" y="10616"/>
                </a:cubicBezTo>
                <a:cubicBezTo>
                  <a:pt x="10344" y="10550"/>
                  <a:pt x="10352" y="10523"/>
                  <a:pt x="10393" y="10468"/>
                </a:cubicBezTo>
                <a:cubicBezTo>
                  <a:pt x="10413" y="10441"/>
                  <a:pt x="10470" y="10361"/>
                  <a:pt x="10492" y="10344"/>
                </a:cubicBezTo>
                <a:cubicBezTo>
                  <a:pt x="10513" y="10328"/>
                  <a:pt x="10515" y="10328"/>
                  <a:pt x="10542" y="10319"/>
                </a:cubicBezTo>
                <a:cubicBezTo>
                  <a:pt x="10542" y="10360"/>
                  <a:pt x="10560" y="10446"/>
                  <a:pt x="10517" y="10468"/>
                </a:cubicBezTo>
                <a:cubicBezTo>
                  <a:pt x="10487" y="10483"/>
                  <a:pt x="10478" y="10486"/>
                  <a:pt x="10443" y="10517"/>
                </a:cubicBezTo>
                <a:cubicBezTo>
                  <a:pt x="10416" y="10541"/>
                  <a:pt x="10335" y="10551"/>
                  <a:pt x="10368" y="10567"/>
                </a:cubicBezTo>
                <a:cubicBezTo>
                  <a:pt x="10390" y="10578"/>
                  <a:pt x="10444" y="10611"/>
                  <a:pt x="10468" y="10616"/>
                </a:cubicBezTo>
                <a:cubicBezTo>
                  <a:pt x="10500" y="10623"/>
                  <a:pt x="10547" y="10626"/>
                  <a:pt x="10567" y="10666"/>
                </a:cubicBezTo>
                <a:cubicBezTo>
                  <a:pt x="10585" y="10702"/>
                  <a:pt x="10563" y="10709"/>
                  <a:pt x="10542" y="1071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nk 32"/>
          <p:cNvSpPr/>
          <p:nvPr/>
        </p:nvSpPr>
        <p:spPr>
          <a:xfrm>
            <a:off x="4367160" y="3643200"/>
            <a:ext cx="401760" cy="258840"/>
          </a:xfrm>
          <a:custGeom>
            <a:avLst/>
            <a:gdLst/>
            <a:ahLst/>
            <a:rect l="l" t="t" r="r" b="b"/>
            <a:pathLst>
              <a:path w="1118" h="721">
                <a:moveTo>
                  <a:pt x="12278" y="10170"/>
                </a:moveTo>
                <a:cubicBezTo>
                  <a:pt x="12269" y="10216"/>
                  <a:pt x="12260" y="10259"/>
                  <a:pt x="12229" y="10294"/>
                </a:cubicBezTo>
                <a:cubicBezTo>
                  <a:pt x="12184" y="10344"/>
                  <a:pt x="12185" y="10417"/>
                  <a:pt x="12154" y="10468"/>
                </a:cubicBezTo>
                <a:cubicBezTo>
                  <a:pt x="12129" y="10508"/>
                  <a:pt x="12129" y="10517"/>
                  <a:pt x="12129" y="10567"/>
                </a:cubicBezTo>
                <a:cubicBezTo>
                  <a:pt x="12229" y="10567"/>
                  <a:pt x="12309" y="10565"/>
                  <a:pt x="12402" y="10542"/>
                </a:cubicBezTo>
                <a:cubicBezTo>
                  <a:pt x="12416" y="10538"/>
                  <a:pt x="12542" y="10542"/>
                  <a:pt x="12477" y="10542"/>
                </a:cubicBezTo>
              </a:path>
              <a:path w="1118" h="721">
                <a:moveTo>
                  <a:pt x="12378" y="10368"/>
                </a:moveTo>
                <a:cubicBezTo>
                  <a:pt x="12370" y="10368"/>
                  <a:pt x="12361" y="10368"/>
                  <a:pt x="12353" y="10368"/>
                </a:cubicBezTo>
                <a:cubicBezTo>
                  <a:pt x="12353" y="10460"/>
                  <a:pt x="12318" y="10652"/>
                  <a:pt x="12402" y="10666"/>
                </a:cubicBezTo>
              </a:path>
              <a:path w="1118" h="721">
                <a:moveTo>
                  <a:pt x="13047" y="10120"/>
                </a:moveTo>
                <a:cubicBezTo>
                  <a:pt x="13033" y="10175"/>
                  <a:pt x="12984" y="10207"/>
                  <a:pt x="12973" y="10269"/>
                </a:cubicBezTo>
                <a:cubicBezTo>
                  <a:pt x="12963" y="10325"/>
                  <a:pt x="12948" y="10357"/>
                  <a:pt x="12948" y="10418"/>
                </a:cubicBezTo>
                <a:cubicBezTo>
                  <a:pt x="12948" y="10459"/>
                  <a:pt x="12930" y="10545"/>
                  <a:pt x="12973" y="10567"/>
                </a:cubicBezTo>
                <a:cubicBezTo>
                  <a:pt x="13022" y="10591"/>
                  <a:pt x="13062" y="10554"/>
                  <a:pt x="13097" y="10542"/>
                </a:cubicBezTo>
                <a:cubicBezTo>
                  <a:pt x="13130" y="10531"/>
                  <a:pt x="13186" y="10542"/>
                  <a:pt x="13221" y="10542"/>
                </a:cubicBezTo>
                <a:cubicBezTo>
                  <a:pt x="13234" y="10502"/>
                  <a:pt x="13233" y="10532"/>
                  <a:pt x="13246" y="10492"/>
                </a:cubicBezTo>
              </a:path>
              <a:path w="1118" h="721">
                <a:moveTo>
                  <a:pt x="13097" y="10393"/>
                </a:moveTo>
                <a:cubicBezTo>
                  <a:pt x="13069" y="10431"/>
                  <a:pt x="13072" y="10444"/>
                  <a:pt x="13072" y="10492"/>
                </a:cubicBezTo>
                <a:cubicBezTo>
                  <a:pt x="13072" y="10565"/>
                  <a:pt x="13067" y="10606"/>
                  <a:pt x="13047" y="10666"/>
                </a:cubicBezTo>
                <a:cubicBezTo>
                  <a:pt x="13047" y="10694"/>
                  <a:pt x="13045" y="10705"/>
                  <a:pt x="13022" y="10716"/>
                </a:cubicBezTo>
              </a:path>
              <a:path w="1118" h="721">
                <a:moveTo>
                  <a:pt x="12650" y="10716"/>
                </a:moveTo>
                <a:cubicBezTo>
                  <a:pt x="12644" y="10739"/>
                  <a:pt x="12638" y="10794"/>
                  <a:pt x="12626" y="10815"/>
                </a:cubicBezTo>
                <a:cubicBezTo>
                  <a:pt x="12603" y="10838"/>
                  <a:pt x="12592" y="10846"/>
                  <a:pt x="12626" y="108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nk 33"/>
          <p:cNvSpPr/>
          <p:nvPr/>
        </p:nvSpPr>
        <p:spPr>
          <a:xfrm>
            <a:off x="5045040" y="3732120"/>
            <a:ext cx="285840" cy="125640"/>
          </a:xfrm>
          <a:custGeom>
            <a:avLst/>
            <a:gdLst/>
            <a:ahLst/>
            <a:rect l="l" t="t" r="r" b="b"/>
            <a:pathLst>
              <a:path w="794" h="349">
                <a:moveTo>
                  <a:pt x="14039" y="10468"/>
                </a:moveTo>
                <a:cubicBezTo>
                  <a:pt x="14007" y="10511"/>
                  <a:pt x="14015" y="10535"/>
                  <a:pt x="14015" y="10592"/>
                </a:cubicBezTo>
                <a:cubicBezTo>
                  <a:pt x="14015" y="10622"/>
                  <a:pt x="14056" y="10637"/>
                  <a:pt x="14089" y="10641"/>
                </a:cubicBezTo>
                <a:cubicBezTo>
                  <a:pt x="14128" y="10645"/>
                  <a:pt x="14241" y="10659"/>
                  <a:pt x="14263" y="10616"/>
                </a:cubicBezTo>
                <a:cubicBezTo>
                  <a:pt x="14278" y="10587"/>
                  <a:pt x="14262" y="10533"/>
                  <a:pt x="14238" y="10517"/>
                </a:cubicBezTo>
                <a:cubicBezTo>
                  <a:pt x="14200" y="10491"/>
                  <a:pt x="14092" y="10427"/>
                  <a:pt x="14114" y="10468"/>
                </a:cubicBezTo>
                <a:cubicBezTo>
                  <a:pt x="14142" y="10495"/>
                  <a:pt x="14156" y="10503"/>
                  <a:pt x="14188" y="10492"/>
                </a:cubicBezTo>
              </a:path>
              <a:path w="794" h="349">
                <a:moveTo>
                  <a:pt x="14436" y="10567"/>
                </a:moveTo>
                <a:cubicBezTo>
                  <a:pt x="14436" y="10617"/>
                  <a:pt x="14436" y="10666"/>
                  <a:pt x="14436" y="10716"/>
                </a:cubicBezTo>
                <a:cubicBezTo>
                  <a:pt x="14436" y="10680"/>
                  <a:pt x="14443" y="10642"/>
                  <a:pt x="14461" y="10616"/>
                </a:cubicBezTo>
                <a:cubicBezTo>
                  <a:pt x="14489" y="10575"/>
                  <a:pt x="14513" y="10531"/>
                  <a:pt x="14536" y="10492"/>
                </a:cubicBezTo>
                <a:cubicBezTo>
                  <a:pt x="14563" y="10446"/>
                  <a:pt x="14637" y="10445"/>
                  <a:pt x="14660" y="10393"/>
                </a:cubicBezTo>
                <a:cubicBezTo>
                  <a:pt x="14660" y="10368"/>
                  <a:pt x="14660" y="10360"/>
                  <a:pt x="14684" y="10368"/>
                </a:cubicBezTo>
                <a:cubicBezTo>
                  <a:pt x="14684" y="10417"/>
                  <a:pt x="14673" y="10428"/>
                  <a:pt x="14660" y="10468"/>
                </a:cubicBezTo>
                <a:cubicBezTo>
                  <a:pt x="14646" y="10511"/>
                  <a:pt x="14603" y="10526"/>
                  <a:pt x="14585" y="10567"/>
                </a:cubicBezTo>
                <a:cubicBezTo>
                  <a:pt x="14561" y="10620"/>
                  <a:pt x="14552" y="10571"/>
                  <a:pt x="14560" y="10592"/>
                </a:cubicBezTo>
                <a:cubicBezTo>
                  <a:pt x="14574" y="10627"/>
                  <a:pt x="14590" y="10616"/>
                  <a:pt x="14635" y="10616"/>
                </a:cubicBezTo>
                <a:cubicBezTo>
                  <a:pt x="14659" y="10616"/>
                  <a:pt x="14722" y="10642"/>
                  <a:pt x="14734" y="10666"/>
                </a:cubicBezTo>
                <a:cubicBezTo>
                  <a:pt x="14751" y="10701"/>
                  <a:pt x="14760" y="10691"/>
                  <a:pt x="14808" y="1069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nk 34"/>
          <p:cNvSpPr/>
          <p:nvPr/>
        </p:nvSpPr>
        <p:spPr>
          <a:xfrm>
            <a:off x="5643720" y="3633840"/>
            <a:ext cx="411120" cy="233280"/>
          </a:xfrm>
          <a:custGeom>
            <a:avLst/>
            <a:gdLst/>
            <a:ahLst/>
            <a:rect l="l" t="t" r="r" b="b"/>
            <a:pathLst>
              <a:path w="1142" h="645">
                <a:moveTo>
                  <a:pt x="15875" y="10120"/>
                </a:moveTo>
                <a:cubicBezTo>
                  <a:pt x="15945" y="10138"/>
                  <a:pt x="15932" y="10113"/>
                  <a:pt x="15999" y="10096"/>
                </a:cubicBezTo>
                <a:cubicBezTo>
                  <a:pt x="16016" y="10092"/>
                  <a:pt x="16184" y="10096"/>
                  <a:pt x="16123" y="10096"/>
                </a:cubicBezTo>
              </a:path>
              <a:path w="1142" h="645">
                <a:moveTo>
                  <a:pt x="15875" y="10145"/>
                </a:moveTo>
                <a:cubicBezTo>
                  <a:pt x="15851" y="10177"/>
                  <a:pt x="15845" y="10214"/>
                  <a:pt x="15825" y="10244"/>
                </a:cubicBezTo>
                <a:cubicBezTo>
                  <a:pt x="15817" y="10252"/>
                  <a:pt x="15809" y="10261"/>
                  <a:pt x="15801" y="10269"/>
                </a:cubicBezTo>
                <a:cubicBezTo>
                  <a:pt x="15843" y="10312"/>
                  <a:pt x="15860" y="10297"/>
                  <a:pt x="15900" y="10319"/>
                </a:cubicBezTo>
                <a:cubicBezTo>
                  <a:pt x="15939" y="10341"/>
                  <a:pt x="15928" y="10344"/>
                  <a:pt x="15974" y="10344"/>
                </a:cubicBezTo>
                <a:cubicBezTo>
                  <a:pt x="15974" y="10389"/>
                  <a:pt x="15995" y="10403"/>
                  <a:pt x="15999" y="10443"/>
                </a:cubicBezTo>
                <a:cubicBezTo>
                  <a:pt x="16003" y="10483"/>
                  <a:pt x="15951" y="10515"/>
                  <a:pt x="15925" y="10542"/>
                </a:cubicBezTo>
                <a:cubicBezTo>
                  <a:pt x="15891" y="10577"/>
                  <a:pt x="15850" y="10589"/>
                  <a:pt x="15801" y="10592"/>
                </a:cubicBezTo>
                <a:cubicBezTo>
                  <a:pt x="15766" y="10594"/>
                  <a:pt x="15696" y="10606"/>
                  <a:pt x="15677" y="10567"/>
                </a:cubicBezTo>
                <a:cubicBezTo>
                  <a:pt x="15657" y="10526"/>
                  <a:pt x="15731" y="10542"/>
                  <a:pt x="15751" y="10542"/>
                </a:cubicBezTo>
              </a:path>
              <a:path w="1142" h="645">
                <a:moveTo>
                  <a:pt x="16148" y="10641"/>
                </a:moveTo>
                <a:cubicBezTo>
                  <a:pt x="16139" y="10653"/>
                  <a:pt x="16083" y="10725"/>
                  <a:pt x="16098" y="10740"/>
                </a:cubicBezTo>
                <a:cubicBezTo>
                  <a:pt x="16106" y="10740"/>
                  <a:pt x="16115" y="10740"/>
                  <a:pt x="16123" y="10740"/>
                </a:cubicBezTo>
              </a:path>
              <a:path w="1142" h="645">
                <a:moveTo>
                  <a:pt x="16594" y="10220"/>
                </a:moveTo>
                <a:cubicBezTo>
                  <a:pt x="16669" y="10220"/>
                  <a:pt x="16743" y="10220"/>
                  <a:pt x="16818" y="10220"/>
                </a:cubicBezTo>
              </a:path>
              <a:path w="1142" h="645">
                <a:moveTo>
                  <a:pt x="16570" y="10244"/>
                </a:moveTo>
                <a:cubicBezTo>
                  <a:pt x="16550" y="10284"/>
                  <a:pt x="16501" y="10291"/>
                  <a:pt x="16495" y="10344"/>
                </a:cubicBezTo>
                <a:cubicBezTo>
                  <a:pt x="16489" y="10394"/>
                  <a:pt x="16494" y="10398"/>
                  <a:pt x="16520" y="10418"/>
                </a:cubicBezTo>
                <a:cubicBezTo>
                  <a:pt x="16559" y="10447"/>
                  <a:pt x="16619" y="10460"/>
                  <a:pt x="16644" y="10492"/>
                </a:cubicBezTo>
                <a:cubicBezTo>
                  <a:pt x="16660" y="10512"/>
                  <a:pt x="16686" y="10586"/>
                  <a:pt x="16669" y="10616"/>
                </a:cubicBezTo>
                <a:cubicBezTo>
                  <a:pt x="16647" y="10655"/>
                  <a:pt x="16611" y="10702"/>
                  <a:pt x="16570" y="10716"/>
                </a:cubicBezTo>
                <a:cubicBezTo>
                  <a:pt x="16546" y="10724"/>
                  <a:pt x="16500" y="10756"/>
                  <a:pt x="16470" y="10740"/>
                </a:cubicBezTo>
                <a:cubicBezTo>
                  <a:pt x="16437" y="10722"/>
                  <a:pt x="16408" y="10703"/>
                  <a:pt x="16396" y="10666"/>
                </a:cubicBezTo>
                <a:cubicBezTo>
                  <a:pt x="16381" y="10622"/>
                  <a:pt x="16417" y="10631"/>
                  <a:pt x="16371" y="1061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nk 35"/>
          <p:cNvSpPr/>
          <p:nvPr/>
        </p:nvSpPr>
        <p:spPr>
          <a:xfrm>
            <a:off x="6554880" y="377676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8256" y="10542"/>
                </a:moveTo>
                <a:cubicBezTo>
                  <a:pt x="18264" y="10542"/>
                  <a:pt x="18273" y="10542"/>
                  <a:pt x="18281" y="10542"/>
                </a:cubicBezTo>
                <a:cubicBezTo>
                  <a:pt x="18292" y="10509"/>
                  <a:pt x="18295" y="10519"/>
                  <a:pt x="18331" y="10492"/>
                </a:cubicBezTo>
                <a:cubicBezTo>
                  <a:pt x="18373" y="10529"/>
                  <a:pt x="18407" y="10551"/>
                  <a:pt x="18455" y="10567"/>
                </a:cubicBezTo>
                <a:cubicBezTo>
                  <a:pt x="18474" y="10573"/>
                  <a:pt x="18509" y="10567"/>
                  <a:pt x="18529" y="10567"/>
                </a:cubicBezTo>
                <a:cubicBezTo>
                  <a:pt x="18519" y="10607"/>
                  <a:pt x="18520" y="10606"/>
                  <a:pt x="18479" y="10616"/>
                </a:cubicBezTo>
              </a:path>
              <a:path w="398" h="249">
                <a:moveTo>
                  <a:pt x="18207" y="10740"/>
                </a:moveTo>
                <a:cubicBezTo>
                  <a:pt x="18339" y="10740"/>
                  <a:pt x="18472" y="10740"/>
                  <a:pt x="18604" y="107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nk 36"/>
          <p:cNvSpPr/>
          <p:nvPr/>
        </p:nvSpPr>
        <p:spPr>
          <a:xfrm>
            <a:off x="6973920" y="3625920"/>
            <a:ext cx="393840" cy="438120"/>
          </a:xfrm>
          <a:custGeom>
            <a:avLst/>
            <a:gdLst/>
            <a:ahLst/>
            <a:rect l="l" t="t" r="r" b="b"/>
            <a:pathLst>
              <a:path w="1093" h="1216">
                <a:moveTo>
                  <a:pt x="19794" y="10071"/>
                </a:moveTo>
                <a:cubicBezTo>
                  <a:pt x="19786" y="10071"/>
                  <a:pt x="19777" y="10071"/>
                  <a:pt x="19769" y="10071"/>
                </a:cubicBezTo>
                <a:cubicBezTo>
                  <a:pt x="19769" y="10130"/>
                  <a:pt x="19741" y="10122"/>
                  <a:pt x="19720" y="10170"/>
                </a:cubicBezTo>
                <a:cubicBezTo>
                  <a:pt x="19707" y="10200"/>
                  <a:pt x="19680" y="10238"/>
                  <a:pt x="19670" y="10269"/>
                </a:cubicBezTo>
                <a:cubicBezTo>
                  <a:pt x="19661" y="10295"/>
                  <a:pt x="19670" y="10340"/>
                  <a:pt x="19670" y="10368"/>
                </a:cubicBezTo>
                <a:cubicBezTo>
                  <a:pt x="19716" y="10368"/>
                  <a:pt x="19729" y="10388"/>
                  <a:pt x="19769" y="10393"/>
                </a:cubicBezTo>
                <a:cubicBezTo>
                  <a:pt x="19837" y="10401"/>
                  <a:pt x="19882" y="10383"/>
                  <a:pt x="19943" y="10368"/>
                </a:cubicBezTo>
                <a:cubicBezTo>
                  <a:pt x="19988" y="10357"/>
                  <a:pt x="20020" y="10348"/>
                  <a:pt x="20067" y="10344"/>
                </a:cubicBezTo>
                <a:cubicBezTo>
                  <a:pt x="20112" y="10340"/>
                  <a:pt x="20128" y="10359"/>
                  <a:pt x="20141" y="10319"/>
                </a:cubicBezTo>
              </a:path>
              <a:path w="1093" h="1216">
                <a:moveTo>
                  <a:pt x="19968" y="10220"/>
                </a:moveTo>
                <a:cubicBezTo>
                  <a:pt x="19968" y="10265"/>
                  <a:pt x="19947" y="10279"/>
                  <a:pt x="19943" y="10319"/>
                </a:cubicBezTo>
                <a:cubicBezTo>
                  <a:pt x="19938" y="10364"/>
                  <a:pt x="19918" y="10396"/>
                  <a:pt x="19918" y="10443"/>
                </a:cubicBezTo>
                <a:cubicBezTo>
                  <a:pt x="19918" y="10509"/>
                  <a:pt x="19918" y="10575"/>
                  <a:pt x="19918" y="10641"/>
                </a:cubicBezTo>
                <a:cubicBezTo>
                  <a:pt x="19883" y="10653"/>
                  <a:pt x="19893" y="10648"/>
                  <a:pt x="19893" y="10691"/>
                </a:cubicBezTo>
              </a:path>
              <a:path w="1093" h="1216">
                <a:moveTo>
                  <a:pt x="19372" y="10616"/>
                </a:moveTo>
                <a:cubicBezTo>
                  <a:pt x="19437" y="10616"/>
                  <a:pt x="19485" y="10631"/>
                  <a:pt x="19546" y="10641"/>
                </a:cubicBezTo>
                <a:cubicBezTo>
                  <a:pt x="19619" y="10653"/>
                  <a:pt x="19698" y="10644"/>
                  <a:pt x="19769" y="10666"/>
                </a:cubicBezTo>
                <a:cubicBezTo>
                  <a:pt x="19860" y="10695"/>
                  <a:pt x="19944" y="10691"/>
                  <a:pt x="20042" y="10691"/>
                </a:cubicBezTo>
                <a:cubicBezTo>
                  <a:pt x="20191" y="10691"/>
                  <a:pt x="20588" y="10691"/>
                  <a:pt x="20439" y="10691"/>
                </a:cubicBezTo>
              </a:path>
              <a:path w="1093" h="1216">
                <a:moveTo>
                  <a:pt x="19745" y="10790"/>
                </a:moveTo>
                <a:cubicBezTo>
                  <a:pt x="19735" y="10829"/>
                  <a:pt x="19720" y="10845"/>
                  <a:pt x="19720" y="10889"/>
                </a:cubicBezTo>
                <a:cubicBezTo>
                  <a:pt x="19720" y="10925"/>
                  <a:pt x="19713" y="10961"/>
                  <a:pt x="19695" y="10988"/>
                </a:cubicBezTo>
                <a:cubicBezTo>
                  <a:pt x="19672" y="11022"/>
                  <a:pt x="19649" y="11072"/>
                  <a:pt x="19645" y="11112"/>
                </a:cubicBezTo>
                <a:cubicBezTo>
                  <a:pt x="19642" y="11136"/>
                  <a:pt x="19645" y="11163"/>
                  <a:pt x="19645" y="11187"/>
                </a:cubicBezTo>
                <a:cubicBezTo>
                  <a:pt x="19678" y="11187"/>
                  <a:pt x="19712" y="11187"/>
                  <a:pt x="19745" y="11187"/>
                </a:cubicBezTo>
              </a:path>
              <a:path w="1093" h="1216">
                <a:moveTo>
                  <a:pt x="20166" y="10815"/>
                </a:moveTo>
                <a:cubicBezTo>
                  <a:pt x="20156" y="10844"/>
                  <a:pt x="20146" y="10856"/>
                  <a:pt x="20117" y="10889"/>
                </a:cubicBezTo>
                <a:cubicBezTo>
                  <a:pt x="20086" y="10925"/>
                  <a:pt x="20067" y="10927"/>
                  <a:pt x="20042" y="10964"/>
                </a:cubicBezTo>
                <a:cubicBezTo>
                  <a:pt x="20011" y="11009"/>
                  <a:pt x="19993" y="11005"/>
                  <a:pt x="19993" y="11063"/>
                </a:cubicBezTo>
                <a:cubicBezTo>
                  <a:pt x="19993" y="11118"/>
                  <a:pt x="19981" y="11170"/>
                  <a:pt x="20017" y="11212"/>
                </a:cubicBezTo>
                <a:cubicBezTo>
                  <a:pt x="20040" y="11238"/>
                  <a:pt x="20084" y="11257"/>
                  <a:pt x="20117" y="11261"/>
                </a:cubicBezTo>
                <a:cubicBezTo>
                  <a:pt x="20160" y="11266"/>
                  <a:pt x="20187" y="11309"/>
                  <a:pt x="20241" y="11286"/>
                </a:cubicBezTo>
                <a:cubicBezTo>
                  <a:pt x="20274" y="11272"/>
                  <a:pt x="20304" y="11227"/>
                  <a:pt x="20315" y="11212"/>
                </a:cubicBezTo>
                <a:cubicBezTo>
                  <a:pt x="20344" y="11174"/>
                  <a:pt x="20340" y="11161"/>
                  <a:pt x="20340" y="11112"/>
                </a:cubicBezTo>
                <a:cubicBezTo>
                  <a:pt x="20340" y="11076"/>
                  <a:pt x="20317" y="11041"/>
                  <a:pt x="20290" y="11038"/>
                </a:cubicBezTo>
                <a:cubicBezTo>
                  <a:pt x="20260" y="11034"/>
                  <a:pt x="20100" y="11027"/>
                  <a:pt x="20117" y="11063"/>
                </a:cubicBezTo>
                <a:cubicBezTo>
                  <a:pt x="20125" y="11071"/>
                  <a:pt x="20133" y="11080"/>
                  <a:pt x="20141" y="1108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nk 37"/>
          <p:cNvSpPr/>
          <p:nvPr/>
        </p:nvSpPr>
        <p:spPr>
          <a:xfrm>
            <a:off x="7697880" y="3795840"/>
            <a:ext cx="312480" cy="133200"/>
          </a:xfrm>
          <a:custGeom>
            <a:avLst/>
            <a:gdLst/>
            <a:ahLst/>
            <a:rect l="l" t="t" r="r" b="b"/>
            <a:pathLst>
              <a:path w="869" h="373">
                <a:moveTo>
                  <a:pt x="21506" y="10691"/>
                </a:moveTo>
                <a:cubicBezTo>
                  <a:pt x="21469" y="10719"/>
                  <a:pt x="21441" y="10729"/>
                  <a:pt x="21406" y="10765"/>
                </a:cubicBezTo>
                <a:cubicBezTo>
                  <a:pt x="21374" y="10797"/>
                  <a:pt x="21382" y="10821"/>
                  <a:pt x="21382" y="10864"/>
                </a:cubicBezTo>
                <a:cubicBezTo>
                  <a:pt x="21382" y="10872"/>
                  <a:pt x="21382" y="10881"/>
                  <a:pt x="21382" y="10889"/>
                </a:cubicBezTo>
                <a:cubicBezTo>
                  <a:pt x="21446" y="10898"/>
                  <a:pt x="21484" y="10914"/>
                  <a:pt x="21555" y="10914"/>
                </a:cubicBezTo>
                <a:cubicBezTo>
                  <a:pt x="21597" y="10914"/>
                  <a:pt x="21636" y="10895"/>
                  <a:pt x="21679" y="10889"/>
                </a:cubicBezTo>
                <a:cubicBezTo>
                  <a:pt x="21679" y="10838"/>
                  <a:pt x="21688" y="10804"/>
                  <a:pt x="21654" y="10765"/>
                </a:cubicBezTo>
                <a:cubicBezTo>
                  <a:pt x="21619" y="10725"/>
                  <a:pt x="21606" y="10716"/>
                  <a:pt x="21555" y="10716"/>
                </a:cubicBezTo>
                <a:cubicBezTo>
                  <a:pt x="21530" y="10716"/>
                  <a:pt x="21522" y="10716"/>
                  <a:pt x="21506" y="10716"/>
                </a:cubicBezTo>
                <a:cubicBezTo>
                  <a:pt x="21545" y="10726"/>
                  <a:pt x="21561" y="10740"/>
                  <a:pt x="21605" y="10740"/>
                </a:cubicBezTo>
              </a:path>
              <a:path w="869" h="373">
                <a:moveTo>
                  <a:pt x="21853" y="10691"/>
                </a:moveTo>
                <a:cubicBezTo>
                  <a:pt x="21853" y="10768"/>
                  <a:pt x="21856" y="10825"/>
                  <a:pt x="21878" y="10889"/>
                </a:cubicBezTo>
                <a:cubicBezTo>
                  <a:pt x="21891" y="10928"/>
                  <a:pt x="21889" y="10874"/>
                  <a:pt x="21903" y="10840"/>
                </a:cubicBezTo>
                <a:cubicBezTo>
                  <a:pt x="21920" y="10800"/>
                  <a:pt x="21940" y="10719"/>
                  <a:pt x="21977" y="10691"/>
                </a:cubicBezTo>
                <a:cubicBezTo>
                  <a:pt x="22011" y="10665"/>
                  <a:pt x="22058" y="10641"/>
                  <a:pt x="22101" y="10616"/>
                </a:cubicBezTo>
                <a:cubicBezTo>
                  <a:pt x="22143" y="10591"/>
                  <a:pt x="22153" y="10554"/>
                  <a:pt x="22200" y="10542"/>
                </a:cubicBezTo>
                <a:cubicBezTo>
                  <a:pt x="22189" y="10586"/>
                  <a:pt x="22160" y="10607"/>
                  <a:pt x="22126" y="10641"/>
                </a:cubicBezTo>
                <a:cubicBezTo>
                  <a:pt x="22100" y="10667"/>
                  <a:pt x="22079" y="10726"/>
                  <a:pt x="22051" y="10740"/>
                </a:cubicBezTo>
                <a:cubicBezTo>
                  <a:pt x="22019" y="10756"/>
                  <a:pt x="22027" y="10745"/>
                  <a:pt x="22027" y="10790"/>
                </a:cubicBezTo>
                <a:cubicBezTo>
                  <a:pt x="22072" y="10790"/>
                  <a:pt x="22086" y="10811"/>
                  <a:pt x="22126" y="10815"/>
                </a:cubicBezTo>
                <a:cubicBezTo>
                  <a:pt x="22167" y="10820"/>
                  <a:pt x="22179" y="10840"/>
                  <a:pt x="22225" y="10840"/>
                </a:cubicBezTo>
                <a:cubicBezTo>
                  <a:pt x="22233" y="10840"/>
                  <a:pt x="22242" y="10840"/>
                  <a:pt x="22250" y="108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nk 38"/>
          <p:cNvSpPr/>
          <p:nvPr/>
        </p:nvSpPr>
        <p:spPr>
          <a:xfrm>
            <a:off x="8331120" y="3625920"/>
            <a:ext cx="268200" cy="428400"/>
          </a:xfrm>
          <a:custGeom>
            <a:avLst/>
            <a:gdLst/>
            <a:ahLst/>
            <a:rect l="l" t="t" r="r" b="b"/>
            <a:pathLst>
              <a:path w="745" h="1191">
                <a:moveTo>
                  <a:pt x="23614" y="10071"/>
                </a:moveTo>
                <a:cubicBezTo>
                  <a:pt x="23614" y="10096"/>
                  <a:pt x="23614" y="10104"/>
                  <a:pt x="23614" y="10120"/>
                </a:cubicBezTo>
                <a:cubicBezTo>
                  <a:pt x="23614" y="10052"/>
                  <a:pt x="23618" y="10164"/>
                  <a:pt x="23614" y="10170"/>
                </a:cubicBezTo>
                <a:cubicBezTo>
                  <a:pt x="23591" y="10211"/>
                  <a:pt x="23589" y="10218"/>
                  <a:pt x="23589" y="10269"/>
                </a:cubicBezTo>
                <a:cubicBezTo>
                  <a:pt x="23589" y="10313"/>
                  <a:pt x="23581" y="10381"/>
                  <a:pt x="23564" y="10418"/>
                </a:cubicBezTo>
                <a:cubicBezTo>
                  <a:pt x="23549" y="10451"/>
                  <a:pt x="23518" y="10461"/>
                  <a:pt x="23490" y="10468"/>
                </a:cubicBezTo>
              </a:path>
              <a:path w="745" h="1191">
                <a:moveTo>
                  <a:pt x="23143" y="10443"/>
                </a:moveTo>
                <a:cubicBezTo>
                  <a:pt x="23152" y="10416"/>
                  <a:pt x="23200" y="10399"/>
                  <a:pt x="23242" y="10418"/>
                </a:cubicBezTo>
                <a:cubicBezTo>
                  <a:pt x="23361" y="10473"/>
                  <a:pt x="23430" y="10492"/>
                  <a:pt x="23564" y="10492"/>
                </a:cubicBezTo>
                <a:cubicBezTo>
                  <a:pt x="23617" y="10492"/>
                  <a:pt x="23856" y="10455"/>
                  <a:pt x="23887" y="10517"/>
                </a:cubicBezTo>
                <a:cubicBezTo>
                  <a:pt x="23899" y="10541"/>
                  <a:pt x="23824" y="10598"/>
                  <a:pt x="23812" y="10616"/>
                </a:cubicBezTo>
              </a:path>
              <a:path w="745" h="1191">
                <a:moveTo>
                  <a:pt x="23540" y="10740"/>
                </a:moveTo>
                <a:cubicBezTo>
                  <a:pt x="23535" y="10754"/>
                  <a:pt x="23511" y="10821"/>
                  <a:pt x="23490" y="10840"/>
                </a:cubicBezTo>
                <a:cubicBezTo>
                  <a:pt x="23449" y="10877"/>
                  <a:pt x="23386" y="10905"/>
                  <a:pt x="23341" y="10939"/>
                </a:cubicBezTo>
                <a:cubicBezTo>
                  <a:pt x="23308" y="10964"/>
                  <a:pt x="23271" y="10999"/>
                  <a:pt x="23267" y="11038"/>
                </a:cubicBezTo>
                <a:cubicBezTo>
                  <a:pt x="23267" y="11046"/>
                  <a:pt x="23267" y="11055"/>
                  <a:pt x="23267" y="11063"/>
                </a:cubicBezTo>
                <a:cubicBezTo>
                  <a:pt x="23441" y="11063"/>
                  <a:pt x="23623" y="11080"/>
                  <a:pt x="23788" y="11038"/>
                </a:cubicBezTo>
                <a:cubicBezTo>
                  <a:pt x="23820" y="11030"/>
                  <a:pt x="23788" y="11076"/>
                  <a:pt x="23788" y="11038"/>
                </a:cubicBezTo>
              </a:path>
              <a:path w="745" h="1191">
                <a:moveTo>
                  <a:pt x="23589" y="10914"/>
                </a:moveTo>
                <a:cubicBezTo>
                  <a:pt x="23589" y="10922"/>
                  <a:pt x="23589" y="10931"/>
                  <a:pt x="23589" y="10939"/>
                </a:cubicBezTo>
                <a:cubicBezTo>
                  <a:pt x="23570" y="10902"/>
                  <a:pt x="23560" y="10953"/>
                  <a:pt x="23540" y="10988"/>
                </a:cubicBezTo>
                <a:cubicBezTo>
                  <a:pt x="23521" y="11022"/>
                  <a:pt x="23501" y="11080"/>
                  <a:pt x="23490" y="11112"/>
                </a:cubicBezTo>
                <a:cubicBezTo>
                  <a:pt x="23477" y="11151"/>
                  <a:pt x="23490" y="11219"/>
                  <a:pt x="23490" y="1126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nk 39"/>
          <p:cNvSpPr/>
          <p:nvPr/>
        </p:nvSpPr>
        <p:spPr>
          <a:xfrm>
            <a:off x="455760" y="4491000"/>
            <a:ext cx="366480" cy="277920"/>
          </a:xfrm>
          <a:custGeom>
            <a:avLst/>
            <a:gdLst/>
            <a:ahLst/>
            <a:rect l="l" t="t" r="r" b="b"/>
            <a:pathLst>
              <a:path w="1018" h="770">
                <a:moveTo>
                  <a:pt x="1265" y="12526"/>
                </a:moveTo>
                <a:cubicBezTo>
                  <a:pt x="1318" y="12526"/>
                  <a:pt x="1347" y="12511"/>
                  <a:pt x="1389" y="12502"/>
                </a:cubicBezTo>
                <a:cubicBezTo>
                  <a:pt x="1432" y="12493"/>
                  <a:pt x="1475" y="12481"/>
                  <a:pt x="1513" y="12477"/>
                </a:cubicBezTo>
                <a:cubicBezTo>
                  <a:pt x="1524" y="12476"/>
                  <a:pt x="1630" y="12477"/>
                  <a:pt x="1563" y="12477"/>
                </a:cubicBezTo>
              </a:path>
              <a:path w="1018" h="770">
                <a:moveTo>
                  <a:pt x="1315" y="12601"/>
                </a:moveTo>
                <a:cubicBezTo>
                  <a:pt x="1315" y="12664"/>
                  <a:pt x="1308" y="12698"/>
                  <a:pt x="1290" y="12750"/>
                </a:cubicBezTo>
                <a:cubicBezTo>
                  <a:pt x="1284" y="12769"/>
                  <a:pt x="1290" y="12804"/>
                  <a:pt x="1290" y="12824"/>
                </a:cubicBezTo>
                <a:cubicBezTo>
                  <a:pt x="1337" y="12824"/>
                  <a:pt x="1353" y="12807"/>
                  <a:pt x="1389" y="12799"/>
                </a:cubicBezTo>
                <a:cubicBezTo>
                  <a:pt x="1431" y="12790"/>
                  <a:pt x="1614" y="12778"/>
                  <a:pt x="1637" y="12824"/>
                </a:cubicBezTo>
                <a:cubicBezTo>
                  <a:pt x="1665" y="12881"/>
                  <a:pt x="1640" y="13004"/>
                  <a:pt x="1588" y="13022"/>
                </a:cubicBezTo>
                <a:cubicBezTo>
                  <a:pt x="1558" y="13033"/>
                  <a:pt x="1517" y="13066"/>
                  <a:pt x="1488" y="13072"/>
                </a:cubicBezTo>
                <a:cubicBezTo>
                  <a:pt x="1441" y="13082"/>
                  <a:pt x="1413" y="13097"/>
                  <a:pt x="1364" y="13097"/>
                </a:cubicBezTo>
                <a:cubicBezTo>
                  <a:pt x="1327" y="13097"/>
                  <a:pt x="1286" y="13090"/>
                  <a:pt x="1339" y="13072"/>
                </a:cubicBezTo>
              </a:path>
              <a:path w="1018" h="770">
                <a:moveTo>
                  <a:pt x="1736" y="13146"/>
                </a:moveTo>
                <a:cubicBezTo>
                  <a:pt x="1736" y="13193"/>
                  <a:pt x="1721" y="13233"/>
                  <a:pt x="1761" y="13246"/>
                </a:cubicBezTo>
              </a:path>
              <a:path w="1018" h="770">
                <a:moveTo>
                  <a:pt x="1935" y="12650"/>
                </a:moveTo>
                <a:cubicBezTo>
                  <a:pt x="1973" y="12623"/>
                  <a:pt x="1986" y="12626"/>
                  <a:pt x="2034" y="12626"/>
                </a:cubicBezTo>
                <a:cubicBezTo>
                  <a:pt x="2065" y="12626"/>
                  <a:pt x="2142" y="12630"/>
                  <a:pt x="2158" y="12650"/>
                </a:cubicBezTo>
                <a:cubicBezTo>
                  <a:pt x="2182" y="12679"/>
                  <a:pt x="2144" y="12732"/>
                  <a:pt x="2133" y="12750"/>
                </a:cubicBezTo>
                <a:cubicBezTo>
                  <a:pt x="2110" y="12789"/>
                  <a:pt x="2064" y="12832"/>
                  <a:pt x="2059" y="12874"/>
                </a:cubicBezTo>
                <a:cubicBezTo>
                  <a:pt x="2054" y="12915"/>
                  <a:pt x="2068" y="12935"/>
                  <a:pt x="2108" y="12948"/>
                </a:cubicBezTo>
                <a:cubicBezTo>
                  <a:pt x="2154" y="12963"/>
                  <a:pt x="2196" y="12966"/>
                  <a:pt x="2232" y="12998"/>
                </a:cubicBezTo>
                <a:cubicBezTo>
                  <a:pt x="2280" y="13040"/>
                  <a:pt x="2282" y="13022"/>
                  <a:pt x="2282" y="13097"/>
                </a:cubicBezTo>
                <a:cubicBezTo>
                  <a:pt x="2282" y="13114"/>
                  <a:pt x="2234" y="13159"/>
                  <a:pt x="2208" y="13171"/>
                </a:cubicBezTo>
                <a:cubicBezTo>
                  <a:pt x="2175" y="13186"/>
                  <a:pt x="2120" y="13193"/>
                  <a:pt x="2084" y="13196"/>
                </a:cubicBezTo>
                <a:cubicBezTo>
                  <a:pt x="2047" y="13199"/>
                  <a:pt x="2028" y="13171"/>
                  <a:pt x="1984" y="13171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nk 40"/>
          <p:cNvSpPr/>
          <p:nvPr/>
        </p:nvSpPr>
        <p:spPr>
          <a:xfrm>
            <a:off x="1081080" y="4633920"/>
            <a:ext cx="241200" cy="125280"/>
          </a:xfrm>
          <a:custGeom>
            <a:avLst/>
            <a:gdLst/>
            <a:ahLst/>
            <a:rect l="l" t="t" r="r" b="b"/>
            <a:pathLst>
              <a:path w="671" h="348">
                <a:moveTo>
                  <a:pt x="3076" y="12923"/>
                </a:moveTo>
                <a:cubicBezTo>
                  <a:pt x="3049" y="12932"/>
                  <a:pt x="3030" y="12941"/>
                  <a:pt x="3026" y="12973"/>
                </a:cubicBezTo>
                <a:cubicBezTo>
                  <a:pt x="3020" y="13018"/>
                  <a:pt x="3001" y="13043"/>
                  <a:pt x="3001" y="13097"/>
                </a:cubicBezTo>
                <a:cubicBezTo>
                  <a:pt x="3001" y="13134"/>
                  <a:pt x="3044" y="13160"/>
                  <a:pt x="3076" y="13171"/>
                </a:cubicBezTo>
                <a:cubicBezTo>
                  <a:pt x="3123" y="13187"/>
                  <a:pt x="3191" y="13176"/>
                  <a:pt x="3225" y="13146"/>
                </a:cubicBezTo>
                <a:cubicBezTo>
                  <a:pt x="3246" y="13127"/>
                  <a:pt x="3265" y="13077"/>
                  <a:pt x="3249" y="13047"/>
                </a:cubicBezTo>
                <a:cubicBezTo>
                  <a:pt x="3225" y="13003"/>
                  <a:pt x="3225" y="12998"/>
                  <a:pt x="3175" y="12998"/>
                </a:cubicBezTo>
                <a:cubicBezTo>
                  <a:pt x="3128" y="12998"/>
                  <a:pt x="3150" y="13014"/>
                  <a:pt x="3175" y="13022"/>
                </a:cubicBezTo>
              </a:path>
              <a:path w="671" h="348">
                <a:moveTo>
                  <a:pt x="3398" y="13047"/>
                </a:moveTo>
                <a:cubicBezTo>
                  <a:pt x="3398" y="13097"/>
                  <a:pt x="3409" y="13106"/>
                  <a:pt x="3423" y="13146"/>
                </a:cubicBezTo>
                <a:cubicBezTo>
                  <a:pt x="3429" y="13165"/>
                  <a:pt x="3423" y="13201"/>
                  <a:pt x="3423" y="13221"/>
                </a:cubicBezTo>
                <a:cubicBezTo>
                  <a:pt x="3457" y="13165"/>
                  <a:pt x="3430" y="13133"/>
                  <a:pt x="3448" y="13072"/>
                </a:cubicBezTo>
                <a:cubicBezTo>
                  <a:pt x="3462" y="13023"/>
                  <a:pt x="3499" y="12988"/>
                  <a:pt x="3522" y="12948"/>
                </a:cubicBezTo>
                <a:cubicBezTo>
                  <a:pt x="3544" y="12904"/>
                  <a:pt x="3547" y="12893"/>
                  <a:pt x="3572" y="12874"/>
                </a:cubicBezTo>
                <a:cubicBezTo>
                  <a:pt x="3572" y="12934"/>
                  <a:pt x="3587" y="13002"/>
                  <a:pt x="3547" y="13047"/>
                </a:cubicBezTo>
                <a:cubicBezTo>
                  <a:pt x="3520" y="13077"/>
                  <a:pt x="3507" y="13109"/>
                  <a:pt x="3497" y="13146"/>
                </a:cubicBezTo>
                <a:cubicBezTo>
                  <a:pt x="3536" y="13156"/>
                  <a:pt x="3552" y="13171"/>
                  <a:pt x="3597" y="13171"/>
                </a:cubicBezTo>
                <a:cubicBezTo>
                  <a:pt x="3640" y="13171"/>
                  <a:pt x="3636" y="13170"/>
                  <a:pt x="3671" y="1319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nk 41"/>
          <p:cNvSpPr/>
          <p:nvPr/>
        </p:nvSpPr>
        <p:spPr>
          <a:xfrm>
            <a:off x="1670040" y="4537080"/>
            <a:ext cx="419040" cy="241200"/>
          </a:xfrm>
          <a:custGeom>
            <a:avLst/>
            <a:gdLst/>
            <a:ahLst/>
            <a:rect l="l" t="t" r="r" b="b"/>
            <a:pathLst>
              <a:path w="1167" h="671">
                <a:moveTo>
                  <a:pt x="4638" y="12650"/>
                </a:moveTo>
                <a:cubicBezTo>
                  <a:pt x="4682" y="12642"/>
                  <a:pt x="4716" y="12626"/>
                  <a:pt x="4762" y="12626"/>
                </a:cubicBezTo>
                <a:cubicBezTo>
                  <a:pt x="4814" y="12626"/>
                  <a:pt x="4848" y="12615"/>
                  <a:pt x="4887" y="12650"/>
                </a:cubicBezTo>
                <a:cubicBezTo>
                  <a:pt x="4925" y="12684"/>
                  <a:pt x="4918" y="12716"/>
                  <a:pt x="4887" y="12750"/>
                </a:cubicBezTo>
                <a:cubicBezTo>
                  <a:pt x="4863" y="12776"/>
                  <a:pt x="4831" y="12861"/>
                  <a:pt x="4812" y="12874"/>
                </a:cubicBezTo>
                <a:cubicBezTo>
                  <a:pt x="4787" y="12874"/>
                  <a:pt x="4779" y="12874"/>
                  <a:pt x="4787" y="12898"/>
                </a:cubicBezTo>
                <a:cubicBezTo>
                  <a:pt x="4826" y="12908"/>
                  <a:pt x="4842" y="12923"/>
                  <a:pt x="4887" y="12923"/>
                </a:cubicBezTo>
                <a:cubicBezTo>
                  <a:pt x="4918" y="12923"/>
                  <a:pt x="4972" y="12968"/>
                  <a:pt x="4986" y="12998"/>
                </a:cubicBezTo>
                <a:cubicBezTo>
                  <a:pt x="5003" y="13036"/>
                  <a:pt x="4984" y="13097"/>
                  <a:pt x="4961" y="13122"/>
                </a:cubicBezTo>
                <a:cubicBezTo>
                  <a:pt x="4921" y="13166"/>
                  <a:pt x="4901" y="13149"/>
                  <a:pt x="4862" y="13171"/>
                </a:cubicBezTo>
                <a:cubicBezTo>
                  <a:pt x="4818" y="13195"/>
                  <a:pt x="4791" y="13196"/>
                  <a:pt x="4738" y="13196"/>
                </a:cubicBezTo>
                <a:cubicBezTo>
                  <a:pt x="4710" y="13196"/>
                  <a:pt x="4699" y="13194"/>
                  <a:pt x="4688" y="13171"/>
                </a:cubicBezTo>
                <a:cubicBezTo>
                  <a:pt x="4745" y="13160"/>
                  <a:pt x="4771" y="13137"/>
                  <a:pt x="4812" y="13097"/>
                </a:cubicBezTo>
              </a:path>
              <a:path w="1167" h="671">
                <a:moveTo>
                  <a:pt x="5159" y="13146"/>
                </a:moveTo>
                <a:cubicBezTo>
                  <a:pt x="5150" y="13185"/>
                  <a:pt x="5135" y="13202"/>
                  <a:pt x="5135" y="13246"/>
                </a:cubicBezTo>
                <a:cubicBezTo>
                  <a:pt x="5135" y="13289"/>
                  <a:pt x="5152" y="13254"/>
                  <a:pt x="5184" y="13246"/>
                </a:cubicBezTo>
              </a:path>
              <a:path w="1167" h="671">
                <a:moveTo>
                  <a:pt x="5432" y="12626"/>
                </a:moveTo>
                <a:cubicBezTo>
                  <a:pt x="5487" y="12626"/>
                  <a:pt x="5526" y="12605"/>
                  <a:pt x="5581" y="12601"/>
                </a:cubicBezTo>
                <a:cubicBezTo>
                  <a:pt x="5614" y="12598"/>
                  <a:pt x="5647" y="12601"/>
                  <a:pt x="5680" y="12601"/>
                </a:cubicBezTo>
              </a:path>
              <a:path w="1167" h="671">
                <a:moveTo>
                  <a:pt x="5457" y="12725"/>
                </a:moveTo>
                <a:cubicBezTo>
                  <a:pt x="5435" y="12754"/>
                  <a:pt x="5417" y="12764"/>
                  <a:pt x="5407" y="12799"/>
                </a:cubicBezTo>
                <a:cubicBezTo>
                  <a:pt x="5395" y="12843"/>
                  <a:pt x="5425" y="12894"/>
                  <a:pt x="5457" y="12898"/>
                </a:cubicBezTo>
                <a:cubicBezTo>
                  <a:pt x="5502" y="12903"/>
                  <a:pt x="5540" y="12936"/>
                  <a:pt x="5581" y="12948"/>
                </a:cubicBezTo>
                <a:cubicBezTo>
                  <a:pt x="5639" y="12965"/>
                  <a:pt x="5622" y="12950"/>
                  <a:pt x="5655" y="12998"/>
                </a:cubicBezTo>
                <a:cubicBezTo>
                  <a:pt x="5674" y="13026"/>
                  <a:pt x="5730" y="13052"/>
                  <a:pt x="5705" y="13097"/>
                </a:cubicBezTo>
                <a:cubicBezTo>
                  <a:pt x="5683" y="13137"/>
                  <a:pt x="5670" y="13149"/>
                  <a:pt x="5631" y="13171"/>
                </a:cubicBezTo>
                <a:cubicBezTo>
                  <a:pt x="5579" y="13201"/>
                  <a:pt x="5538" y="13196"/>
                  <a:pt x="5482" y="13196"/>
                </a:cubicBezTo>
                <a:cubicBezTo>
                  <a:pt x="5443" y="13196"/>
                  <a:pt x="5412" y="13212"/>
                  <a:pt x="5407" y="13171"/>
                </a:cubicBezTo>
                <a:cubicBezTo>
                  <a:pt x="5407" y="13163"/>
                  <a:pt x="5407" y="13154"/>
                  <a:pt x="5407" y="13146"/>
                </a:cubicBezTo>
              </a:path>
              <a:path w="1167" h="671">
                <a:moveTo>
                  <a:pt x="5457" y="12650"/>
                </a:moveTo>
                <a:cubicBezTo>
                  <a:pt x="5457" y="12691"/>
                  <a:pt x="5457" y="12733"/>
                  <a:pt x="5457" y="12774"/>
                </a:cubicBezTo>
              </a:path>
              <a:path w="1167" h="671">
                <a:moveTo>
                  <a:pt x="5705" y="12601"/>
                </a:moveTo>
                <a:cubicBezTo>
                  <a:pt x="5705" y="12609"/>
                  <a:pt x="5705" y="12618"/>
                  <a:pt x="5705" y="12626"/>
                </a:cubicBezTo>
                <a:cubicBezTo>
                  <a:pt x="5740" y="12637"/>
                  <a:pt x="5730" y="12633"/>
                  <a:pt x="5730" y="12675"/>
                </a:cubicBezTo>
                <a:cubicBezTo>
                  <a:pt x="5775" y="12675"/>
                  <a:pt x="5791" y="12662"/>
                  <a:pt x="5804" y="1270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Ink 42"/>
          <p:cNvSpPr/>
          <p:nvPr/>
        </p:nvSpPr>
        <p:spPr>
          <a:xfrm>
            <a:off x="2473200" y="4491000"/>
            <a:ext cx="357480" cy="162000"/>
          </a:xfrm>
          <a:custGeom>
            <a:avLst/>
            <a:gdLst/>
            <a:ahLst/>
            <a:rect l="l" t="t" r="r" b="b"/>
            <a:pathLst>
              <a:path w="993" h="447">
                <a:moveTo>
                  <a:pt x="6995" y="12626"/>
                </a:moveTo>
                <a:cubicBezTo>
                  <a:pt x="6948" y="12591"/>
                  <a:pt x="6946" y="12594"/>
                  <a:pt x="6921" y="12626"/>
                </a:cubicBezTo>
                <a:cubicBezTo>
                  <a:pt x="6898" y="12657"/>
                  <a:pt x="6875" y="12686"/>
                  <a:pt x="6871" y="12725"/>
                </a:cubicBezTo>
                <a:cubicBezTo>
                  <a:pt x="6864" y="12784"/>
                  <a:pt x="6885" y="12775"/>
                  <a:pt x="6921" y="12799"/>
                </a:cubicBezTo>
                <a:cubicBezTo>
                  <a:pt x="6983" y="12841"/>
                  <a:pt x="6985" y="12849"/>
                  <a:pt x="7069" y="12849"/>
                </a:cubicBezTo>
                <a:cubicBezTo>
                  <a:pt x="7143" y="12849"/>
                  <a:pt x="7166" y="12801"/>
                  <a:pt x="7218" y="12750"/>
                </a:cubicBezTo>
                <a:cubicBezTo>
                  <a:pt x="7259" y="12709"/>
                  <a:pt x="7253" y="12664"/>
                  <a:pt x="7218" y="12626"/>
                </a:cubicBezTo>
                <a:cubicBezTo>
                  <a:pt x="7185" y="12589"/>
                  <a:pt x="7142" y="12580"/>
                  <a:pt x="7094" y="12576"/>
                </a:cubicBezTo>
                <a:cubicBezTo>
                  <a:pt x="7061" y="12573"/>
                  <a:pt x="7013" y="12565"/>
                  <a:pt x="6995" y="12601"/>
                </a:cubicBezTo>
                <a:cubicBezTo>
                  <a:pt x="6981" y="12629"/>
                  <a:pt x="7055" y="12684"/>
                  <a:pt x="6995" y="12626"/>
                </a:cubicBezTo>
              </a:path>
              <a:path w="993" h="447">
                <a:moveTo>
                  <a:pt x="7417" y="12601"/>
                </a:moveTo>
                <a:cubicBezTo>
                  <a:pt x="7417" y="12717"/>
                  <a:pt x="7417" y="13014"/>
                  <a:pt x="7417" y="12898"/>
                </a:cubicBezTo>
                <a:cubicBezTo>
                  <a:pt x="7417" y="12842"/>
                  <a:pt x="7409" y="12799"/>
                  <a:pt x="7441" y="12750"/>
                </a:cubicBezTo>
                <a:cubicBezTo>
                  <a:pt x="7469" y="12708"/>
                  <a:pt x="7508" y="12663"/>
                  <a:pt x="7541" y="12626"/>
                </a:cubicBezTo>
                <a:cubicBezTo>
                  <a:pt x="7572" y="12592"/>
                  <a:pt x="7602" y="12522"/>
                  <a:pt x="7640" y="12502"/>
                </a:cubicBezTo>
                <a:cubicBezTo>
                  <a:pt x="7671" y="12485"/>
                  <a:pt x="7656" y="12488"/>
                  <a:pt x="7689" y="12477"/>
                </a:cubicBezTo>
                <a:cubicBezTo>
                  <a:pt x="7689" y="12526"/>
                  <a:pt x="7678" y="12536"/>
                  <a:pt x="7665" y="12576"/>
                </a:cubicBezTo>
                <a:cubicBezTo>
                  <a:pt x="7651" y="12620"/>
                  <a:pt x="7609" y="12634"/>
                  <a:pt x="7590" y="12675"/>
                </a:cubicBezTo>
                <a:cubicBezTo>
                  <a:pt x="7578" y="12702"/>
                  <a:pt x="7546" y="12740"/>
                  <a:pt x="7541" y="12750"/>
                </a:cubicBezTo>
                <a:cubicBezTo>
                  <a:pt x="7541" y="12758"/>
                  <a:pt x="7541" y="12766"/>
                  <a:pt x="7541" y="12774"/>
                </a:cubicBezTo>
                <a:cubicBezTo>
                  <a:pt x="7597" y="12774"/>
                  <a:pt x="7574" y="12796"/>
                  <a:pt x="7615" y="12799"/>
                </a:cubicBezTo>
                <a:cubicBezTo>
                  <a:pt x="7680" y="12804"/>
                  <a:pt x="7731" y="12808"/>
                  <a:pt x="7764" y="12824"/>
                </a:cubicBezTo>
                <a:cubicBezTo>
                  <a:pt x="7792" y="12838"/>
                  <a:pt x="7826" y="12825"/>
                  <a:pt x="7838" y="12849"/>
                </a:cubicBezTo>
                <a:cubicBezTo>
                  <a:pt x="7838" y="12874"/>
                  <a:pt x="7838" y="12882"/>
                  <a:pt x="7863" y="1287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Ink 43"/>
          <p:cNvSpPr/>
          <p:nvPr/>
        </p:nvSpPr>
        <p:spPr>
          <a:xfrm>
            <a:off x="3054240" y="4500720"/>
            <a:ext cx="554040" cy="250560"/>
          </a:xfrm>
          <a:custGeom>
            <a:avLst/>
            <a:gdLst/>
            <a:ahLst/>
            <a:rect l="l" t="t" r="r" b="b"/>
            <a:pathLst>
              <a:path w="1539" h="695">
                <a:moveTo>
                  <a:pt x="8657" y="12526"/>
                </a:moveTo>
                <a:cubicBezTo>
                  <a:pt x="8682" y="12526"/>
                  <a:pt x="8667" y="12544"/>
                  <a:pt x="8682" y="12502"/>
                </a:cubicBezTo>
                <a:cubicBezTo>
                  <a:pt x="8628" y="12519"/>
                  <a:pt x="8681" y="12553"/>
                  <a:pt x="8657" y="12601"/>
                </a:cubicBezTo>
                <a:cubicBezTo>
                  <a:pt x="8634" y="12647"/>
                  <a:pt x="8605" y="12681"/>
                  <a:pt x="8582" y="12725"/>
                </a:cubicBezTo>
                <a:cubicBezTo>
                  <a:pt x="8558" y="12771"/>
                  <a:pt x="8523" y="12830"/>
                  <a:pt x="8508" y="12874"/>
                </a:cubicBezTo>
                <a:cubicBezTo>
                  <a:pt x="8495" y="12911"/>
                  <a:pt x="8483" y="12930"/>
                  <a:pt x="8483" y="12973"/>
                </a:cubicBezTo>
                <a:cubicBezTo>
                  <a:pt x="8483" y="12981"/>
                  <a:pt x="8483" y="12990"/>
                  <a:pt x="8483" y="12998"/>
                </a:cubicBezTo>
                <a:cubicBezTo>
                  <a:pt x="8534" y="12998"/>
                  <a:pt x="8541" y="12997"/>
                  <a:pt x="8582" y="12973"/>
                </a:cubicBezTo>
                <a:cubicBezTo>
                  <a:pt x="8628" y="12947"/>
                  <a:pt x="8707" y="12931"/>
                  <a:pt x="8756" y="12923"/>
                </a:cubicBezTo>
                <a:cubicBezTo>
                  <a:pt x="8805" y="12915"/>
                  <a:pt x="8858" y="12903"/>
                  <a:pt x="8905" y="12898"/>
                </a:cubicBezTo>
                <a:cubicBezTo>
                  <a:pt x="8949" y="12894"/>
                  <a:pt x="8965" y="12913"/>
                  <a:pt x="8979" y="12874"/>
                </a:cubicBezTo>
              </a:path>
              <a:path w="1539" h="695">
                <a:moveTo>
                  <a:pt x="8806" y="12750"/>
                </a:moveTo>
                <a:cubicBezTo>
                  <a:pt x="8806" y="12806"/>
                  <a:pt x="8815" y="12828"/>
                  <a:pt x="8830" y="12874"/>
                </a:cubicBezTo>
                <a:cubicBezTo>
                  <a:pt x="8843" y="12915"/>
                  <a:pt x="8842" y="12960"/>
                  <a:pt x="8855" y="12998"/>
                </a:cubicBezTo>
                <a:cubicBezTo>
                  <a:pt x="8871" y="13046"/>
                  <a:pt x="8841" y="13047"/>
                  <a:pt x="8905" y="13047"/>
                </a:cubicBezTo>
              </a:path>
              <a:path w="1539" h="695">
                <a:moveTo>
                  <a:pt x="9203" y="12849"/>
                </a:moveTo>
                <a:cubicBezTo>
                  <a:pt x="9177" y="12893"/>
                  <a:pt x="9178" y="12920"/>
                  <a:pt x="9178" y="12973"/>
                </a:cubicBezTo>
                <a:cubicBezTo>
                  <a:pt x="9178" y="13023"/>
                  <a:pt x="9162" y="13083"/>
                  <a:pt x="9203" y="13097"/>
                </a:cubicBezTo>
              </a:path>
              <a:path w="1539" h="695">
                <a:moveTo>
                  <a:pt x="9699" y="12502"/>
                </a:moveTo>
                <a:cubicBezTo>
                  <a:pt x="9699" y="12558"/>
                  <a:pt x="9683" y="12584"/>
                  <a:pt x="9674" y="12626"/>
                </a:cubicBezTo>
                <a:cubicBezTo>
                  <a:pt x="9662" y="12682"/>
                  <a:pt x="9645" y="12725"/>
                  <a:pt x="9624" y="12774"/>
                </a:cubicBezTo>
                <a:cubicBezTo>
                  <a:pt x="9599" y="12832"/>
                  <a:pt x="9556" y="12886"/>
                  <a:pt x="9550" y="12948"/>
                </a:cubicBezTo>
                <a:cubicBezTo>
                  <a:pt x="9546" y="12989"/>
                  <a:pt x="9525" y="13002"/>
                  <a:pt x="9525" y="13047"/>
                </a:cubicBezTo>
                <a:cubicBezTo>
                  <a:pt x="9525" y="13055"/>
                  <a:pt x="9525" y="13064"/>
                  <a:pt x="9525" y="13072"/>
                </a:cubicBezTo>
                <a:cubicBezTo>
                  <a:pt x="9588" y="13072"/>
                  <a:pt x="9622" y="13064"/>
                  <a:pt x="9674" y="13047"/>
                </a:cubicBezTo>
                <a:cubicBezTo>
                  <a:pt x="9714" y="13034"/>
                  <a:pt x="9761" y="13040"/>
                  <a:pt x="9798" y="13022"/>
                </a:cubicBezTo>
                <a:cubicBezTo>
                  <a:pt x="9845" y="12999"/>
                  <a:pt x="9902" y="12996"/>
                  <a:pt x="9947" y="12973"/>
                </a:cubicBezTo>
                <a:cubicBezTo>
                  <a:pt x="9986" y="12953"/>
                  <a:pt x="9974" y="12948"/>
                  <a:pt x="10021" y="12948"/>
                </a:cubicBezTo>
              </a:path>
              <a:path w="1539" h="695">
                <a:moveTo>
                  <a:pt x="9847" y="12799"/>
                </a:moveTo>
                <a:cubicBezTo>
                  <a:pt x="9847" y="12923"/>
                  <a:pt x="9847" y="13047"/>
                  <a:pt x="9847" y="13171"/>
                </a:cubicBezTo>
                <a:cubicBezTo>
                  <a:pt x="9875" y="13171"/>
                  <a:pt x="9886" y="13173"/>
                  <a:pt x="9897" y="1319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Ink 44"/>
          <p:cNvSpPr/>
          <p:nvPr/>
        </p:nvSpPr>
        <p:spPr>
          <a:xfrm>
            <a:off x="3983040" y="4606920"/>
            <a:ext cx="169920" cy="73080"/>
          </a:xfrm>
          <a:custGeom>
            <a:avLst/>
            <a:gdLst/>
            <a:ahLst/>
            <a:rect l="l" t="t" r="r" b="b"/>
            <a:pathLst>
              <a:path w="472" h="200">
                <a:moveTo>
                  <a:pt x="11063" y="12849"/>
                </a:moveTo>
                <a:cubicBezTo>
                  <a:pt x="11107" y="12816"/>
                  <a:pt x="11129" y="12824"/>
                  <a:pt x="11187" y="12824"/>
                </a:cubicBezTo>
                <a:cubicBezTo>
                  <a:pt x="11255" y="12824"/>
                  <a:pt x="11298" y="12810"/>
                  <a:pt x="11361" y="12799"/>
                </a:cubicBezTo>
                <a:cubicBezTo>
                  <a:pt x="11398" y="12792"/>
                  <a:pt x="11446" y="12799"/>
                  <a:pt x="11485" y="12799"/>
                </a:cubicBezTo>
                <a:cubicBezTo>
                  <a:pt x="11460" y="12824"/>
                  <a:pt x="11452" y="12832"/>
                  <a:pt x="11435" y="12849"/>
                </a:cubicBezTo>
              </a:path>
              <a:path w="472" h="200">
                <a:moveTo>
                  <a:pt x="11112" y="12998"/>
                </a:moveTo>
                <a:cubicBezTo>
                  <a:pt x="11224" y="12998"/>
                  <a:pt x="11338" y="13005"/>
                  <a:pt x="11435" y="12973"/>
                </a:cubicBezTo>
                <a:cubicBezTo>
                  <a:pt x="11461" y="12964"/>
                  <a:pt x="11506" y="12973"/>
                  <a:pt x="11534" y="1297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Ink 45"/>
          <p:cNvSpPr/>
          <p:nvPr/>
        </p:nvSpPr>
        <p:spPr>
          <a:xfrm>
            <a:off x="4438800" y="4456080"/>
            <a:ext cx="955440" cy="357120"/>
          </a:xfrm>
          <a:custGeom>
            <a:avLst/>
            <a:gdLst/>
            <a:ahLst/>
            <a:rect l="l" t="t" r="r" b="b"/>
            <a:pathLst>
              <a:path w="2655" h="993">
                <a:moveTo>
                  <a:pt x="14684" y="12378"/>
                </a:moveTo>
                <a:cubicBezTo>
                  <a:pt x="14684" y="12434"/>
                  <a:pt x="14675" y="12456"/>
                  <a:pt x="14660" y="12502"/>
                </a:cubicBezTo>
                <a:cubicBezTo>
                  <a:pt x="14645" y="12548"/>
                  <a:pt x="14660" y="12626"/>
                  <a:pt x="14660" y="12675"/>
                </a:cubicBezTo>
              </a:path>
              <a:path w="2655" h="993">
                <a:moveTo>
                  <a:pt x="14312" y="12750"/>
                </a:moveTo>
                <a:cubicBezTo>
                  <a:pt x="14456" y="12750"/>
                  <a:pt x="14606" y="12751"/>
                  <a:pt x="14734" y="12725"/>
                </a:cubicBezTo>
                <a:cubicBezTo>
                  <a:pt x="14813" y="12709"/>
                  <a:pt x="14915" y="12729"/>
                  <a:pt x="14957" y="12750"/>
                </a:cubicBezTo>
                <a:cubicBezTo>
                  <a:pt x="14965" y="12750"/>
                  <a:pt x="14974" y="12750"/>
                  <a:pt x="14982" y="12750"/>
                </a:cubicBezTo>
              </a:path>
              <a:path w="2655" h="993">
                <a:moveTo>
                  <a:pt x="14461" y="12973"/>
                </a:moveTo>
                <a:cubicBezTo>
                  <a:pt x="14461" y="12965"/>
                  <a:pt x="14461" y="12956"/>
                  <a:pt x="14461" y="12948"/>
                </a:cubicBezTo>
                <a:cubicBezTo>
                  <a:pt x="14483" y="12955"/>
                  <a:pt x="14506" y="12987"/>
                  <a:pt x="14486" y="13022"/>
                </a:cubicBezTo>
                <a:cubicBezTo>
                  <a:pt x="14465" y="13059"/>
                  <a:pt x="14441" y="13104"/>
                  <a:pt x="14436" y="13146"/>
                </a:cubicBezTo>
                <a:cubicBezTo>
                  <a:pt x="14432" y="13178"/>
                  <a:pt x="14436" y="13213"/>
                  <a:pt x="14436" y="13246"/>
                </a:cubicBezTo>
                <a:cubicBezTo>
                  <a:pt x="14400" y="13259"/>
                  <a:pt x="14412" y="13276"/>
                  <a:pt x="14412" y="13320"/>
                </a:cubicBezTo>
                <a:cubicBezTo>
                  <a:pt x="14440" y="13320"/>
                  <a:pt x="14450" y="13317"/>
                  <a:pt x="14461" y="13295"/>
                </a:cubicBezTo>
              </a:path>
              <a:path w="2655" h="993">
                <a:moveTo>
                  <a:pt x="14908" y="12874"/>
                </a:moveTo>
                <a:cubicBezTo>
                  <a:pt x="14870" y="12886"/>
                  <a:pt x="14879" y="12895"/>
                  <a:pt x="14858" y="12923"/>
                </a:cubicBezTo>
                <a:cubicBezTo>
                  <a:pt x="14838" y="12950"/>
                  <a:pt x="14798" y="12991"/>
                  <a:pt x="14784" y="13022"/>
                </a:cubicBezTo>
                <a:cubicBezTo>
                  <a:pt x="14769" y="13056"/>
                  <a:pt x="14759" y="13081"/>
                  <a:pt x="14759" y="13122"/>
                </a:cubicBezTo>
                <a:cubicBezTo>
                  <a:pt x="14759" y="13167"/>
                  <a:pt x="14738" y="13181"/>
                  <a:pt x="14734" y="13221"/>
                </a:cubicBezTo>
                <a:cubicBezTo>
                  <a:pt x="14729" y="13263"/>
                  <a:pt x="14762" y="13285"/>
                  <a:pt x="14784" y="13295"/>
                </a:cubicBezTo>
                <a:cubicBezTo>
                  <a:pt x="14809" y="13307"/>
                  <a:pt x="14874" y="13339"/>
                  <a:pt x="14908" y="13320"/>
                </a:cubicBezTo>
                <a:cubicBezTo>
                  <a:pt x="14940" y="13302"/>
                  <a:pt x="14970" y="13282"/>
                  <a:pt x="14982" y="13246"/>
                </a:cubicBezTo>
                <a:cubicBezTo>
                  <a:pt x="14997" y="13200"/>
                  <a:pt x="14977" y="13186"/>
                  <a:pt x="14957" y="13171"/>
                </a:cubicBezTo>
                <a:cubicBezTo>
                  <a:pt x="14919" y="13142"/>
                  <a:pt x="14906" y="13146"/>
                  <a:pt x="14858" y="13146"/>
                </a:cubicBezTo>
                <a:cubicBezTo>
                  <a:pt x="14818" y="13146"/>
                  <a:pt x="14804" y="13171"/>
                  <a:pt x="14759" y="13171"/>
                </a:cubicBezTo>
                <a:cubicBezTo>
                  <a:pt x="14759" y="13235"/>
                  <a:pt x="14767" y="13221"/>
                  <a:pt x="14833" y="13221"/>
                </a:cubicBezTo>
              </a:path>
              <a:path w="2655" h="993">
                <a:moveTo>
                  <a:pt x="12750" y="12402"/>
                </a:moveTo>
                <a:cubicBezTo>
                  <a:pt x="12750" y="12468"/>
                  <a:pt x="12750" y="12535"/>
                  <a:pt x="12750" y="12601"/>
                </a:cubicBezTo>
                <a:cubicBezTo>
                  <a:pt x="12774" y="12601"/>
                  <a:pt x="12782" y="12601"/>
                  <a:pt x="12774" y="12626"/>
                </a:cubicBezTo>
              </a:path>
              <a:path w="2655" h="993">
                <a:moveTo>
                  <a:pt x="12328" y="12824"/>
                </a:moveTo>
                <a:cubicBezTo>
                  <a:pt x="12328" y="12832"/>
                  <a:pt x="12328" y="12841"/>
                  <a:pt x="12328" y="12849"/>
                </a:cubicBezTo>
                <a:cubicBezTo>
                  <a:pt x="12465" y="12849"/>
                  <a:pt x="12622" y="12873"/>
                  <a:pt x="12750" y="12824"/>
                </a:cubicBezTo>
                <a:cubicBezTo>
                  <a:pt x="12820" y="12797"/>
                  <a:pt x="12872" y="12799"/>
                  <a:pt x="12948" y="12799"/>
                </a:cubicBezTo>
                <a:cubicBezTo>
                  <a:pt x="12973" y="12799"/>
                  <a:pt x="12997" y="12799"/>
                  <a:pt x="13022" y="12799"/>
                </a:cubicBezTo>
                <a:cubicBezTo>
                  <a:pt x="13035" y="12761"/>
                  <a:pt x="13052" y="12774"/>
                  <a:pt x="13097" y="12774"/>
                </a:cubicBezTo>
                <a:cubicBezTo>
                  <a:pt x="13112" y="12774"/>
                  <a:pt x="13149" y="12723"/>
                  <a:pt x="13171" y="12750"/>
                </a:cubicBezTo>
                <a:cubicBezTo>
                  <a:pt x="13171" y="12758"/>
                  <a:pt x="13171" y="12766"/>
                  <a:pt x="13171" y="12774"/>
                </a:cubicBezTo>
              </a:path>
              <a:path w="2655" h="993">
                <a:moveTo>
                  <a:pt x="12576" y="13072"/>
                </a:moveTo>
                <a:cubicBezTo>
                  <a:pt x="12576" y="13080"/>
                  <a:pt x="12576" y="13089"/>
                  <a:pt x="12576" y="13097"/>
                </a:cubicBezTo>
                <a:cubicBezTo>
                  <a:pt x="12538" y="13110"/>
                  <a:pt x="12551" y="13126"/>
                  <a:pt x="12551" y="13171"/>
                </a:cubicBezTo>
                <a:cubicBezTo>
                  <a:pt x="12551" y="13214"/>
                  <a:pt x="12514" y="13234"/>
                  <a:pt x="12502" y="13271"/>
                </a:cubicBezTo>
                <a:cubicBezTo>
                  <a:pt x="12481" y="13336"/>
                  <a:pt x="12501" y="13361"/>
                  <a:pt x="12551" y="13370"/>
                </a:cubicBezTo>
              </a:path>
              <a:path w="2655" h="993">
                <a:moveTo>
                  <a:pt x="12948" y="12948"/>
                </a:moveTo>
                <a:cubicBezTo>
                  <a:pt x="12948" y="12923"/>
                  <a:pt x="12948" y="12915"/>
                  <a:pt x="12923" y="12923"/>
                </a:cubicBezTo>
                <a:cubicBezTo>
                  <a:pt x="12923" y="12973"/>
                  <a:pt x="12912" y="12982"/>
                  <a:pt x="12898" y="13022"/>
                </a:cubicBezTo>
                <a:cubicBezTo>
                  <a:pt x="12885" y="13060"/>
                  <a:pt x="12875" y="13108"/>
                  <a:pt x="12849" y="13146"/>
                </a:cubicBezTo>
                <a:cubicBezTo>
                  <a:pt x="12822" y="13186"/>
                  <a:pt x="12824" y="13196"/>
                  <a:pt x="12824" y="13246"/>
                </a:cubicBezTo>
                <a:cubicBezTo>
                  <a:pt x="12824" y="13292"/>
                  <a:pt x="12818" y="13310"/>
                  <a:pt x="12849" y="13345"/>
                </a:cubicBezTo>
                <a:cubicBezTo>
                  <a:pt x="12879" y="13379"/>
                  <a:pt x="12905" y="13370"/>
                  <a:pt x="12948" y="13370"/>
                </a:cubicBezTo>
                <a:cubicBezTo>
                  <a:pt x="12994" y="13370"/>
                  <a:pt x="13012" y="13376"/>
                  <a:pt x="13047" y="13345"/>
                </a:cubicBezTo>
                <a:cubicBezTo>
                  <a:pt x="13068" y="13327"/>
                  <a:pt x="13089" y="13276"/>
                  <a:pt x="13072" y="13246"/>
                </a:cubicBezTo>
                <a:cubicBezTo>
                  <a:pt x="13048" y="13203"/>
                  <a:pt x="13016" y="13196"/>
                  <a:pt x="12973" y="13196"/>
                </a:cubicBezTo>
                <a:cubicBezTo>
                  <a:pt x="12949" y="13196"/>
                  <a:pt x="12829" y="13181"/>
                  <a:pt x="12849" y="13221"/>
                </a:cubicBezTo>
                <a:cubicBezTo>
                  <a:pt x="12871" y="13243"/>
                  <a:pt x="12876" y="13252"/>
                  <a:pt x="12898" y="13246"/>
                </a:cubicBezTo>
              </a:path>
              <a:path w="2655" h="993">
                <a:moveTo>
                  <a:pt x="13543" y="12948"/>
                </a:moveTo>
                <a:cubicBezTo>
                  <a:pt x="13617" y="12930"/>
                  <a:pt x="13586" y="12934"/>
                  <a:pt x="13667" y="12948"/>
                </a:cubicBezTo>
                <a:cubicBezTo>
                  <a:pt x="13759" y="12964"/>
                  <a:pt x="13871" y="12948"/>
                  <a:pt x="13965" y="12948"/>
                </a:cubicBezTo>
              </a:path>
              <a:path w="2655" h="993">
                <a:moveTo>
                  <a:pt x="13767" y="12774"/>
                </a:moveTo>
                <a:cubicBezTo>
                  <a:pt x="13767" y="12890"/>
                  <a:pt x="13767" y="13006"/>
                  <a:pt x="13767" y="1312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Ink 46"/>
          <p:cNvSpPr/>
          <p:nvPr/>
        </p:nvSpPr>
        <p:spPr>
          <a:xfrm>
            <a:off x="5616720" y="4581360"/>
            <a:ext cx="169560" cy="1256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15602" y="12923"/>
                </a:moveTo>
                <a:cubicBezTo>
                  <a:pt x="15640" y="12951"/>
                  <a:pt x="15653" y="12948"/>
                  <a:pt x="15701" y="12948"/>
                </a:cubicBezTo>
                <a:cubicBezTo>
                  <a:pt x="15814" y="12948"/>
                  <a:pt x="15976" y="12961"/>
                  <a:pt x="16049" y="12923"/>
                </a:cubicBezTo>
                <a:cubicBezTo>
                  <a:pt x="16073" y="12923"/>
                  <a:pt x="16081" y="12923"/>
                  <a:pt x="16049" y="12923"/>
                </a:cubicBezTo>
              </a:path>
              <a:path w="472" h="348">
                <a:moveTo>
                  <a:pt x="15850" y="12725"/>
                </a:moveTo>
                <a:cubicBezTo>
                  <a:pt x="15850" y="12750"/>
                  <a:pt x="15850" y="12774"/>
                  <a:pt x="15850" y="12799"/>
                </a:cubicBezTo>
                <a:cubicBezTo>
                  <a:pt x="15878" y="12808"/>
                  <a:pt x="15893" y="12855"/>
                  <a:pt x="15875" y="12898"/>
                </a:cubicBezTo>
                <a:cubicBezTo>
                  <a:pt x="15858" y="12938"/>
                  <a:pt x="15830" y="12978"/>
                  <a:pt x="15825" y="13022"/>
                </a:cubicBezTo>
                <a:cubicBezTo>
                  <a:pt x="15825" y="13047"/>
                  <a:pt x="15825" y="13055"/>
                  <a:pt x="15825" y="13072"/>
                </a:cubicBezTo>
                <a:cubicBezTo>
                  <a:pt x="15858" y="13072"/>
                  <a:pt x="15892" y="13072"/>
                  <a:pt x="15925" y="1307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Ink 47"/>
          <p:cNvSpPr/>
          <p:nvPr/>
        </p:nvSpPr>
        <p:spPr>
          <a:xfrm>
            <a:off x="5965920" y="4456080"/>
            <a:ext cx="231840" cy="374760"/>
          </a:xfrm>
          <a:custGeom>
            <a:avLst/>
            <a:gdLst/>
            <a:ahLst/>
            <a:rect l="l" t="t" r="r" b="b"/>
            <a:pathLst>
              <a:path w="645" h="1042">
                <a:moveTo>
                  <a:pt x="16917" y="12378"/>
                </a:moveTo>
                <a:cubicBezTo>
                  <a:pt x="16909" y="12378"/>
                  <a:pt x="16900" y="12378"/>
                  <a:pt x="16892" y="12378"/>
                </a:cubicBezTo>
                <a:cubicBezTo>
                  <a:pt x="16892" y="12432"/>
                  <a:pt x="16876" y="12460"/>
                  <a:pt x="16867" y="12502"/>
                </a:cubicBezTo>
                <a:cubicBezTo>
                  <a:pt x="16854" y="12563"/>
                  <a:pt x="16877" y="12581"/>
                  <a:pt x="16892" y="12626"/>
                </a:cubicBezTo>
                <a:cubicBezTo>
                  <a:pt x="16903" y="12659"/>
                  <a:pt x="16892" y="12715"/>
                  <a:pt x="16892" y="12750"/>
                </a:cubicBezTo>
              </a:path>
              <a:path w="645" h="1042">
                <a:moveTo>
                  <a:pt x="16594" y="12849"/>
                </a:moveTo>
                <a:cubicBezTo>
                  <a:pt x="16594" y="12841"/>
                  <a:pt x="16594" y="12832"/>
                  <a:pt x="16594" y="12824"/>
                </a:cubicBezTo>
                <a:cubicBezTo>
                  <a:pt x="16649" y="12824"/>
                  <a:pt x="16665" y="12812"/>
                  <a:pt x="16718" y="12799"/>
                </a:cubicBezTo>
                <a:cubicBezTo>
                  <a:pt x="16806" y="12777"/>
                  <a:pt x="16826" y="12826"/>
                  <a:pt x="16892" y="12849"/>
                </a:cubicBezTo>
                <a:cubicBezTo>
                  <a:pt x="16967" y="12876"/>
                  <a:pt x="17109" y="12849"/>
                  <a:pt x="17190" y="12849"/>
                </a:cubicBezTo>
              </a:path>
              <a:path w="645" h="1042">
                <a:moveTo>
                  <a:pt x="16694" y="12998"/>
                </a:moveTo>
                <a:cubicBezTo>
                  <a:pt x="16661" y="13041"/>
                  <a:pt x="16686" y="13051"/>
                  <a:pt x="16669" y="13097"/>
                </a:cubicBezTo>
                <a:cubicBezTo>
                  <a:pt x="16650" y="13148"/>
                  <a:pt x="16600" y="13171"/>
                  <a:pt x="16594" y="13221"/>
                </a:cubicBezTo>
                <a:cubicBezTo>
                  <a:pt x="16590" y="13261"/>
                  <a:pt x="16570" y="13275"/>
                  <a:pt x="16570" y="13320"/>
                </a:cubicBezTo>
                <a:cubicBezTo>
                  <a:pt x="16618" y="13320"/>
                  <a:pt x="16620" y="13316"/>
                  <a:pt x="16669" y="13295"/>
                </a:cubicBezTo>
              </a:path>
              <a:path w="645" h="1042">
                <a:moveTo>
                  <a:pt x="17041" y="12998"/>
                </a:moveTo>
                <a:cubicBezTo>
                  <a:pt x="16998" y="13040"/>
                  <a:pt x="17013" y="13057"/>
                  <a:pt x="16991" y="13097"/>
                </a:cubicBezTo>
                <a:cubicBezTo>
                  <a:pt x="16970" y="13135"/>
                  <a:pt x="16965" y="13187"/>
                  <a:pt x="16942" y="13221"/>
                </a:cubicBezTo>
                <a:cubicBezTo>
                  <a:pt x="16927" y="13244"/>
                  <a:pt x="16898" y="13286"/>
                  <a:pt x="16917" y="13320"/>
                </a:cubicBezTo>
                <a:cubicBezTo>
                  <a:pt x="16927" y="13339"/>
                  <a:pt x="16961" y="13392"/>
                  <a:pt x="16966" y="13395"/>
                </a:cubicBezTo>
                <a:cubicBezTo>
                  <a:pt x="16989" y="13407"/>
                  <a:pt x="17034" y="13430"/>
                  <a:pt x="17066" y="13419"/>
                </a:cubicBezTo>
                <a:cubicBezTo>
                  <a:pt x="17109" y="13404"/>
                  <a:pt x="17158" y="13399"/>
                  <a:pt x="17190" y="13370"/>
                </a:cubicBezTo>
                <a:cubicBezTo>
                  <a:pt x="17239" y="13326"/>
                  <a:pt x="17204" y="13314"/>
                  <a:pt x="17190" y="13271"/>
                </a:cubicBezTo>
                <a:cubicBezTo>
                  <a:pt x="17181" y="13242"/>
                  <a:pt x="17156" y="13226"/>
                  <a:pt x="17115" y="13221"/>
                </a:cubicBezTo>
                <a:cubicBezTo>
                  <a:pt x="17060" y="13215"/>
                  <a:pt x="17008" y="13215"/>
                  <a:pt x="16966" y="1324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Ink 48"/>
          <p:cNvSpPr/>
          <p:nvPr/>
        </p:nvSpPr>
        <p:spPr>
          <a:xfrm>
            <a:off x="6697800" y="4660920"/>
            <a:ext cx="142560" cy="71280"/>
          </a:xfrm>
          <a:custGeom>
            <a:avLst/>
            <a:gdLst/>
            <a:ahLst/>
            <a:rect l="l" t="t" r="r" b="b"/>
            <a:pathLst>
              <a:path w="397" h="199">
                <a:moveTo>
                  <a:pt x="18604" y="12973"/>
                </a:moveTo>
                <a:cubicBezTo>
                  <a:pt x="18604" y="12965"/>
                  <a:pt x="18604" y="12956"/>
                  <a:pt x="18604" y="12948"/>
                </a:cubicBezTo>
                <a:cubicBezTo>
                  <a:pt x="18630" y="12968"/>
                  <a:pt x="18673" y="12988"/>
                  <a:pt x="18703" y="12998"/>
                </a:cubicBezTo>
                <a:cubicBezTo>
                  <a:pt x="18758" y="13016"/>
                  <a:pt x="18843" y="12998"/>
                  <a:pt x="18901" y="12998"/>
                </a:cubicBezTo>
                <a:cubicBezTo>
                  <a:pt x="18879" y="13020"/>
                  <a:pt x="18874" y="13028"/>
                  <a:pt x="18852" y="13022"/>
                </a:cubicBezTo>
              </a:path>
              <a:path w="397" h="199">
                <a:moveTo>
                  <a:pt x="18628" y="13146"/>
                </a:moveTo>
                <a:cubicBezTo>
                  <a:pt x="18752" y="13146"/>
                  <a:pt x="18876" y="13146"/>
                  <a:pt x="19000" y="1314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Ink 49"/>
          <p:cNvSpPr/>
          <p:nvPr/>
        </p:nvSpPr>
        <p:spPr>
          <a:xfrm>
            <a:off x="7161120" y="4643280"/>
            <a:ext cx="366840" cy="24156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19893" y="12948"/>
                </a:moveTo>
                <a:cubicBezTo>
                  <a:pt x="19944" y="12948"/>
                  <a:pt x="19976" y="12941"/>
                  <a:pt x="20017" y="12923"/>
                </a:cubicBezTo>
                <a:cubicBezTo>
                  <a:pt x="20087" y="12893"/>
                  <a:pt x="20127" y="12948"/>
                  <a:pt x="20216" y="12948"/>
                </a:cubicBezTo>
                <a:cubicBezTo>
                  <a:pt x="20455" y="12948"/>
                  <a:pt x="21125" y="12948"/>
                  <a:pt x="20886" y="12948"/>
                </a:cubicBezTo>
                <a:cubicBezTo>
                  <a:pt x="20853" y="12948"/>
                  <a:pt x="20836" y="12948"/>
                  <a:pt x="20811" y="12948"/>
                </a:cubicBezTo>
              </a:path>
              <a:path w="1018" h="671">
                <a:moveTo>
                  <a:pt x="20092" y="13146"/>
                </a:moveTo>
                <a:cubicBezTo>
                  <a:pt x="20079" y="13198"/>
                  <a:pt x="20042" y="13211"/>
                  <a:pt x="20042" y="13271"/>
                </a:cubicBezTo>
                <a:cubicBezTo>
                  <a:pt x="20042" y="13279"/>
                  <a:pt x="20042" y="13287"/>
                  <a:pt x="20042" y="13295"/>
                </a:cubicBezTo>
                <a:cubicBezTo>
                  <a:pt x="20002" y="13308"/>
                  <a:pt x="20017" y="13334"/>
                  <a:pt x="19993" y="13370"/>
                </a:cubicBezTo>
                <a:cubicBezTo>
                  <a:pt x="19967" y="13410"/>
                  <a:pt x="19968" y="13419"/>
                  <a:pt x="19968" y="13469"/>
                </a:cubicBezTo>
                <a:cubicBezTo>
                  <a:pt x="19968" y="13521"/>
                  <a:pt x="19965" y="13519"/>
                  <a:pt x="20017" y="13519"/>
                </a:cubicBezTo>
              </a:path>
              <a:path w="1018" h="671">
                <a:moveTo>
                  <a:pt x="20563" y="13171"/>
                </a:moveTo>
                <a:cubicBezTo>
                  <a:pt x="20533" y="13181"/>
                  <a:pt x="20522" y="13192"/>
                  <a:pt x="20489" y="13221"/>
                </a:cubicBezTo>
                <a:cubicBezTo>
                  <a:pt x="20460" y="13247"/>
                  <a:pt x="20425" y="13286"/>
                  <a:pt x="20414" y="13320"/>
                </a:cubicBezTo>
                <a:cubicBezTo>
                  <a:pt x="20402" y="13357"/>
                  <a:pt x="20393" y="13367"/>
                  <a:pt x="20389" y="13395"/>
                </a:cubicBezTo>
                <a:cubicBezTo>
                  <a:pt x="20383" y="13445"/>
                  <a:pt x="20401" y="13455"/>
                  <a:pt x="20414" y="13494"/>
                </a:cubicBezTo>
                <a:cubicBezTo>
                  <a:pt x="20430" y="13542"/>
                  <a:pt x="20436" y="13543"/>
                  <a:pt x="20489" y="13543"/>
                </a:cubicBezTo>
                <a:cubicBezTo>
                  <a:pt x="20531" y="13543"/>
                  <a:pt x="20549" y="13590"/>
                  <a:pt x="20588" y="13568"/>
                </a:cubicBezTo>
                <a:cubicBezTo>
                  <a:pt x="20624" y="13548"/>
                  <a:pt x="20657" y="13538"/>
                  <a:pt x="20662" y="13494"/>
                </a:cubicBezTo>
                <a:cubicBezTo>
                  <a:pt x="20668" y="13435"/>
                  <a:pt x="20650" y="13443"/>
                  <a:pt x="20613" y="13419"/>
                </a:cubicBezTo>
                <a:cubicBezTo>
                  <a:pt x="20574" y="13393"/>
                  <a:pt x="20562" y="13395"/>
                  <a:pt x="20513" y="13395"/>
                </a:cubicBezTo>
                <a:cubicBezTo>
                  <a:pt x="20483" y="13395"/>
                  <a:pt x="20447" y="13403"/>
                  <a:pt x="20439" y="13419"/>
                </a:cubicBezTo>
                <a:cubicBezTo>
                  <a:pt x="20439" y="13427"/>
                  <a:pt x="20439" y="13436"/>
                  <a:pt x="20439" y="1344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Ink 50"/>
          <p:cNvSpPr/>
          <p:nvPr/>
        </p:nvSpPr>
        <p:spPr>
          <a:xfrm>
            <a:off x="928800" y="5303880"/>
            <a:ext cx="366480" cy="196920"/>
          </a:xfrm>
          <a:custGeom>
            <a:avLst/>
            <a:gdLst/>
            <a:ahLst/>
            <a:rect l="l" t="t" r="r" b="b"/>
            <a:pathLst>
              <a:path w="1018" h="547">
                <a:moveTo>
                  <a:pt x="2679" y="14759"/>
                </a:moveTo>
                <a:cubicBezTo>
                  <a:pt x="2718" y="14769"/>
                  <a:pt x="2734" y="14784"/>
                  <a:pt x="2778" y="14784"/>
                </a:cubicBezTo>
                <a:cubicBezTo>
                  <a:pt x="2786" y="14784"/>
                  <a:pt x="2795" y="14784"/>
                  <a:pt x="2803" y="14784"/>
                </a:cubicBezTo>
                <a:cubicBezTo>
                  <a:pt x="2816" y="14746"/>
                  <a:pt x="2832" y="14759"/>
                  <a:pt x="2877" y="14759"/>
                </a:cubicBezTo>
              </a:path>
              <a:path w="1018" h="547">
                <a:moveTo>
                  <a:pt x="2679" y="14784"/>
                </a:moveTo>
                <a:cubicBezTo>
                  <a:pt x="2651" y="14793"/>
                  <a:pt x="2632" y="14817"/>
                  <a:pt x="2629" y="14858"/>
                </a:cubicBezTo>
                <a:cubicBezTo>
                  <a:pt x="2626" y="14907"/>
                  <a:pt x="2629" y="14958"/>
                  <a:pt x="2629" y="15007"/>
                </a:cubicBezTo>
                <a:cubicBezTo>
                  <a:pt x="2692" y="15007"/>
                  <a:pt x="2726" y="15015"/>
                  <a:pt x="2778" y="15032"/>
                </a:cubicBezTo>
                <a:cubicBezTo>
                  <a:pt x="2806" y="15041"/>
                  <a:pt x="2854" y="15060"/>
                  <a:pt x="2828" y="15106"/>
                </a:cubicBezTo>
                <a:cubicBezTo>
                  <a:pt x="2804" y="15149"/>
                  <a:pt x="2772" y="15156"/>
                  <a:pt x="2729" y="15156"/>
                </a:cubicBezTo>
                <a:cubicBezTo>
                  <a:pt x="2685" y="15156"/>
                  <a:pt x="2666" y="15193"/>
                  <a:pt x="2629" y="15205"/>
                </a:cubicBezTo>
                <a:cubicBezTo>
                  <a:pt x="2598" y="15215"/>
                  <a:pt x="2570" y="15198"/>
                  <a:pt x="2604" y="15180"/>
                </a:cubicBezTo>
              </a:path>
              <a:path w="1018" h="547">
                <a:moveTo>
                  <a:pt x="3026" y="15056"/>
                </a:moveTo>
                <a:cubicBezTo>
                  <a:pt x="3020" y="15080"/>
                  <a:pt x="3013" y="15134"/>
                  <a:pt x="3001" y="15156"/>
                </a:cubicBezTo>
                <a:cubicBezTo>
                  <a:pt x="2979" y="15197"/>
                  <a:pt x="2977" y="15205"/>
                  <a:pt x="2977" y="15255"/>
                </a:cubicBezTo>
                <a:cubicBezTo>
                  <a:pt x="2977" y="15308"/>
                  <a:pt x="3020" y="15263"/>
                  <a:pt x="3051" y="15255"/>
                </a:cubicBezTo>
              </a:path>
              <a:path w="1018" h="547">
                <a:moveTo>
                  <a:pt x="3349" y="14734"/>
                </a:moveTo>
                <a:cubicBezTo>
                  <a:pt x="3386" y="14763"/>
                  <a:pt x="3400" y="14759"/>
                  <a:pt x="3448" y="14759"/>
                </a:cubicBezTo>
                <a:cubicBezTo>
                  <a:pt x="3473" y="14759"/>
                  <a:pt x="3497" y="14759"/>
                  <a:pt x="3522" y="14759"/>
                </a:cubicBezTo>
                <a:cubicBezTo>
                  <a:pt x="3522" y="14797"/>
                  <a:pt x="3538" y="14862"/>
                  <a:pt x="3497" y="14883"/>
                </a:cubicBezTo>
                <a:cubicBezTo>
                  <a:pt x="3489" y="14887"/>
                  <a:pt x="3443" y="14932"/>
                  <a:pt x="3473" y="14957"/>
                </a:cubicBezTo>
                <a:cubicBezTo>
                  <a:pt x="3497" y="14977"/>
                  <a:pt x="3553" y="14991"/>
                  <a:pt x="3572" y="15032"/>
                </a:cubicBezTo>
                <a:cubicBezTo>
                  <a:pt x="3587" y="15066"/>
                  <a:pt x="3597" y="15055"/>
                  <a:pt x="3597" y="15106"/>
                </a:cubicBezTo>
                <a:cubicBezTo>
                  <a:pt x="3597" y="15139"/>
                  <a:pt x="3597" y="15172"/>
                  <a:pt x="3597" y="15205"/>
                </a:cubicBezTo>
                <a:cubicBezTo>
                  <a:pt x="3541" y="15205"/>
                  <a:pt x="3490" y="15217"/>
                  <a:pt x="3448" y="15180"/>
                </a:cubicBezTo>
                <a:cubicBezTo>
                  <a:pt x="3411" y="15148"/>
                  <a:pt x="3410" y="15168"/>
                  <a:pt x="3398" y="151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Ink 51"/>
          <p:cNvSpPr/>
          <p:nvPr/>
        </p:nvSpPr>
        <p:spPr>
          <a:xfrm>
            <a:off x="1544760" y="5392800"/>
            <a:ext cx="250560" cy="117360"/>
          </a:xfrm>
          <a:custGeom>
            <a:avLst/>
            <a:gdLst/>
            <a:ahLst/>
            <a:rect l="l" t="t" r="r" b="b"/>
            <a:pathLst>
              <a:path w="696" h="323">
                <a:moveTo>
                  <a:pt x="4415" y="15056"/>
                </a:moveTo>
                <a:cubicBezTo>
                  <a:pt x="4411" y="15044"/>
                  <a:pt x="4364" y="15004"/>
                  <a:pt x="4341" y="15032"/>
                </a:cubicBezTo>
                <a:cubicBezTo>
                  <a:pt x="4315" y="15063"/>
                  <a:pt x="4291" y="15110"/>
                  <a:pt x="4291" y="15156"/>
                </a:cubicBezTo>
                <a:cubicBezTo>
                  <a:pt x="4291" y="15207"/>
                  <a:pt x="4306" y="15209"/>
                  <a:pt x="4316" y="15230"/>
                </a:cubicBezTo>
                <a:cubicBezTo>
                  <a:pt x="4333" y="15265"/>
                  <a:pt x="4342" y="15255"/>
                  <a:pt x="4390" y="15255"/>
                </a:cubicBezTo>
                <a:cubicBezTo>
                  <a:pt x="4435" y="15255"/>
                  <a:pt x="4450" y="15200"/>
                  <a:pt x="4465" y="15180"/>
                </a:cubicBezTo>
                <a:cubicBezTo>
                  <a:pt x="4482" y="15158"/>
                  <a:pt x="4509" y="15115"/>
                  <a:pt x="4490" y="15081"/>
                </a:cubicBezTo>
                <a:cubicBezTo>
                  <a:pt x="4466" y="15038"/>
                  <a:pt x="4433" y="15032"/>
                  <a:pt x="4390" y="15032"/>
                </a:cubicBezTo>
                <a:cubicBezTo>
                  <a:pt x="4356" y="15032"/>
                  <a:pt x="4262" y="15090"/>
                  <a:pt x="4415" y="15056"/>
                </a:cubicBezTo>
              </a:path>
              <a:path w="696" h="323">
                <a:moveTo>
                  <a:pt x="4589" y="15106"/>
                </a:moveTo>
                <a:cubicBezTo>
                  <a:pt x="4589" y="15173"/>
                  <a:pt x="4598" y="15223"/>
                  <a:pt x="4614" y="15255"/>
                </a:cubicBezTo>
                <a:cubicBezTo>
                  <a:pt x="4614" y="15280"/>
                  <a:pt x="4614" y="15288"/>
                  <a:pt x="4638" y="15280"/>
                </a:cubicBezTo>
                <a:cubicBezTo>
                  <a:pt x="4638" y="15225"/>
                  <a:pt x="4650" y="15197"/>
                  <a:pt x="4688" y="15156"/>
                </a:cubicBezTo>
                <a:cubicBezTo>
                  <a:pt x="4724" y="15117"/>
                  <a:pt x="4717" y="15085"/>
                  <a:pt x="4738" y="15056"/>
                </a:cubicBezTo>
                <a:cubicBezTo>
                  <a:pt x="4763" y="15022"/>
                  <a:pt x="4762" y="15025"/>
                  <a:pt x="4762" y="14982"/>
                </a:cubicBezTo>
                <a:cubicBezTo>
                  <a:pt x="4801" y="14982"/>
                  <a:pt x="4832" y="14966"/>
                  <a:pt x="4837" y="15007"/>
                </a:cubicBezTo>
                <a:cubicBezTo>
                  <a:pt x="4845" y="15069"/>
                  <a:pt x="4862" y="15007"/>
                  <a:pt x="4837" y="15081"/>
                </a:cubicBezTo>
                <a:cubicBezTo>
                  <a:pt x="4829" y="15106"/>
                  <a:pt x="4799" y="15150"/>
                  <a:pt x="4787" y="15156"/>
                </a:cubicBezTo>
                <a:cubicBezTo>
                  <a:pt x="4762" y="15156"/>
                  <a:pt x="4754" y="15156"/>
                  <a:pt x="4762" y="15180"/>
                </a:cubicBezTo>
                <a:cubicBezTo>
                  <a:pt x="4801" y="15190"/>
                  <a:pt x="4822" y="15223"/>
                  <a:pt x="4837" y="15230"/>
                </a:cubicBezTo>
                <a:cubicBezTo>
                  <a:pt x="4865" y="15244"/>
                  <a:pt x="4899" y="15230"/>
                  <a:pt x="4911" y="15255"/>
                </a:cubicBezTo>
                <a:cubicBezTo>
                  <a:pt x="4924" y="15281"/>
                  <a:pt x="4927" y="15300"/>
                  <a:pt x="4961" y="15304"/>
                </a:cubicBezTo>
                <a:cubicBezTo>
                  <a:pt x="4986" y="15304"/>
                  <a:pt x="4994" y="15304"/>
                  <a:pt x="4986" y="1528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Ink 52"/>
          <p:cNvSpPr/>
          <p:nvPr/>
        </p:nvSpPr>
        <p:spPr>
          <a:xfrm>
            <a:off x="2098800" y="5286240"/>
            <a:ext cx="98280" cy="1796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5854" y="14684"/>
                </a:moveTo>
                <a:cubicBezTo>
                  <a:pt x="5787" y="14684"/>
                  <a:pt x="5893" y="14684"/>
                  <a:pt x="5904" y="14684"/>
                </a:cubicBezTo>
                <a:cubicBezTo>
                  <a:pt x="5942" y="14684"/>
                  <a:pt x="5924" y="14709"/>
                  <a:pt x="5978" y="14709"/>
                </a:cubicBezTo>
                <a:cubicBezTo>
                  <a:pt x="6010" y="14709"/>
                  <a:pt x="6044" y="14717"/>
                  <a:pt x="6052" y="14734"/>
                </a:cubicBezTo>
                <a:cubicBezTo>
                  <a:pt x="6052" y="14742"/>
                  <a:pt x="6052" y="14751"/>
                  <a:pt x="6052" y="14759"/>
                </a:cubicBezTo>
                <a:cubicBezTo>
                  <a:pt x="6029" y="14791"/>
                  <a:pt x="6021" y="14862"/>
                  <a:pt x="6003" y="14883"/>
                </a:cubicBezTo>
                <a:cubicBezTo>
                  <a:pt x="5978" y="14883"/>
                  <a:pt x="5970" y="14883"/>
                  <a:pt x="5978" y="14908"/>
                </a:cubicBezTo>
                <a:cubicBezTo>
                  <a:pt x="5995" y="14957"/>
                  <a:pt x="6026" y="14903"/>
                  <a:pt x="6052" y="14957"/>
                </a:cubicBezTo>
                <a:cubicBezTo>
                  <a:pt x="6066" y="14985"/>
                  <a:pt x="6089" y="15014"/>
                  <a:pt x="6102" y="15056"/>
                </a:cubicBezTo>
                <a:cubicBezTo>
                  <a:pt x="6114" y="15095"/>
                  <a:pt x="6101" y="15130"/>
                  <a:pt x="6077" y="15156"/>
                </a:cubicBezTo>
                <a:cubicBezTo>
                  <a:pt x="6047" y="15189"/>
                  <a:pt x="6020" y="15180"/>
                  <a:pt x="5978" y="15180"/>
                </a:cubicBezTo>
                <a:cubicBezTo>
                  <a:pt x="5923" y="15180"/>
                  <a:pt x="5943" y="15161"/>
                  <a:pt x="5904" y="15156"/>
                </a:cubicBezTo>
                <a:cubicBezTo>
                  <a:pt x="5867" y="15151"/>
                  <a:pt x="5918" y="15123"/>
                  <a:pt x="5953" y="1510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Ink 53"/>
          <p:cNvSpPr/>
          <p:nvPr/>
        </p:nvSpPr>
        <p:spPr>
          <a:xfrm>
            <a:off x="2330280" y="529596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6499" y="14709"/>
                </a:moveTo>
                <a:cubicBezTo>
                  <a:pt x="6524" y="14709"/>
                  <a:pt x="6548" y="14709"/>
                  <a:pt x="6573" y="14709"/>
                </a:cubicBezTo>
                <a:cubicBezTo>
                  <a:pt x="6586" y="14747"/>
                  <a:pt x="6603" y="14734"/>
                  <a:pt x="6648" y="14734"/>
                </a:cubicBezTo>
                <a:cubicBezTo>
                  <a:pt x="6672" y="14734"/>
                  <a:pt x="6681" y="14734"/>
                  <a:pt x="6697" y="14734"/>
                </a:cubicBezTo>
              </a:path>
              <a:path w="224" h="398">
                <a:moveTo>
                  <a:pt x="6548" y="14734"/>
                </a:moveTo>
                <a:cubicBezTo>
                  <a:pt x="6538" y="14775"/>
                  <a:pt x="6504" y="14791"/>
                  <a:pt x="6499" y="14833"/>
                </a:cubicBezTo>
                <a:cubicBezTo>
                  <a:pt x="6494" y="14875"/>
                  <a:pt x="6508" y="14894"/>
                  <a:pt x="6548" y="14908"/>
                </a:cubicBezTo>
                <a:cubicBezTo>
                  <a:pt x="6594" y="14923"/>
                  <a:pt x="6607" y="14895"/>
                  <a:pt x="6648" y="14932"/>
                </a:cubicBezTo>
                <a:cubicBezTo>
                  <a:pt x="6681" y="14962"/>
                  <a:pt x="6672" y="14990"/>
                  <a:pt x="6672" y="15032"/>
                </a:cubicBezTo>
                <a:cubicBezTo>
                  <a:pt x="6672" y="15074"/>
                  <a:pt x="6667" y="15091"/>
                  <a:pt x="6623" y="15106"/>
                </a:cubicBezTo>
                <a:cubicBezTo>
                  <a:pt x="6575" y="15122"/>
                  <a:pt x="6562" y="15088"/>
                  <a:pt x="6548" y="15081"/>
                </a:cubicBezTo>
                <a:cubicBezTo>
                  <a:pt x="6529" y="15071"/>
                  <a:pt x="6448" y="15091"/>
                  <a:pt x="6474" y="15032"/>
                </a:cubicBezTo>
                <a:cubicBezTo>
                  <a:pt x="6482" y="15024"/>
                  <a:pt x="6491" y="15015"/>
                  <a:pt x="6499" y="1500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Ink 54"/>
          <p:cNvSpPr/>
          <p:nvPr/>
        </p:nvSpPr>
        <p:spPr>
          <a:xfrm>
            <a:off x="2776680" y="5357880"/>
            <a:ext cx="241200" cy="108000"/>
          </a:xfrm>
          <a:custGeom>
            <a:avLst/>
            <a:gdLst/>
            <a:ahLst/>
            <a:rect l="l" t="t" r="r" b="b"/>
            <a:pathLst>
              <a:path w="671" h="298">
                <a:moveTo>
                  <a:pt x="7764" y="15007"/>
                </a:moveTo>
                <a:cubicBezTo>
                  <a:pt x="7753" y="15041"/>
                  <a:pt x="7724" y="15035"/>
                  <a:pt x="7714" y="15056"/>
                </a:cubicBezTo>
                <a:cubicBezTo>
                  <a:pt x="7693" y="15098"/>
                  <a:pt x="7724" y="15119"/>
                  <a:pt x="7739" y="15131"/>
                </a:cubicBezTo>
                <a:cubicBezTo>
                  <a:pt x="7777" y="15160"/>
                  <a:pt x="7790" y="15156"/>
                  <a:pt x="7838" y="15156"/>
                </a:cubicBezTo>
                <a:cubicBezTo>
                  <a:pt x="7896" y="15156"/>
                  <a:pt x="7907" y="15143"/>
                  <a:pt x="7913" y="15081"/>
                </a:cubicBezTo>
                <a:cubicBezTo>
                  <a:pt x="7916" y="15049"/>
                  <a:pt x="7913" y="15014"/>
                  <a:pt x="7913" y="14982"/>
                </a:cubicBezTo>
                <a:cubicBezTo>
                  <a:pt x="7872" y="14982"/>
                  <a:pt x="7818" y="14965"/>
                  <a:pt x="7813" y="15007"/>
                </a:cubicBezTo>
                <a:cubicBezTo>
                  <a:pt x="7813" y="15035"/>
                  <a:pt x="7815" y="15046"/>
                  <a:pt x="7838" y="15056"/>
                </a:cubicBezTo>
              </a:path>
              <a:path w="671" h="298">
                <a:moveTo>
                  <a:pt x="8086" y="15007"/>
                </a:moveTo>
                <a:cubicBezTo>
                  <a:pt x="8086" y="15053"/>
                  <a:pt x="8073" y="15186"/>
                  <a:pt x="8086" y="15156"/>
                </a:cubicBezTo>
                <a:cubicBezTo>
                  <a:pt x="8105" y="15110"/>
                  <a:pt x="8105" y="15066"/>
                  <a:pt x="8136" y="15032"/>
                </a:cubicBezTo>
                <a:cubicBezTo>
                  <a:pt x="8167" y="14998"/>
                  <a:pt x="8174" y="14968"/>
                  <a:pt x="8210" y="14932"/>
                </a:cubicBezTo>
                <a:cubicBezTo>
                  <a:pt x="8235" y="14908"/>
                  <a:pt x="8244" y="14900"/>
                  <a:pt x="8260" y="14883"/>
                </a:cubicBezTo>
                <a:cubicBezTo>
                  <a:pt x="8260" y="14934"/>
                  <a:pt x="8259" y="14941"/>
                  <a:pt x="8235" y="14982"/>
                </a:cubicBezTo>
                <a:cubicBezTo>
                  <a:pt x="8209" y="15028"/>
                  <a:pt x="8196" y="15050"/>
                  <a:pt x="8186" y="15081"/>
                </a:cubicBezTo>
                <a:cubicBezTo>
                  <a:pt x="8198" y="15119"/>
                  <a:pt x="8242" y="15105"/>
                  <a:pt x="8260" y="15131"/>
                </a:cubicBezTo>
                <a:cubicBezTo>
                  <a:pt x="8281" y="15162"/>
                  <a:pt x="8283" y="15156"/>
                  <a:pt x="8334" y="15156"/>
                </a:cubicBezTo>
                <a:cubicBezTo>
                  <a:pt x="8375" y="15156"/>
                  <a:pt x="8346" y="15168"/>
                  <a:pt x="8384" y="1518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Ink 55"/>
          <p:cNvSpPr/>
          <p:nvPr/>
        </p:nvSpPr>
        <p:spPr>
          <a:xfrm>
            <a:off x="3510000" y="5286240"/>
            <a:ext cx="330120" cy="179640"/>
          </a:xfrm>
          <a:custGeom>
            <a:avLst/>
            <a:gdLst/>
            <a:ahLst/>
            <a:rect l="l" t="t" r="r" b="b"/>
            <a:pathLst>
              <a:path w="919" h="497">
                <a:moveTo>
                  <a:pt x="9847" y="14684"/>
                </a:moveTo>
                <a:cubicBezTo>
                  <a:pt x="9824" y="14715"/>
                  <a:pt x="9802" y="14745"/>
                  <a:pt x="9798" y="14784"/>
                </a:cubicBezTo>
                <a:cubicBezTo>
                  <a:pt x="9798" y="14792"/>
                  <a:pt x="9798" y="14800"/>
                  <a:pt x="9798" y="14808"/>
                </a:cubicBezTo>
                <a:cubicBezTo>
                  <a:pt x="9775" y="14816"/>
                  <a:pt x="9759" y="14851"/>
                  <a:pt x="9748" y="14883"/>
                </a:cubicBezTo>
                <a:cubicBezTo>
                  <a:pt x="9739" y="14909"/>
                  <a:pt x="9748" y="14954"/>
                  <a:pt x="9748" y="14982"/>
                </a:cubicBezTo>
                <a:cubicBezTo>
                  <a:pt x="9788" y="14995"/>
                  <a:pt x="9758" y="14994"/>
                  <a:pt x="9798" y="15007"/>
                </a:cubicBezTo>
                <a:cubicBezTo>
                  <a:pt x="9811" y="15045"/>
                  <a:pt x="9827" y="15032"/>
                  <a:pt x="9872" y="15032"/>
                </a:cubicBezTo>
                <a:cubicBezTo>
                  <a:pt x="9935" y="15032"/>
                  <a:pt x="9969" y="15024"/>
                  <a:pt x="10021" y="15007"/>
                </a:cubicBezTo>
                <a:cubicBezTo>
                  <a:pt x="10058" y="14995"/>
                  <a:pt x="10077" y="14982"/>
                  <a:pt x="10120" y="14982"/>
                </a:cubicBezTo>
              </a:path>
              <a:path w="919" h="497">
                <a:moveTo>
                  <a:pt x="9971" y="14858"/>
                </a:moveTo>
                <a:cubicBezTo>
                  <a:pt x="9971" y="14954"/>
                  <a:pt x="9968" y="15048"/>
                  <a:pt x="9996" y="15131"/>
                </a:cubicBezTo>
                <a:cubicBezTo>
                  <a:pt x="9996" y="15156"/>
                  <a:pt x="9996" y="15164"/>
                  <a:pt x="9996" y="15180"/>
                </a:cubicBezTo>
                <a:cubicBezTo>
                  <a:pt x="10021" y="15180"/>
                  <a:pt x="10046" y="15180"/>
                  <a:pt x="10071" y="15180"/>
                </a:cubicBezTo>
              </a:path>
              <a:path w="919" h="497">
                <a:moveTo>
                  <a:pt x="10393" y="14759"/>
                </a:moveTo>
                <a:cubicBezTo>
                  <a:pt x="10431" y="14731"/>
                  <a:pt x="10444" y="14734"/>
                  <a:pt x="10492" y="14734"/>
                </a:cubicBezTo>
                <a:cubicBezTo>
                  <a:pt x="10526" y="14734"/>
                  <a:pt x="10573" y="14721"/>
                  <a:pt x="10592" y="14759"/>
                </a:cubicBezTo>
                <a:cubicBezTo>
                  <a:pt x="10612" y="14799"/>
                  <a:pt x="10576" y="14831"/>
                  <a:pt x="10567" y="14858"/>
                </a:cubicBezTo>
                <a:cubicBezTo>
                  <a:pt x="10554" y="14898"/>
                  <a:pt x="10555" y="14868"/>
                  <a:pt x="10542" y="14908"/>
                </a:cubicBezTo>
                <a:cubicBezTo>
                  <a:pt x="10576" y="14919"/>
                  <a:pt x="10573" y="14942"/>
                  <a:pt x="10616" y="14957"/>
                </a:cubicBezTo>
                <a:cubicBezTo>
                  <a:pt x="10657" y="14971"/>
                  <a:pt x="10661" y="14978"/>
                  <a:pt x="10666" y="15032"/>
                </a:cubicBezTo>
                <a:cubicBezTo>
                  <a:pt x="10669" y="15067"/>
                  <a:pt x="10657" y="15106"/>
                  <a:pt x="10641" y="15131"/>
                </a:cubicBezTo>
                <a:cubicBezTo>
                  <a:pt x="10607" y="15183"/>
                  <a:pt x="10574" y="15180"/>
                  <a:pt x="10517" y="15180"/>
                </a:cubicBezTo>
                <a:cubicBezTo>
                  <a:pt x="10451" y="15180"/>
                  <a:pt x="10462" y="15157"/>
                  <a:pt x="10468" y="15131"/>
                </a:cubicBezTo>
                <a:cubicBezTo>
                  <a:pt x="10468" y="15123"/>
                  <a:pt x="10468" y="15114"/>
                  <a:pt x="10468" y="1510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Ink 56"/>
          <p:cNvSpPr/>
          <p:nvPr/>
        </p:nvSpPr>
        <p:spPr>
          <a:xfrm>
            <a:off x="4205160" y="5367240"/>
            <a:ext cx="243000" cy="115920"/>
          </a:xfrm>
          <a:custGeom>
            <a:avLst/>
            <a:gdLst/>
            <a:ahLst/>
            <a:rect l="l" t="t" r="r" b="b"/>
            <a:pathLst>
              <a:path w="671" h="323">
                <a:moveTo>
                  <a:pt x="11757" y="14957"/>
                </a:moveTo>
                <a:cubicBezTo>
                  <a:pt x="11728" y="14987"/>
                  <a:pt x="11687" y="15002"/>
                  <a:pt x="11683" y="15032"/>
                </a:cubicBezTo>
                <a:cubicBezTo>
                  <a:pt x="11678" y="15071"/>
                  <a:pt x="11683" y="15117"/>
                  <a:pt x="11683" y="15156"/>
                </a:cubicBezTo>
                <a:cubicBezTo>
                  <a:pt x="11744" y="15164"/>
                  <a:pt x="11767" y="15180"/>
                  <a:pt x="11832" y="15180"/>
                </a:cubicBezTo>
                <a:cubicBezTo>
                  <a:pt x="11899" y="15180"/>
                  <a:pt x="11897" y="15144"/>
                  <a:pt x="11931" y="15106"/>
                </a:cubicBezTo>
                <a:cubicBezTo>
                  <a:pt x="11962" y="15071"/>
                  <a:pt x="11956" y="15053"/>
                  <a:pt x="11956" y="15007"/>
                </a:cubicBezTo>
                <a:cubicBezTo>
                  <a:pt x="11956" y="14976"/>
                  <a:pt x="11914" y="14961"/>
                  <a:pt x="11881" y="14957"/>
                </a:cubicBezTo>
                <a:cubicBezTo>
                  <a:pt x="11873" y="14956"/>
                  <a:pt x="11771" y="14950"/>
                  <a:pt x="11807" y="14982"/>
                </a:cubicBezTo>
                <a:cubicBezTo>
                  <a:pt x="11847" y="15002"/>
                  <a:pt x="11854" y="15011"/>
                  <a:pt x="11881" y="15007"/>
                </a:cubicBezTo>
              </a:path>
              <a:path w="671" h="323">
                <a:moveTo>
                  <a:pt x="12055" y="15056"/>
                </a:moveTo>
                <a:cubicBezTo>
                  <a:pt x="12093" y="15069"/>
                  <a:pt x="12080" y="15086"/>
                  <a:pt x="12080" y="15131"/>
                </a:cubicBezTo>
                <a:cubicBezTo>
                  <a:pt x="12080" y="15170"/>
                  <a:pt x="12105" y="15185"/>
                  <a:pt x="12105" y="15230"/>
                </a:cubicBezTo>
                <a:cubicBezTo>
                  <a:pt x="12136" y="15159"/>
                  <a:pt x="12168" y="15099"/>
                  <a:pt x="12204" y="15032"/>
                </a:cubicBezTo>
                <a:cubicBezTo>
                  <a:pt x="12218" y="15006"/>
                  <a:pt x="12251" y="14921"/>
                  <a:pt x="12278" y="14908"/>
                </a:cubicBezTo>
                <a:cubicBezTo>
                  <a:pt x="12286" y="14908"/>
                  <a:pt x="12295" y="14908"/>
                  <a:pt x="12303" y="14908"/>
                </a:cubicBezTo>
                <a:cubicBezTo>
                  <a:pt x="12292" y="14951"/>
                  <a:pt x="12266" y="14991"/>
                  <a:pt x="12254" y="15032"/>
                </a:cubicBezTo>
                <a:cubicBezTo>
                  <a:pt x="12244" y="15066"/>
                  <a:pt x="12180" y="15113"/>
                  <a:pt x="12204" y="15156"/>
                </a:cubicBezTo>
                <a:cubicBezTo>
                  <a:pt x="12225" y="15192"/>
                  <a:pt x="12268" y="15180"/>
                  <a:pt x="12303" y="15180"/>
                </a:cubicBezTo>
                <a:cubicBezTo>
                  <a:pt x="12346" y="15180"/>
                  <a:pt x="12344" y="15196"/>
                  <a:pt x="12353" y="152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Ink 57"/>
          <p:cNvSpPr/>
          <p:nvPr/>
        </p:nvSpPr>
        <p:spPr>
          <a:xfrm>
            <a:off x="4884840" y="5330880"/>
            <a:ext cx="438120" cy="223920"/>
          </a:xfrm>
          <a:custGeom>
            <a:avLst/>
            <a:gdLst/>
            <a:ahLst/>
            <a:rect l="l" t="t" r="r" b="b"/>
            <a:pathLst>
              <a:path w="1217" h="622">
                <a:moveTo>
                  <a:pt x="13568" y="14883"/>
                </a:moveTo>
                <a:cubicBezTo>
                  <a:pt x="13606" y="14845"/>
                  <a:pt x="13614" y="14833"/>
                  <a:pt x="13667" y="14833"/>
                </a:cubicBezTo>
                <a:cubicBezTo>
                  <a:pt x="13723" y="14833"/>
                  <a:pt x="13737" y="14808"/>
                  <a:pt x="13791" y="14808"/>
                </a:cubicBezTo>
                <a:cubicBezTo>
                  <a:pt x="13833" y="14808"/>
                  <a:pt x="13838" y="14854"/>
                  <a:pt x="13816" y="14883"/>
                </a:cubicBezTo>
                <a:cubicBezTo>
                  <a:pt x="13789" y="14918"/>
                  <a:pt x="13738" y="14910"/>
                  <a:pt x="13717" y="14957"/>
                </a:cubicBezTo>
                <a:cubicBezTo>
                  <a:pt x="13700" y="14996"/>
                  <a:pt x="13737" y="15022"/>
                  <a:pt x="13767" y="15032"/>
                </a:cubicBezTo>
                <a:cubicBezTo>
                  <a:pt x="13817" y="15049"/>
                  <a:pt x="13866" y="15062"/>
                  <a:pt x="13915" y="15081"/>
                </a:cubicBezTo>
                <a:cubicBezTo>
                  <a:pt x="13958" y="15098"/>
                  <a:pt x="13948" y="15139"/>
                  <a:pt x="13915" y="15180"/>
                </a:cubicBezTo>
                <a:cubicBezTo>
                  <a:pt x="13886" y="15217"/>
                  <a:pt x="13832" y="15263"/>
                  <a:pt x="13791" y="15280"/>
                </a:cubicBezTo>
                <a:cubicBezTo>
                  <a:pt x="13766" y="15290"/>
                  <a:pt x="13744" y="15298"/>
                  <a:pt x="13717" y="15304"/>
                </a:cubicBezTo>
                <a:cubicBezTo>
                  <a:pt x="13776" y="15297"/>
                  <a:pt x="13794" y="15293"/>
                  <a:pt x="13841" y="15255"/>
                </a:cubicBezTo>
              </a:path>
              <a:path w="1217" h="622">
                <a:moveTo>
                  <a:pt x="14139" y="15255"/>
                </a:moveTo>
                <a:cubicBezTo>
                  <a:pt x="14139" y="15313"/>
                  <a:pt x="14147" y="15335"/>
                  <a:pt x="14114" y="15379"/>
                </a:cubicBezTo>
                <a:cubicBezTo>
                  <a:pt x="14139" y="15379"/>
                  <a:pt x="14163" y="15379"/>
                  <a:pt x="14188" y="15379"/>
                </a:cubicBezTo>
              </a:path>
              <a:path w="1217" h="622">
                <a:moveTo>
                  <a:pt x="14536" y="14908"/>
                </a:moveTo>
                <a:cubicBezTo>
                  <a:pt x="14536" y="14961"/>
                  <a:pt x="14535" y="14981"/>
                  <a:pt x="14511" y="15032"/>
                </a:cubicBezTo>
                <a:cubicBezTo>
                  <a:pt x="14484" y="15089"/>
                  <a:pt x="14486" y="15117"/>
                  <a:pt x="14486" y="15180"/>
                </a:cubicBezTo>
                <a:cubicBezTo>
                  <a:pt x="14486" y="15214"/>
                  <a:pt x="14473" y="15261"/>
                  <a:pt x="14511" y="15280"/>
                </a:cubicBezTo>
                <a:cubicBezTo>
                  <a:pt x="14551" y="15300"/>
                  <a:pt x="14583" y="15264"/>
                  <a:pt x="14610" y="15255"/>
                </a:cubicBezTo>
                <a:cubicBezTo>
                  <a:pt x="14646" y="15243"/>
                  <a:pt x="14675" y="15216"/>
                  <a:pt x="14709" y="15205"/>
                </a:cubicBezTo>
                <a:cubicBezTo>
                  <a:pt x="14728" y="15199"/>
                  <a:pt x="14764" y="15205"/>
                  <a:pt x="14784" y="15205"/>
                </a:cubicBezTo>
              </a:path>
              <a:path w="1217" h="622">
                <a:moveTo>
                  <a:pt x="14709" y="15056"/>
                </a:moveTo>
                <a:cubicBezTo>
                  <a:pt x="14709" y="15180"/>
                  <a:pt x="14709" y="15305"/>
                  <a:pt x="14709" y="1542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nk 58"/>
          <p:cNvSpPr/>
          <p:nvPr/>
        </p:nvSpPr>
        <p:spPr>
          <a:xfrm>
            <a:off x="6072120" y="545616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6867" y="15180"/>
                </a:moveTo>
                <a:cubicBezTo>
                  <a:pt x="16875" y="15180"/>
                  <a:pt x="16884" y="15180"/>
                  <a:pt x="16892" y="15180"/>
                </a:cubicBezTo>
                <a:cubicBezTo>
                  <a:pt x="16905" y="15144"/>
                  <a:pt x="16922" y="15156"/>
                  <a:pt x="16966" y="15156"/>
                </a:cubicBezTo>
                <a:cubicBezTo>
                  <a:pt x="17021" y="15156"/>
                  <a:pt x="17037" y="15180"/>
                  <a:pt x="17090" y="15180"/>
                </a:cubicBezTo>
                <a:cubicBezTo>
                  <a:pt x="17129" y="15180"/>
                  <a:pt x="17115" y="15197"/>
                  <a:pt x="17115" y="15230"/>
                </a:cubicBezTo>
              </a:path>
              <a:path w="373" h="249">
                <a:moveTo>
                  <a:pt x="16867" y="15379"/>
                </a:moveTo>
                <a:cubicBezTo>
                  <a:pt x="16981" y="15379"/>
                  <a:pt x="17083" y="15377"/>
                  <a:pt x="17190" y="15404"/>
                </a:cubicBezTo>
                <a:cubicBezTo>
                  <a:pt x="17214" y="15404"/>
                  <a:pt x="17223" y="15404"/>
                  <a:pt x="17239" y="1540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Ink 59"/>
          <p:cNvSpPr/>
          <p:nvPr/>
        </p:nvSpPr>
        <p:spPr>
          <a:xfrm>
            <a:off x="6581880" y="5330880"/>
            <a:ext cx="320400" cy="393480"/>
          </a:xfrm>
          <a:custGeom>
            <a:avLst/>
            <a:gdLst/>
            <a:ahLst/>
            <a:rect l="l" t="t" r="r" b="b"/>
            <a:pathLst>
              <a:path w="894" h="1093">
                <a:moveTo>
                  <a:pt x="18678" y="14808"/>
                </a:moveTo>
                <a:cubicBezTo>
                  <a:pt x="18667" y="14842"/>
                  <a:pt x="18643" y="14839"/>
                  <a:pt x="18628" y="14883"/>
                </a:cubicBezTo>
                <a:cubicBezTo>
                  <a:pt x="18613" y="14929"/>
                  <a:pt x="18569" y="14962"/>
                  <a:pt x="18554" y="15007"/>
                </a:cubicBezTo>
                <a:cubicBezTo>
                  <a:pt x="18542" y="15044"/>
                  <a:pt x="18529" y="15062"/>
                  <a:pt x="18529" y="15106"/>
                </a:cubicBezTo>
                <a:cubicBezTo>
                  <a:pt x="18603" y="15106"/>
                  <a:pt x="18667" y="15094"/>
                  <a:pt x="18728" y="15081"/>
                </a:cubicBezTo>
                <a:cubicBezTo>
                  <a:pt x="18774" y="15071"/>
                  <a:pt x="18838" y="15064"/>
                  <a:pt x="18876" y="15056"/>
                </a:cubicBezTo>
                <a:cubicBezTo>
                  <a:pt x="18929" y="15045"/>
                  <a:pt x="19008" y="15081"/>
                  <a:pt x="19025" y="15032"/>
                </a:cubicBezTo>
              </a:path>
              <a:path w="894" h="1093">
                <a:moveTo>
                  <a:pt x="18852" y="14932"/>
                </a:moveTo>
                <a:cubicBezTo>
                  <a:pt x="18844" y="14932"/>
                  <a:pt x="18835" y="14932"/>
                  <a:pt x="18827" y="14932"/>
                </a:cubicBezTo>
                <a:cubicBezTo>
                  <a:pt x="18817" y="14971"/>
                  <a:pt x="18802" y="14987"/>
                  <a:pt x="18802" y="15032"/>
                </a:cubicBezTo>
                <a:cubicBezTo>
                  <a:pt x="18802" y="15124"/>
                  <a:pt x="18800" y="15202"/>
                  <a:pt x="18827" y="15280"/>
                </a:cubicBezTo>
                <a:cubicBezTo>
                  <a:pt x="18833" y="15299"/>
                  <a:pt x="18827" y="15334"/>
                  <a:pt x="18827" y="15354"/>
                </a:cubicBezTo>
              </a:path>
              <a:path w="894" h="1093">
                <a:moveTo>
                  <a:pt x="18281" y="15329"/>
                </a:moveTo>
                <a:cubicBezTo>
                  <a:pt x="18341" y="15329"/>
                  <a:pt x="18368" y="15345"/>
                  <a:pt x="18430" y="15354"/>
                </a:cubicBezTo>
                <a:cubicBezTo>
                  <a:pt x="18683" y="15392"/>
                  <a:pt x="19405" y="15354"/>
                  <a:pt x="19149" y="15354"/>
                </a:cubicBezTo>
                <a:cubicBezTo>
                  <a:pt x="19141" y="15354"/>
                  <a:pt x="19132" y="15354"/>
                  <a:pt x="19124" y="15354"/>
                </a:cubicBezTo>
              </a:path>
              <a:path w="894" h="1093">
                <a:moveTo>
                  <a:pt x="18604" y="15478"/>
                </a:moveTo>
                <a:cubicBezTo>
                  <a:pt x="18604" y="15514"/>
                  <a:pt x="18597" y="15550"/>
                  <a:pt x="18579" y="15577"/>
                </a:cubicBezTo>
                <a:cubicBezTo>
                  <a:pt x="18557" y="15610"/>
                  <a:pt x="18534" y="15637"/>
                  <a:pt x="18529" y="15677"/>
                </a:cubicBezTo>
                <a:cubicBezTo>
                  <a:pt x="18524" y="15723"/>
                  <a:pt x="18518" y="15764"/>
                  <a:pt x="18554" y="15776"/>
                </a:cubicBezTo>
              </a:path>
              <a:path w="894" h="1093">
                <a:moveTo>
                  <a:pt x="18976" y="15478"/>
                </a:moveTo>
                <a:cubicBezTo>
                  <a:pt x="18942" y="15489"/>
                  <a:pt x="18945" y="15513"/>
                  <a:pt x="18901" y="15528"/>
                </a:cubicBezTo>
                <a:cubicBezTo>
                  <a:pt x="18866" y="15540"/>
                  <a:pt x="18840" y="15563"/>
                  <a:pt x="18827" y="15602"/>
                </a:cubicBezTo>
                <a:cubicBezTo>
                  <a:pt x="18806" y="15665"/>
                  <a:pt x="18777" y="15675"/>
                  <a:pt x="18777" y="15751"/>
                </a:cubicBezTo>
                <a:cubicBezTo>
                  <a:pt x="18777" y="15795"/>
                  <a:pt x="18783" y="15800"/>
                  <a:pt x="18802" y="15825"/>
                </a:cubicBezTo>
                <a:cubicBezTo>
                  <a:pt x="18829" y="15860"/>
                  <a:pt x="18827" y="15894"/>
                  <a:pt x="18876" y="15900"/>
                </a:cubicBezTo>
                <a:cubicBezTo>
                  <a:pt x="18924" y="15905"/>
                  <a:pt x="18965" y="15906"/>
                  <a:pt x="19000" y="15875"/>
                </a:cubicBezTo>
                <a:cubicBezTo>
                  <a:pt x="19025" y="15852"/>
                  <a:pt x="19047" y="15823"/>
                  <a:pt x="19050" y="15801"/>
                </a:cubicBezTo>
                <a:cubicBezTo>
                  <a:pt x="19057" y="15748"/>
                  <a:pt x="19014" y="15751"/>
                  <a:pt x="18976" y="15751"/>
                </a:cubicBezTo>
                <a:cubicBezTo>
                  <a:pt x="18936" y="15751"/>
                  <a:pt x="18921" y="15726"/>
                  <a:pt x="18876" y="15726"/>
                </a:cubicBezTo>
                <a:cubicBezTo>
                  <a:pt x="18836" y="15726"/>
                  <a:pt x="18810" y="15751"/>
                  <a:pt x="18802" y="1577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Ink 60"/>
          <p:cNvSpPr/>
          <p:nvPr/>
        </p:nvSpPr>
        <p:spPr>
          <a:xfrm>
            <a:off x="7296120" y="5456160"/>
            <a:ext cx="357120" cy="142920"/>
          </a:xfrm>
          <a:custGeom>
            <a:avLst/>
            <a:gdLst/>
            <a:ahLst/>
            <a:rect l="l" t="t" r="r" b="b"/>
            <a:pathLst>
              <a:path w="994" h="398">
                <a:moveTo>
                  <a:pt x="20414" y="15230"/>
                </a:moveTo>
                <a:cubicBezTo>
                  <a:pt x="20378" y="15230"/>
                  <a:pt x="20342" y="15237"/>
                  <a:pt x="20315" y="15255"/>
                </a:cubicBezTo>
                <a:cubicBezTo>
                  <a:pt x="20282" y="15277"/>
                  <a:pt x="20269" y="15343"/>
                  <a:pt x="20265" y="15379"/>
                </a:cubicBezTo>
                <a:cubicBezTo>
                  <a:pt x="20260" y="15432"/>
                  <a:pt x="20256" y="15471"/>
                  <a:pt x="20315" y="15478"/>
                </a:cubicBezTo>
                <a:cubicBezTo>
                  <a:pt x="20364" y="15483"/>
                  <a:pt x="20411" y="15521"/>
                  <a:pt x="20464" y="15503"/>
                </a:cubicBezTo>
                <a:cubicBezTo>
                  <a:pt x="20501" y="15490"/>
                  <a:pt x="20570" y="15470"/>
                  <a:pt x="20588" y="15429"/>
                </a:cubicBezTo>
                <a:cubicBezTo>
                  <a:pt x="20614" y="15372"/>
                  <a:pt x="20605" y="15381"/>
                  <a:pt x="20588" y="15329"/>
                </a:cubicBezTo>
                <a:cubicBezTo>
                  <a:pt x="20571" y="15278"/>
                  <a:pt x="20551" y="15281"/>
                  <a:pt x="20513" y="15255"/>
                </a:cubicBezTo>
                <a:cubicBezTo>
                  <a:pt x="20477" y="15230"/>
                  <a:pt x="20484" y="15230"/>
                  <a:pt x="20439" y="15230"/>
                </a:cubicBezTo>
                <a:cubicBezTo>
                  <a:pt x="20449" y="15260"/>
                  <a:pt x="20481" y="15272"/>
                  <a:pt x="20513" y="15304"/>
                </a:cubicBezTo>
              </a:path>
              <a:path w="994" h="398">
                <a:moveTo>
                  <a:pt x="20811" y="15304"/>
                </a:moveTo>
                <a:cubicBezTo>
                  <a:pt x="20811" y="15379"/>
                  <a:pt x="20811" y="15453"/>
                  <a:pt x="20811" y="15528"/>
                </a:cubicBezTo>
                <a:cubicBezTo>
                  <a:pt x="20811" y="15579"/>
                  <a:pt x="20821" y="15479"/>
                  <a:pt x="20836" y="15453"/>
                </a:cubicBezTo>
                <a:cubicBezTo>
                  <a:pt x="20867" y="15400"/>
                  <a:pt x="20884" y="15316"/>
                  <a:pt x="20935" y="15280"/>
                </a:cubicBezTo>
                <a:cubicBezTo>
                  <a:pt x="20984" y="15246"/>
                  <a:pt x="21015" y="15208"/>
                  <a:pt x="21059" y="15180"/>
                </a:cubicBezTo>
                <a:cubicBezTo>
                  <a:pt x="21067" y="15172"/>
                  <a:pt x="21076" y="15164"/>
                  <a:pt x="21084" y="15156"/>
                </a:cubicBezTo>
                <a:cubicBezTo>
                  <a:pt x="21084" y="15208"/>
                  <a:pt x="21072" y="15238"/>
                  <a:pt x="21059" y="15280"/>
                </a:cubicBezTo>
                <a:cubicBezTo>
                  <a:pt x="21058" y="15284"/>
                  <a:pt x="20985" y="15379"/>
                  <a:pt x="20985" y="15379"/>
                </a:cubicBezTo>
                <a:cubicBezTo>
                  <a:pt x="20934" y="15397"/>
                  <a:pt x="20920" y="15417"/>
                  <a:pt x="20886" y="15429"/>
                </a:cubicBezTo>
                <a:cubicBezTo>
                  <a:pt x="20925" y="15458"/>
                  <a:pt x="20949" y="15433"/>
                  <a:pt x="20985" y="15453"/>
                </a:cubicBezTo>
                <a:cubicBezTo>
                  <a:pt x="21031" y="15479"/>
                  <a:pt x="21050" y="15478"/>
                  <a:pt x="21109" y="15478"/>
                </a:cubicBezTo>
                <a:cubicBezTo>
                  <a:pt x="21149" y="15478"/>
                  <a:pt x="21128" y="15503"/>
                  <a:pt x="21183" y="15503"/>
                </a:cubicBezTo>
                <a:cubicBezTo>
                  <a:pt x="21208" y="15503"/>
                  <a:pt x="21233" y="15503"/>
                  <a:pt x="21258" y="1550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Ink 61"/>
          <p:cNvSpPr/>
          <p:nvPr/>
        </p:nvSpPr>
        <p:spPr>
          <a:xfrm>
            <a:off x="7875720" y="5322960"/>
            <a:ext cx="188640" cy="411120"/>
          </a:xfrm>
          <a:custGeom>
            <a:avLst/>
            <a:gdLst/>
            <a:ahLst/>
            <a:rect l="l" t="t" r="r" b="b"/>
            <a:pathLst>
              <a:path w="522" h="1142">
                <a:moveTo>
                  <a:pt x="22299" y="14784"/>
                </a:moveTo>
                <a:cubicBezTo>
                  <a:pt x="22299" y="14792"/>
                  <a:pt x="22299" y="14800"/>
                  <a:pt x="22299" y="14808"/>
                </a:cubicBezTo>
                <a:cubicBezTo>
                  <a:pt x="22282" y="14820"/>
                  <a:pt x="22262" y="14874"/>
                  <a:pt x="22250" y="14908"/>
                </a:cubicBezTo>
                <a:cubicBezTo>
                  <a:pt x="22229" y="14968"/>
                  <a:pt x="22250" y="15066"/>
                  <a:pt x="22250" y="15131"/>
                </a:cubicBezTo>
                <a:cubicBezTo>
                  <a:pt x="22220" y="15138"/>
                  <a:pt x="22205" y="15149"/>
                  <a:pt x="22175" y="15156"/>
                </a:cubicBezTo>
              </a:path>
              <a:path w="522" h="1142">
                <a:moveTo>
                  <a:pt x="21878" y="15230"/>
                </a:moveTo>
                <a:cubicBezTo>
                  <a:pt x="21931" y="15219"/>
                  <a:pt x="21970" y="15205"/>
                  <a:pt x="22027" y="15205"/>
                </a:cubicBezTo>
                <a:cubicBezTo>
                  <a:pt x="22125" y="15205"/>
                  <a:pt x="22216" y="15213"/>
                  <a:pt x="22299" y="15230"/>
                </a:cubicBezTo>
                <a:cubicBezTo>
                  <a:pt x="22327" y="15236"/>
                  <a:pt x="22369" y="15230"/>
                  <a:pt x="22399" y="15230"/>
                </a:cubicBezTo>
              </a:path>
              <a:path w="522" h="1142">
                <a:moveTo>
                  <a:pt x="22101" y="15429"/>
                </a:moveTo>
                <a:cubicBezTo>
                  <a:pt x="22101" y="15466"/>
                  <a:pt x="22091" y="15524"/>
                  <a:pt x="22076" y="15553"/>
                </a:cubicBezTo>
                <a:cubicBezTo>
                  <a:pt x="22051" y="15603"/>
                  <a:pt x="21997" y="15618"/>
                  <a:pt x="21977" y="15677"/>
                </a:cubicBezTo>
                <a:cubicBezTo>
                  <a:pt x="21971" y="15696"/>
                  <a:pt x="21977" y="15731"/>
                  <a:pt x="21977" y="15751"/>
                </a:cubicBezTo>
                <a:cubicBezTo>
                  <a:pt x="22043" y="15751"/>
                  <a:pt x="22318" y="15789"/>
                  <a:pt x="22349" y="15726"/>
                </a:cubicBezTo>
                <a:cubicBezTo>
                  <a:pt x="22349" y="15718"/>
                  <a:pt x="22349" y="15709"/>
                  <a:pt x="22349" y="15701"/>
                </a:cubicBezTo>
              </a:path>
              <a:path w="522" h="1142">
                <a:moveTo>
                  <a:pt x="22250" y="15553"/>
                </a:moveTo>
                <a:cubicBezTo>
                  <a:pt x="22227" y="15583"/>
                  <a:pt x="22203" y="15614"/>
                  <a:pt x="22200" y="15652"/>
                </a:cubicBezTo>
                <a:cubicBezTo>
                  <a:pt x="22195" y="15716"/>
                  <a:pt x="22166" y="15738"/>
                  <a:pt x="22151" y="15801"/>
                </a:cubicBezTo>
                <a:cubicBezTo>
                  <a:pt x="22142" y="15837"/>
                  <a:pt x="22151" y="15887"/>
                  <a:pt x="22151" y="159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Ink 62"/>
          <p:cNvSpPr/>
          <p:nvPr/>
        </p:nvSpPr>
        <p:spPr>
          <a:xfrm>
            <a:off x="490680" y="6054840"/>
            <a:ext cx="438120" cy="231840"/>
          </a:xfrm>
          <a:custGeom>
            <a:avLst/>
            <a:gdLst/>
            <a:ahLst/>
            <a:rect l="l" t="t" r="r" b="b"/>
            <a:pathLst>
              <a:path w="1217" h="645">
                <a:moveTo>
                  <a:pt x="1364" y="16917"/>
                </a:moveTo>
                <a:cubicBezTo>
                  <a:pt x="1434" y="16917"/>
                  <a:pt x="1480" y="16911"/>
                  <a:pt x="1538" y="16892"/>
                </a:cubicBezTo>
                <a:cubicBezTo>
                  <a:pt x="1547" y="16889"/>
                  <a:pt x="1634" y="16871"/>
                  <a:pt x="1637" y="16867"/>
                </a:cubicBezTo>
                <a:cubicBezTo>
                  <a:pt x="1637" y="16842"/>
                  <a:pt x="1637" y="16834"/>
                  <a:pt x="1662" y="16842"/>
                </a:cubicBezTo>
                <a:cubicBezTo>
                  <a:pt x="1623" y="16842"/>
                  <a:pt x="1637" y="16859"/>
                  <a:pt x="1637" y="16892"/>
                </a:cubicBezTo>
              </a:path>
              <a:path w="1217" h="645">
                <a:moveTo>
                  <a:pt x="1439" y="16942"/>
                </a:moveTo>
                <a:cubicBezTo>
                  <a:pt x="1439" y="16999"/>
                  <a:pt x="1430" y="17020"/>
                  <a:pt x="1414" y="17066"/>
                </a:cubicBezTo>
                <a:cubicBezTo>
                  <a:pt x="1400" y="17108"/>
                  <a:pt x="1420" y="17099"/>
                  <a:pt x="1389" y="17140"/>
                </a:cubicBezTo>
                <a:cubicBezTo>
                  <a:pt x="1433" y="17170"/>
                  <a:pt x="1399" y="17140"/>
                  <a:pt x="1463" y="17140"/>
                </a:cubicBezTo>
                <a:cubicBezTo>
                  <a:pt x="1502" y="17140"/>
                  <a:pt x="1483" y="17115"/>
                  <a:pt x="1538" y="17115"/>
                </a:cubicBezTo>
                <a:cubicBezTo>
                  <a:pt x="1571" y="17115"/>
                  <a:pt x="1604" y="17115"/>
                  <a:pt x="1637" y="17115"/>
                </a:cubicBezTo>
                <a:cubicBezTo>
                  <a:pt x="1637" y="17169"/>
                  <a:pt x="1659" y="17297"/>
                  <a:pt x="1612" y="17338"/>
                </a:cubicBezTo>
                <a:cubicBezTo>
                  <a:pt x="1585" y="17362"/>
                  <a:pt x="1548" y="17351"/>
                  <a:pt x="1513" y="17363"/>
                </a:cubicBezTo>
                <a:cubicBezTo>
                  <a:pt x="1485" y="17372"/>
                  <a:pt x="1285" y="17363"/>
                  <a:pt x="1414" y="17363"/>
                </a:cubicBezTo>
              </a:path>
              <a:path w="1217" h="645">
                <a:moveTo>
                  <a:pt x="1836" y="17264"/>
                </a:moveTo>
                <a:cubicBezTo>
                  <a:pt x="1836" y="17315"/>
                  <a:pt x="1825" y="17322"/>
                  <a:pt x="1811" y="17363"/>
                </a:cubicBezTo>
                <a:cubicBezTo>
                  <a:pt x="1802" y="17389"/>
                  <a:pt x="1811" y="17434"/>
                  <a:pt x="1811" y="17462"/>
                </a:cubicBezTo>
              </a:path>
              <a:path w="1217" h="645">
                <a:moveTo>
                  <a:pt x="2356" y="16818"/>
                </a:moveTo>
                <a:cubicBezTo>
                  <a:pt x="2332" y="16818"/>
                  <a:pt x="2323" y="16818"/>
                  <a:pt x="2307" y="16818"/>
                </a:cubicBezTo>
                <a:cubicBezTo>
                  <a:pt x="2307" y="16854"/>
                  <a:pt x="2300" y="16891"/>
                  <a:pt x="2282" y="16917"/>
                </a:cubicBezTo>
                <a:cubicBezTo>
                  <a:pt x="2250" y="16964"/>
                  <a:pt x="2202" y="17010"/>
                  <a:pt x="2183" y="17066"/>
                </a:cubicBezTo>
                <a:cubicBezTo>
                  <a:pt x="2168" y="17111"/>
                  <a:pt x="2145" y="17167"/>
                  <a:pt x="2133" y="17214"/>
                </a:cubicBezTo>
                <a:cubicBezTo>
                  <a:pt x="2122" y="17259"/>
                  <a:pt x="2140" y="17284"/>
                  <a:pt x="2183" y="17289"/>
                </a:cubicBezTo>
                <a:cubicBezTo>
                  <a:pt x="2239" y="17295"/>
                  <a:pt x="2263" y="17279"/>
                  <a:pt x="2307" y="17264"/>
                </a:cubicBezTo>
                <a:cubicBezTo>
                  <a:pt x="2373" y="17242"/>
                  <a:pt x="2559" y="17303"/>
                  <a:pt x="2580" y="17239"/>
                </a:cubicBezTo>
              </a:path>
              <a:path w="1217" h="645">
                <a:moveTo>
                  <a:pt x="2406" y="17115"/>
                </a:moveTo>
                <a:cubicBezTo>
                  <a:pt x="2406" y="17206"/>
                  <a:pt x="2406" y="17297"/>
                  <a:pt x="2406" y="17388"/>
                </a:cubicBezTo>
                <a:cubicBezTo>
                  <a:pt x="2431" y="17388"/>
                  <a:pt x="2439" y="17388"/>
                  <a:pt x="2431" y="1741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Ink 63"/>
          <p:cNvSpPr/>
          <p:nvPr/>
        </p:nvSpPr>
        <p:spPr>
          <a:xfrm>
            <a:off x="1517760" y="6089760"/>
            <a:ext cx="295200" cy="304560"/>
          </a:xfrm>
          <a:custGeom>
            <a:avLst/>
            <a:gdLst/>
            <a:ahLst/>
            <a:rect l="l" t="t" r="r" b="b"/>
            <a:pathLst>
              <a:path w="819" h="844">
                <a:moveTo>
                  <a:pt x="4242" y="16991"/>
                </a:moveTo>
                <a:cubicBezTo>
                  <a:pt x="4266" y="16991"/>
                  <a:pt x="4275" y="16991"/>
                  <a:pt x="4291" y="16991"/>
                </a:cubicBezTo>
                <a:cubicBezTo>
                  <a:pt x="4304" y="16953"/>
                  <a:pt x="4321" y="16966"/>
                  <a:pt x="4366" y="16966"/>
                </a:cubicBezTo>
                <a:cubicBezTo>
                  <a:pt x="4407" y="16966"/>
                  <a:pt x="4449" y="16966"/>
                  <a:pt x="4490" y="16966"/>
                </a:cubicBezTo>
              </a:path>
              <a:path w="819" h="844">
                <a:moveTo>
                  <a:pt x="4291" y="17090"/>
                </a:moveTo>
                <a:cubicBezTo>
                  <a:pt x="4291" y="17137"/>
                  <a:pt x="4271" y="17169"/>
                  <a:pt x="4266" y="17214"/>
                </a:cubicBezTo>
                <a:cubicBezTo>
                  <a:pt x="4266" y="17239"/>
                  <a:pt x="4266" y="17247"/>
                  <a:pt x="4266" y="17264"/>
                </a:cubicBezTo>
                <a:cubicBezTo>
                  <a:pt x="4323" y="17264"/>
                  <a:pt x="4341" y="17252"/>
                  <a:pt x="4366" y="17239"/>
                </a:cubicBezTo>
                <a:cubicBezTo>
                  <a:pt x="4380" y="17232"/>
                  <a:pt x="4424" y="17239"/>
                  <a:pt x="4440" y="17239"/>
                </a:cubicBezTo>
                <a:cubicBezTo>
                  <a:pt x="4440" y="17324"/>
                  <a:pt x="4440" y="17413"/>
                  <a:pt x="4415" y="17462"/>
                </a:cubicBezTo>
                <a:cubicBezTo>
                  <a:pt x="4404" y="17483"/>
                  <a:pt x="4375" y="17501"/>
                  <a:pt x="4341" y="17512"/>
                </a:cubicBezTo>
                <a:cubicBezTo>
                  <a:pt x="4292" y="17529"/>
                  <a:pt x="4214" y="17529"/>
                  <a:pt x="4242" y="17487"/>
                </a:cubicBezTo>
              </a:path>
              <a:path w="819" h="844">
                <a:moveTo>
                  <a:pt x="4812" y="16966"/>
                </a:moveTo>
                <a:cubicBezTo>
                  <a:pt x="4843" y="16944"/>
                  <a:pt x="4873" y="16921"/>
                  <a:pt x="4911" y="16917"/>
                </a:cubicBezTo>
                <a:cubicBezTo>
                  <a:pt x="4935" y="16914"/>
                  <a:pt x="4962" y="16917"/>
                  <a:pt x="4986" y="16917"/>
                </a:cubicBezTo>
                <a:cubicBezTo>
                  <a:pt x="4986" y="16966"/>
                  <a:pt x="4991" y="16996"/>
                  <a:pt x="4961" y="17041"/>
                </a:cubicBezTo>
                <a:cubicBezTo>
                  <a:pt x="4933" y="17083"/>
                  <a:pt x="4899" y="17091"/>
                  <a:pt x="4887" y="17140"/>
                </a:cubicBezTo>
                <a:cubicBezTo>
                  <a:pt x="4943" y="17140"/>
                  <a:pt x="4961" y="17153"/>
                  <a:pt x="4986" y="17165"/>
                </a:cubicBezTo>
                <a:cubicBezTo>
                  <a:pt x="5030" y="17187"/>
                  <a:pt x="5035" y="17183"/>
                  <a:pt x="5035" y="17239"/>
                </a:cubicBezTo>
                <a:cubicBezTo>
                  <a:pt x="5035" y="17292"/>
                  <a:pt x="5024" y="17300"/>
                  <a:pt x="4986" y="17338"/>
                </a:cubicBezTo>
                <a:cubicBezTo>
                  <a:pt x="4961" y="17363"/>
                  <a:pt x="4921" y="17384"/>
                  <a:pt x="4887" y="17388"/>
                </a:cubicBezTo>
                <a:cubicBezTo>
                  <a:pt x="4879" y="17388"/>
                  <a:pt x="4870" y="17388"/>
                  <a:pt x="4862" y="17388"/>
                </a:cubicBezTo>
              </a:path>
              <a:path w="819" h="844">
                <a:moveTo>
                  <a:pt x="4638" y="17537"/>
                </a:moveTo>
                <a:cubicBezTo>
                  <a:pt x="4638" y="17606"/>
                  <a:pt x="4633" y="17653"/>
                  <a:pt x="4614" y="17711"/>
                </a:cubicBezTo>
                <a:cubicBezTo>
                  <a:pt x="4614" y="17735"/>
                  <a:pt x="4614" y="17744"/>
                  <a:pt x="4614" y="1776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Ink 64"/>
          <p:cNvSpPr/>
          <p:nvPr/>
        </p:nvSpPr>
        <p:spPr>
          <a:xfrm>
            <a:off x="2313000" y="6089760"/>
            <a:ext cx="357120" cy="260280"/>
          </a:xfrm>
          <a:custGeom>
            <a:avLst/>
            <a:gdLst/>
            <a:ahLst/>
            <a:rect l="l" t="t" r="r" b="b"/>
            <a:pathLst>
              <a:path w="994" h="720">
                <a:moveTo>
                  <a:pt x="6474" y="16966"/>
                </a:moveTo>
                <a:cubicBezTo>
                  <a:pt x="6548" y="16966"/>
                  <a:pt x="6623" y="16966"/>
                  <a:pt x="6697" y="16966"/>
                </a:cubicBezTo>
                <a:cubicBezTo>
                  <a:pt x="6709" y="16932"/>
                  <a:pt x="6705" y="16942"/>
                  <a:pt x="6747" y="16942"/>
                </a:cubicBezTo>
              </a:path>
              <a:path w="994" h="720">
                <a:moveTo>
                  <a:pt x="6524" y="17066"/>
                </a:moveTo>
                <a:cubicBezTo>
                  <a:pt x="6514" y="17105"/>
                  <a:pt x="6499" y="17120"/>
                  <a:pt x="6499" y="17165"/>
                </a:cubicBezTo>
                <a:cubicBezTo>
                  <a:pt x="6499" y="17206"/>
                  <a:pt x="6487" y="17178"/>
                  <a:pt x="6474" y="17214"/>
                </a:cubicBezTo>
                <a:cubicBezTo>
                  <a:pt x="6496" y="17231"/>
                  <a:pt x="6540" y="17258"/>
                  <a:pt x="6573" y="17239"/>
                </a:cubicBezTo>
                <a:cubicBezTo>
                  <a:pt x="6635" y="17204"/>
                  <a:pt x="6612" y="17220"/>
                  <a:pt x="6648" y="17239"/>
                </a:cubicBezTo>
                <a:cubicBezTo>
                  <a:pt x="6668" y="17249"/>
                  <a:pt x="6686" y="17281"/>
                  <a:pt x="6697" y="17314"/>
                </a:cubicBezTo>
                <a:cubicBezTo>
                  <a:pt x="6709" y="17350"/>
                  <a:pt x="6684" y="17371"/>
                  <a:pt x="6672" y="17388"/>
                </a:cubicBezTo>
                <a:cubicBezTo>
                  <a:pt x="6653" y="17414"/>
                  <a:pt x="6618" y="17436"/>
                  <a:pt x="6598" y="17438"/>
                </a:cubicBezTo>
                <a:cubicBezTo>
                  <a:pt x="6557" y="17443"/>
                  <a:pt x="6445" y="17455"/>
                  <a:pt x="6424" y="17413"/>
                </a:cubicBezTo>
                <a:cubicBezTo>
                  <a:pt x="6424" y="17388"/>
                  <a:pt x="6424" y="17380"/>
                  <a:pt x="6449" y="17388"/>
                </a:cubicBezTo>
              </a:path>
              <a:path w="994" h="720">
                <a:moveTo>
                  <a:pt x="7069" y="16942"/>
                </a:moveTo>
                <a:cubicBezTo>
                  <a:pt x="7114" y="16931"/>
                  <a:pt x="7139" y="16917"/>
                  <a:pt x="7193" y="16917"/>
                </a:cubicBezTo>
                <a:cubicBezTo>
                  <a:pt x="7205" y="16917"/>
                  <a:pt x="7248" y="16932"/>
                  <a:pt x="7268" y="16942"/>
                </a:cubicBezTo>
                <a:cubicBezTo>
                  <a:pt x="7295" y="16956"/>
                  <a:pt x="7314" y="17014"/>
                  <a:pt x="7317" y="17041"/>
                </a:cubicBezTo>
                <a:cubicBezTo>
                  <a:pt x="7320" y="17066"/>
                  <a:pt x="7283" y="17143"/>
                  <a:pt x="7268" y="17165"/>
                </a:cubicBezTo>
                <a:cubicBezTo>
                  <a:pt x="7236" y="17214"/>
                  <a:pt x="7191" y="17238"/>
                  <a:pt x="7169" y="17289"/>
                </a:cubicBezTo>
                <a:cubicBezTo>
                  <a:pt x="7138" y="17361"/>
                  <a:pt x="7135" y="17315"/>
                  <a:pt x="7119" y="17363"/>
                </a:cubicBezTo>
                <a:cubicBezTo>
                  <a:pt x="7216" y="17363"/>
                  <a:pt x="7332" y="17358"/>
                  <a:pt x="7392" y="17388"/>
                </a:cubicBezTo>
                <a:cubicBezTo>
                  <a:pt x="7417" y="17388"/>
                  <a:pt x="7425" y="17388"/>
                  <a:pt x="7392" y="17388"/>
                </a:cubicBezTo>
              </a:path>
              <a:path w="994" h="720">
                <a:moveTo>
                  <a:pt x="6921" y="17512"/>
                </a:moveTo>
                <a:cubicBezTo>
                  <a:pt x="6930" y="17551"/>
                  <a:pt x="6945" y="17567"/>
                  <a:pt x="6945" y="17611"/>
                </a:cubicBezTo>
                <a:cubicBezTo>
                  <a:pt x="6945" y="17636"/>
                  <a:pt x="6945" y="17644"/>
                  <a:pt x="6921" y="1763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Ink 65"/>
          <p:cNvSpPr/>
          <p:nvPr/>
        </p:nvSpPr>
        <p:spPr>
          <a:xfrm>
            <a:off x="3125880" y="6116760"/>
            <a:ext cx="392040" cy="304560"/>
          </a:xfrm>
          <a:custGeom>
            <a:avLst/>
            <a:gdLst/>
            <a:ahLst/>
            <a:rect l="l" t="t" r="r" b="b"/>
            <a:pathLst>
              <a:path w="1092" h="845">
                <a:moveTo>
                  <a:pt x="8880" y="17115"/>
                </a:moveTo>
                <a:cubicBezTo>
                  <a:pt x="8870" y="17155"/>
                  <a:pt x="8842" y="17178"/>
                  <a:pt x="8830" y="17214"/>
                </a:cubicBezTo>
                <a:cubicBezTo>
                  <a:pt x="8821" y="17241"/>
                  <a:pt x="8813" y="17261"/>
                  <a:pt x="8806" y="17289"/>
                </a:cubicBezTo>
                <a:cubicBezTo>
                  <a:pt x="8763" y="17300"/>
                  <a:pt x="8739" y="17329"/>
                  <a:pt x="8706" y="17363"/>
                </a:cubicBezTo>
                <a:cubicBezTo>
                  <a:pt x="8674" y="17395"/>
                  <a:pt x="8682" y="17419"/>
                  <a:pt x="8682" y="17462"/>
                </a:cubicBezTo>
                <a:cubicBezTo>
                  <a:pt x="8744" y="17462"/>
                  <a:pt x="8779" y="17455"/>
                  <a:pt x="8830" y="17438"/>
                </a:cubicBezTo>
                <a:cubicBezTo>
                  <a:pt x="8916" y="17410"/>
                  <a:pt x="9061" y="17438"/>
                  <a:pt x="9153" y="17438"/>
                </a:cubicBezTo>
              </a:path>
              <a:path w="1092" h="845">
                <a:moveTo>
                  <a:pt x="8979" y="17264"/>
                </a:moveTo>
                <a:cubicBezTo>
                  <a:pt x="8979" y="17327"/>
                  <a:pt x="8987" y="17361"/>
                  <a:pt x="9004" y="17413"/>
                </a:cubicBezTo>
                <a:cubicBezTo>
                  <a:pt x="9019" y="17459"/>
                  <a:pt x="9004" y="17538"/>
                  <a:pt x="9004" y="17587"/>
                </a:cubicBezTo>
              </a:path>
              <a:path w="1092" h="845">
                <a:moveTo>
                  <a:pt x="9475" y="17090"/>
                </a:moveTo>
                <a:cubicBezTo>
                  <a:pt x="9451" y="17090"/>
                  <a:pt x="9443" y="17090"/>
                  <a:pt x="9451" y="17066"/>
                </a:cubicBezTo>
                <a:cubicBezTo>
                  <a:pt x="9477" y="17066"/>
                  <a:pt x="9538" y="17058"/>
                  <a:pt x="9550" y="17041"/>
                </a:cubicBezTo>
                <a:cubicBezTo>
                  <a:pt x="9573" y="17007"/>
                  <a:pt x="9590" y="17016"/>
                  <a:pt x="9649" y="17016"/>
                </a:cubicBezTo>
                <a:cubicBezTo>
                  <a:pt x="9689" y="17016"/>
                  <a:pt x="9703" y="16991"/>
                  <a:pt x="9748" y="16991"/>
                </a:cubicBezTo>
                <a:cubicBezTo>
                  <a:pt x="9748" y="17042"/>
                  <a:pt x="9757" y="17076"/>
                  <a:pt x="9723" y="17115"/>
                </a:cubicBezTo>
                <a:cubicBezTo>
                  <a:pt x="9696" y="17146"/>
                  <a:pt x="9613" y="17193"/>
                  <a:pt x="9599" y="17214"/>
                </a:cubicBezTo>
                <a:cubicBezTo>
                  <a:pt x="9599" y="17222"/>
                  <a:pt x="9599" y="17231"/>
                  <a:pt x="9599" y="17239"/>
                </a:cubicBezTo>
                <a:cubicBezTo>
                  <a:pt x="9607" y="17262"/>
                  <a:pt x="9642" y="17278"/>
                  <a:pt x="9674" y="17289"/>
                </a:cubicBezTo>
                <a:cubicBezTo>
                  <a:pt x="9715" y="17303"/>
                  <a:pt x="9730" y="17284"/>
                  <a:pt x="9748" y="17338"/>
                </a:cubicBezTo>
                <a:cubicBezTo>
                  <a:pt x="9753" y="17354"/>
                  <a:pt x="9777" y="17429"/>
                  <a:pt x="9773" y="17438"/>
                </a:cubicBezTo>
                <a:cubicBezTo>
                  <a:pt x="9763" y="17460"/>
                  <a:pt x="9711" y="17486"/>
                  <a:pt x="9699" y="17487"/>
                </a:cubicBezTo>
                <a:cubicBezTo>
                  <a:pt x="9657" y="17492"/>
                  <a:pt x="9637" y="17508"/>
                  <a:pt x="9599" y="17512"/>
                </a:cubicBezTo>
                <a:cubicBezTo>
                  <a:pt x="9556" y="17517"/>
                  <a:pt x="9536" y="17521"/>
                  <a:pt x="9525" y="17487"/>
                </a:cubicBezTo>
              </a:path>
              <a:path w="1092" h="845">
                <a:moveTo>
                  <a:pt x="9327" y="17686"/>
                </a:moveTo>
                <a:cubicBezTo>
                  <a:pt x="9327" y="17719"/>
                  <a:pt x="9327" y="17752"/>
                  <a:pt x="9327" y="17785"/>
                </a:cubicBezTo>
                <a:cubicBezTo>
                  <a:pt x="9292" y="17797"/>
                  <a:pt x="9302" y="17792"/>
                  <a:pt x="9302" y="1783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Ink 66"/>
          <p:cNvSpPr/>
          <p:nvPr/>
        </p:nvSpPr>
        <p:spPr>
          <a:xfrm>
            <a:off x="3973680" y="6153120"/>
            <a:ext cx="428400" cy="204840"/>
          </a:xfrm>
          <a:custGeom>
            <a:avLst/>
            <a:gdLst/>
            <a:ahLst/>
            <a:rect l="l" t="t" r="r" b="b"/>
            <a:pathLst>
              <a:path w="1192" h="572">
                <a:moveTo>
                  <a:pt x="11112" y="17090"/>
                </a:moveTo>
                <a:cubicBezTo>
                  <a:pt x="11124" y="17125"/>
                  <a:pt x="11119" y="17115"/>
                  <a:pt x="11162" y="17115"/>
                </a:cubicBezTo>
                <a:cubicBezTo>
                  <a:pt x="11156" y="17139"/>
                  <a:pt x="11149" y="17193"/>
                  <a:pt x="11137" y="17214"/>
                </a:cubicBezTo>
                <a:cubicBezTo>
                  <a:pt x="11111" y="17260"/>
                  <a:pt x="11085" y="17295"/>
                  <a:pt x="11063" y="17338"/>
                </a:cubicBezTo>
                <a:cubicBezTo>
                  <a:pt x="11042" y="17380"/>
                  <a:pt x="11038" y="17387"/>
                  <a:pt x="11038" y="17438"/>
                </a:cubicBezTo>
                <a:cubicBezTo>
                  <a:pt x="11038" y="17463"/>
                  <a:pt x="11038" y="17487"/>
                  <a:pt x="11038" y="17512"/>
                </a:cubicBezTo>
                <a:cubicBezTo>
                  <a:pt x="11093" y="17512"/>
                  <a:pt x="11121" y="17496"/>
                  <a:pt x="11162" y="17487"/>
                </a:cubicBezTo>
                <a:cubicBezTo>
                  <a:pt x="11204" y="17478"/>
                  <a:pt x="11249" y="17466"/>
                  <a:pt x="11286" y="17462"/>
                </a:cubicBezTo>
                <a:cubicBezTo>
                  <a:pt x="11335" y="17456"/>
                  <a:pt x="11351" y="17438"/>
                  <a:pt x="11410" y="17438"/>
                </a:cubicBezTo>
                <a:cubicBezTo>
                  <a:pt x="11451" y="17438"/>
                  <a:pt x="11423" y="17425"/>
                  <a:pt x="11460" y="17413"/>
                </a:cubicBezTo>
              </a:path>
              <a:path w="1192" h="572">
                <a:moveTo>
                  <a:pt x="11311" y="17314"/>
                </a:moveTo>
                <a:cubicBezTo>
                  <a:pt x="11311" y="17342"/>
                  <a:pt x="11308" y="17352"/>
                  <a:pt x="11286" y="17363"/>
                </a:cubicBezTo>
                <a:cubicBezTo>
                  <a:pt x="11314" y="17401"/>
                  <a:pt x="11311" y="17414"/>
                  <a:pt x="11311" y="17462"/>
                </a:cubicBezTo>
                <a:cubicBezTo>
                  <a:pt x="11311" y="17511"/>
                  <a:pt x="11307" y="17524"/>
                  <a:pt x="11336" y="17562"/>
                </a:cubicBezTo>
              </a:path>
              <a:path w="1192" h="572">
                <a:moveTo>
                  <a:pt x="11658" y="17562"/>
                </a:moveTo>
                <a:cubicBezTo>
                  <a:pt x="11636" y="17611"/>
                  <a:pt x="11633" y="17613"/>
                  <a:pt x="11633" y="17661"/>
                </a:cubicBezTo>
              </a:path>
              <a:path w="1192" h="572">
                <a:moveTo>
                  <a:pt x="11931" y="17115"/>
                </a:moveTo>
                <a:cubicBezTo>
                  <a:pt x="11977" y="17115"/>
                  <a:pt x="11989" y="17095"/>
                  <a:pt x="12030" y="17090"/>
                </a:cubicBezTo>
                <a:cubicBezTo>
                  <a:pt x="12038" y="17090"/>
                  <a:pt x="12047" y="17090"/>
                  <a:pt x="12055" y="17090"/>
                </a:cubicBezTo>
                <a:cubicBezTo>
                  <a:pt x="12055" y="17151"/>
                  <a:pt x="12071" y="17218"/>
                  <a:pt x="12030" y="17264"/>
                </a:cubicBezTo>
                <a:cubicBezTo>
                  <a:pt x="12004" y="17294"/>
                  <a:pt x="11970" y="17370"/>
                  <a:pt x="11956" y="17413"/>
                </a:cubicBezTo>
                <a:cubicBezTo>
                  <a:pt x="11956" y="17438"/>
                  <a:pt x="11956" y="17446"/>
                  <a:pt x="11956" y="17462"/>
                </a:cubicBezTo>
                <a:cubicBezTo>
                  <a:pt x="12017" y="17462"/>
                  <a:pt x="12055" y="17454"/>
                  <a:pt x="12105" y="17438"/>
                </a:cubicBezTo>
                <a:cubicBezTo>
                  <a:pt x="12136" y="17428"/>
                  <a:pt x="12213" y="17431"/>
                  <a:pt x="12229" y="17462"/>
                </a:cubicBezTo>
                <a:cubicBezTo>
                  <a:pt x="12229" y="17470"/>
                  <a:pt x="12229" y="17479"/>
                  <a:pt x="12229" y="1748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Ink 67"/>
          <p:cNvSpPr/>
          <p:nvPr/>
        </p:nvSpPr>
        <p:spPr>
          <a:xfrm>
            <a:off x="4946760" y="6143760"/>
            <a:ext cx="393480" cy="258480"/>
          </a:xfrm>
          <a:custGeom>
            <a:avLst/>
            <a:gdLst/>
            <a:ahLst/>
            <a:rect l="l" t="t" r="r" b="b"/>
            <a:pathLst>
              <a:path w="1092" h="720">
                <a:moveTo>
                  <a:pt x="13791" y="17090"/>
                </a:moveTo>
                <a:cubicBezTo>
                  <a:pt x="13749" y="17090"/>
                  <a:pt x="13810" y="17069"/>
                  <a:pt x="13816" y="17066"/>
                </a:cubicBezTo>
                <a:cubicBezTo>
                  <a:pt x="13851" y="17049"/>
                  <a:pt x="14022" y="17056"/>
                  <a:pt x="14039" y="17090"/>
                </a:cubicBezTo>
                <a:cubicBezTo>
                  <a:pt x="14050" y="17112"/>
                  <a:pt x="14022" y="17177"/>
                  <a:pt x="14015" y="17190"/>
                </a:cubicBezTo>
                <a:cubicBezTo>
                  <a:pt x="13995" y="17226"/>
                  <a:pt x="13928" y="17227"/>
                  <a:pt x="13891" y="17264"/>
                </a:cubicBezTo>
                <a:cubicBezTo>
                  <a:pt x="13858" y="17297"/>
                  <a:pt x="13804" y="17288"/>
                  <a:pt x="13791" y="17314"/>
                </a:cubicBezTo>
                <a:cubicBezTo>
                  <a:pt x="13791" y="17322"/>
                  <a:pt x="13791" y="17330"/>
                  <a:pt x="13791" y="17338"/>
                </a:cubicBezTo>
                <a:cubicBezTo>
                  <a:pt x="13862" y="17338"/>
                  <a:pt x="13907" y="17344"/>
                  <a:pt x="13965" y="17363"/>
                </a:cubicBezTo>
                <a:cubicBezTo>
                  <a:pt x="14008" y="17377"/>
                  <a:pt x="14032" y="17350"/>
                  <a:pt x="14039" y="17413"/>
                </a:cubicBezTo>
                <a:cubicBezTo>
                  <a:pt x="14042" y="17438"/>
                  <a:pt x="14030" y="17502"/>
                  <a:pt x="14015" y="17512"/>
                </a:cubicBezTo>
                <a:cubicBezTo>
                  <a:pt x="13986" y="17532"/>
                  <a:pt x="13948" y="17525"/>
                  <a:pt x="13915" y="17537"/>
                </a:cubicBezTo>
                <a:cubicBezTo>
                  <a:pt x="13856" y="17558"/>
                  <a:pt x="13832" y="17562"/>
                  <a:pt x="13767" y="17562"/>
                </a:cubicBezTo>
                <a:cubicBezTo>
                  <a:pt x="13759" y="17562"/>
                  <a:pt x="13750" y="17562"/>
                  <a:pt x="13742" y="17562"/>
                </a:cubicBezTo>
                <a:cubicBezTo>
                  <a:pt x="13756" y="17520"/>
                  <a:pt x="13790" y="17537"/>
                  <a:pt x="13841" y="17537"/>
                </a:cubicBezTo>
              </a:path>
              <a:path w="1092" h="720">
                <a:moveTo>
                  <a:pt x="14312" y="17587"/>
                </a:moveTo>
                <a:cubicBezTo>
                  <a:pt x="14304" y="17587"/>
                  <a:pt x="14296" y="17587"/>
                  <a:pt x="14288" y="17587"/>
                </a:cubicBezTo>
                <a:cubicBezTo>
                  <a:pt x="14282" y="17611"/>
                  <a:pt x="14275" y="17665"/>
                  <a:pt x="14263" y="17686"/>
                </a:cubicBezTo>
                <a:cubicBezTo>
                  <a:pt x="14250" y="17710"/>
                  <a:pt x="14194" y="17794"/>
                  <a:pt x="14288" y="17785"/>
                </a:cubicBezTo>
                <a:cubicBezTo>
                  <a:pt x="14296" y="17777"/>
                  <a:pt x="14304" y="17768"/>
                  <a:pt x="14312" y="17760"/>
                </a:cubicBezTo>
              </a:path>
              <a:path w="1092" h="720">
                <a:moveTo>
                  <a:pt x="14560" y="17239"/>
                </a:moveTo>
                <a:cubicBezTo>
                  <a:pt x="14599" y="17229"/>
                  <a:pt x="14615" y="17214"/>
                  <a:pt x="14660" y="17214"/>
                </a:cubicBezTo>
                <a:cubicBezTo>
                  <a:pt x="14684" y="17214"/>
                  <a:pt x="14693" y="17214"/>
                  <a:pt x="14709" y="17214"/>
                </a:cubicBezTo>
                <a:cubicBezTo>
                  <a:pt x="14709" y="17265"/>
                  <a:pt x="14718" y="17299"/>
                  <a:pt x="14684" y="17338"/>
                </a:cubicBezTo>
                <a:cubicBezTo>
                  <a:pt x="14651" y="17375"/>
                  <a:pt x="14628" y="17397"/>
                  <a:pt x="14610" y="17438"/>
                </a:cubicBezTo>
                <a:cubicBezTo>
                  <a:pt x="14587" y="17490"/>
                  <a:pt x="14585" y="17508"/>
                  <a:pt x="14585" y="17562"/>
                </a:cubicBezTo>
                <a:cubicBezTo>
                  <a:pt x="14644" y="17562"/>
                  <a:pt x="14663" y="17572"/>
                  <a:pt x="14709" y="17587"/>
                </a:cubicBezTo>
                <a:cubicBezTo>
                  <a:pt x="14749" y="17600"/>
                  <a:pt x="14789" y="17602"/>
                  <a:pt x="14808" y="17611"/>
                </a:cubicBezTo>
                <a:cubicBezTo>
                  <a:pt x="14833" y="17611"/>
                  <a:pt x="14841" y="17611"/>
                  <a:pt x="14833" y="1763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Ink 68"/>
          <p:cNvSpPr/>
          <p:nvPr/>
        </p:nvSpPr>
        <p:spPr>
          <a:xfrm>
            <a:off x="5759280" y="630396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15999" y="17587"/>
                </a:moveTo>
                <a:cubicBezTo>
                  <a:pt x="15999" y="17579"/>
                  <a:pt x="15999" y="17570"/>
                  <a:pt x="15999" y="17562"/>
                </a:cubicBezTo>
                <a:cubicBezTo>
                  <a:pt x="16050" y="17562"/>
                  <a:pt x="16057" y="17551"/>
                  <a:pt x="16098" y="17537"/>
                </a:cubicBezTo>
                <a:cubicBezTo>
                  <a:pt x="16138" y="17524"/>
                  <a:pt x="16185" y="17524"/>
                  <a:pt x="16222" y="17512"/>
                </a:cubicBezTo>
                <a:cubicBezTo>
                  <a:pt x="16288" y="17490"/>
                  <a:pt x="16400" y="17512"/>
                  <a:pt x="16470" y="17512"/>
                </a:cubicBezTo>
                <a:cubicBezTo>
                  <a:pt x="16470" y="17554"/>
                  <a:pt x="16480" y="17550"/>
                  <a:pt x="16446" y="17562"/>
                </a:cubicBezTo>
              </a:path>
              <a:path w="547" h="224">
                <a:moveTo>
                  <a:pt x="15999" y="17735"/>
                </a:moveTo>
                <a:cubicBezTo>
                  <a:pt x="16181" y="17735"/>
                  <a:pt x="16363" y="17735"/>
                  <a:pt x="16545" y="1773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nk 69"/>
          <p:cNvSpPr/>
          <p:nvPr/>
        </p:nvSpPr>
        <p:spPr>
          <a:xfrm>
            <a:off x="6375240" y="6089760"/>
            <a:ext cx="403560" cy="492120"/>
          </a:xfrm>
          <a:custGeom>
            <a:avLst/>
            <a:gdLst/>
            <a:ahLst/>
            <a:rect l="l" t="t" r="r" b="b"/>
            <a:pathLst>
              <a:path w="1117" h="1365">
                <a:moveTo>
                  <a:pt x="18455" y="16917"/>
                </a:moveTo>
                <a:cubicBezTo>
                  <a:pt x="18431" y="16935"/>
                  <a:pt x="18393" y="16983"/>
                  <a:pt x="18380" y="16991"/>
                </a:cubicBezTo>
                <a:cubicBezTo>
                  <a:pt x="18360" y="17004"/>
                  <a:pt x="18312" y="17028"/>
                  <a:pt x="18306" y="17041"/>
                </a:cubicBezTo>
                <a:cubicBezTo>
                  <a:pt x="18293" y="17067"/>
                  <a:pt x="18239" y="17113"/>
                  <a:pt x="18231" y="17140"/>
                </a:cubicBezTo>
                <a:cubicBezTo>
                  <a:pt x="18219" y="17183"/>
                  <a:pt x="18207" y="17218"/>
                  <a:pt x="18207" y="17264"/>
                </a:cubicBezTo>
                <a:cubicBezTo>
                  <a:pt x="18207" y="17314"/>
                  <a:pt x="18221" y="17318"/>
                  <a:pt x="18231" y="17338"/>
                </a:cubicBezTo>
                <a:cubicBezTo>
                  <a:pt x="18244" y="17364"/>
                  <a:pt x="18247" y="17384"/>
                  <a:pt x="18281" y="17388"/>
                </a:cubicBezTo>
                <a:cubicBezTo>
                  <a:pt x="18361" y="17398"/>
                  <a:pt x="18438" y="17385"/>
                  <a:pt x="18504" y="17363"/>
                </a:cubicBezTo>
                <a:cubicBezTo>
                  <a:pt x="18542" y="17350"/>
                  <a:pt x="18529" y="17334"/>
                  <a:pt x="18529" y="17289"/>
                </a:cubicBezTo>
                <a:cubicBezTo>
                  <a:pt x="18529" y="17259"/>
                  <a:pt x="18488" y="17243"/>
                  <a:pt x="18455" y="17239"/>
                </a:cubicBezTo>
                <a:cubicBezTo>
                  <a:pt x="18401" y="17233"/>
                  <a:pt x="18270" y="17222"/>
                  <a:pt x="18256" y="17264"/>
                </a:cubicBezTo>
              </a:path>
              <a:path w="1117" h="1365">
                <a:moveTo>
                  <a:pt x="17711" y="17686"/>
                </a:moveTo>
                <a:cubicBezTo>
                  <a:pt x="17750" y="17676"/>
                  <a:pt x="17765" y="17661"/>
                  <a:pt x="17810" y="17661"/>
                </a:cubicBezTo>
                <a:cubicBezTo>
                  <a:pt x="17923" y="17661"/>
                  <a:pt x="18025" y="17668"/>
                  <a:pt x="18132" y="17686"/>
                </a:cubicBezTo>
                <a:cubicBezTo>
                  <a:pt x="18227" y="17702"/>
                  <a:pt x="18318" y="17676"/>
                  <a:pt x="18405" y="17661"/>
                </a:cubicBezTo>
                <a:cubicBezTo>
                  <a:pt x="18457" y="17652"/>
                  <a:pt x="18496" y="17686"/>
                  <a:pt x="18554" y="17686"/>
                </a:cubicBezTo>
                <a:cubicBezTo>
                  <a:pt x="18645" y="17686"/>
                  <a:pt x="18736" y="17686"/>
                  <a:pt x="18827" y="17686"/>
                </a:cubicBezTo>
                <a:cubicBezTo>
                  <a:pt x="18827" y="17711"/>
                  <a:pt x="18827" y="17719"/>
                  <a:pt x="18802" y="17711"/>
                </a:cubicBezTo>
              </a:path>
              <a:path w="1117" h="1365">
                <a:moveTo>
                  <a:pt x="18132" y="17959"/>
                </a:moveTo>
                <a:cubicBezTo>
                  <a:pt x="18132" y="17951"/>
                  <a:pt x="18132" y="17942"/>
                  <a:pt x="18132" y="17934"/>
                </a:cubicBezTo>
                <a:cubicBezTo>
                  <a:pt x="18098" y="17979"/>
                  <a:pt x="18103" y="18013"/>
                  <a:pt x="18058" y="18058"/>
                </a:cubicBezTo>
                <a:cubicBezTo>
                  <a:pt x="18033" y="18084"/>
                  <a:pt x="18012" y="18122"/>
                  <a:pt x="18008" y="18157"/>
                </a:cubicBezTo>
                <a:cubicBezTo>
                  <a:pt x="18005" y="18181"/>
                  <a:pt x="18008" y="18207"/>
                  <a:pt x="18008" y="18231"/>
                </a:cubicBezTo>
                <a:cubicBezTo>
                  <a:pt x="18036" y="18231"/>
                  <a:pt x="18047" y="18229"/>
                  <a:pt x="18058" y="18207"/>
                </a:cubicBezTo>
              </a:path>
              <a:path w="1117" h="1365">
                <a:moveTo>
                  <a:pt x="18529" y="17884"/>
                </a:moveTo>
                <a:cubicBezTo>
                  <a:pt x="18483" y="17918"/>
                  <a:pt x="18492" y="17917"/>
                  <a:pt x="18455" y="17959"/>
                </a:cubicBezTo>
                <a:cubicBezTo>
                  <a:pt x="18427" y="17990"/>
                  <a:pt x="18393" y="18020"/>
                  <a:pt x="18380" y="18058"/>
                </a:cubicBezTo>
                <a:cubicBezTo>
                  <a:pt x="18370" y="18088"/>
                  <a:pt x="18358" y="18128"/>
                  <a:pt x="18355" y="18157"/>
                </a:cubicBezTo>
                <a:cubicBezTo>
                  <a:pt x="18351" y="18193"/>
                  <a:pt x="18342" y="18262"/>
                  <a:pt x="18380" y="18281"/>
                </a:cubicBezTo>
                <a:cubicBezTo>
                  <a:pt x="18446" y="18314"/>
                  <a:pt x="18598" y="18274"/>
                  <a:pt x="18653" y="18256"/>
                </a:cubicBezTo>
                <a:cubicBezTo>
                  <a:pt x="18679" y="18247"/>
                  <a:pt x="18699" y="18238"/>
                  <a:pt x="18703" y="18207"/>
                </a:cubicBezTo>
                <a:cubicBezTo>
                  <a:pt x="18708" y="18164"/>
                  <a:pt x="18706" y="18138"/>
                  <a:pt x="18678" y="18107"/>
                </a:cubicBezTo>
                <a:cubicBezTo>
                  <a:pt x="18648" y="18074"/>
                  <a:pt x="18621" y="18083"/>
                  <a:pt x="18579" y="18083"/>
                </a:cubicBezTo>
                <a:cubicBezTo>
                  <a:pt x="18515" y="18083"/>
                  <a:pt x="18505" y="18091"/>
                  <a:pt x="18455" y="18107"/>
                </a:cubicBezTo>
                <a:cubicBezTo>
                  <a:pt x="18423" y="18117"/>
                  <a:pt x="18417" y="18129"/>
                  <a:pt x="18380" y="1815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nk 70"/>
          <p:cNvSpPr/>
          <p:nvPr/>
        </p:nvSpPr>
        <p:spPr>
          <a:xfrm>
            <a:off x="7242120" y="6323040"/>
            <a:ext cx="357120" cy="123840"/>
          </a:xfrm>
          <a:custGeom>
            <a:avLst/>
            <a:gdLst/>
            <a:ahLst/>
            <a:rect l="l" t="t" r="r" b="b"/>
            <a:pathLst>
              <a:path w="993" h="348">
                <a:moveTo>
                  <a:pt x="20265" y="17636"/>
                </a:moveTo>
                <a:cubicBezTo>
                  <a:pt x="20226" y="17623"/>
                  <a:pt x="20255" y="17624"/>
                  <a:pt x="20216" y="17611"/>
                </a:cubicBezTo>
                <a:cubicBezTo>
                  <a:pt x="20181" y="17646"/>
                  <a:pt x="20158" y="17670"/>
                  <a:pt x="20141" y="17711"/>
                </a:cubicBezTo>
                <a:cubicBezTo>
                  <a:pt x="20119" y="17763"/>
                  <a:pt x="20117" y="17781"/>
                  <a:pt x="20117" y="17835"/>
                </a:cubicBezTo>
                <a:cubicBezTo>
                  <a:pt x="20117" y="17871"/>
                  <a:pt x="20160" y="17871"/>
                  <a:pt x="20191" y="17884"/>
                </a:cubicBezTo>
                <a:cubicBezTo>
                  <a:pt x="20250" y="17909"/>
                  <a:pt x="20286" y="17927"/>
                  <a:pt x="20340" y="17884"/>
                </a:cubicBezTo>
                <a:cubicBezTo>
                  <a:pt x="20369" y="17861"/>
                  <a:pt x="20421" y="17850"/>
                  <a:pt x="20439" y="17810"/>
                </a:cubicBezTo>
                <a:cubicBezTo>
                  <a:pt x="20449" y="17788"/>
                  <a:pt x="20425" y="17718"/>
                  <a:pt x="20414" y="17711"/>
                </a:cubicBezTo>
                <a:cubicBezTo>
                  <a:pt x="20390" y="17696"/>
                  <a:pt x="20346" y="17664"/>
                  <a:pt x="20315" y="17661"/>
                </a:cubicBezTo>
                <a:cubicBezTo>
                  <a:pt x="20231" y="17652"/>
                  <a:pt x="20281" y="17667"/>
                  <a:pt x="20315" y="17686"/>
                </a:cubicBezTo>
                <a:cubicBezTo>
                  <a:pt x="20323" y="17694"/>
                  <a:pt x="20332" y="17703"/>
                  <a:pt x="20340" y="17711"/>
                </a:cubicBezTo>
              </a:path>
              <a:path w="993" h="348">
                <a:moveTo>
                  <a:pt x="20613" y="17686"/>
                </a:moveTo>
                <a:cubicBezTo>
                  <a:pt x="20613" y="17750"/>
                  <a:pt x="20603" y="17898"/>
                  <a:pt x="20613" y="17884"/>
                </a:cubicBezTo>
                <a:cubicBezTo>
                  <a:pt x="20631" y="17859"/>
                  <a:pt x="20679" y="17788"/>
                  <a:pt x="20687" y="17760"/>
                </a:cubicBezTo>
                <a:cubicBezTo>
                  <a:pt x="20700" y="17714"/>
                  <a:pt x="20711" y="17675"/>
                  <a:pt x="20737" y="17636"/>
                </a:cubicBezTo>
                <a:cubicBezTo>
                  <a:pt x="20757" y="17607"/>
                  <a:pt x="20806" y="17572"/>
                  <a:pt x="20836" y="17562"/>
                </a:cubicBezTo>
                <a:cubicBezTo>
                  <a:pt x="20844" y="17562"/>
                  <a:pt x="20853" y="17562"/>
                  <a:pt x="20861" y="17562"/>
                </a:cubicBezTo>
                <a:cubicBezTo>
                  <a:pt x="20853" y="17594"/>
                  <a:pt x="20827" y="17658"/>
                  <a:pt x="20811" y="17686"/>
                </a:cubicBezTo>
                <a:cubicBezTo>
                  <a:pt x="20790" y="17724"/>
                  <a:pt x="20770" y="17752"/>
                  <a:pt x="20737" y="17785"/>
                </a:cubicBezTo>
                <a:cubicBezTo>
                  <a:pt x="20714" y="17808"/>
                  <a:pt x="20706" y="17812"/>
                  <a:pt x="20712" y="17835"/>
                </a:cubicBezTo>
                <a:cubicBezTo>
                  <a:pt x="20844" y="17835"/>
                  <a:pt x="20977" y="17835"/>
                  <a:pt x="21109" y="1783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nk 71"/>
          <p:cNvSpPr/>
          <p:nvPr/>
        </p:nvSpPr>
        <p:spPr>
          <a:xfrm>
            <a:off x="7885080" y="6107040"/>
            <a:ext cx="285840" cy="528840"/>
          </a:xfrm>
          <a:custGeom>
            <a:avLst/>
            <a:gdLst/>
            <a:ahLst/>
            <a:rect l="l" t="t" r="r" b="b"/>
            <a:pathLst>
              <a:path w="794" h="1465">
                <a:moveTo>
                  <a:pt x="22250" y="17066"/>
                </a:moveTo>
                <a:cubicBezTo>
                  <a:pt x="22291" y="17066"/>
                  <a:pt x="22315" y="17056"/>
                  <a:pt x="22349" y="17041"/>
                </a:cubicBezTo>
                <a:cubicBezTo>
                  <a:pt x="22398" y="17020"/>
                  <a:pt x="22457" y="17012"/>
                  <a:pt x="22498" y="16991"/>
                </a:cubicBezTo>
                <a:cubicBezTo>
                  <a:pt x="22520" y="16969"/>
                  <a:pt x="22525" y="16960"/>
                  <a:pt x="22547" y="16966"/>
                </a:cubicBezTo>
                <a:cubicBezTo>
                  <a:pt x="22561" y="16973"/>
                  <a:pt x="22565" y="17034"/>
                  <a:pt x="22523" y="17066"/>
                </a:cubicBezTo>
                <a:cubicBezTo>
                  <a:pt x="22480" y="17099"/>
                  <a:pt x="22436" y="17107"/>
                  <a:pt x="22399" y="17140"/>
                </a:cubicBezTo>
                <a:cubicBezTo>
                  <a:pt x="22368" y="17168"/>
                  <a:pt x="22374" y="17176"/>
                  <a:pt x="22374" y="17214"/>
                </a:cubicBezTo>
                <a:cubicBezTo>
                  <a:pt x="22418" y="17214"/>
                  <a:pt x="22423" y="17220"/>
                  <a:pt x="22448" y="17239"/>
                </a:cubicBezTo>
                <a:cubicBezTo>
                  <a:pt x="22491" y="17271"/>
                  <a:pt x="22498" y="17258"/>
                  <a:pt x="22498" y="17314"/>
                </a:cubicBezTo>
                <a:cubicBezTo>
                  <a:pt x="22498" y="17360"/>
                  <a:pt x="22499" y="17382"/>
                  <a:pt x="22448" y="17388"/>
                </a:cubicBezTo>
                <a:cubicBezTo>
                  <a:pt x="22382" y="17395"/>
                  <a:pt x="22330" y="17379"/>
                  <a:pt x="22299" y="17363"/>
                </a:cubicBezTo>
                <a:cubicBezTo>
                  <a:pt x="22253" y="17339"/>
                  <a:pt x="22298" y="17347"/>
                  <a:pt x="22250" y="17363"/>
                </a:cubicBezTo>
              </a:path>
              <a:path w="794" h="1465">
                <a:moveTo>
                  <a:pt x="21952" y="17587"/>
                </a:moveTo>
                <a:cubicBezTo>
                  <a:pt x="22148" y="17587"/>
                  <a:pt x="22396" y="17621"/>
                  <a:pt x="22572" y="17562"/>
                </a:cubicBezTo>
                <a:cubicBezTo>
                  <a:pt x="22605" y="17551"/>
                  <a:pt x="22661" y="17562"/>
                  <a:pt x="22696" y="17562"/>
                </a:cubicBezTo>
                <a:cubicBezTo>
                  <a:pt x="22696" y="17604"/>
                  <a:pt x="22706" y="17600"/>
                  <a:pt x="22671" y="17611"/>
                </a:cubicBezTo>
              </a:path>
              <a:path w="794" h="1465">
                <a:moveTo>
                  <a:pt x="22299" y="17810"/>
                </a:moveTo>
                <a:cubicBezTo>
                  <a:pt x="22259" y="17810"/>
                  <a:pt x="22219" y="17816"/>
                  <a:pt x="22200" y="17859"/>
                </a:cubicBezTo>
                <a:cubicBezTo>
                  <a:pt x="22193" y="17874"/>
                  <a:pt x="22124" y="17961"/>
                  <a:pt x="22151" y="17983"/>
                </a:cubicBezTo>
                <a:cubicBezTo>
                  <a:pt x="22166" y="17995"/>
                  <a:pt x="22194" y="18044"/>
                  <a:pt x="22225" y="18058"/>
                </a:cubicBezTo>
                <a:cubicBezTo>
                  <a:pt x="22266" y="18076"/>
                  <a:pt x="22346" y="18058"/>
                  <a:pt x="22374" y="18033"/>
                </a:cubicBezTo>
                <a:cubicBezTo>
                  <a:pt x="22396" y="18013"/>
                  <a:pt x="22442" y="17995"/>
                  <a:pt x="22448" y="17983"/>
                </a:cubicBezTo>
                <a:cubicBezTo>
                  <a:pt x="22473" y="17935"/>
                  <a:pt x="22443" y="17826"/>
                  <a:pt x="22423" y="17810"/>
                </a:cubicBezTo>
                <a:cubicBezTo>
                  <a:pt x="22385" y="17781"/>
                  <a:pt x="22372" y="17785"/>
                  <a:pt x="22324" y="17785"/>
                </a:cubicBezTo>
                <a:cubicBezTo>
                  <a:pt x="22264" y="17785"/>
                  <a:pt x="22277" y="17795"/>
                  <a:pt x="22250" y="17835"/>
                </a:cubicBezTo>
                <a:cubicBezTo>
                  <a:pt x="22242" y="17843"/>
                  <a:pt x="22233" y="17851"/>
                  <a:pt x="22225" y="17859"/>
                </a:cubicBezTo>
              </a:path>
              <a:path w="794" h="1465">
                <a:moveTo>
                  <a:pt x="22101" y="18157"/>
                </a:moveTo>
                <a:cubicBezTo>
                  <a:pt x="22062" y="18170"/>
                  <a:pt x="22080" y="18217"/>
                  <a:pt x="22051" y="18231"/>
                </a:cubicBezTo>
                <a:cubicBezTo>
                  <a:pt x="22007" y="18253"/>
                  <a:pt x="22002" y="18250"/>
                  <a:pt x="22002" y="18306"/>
                </a:cubicBezTo>
                <a:cubicBezTo>
                  <a:pt x="22002" y="18338"/>
                  <a:pt x="21986" y="18417"/>
                  <a:pt x="22027" y="18430"/>
                </a:cubicBezTo>
                <a:cubicBezTo>
                  <a:pt x="22098" y="18452"/>
                  <a:pt x="22193" y="18424"/>
                  <a:pt x="22250" y="18405"/>
                </a:cubicBezTo>
                <a:cubicBezTo>
                  <a:pt x="22297" y="18389"/>
                  <a:pt x="22325" y="18390"/>
                  <a:pt x="22349" y="18331"/>
                </a:cubicBezTo>
                <a:cubicBezTo>
                  <a:pt x="22362" y="18299"/>
                  <a:pt x="22371" y="18280"/>
                  <a:pt x="22374" y="18256"/>
                </a:cubicBezTo>
                <a:cubicBezTo>
                  <a:pt x="22378" y="18222"/>
                  <a:pt x="22365" y="18181"/>
                  <a:pt x="22349" y="18157"/>
                </a:cubicBezTo>
                <a:cubicBezTo>
                  <a:pt x="22305" y="18092"/>
                  <a:pt x="22256" y="18086"/>
                  <a:pt x="22200" y="18058"/>
                </a:cubicBezTo>
                <a:cubicBezTo>
                  <a:pt x="22166" y="18041"/>
                  <a:pt x="22121" y="18017"/>
                  <a:pt x="22076" y="18033"/>
                </a:cubicBezTo>
                <a:cubicBezTo>
                  <a:pt x="22050" y="18042"/>
                  <a:pt x="21966" y="18056"/>
                  <a:pt x="21952" y="18083"/>
                </a:cubicBezTo>
                <a:cubicBezTo>
                  <a:pt x="21937" y="18112"/>
                  <a:pt x="21930" y="18129"/>
                  <a:pt x="21903" y="1815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nk 72"/>
          <p:cNvSpPr/>
          <p:nvPr/>
        </p:nvSpPr>
        <p:spPr>
          <a:xfrm>
            <a:off x="7269120" y="4419720"/>
            <a:ext cx="13356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0365" y="12353"/>
                </a:moveTo>
                <a:cubicBezTo>
                  <a:pt x="20340" y="12340"/>
                  <a:pt x="20370" y="12313"/>
                  <a:pt x="20389" y="12303"/>
                </a:cubicBezTo>
                <a:cubicBezTo>
                  <a:pt x="20408" y="12293"/>
                  <a:pt x="20469" y="12285"/>
                  <a:pt x="20489" y="12278"/>
                </a:cubicBezTo>
                <a:cubicBezTo>
                  <a:pt x="20533" y="12263"/>
                  <a:pt x="20559" y="12289"/>
                  <a:pt x="20563" y="12328"/>
                </a:cubicBezTo>
                <a:cubicBezTo>
                  <a:pt x="20567" y="12368"/>
                  <a:pt x="20554" y="12409"/>
                  <a:pt x="20513" y="12427"/>
                </a:cubicBezTo>
                <a:cubicBezTo>
                  <a:pt x="20477" y="12443"/>
                  <a:pt x="20446" y="12449"/>
                  <a:pt x="20414" y="12477"/>
                </a:cubicBezTo>
                <a:cubicBezTo>
                  <a:pt x="20389" y="12502"/>
                  <a:pt x="20381" y="12510"/>
                  <a:pt x="20365" y="12526"/>
                </a:cubicBezTo>
                <a:cubicBezTo>
                  <a:pt x="20416" y="12526"/>
                  <a:pt x="20418" y="12541"/>
                  <a:pt x="20439" y="12551"/>
                </a:cubicBezTo>
                <a:cubicBezTo>
                  <a:pt x="20466" y="12565"/>
                  <a:pt x="20513" y="12562"/>
                  <a:pt x="20538" y="12576"/>
                </a:cubicBezTo>
                <a:cubicBezTo>
                  <a:pt x="20562" y="12590"/>
                  <a:pt x="20578" y="12649"/>
                  <a:pt x="20563" y="12675"/>
                </a:cubicBezTo>
                <a:cubicBezTo>
                  <a:pt x="20538" y="12720"/>
                  <a:pt x="20479" y="12706"/>
                  <a:pt x="20464" y="12725"/>
                </a:cubicBezTo>
                <a:cubicBezTo>
                  <a:pt x="20441" y="12754"/>
                  <a:pt x="20442" y="12750"/>
                  <a:pt x="20389" y="12750"/>
                </a:cubicBezTo>
                <a:cubicBezTo>
                  <a:pt x="20344" y="12750"/>
                  <a:pt x="20330" y="12770"/>
                  <a:pt x="20290" y="12774"/>
                </a:cubicBezTo>
                <a:cubicBezTo>
                  <a:pt x="20258" y="12777"/>
                  <a:pt x="20231" y="12721"/>
                  <a:pt x="20216" y="12750"/>
                </a:cubicBezTo>
                <a:cubicBezTo>
                  <a:pt x="20216" y="12774"/>
                  <a:pt x="20216" y="12782"/>
                  <a:pt x="20191" y="1277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08000" y="31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08000" y="3892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08000" y="5884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08000" y="4484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8000" y="50958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93120" y="306864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389160" y="3860640"/>
            <a:ext cx="70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do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no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&amp; passing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390600" y="445464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passing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95280" y="50688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35% of people who study &amp; pass the test get ‘merit’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What is the chance of this happe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93840" y="586116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chance of passing and not getting a ‘merit’ given that a student did study for the t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4"/>
          <p:cNvSpPr/>
          <p:nvPr/>
        </p:nvSpPr>
        <p:spPr>
          <a:xfrm flipV="1">
            <a:off x="826920" y="173808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5"/>
          <p:cNvSpPr/>
          <p:nvPr/>
        </p:nvSpPr>
        <p:spPr>
          <a:xfrm>
            <a:off x="826920" y="238608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3059280" y="1468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2987640" y="262080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8"/>
          <p:cNvSpPr/>
          <p:nvPr/>
        </p:nvSpPr>
        <p:spPr>
          <a:xfrm flipV="1">
            <a:off x="3995640" y="1522440"/>
            <a:ext cx="201636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9"/>
          <p:cNvSpPr/>
          <p:nvPr/>
        </p:nvSpPr>
        <p:spPr>
          <a:xfrm>
            <a:off x="3995640" y="180972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0"/>
          <p:cNvSpPr/>
          <p:nvPr/>
        </p:nvSpPr>
        <p:spPr>
          <a:xfrm flipV="1">
            <a:off x="4067280" y="281772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1"/>
          <p:cNvSpPr/>
          <p:nvPr/>
        </p:nvSpPr>
        <p:spPr>
          <a:xfrm>
            <a:off x="4067280" y="310500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6084720" y="1341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6084720" y="19540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6156360" y="2602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6156360" y="3214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183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5219640" y="123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0% of students study for a test. 80% of those wh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did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passed the test, but only 45% of those wh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no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passed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8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08000" y="31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08000" y="3892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108000" y="5884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08000" y="4484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108000" y="50958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393120" y="306864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89160" y="3860640"/>
            <a:ext cx="70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do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no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&amp; passing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390600" y="445464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passing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395280" y="50688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35% of people who study &amp; pass the test get ‘merit’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What is the chance of this happe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393840" y="586116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chance of passing and not getting a ‘merit’ given that a student did study for the t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 flipV="1">
            <a:off x="826920" y="173808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826920" y="238608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3059280" y="1468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2987640" y="262080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8"/>
          <p:cNvSpPr/>
          <p:nvPr/>
        </p:nvSpPr>
        <p:spPr>
          <a:xfrm flipV="1">
            <a:off x="3995640" y="1522440"/>
            <a:ext cx="201636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9"/>
          <p:cNvSpPr/>
          <p:nvPr/>
        </p:nvSpPr>
        <p:spPr>
          <a:xfrm>
            <a:off x="3995640" y="180972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0"/>
          <p:cNvSpPr/>
          <p:nvPr/>
        </p:nvSpPr>
        <p:spPr>
          <a:xfrm flipV="1">
            <a:off x="4067280" y="281772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1"/>
          <p:cNvSpPr/>
          <p:nvPr/>
        </p:nvSpPr>
        <p:spPr>
          <a:xfrm>
            <a:off x="4067280" y="310500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2"/>
          <p:cNvSpPr/>
          <p:nvPr/>
        </p:nvSpPr>
        <p:spPr>
          <a:xfrm>
            <a:off x="6084720" y="1341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084720" y="19540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156360" y="2602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6156360" y="3214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183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5219640" y="123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5148360" y="25304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0% of students study for a test. 80% of those wh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did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passed the test, but only 45% of those wh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no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passed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5148360" y="2995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5219640" y="173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1835280" y="23130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8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Ink 33"/>
          <p:cNvSpPr/>
          <p:nvPr/>
        </p:nvSpPr>
        <p:spPr>
          <a:xfrm>
            <a:off x="7143840" y="1133640"/>
            <a:ext cx="1285920" cy="911160"/>
          </a:xfrm>
          <a:custGeom>
            <a:avLst/>
            <a:gdLst/>
            <a:ahLst/>
            <a:rect l="l" t="t" r="r" b="b"/>
            <a:pathLst>
              <a:path w="3573" h="2531">
                <a:moveTo>
                  <a:pt x="19844" y="4341"/>
                </a:moveTo>
                <a:cubicBezTo>
                  <a:pt x="19866" y="4362"/>
                  <a:pt x="19854" y="4383"/>
                  <a:pt x="19893" y="4390"/>
                </a:cubicBezTo>
                <a:cubicBezTo>
                  <a:pt x="19985" y="4407"/>
                  <a:pt x="20063" y="4362"/>
                  <a:pt x="20141" y="4341"/>
                </a:cubicBezTo>
                <a:cubicBezTo>
                  <a:pt x="20183" y="4330"/>
                  <a:pt x="20226" y="4302"/>
                  <a:pt x="20265" y="4291"/>
                </a:cubicBezTo>
                <a:cubicBezTo>
                  <a:pt x="20326" y="4274"/>
                  <a:pt x="20381" y="4258"/>
                  <a:pt x="20439" y="4242"/>
                </a:cubicBezTo>
                <a:cubicBezTo>
                  <a:pt x="20508" y="4223"/>
                  <a:pt x="20547" y="4191"/>
                  <a:pt x="20613" y="4167"/>
                </a:cubicBezTo>
                <a:cubicBezTo>
                  <a:pt x="20679" y="4143"/>
                  <a:pt x="20743" y="4116"/>
                  <a:pt x="20811" y="4093"/>
                </a:cubicBezTo>
                <a:cubicBezTo>
                  <a:pt x="20875" y="4072"/>
                  <a:pt x="20943" y="4040"/>
                  <a:pt x="21010" y="4018"/>
                </a:cubicBezTo>
                <a:cubicBezTo>
                  <a:pt x="21083" y="3994"/>
                  <a:pt x="21136" y="3976"/>
                  <a:pt x="21208" y="3944"/>
                </a:cubicBezTo>
                <a:cubicBezTo>
                  <a:pt x="21272" y="3916"/>
                  <a:pt x="21332" y="3888"/>
                  <a:pt x="21406" y="3870"/>
                </a:cubicBezTo>
                <a:cubicBezTo>
                  <a:pt x="21489" y="3850"/>
                  <a:pt x="21570" y="3819"/>
                  <a:pt x="21654" y="3795"/>
                </a:cubicBezTo>
                <a:cubicBezTo>
                  <a:pt x="21721" y="3775"/>
                  <a:pt x="21784" y="3744"/>
                  <a:pt x="21853" y="3721"/>
                </a:cubicBezTo>
                <a:cubicBezTo>
                  <a:pt x="21918" y="3699"/>
                  <a:pt x="22013" y="3697"/>
                  <a:pt x="22076" y="3671"/>
                </a:cubicBezTo>
                <a:cubicBezTo>
                  <a:pt x="22135" y="3647"/>
                  <a:pt x="22186" y="3618"/>
                  <a:pt x="22250" y="3597"/>
                </a:cubicBezTo>
                <a:cubicBezTo>
                  <a:pt x="22292" y="3583"/>
                  <a:pt x="22355" y="3566"/>
                  <a:pt x="22399" y="3547"/>
                </a:cubicBezTo>
                <a:cubicBezTo>
                  <a:pt x="22473" y="3514"/>
                  <a:pt x="22543" y="3483"/>
                  <a:pt x="22622" y="3473"/>
                </a:cubicBezTo>
                <a:cubicBezTo>
                  <a:pt x="22701" y="3463"/>
                  <a:pt x="22708" y="3448"/>
                  <a:pt x="22771" y="3423"/>
                </a:cubicBezTo>
                <a:cubicBezTo>
                  <a:pt x="22827" y="3401"/>
                  <a:pt x="22882" y="3397"/>
                  <a:pt x="22944" y="3373"/>
                </a:cubicBezTo>
                <a:cubicBezTo>
                  <a:pt x="22980" y="3359"/>
                  <a:pt x="23032" y="3340"/>
                  <a:pt x="23068" y="3324"/>
                </a:cubicBezTo>
                <a:cubicBezTo>
                  <a:pt x="23119" y="3301"/>
                  <a:pt x="23171" y="3267"/>
                  <a:pt x="23217" y="3249"/>
                </a:cubicBezTo>
                <a:cubicBezTo>
                  <a:pt x="23265" y="3230"/>
                  <a:pt x="23299" y="3219"/>
                  <a:pt x="23341" y="3200"/>
                </a:cubicBezTo>
                <a:cubicBezTo>
                  <a:pt x="23378" y="3183"/>
                  <a:pt x="23392" y="3199"/>
                  <a:pt x="23416" y="3175"/>
                </a:cubicBezTo>
                <a:cubicBezTo>
                  <a:pt x="23453" y="3137"/>
                  <a:pt x="23302" y="3173"/>
                  <a:pt x="23292" y="3175"/>
                </a:cubicBezTo>
              </a:path>
              <a:path w="3573" h="2531">
                <a:moveTo>
                  <a:pt x="19893" y="4490"/>
                </a:moveTo>
                <a:cubicBezTo>
                  <a:pt x="19927" y="4501"/>
                  <a:pt x="19958" y="4503"/>
                  <a:pt x="19993" y="4514"/>
                </a:cubicBezTo>
                <a:cubicBezTo>
                  <a:pt x="20033" y="4527"/>
                  <a:pt x="20043" y="4537"/>
                  <a:pt x="20092" y="4539"/>
                </a:cubicBezTo>
                <a:cubicBezTo>
                  <a:pt x="20159" y="4541"/>
                  <a:pt x="20187" y="4548"/>
                  <a:pt x="20241" y="4564"/>
                </a:cubicBezTo>
                <a:cubicBezTo>
                  <a:pt x="20289" y="4578"/>
                  <a:pt x="20313" y="4595"/>
                  <a:pt x="20365" y="4614"/>
                </a:cubicBezTo>
                <a:cubicBezTo>
                  <a:pt x="20408" y="4630"/>
                  <a:pt x="20447" y="4644"/>
                  <a:pt x="20489" y="4663"/>
                </a:cubicBezTo>
                <a:cubicBezTo>
                  <a:pt x="20550" y="4691"/>
                  <a:pt x="20606" y="4726"/>
                  <a:pt x="20662" y="4762"/>
                </a:cubicBezTo>
                <a:cubicBezTo>
                  <a:pt x="20711" y="4794"/>
                  <a:pt x="20756" y="4820"/>
                  <a:pt x="20811" y="4837"/>
                </a:cubicBezTo>
                <a:cubicBezTo>
                  <a:pt x="20867" y="4855"/>
                  <a:pt x="20932" y="4865"/>
                  <a:pt x="20985" y="4887"/>
                </a:cubicBezTo>
                <a:cubicBezTo>
                  <a:pt x="21045" y="4912"/>
                  <a:pt x="21098" y="4940"/>
                  <a:pt x="21158" y="4961"/>
                </a:cubicBezTo>
                <a:cubicBezTo>
                  <a:pt x="21205" y="4978"/>
                  <a:pt x="21256" y="4994"/>
                  <a:pt x="21307" y="5011"/>
                </a:cubicBezTo>
                <a:cubicBezTo>
                  <a:pt x="21368" y="5031"/>
                  <a:pt x="21420" y="5064"/>
                  <a:pt x="21481" y="5085"/>
                </a:cubicBezTo>
                <a:cubicBezTo>
                  <a:pt x="21529" y="5102"/>
                  <a:pt x="21575" y="5118"/>
                  <a:pt x="21630" y="5135"/>
                </a:cubicBezTo>
                <a:cubicBezTo>
                  <a:pt x="21674" y="5149"/>
                  <a:pt x="21715" y="5168"/>
                  <a:pt x="21754" y="5184"/>
                </a:cubicBezTo>
                <a:cubicBezTo>
                  <a:pt x="21788" y="5197"/>
                  <a:pt x="21849" y="5215"/>
                  <a:pt x="21878" y="5234"/>
                </a:cubicBezTo>
                <a:cubicBezTo>
                  <a:pt x="21935" y="5273"/>
                  <a:pt x="21945" y="5257"/>
                  <a:pt x="22002" y="5283"/>
                </a:cubicBezTo>
                <a:cubicBezTo>
                  <a:pt x="22039" y="5300"/>
                  <a:pt x="22062" y="5320"/>
                  <a:pt x="22101" y="5333"/>
                </a:cubicBezTo>
                <a:cubicBezTo>
                  <a:pt x="22151" y="5350"/>
                  <a:pt x="22201" y="5367"/>
                  <a:pt x="22250" y="5383"/>
                </a:cubicBezTo>
                <a:cubicBezTo>
                  <a:pt x="22302" y="5400"/>
                  <a:pt x="22344" y="5432"/>
                  <a:pt x="22399" y="5457"/>
                </a:cubicBezTo>
                <a:cubicBezTo>
                  <a:pt x="22427" y="5470"/>
                  <a:pt x="22471" y="5468"/>
                  <a:pt x="22498" y="5482"/>
                </a:cubicBezTo>
                <a:cubicBezTo>
                  <a:pt x="22535" y="5501"/>
                  <a:pt x="22558" y="5518"/>
                  <a:pt x="22597" y="5531"/>
                </a:cubicBezTo>
                <a:cubicBezTo>
                  <a:pt x="22634" y="5543"/>
                  <a:pt x="22656" y="5549"/>
                  <a:pt x="22696" y="5556"/>
                </a:cubicBezTo>
                <a:cubicBezTo>
                  <a:pt x="22721" y="5556"/>
                  <a:pt x="22729" y="5556"/>
                  <a:pt x="22746" y="5556"/>
                </a:cubicBezTo>
                <a:cubicBezTo>
                  <a:pt x="22748" y="5557"/>
                  <a:pt x="22779" y="5573"/>
                  <a:pt x="22796" y="5581"/>
                </a:cubicBezTo>
                <a:cubicBezTo>
                  <a:pt x="22812" y="5613"/>
                  <a:pt x="22804" y="5599"/>
                  <a:pt x="22820" y="5631"/>
                </a:cubicBezTo>
                <a:cubicBezTo>
                  <a:pt x="22875" y="5666"/>
                  <a:pt x="22834" y="5627"/>
                  <a:pt x="22870" y="5680"/>
                </a:cubicBezTo>
                <a:cubicBezTo>
                  <a:pt x="22845" y="5680"/>
                  <a:pt x="22821" y="5680"/>
                  <a:pt x="22796" y="568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Ink 34"/>
          <p:cNvSpPr/>
          <p:nvPr/>
        </p:nvSpPr>
        <p:spPr>
          <a:xfrm>
            <a:off x="7419960" y="1108080"/>
            <a:ext cx="563400" cy="231840"/>
          </a:xfrm>
          <a:custGeom>
            <a:avLst/>
            <a:gdLst/>
            <a:ahLst/>
            <a:rect l="l" t="t" r="r" b="b"/>
            <a:pathLst>
              <a:path w="1563" h="646">
                <a:moveTo>
                  <a:pt x="20737" y="3423"/>
                </a:moveTo>
                <a:cubicBezTo>
                  <a:pt x="20737" y="3415"/>
                  <a:pt x="20737" y="3406"/>
                  <a:pt x="20737" y="3398"/>
                </a:cubicBezTo>
                <a:cubicBezTo>
                  <a:pt x="20704" y="3406"/>
                  <a:pt x="20654" y="3436"/>
                  <a:pt x="20638" y="3473"/>
                </a:cubicBezTo>
                <a:cubicBezTo>
                  <a:pt x="20627" y="3497"/>
                  <a:pt x="20616" y="3547"/>
                  <a:pt x="20613" y="3572"/>
                </a:cubicBezTo>
                <a:cubicBezTo>
                  <a:pt x="20608" y="3618"/>
                  <a:pt x="20633" y="3630"/>
                  <a:pt x="20638" y="3671"/>
                </a:cubicBezTo>
                <a:cubicBezTo>
                  <a:pt x="20638" y="3679"/>
                  <a:pt x="20638" y="3688"/>
                  <a:pt x="20638" y="3696"/>
                </a:cubicBezTo>
                <a:cubicBezTo>
                  <a:pt x="20683" y="3696"/>
                  <a:pt x="20697" y="3717"/>
                  <a:pt x="20737" y="3721"/>
                </a:cubicBezTo>
                <a:cubicBezTo>
                  <a:pt x="20786" y="3726"/>
                  <a:pt x="20798" y="3718"/>
                  <a:pt x="20836" y="3696"/>
                </a:cubicBezTo>
                <a:cubicBezTo>
                  <a:pt x="20889" y="3666"/>
                  <a:pt x="20893" y="3658"/>
                  <a:pt x="20935" y="3621"/>
                </a:cubicBezTo>
                <a:cubicBezTo>
                  <a:pt x="20961" y="3598"/>
                  <a:pt x="20981" y="3529"/>
                  <a:pt x="20985" y="3497"/>
                </a:cubicBezTo>
                <a:cubicBezTo>
                  <a:pt x="20992" y="3436"/>
                  <a:pt x="20974" y="3400"/>
                  <a:pt x="20960" y="3373"/>
                </a:cubicBezTo>
                <a:cubicBezTo>
                  <a:pt x="20947" y="3348"/>
                  <a:pt x="20928" y="3329"/>
                  <a:pt x="20886" y="3324"/>
                </a:cubicBezTo>
                <a:cubicBezTo>
                  <a:pt x="20839" y="3319"/>
                  <a:pt x="20784" y="3322"/>
                  <a:pt x="20762" y="3373"/>
                </a:cubicBezTo>
                <a:cubicBezTo>
                  <a:pt x="20750" y="3401"/>
                  <a:pt x="20744" y="3444"/>
                  <a:pt x="20737" y="3473"/>
                </a:cubicBezTo>
              </a:path>
              <a:path w="1563" h="646">
                <a:moveTo>
                  <a:pt x="21258" y="3522"/>
                </a:moveTo>
                <a:cubicBezTo>
                  <a:pt x="21258" y="3480"/>
                  <a:pt x="21226" y="3524"/>
                  <a:pt x="21258" y="3497"/>
                </a:cubicBezTo>
                <a:cubicBezTo>
                  <a:pt x="21286" y="3497"/>
                  <a:pt x="21291" y="3500"/>
                  <a:pt x="21258" y="3522"/>
                </a:cubicBezTo>
              </a:path>
              <a:path w="1563" h="646">
                <a:moveTo>
                  <a:pt x="21456" y="3175"/>
                </a:moveTo>
                <a:cubicBezTo>
                  <a:pt x="21494" y="3204"/>
                  <a:pt x="21507" y="3200"/>
                  <a:pt x="21555" y="3200"/>
                </a:cubicBezTo>
                <a:cubicBezTo>
                  <a:pt x="21596" y="3200"/>
                  <a:pt x="21638" y="3200"/>
                  <a:pt x="21679" y="3200"/>
                </a:cubicBezTo>
                <a:cubicBezTo>
                  <a:pt x="21679" y="3236"/>
                  <a:pt x="21672" y="3272"/>
                  <a:pt x="21654" y="3299"/>
                </a:cubicBezTo>
                <a:cubicBezTo>
                  <a:pt x="21637" y="3325"/>
                  <a:pt x="21563" y="3361"/>
                  <a:pt x="21580" y="3398"/>
                </a:cubicBezTo>
                <a:cubicBezTo>
                  <a:pt x="21600" y="3442"/>
                  <a:pt x="21639" y="3446"/>
                  <a:pt x="21679" y="3473"/>
                </a:cubicBezTo>
                <a:cubicBezTo>
                  <a:pt x="21719" y="3500"/>
                  <a:pt x="21729" y="3486"/>
                  <a:pt x="21729" y="3547"/>
                </a:cubicBezTo>
                <a:cubicBezTo>
                  <a:pt x="21729" y="3583"/>
                  <a:pt x="21707" y="3618"/>
                  <a:pt x="21679" y="3621"/>
                </a:cubicBezTo>
                <a:cubicBezTo>
                  <a:pt x="21638" y="3626"/>
                  <a:pt x="21661" y="3646"/>
                  <a:pt x="21605" y="3646"/>
                </a:cubicBezTo>
                <a:cubicBezTo>
                  <a:pt x="21552" y="3646"/>
                  <a:pt x="21555" y="3614"/>
                  <a:pt x="21555" y="3572"/>
                </a:cubicBezTo>
                <a:cubicBezTo>
                  <a:pt x="21555" y="3540"/>
                  <a:pt x="21576" y="3543"/>
                  <a:pt x="21605" y="3522"/>
                </a:cubicBezTo>
              </a:path>
              <a:path w="1563" h="646">
                <a:moveTo>
                  <a:pt x="21977" y="3076"/>
                </a:moveTo>
                <a:cubicBezTo>
                  <a:pt x="21977" y="3084"/>
                  <a:pt x="21977" y="3093"/>
                  <a:pt x="21977" y="3101"/>
                </a:cubicBezTo>
                <a:cubicBezTo>
                  <a:pt x="22043" y="3101"/>
                  <a:pt x="22109" y="3101"/>
                  <a:pt x="22175" y="3101"/>
                </a:cubicBezTo>
              </a:path>
              <a:path w="1563" h="646">
                <a:moveTo>
                  <a:pt x="22027" y="3101"/>
                </a:moveTo>
                <a:cubicBezTo>
                  <a:pt x="22027" y="3146"/>
                  <a:pt x="22006" y="3160"/>
                  <a:pt x="22002" y="3200"/>
                </a:cubicBezTo>
                <a:cubicBezTo>
                  <a:pt x="21997" y="3241"/>
                  <a:pt x="21977" y="3253"/>
                  <a:pt x="21977" y="3299"/>
                </a:cubicBezTo>
                <a:cubicBezTo>
                  <a:pt x="22015" y="3312"/>
                  <a:pt x="21998" y="3324"/>
                  <a:pt x="22051" y="3324"/>
                </a:cubicBezTo>
                <a:cubicBezTo>
                  <a:pt x="22076" y="3324"/>
                  <a:pt x="22101" y="3324"/>
                  <a:pt x="22126" y="3324"/>
                </a:cubicBezTo>
                <a:cubicBezTo>
                  <a:pt x="22139" y="3362"/>
                  <a:pt x="22151" y="3344"/>
                  <a:pt x="22151" y="3398"/>
                </a:cubicBezTo>
                <a:cubicBezTo>
                  <a:pt x="22151" y="3442"/>
                  <a:pt x="22129" y="3491"/>
                  <a:pt x="22101" y="3522"/>
                </a:cubicBezTo>
                <a:cubicBezTo>
                  <a:pt x="22071" y="3556"/>
                  <a:pt x="22045" y="3547"/>
                  <a:pt x="22002" y="3547"/>
                </a:cubicBezTo>
                <a:cubicBezTo>
                  <a:pt x="21977" y="3547"/>
                  <a:pt x="21952" y="3547"/>
                  <a:pt x="21927" y="3547"/>
                </a:cubicBezTo>
                <a:cubicBezTo>
                  <a:pt x="21917" y="3515"/>
                  <a:pt x="21910" y="3508"/>
                  <a:pt x="21878" y="34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Ink 35"/>
          <p:cNvSpPr/>
          <p:nvPr/>
        </p:nvSpPr>
        <p:spPr>
          <a:xfrm>
            <a:off x="8331120" y="1231920"/>
            <a:ext cx="723960" cy="233280"/>
          </a:xfrm>
          <a:custGeom>
            <a:avLst/>
            <a:gdLst/>
            <a:ahLst/>
            <a:rect l="l" t="t" r="r" b="b"/>
            <a:pathLst>
              <a:path w="2010" h="646">
                <a:moveTo>
                  <a:pt x="23242" y="3547"/>
                </a:moveTo>
                <a:cubicBezTo>
                  <a:pt x="23236" y="3571"/>
                  <a:pt x="23229" y="3625"/>
                  <a:pt x="23217" y="3646"/>
                </a:cubicBezTo>
                <a:cubicBezTo>
                  <a:pt x="23198" y="3680"/>
                  <a:pt x="23159" y="3710"/>
                  <a:pt x="23143" y="3746"/>
                </a:cubicBezTo>
                <a:cubicBezTo>
                  <a:pt x="23143" y="3770"/>
                  <a:pt x="23143" y="3779"/>
                  <a:pt x="23143" y="3795"/>
                </a:cubicBezTo>
                <a:cubicBezTo>
                  <a:pt x="23186" y="3784"/>
                  <a:pt x="23208" y="3755"/>
                  <a:pt x="23242" y="3721"/>
                </a:cubicBezTo>
                <a:cubicBezTo>
                  <a:pt x="23296" y="3667"/>
                  <a:pt x="23336" y="3602"/>
                  <a:pt x="23391" y="3547"/>
                </a:cubicBezTo>
                <a:cubicBezTo>
                  <a:pt x="23429" y="3509"/>
                  <a:pt x="23437" y="3497"/>
                  <a:pt x="23490" y="3497"/>
                </a:cubicBezTo>
                <a:cubicBezTo>
                  <a:pt x="23490" y="3579"/>
                  <a:pt x="23465" y="3571"/>
                  <a:pt x="23440" y="3646"/>
                </a:cubicBezTo>
                <a:cubicBezTo>
                  <a:pt x="23427" y="3685"/>
                  <a:pt x="23417" y="3711"/>
                  <a:pt x="23391" y="3746"/>
                </a:cubicBezTo>
                <a:cubicBezTo>
                  <a:pt x="23441" y="3736"/>
                  <a:pt x="23500" y="3705"/>
                  <a:pt x="23540" y="3671"/>
                </a:cubicBezTo>
                <a:cubicBezTo>
                  <a:pt x="23605" y="3617"/>
                  <a:pt x="23672" y="3573"/>
                  <a:pt x="23738" y="3522"/>
                </a:cubicBezTo>
                <a:cubicBezTo>
                  <a:pt x="23774" y="3494"/>
                  <a:pt x="23819" y="3483"/>
                  <a:pt x="23862" y="3473"/>
                </a:cubicBezTo>
                <a:cubicBezTo>
                  <a:pt x="23862" y="3534"/>
                  <a:pt x="23875" y="3599"/>
                  <a:pt x="23837" y="3646"/>
                </a:cubicBezTo>
                <a:cubicBezTo>
                  <a:pt x="23805" y="3685"/>
                  <a:pt x="23814" y="3732"/>
                  <a:pt x="23788" y="3770"/>
                </a:cubicBezTo>
                <a:cubicBezTo>
                  <a:pt x="23763" y="3807"/>
                  <a:pt x="23742" y="3830"/>
                  <a:pt x="23788" y="3845"/>
                </a:cubicBezTo>
              </a:path>
              <a:path w="2010" h="646">
                <a:moveTo>
                  <a:pt x="23961" y="3770"/>
                </a:moveTo>
                <a:cubicBezTo>
                  <a:pt x="23999" y="3783"/>
                  <a:pt x="23982" y="3795"/>
                  <a:pt x="24036" y="3795"/>
                </a:cubicBezTo>
                <a:cubicBezTo>
                  <a:pt x="24135" y="3795"/>
                  <a:pt x="24104" y="3807"/>
                  <a:pt x="24160" y="3721"/>
                </a:cubicBezTo>
                <a:cubicBezTo>
                  <a:pt x="24186" y="3681"/>
                  <a:pt x="24198" y="3680"/>
                  <a:pt x="24209" y="3646"/>
                </a:cubicBezTo>
                <a:cubicBezTo>
                  <a:pt x="24172" y="3617"/>
                  <a:pt x="24158" y="3621"/>
                  <a:pt x="24110" y="3621"/>
                </a:cubicBezTo>
                <a:cubicBezTo>
                  <a:pt x="24060" y="3621"/>
                  <a:pt x="23999" y="3640"/>
                  <a:pt x="23961" y="3671"/>
                </a:cubicBezTo>
                <a:cubicBezTo>
                  <a:pt x="23929" y="3697"/>
                  <a:pt x="23891" y="3731"/>
                  <a:pt x="23887" y="3770"/>
                </a:cubicBezTo>
                <a:cubicBezTo>
                  <a:pt x="23880" y="3828"/>
                  <a:pt x="23882" y="3848"/>
                  <a:pt x="23912" y="3870"/>
                </a:cubicBezTo>
                <a:cubicBezTo>
                  <a:pt x="23962" y="3907"/>
                  <a:pt x="23988" y="3895"/>
                  <a:pt x="24036" y="3919"/>
                </a:cubicBezTo>
                <a:cubicBezTo>
                  <a:pt x="24097" y="3949"/>
                  <a:pt x="24124" y="3952"/>
                  <a:pt x="24185" y="3919"/>
                </a:cubicBezTo>
                <a:cubicBezTo>
                  <a:pt x="24248" y="3885"/>
                  <a:pt x="24281" y="3897"/>
                  <a:pt x="24333" y="3845"/>
                </a:cubicBezTo>
                <a:cubicBezTo>
                  <a:pt x="24362" y="3816"/>
                  <a:pt x="24374" y="3807"/>
                  <a:pt x="24383" y="3770"/>
                </a:cubicBezTo>
                <a:cubicBezTo>
                  <a:pt x="24383" y="3816"/>
                  <a:pt x="24361" y="3829"/>
                  <a:pt x="24358" y="3870"/>
                </a:cubicBezTo>
                <a:cubicBezTo>
                  <a:pt x="24354" y="3928"/>
                  <a:pt x="24345" y="3944"/>
                  <a:pt x="24333" y="3994"/>
                </a:cubicBezTo>
                <a:cubicBezTo>
                  <a:pt x="24343" y="3955"/>
                  <a:pt x="24381" y="3905"/>
                  <a:pt x="24408" y="3870"/>
                </a:cubicBezTo>
                <a:cubicBezTo>
                  <a:pt x="24441" y="3826"/>
                  <a:pt x="24467" y="3785"/>
                  <a:pt x="24507" y="3746"/>
                </a:cubicBezTo>
                <a:cubicBezTo>
                  <a:pt x="24537" y="3716"/>
                  <a:pt x="24541" y="3721"/>
                  <a:pt x="24581" y="3721"/>
                </a:cubicBezTo>
                <a:cubicBezTo>
                  <a:pt x="24581" y="3778"/>
                  <a:pt x="24571" y="3797"/>
                  <a:pt x="24606" y="3820"/>
                </a:cubicBezTo>
              </a:path>
              <a:path w="2010" h="646">
                <a:moveTo>
                  <a:pt x="24681" y="3845"/>
                </a:moveTo>
                <a:cubicBezTo>
                  <a:pt x="24676" y="3877"/>
                  <a:pt x="24657" y="3977"/>
                  <a:pt x="24631" y="3994"/>
                </a:cubicBezTo>
                <a:cubicBezTo>
                  <a:pt x="24600" y="4015"/>
                  <a:pt x="24606" y="4017"/>
                  <a:pt x="24606" y="4068"/>
                </a:cubicBezTo>
                <a:cubicBezTo>
                  <a:pt x="24631" y="4043"/>
                  <a:pt x="24639" y="4035"/>
                  <a:pt x="24656" y="4018"/>
                </a:cubicBezTo>
              </a:path>
              <a:path w="2010" h="646">
                <a:moveTo>
                  <a:pt x="24879" y="3696"/>
                </a:moveTo>
                <a:cubicBezTo>
                  <a:pt x="24879" y="3688"/>
                  <a:pt x="24879" y="3679"/>
                  <a:pt x="24879" y="3671"/>
                </a:cubicBezTo>
                <a:cubicBezTo>
                  <a:pt x="24922" y="3671"/>
                  <a:pt x="24917" y="3681"/>
                  <a:pt x="24929" y="3646"/>
                </a:cubicBezTo>
                <a:cubicBezTo>
                  <a:pt x="24954" y="3646"/>
                  <a:pt x="24962" y="3646"/>
                  <a:pt x="24978" y="3646"/>
                </a:cubicBezTo>
              </a:path>
              <a:path w="2010" h="646">
                <a:moveTo>
                  <a:pt x="25152" y="3423"/>
                </a:moveTo>
                <a:cubicBezTo>
                  <a:pt x="25118" y="3479"/>
                  <a:pt x="25084" y="3559"/>
                  <a:pt x="25053" y="3621"/>
                </a:cubicBezTo>
                <a:cubicBezTo>
                  <a:pt x="25023" y="3682"/>
                  <a:pt x="25002" y="3759"/>
                  <a:pt x="24978" y="3820"/>
                </a:cubicBezTo>
                <a:cubicBezTo>
                  <a:pt x="24963" y="3860"/>
                  <a:pt x="24924" y="3914"/>
                  <a:pt x="24904" y="3944"/>
                </a:cubicBezTo>
                <a:cubicBezTo>
                  <a:pt x="24866" y="4000"/>
                  <a:pt x="24897" y="3983"/>
                  <a:pt x="24854" y="3969"/>
                </a:cubicBezTo>
              </a:path>
              <a:path w="2010" h="646">
                <a:moveTo>
                  <a:pt x="24829" y="3770"/>
                </a:moveTo>
                <a:cubicBezTo>
                  <a:pt x="24882" y="3708"/>
                  <a:pt x="24904" y="3707"/>
                  <a:pt x="24978" y="3746"/>
                </a:cubicBezTo>
                <a:cubicBezTo>
                  <a:pt x="25019" y="3768"/>
                  <a:pt x="25073" y="3758"/>
                  <a:pt x="25102" y="3795"/>
                </a:cubicBezTo>
                <a:cubicBezTo>
                  <a:pt x="25102" y="3830"/>
                  <a:pt x="25107" y="3848"/>
                  <a:pt x="25127" y="387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36"/>
          <p:cNvSpPr/>
          <p:nvPr/>
        </p:nvSpPr>
        <p:spPr>
          <a:xfrm>
            <a:off x="7634160" y="1608120"/>
            <a:ext cx="162000" cy="142920"/>
          </a:xfrm>
          <a:custGeom>
            <a:avLst/>
            <a:gdLst/>
            <a:ahLst/>
            <a:rect l="l" t="t" r="r" b="b"/>
            <a:pathLst>
              <a:path w="447" h="398">
                <a:moveTo>
                  <a:pt x="21307" y="4539"/>
                </a:moveTo>
                <a:cubicBezTo>
                  <a:pt x="21281" y="4566"/>
                  <a:pt x="21222" y="4586"/>
                  <a:pt x="21208" y="4614"/>
                </a:cubicBezTo>
                <a:cubicBezTo>
                  <a:pt x="21190" y="4649"/>
                  <a:pt x="21194" y="4793"/>
                  <a:pt x="21233" y="4812"/>
                </a:cubicBezTo>
                <a:cubicBezTo>
                  <a:pt x="21265" y="4828"/>
                  <a:pt x="21292" y="4837"/>
                  <a:pt x="21332" y="4837"/>
                </a:cubicBezTo>
                <a:cubicBezTo>
                  <a:pt x="21369" y="4837"/>
                  <a:pt x="21411" y="4793"/>
                  <a:pt x="21431" y="4762"/>
                </a:cubicBezTo>
                <a:cubicBezTo>
                  <a:pt x="21455" y="4726"/>
                  <a:pt x="21492" y="4655"/>
                  <a:pt x="21506" y="4614"/>
                </a:cubicBezTo>
                <a:cubicBezTo>
                  <a:pt x="21522" y="4566"/>
                  <a:pt x="21503" y="4530"/>
                  <a:pt x="21481" y="4514"/>
                </a:cubicBezTo>
                <a:cubicBezTo>
                  <a:pt x="21454" y="4495"/>
                  <a:pt x="21425" y="4441"/>
                  <a:pt x="21382" y="4465"/>
                </a:cubicBezTo>
                <a:cubicBezTo>
                  <a:pt x="21353" y="4481"/>
                  <a:pt x="21310" y="4518"/>
                  <a:pt x="21307" y="4539"/>
                </a:cubicBezTo>
                <a:cubicBezTo>
                  <a:pt x="21307" y="4572"/>
                  <a:pt x="21307" y="4589"/>
                  <a:pt x="21307" y="4614"/>
                </a:cubicBezTo>
              </a:path>
              <a:path w="447" h="398">
                <a:moveTo>
                  <a:pt x="21605" y="4837"/>
                </a:moveTo>
                <a:cubicBezTo>
                  <a:pt x="21605" y="4771"/>
                  <a:pt x="21585" y="4885"/>
                  <a:pt x="21630" y="4862"/>
                </a:cubicBezTo>
                <a:cubicBezTo>
                  <a:pt x="21657" y="4834"/>
                  <a:pt x="21661" y="4825"/>
                  <a:pt x="21605" y="483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37"/>
          <p:cNvSpPr/>
          <p:nvPr/>
        </p:nvSpPr>
        <p:spPr>
          <a:xfrm>
            <a:off x="7885080" y="1670040"/>
            <a:ext cx="276120" cy="214200"/>
          </a:xfrm>
          <a:custGeom>
            <a:avLst/>
            <a:gdLst/>
            <a:ahLst/>
            <a:rect l="l" t="t" r="r" b="b"/>
            <a:pathLst>
              <a:path w="769" h="597">
                <a:moveTo>
                  <a:pt x="22101" y="4638"/>
                </a:moveTo>
                <a:cubicBezTo>
                  <a:pt x="22076" y="4657"/>
                  <a:pt x="22040" y="4704"/>
                  <a:pt x="22027" y="4713"/>
                </a:cubicBezTo>
                <a:cubicBezTo>
                  <a:pt x="21981" y="4744"/>
                  <a:pt x="21982" y="4762"/>
                  <a:pt x="21952" y="4812"/>
                </a:cubicBezTo>
                <a:cubicBezTo>
                  <a:pt x="21928" y="4851"/>
                  <a:pt x="21908" y="4885"/>
                  <a:pt x="21903" y="4936"/>
                </a:cubicBezTo>
                <a:cubicBezTo>
                  <a:pt x="21897" y="5001"/>
                  <a:pt x="21912" y="5054"/>
                  <a:pt x="21927" y="5085"/>
                </a:cubicBezTo>
                <a:cubicBezTo>
                  <a:pt x="21946" y="5124"/>
                  <a:pt x="21972" y="5110"/>
                  <a:pt x="22027" y="5110"/>
                </a:cubicBezTo>
                <a:cubicBezTo>
                  <a:pt x="22090" y="5110"/>
                  <a:pt x="22070" y="5081"/>
                  <a:pt x="22101" y="5060"/>
                </a:cubicBezTo>
                <a:cubicBezTo>
                  <a:pt x="22141" y="5033"/>
                  <a:pt x="22151" y="5046"/>
                  <a:pt x="22151" y="4986"/>
                </a:cubicBezTo>
                <a:cubicBezTo>
                  <a:pt x="22151" y="4940"/>
                  <a:pt x="22153" y="4917"/>
                  <a:pt x="22101" y="4911"/>
                </a:cubicBezTo>
                <a:cubicBezTo>
                  <a:pt x="22062" y="4907"/>
                  <a:pt x="21972" y="4896"/>
                  <a:pt x="21952" y="4936"/>
                </a:cubicBezTo>
                <a:cubicBezTo>
                  <a:pt x="21952" y="4961"/>
                  <a:pt x="21952" y="4969"/>
                  <a:pt x="21977" y="4961"/>
                </a:cubicBezTo>
              </a:path>
              <a:path w="769" h="597">
                <a:moveTo>
                  <a:pt x="22473" y="4762"/>
                </a:moveTo>
                <a:cubicBezTo>
                  <a:pt x="22473" y="4754"/>
                  <a:pt x="22473" y="4746"/>
                  <a:pt x="22473" y="4738"/>
                </a:cubicBezTo>
                <a:cubicBezTo>
                  <a:pt x="22511" y="4775"/>
                  <a:pt x="22520" y="4787"/>
                  <a:pt x="22572" y="4787"/>
                </a:cubicBezTo>
                <a:cubicBezTo>
                  <a:pt x="22580" y="4787"/>
                  <a:pt x="22589" y="4787"/>
                  <a:pt x="22597" y="4787"/>
                </a:cubicBezTo>
                <a:cubicBezTo>
                  <a:pt x="22609" y="4824"/>
                  <a:pt x="22654" y="4811"/>
                  <a:pt x="22671" y="4837"/>
                </a:cubicBezTo>
                <a:cubicBezTo>
                  <a:pt x="22671" y="4845"/>
                  <a:pt x="22671" y="4854"/>
                  <a:pt x="22671" y="4862"/>
                </a:cubicBezTo>
              </a:path>
              <a:path w="769" h="597">
                <a:moveTo>
                  <a:pt x="22498" y="4812"/>
                </a:moveTo>
                <a:cubicBezTo>
                  <a:pt x="22458" y="4822"/>
                  <a:pt x="22439" y="4854"/>
                  <a:pt x="22423" y="4862"/>
                </a:cubicBezTo>
                <a:cubicBezTo>
                  <a:pt x="22413" y="4867"/>
                  <a:pt x="22371" y="4938"/>
                  <a:pt x="22399" y="4961"/>
                </a:cubicBezTo>
                <a:cubicBezTo>
                  <a:pt x="22413" y="4973"/>
                  <a:pt x="22444" y="5001"/>
                  <a:pt x="22473" y="5011"/>
                </a:cubicBezTo>
                <a:cubicBezTo>
                  <a:pt x="22508" y="5023"/>
                  <a:pt x="22538" y="5049"/>
                  <a:pt x="22572" y="5060"/>
                </a:cubicBezTo>
                <a:cubicBezTo>
                  <a:pt x="22610" y="5073"/>
                  <a:pt x="22597" y="5090"/>
                  <a:pt x="22597" y="5135"/>
                </a:cubicBezTo>
                <a:cubicBezTo>
                  <a:pt x="22597" y="5195"/>
                  <a:pt x="22586" y="5182"/>
                  <a:pt x="22547" y="5209"/>
                </a:cubicBezTo>
                <a:cubicBezTo>
                  <a:pt x="22508" y="5236"/>
                  <a:pt x="22498" y="5234"/>
                  <a:pt x="22448" y="5234"/>
                </a:cubicBezTo>
                <a:cubicBezTo>
                  <a:pt x="22407" y="5234"/>
                  <a:pt x="22383" y="5182"/>
                  <a:pt x="22349" y="515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38"/>
          <p:cNvSpPr/>
          <p:nvPr/>
        </p:nvSpPr>
        <p:spPr>
          <a:xfrm>
            <a:off x="7367760" y="2089080"/>
            <a:ext cx="598320" cy="233280"/>
          </a:xfrm>
          <a:custGeom>
            <a:avLst/>
            <a:gdLst/>
            <a:ahLst/>
            <a:rect l="l" t="t" r="r" b="b"/>
            <a:pathLst>
              <a:path w="1663" h="646">
                <a:moveTo>
                  <a:pt x="20588" y="5854"/>
                </a:moveTo>
                <a:cubicBezTo>
                  <a:pt x="20550" y="5864"/>
                  <a:pt x="20520" y="5877"/>
                  <a:pt x="20489" y="5904"/>
                </a:cubicBezTo>
                <a:cubicBezTo>
                  <a:pt x="20455" y="5934"/>
                  <a:pt x="20464" y="5960"/>
                  <a:pt x="20464" y="6003"/>
                </a:cubicBezTo>
                <a:cubicBezTo>
                  <a:pt x="20464" y="6061"/>
                  <a:pt x="20451" y="6109"/>
                  <a:pt x="20489" y="6152"/>
                </a:cubicBezTo>
                <a:cubicBezTo>
                  <a:pt x="20532" y="6200"/>
                  <a:pt x="20550" y="6221"/>
                  <a:pt x="20613" y="6226"/>
                </a:cubicBezTo>
                <a:cubicBezTo>
                  <a:pt x="20684" y="6232"/>
                  <a:pt x="20755" y="6244"/>
                  <a:pt x="20786" y="6176"/>
                </a:cubicBezTo>
                <a:cubicBezTo>
                  <a:pt x="20803" y="6139"/>
                  <a:pt x="20833" y="6098"/>
                  <a:pt x="20836" y="6052"/>
                </a:cubicBezTo>
                <a:cubicBezTo>
                  <a:pt x="20840" y="5994"/>
                  <a:pt x="20841" y="5953"/>
                  <a:pt x="20811" y="5928"/>
                </a:cubicBezTo>
                <a:cubicBezTo>
                  <a:pt x="20759" y="5884"/>
                  <a:pt x="20757" y="5860"/>
                  <a:pt x="20687" y="5854"/>
                </a:cubicBezTo>
                <a:cubicBezTo>
                  <a:pt x="20643" y="5850"/>
                  <a:pt x="20621" y="5850"/>
                  <a:pt x="20588" y="5879"/>
                </a:cubicBezTo>
                <a:cubicBezTo>
                  <a:pt x="20547" y="5915"/>
                  <a:pt x="20559" y="5959"/>
                  <a:pt x="20588" y="6003"/>
                </a:cubicBezTo>
                <a:cubicBezTo>
                  <a:pt x="20596" y="6011"/>
                  <a:pt x="20605" y="6020"/>
                  <a:pt x="20613" y="6028"/>
                </a:cubicBezTo>
              </a:path>
              <a:path w="1663" h="646">
                <a:moveTo>
                  <a:pt x="21059" y="6077"/>
                </a:moveTo>
                <a:cubicBezTo>
                  <a:pt x="21084" y="6077"/>
                  <a:pt x="21092" y="6077"/>
                  <a:pt x="21109" y="6077"/>
                </a:cubicBezTo>
              </a:path>
              <a:path w="1663" h="646">
                <a:moveTo>
                  <a:pt x="21382" y="5829"/>
                </a:moveTo>
                <a:cubicBezTo>
                  <a:pt x="21382" y="5926"/>
                  <a:pt x="21374" y="6018"/>
                  <a:pt x="21357" y="6102"/>
                </a:cubicBezTo>
                <a:cubicBezTo>
                  <a:pt x="21346" y="6157"/>
                  <a:pt x="21346" y="6203"/>
                  <a:pt x="21332" y="6251"/>
                </a:cubicBezTo>
                <a:cubicBezTo>
                  <a:pt x="21314" y="6311"/>
                  <a:pt x="21374" y="6257"/>
                  <a:pt x="21382" y="6251"/>
                </a:cubicBezTo>
              </a:path>
              <a:path w="1663" h="646">
                <a:moveTo>
                  <a:pt x="21729" y="5804"/>
                </a:moveTo>
                <a:cubicBezTo>
                  <a:pt x="21729" y="5902"/>
                  <a:pt x="21725" y="5985"/>
                  <a:pt x="21704" y="6077"/>
                </a:cubicBezTo>
                <a:cubicBezTo>
                  <a:pt x="21694" y="6119"/>
                  <a:pt x="21683" y="6163"/>
                  <a:pt x="21679" y="6201"/>
                </a:cubicBezTo>
                <a:cubicBezTo>
                  <a:pt x="21676" y="6225"/>
                  <a:pt x="21679" y="6252"/>
                  <a:pt x="21679" y="6276"/>
                </a:cubicBezTo>
                <a:cubicBezTo>
                  <a:pt x="21716" y="6288"/>
                  <a:pt x="21701" y="6300"/>
                  <a:pt x="21754" y="6300"/>
                </a:cubicBezTo>
                <a:cubicBezTo>
                  <a:pt x="21799" y="6300"/>
                  <a:pt x="21813" y="6279"/>
                  <a:pt x="21853" y="6276"/>
                </a:cubicBezTo>
                <a:cubicBezTo>
                  <a:pt x="21907" y="6272"/>
                  <a:pt x="22073" y="6308"/>
                  <a:pt x="22101" y="6251"/>
                </a:cubicBezTo>
                <a:cubicBezTo>
                  <a:pt x="22101" y="6226"/>
                  <a:pt x="22101" y="6218"/>
                  <a:pt x="22126" y="6226"/>
                </a:cubicBezTo>
              </a:path>
              <a:path w="1663" h="646">
                <a:moveTo>
                  <a:pt x="21952" y="6077"/>
                </a:moveTo>
                <a:cubicBezTo>
                  <a:pt x="21952" y="6175"/>
                  <a:pt x="21955" y="6266"/>
                  <a:pt x="21927" y="6350"/>
                </a:cubicBezTo>
                <a:cubicBezTo>
                  <a:pt x="21916" y="6383"/>
                  <a:pt x="21911" y="6417"/>
                  <a:pt x="21903" y="644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39"/>
          <p:cNvSpPr/>
          <p:nvPr/>
        </p:nvSpPr>
        <p:spPr>
          <a:xfrm>
            <a:off x="7081920" y="289404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19968" y="8111"/>
                </a:moveTo>
                <a:cubicBezTo>
                  <a:pt x="19968" y="8103"/>
                  <a:pt x="19968" y="8094"/>
                  <a:pt x="19968" y="8086"/>
                </a:cubicBezTo>
                <a:cubicBezTo>
                  <a:pt x="19944" y="8141"/>
                  <a:pt x="19929" y="8186"/>
                  <a:pt x="19893" y="8235"/>
                </a:cubicBezTo>
                <a:cubicBezTo>
                  <a:pt x="19866" y="8271"/>
                  <a:pt x="19847" y="8303"/>
                  <a:pt x="19819" y="8334"/>
                </a:cubicBezTo>
                <a:cubicBezTo>
                  <a:pt x="19791" y="8365"/>
                  <a:pt x="19778" y="8371"/>
                  <a:pt x="19769" y="8409"/>
                </a:cubicBezTo>
                <a:cubicBezTo>
                  <a:pt x="19730" y="8422"/>
                  <a:pt x="19759" y="8421"/>
                  <a:pt x="19720" y="8434"/>
                </a:cubicBezTo>
              </a:path>
              <a:path w="324" h="398">
                <a:moveTo>
                  <a:pt x="19745" y="8111"/>
                </a:moveTo>
                <a:cubicBezTo>
                  <a:pt x="19745" y="8164"/>
                  <a:pt x="19735" y="8196"/>
                  <a:pt x="19769" y="8235"/>
                </a:cubicBezTo>
                <a:cubicBezTo>
                  <a:pt x="19792" y="8258"/>
                  <a:pt x="19800" y="8262"/>
                  <a:pt x="19794" y="8285"/>
                </a:cubicBezTo>
                <a:cubicBezTo>
                  <a:pt x="19838" y="8296"/>
                  <a:pt x="19868" y="8329"/>
                  <a:pt x="19918" y="8334"/>
                </a:cubicBezTo>
                <a:cubicBezTo>
                  <a:pt x="19961" y="8338"/>
                  <a:pt x="19981" y="8343"/>
                  <a:pt x="19993" y="8310"/>
                </a:cubicBezTo>
              </a:path>
              <a:path w="324" h="398">
                <a:moveTo>
                  <a:pt x="19918" y="8037"/>
                </a:moveTo>
                <a:cubicBezTo>
                  <a:pt x="19910" y="8037"/>
                  <a:pt x="19901" y="8037"/>
                  <a:pt x="19893" y="8037"/>
                </a:cubicBezTo>
                <a:cubicBezTo>
                  <a:pt x="19893" y="8099"/>
                  <a:pt x="19879" y="8139"/>
                  <a:pt x="19869" y="8186"/>
                </a:cubicBezTo>
                <a:cubicBezTo>
                  <a:pt x="19862" y="8218"/>
                  <a:pt x="19860" y="8281"/>
                  <a:pt x="19844" y="8310"/>
                </a:cubicBezTo>
                <a:cubicBezTo>
                  <a:pt x="19821" y="8332"/>
                  <a:pt x="19813" y="8337"/>
                  <a:pt x="19819" y="8359"/>
                </a:cubicBezTo>
                <a:cubicBezTo>
                  <a:pt x="19781" y="8372"/>
                  <a:pt x="19798" y="8384"/>
                  <a:pt x="19745" y="8384"/>
                </a:cubicBezTo>
                <a:cubicBezTo>
                  <a:pt x="19737" y="8384"/>
                  <a:pt x="19728" y="8384"/>
                  <a:pt x="19720" y="8384"/>
                </a:cubicBezTo>
              </a:path>
              <a:path w="324" h="398">
                <a:moveTo>
                  <a:pt x="19670" y="8260"/>
                </a:moveTo>
                <a:cubicBezTo>
                  <a:pt x="19730" y="8260"/>
                  <a:pt x="19769" y="8270"/>
                  <a:pt x="19819" y="8285"/>
                </a:cubicBezTo>
                <a:cubicBezTo>
                  <a:pt x="19853" y="8295"/>
                  <a:pt x="19907" y="8285"/>
                  <a:pt x="19943" y="8285"/>
                </a:cubicBezTo>
                <a:cubicBezTo>
                  <a:pt x="19955" y="8320"/>
                  <a:pt x="19950" y="8310"/>
                  <a:pt x="19993" y="831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40"/>
          <p:cNvSpPr/>
          <p:nvPr/>
        </p:nvSpPr>
        <p:spPr>
          <a:xfrm>
            <a:off x="7348680" y="2751120"/>
            <a:ext cx="26820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20563" y="7714"/>
                </a:moveTo>
                <a:cubicBezTo>
                  <a:pt x="20520" y="7725"/>
                  <a:pt x="20503" y="7733"/>
                  <a:pt x="20489" y="7764"/>
                </a:cubicBezTo>
                <a:cubicBezTo>
                  <a:pt x="20465" y="7816"/>
                  <a:pt x="20457" y="7864"/>
                  <a:pt x="20439" y="7913"/>
                </a:cubicBezTo>
                <a:cubicBezTo>
                  <a:pt x="20420" y="7966"/>
                  <a:pt x="20414" y="7982"/>
                  <a:pt x="20414" y="8037"/>
                </a:cubicBezTo>
                <a:cubicBezTo>
                  <a:pt x="20414" y="8114"/>
                  <a:pt x="20441" y="8103"/>
                  <a:pt x="20489" y="8136"/>
                </a:cubicBezTo>
                <a:cubicBezTo>
                  <a:pt x="20557" y="8182"/>
                  <a:pt x="20567" y="8149"/>
                  <a:pt x="20638" y="8136"/>
                </a:cubicBezTo>
                <a:cubicBezTo>
                  <a:pt x="20718" y="8122"/>
                  <a:pt x="20756" y="8097"/>
                  <a:pt x="20811" y="8037"/>
                </a:cubicBezTo>
                <a:cubicBezTo>
                  <a:pt x="20845" y="8001"/>
                  <a:pt x="20877" y="7938"/>
                  <a:pt x="20886" y="7888"/>
                </a:cubicBezTo>
                <a:cubicBezTo>
                  <a:pt x="20894" y="7845"/>
                  <a:pt x="20860" y="7752"/>
                  <a:pt x="20836" y="7714"/>
                </a:cubicBezTo>
                <a:cubicBezTo>
                  <a:pt x="20817" y="7683"/>
                  <a:pt x="20743" y="7650"/>
                  <a:pt x="20712" y="7640"/>
                </a:cubicBezTo>
                <a:cubicBezTo>
                  <a:pt x="20681" y="7630"/>
                  <a:pt x="20633" y="7652"/>
                  <a:pt x="20613" y="7665"/>
                </a:cubicBezTo>
                <a:cubicBezTo>
                  <a:pt x="20553" y="7704"/>
                  <a:pt x="20563" y="7748"/>
                  <a:pt x="20563" y="7813"/>
                </a:cubicBezTo>
                <a:cubicBezTo>
                  <a:pt x="20563" y="7855"/>
                  <a:pt x="20583" y="7894"/>
                  <a:pt x="20588" y="7938"/>
                </a:cubicBezTo>
              </a:path>
              <a:path w="745" h="522">
                <a:moveTo>
                  <a:pt x="21134" y="7938"/>
                </a:moveTo>
                <a:cubicBezTo>
                  <a:pt x="21134" y="7979"/>
                  <a:pt x="21124" y="7975"/>
                  <a:pt x="21158" y="798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41"/>
          <p:cNvSpPr/>
          <p:nvPr/>
        </p:nvSpPr>
        <p:spPr>
          <a:xfrm>
            <a:off x="7750080" y="275904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21580" y="7665"/>
                </a:moveTo>
                <a:cubicBezTo>
                  <a:pt x="21580" y="7727"/>
                  <a:pt x="21570" y="7755"/>
                  <a:pt x="21555" y="7813"/>
                </a:cubicBezTo>
                <a:cubicBezTo>
                  <a:pt x="21545" y="7852"/>
                  <a:pt x="21534" y="7899"/>
                  <a:pt x="21530" y="7938"/>
                </a:cubicBezTo>
                <a:cubicBezTo>
                  <a:pt x="21527" y="7970"/>
                  <a:pt x="21530" y="8005"/>
                  <a:pt x="21530" y="8037"/>
                </a:cubicBezTo>
                <a:cubicBezTo>
                  <a:pt x="21553" y="8014"/>
                  <a:pt x="21557" y="8006"/>
                  <a:pt x="21580" y="801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42"/>
          <p:cNvSpPr/>
          <p:nvPr/>
        </p:nvSpPr>
        <p:spPr>
          <a:xfrm>
            <a:off x="7893000" y="2732040"/>
            <a:ext cx="295200" cy="206280"/>
          </a:xfrm>
          <a:custGeom>
            <a:avLst/>
            <a:gdLst/>
            <a:ahLst/>
            <a:rect l="l" t="t" r="r" b="b"/>
            <a:pathLst>
              <a:path w="820" h="572">
                <a:moveTo>
                  <a:pt x="21952" y="7689"/>
                </a:moveTo>
                <a:cubicBezTo>
                  <a:pt x="21952" y="7665"/>
                  <a:pt x="21952" y="7656"/>
                  <a:pt x="21952" y="7640"/>
                </a:cubicBezTo>
                <a:cubicBezTo>
                  <a:pt x="22015" y="7640"/>
                  <a:pt x="22049" y="7648"/>
                  <a:pt x="22101" y="7665"/>
                </a:cubicBezTo>
                <a:cubicBezTo>
                  <a:pt x="22123" y="7672"/>
                  <a:pt x="22146" y="7703"/>
                  <a:pt x="22126" y="7739"/>
                </a:cubicBezTo>
                <a:cubicBezTo>
                  <a:pt x="22109" y="7770"/>
                  <a:pt x="22076" y="7784"/>
                  <a:pt x="22051" y="7813"/>
                </a:cubicBezTo>
                <a:cubicBezTo>
                  <a:pt x="22029" y="7838"/>
                  <a:pt x="21979" y="7871"/>
                  <a:pt x="22002" y="7913"/>
                </a:cubicBezTo>
                <a:cubicBezTo>
                  <a:pt x="22021" y="7946"/>
                  <a:pt x="22057" y="7948"/>
                  <a:pt x="22076" y="7962"/>
                </a:cubicBezTo>
                <a:cubicBezTo>
                  <a:pt x="22110" y="7987"/>
                  <a:pt x="22147" y="8023"/>
                  <a:pt x="22151" y="8062"/>
                </a:cubicBezTo>
                <a:cubicBezTo>
                  <a:pt x="22158" y="8121"/>
                  <a:pt x="22137" y="8112"/>
                  <a:pt x="22101" y="8136"/>
                </a:cubicBezTo>
                <a:cubicBezTo>
                  <a:pt x="22057" y="8165"/>
                  <a:pt x="22035" y="8161"/>
                  <a:pt x="21977" y="8161"/>
                </a:cubicBezTo>
                <a:cubicBezTo>
                  <a:pt x="21905" y="8161"/>
                  <a:pt x="21936" y="8158"/>
                  <a:pt x="21952" y="8111"/>
                </a:cubicBezTo>
                <a:cubicBezTo>
                  <a:pt x="21952" y="8103"/>
                  <a:pt x="21952" y="8094"/>
                  <a:pt x="21952" y="8086"/>
                </a:cubicBezTo>
              </a:path>
              <a:path w="820" h="572">
                <a:moveTo>
                  <a:pt x="22523" y="7590"/>
                </a:moveTo>
                <a:cubicBezTo>
                  <a:pt x="22597" y="7590"/>
                  <a:pt x="22672" y="7590"/>
                  <a:pt x="22746" y="7590"/>
                </a:cubicBezTo>
              </a:path>
              <a:path w="820" h="572">
                <a:moveTo>
                  <a:pt x="22498" y="7689"/>
                </a:moveTo>
                <a:cubicBezTo>
                  <a:pt x="22485" y="7727"/>
                  <a:pt x="22473" y="7710"/>
                  <a:pt x="22473" y="7764"/>
                </a:cubicBezTo>
                <a:cubicBezTo>
                  <a:pt x="22473" y="7792"/>
                  <a:pt x="22471" y="7803"/>
                  <a:pt x="22448" y="7813"/>
                </a:cubicBezTo>
                <a:cubicBezTo>
                  <a:pt x="22486" y="7826"/>
                  <a:pt x="22469" y="7838"/>
                  <a:pt x="22523" y="7838"/>
                </a:cubicBezTo>
                <a:cubicBezTo>
                  <a:pt x="22566" y="7838"/>
                  <a:pt x="22585" y="7876"/>
                  <a:pt x="22622" y="7888"/>
                </a:cubicBezTo>
                <a:cubicBezTo>
                  <a:pt x="22647" y="7888"/>
                  <a:pt x="22655" y="7888"/>
                  <a:pt x="22671" y="7888"/>
                </a:cubicBezTo>
                <a:cubicBezTo>
                  <a:pt x="22671" y="7939"/>
                  <a:pt x="22682" y="7946"/>
                  <a:pt x="22696" y="7987"/>
                </a:cubicBezTo>
                <a:cubicBezTo>
                  <a:pt x="22709" y="8025"/>
                  <a:pt x="22694" y="8060"/>
                  <a:pt x="22671" y="8086"/>
                </a:cubicBezTo>
                <a:cubicBezTo>
                  <a:pt x="22636" y="8126"/>
                  <a:pt x="22624" y="8136"/>
                  <a:pt x="22572" y="8136"/>
                </a:cubicBezTo>
                <a:cubicBezTo>
                  <a:pt x="22531" y="8136"/>
                  <a:pt x="22445" y="8154"/>
                  <a:pt x="22423" y="8111"/>
                </a:cubicBezTo>
                <a:cubicBezTo>
                  <a:pt x="22423" y="8086"/>
                  <a:pt x="22423" y="8078"/>
                  <a:pt x="22399" y="808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43"/>
          <p:cNvSpPr/>
          <p:nvPr/>
        </p:nvSpPr>
        <p:spPr>
          <a:xfrm>
            <a:off x="7375680" y="3303720"/>
            <a:ext cx="152280" cy="18864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20662" y="9178"/>
                </a:moveTo>
                <a:cubicBezTo>
                  <a:pt x="20638" y="9184"/>
                  <a:pt x="20593" y="9217"/>
                  <a:pt x="20588" y="9227"/>
                </a:cubicBezTo>
                <a:cubicBezTo>
                  <a:pt x="20574" y="9254"/>
                  <a:pt x="20548" y="9298"/>
                  <a:pt x="20538" y="9327"/>
                </a:cubicBezTo>
                <a:cubicBezTo>
                  <a:pt x="20526" y="9362"/>
                  <a:pt x="20529" y="9419"/>
                  <a:pt x="20513" y="9451"/>
                </a:cubicBezTo>
                <a:cubicBezTo>
                  <a:pt x="20496" y="9486"/>
                  <a:pt x="20467" y="9553"/>
                  <a:pt x="20489" y="9599"/>
                </a:cubicBezTo>
                <a:cubicBezTo>
                  <a:pt x="20508" y="9639"/>
                  <a:pt x="20547" y="9685"/>
                  <a:pt x="20588" y="9699"/>
                </a:cubicBezTo>
                <a:cubicBezTo>
                  <a:pt x="20647" y="9719"/>
                  <a:pt x="20716" y="9690"/>
                  <a:pt x="20762" y="9674"/>
                </a:cubicBezTo>
                <a:cubicBezTo>
                  <a:pt x="20798" y="9662"/>
                  <a:pt x="20837" y="9636"/>
                  <a:pt x="20861" y="9599"/>
                </a:cubicBezTo>
                <a:cubicBezTo>
                  <a:pt x="20885" y="9562"/>
                  <a:pt x="20922" y="9441"/>
                  <a:pt x="20910" y="9401"/>
                </a:cubicBezTo>
                <a:cubicBezTo>
                  <a:pt x="20897" y="9356"/>
                  <a:pt x="20867" y="9347"/>
                  <a:pt x="20836" y="9327"/>
                </a:cubicBezTo>
                <a:cubicBezTo>
                  <a:pt x="20796" y="9300"/>
                  <a:pt x="20786" y="9258"/>
                  <a:pt x="20737" y="9252"/>
                </a:cubicBezTo>
                <a:cubicBezTo>
                  <a:pt x="20681" y="9246"/>
                  <a:pt x="20636" y="9247"/>
                  <a:pt x="20613" y="9277"/>
                </a:cubicBezTo>
                <a:cubicBezTo>
                  <a:pt x="20581" y="9319"/>
                  <a:pt x="20588" y="9345"/>
                  <a:pt x="20588" y="9401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Ink 44"/>
          <p:cNvSpPr/>
          <p:nvPr/>
        </p:nvSpPr>
        <p:spPr>
          <a:xfrm>
            <a:off x="7626240" y="3438360"/>
            <a:ext cx="17640" cy="17640"/>
          </a:xfrm>
          <a:custGeom>
            <a:avLst/>
            <a:gdLst/>
            <a:ahLst/>
            <a:rect l="l" t="t" r="r" b="b"/>
            <a:pathLst>
              <a:path w="51" h="50">
                <a:moveTo>
                  <a:pt x="21208" y="9550"/>
                </a:moveTo>
                <a:cubicBezTo>
                  <a:pt x="21178" y="9560"/>
                  <a:pt x="21167" y="9581"/>
                  <a:pt x="21183" y="9575"/>
                </a:cubicBezTo>
                <a:cubicBezTo>
                  <a:pt x="21214" y="9563"/>
                  <a:pt x="21251" y="9571"/>
                  <a:pt x="21208" y="955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nk 45"/>
          <p:cNvSpPr/>
          <p:nvPr/>
        </p:nvSpPr>
        <p:spPr>
          <a:xfrm>
            <a:off x="7804080" y="3303720"/>
            <a:ext cx="36720" cy="144360"/>
          </a:xfrm>
          <a:custGeom>
            <a:avLst/>
            <a:gdLst/>
            <a:ahLst/>
            <a:rect l="l" t="t" r="r" b="b"/>
            <a:pathLst>
              <a:path w="101" h="398">
                <a:moveTo>
                  <a:pt x="21754" y="9178"/>
                </a:moveTo>
                <a:cubicBezTo>
                  <a:pt x="21732" y="9214"/>
                  <a:pt x="21717" y="9263"/>
                  <a:pt x="21704" y="9302"/>
                </a:cubicBezTo>
                <a:cubicBezTo>
                  <a:pt x="21689" y="9347"/>
                  <a:pt x="21692" y="9409"/>
                  <a:pt x="21679" y="9451"/>
                </a:cubicBezTo>
                <a:cubicBezTo>
                  <a:pt x="21669" y="9485"/>
                  <a:pt x="21679" y="9539"/>
                  <a:pt x="21679" y="9575"/>
                </a:cubicBezTo>
                <a:cubicBezTo>
                  <a:pt x="21724" y="9575"/>
                  <a:pt x="21740" y="9560"/>
                  <a:pt x="21779" y="955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46"/>
          <p:cNvSpPr/>
          <p:nvPr/>
        </p:nvSpPr>
        <p:spPr>
          <a:xfrm>
            <a:off x="7966080" y="3303720"/>
            <a:ext cx="285840" cy="196560"/>
          </a:xfrm>
          <a:custGeom>
            <a:avLst/>
            <a:gdLst/>
            <a:ahLst/>
            <a:rect l="l" t="t" r="r" b="b"/>
            <a:pathLst>
              <a:path w="795" h="546">
                <a:moveTo>
                  <a:pt x="22299" y="9178"/>
                </a:moveTo>
                <a:cubicBezTo>
                  <a:pt x="22259" y="9178"/>
                  <a:pt x="22219" y="9184"/>
                  <a:pt x="22200" y="9227"/>
                </a:cubicBezTo>
                <a:cubicBezTo>
                  <a:pt x="22182" y="9267"/>
                  <a:pt x="22140" y="9310"/>
                  <a:pt x="22126" y="9351"/>
                </a:cubicBezTo>
                <a:cubicBezTo>
                  <a:pt x="22106" y="9411"/>
                  <a:pt x="22113" y="9580"/>
                  <a:pt x="22151" y="9624"/>
                </a:cubicBezTo>
                <a:cubicBezTo>
                  <a:pt x="22188" y="9666"/>
                  <a:pt x="22165" y="9674"/>
                  <a:pt x="22225" y="9674"/>
                </a:cubicBezTo>
                <a:cubicBezTo>
                  <a:pt x="22283" y="9674"/>
                  <a:pt x="22295" y="9661"/>
                  <a:pt x="22324" y="9624"/>
                </a:cubicBezTo>
                <a:cubicBezTo>
                  <a:pt x="22348" y="9593"/>
                  <a:pt x="22370" y="9564"/>
                  <a:pt x="22374" y="9525"/>
                </a:cubicBezTo>
                <a:cubicBezTo>
                  <a:pt x="22380" y="9474"/>
                  <a:pt x="22328" y="9477"/>
                  <a:pt x="22299" y="9451"/>
                </a:cubicBezTo>
                <a:cubicBezTo>
                  <a:pt x="22264" y="9420"/>
                  <a:pt x="22246" y="9426"/>
                  <a:pt x="22200" y="9426"/>
                </a:cubicBezTo>
                <a:cubicBezTo>
                  <a:pt x="22181" y="9426"/>
                  <a:pt x="22108" y="9440"/>
                  <a:pt x="22151" y="9475"/>
                </a:cubicBezTo>
                <a:cubicBezTo>
                  <a:pt x="22159" y="9475"/>
                  <a:pt x="22167" y="9475"/>
                  <a:pt x="22175" y="9475"/>
                </a:cubicBezTo>
              </a:path>
              <a:path w="795" h="546">
                <a:moveTo>
                  <a:pt x="22746" y="9203"/>
                </a:moveTo>
                <a:cubicBezTo>
                  <a:pt x="22771" y="9203"/>
                  <a:pt x="22779" y="9203"/>
                  <a:pt x="22796" y="9203"/>
                </a:cubicBezTo>
                <a:cubicBezTo>
                  <a:pt x="22808" y="9165"/>
                  <a:pt x="22825" y="9178"/>
                  <a:pt x="22870" y="9178"/>
                </a:cubicBezTo>
                <a:cubicBezTo>
                  <a:pt x="22895" y="9178"/>
                  <a:pt x="22903" y="9178"/>
                  <a:pt x="22920" y="9178"/>
                </a:cubicBezTo>
              </a:path>
              <a:path w="795" h="546">
                <a:moveTo>
                  <a:pt x="22771" y="9277"/>
                </a:moveTo>
                <a:cubicBezTo>
                  <a:pt x="22771" y="9344"/>
                  <a:pt x="22756" y="9219"/>
                  <a:pt x="22746" y="9302"/>
                </a:cubicBezTo>
                <a:cubicBezTo>
                  <a:pt x="22743" y="9329"/>
                  <a:pt x="22698" y="9335"/>
                  <a:pt x="22721" y="9376"/>
                </a:cubicBezTo>
                <a:cubicBezTo>
                  <a:pt x="22742" y="9414"/>
                  <a:pt x="22784" y="9401"/>
                  <a:pt x="22820" y="9401"/>
                </a:cubicBezTo>
                <a:cubicBezTo>
                  <a:pt x="22866" y="9401"/>
                  <a:pt x="22879" y="9430"/>
                  <a:pt x="22895" y="9451"/>
                </a:cubicBezTo>
                <a:cubicBezTo>
                  <a:pt x="22924" y="9489"/>
                  <a:pt x="22920" y="9502"/>
                  <a:pt x="22920" y="9550"/>
                </a:cubicBezTo>
                <a:cubicBezTo>
                  <a:pt x="22920" y="9600"/>
                  <a:pt x="22909" y="9608"/>
                  <a:pt x="22895" y="9649"/>
                </a:cubicBezTo>
                <a:cubicBezTo>
                  <a:pt x="22883" y="9685"/>
                  <a:pt x="22881" y="9719"/>
                  <a:pt x="22845" y="9723"/>
                </a:cubicBezTo>
                <a:cubicBezTo>
                  <a:pt x="22776" y="9731"/>
                  <a:pt x="22706" y="9716"/>
                  <a:pt x="22671" y="9699"/>
                </a:cubicBezTo>
                <a:cubicBezTo>
                  <a:pt x="22633" y="9680"/>
                  <a:pt x="22611" y="9657"/>
                  <a:pt x="22597" y="969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47"/>
          <p:cNvSpPr/>
          <p:nvPr/>
        </p:nvSpPr>
        <p:spPr>
          <a:xfrm>
            <a:off x="7518240" y="408132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20960" y="11361"/>
                </a:moveTo>
                <a:cubicBezTo>
                  <a:pt x="21043" y="11361"/>
                  <a:pt x="21125" y="11361"/>
                  <a:pt x="21208" y="11361"/>
                </a:cubicBezTo>
                <a:cubicBezTo>
                  <a:pt x="21220" y="11325"/>
                  <a:pt x="21221" y="11325"/>
                  <a:pt x="21233" y="11361"/>
                </a:cubicBezTo>
              </a:path>
              <a:path w="373" h="249">
                <a:moveTo>
                  <a:pt x="20886" y="11584"/>
                </a:moveTo>
                <a:cubicBezTo>
                  <a:pt x="20938" y="11544"/>
                  <a:pt x="20976" y="11582"/>
                  <a:pt x="21034" y="11559"/>
                </a:cubicBezTo>
                <a:cubicBezTo>
                  <a:pt x="21076" y="11543"/>
                  <a:pt x="21083" y="11534"/>
                  <a:pt x="21134" y="11534"/>
                </a:cubicBezTo>
                <a:cubicBezTo>
                  <a:pt x="21206" y="11534"/>
                  <a:pt x="21173" y="11509"/>
                  <a:pt x="21258" y="1150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48"/>
          <p:cNvSpPr/>
          <p:nvPr/>
        </p:nvSpPr>
        <p:spPr>
          <a:xfrm>
            <a:off x="7804080" y="4037040"/>
            <a:ext cx="812880" cy="231840"/>
          </a:xfrm>
          <a:custGeom>
            <a:avLst/>
            <a:gdLst/>
            <a:ahLst/>
            <a:rect l="l" t="t" r="r" b="b"/>
            <a:pathLst>
              <a:path w="2259" h="646">
                <a:moveTo>
                  <a:pt x="22027" y="11311"/>
                </a:moveTo>
                <a:cubicBezTo>
                  <a:pt x="22007" y="11271"/>
                  <a:pt x="21996" y="11321"/>
                  <a:pt x="21952" y="11336"/>
                </a:cubicBezTo>
                <a:cubicBezTo>
                  <a:pt x="21915" y="11348"/>
                  <a:pt x="21888" y="11400"/>
                  <a:pt x="21853" y="11410"/>
                </a:cubicBezTo>
                <a:cubicBezTo>
                  <a:pt x="21799" y="11425"/>
                  <a:pt x="21766" y="11429"/>
                  <a:pt x="21729" y="11485"/>
                </a:cubicBezTo>
                <a:cubicBezTo>
                  <a:pt x="21709" y="11516"/>
                  <a:pt x="21683" y="11576"/>
                  <a:pt x="21679" y="11609"/>
                </a:cubicBezTo>
                <a:cubicBezTo>
                  <a:pt x="21677" y="11631"/>
                  <a:pt x="21707" y="11697"/>
                  <a:pt x="21729" y="11708"/>
                </a:cubicBezTo>
                <a:cubicBezTo>
                  <a:pt x="21781" y="11734"/>
                  <a:pt x="21843" y="11733"/>
                  <a:pt x="21903" y="11733"/>
                </a:cubicBezTo>
                <a:cubicBezTo>
                  <a:pt x="21965" y="11733"/>
                  <a:pt x="22001" y="11735"/>
                  <a:pt x="22051" y="11708"/>
                </a:cubicBezTo>
                <a:cubicBezTo>
                  <a:pt x="22095" y="11684"/>
                  <a:pt x="22152" y="11649"/>
                  <a:pt x="22200" y="11633"/>
                </a:cubicBezTo>
                <a:cubicBezTo>
                  <a:pt x="22228" y="11624"/>
                  <a:pt x="22247" y="11600"/>
                  <a:pt x="22250" y="11559"/>
                </a:cubicBezTo>
                <a:cubicBezTo>
                  <a:pt x="22253" y="11513"/>
                  <a:pt x="22272" y="11384"/>
                  <a:pt x="22225" y="11361"/>
                </a:cubicBezTo>
                <a:cubicBezTo>
                  <a:pt x="22193" y="11345"/>
                  <a:pt x="22166" y="11336"/>
                  <a:pt x="22126" y="11336"/>
                </a:cubicBezTo>
                <a:cubicBezTo>
                  <a:pt x="22070" y="11336"/>
                  <a:pt x="22051" y="11329"/>
                  <a:pt x="22027" y="11361"/>
                </a:cubicBezTo>
                <a:cubicBezTo>
                  <a:pt x="22000" y="11397"/>
                  <a:pt x="21982" y="11420"/>
                  <a:pt x="22027" y="11435"/>
                </a:cubicBezTo>
              </a:path>
              <a:path w="2259" h="646">
                <a:moveTo>
                  <a:pt x="22473" y="11534"/>
                </a:moveTo>
                <a:cubicBezTo>
                  <a:pt x="22465" y="11534"/>
                  <a:pt x="22456" y="11534"/>
                  <a:pt x="22448" y="11534"/>
                </a:cubicBezTo>
                <a:cubicBezTo>
                  <a:pt x="22448" y="11559"/>
                  <a:pt x="22448" y="11584"/>
                  <a:pt x="22448" y="11609"/>
                </a:cubicBezTo>
                <a:cubicBezTo>
                  <a:pt x="22478" y="11602"/>
                  <a:pt x="22493" y="11591"/>
                  <a:pt x="22523" y="11584"/>
                </a:cubicBezTo>
              </a:path>
              <a:path w="2259" h="646">
                <a:moveTo>
                  <a:pt x="22845" y="11286"/>
                </a:moveTo>
                <a:cubicBezTo>
                  <a:pt x="22845" y="11311"/>
                  <a:pt x="22845" y="11319"/>
                  <a:pt x="22845" y="11336"/>
                </a:cubicBezTo>
                <a:cubicBezTo>
                  <a:pt x="22822" y="11344"/>
                  <a:pt x="22806" y="11377"/>
                  <a:pt x="22796" y="11410"/>
                </a:cubicBezTo>
                <a:cubicBezTo>
                  <a:pt x="22779" y="11462"/>
                  <a:pt x="22771" y="11502"/>
                  <a:pt x="22771" y="11559"/>
                </a:cubicBezTo>
                <a:cubicBezTo>
                  <a:pt x="22771" y="11599"/>
                  <a:pt x="22746" y="11613"/>
                  <a:pt x="22746" y="11658"/>
                </a:cubicBezTo>
                <a:cubicBezTo>
                  <a:pt x="22746" y="11704"/>
                  <a:pt x="22728" y="11712"/>
                  <a:pt x="22771" y="11683"/>
                </a:cubicBezTo>
              </a:path>
              <a:path w="2259" h="646">
                <a:moveTo>
                  <a:pt x="22994" y="11286"/>
                </a:moveTo>
                <a:cubicBezTo>
                  <a:pt x="23032" y="11273"/>
                  <a:pt x="23015" y="11261"/>
                  <a:pt x="23068" y="11261"/>
                </a:cubicBezTo>
                <a:cubicBezTo>
                  <a:pt x="23116" y="11261"/>
                  <a:pt x="23130" y="11264"/>
                  <a:pt x="23168" y="11237"/>
                </a:cubicBezTo>
                <a:cubicBezTo>
                  <a:pt x="23195" y="11246"/>
                  <a:pt x="23213" y="11255"/>
                  <a:pt x="23217" y="11286"/>
                </a:cubicBezTo>
                <a:cubicBezTo>
                  <a:pt x="23223" y="11334"/>
                  <a:pt x="23222" y="11375"/>
                  <a:pt x="23192" y="11410"/>
                </a:cubicBezTo>
                <a:cubicBezTo>
                  <a:pt x="23177" y="11427"/>
                  <a:pt x="23125" y="11504"/>
                  <a:pt x="23118" y="11509"/>
                </a:cubicBezTo>
                <a:cubicBezTo>
                  <a:pt x="23113" y="11513"/>
                  <a:pt x="23060" y="11558"/>
                  <a:pt x="23093" y="11584"/>
                </a:cubicBezTo>
                <a:cubicBezTo>
                  <a:pt x="23118" y="11604"/>
                  <a:pt x="23174" y="11616"/>
                  <a:pt x="23192" y="11658"/>
                </a:cubicBezTo>
                <a:cubicBezTo>
                  <a:pt x="23207" y="11692"/>
                  <a:pt x="23217" y="11716"/>
                  <a:pt x="23217" y="11757"/>
                </a:cubicBezTo>
                <a:cubicBezTo>
                  <a:pt x="23217" y="11797"/>
                  <a:pt x="23211" y="11837"/>
                  <a:pt x="23168" y="11857"/>
                </a:cubicBezTo>
                <a:cubicBezTo>
                  <a:pt x="23135" y="11872"/>
                  <a:pt x="23074" y="11792"/>
                  <a:pt x="23044" y="11782"/>
                </a:cubicBezTo>
                <a:cubicBezTo>
                  <a:pt x="23015" y="11772"/>
                  <a:pt x="22999" y="11749"/>
                  <a:pt x="22994" y="11708"/>
                </a:cubicBezTo>
                <a:cubicBezTo>
                  <a:pt x="22991" y="11678"/>
                  <a:pt x="23022" y="11665"/>
                  <a:pt x="23044" y="11658"/>
                </a:cubicBezTo>
              </a:path>
              <a:path w="2259" h="646">
                <a:moveTo>
                  <a:pt x="23664" y="11212"/>
                </a:moveTo>
                <a:cubicBezTo>
                  <a:pt x="23731" y="11212"/>
                  <a:pt x="23942" y="11192"/>
                  <a:pt x="23912" y="11237"/>
                </a:cubicBezTo>
              </a:path>
              <a:path w="2259" h="646">
                <a:moveTo>
                  <a:pt x="23639" y="11261"/>
                </a:moveTo>
                <a:cubicBezTo>
                  <a:pt x="23602" y="11289"/>
                  <a:pt x="23609" y="11320"/>
                  <a:pt x="23589" y="11336"/>
                </a:cubicBezTo>
                <a:cubicBezTo>
                  <a:pt x="23571" y="11350"/>
                  <a:pt x="23552" y="11373"/>
                  <a:pt x="23540" y="11410"/>
                </a:cubicBezTo>
                <a:cubicBezTo>
                  <a:pt x="23531" y="11438"/>
                  <a:pt x="23554" y="11480"/>
                  <a:pt x="23564" y="11485"/>
                </a:cubicBezTo>
                <a:cubicBezTo>
                  <a:pt x="23603" y="11504"/>
                  <a:pt x="23697" y="11496"/>
                  <a:pt x="23738" y="11509"/>
                </a:cubicBezTo>
                <a:cubicBezTo>
                  <a:pt x="23767" y="11518"/>
                  <a:pt x="23783" y="11543"/>
                  <a:pt x="23788" y="11584"/>
                </a:cubicBezTo>
                <a:cubicBezTo>
                  <a:pt x="23795" y="11649"/>
                  <a:pt x="23788" y="11717"/>
                  <a:pt x="23788" y="11782"/>
                </a:cubicBezTo>
                <a:cubicBezTo>
                  <a:pt x="23766" y="11765"/>
                  <a:pt x="23721" y="11738"/>
                  <a:pt x="23688" y="11757"/>
                </a:cubicBezTo>
                <a:cubicBezTo>
                  <a:pt x="23647" y="11780"/>
                  <a:pt x="23640" y="11782"/>
                  <a:pt x="23589" y="11782"/>
                </a:cubicBezTo>
                <a:cubicBezTo>
                  <a:pt x="23556" y="11782"/>
                  <a:pt x="23515" y="11755"/>
                  <a:pt x="23490" y="11733"/>
                </a:cubicBezTo>
                <a:cubicBezTo>
                  <a:pt x="23450" y="11698"/>
                  <a:pt x="23460" y="11749"/>
                  <a:pt x="23515" y="11708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49"/>
          <p:cNvSpPr/>
          <p:nvPr/>
        </p:nvSpPr>
        <p:spPr>
          <a:xfrm>
            <a:off x="5295960" y="4643280"/>
            <a:ext cx="571320" cy="187560"/>
          </a:xfrm>
          <a:custGeom>
            <a:avLst/>
            <a:gdLst/>
            <a:ahLst/>
            <a:rect l="l" t="t" r="r" b="b"/>
            <a:pathLst>
              <a:path w="1589" h="522">
                <a:moveTo>
                  <a:pt x="14858" y="12923"/>
                </a:moveTo>
                <a:cubicBezTo>
                  <a:pt x="14827" y="12933"/>
                  <a:pt x="14817" y="12965"/>
                  <a:pt x="14784" y="12998"/>
                </a:cubicBezTo>
                <a:cubicBezTo>
                  <a:pt x="14755" y="13027"/>
                  <a:pt x="14721" y="13061"/>
                  <a:pt x="14709" y="13097"/>
                </a:cubicBezTo>
                <a:cubicBezTo>
                  <a:pt x="14694" y="13142"/>
                  <a:pt x="14706" y="13215"/>
                  <a:pt x="14734" y="13246"/>
                </a:cubicBezTo>
                <a:cubicBezTo>
                  <a:pt x="14766" y="13282"/>
                  <a:pt x="14811" y="13291"/>
                  <a:pt x="14858" y="13295"/>
                </a:cubicBezTo>
                <a:cubicBezTo>
                  <a:pt x="14916" y="13300"/>
                  <a:pt x="14937" y="13258"/>
                  <a:pt x="14982" y="13246"/>
                </a:cubicBezTo>
                <a:cubicBezTo>
                  <a:pt x="15047" y="13229"/>
                  <a:pt x="15055" y="13222"/>
                  <a:pt x="15106" y="13171"/>
                </a:cubicBezTo>
                <a:cubicBezTo>
                  <a:pt x="15144" y="13133"/>
                  <a:pt x="15156" y="13125"/>
                  <a:pt x="15156" y="13072"/>
                </a:cubicBezTo>
                <a:cubicBezTo>
                  <a:pt x="15156" y="13031"/>
                  <a:pt x="15141" y="12975"/>
                  <a:pt x="15106" y="12948"/>
                </a:cubicBezTo>
                <a:cubicBezTo>
                  <a:pt x="15093" y="12938"/>
                  <a:pt x="15026" y="12904"/>
                  <a:pt x="15007" y="12898"/>
                </a:cubicBezTo>
                <a:cubicBezTo>
                  <a:pt x="14957" y="12881"/>
                  <a:pt x="14920" y="12911"/>
                  <a:pt x="14883" y="12923"/>
                </a:cubicBezTo>
                <a:cubicBezTo>
                  <a:pt x="14841" y="12937"/>
                  <a:pt x="14858" y="12971"/>
                  <a:pt x="14858" y="13022"/>
                </a:cubicBezTo>
                <a:cubicBezTo>
                  <a:pt x="14858" y="13047"/>
                  <a:pt x="14858" y="13055"/>
                  <a:pt x="14858" y="13072"/>
                </a:cubicBezTo>
              </a:path>
              <a:path w="1589" h="522">
                <a:moveTo>
                  <a:pt x="15304" y="13221"/>
                </a:moveTo>
                <a:cubicBezTo>
                  <a:pt x="15272" y="13221"/>
                  <a:pt x="15266" y="13167"/>
                  <a:pt x="15280" y="13196"/>
                </a:cubicBezTo>
                <a:cubicBezTo>
                  <a:pt x="15288" y="13204"/>
                  <a:pt x="15296" y="13213"/>
                  <a:pt x="15304" y="13221"/>
                </a:cubicBezTo>
              </a:path>
              <a:path w="1589" h="522">
                <a:moveTo>
                  <a:pt x="15577" y="12923"/>
                </a:moveTo>
                <a:cubicBezTo>
                  <a:pt x="15631" y="12923"/>
                  <a:pt x="15825" y="12923"/>
                  <a:pt x="15801" y="12923"/>
                </a:cubicBezTo>
              </a:path>
              <a:path w="1589" h="522">
                <a:moveTo>
                  <a:pt x="15577" y="12998"/>
                </a:moveTo>
                <a:cubicBezTo>
                  <a:pt x="15549" y="13007"/>
                  <a:pt x="15532" y="13032"/>
                  <a:pt x="15528" y="13072"/>
                </a:cubicBezTo>
                <a:cubicBezTo>
                  <a:pt x="15522" y="13125"/>
                  <a:pt x="15516" y="13109"/>
                  <a:pt x="15503" y="13146"/>
                </a:cubicBezTo>
                <a:cubicBezTo>
                  <a:pt x="15541" y="13175"/>
                  <a:pt x="15554" y="13171"/>
                  <a:pt x="15602" y="13171"/>
                </a:cubicBezTo>
                <a:cubicBezTo>
                  <a:pt x="15635" y="13171"/>
                  <a:pt x="15668" y="13171"/>
                  <a:pt x="15701" y="13171"/>
                </a:cubicBezTo>
                <a:cubicBezTo>
                  <a:pt x="15701" y="13227"/>
                  <a:pt x="15692" y="13250"/>
                  <a:pt x="15677" y="13295"/>
                </a:cubicBezTo>
                <a:cubicBezTo>
                  <a:pt x="15664" y="13335"/>
                  <a:pt x="15650" y="13365"/>
                  <a:pt x="15602" y="13370"/>
                </a:cubicBezTo>
                <a:cubicBezTo>
                  <a:pt x="15561" y="13375"/>
                  <a:pt x="15549" y="13395"/>
                  <a:pt x="15503" y="13395"/>
                </a:cubicBezTo>
                <a:cubicBezTo>
                  <a:pt x="15455" y="13395"/>
                  <a:pt x="15478" y="13378"/>
                  <a:pt x="15503" y="13370"/>
                </a:cubicBezTo>
              </a:path>
              <a:path w="1589" h="522">
                <a:moveTo>
                  <a:pt x="16247" y="12923"/>
                </a:moveTo>
                <a:cubicBezTo>
                  <a:pt x="16247" y="12915"/>
                  <a:pt x="16247" y="12906"/>
                  <a:pt x="16247" y="12898"/>
                </a:cubicBezTo>
                <a:cubicBezTo>
                  <a:pt x="16224" y="12904"/>
                  <a:pt x="16175" y="12940"/>
                  <a:pt x="16173" y="12948"/>
                </a:cubicBezTo>
                <a:cubicBezTo>
                  <a:pt x="16156" y="13013"/>
                  <a:pt x="16151" y="12994"/>
                  <a:pt x="16098" y="13047"/>
                </a:cubicBezTo>
                <a:cubicBezTo>
                  <a:pt x="16067" y="13078"/>
                  <a:pt x="16010" y="13131"/>
                  <a:pt x="15999" y="13171"/>
                </a:cubicBezTo>
                <a:cubicBezTo>
                  <a:pt x="15987" y="13215"/>
                  <a:pt x="15974" y="13249"/>
                  <a:pt x="15974" y="13295"/>
                </a:cubicBezTo>
                <a:cubicBezTo>
                  <a:pt x="15974" y="13327"/>
                  <a:pt x="16018" y="13381"/>
                  <a:pt x="16049" y="13395"/>
                </a:cubicBezTo>
                <a:cubicBezTo>
                  <a:pt x="16086" y="13412"/>
                  <a:pt x="16131" y="13419"/>
                  <a:pt x="16173" y="13419"/>
                </a:cubicBezTo>
                <a:cubicBezTo>
                  <a:pt x="16218" y="13419"/>
                  <a:pt x="16232" y="13390"/>
                  <a:pt x="16247" y="13370"/>
                </a:cubicBezTo>
                <a:cubicBezTo>
                  <a:pt x="16283" y="13322"/>
                  <a:pt x="16297" y="13363"/>
                  <a:pt x="16297" y="13295"/>
                </a:cubicBezTo>
                <a:cubicBezTo>
                  <a:pt x="16297" y="13253"/>
                  <a:pt x="16291" y="13236"/>
                  <a:pt x="16247" y="13221"/>
                </a:cubicBezTo>
                <a:cubicBezTo>
                  <a:pt x="16215" y="13210"/>
                  <a:pt x="16032" y="13218"/>
                  <a:pt x="16098" y="13246"/>
                </a:cubicBezTo>
                <a:cubicBezTo>
                  <a:pt x="16106" y="13246"/>
                  <a:pt x="16115" y="13246"/>
                  <a:pt x="16123" y="1324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50"/>
          <p:cNvSpPr/>
          <p:nvPr/>
        </p:nvSpPr>
        <p:spPr>
          <a:xfrm>
            <a:off x="6054840" y="4705200"/>
            <a:ext cx="133200" cy="9864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6818" y="13196"/>
                </a:moveTo>
                <a:cubicBezTo>
                  <a:pt x="16818" y="13204"/>
                  <a:pt x="16818" y="13213"/>
                  <a:pt x="16818" y="13221"/>
                </a:cubicBezTo>
                <a:cubicBezTo>
                  <a:pt x="16942" y="13221"/>
                  <a:pt x="17066" y="13221"/>
                  <a:pt x="17190" y="13221"/>
                </a:cubicBezTo>
              </a:path>
              <a:path w="373" h="274">
                <a:moveTo>
                  <a:pt x="16991" y="13072"/>
                </a:moveTo>
                <a:cubicBezTo>
                  <a:pt x="16991" y="13163"/>
                  <a:pt x="16991" y="13254"/>
                  <a:pt x="16991" y="133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51"/>
          <p:cNvSpPr/>
          <p:nvPr/>
        </p:nvSpPr>
        <p:spPr>
          <a:xfrm>
            <a:off x="6330960" y="4697280"/>
            <a:ext cx="250920" cy="152640"/>
          </a:xfrm>
          <a:custGeom>
            <a:avLst/>
            <a:gdLst/>
            <a:ahLst/>
            <a:rect l="l" t="t" r="r" b="b"/>
            <a:pathLst>
              <a:path w="695" h="423">
                <a:moveTo>
                  <a:pt x="17735" y="13047"/>
                </a:moveTo>
                <a:cubicBezTo>
                  <a:pt x="17677" y="13062"/>
                  <a:pt x="17666" y="13086"/>
                  <a:pt x="17661" y="13146"/>
                </a:cubicBezTo>
                <a:cubicBezTo>
                  <a:pt x="17657" y="13197"/>
                  <a:pt x="17597" y="13223"/>
                  <a:pt x="17587" y="13271"/>
                </a:cubicBezTo>
                <a:cubicBezTo>
                  <a:pt x="17574" y="13333"/>
                  <a:pt x="17595" y="13355"/>
                  <a:pt x="17636" y="13395"/>
                </a:cubicBezTo>
                <a:cubicBezTo>
                  <a:pt x="17686" y="13444"/>
                  <a:pt x="17713" y="13463"/>
                  <a:pt x="17785" y="13469"/>
                </a:cubicBezTo>
                <a:cubicBezTo>
                  <a:pt x="17850" y="13474"/>
                  <a:pt x="17927" y="13481"/>
                  <a:pt x="17983" y="13444"/>
                </a:cubicBezTo>
                <a:cubicBezTo>
                  <a:pt x="18039" y="13406"/>
                  <a:pt x="18078" y="13357"/>
                  <a:pt x="18083" y="13295"/>
                </a:cubicBezTo>
                <a:cubicBezTo>
                  <a:pt x="18087" y="13243"/>
                  <a:pt x="18091" y="13208"/>
                  <a:pt x="18058" y="13171"/>
                </a:cubicBezTo>
                <a:cubicBezTo>
                  <a:pt x="18036" y="13146"/>
                  <a:pt x="17991" y="13124"/>
                  <a:pt x="17959" y="13122"/>
                </a:cubicBezTo>
                <a:cubicBezTo>
                  <a:pt x="17917" y="13119"/>
                  <a:pt x="17808" y="13101"/>
                  <a:pt x="17785" y="13146"/>
                </a:cubicBezTo>
                <a:cubicBezTo>
                  <a:pt x="17764" y="13188"/>
                  <a:pt x="17811" y="13222"/>
                  <a:pt x="17835" y="13246"/>
                </a:cubicBezTo>
              </a:path>
              <a:path w="695" h="423">
                <a:moveTo>
                  <a:pt x="18256" y="13345"/>
                </a:moveTo>
                <a:cubicBezTo>
                  <a:pt x="18256" y="13403"/>
                  <a:pt x="18246" y="13399"/>
                  <a:pt x="18256" y="13395"/>
                </a:cubicBezTo>
                <a:cubicBezTo>
                  <a:pt x="18296" y="13380"/>
                  <a:pt x="18285" y="13384"/>
                  <a:pt x="18256" y="133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52"/>
          <p:cNvSpPr/>
          <p:nvPr/>
        </p:nvSpPr>
        <p:spPr>
          <a:xfrm>
            <a:off x="6705720" y="4732200"/>
            <a:ext cx="349200" cy="169920"/>
          </a:xfrm>
          <a:custGeom>
            <a:avLst/>
            <a:gdLst/>
            <a:ahLst/>
            <a:rect l="l" t="t" r="r" b="b"/>
            <a:pathLst>
              <a:path w="969" h="473">
                <a:moveTo>
                  <a:pt x="18653" y="13196"/>
                </a:moveTo>
                <a:cubicBezTo>
                  <a:pt x="18625" y="13234"/>
                  <a:pt x="18628" y="13247"/>
                  <a:pt x="18628" y="13295"/>
                </a:cubicBezTo>
                <a:cubicBezTo>
                  <a:pt x="18628" y="13350"/>
                  <a:pt x="18609" y="13454"/>
                  <a:pt x="18653" y="13469"/>
                </a:cubicBezTo>
              </a:path>
              <a:path w="969" h="473">
                <a:moveTo>
                  <a:pt x="18901" y="13221"/>
                </a:moveTo>
                <a:cubicBezTo>
                  <a:pt x="18951" y="13221"/>
                  <a:pt x="18960" y="13210"/>
                  <a:pt x="19000" y="13196"/>
                </a:cubicBezTo>
                <a:cubicBezTo>
                  <a:pt x="19029" y="13186"/>
                  <a:pt x="19085" y="13191"/>
                  <a:pt x="19100" y="13221"/>
                </a:cubicBezTo>
                <a:cubicBezTo>
                  <a:pt x="19122" y="13265"/>
                  <a:pt x="19079" y="13266"/>
                  <a:pt x="19075" y="13295"/>
                </a:cubicBezTo>
                <a:cubicBezTo>
                  <a:pt x="19068" y="13347"/>
                  <a:pt x="19047" y="13345"/>
                  <a:pt x="19000" y="13345"/>
                </a:cubicBezTo>
                <a:cubicBezTo>
                  <a:pt x="18992" y="13345"/>
                  <a:pt x="18984" y="13345"/>
                  <a:pt x="18976" y="13345"/>
                </a:cubicBezTo>
                <a:cubicBezTo>
                  <a:pt x="18988" y="13395"/>
                  <a:pt x="18999" y="13395"/>
                  <a:pt x="19050" y="13395"/>
                </a:cubicBezTo>
                <a:cubicBezTo>
                  <a:pt x="19081" y="13395"/>
                  <a:pt x="19096" y="13435"/>
                  <a:pt x="19100" y="13469"/>
                </a:cubicBezTo>
                <a:cubicBezTo>
                  <a:pt x="19100" y="13494"/>
                  <a:pt x="19100" y="13502"/>
                  <a:pt x="19100" y="13519"/>
                </a:cubicBezTo>
                <a:cubicBezTo>
                  <a:pt x="19036" y="13528"/>
                  <a:pt x="19030" y="13553"/>
                  <a:pt x="19000" y="13568"/>
                </a:cubicBezTo>
                <a:cubicBezTo>
                  <a:pt x="18968" y="13584"/>
                  <a:pt x="18941" y="13593"/>
                  <a:pt x="18901" y="13593"/>
                </a:cubicBezTo>
                <a:cubicBezTo>
                  <a:pt x="18901" y="13533"/>
                  <a:pt x="18909" y="13556"/>
                  <a:pt x="18951" y="13519"/>
                </a:cubicBezTo>
                <a:cubicBezTo>
                  <a:pt x="18959" y="13511"/>
                  <a:pt x="18968" y="13502"/>
                  <a:pt x="18976" y="13494"/>
                </a:cubicBezTo>
              </a:path>
              <a:path w="969" h="473">
                <a:moveTo>
                  <a:pt x="19422" y="13146"/>
                </a:moveTo>
                <a:cubicBezTo>
                  <a:pt x="19422" y="13154"/>
                  <a:pt x="19422" y="13163"/>
                  <a:pt x="19422" y="13171"/>
                </a:cubicBezTo>
                <a:cubicBezTo>
                  <a:pt x="19480" y="13171"/>
                  <a:pt x="19538" y="13171"/>
                  <a:pt x="19596" y="13171"/>
                </a:cubicBezTo>
              </a:path>
              <a:path w="969" h="473">
                <a:moveTo>
                  <a:pt x="19372" y="13221"/>
                </a:moveTo>
                <a:cubicBezTo>
                  <a:pt x="19359" y="13238"/>
                  <a:pt x="19333" y="13313"/>
                  <a:pt x="19323" y="13320"/>
                </a:cubicBezTo>
                <a:cubicBezTo>
                  <a:pt x="19298" y="13320"/>
                  <a:pt x="19290" y="13320"/>
                  <a:pt x="19298" y="13345"/>
                </a:cubicBezTo>
                <a:cubicBezTo>
                  <a:pt x="19311" y="13383"/>
                  <a:pt x="19327" y="13370"/>
                  <a:pt x="19372" y="13370"/>
                </a:cubicBezTo>
                <a:cubicBezTo>
                  <a:pt x="19405" y="13370"/>
                  <a:pt x="19439" y="13370"/>
                  <a:pt x="19472" y="13370"/>
                </a:cubicBezTo>
                <a:cubicBezTo>
                  <a:pt x="19472" y="13433"/>
                  <a:pt x="19465" y="13467"/>
                  <a:pt x="19447" y="13519"/>
                </a:cubicBezTo>
                <a:cubicBezTo>
                  <a:pt x="19432" y="13563"/>
                  <a:pt x="19424" y="13573"/>
                  <a:pt x="19397" y="13593"/>
                </a:cubicBezTo>
                <a:cubicBezTo>
                  <a:pt x="19375" y="13610"/>
                  <a:pt x="19332" y="13637"/>
                  <a:pt x="19298" y="13618"/>
                </a:cubicBezTo>
                <a:cubicBezTo>
                  <a:pt x="19261" y="13597"/>
                  <a:pt x="19233" y="13594"/>
                  <a:pt x="19199" y="13568"/>
                </a:cubicBezTo>
                <a:cubicBezTo>
                  <a:pt x="19232" y="13568"/>
                  <a:pt x="19265" y="13568"/>
                  <a:pt x="19298" y="1356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53"/>
          <p:cNvSpPr/>
          <p:nvPr/>
        </p:nvSpPr>
        <p:spPr>
          <a:xfrm>
            <a:off x="7269120" y="478620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20241" y="13295"/>
                </a:moveTo>
                <a:cubicBezTo>
                  <a:pt x="20322" y="13295"/>
                  <a:pt x="20540" y="13293"/>
                  <a:pt x="20538" y="13295"/>
                </a:cubicBezTo>
                <a:cubicBezTo>
                  <a:pt x="20516" y="13317"/>
                  <a:pt x="20511" y="13326"/>
                  <a:pt x="20489" y="13320"/>
                </a:cubicBezTo>
              </a:path>
              <a:path w="398" h="150">
                <a:moveTo>
                  <a:pt x="20191" y="13444"/>
                </a:moveTo>
                <a:cubicBezTo>
                  <a:pt x="20323" y="13444"/>
                  <a:pt x="20456" y="13444"/>
                  <a:pt x="20588" y="1344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Ink 54"/>
          <p:cNvSpPr/>
          <p:nvPr/>
        </p:nvSpPr>
        <p:spPr>
          <a:xfrm>
            <a:off x="7626240" y="4741920"/>
            <a:ext cx="26856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21456" y="13171"/>
                </a:moveTo>
                <a:cubicBezTo>
                  <a:pt x="21404" y="13171"/>
                  <a:pt x="21403" y="13185"/>
                  <a:pt x="21382" y="13196"/>
                </a:cubicBezTo>
                <a:cubicBezTo>
                  <a:pt x="21343" y="13215"/>
                  <a:pt x="21317" y="13236"/>
                  <a:pt x="21282" y="13271"/>
                </a:cubicBezTo>
                <a:cubicBezTo>
                  <a:pt x="21247" y="13306"/>
                  <a:pt x="21226" y="13330"/>
                  <a:pt x="21208" y="13370"/>
                </a:cubicBezTo>
                <a:cubicBezTo>
                  <a:pt x="21182" y="13430"/>
                  <a:pt x="21183" y="13453"/>
                  <a:pt x="21183" y="13519"/>
                </a:cubicBezTo>
                <a:cubicBezTo>
                  <a:pt x="21183" y="13572"/>
                  <a:pt x="21195" y="13580"/>
                  <a:pt x="21233" y="13618"/>
                </a:cubicBezTo>
                <a:cubicBezTo>
                  <a:pt x="21273" y="13658"/>
                  <a:pt x="21326" y="13643"/>
                  <a:pt x="21382" y="13643"/>
                </a:cubicBezTo>
                <a:cubicBezTo>
                  <a:pt x="21430" y="13643"/>
                  <a:pt x="21496" y="13630"/>
                  <a:pt x="21530" y="13593"/>
                </a:cubicBezTo>
                <a:cubicBezTo>
                  <a:pt x="21558" y="13562"/>
                  <a:pt x="21616" y="13485"/>
                  <a:pt x="21630" y="13444"/>
                </a:cubicBezTo>
                <a:cubicBezTo>
                  <a:pt x="21640" y="13414"/>
                  <a:pt x="21651" y="13374"/>
                  <a:pt x="21654" y="13345"/>
                </a:cubicBezTo>
                <a:cubicBezTo>
                  <a:pt x="21659" y="13294"/>
                  <a:pt x="21640" y="13281"/>
                  <a:pt x="21605" y="13246"/>
                </a:cubicBezTo>
                <a:cubicBezTo>
                  <a:pt x="21580" y="13221"/>
                  <a:pt x="21540" y="13200"/>
                  <a:pt x="21506" y="13196"/>
                </a:cubicBezTo>
                <a:cubicBezTo>
                  <a:pt x="21446" y="13189"/>
                  <a:pt x="21428" y="13210"/>
                  <a:pt x="21406" y="13221"/>
                </a:cubicBezTo>
                <a:cubicBezTo>
                  <a:pt x="21363" y="13243"/>
                  <a:pt x="21357" y="13239"/>
                  <a:pt x="21357" y="13295"/>
                </a:cubicBezTo>
                <a:cubicBezTo>
                  <a:pt x="21357" y="13303"/>
                  <a:pt x="21357" y="13312"/>
                  <a:pt x="21357" y="13320"/>
                </a:cubicBezTo>
              </a:path>
              <a:path w="745" h="473">
                <a:moveTo>
                  <a:pt x="21878" y="13543"/>
                </a:moveTo>
                <a:cubicBezTo>
                  <a:pt x="21905" y="13526"/>
                  <a:pt x="21955" y="13543"/>
                  <a:pt x="21878" y="135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55"/>
          <p:cNvSpPr/>
          <p:nvPr/>
        </p:nvSpPr>
        <p:spPr>
          <a:xfrm>
            <a:off x="8045280" y="4768920"/>
            <a:ext cx="527400" cy="223920"/>
          </a:xfrm>
          <a:custGeom>
            <a:avLst/>
            <a:gdLst/>
            <a:ahLst/>
            <a:rect l="l" t="t" r="r" b="b"/>
            <a:pathLst>
              <a:path w="1464" h="621">
                <a:moveTo>
                  <a:pt x="22597" y="13271"/>
                </a:moveTo>
                <a:cubicBezTo>
                  <a:pt x="22597" y="13263"/>
                  <a:pt x="22597" y="13254"/>
                  <a:pt x="22597" y="13246"/>
                </a:cubicBezTo>
                <a:cubicBezTo>
                  <a:pt x="22562" y="13258"/>
                  <a:pt x="22568" y="13300"/>
                  <a:pt x="22523" y="13320"/>
                </a:cubicBezTo>
                <a:cubicBezTo>
                  <a:pt x="22488" y="13336"/>
                  <a:pt x="22448" y="13355"/>
                  <a:pt x="22423" y="13395"/>
                </a:cubicBezTo>
                <a:cubicBezTo>
                  <a:pt x="22389" y="13449"/>
                  <a:pt x="22353" y="13508"/>
                  <a:pt x="22349" y="13568"/>
                </a:cubicBezTo>
                <a:cubicBezTo>
                  <a:pt x="22345" y="13638"/>
                  <a:pt x="22357" y="13686"/>
                  <a:pt x="22374" y="13742"/>
                </a:cubicBezTo>
                <a:cubicBezTo>
                  <a:pt x="22392" y="13801"/>
                  <a:pt x="22441" y="13791"/>
                  <a:pt x="22498" y="13791"/>
                </a:cubicBezTo>
                <a:cubicBezTo>
                  <a:pt x="22536" y="13791"/>
                  <a:pt x="22625" y="13810"/>
                  <a:pt x="22647" y="13767"/>
                </a:cubicBezTo>
                <a:cubicBezTo>
                  <a:pt x="22667" y="13727"/>
                  <a:pt x="22645" y="13627"/>
                  <a:pt x="22622" y="13593"/>
                </a:cubicBezTo>
                <a:cubicBezTo>
                  <a:pt x="22587" y="13541"/>
                  <a:pt x="22562" y="13564"/>
                  <a:pt x="22523" y="13543"/>
                </a:cubicBezTo>
                <a:cubicBezTo>
                  <a:pt x="22485" y="13522"/>
                  <a:pt x="22493" y="13519"/>
                  <a:pt x="22448" y="13519"/>
                </a:cubicBezTo>
                <a:cubicBezTo>
                  <a:pt x="22483" y="13544"/>
                  <a:pt x="22480" y="13543"/>
                  <a:pt x="22523" y="13543"/>
                </a:cubicBezTo>
              </a:path>
              <a:path w="1464" h="621">
                <a:moveTo>
                  <a:pt x="23118" y="13395"/>
                </a:moveTo>
                <a:cubicBezTo>
                  <a:pt x="23115" y="13385"/>
                  <a:pt x="23060" y="13331"/>
                  <a:pt x="23044" y="13320"/>
                </a:cubicBezTo>
                <a:cubicBezTo>
                  <a:pt x="23019" y="13303"/>
                  <a:pt x="22886" y="13313"/>
                  <a:pt x="22870" y="13345"/>
                </a:cubicBezTo>
                <a:cubicBezTo>
                  <a:pt x="22848" y="13388"/>
                  <a:pt x="22878" y="13431"/>
                  <a:pt x="22895" y="13444"/>
                </a:cubicBezTo>
                <a:cubicBezTo>
                  <a:pt x="22933" y="13473"/>
                  <a:pt x="22946" y="13469"/>
                  <a:pt x="22994" y="13469"/>
                </a:cubicBezTo>
                <a:cubicBezTo>
                  <a:pt x="23040" y="13469"/>
                  <a:pt x="23052" y="13440"/>
                  <a:pt x="23068" y="13419"/>
                </a:cubicBezTo>
                <a:cubicBezTo>
                  <a:pt x="23090" y="13391"/>
                  <a:pt x="23121" y="13377"/>
                  <a:pt x="23143" y="13370"/>
                </a:cubicBezTo>
                <a:cubicBezTo>
                  <a:pt x="23104" y="13409"/>
                  <a:pt x="23082" y="13439"/>
                  <a:pt x="23068" y="13494"/>
                </a:cubicBezTo>
                <a:cubicBezTo>
                  <a:pt x="23056" y="13544"/>
                  <a:pt x="23048" y="13594"/>
                  <a:pt x="23044" y="13643"/>
                </a:cubicBezTo>
                <a:cubicBezTo>
                  <a:pt x="23040" y="13694"/>
                  <a:pt x="23024" y="13724"/>
                  <a:pt x="23019" y="13767"/>
                </a:cubicBezTo>
                <a:cubicBezTo>
                  <a:pt x="23019" y="13775"/>
                  <a:pt x="23019" y="13783"/>
                  <a:pt x="23019" y="13791"/>
                </a:cubicBezTo>
                <a:cubicBezTo>
                  <a:pt x="23060" y="13778"/>
                  <a:pt x="23047" y="13725"/>
                  <a:pt x="23093" y="13692"/>
                </a:cubicBezTo>
                <a:cubicBezTo>
                  <a:pt x="23110" y="13684"/>
                  <a:pt x="23126" y="13675"/>
                  <a:pt x="23143" y="13667"/>
                </a:cubicBezTo>
              </a:path>
              <a:path w="1464" h="621">
                <a:moveTo>
                  <a:pt x="23589" y="13320"/>
                </a:moveTo>
                <a:cubicBezTo>
                  <a:pt x="23581" y="13320"/>
                  <a:pt x="23572" y="13320"/>
                  <a:pt x="23564" y="13320"/>
                </a:cubicBezTo>
                <a:cubicBezTo>
                  <a:pt x="23576" y="13356"/>
                  <a:pt x="23577" y="13356"/>
                  <a:pt x="23589" y="13320"/>
                </a:cubicBezTo>
                <a:cubicBezTo>
                  <a:pt x="23663" y="13320"/>
                  <a:pt x="23738" y="13320"/>
                  <a:pt x="23812" y="13320"/>
                </a:cubicBezTo>
              </a:path>
              <a:path w="1464" h="621">
                <a:moveTo>
                  <a:pt x="23540" y="13345"/>
                </a:moveTo>
                <a:cubicBezTo>
                  <a:pt x="23501" y="13358"/>
                  <a:pt x="23514" y="13384"/>
                  <a:pt x="23490" y="13419"/>
                </a:cubicBezTo>
                <a:cubicBezTo>
                  <a:pt x="23466" y="13454"/>
                  <a:pt x="23450" y="13478"/>
                  <a:pt x="23440" y="13519"/>
                </a:cubicBezTo>
                <a:cubicBezTo>
                  <a:pt x="23495" y="13519"/>
                  <a:pt x="23516" y="13531"/>
                  <a:pt x="23540" y="13543"/>
                </a:cubicBezTo>
                <a:cubicBezTo>
                  <a:pt x="23563" y="13554"/>
                  <a:pt x="23624" y="13546"/>
                  <a:pt x="23639" y="13568"/>
                </a:cubicBezTo>
                <a:cubicBezTo>
                  <a:pt x="23657" y="13594"/>
                  <a:pt x="23664" y="13631"/>
                  <a:pt x="23664" y="13667"/>
                </a:cubicBezTo>
                <a:cubicBezTo>
                  <a:pt x="23664" y="13752"/>
                  <a:pt x="23644" y="13725"/>
                  <a:pt x="23614" y="13791"/>
                </a:cubicBezTo>
                <a:cubicBezTo>
                  <a:pt x="23598" y="13825"/>
                  <a:pt x="23581" y="13852"/>
                  <a:pt x="23540" y="13866"/>
                </a:cubicBezTo>
                <a:cubicBezTo>
                  <a:pt x="23461" y="13893"/>
                  <a:pt x="23302" y="13878"/>
                  <a:pt x="23292" y="13816"/>
                </a:cubicBezTo>
                <a:cubicBezTo>
                  <a:pt x="23292" y="13841"/>
                  <a:pt x="23292" y="13849"/>
                  <a:pt x="23267" y="1384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56"/>
          <p:cNvSpPr/>
          <p:nvPr/>
        </p:nvSpPr>
        <p:spPr>
          <a:xfrm>
            <a:off x="8232840" y="3017880"/>
            <a:ext cx="652320" cy="1117440"/>
          </a:xfrm>
          <a:custGeom>
            <a:avLst/>
            <a:gdLst/>
            <a:ahLst/>
            <a:rect l="l" t="t" r="r" b="b"/>
            <a:pathLst>
              <a:path w="1812" h="3102">
                <a:moveTo>
                  <a:pt x="24209" y="11485"/>
                </a:moveTo>
                <a:cubicBezTo>
                  <a:pt x="24234" y="11474"/>
                  <a:pt x="24256" y="11477"/>
                  <a:pt x="24284" y="11460"/>
                </a:cubicBezTo>
                <a:cubicBezTo>
                  <a:pt x="24321" y="11438"/>
                  <a:pt x="24333" y="11410"/>
                  <a:pt x="24358" y="11385"/>
                </a:cubicBezTo>
                <a:cubicBezTo>
                  <a:pt x="24402" y="11341"/>
                  <a:pt x="24406" y="11298"/>
                  <a:pt x="24433" y="11261"/>
                </a:cubicBezTo>
                <a:cubicBezTo>
                  <a:pt x="24472" y="11209"/>
                  <a:pt x="24520" y="11165"/>
                  <a:pt x="24557" y="11112"/>
                </a:cubicBezTo>
                <a:cubicBezTo>
                  <a:pt x="24583" y="11075"/>
                  <a:pt x="24590" y="11030"/>
                  <a:pt x="24606" y="10988"/>
                </a:cubicBezTo>
                <a:cubicBezTo>
                  <a:pt x="24642" y="10891"/>
                  <a:pt x="24634" y="10789"/>
                  <a:pt x="24656" y="10691"/>
                </a:cubicBezTo>
                <a:cubicBezTo>
                  <a:pt x="24676" y="10603"/>
                  <a:pt x="24681" y="10534"/>
                  <a:pt x="24681" y="10443"/>
                </a:cubicBezTo>
                <a:cubicBezTo>
                  <a:pt x="24681" y="10352"/>
                  <a:pt x="24665" y="10278"/>
                  <a:pt x="24656" y="10195"/>
                </a:cubicBezTo>
                <a:cubicBezTo>
                  <a:pt x="24649" y="10129"/>
                  <a:pt x="24648" y="10084"/>
                  <a:pt x="24631" y="10021"/>
                </a:cubicBezTo>
                <a:cubicBezTo>
                  <a:pt x="24615" y="9962"/>
                  <a:pt x="24584" y="9903"/>
                  <a:pt x="24557" y="9847"/>
                </a:cubicBezTo>
                <a:cubicBezTo>
                  <a:pt x="24527" y="9786"/>
                  <a:pt x="24493" y="9731"/>
                  <a:pt x="24457" y="9674"/>
                </a:cubicBezTo>
                <a:cubicBezTo>
                  <a:pt x="24424" y="9623"/>
                  <a:pt x="24394" y="9613"/>
                  <a:pt x="24358" y="9575"/>
                </a:cubicBezTo>
                <a:cubicBezTo>
                  <a:pt x="24332" y="9548"/>
                  <a:pt x="24323" y="9527"/>
                  <a:pt x="24284" y="9500"/>
                </a:cubicBezTo>
                <a:cubicBezTo>
                  <a:pt x="24247" y="9474"/>
                  <a:pt x="24222" y="9458"/>
                  <a:pt x="24185" y="9426"/>
                </a:cubicBezTo>
                <a:cubicBezTo>
                  <a:pt x="24160" y="9405"/>
                  <a:pt x="24108" y="9370"/>
                  <a:pt x="24085" y="9351"/>
                </a:cubicBezTo>
                <a:cubicBezTo>
                  <a:pt x="24043" y="9318"/>
                  <a:pt x="24001" y="9286"/>
                  <a:pt x="23961" y="9252"/>
                </a:cubicBezTo>
                <a:cubicBezTo>
                  <a:pt x="23918" y="9215"/>
                  <a:pt x="23876" y="9167"/>
                  <a:pt x="23837" y="9128"/>
                </a:cubicBezTo>
                <a:cubicBezTo>
                  <a:pt x="23790" y="9081"/>
                  <a:pt x="23756" y="9048"/>
                  <a:pt x="23713" y="9004"/>
                </a:cubicBezTo>
                <a:cubicBezTo>
                  <a:pt x="23687" y="8978"/>
                  <a:pt x="23633" y="8931"/>
                  <a:pt x="23589" y="8905"/>
                </a:cubicBezTo>
                <a:cubicBezTo>
                  <a:pt x="23552" y="8883"/>
                  <a:pt x="23506" y="8841"/>
                  <a:pt x="23490" y="8830"/>
                </a:cubicBezTo>
                <a:cubicBezTo>
                  <a:pt x="23463" y="8812"/>
                  <a:pt x="23426" y="8761"/>
                  <a:pt x="23416" y="8756"/>
                </a:cubicBezTo>
                <a:cubicBezTo>
                  <a:pt x="23387" y="8740"/>
                  <a:pt x="23348" y="8720"/>
                  <a:pt x="23316" y="8706"/>
                </a:cubicBezTo>
                <a:cubicBezTo>
                  <a:pt x="23292" y="8695"/>
                  <a:pt x="23238" y="8695"/>
                  <a:pt x="23217" y="8682"/>
                </a:cubicBezTo>
                <a:cubicBezTo>
                  <a:pt x="23177" y="8656"/>
                  <a:pt x="23173" y="8649"/>
                  <a:pt x="23143" y="8632"/>
                </a:cubicBezTo>
                <a:cubicBezTo>
                  <a:pt x="23113" y="8615"/>
                  <a:pt x="23069" y="8600"/>
                  <a:pt x="23044" y="8582"/>
                </a:cubicBezTo>
                <a:cubicBezTo>
                  <a:pt x="23012" y="8560"/>
                  <a:pt x="22985" y="8551"/>
                  <a:pt x="22969" y="8533"/>
                </a:cubicBezTo>
                <a:cubicBezTo>
                  <a:pt x="22949" y="8512"/>
                  <a:pt x="22942" y="8502"/>
                  <a:pt x="22920" y="8483"/>
                </a:cubicBezTo>
                <a:cubicBezTo>
                  <a:pt x="22912" y="8476"/>
                  <a:pt x="22881" y="8443"/>
                  <a:pt x="22870" y="8434"/>
                </a:cubicBezTo>
                <a:cubicBezTo>
                  <a:pt x="22870" y="8517"/>
                  <a:pt x="22870" y="8599"/>
                  <a:pt x="22870" y="8682"/>
                </a:cubicBezTo>
                <a:cubicBezTo>
                  <a:pt x="22870" y="8588"/>
                  <a:pt x="22858" y="8488"/>
                  <a:pt x="22895" y="8409"/>
                </a:cubicBezTo>
                <a:cubicBezTo>
                  <a:pt x="22895" y="8384"/>
                  <a:pt x="22895" y="8376"/>
                  <a:pt x="22920" y="8384"/>
                </a:cubicBezTo>
                <a:cubicBezTo>
                  <a:pt x="22953" y="8408"/>
                  <a:pt x="22982" y="8436"/>
                  <a:pt x="23019" y="8458"/>
                </a:cubicBezTo>
                <a:cubicBezTo>
                  <a:pt x="23052" y="8478"/>
                  <a:pt x="23047" y="8471"/>
                  <a:pt x="23093" y="8483"/>
                </a:cubicBezTo>
                <a:cubicBezTo>
                  <a:pt x="23121" y="8490"/>
                  <a:pt x="23115" y="8479"/>
                  <a:pt x="23143" y="8483"/>
                </a:cubicBezTo>
                <a:cubicBezTo>
                  <a:pt x="23089" y="8565"/>
                  <a:pt x="23142" y="8484"/>
                  <a:pt x="23093" y="853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57"/>
          <p:cNvSpPr/>
          <p:nvPr/>
        </p:nvSpPr>
        <p:spPr>
          <a:xfrm>
            <a:off x="8429760" y="1919160"/>
            <a:ext cx="214200" cy="216000"/>
          </a:xfrm>
          <a:custGeom>
            <a:avLst/>
            <a:gdLst/>
            <a:ahLst/>
            <a:rect l="l" t="t" r="r" b="b"/>
            <a:pathLst>
              <a:path w="596" h="596">
                <a:moveTo>
                  <a:pt x="23664" y="5556"/>
                </a:moveTo>
                <a:cubicBezTo>
                  <a:pt x="23688" y="5556"/>
                  <a:pt x="23697" y="5556"/>
                  <a:pt x="23713" y="5556"/>
                </a:cubicBezTo>
                <a:cubicBezTo>
                  <a:pt x="23713" y="5603"/>
                  <a:pt x="23719" y="5620"/>
                  <a:pt x="23688" y="5655"/>
                </a:cubicBezTo>
                <a:cubicBezTo>
                  <a:pt x="23653" y="5695"/>
                  <a:pt x="23634" y="5716"/>
                  <a:pt x="23589" y="5755"/>
                </a:cubicBezTo>
                <a:cubicBezTo>
                  <a:pt x="23557" y="5783"/>
                  <a:pt x="23561" y="5834"/>
                  <a:pt x="23515" y="5854"/>
                </a:cubicBezTo>
                <a:cubicBezTo>
                  <a:pt x="23507" y="5854"/>
                  <a:pt x="23498" y="5854"/>
                  <a:pt x="23490" y="5854"/>
                </a:cubicBezTo>
                <a:cubicBezTo>
                  <a:pt x="23472" y="5909"/>
                  <a:pt x="23465" y="5867"/>
                  <a:pt x="23465" y="5829"/>
                </a:cubicBezTo>
              </a:path>
              <a:path w="596" h="596">
                <a:moveTo>
                  <a:pt x="23490" y="5482"/>
                </a:moveTo>
                <a:cubicBezTo>
                  <a:pt x="23524" y="5482"/>
                  <a:pt x="23570" y="5469"/>
                  <a:pt x="23589" y="5507"/>
                </a:cubicBezTo>
                <a:cubicBezTo>
                  <a:pt x="23607" y="5543"/>
                  <a:pt x="23624" y="5596"/>
                  <a:pt x="23639" y="5631"/>
                </a:cubicBezTo>
                <a:cubicBezTo>
                  <a:pt x="23657" y="5672"/>
                  <a:pt x="23676" y="5718"/>
                  <a:pt x="23688" y="5755"/>
                </a:cubicBezTo>
                <a:cubicBezTo>
                  <a:pt x="23697" y="5783"/>
                  <a:pt x="23706" y="5800"/>
                  <a:pt x="23713" y="5829"/>
                </a:cubicBezTo>
                <a:cubicBezTo>
                  <a:pt x="23751" y="5842"/>
                  <a:pt x="23734" y="5854"/>
                  <a:pt x="23788" y="5854"/>
                </a:cubicBezTo>
                <a:cubicBezTo>
                  <a:pt x="23803" y="5823"/>
                  <a:pt x="23822" y="5810"/>
                  <a:pt x="23837" y="5779"/>
                </a:cubicBezTo>
              </a:path>
              <a:path w="596" h="596">
                <a:moveTo>
                  <a:pt x="23515" y="5531"/>
                </a:moveTo>
                <a:cubicBezTo>
                  <a:pt x="23515" y="5556"/>
                  <a:pt x="23515" y="5564"/>
                  <a:pt x="23515" y="5581"/>
                </a:cubicBezTo>
                <a:cubicBezTo>
                  <a:pt x="23569" y="5581"/>
                  <a:pt x="23597" y="5597"/>
                  <a:pt x="23639" y="5606"/>
                </a:cubicBezTo>
                <a:cubicBezTo>
                  <a:pt x="23741" y="5628"/>
                  <a:pt x="23867" y="5605"/>
                  <a:pt x="23961" y="5581"/>
                </a:cubicBezTo>
                <a:cubicBezTo>
                  <a:pt x="24021" y="5566"/>
                  <a:pt x="23997" y="5613"/>
                  <a:pt x="24011" y="5531"/>
                </a:cubicBezTo>
              </a:path>
              <a:path w="596" h="596">
                <a:moveTo>
                  <a:pt x="23937" y="5407"/>
                </a:moveTo>
                <a:cubicBezTo>
                  <a:pt x="23929" y="5407"/>
                  <a:pt x="23920" y="5407"/>
                  <a:pt x="23912" y="5407"/>
                </a:cubicBezTo>
                <a:cubicBezTo>
                  <a:pt x="23902" y="5437"/>
                  <a:pt x="23847" y="5472"/>
                  <a:pt x="23812" y="5507"/>
                </a:cubicBezTo>
                <a:cubicBezTo>
                  <a:pt x="23791" y="5528"/>
                  <a:pt x="23746" y="5621"/>
                  <a:pt x="23738" y="5655"/>
                </a:cubicBezTo>
                <a:cubicBezTo>
                  <a:pt x="23728" y="5696"/>
                  <a:pt x="23731" y="5767"/>
                  <a:pt x="23713" y="5804"/>
                </a:cubicBezTo>
                <a:cubicBezTo>
                  <a:pt x="23689" y="5852"/>
                  <a:pt x="23664" y="5844"/>
                  <a:pt x="23664" y="5904"/>
                </a:cubicBezTo>
                <a:cubicBezTo>
                  <a:pt x="23664" y="5928"/>
                  <a:pt x="23664" y="5936"/>
                  <a:pt x="23664" y="5904"/>
                </a:cubicBezTo>
              </a:path>
              <a:path w="596" h="596">
                <a:moveTo>
                  <a:pt x="23788" y="5333"/>
                </a:moveTo>
                <a:cubicBezTo>
                  <a:pt x="23788" y="5358"/>
                  <a:pt x="23788" y="5382"/>
                  <a:pt x="23788" y="5407"/>
                </a:cubicBezTo>
                <a:cubicBezTo>
                  <a:pt x="23760" y="5416"/>
                  <a:pt x="23745" y="5472"/>
                  <a:pt x="23738" y="5507"/>
                </a:cubicBezTo>
                <a:cubicBezTo>
                  <a:pt x="23727" y="5560"/>
                  <a:pt x="23717" y="5604"/>
                  <a:pt x="23713" y="5655"/>
                </a:cubicBezTo>
                <a:cubicBezTo>
                  <a:pt x="23708" y="5711"/>
                  <a:pt x="23703" y="5734"/>
                  <a:pt x="23688" y="5779"/>
                </a:cubicBezTo>
                <a:cubicBezTo>
                  <a:pt x="23685" y="5788"/>
                  <a:pt x="23688" y="5898"/>
                  <a:pt x="23688" y="5829"/>
                </a:cubicBezTo>
              </a:path>
              <a:path w="596" h="596">
                <a:moveTo>
                  <a:pt x="23416" y="5556"/>
                </a:moveTo>
                <a:cubicBezTo>
                  <a:pt x="23500" y="5556"/>
                  <a:pt x="23514" y="5544"/>
                  <a:pt x="23564" y="5606"/>
                </a:cubicBezTo>
                <a:cubicBezTo>
                  <a:pt x="23585" y="5632"/>
                  <a:pt x="23658" y="5652"/>
                  <a:pt x="23688" y="5655"/>
                </a:cubicBezTo>
                <a:cubicBezTo>
                  <a:pt x="23733" y="5660"/>
                  <a:pt x="23772" y="5693"/>
                  <a:pt x="23812" y="5705"/>
                </a:cubicBezTo>
                <a:cubicBezTo>
                  <a:pt x="23847" y="5716"/>
                  <a:pt x="23880" y="5719"/>
                  <a:pt x="23912" y="5730"/>
                </a:cubicBezTo>
                <a:cubicBezTo>
                  <a:pt x="23920" y="5730"/>
                  <a:pt x="23929" y="5730"/>
                  <a:pt x="23937" y="5730"/>
                </a:cubicBezTo>
                <a:cubicBezTo>
                  <a:pt x="23959" y="5800"/>
                  <a:pt x="23961" y="5717"/>
                  <a:pt x="23961" y="5680"/>
                </a:cubicBezTo>
                <a:cubicBezTo>
                  <a:pt x="23961" y="5672"/>
                  <a:pt x="23961" y="5663"/>
                  <a:pt x="23961" y="5655"/>
                </a:cubicBezTo>
              </a:path>
              <a:path w="596" h="596">
                <a:moveTo>
                  <a:pt x="23688" y="5383"/>
                </a:moveTo>
                <a:cubicBezTo>
                  <a:pt x="23688" y="5391"/>
                  <a:pt x="23688" y="5399"/>
                  <a:pt x="23688" y="5407"/>
                </a:cubicBezTo>
                <a:cubicBezTo>
                  <a:pt x="23688" y="5334"/>
                  <a:pt x="23688" y="5468"/>
                  <a:pt x="23688" y="5482"/>
                </a:cubicBezTo>
                <a:cubicBezTo>
                  <a:pt x="23688" y="5565"/>
                  <a:pt x="23688" y="5647"/>
                  <a:pt x="23688" y="5730"/>
                </a:cubicBezTo>
                <a:cubicBezTo>
                  <a:pt x="23688" y="5705"/>
                  <a:pt x="23688" y="5697"/>
                  <a:pt x="23713" y="5705"/>
                </a:cubicBezTo>
              </a:path>
              <a:path w="596" h="596">
                <a:moveTo>
                  <a:pt x="23713" y="5680"/>
                </a:moveTo>
                <a:cubicBezTo>
                  <a:pt x="23713" y="5655"/>
                  <a:pt x="23713" y="5647"/>
                  <a:pt x="23713" y="5631"/>
                </a:cubicBezTo>
                <a:cubicBezTo>
                  <a:pt x="23609" y="5631"/>
                  <a:pt x="23692" y="5626"/>
                  <a:pt x="23639" y="5705"/>
                </a:cubicBezTo>
                <a:cubicBezTo>
                  <a:pt x="23619" y="5735"/>
                  <a:pt x="23576" y="5726"/>
                  <a:pt x="23540" y="5730"/>
                </a:cubicBezTo>
                <a:cubicBezTo>
                  <a:pt x="23507" y="5734"/>
                  <a:pt x="23505" y="5700"/>
                  <a:pt x="23490" y="5730"/>
                </a:cubicBezTo>
                <a:cubicBezTo>
                  <a:pt x="23490" y="5738"/>
                  <a:pt x="23490" y="5747"/>
                  <a:pt x="23490" y="5755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Ink 58"/>
          <p:cNvSpPr/>
          <p:nvPr/>
        </p:nvSpPr>
        <p:spPr>
          <a:xfrm>
            <a:off x="6589800" y="1687680"/>
            <a:ext cx="812880" cy="268200"/>
          </a:xfrm>
          <a:custGeom>
            <a:avLst/>
            <a:gdLst/>
            <a:ahLst/>
            <a:rect l="l" t="t" r="r" b="b"/>
            <a:pathLst>
              <a:path w="2258" h="745">
                <a:moveTo>
                  <a:pt x="19298" y="4688"/>
                </a:moveTo>
                <a:cubicBezTo>
                  <a:pt x="19247" y="4705"/>
                  <a:pt x="19302" y="4735"/>
                  <a:pt x="19248" y="4762"/>
                </a:cubicBezTo>
                <a:cubicBezTo>
                  <a:pt x="19201" y="4785"/>
                  <a:pt x="19168" y="4825"/>
                  <a:pt x="19124" y="4862"/>
                </a:cubicBezTo>
                <a:cubicBezTo>
                  <a:pt x="19094" y="4887"/>
                  <a:pt x="19011" y="4978"/>
                  <a:pt x="19000" y="5011"/>
                </a:cubicBezTo>
                <a:cubicBezTo>
                  <a:pt x="18980" y="5070"/>
                  <a:pt x="18956" y="5146"/>
                  <a:pt x="18951" y="5209"/>
                </a:cubicBezTo>
                <a:cubicBezTo>
                  <a:pt x="18947" y="5261"/>
                  <a:pt x="18965" y="5272"/>
                  <a:pt x="19000" y="5308"/>
                </a:cubicBezTo>
                <a:cubicBezTo>
                  <a:pt x="19033" y="5341"/>
                  <a:pt x="19102" y="5346"/>
                  <a:pt x="19149" y="5333"/>
                </a:cubicBezTo>
                <a:cubicBezTo>
                  <a:pt x="19205" y="5317"/>
                  <a:pt x="19300" y="5289"/>
                  <a:pt x="19348" y="5259"/>
                </a:cubicBezTo>
                <a:cubicBezTo>
                  <a:pt x="19394" y="5231"/>
                  <a:pt x="19416" y="5152"/>
                  <a:pt x="19447" y="5110"/>
                </a:cubicBezTo>
                <a:cubicBezTo>
                  <a:pt x="19482" y="5064"/>
                  <a:pt x="19472" y="5020"/>
                  <a:pt x="19472" y="4961"/>
                </a:cubicBezTo>
                <a:cubicBezTo>
                  <a:pt x="19472" y="4922"/>
                  <a:pt x="19456" y="4816"/>
                  <a:pt x="19422" y="4787"/>
                </a:cubicBezTo>
                <a:cubicBezTo>
                  <a:pt x="19401" y="4769"/>
                  <a:pt x="19355" y="4762"/>
                  <a:pt x="19323" y="4762"/>
                </a:cubicBezTo>
                <a:cubicBezTo>
                  <a:pt x="19271" y="4762"/>
                  <a:pt x="19270" y="4757"/>
                  <a:pt x="19248" y="4787"/>
                </a:cubicBezTo>
                <a:cubicBezTo>
                  <a:pt x="19206" y="4845"/>
                  <a:pt x="19180" y="4859"/>
                  <a:pt x="19174" y="4936"/>
                </a:cubicBezTo>
                <a:cubicBezTo>
                  <a:pt x="19174" y="4944"/>
                  <a:pt x="19174" y="4953"/>
                  <a:pt x="19174" y="4961"/>
                </a:cubicBezTo>
              </a:path>
              <a:path w="2258" h="745">
                <a:moveTo>
                  <a:pt x="19596" y="5184"/>
                </a:moveTo>
                <a:cubicBezTo>
                  <a:pt x="19556" y="5197"/>
                  <a:pt x="19556" y="5197"/>
                  <a:pt x="19596" y="5184"/>
                </a:cubicBezTo>
              </a:path>
              <a:path w="2258" h="745">
                <a:moveTo>
                  <a:pt x="19869" y="4837"/>
                </a:moveTo>
                <a:cubicBezTo>
                  <a:pt x="19908" y="4827"/>
                  <a:pt x="19923" y="4812"/>
                  <a:pt x="19968" y="4812"/>
                </a:cubicBezTo>
                <a:cubicBezTo>
                  <a:pt x="20002" y="4812"/>
                  <a:pt x="20029" y="4766"/>
                  <a:pt x="20067" y="4787"/>
                </a:cubicBezTo>
                <a:cubicBezTo>
                  <a:pt x="20090" y="4810"/>
                  <a:pt x="20098" y="4814"/>
                  <a:pt x="20092" y="4837"/>
                </a:cubicBezTo>
              </a:path>
              <a:path w="2258" h="745">
                <a:moveTo>
                  <a:pt x="19918" y="4862"/>
                </a:moveTo>
                <a:cubicBezTo>
                  <a:pt x="19918" y="4921"/>
                  <a:pt x="19890" y="4913"/>
                  <a:pt x="19869" y="4961"/>
                </a:cubicBezTo>
                <a:cubicBezTo>
                  <a:pt x="19854" y="4996"/>
                  <a:pt x="19835" y="5025"/>
                  <a:pt x="19819" y="5060"/>
                </a:cubicBezTo>
                <a:cubicBezTo>
                  <a:pt x="19800" y="5103"/>
                  <a:pt x="19832" y="5131"/>
                  <a:pt x="19869" y="5135"/>
                </a:cubicBezTo>
                <a:cubicBezTo>
                  <a:pt x="19913" y="5140"/>
                  <a:pt x="20018" y="5111"/>
                  <a:pt x="20042" y="5159"/>
                </a:cubicBezTo>
                <a:cubicBezTo>
                  <a:pt x="20059" y="5193"/>
                  <a:pt x="20037" y="5237"/>
                  <a:pt x="20017" y="5259"/>
                </a:cubicBezTo>
                <a:cubicBezTo>
                  <a:pt x="19985" y="5295"/>
                  <a:pt x="19950" y="5312"/>
                  <a:pt x="19918" y="5333"/>
                </a:cubicBezTo>
                <a:cubicBezTo>
                  <a:pt x="19895" y="5348"/>
                  <a:pt x="19854" y="5377"/>
                  <a:pt x="19819" y="5358"/>
                </a:cubicBezTo>
                <a:cubicBezTo>
                  <a:pt x="19773" y="5333"/>
                  <a:pt x="19789" y="5293"/>
                  <a:pt x="19819" y="5283"/>
                </a:cubicBezTo>
              </a:path>
              <a:path w="2258" h="745">
                <a:moveTo>
                  <a:pt x="20439" y="4837"/>
                </a:moveTo>
                <a:cubicBezTo>
                  <a:pt x="20415" y="4870"/>
                  <a:pt x="20409" y="4906"/>
                  <a:pt x="20389" y="4936"/>
                </a:cubicBezTo>
                <a:cubicBezTo>
                  <a:pt x="20357" y="4986"/>
                  <a:pt x="20339" y="5013"/>
                  <a:pt x="20315" y="5060"/>
                </a:cubicBezTo>
                <a:cubicBezTo>
                  <a:pt x="20294" y="5101"/>
                  <a:pt x="20270" y="5132"/>
                  <a:pt x="20265" y="5184"/>
                </a:cubicBezTo>
                <a:cubicBezTo>
                  <a:pt x="20260" y="5234"/>
                  <a:pt x="20243" y="5384"/>
                  <a:pt x="20290" y="5407"/>
                </a:cubicBezTo>
                <a:cubicBezTo>
                  <a:pt x="20310" y="5417"/>
                  <a:pt x="20369" y="5425"/>
                  <a:pt x="20389" y="5432"/>
                </a:cubicBezTo>
                <a:cubicBezTo>
                  <a:pt x="20417" y="5441"/>
                  <a:pt x="20471" y="5417"/>
                  <a:pt x="20489" y="5407"/>
                </a:cubicBezTo>
                <a:cubicBezTo>
                  <a:pt x="20518" y="5392"/>
                  <a:pt x="20554" y="5335"/>
                  <a:pt x="20563" y="5308"/>
                </a:cubicBezTo>
                <a:cubicBezTo>
                  <a:pt x="20574" y="5275"/>
                  <a:pt x="20533" y="5237"/>
                  <a:pt x="20513" y="5234"/>
                </a:cubicBezTo>
                <a:cubicBezTo>
                  <a:pt x="20473" y="5229"/>
                  <a:pt x="20460" y="5209"/>
                  <a:pt x="20414" y="5209"/>
                </a:cubicBezTo>
                <a:cubicBezTo>
                  <a:pt x="20361" y="5209"/>
                  <a:pt x="20313" y="5215"/>
                  <a:pt x="20265" y="5234"/>
                </a:cubicBezTo>
                <a:cubicBezTo>
                  <a:pt x="20215" y="5254"/>
                  <a:pt x="20166" y="5284"/>
                  <a:pt x="20117" y="5308"/>
                </a:cubicBezTo>
              </a:path>
              <a:path w="2258" h="745">
                <a:moveTo>
                  <a:pt x="18703" y="4812"/>
                </a:moveTo>
                <a:cubicBezTo>
                  <a:pt x="18689" y="4908"/>
                  <a:pt x="18660" y="4870"/>
                  <a:pt x="18604" y="4936"/>
                </a:cubicBezTo>
                <a:cubicBezTo>
                  <a:pt x="18569" y="4977"/>
                  <a:pt x="18544" y="5020"/>
                  <a:pt x="18504" y="5060"/>
                </a:cubicBezTo>
                <a:cubicBezTo>
                  <a:pt x="18475" y="5089"/>
                  <a:pt x="18464" y="5107"/>
                  <a:pt x="18455" y="5135"/>
                </a:cubicBezTo>
                <a:cubicBezTo>
                  <a:pt x="18455" y="5127"/>
                  <a:pt x="18455" y="5118"/>
                  <a:pt x="18455" y="5110"/>
                </a:cubicBezTo>
              </a:path>
              <a:path w="2258" h="745">
                <a:moveTo>
                  <a:pt x="18430" y="4837"/>
                </a:moveTo>
                <a:cubicBezTo>
                  <a:pt x="18439" y="4872"/>
                  <a:pt x="18467" y="4940"/>
                  <a:pt x="18504" y="4961"/>
                </a:cubicBezTo>
                <a:cubicBezTo>
                  <a:pt x="18546" y="4984"/>
                  <a:pt x="18603" y="4986"/>
                  <a:pt x="18653" y="4986"/>
                </a:cubicBezTo>
                <a:cubicBezTo>
                  <a:pt x="18696" y="4986"/>
                  <a:pt x="18691" y="4996"/>
                  <a:pt x="18703" y="4961"/>
                </a:cubicBezTo>
              </a:path>
              <a:path w="2258" h="745">
                <a:moveTo>
                  <a:pt x="18628" y="4738"/>
                </a:moveTo>
                <a:cubicBezTo>
                  <a:pt x="18628" y="4792"/>
                  <a:pt x="18617" y="4810"/>
                  <a:pt x="18604" y="4862"/>
                </a:cubicBezTo>
                <a:cubicBezTo>
                  <a:pt x="18593" y="4906"/>
                  <a:pt x="18604" y="4966"/>
                  <a:pt x="18604" y="5011"/>
                </a:cubicBezTo>
                <a:cubicBezTo>
                  <a:pt x="18558" y="5026"/>
                  <a:pt x="18579" y="5035"/>
                  <a:pt x="18504" y="5035"/>
                </a:cubicBezTo>
                <a:cubicBezTo>
                  <a:pt x="18471" y="5035"/>
                  <a:pt x="18438" y="5035"/>
                  <a:pt x="18405" y="5035"/>
                </a:cubicBezTo>
              </a:path>
              <a:path w="2258" h="745">
                <a:moveTo>
                  <a:pt x="18306" y="4961"/>
                </a:moveTo>
                <a:cubicBezTo>
                  <a:pt x="18367" y="4973"/>
                  <a:pt x="18413" y="4986"/>
                  <a:pt x="18479" y="4986"/>
                </a:cubicBezTo>
                <a:cubicBezTo>
                  <a:pt x="18545" y="4986"/>
                  <a:pt x="18612" y="4986"/>
                  <a:pt x="18678" y="498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Ink 59"/>
          <p:cNvSpPr/>
          <p:nvPr/>
        </p:nvSpPr>
        <p:spPr>
          <a:xfrm>
            <a:off x="312840" y="5411880"/>
            <a:ext cx="187200" cy="312480"/>
          </a:xfrm>
          <a:custGeom>
            <a:avLst/>
            <a:gdLst/>
            <a:ahLst/>
            <a:rect l="l" t="t" r="r" b="b"/>
            <a:pathLst>
              <a:path w="522" h="869">
                <a:moveTo>
                  <a:pt x="1290" y="15056"/>
                </a:moveTo>
                <a:cubicBezTo>
                  <a:pt x="1319" y="15071"/>
                  <a:pt x="1252" y="15143"/>
                  <a:pt x="1240" y="15205"/>
                </a:cubicBezTo>
                <a:cubicBezTo>
                  <a:pt x="1224" y="15290"/>
                  <a:pt x="1212" y="15375"/>
                  <a:pt x="1166" y="15453"/>
                </a:cubicBezTo>
                <a:cubicBezTo>
                  <a:pt x="1116" y="15538"/>
                  <a:pt x="1074" y="15619"/>
                  <a:pt x="1042" y="15701"/>
                </a:cubicBezTo>
                <a:cubicBezTo>
                  <a:pt x="1024" y="15748"/>
                  <a:pt x="991" y="15813"/>
                  <a:pt x="967" y="15850"/>
                </a:cubicBezTo>
                <a:cubicBezTo>
                  <a:pt x="940" y="15892"/>
                  <a:pt x="915" y="15902"/>
                  <a:pt x="943" y="15850"/>
                </a:cubicBezTo>
                <a:cubicBezTo>
                  <a:pt x="963" y="15812"/>
                  <a:pt x="967" y="15821"/>
                  <a:pt x="967" y="15776"/>
                </a:cubicBezTo>
              </a:path>
              <a:path w="522" h="869">
                <a:moveTo>
                  <a:pt x="918" y="15230"/>
                </a:moveTo>
                <a:cubicBezTo>
                  <a:pt x="927" y="15266"/>
                  <a:pt x="944" y="15320"/>
                  <a:pt x="967" y="15354"/>
                </a:cubicBezTo>
                <a:cubicBezTo>
                  <a:pt x="997" y="15399"/>
                  <a:pt x="1011" y="15439"/>
                  <a:pt x="1042" y="15478"/>
                </a:cubicBezTo>
                <a:cubicBezTo>
                  <a:pt x="1075" y="15518"/>
                  <a:pt x="1128" y="15539"/>
                  <a:pt x="1166" y="15577"/>
                </a:cubicBezTo>
                <a:cubicBezTo>
                  <a:pt x="1195" y="15606"/>
                  <a:pt x="1229" y="15640"/>
                  <a:pt x="1265" y="15652"/>
                </a:cubicBezTo>
                <a:cubicBezTo>
                  <a:pt x="1296" y="15662"/>
                  <a:pt x="1373" y="15659"/>
                  <a:pt x="1389" y="15627"/>
                </a:cubicBezTo>
                <a:cubicBezTo>
                  <a:pt x="1389" y="15619"/>
                  <a:pt x="1389" y="15610"/>
                  <a:pt x="1389" y="15602"/>
                </a:cubicBezTo>
              </a:path>
              <a:path w="522" h="869">
                <a:moveTo>
                  <a:pt x="1166" y="15032"/>
                </a:moveTo>
                <a:cubicBezTo>
                  <a:pt x="1166" y="15280"/>
                  <a:pt x="1166" y="15528"/>
                  <a:pt x="1166" y="15776"/>
                </a:cubicBezTo>
              </a:path>
              <a:path w="522" h="869">
                <a:moveTo>
                  <a:pt x="868" y="15627"/>
                </a:moveTo>
                <a:cubicBezTo>
                  <a:pt x="891" y="15604"/>
                  <a:pt x="899" y="15600"/>
                  <a:pt x="893" y="15577"/>
                </a:cubicBezTo>
                <a:cubicBezTo>
                  <a:pt x="939" y="15577"/>
                  <a:pt x="1003" y="15572"/>
                  <a:pt x="1042" y="15553"/>
                </a:cubicBezTo>
                <a:cubicBezTo>
                  <a:pt x="1085" y="15531"/>
                  <a:pt x="1122" y="15544"/>
                  <a:pt x="1166" y="15528"/>
                </a:cubicBezTo>
                <a:cubicBezTo>
                  <a:pt x="1205" y="15514"/>
                  <a:pt x="1283" y="15498"/>
                  <a:pt x="1315" y="15478"/>
                </a:cubicBezTo>
                <a:cubicBezTo>
                  <a:pt x="1346" y="15459"/>
                  <a:pt x="1356" y="15434"/>
                  <a:pt x="1364" y="15404"/>
                </a:cubicBezTo>
                <a:cubicBezTo>
                  <a:pt x="1389" y="15404"/>
                  <a:pt x="1397" y="15404"/>
                  <a:pt x="1389" y="15379"/>
                </a:cubicBezTo>
              </a:path>
              <a:path w="522" h="869">
                <a:moveTo>
                  <a:pt x="1091" y="15106"/>
                </a:moveTo>
                <a:cubicBezTo>
                  <a:pt x="1091" y="15240"/>
                  <a:pt x="1054" y="15431"/>
                  <a:pt x="1116" y="15553"/>
                </a:cubicBezTo>
                <a:cubicBezTo>
                  <a:pt x="1140" y="15600"/>
                  <a:pt x="1160" y="15674"/>
                  <a:pt x="1166" y="15726"/>
                </a:cubicBezTo>
                <a:cubicBezTo>
                  <a:pt x="1166" y="15751"/>
                  <a:pt x="1166" y="15759"/>
                  <a:pt x="1191" y="15751"/>
                </a:cubicBezTo>
              </a:path>
              <a:path w="522" h="869">
                <a:moveTo>
                  <a:pt x="1067" y="15304"/>
                </a:moveTo>
                <a:cubicBezTo>
                  <a:pt x="1093" y="15340"/>
                  <a:pt x="1126" y="15384"/>
                  <a:pt x="1141" y="15429"/>
                </a:cubicBezTo>
                <a:cubicBezTo>
                  <a:pt x="1158" y="15479"/>
                  <a:pt x="1195" y="15508"/>
                  <a:pt x="1215" y="15553"/>
                </a:cubicBezTo>
                <a:cubicBezTo>
                  <a:pt x="1230" y="15587"/>
                  <a:pt x="1240" y="15611"/>
                  <a:pt x="1240" y="15652"/>
                </a:cubicBezTo>
                <a:cubicBezTo>
                  <a:pt x="1240" y="15691"/>
                  <a:pt x="1224" y="15677"/>
                  <a:pt x="1191" y="156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60"/>
          <p:cNvSpPr/>
          <p:nvPr/>
        </p:nvSpPr>
        <p:spPr>
          <a:xfrm>
            <a:off x="5392800" y="5537160"/>
            <a:ext cx="447480" cy="150840"/>
          </a:xfrm>
          <a:custGeom>
            <a:avLst/>
            <a:gdLst/>
            <a:ahLst/>
            <a:rect l="l" t="t" r="r" b="b"/>
            <a:pathLst>
              <a:path w="1241" h="423">
                <a:moveTo>
                  <a:pt x="15156" y="15478"/>
                </a:moveTo>
                <a:cubicBezTo>
                  <a:pt x="15156" y="15453"/>
                  <a:pt x="15156" y="15445"/>
                  <a:pt x="15131" y="15453"/>
                </a:cubicBezTo>
                <a:cubicBezTo>
                  <a:pt x="15101" y="15463"/>
                  <a:pt x="15088" y="15495"/>
                  <a:pt x="15056" y="15528"/>
                </a:cubicBezTo>
                <a:cubicBezTo>
                  <a:pt x="15023" y="15562"/>
                  <a:pt x="15029" y="15615"/>
                  <a:pt x="15007" y="15652"/>
                </a:cubicBezTo>
                <a:cubicBezTo>
                  <a:pt x="14993" y="15676"/>
                  <a:pt x="14962" y="15716"/>
                  <a:pt x="14982" y="15751"/>
                </a:cubicBezTo>
                <a:cubicBezTo>
                  <a:pt x="15006" y="15794"/>
                  <a:pt x="15038" y="15801"/>
                  <a:pt x="15081" y="15801"/>
                </a:cubicBezTo>
                <a:cubicBezTo>
                  <a:pt x="15165" y="15801"/>
                  <a:pt x="15281" y="15825"/>
                  <a:pt x="15354" y="15776"/>
                </a:cubicBezTo>
                <a:cubicBezTo>
                  <a:pt x="15404" y="15742"/>
                  <a:pt x="15399" y="15728"/>
                  <a:pt x="15429" y="15677"/>
                </a:cubicBezTo>
                <a:cubicBezTo>
                  <a:pt x="15453" y="15637"/>
                  <a:pt x="15453" y="15626"/>
                  <a:pt x="15453" y="15577"/>
                </a:cubicBezTo>
                <a:cubicBezTo>
                  <a:pt x="15453" y="15534"/>
                  <a:pt x="15408" y="15507"/>
                  <a:pt x="15379" y="15478"/>
                </a:cubicBezTo>
                <a:cubicBezTo>
                  <a:pt x="15338" y="15437"/>
                  <a:pt x="15319" y="15451"/>
                  <a:pt x="15280" y="15429"/>
                </a:cubicBezTo>
                <a:cubicBezTo>
                  <a:pt x="15231" y="15401"/>
                  <a:pt x="15208" y="15388"/>
                  <a:pt x="15156" y="15429"/>
                </a:cubicBezTo>
                <a:cubicBezTo>
                  <a:pt x="15115" y="15462"/>
                  <a:pt x="15106" y="15478"/>
                  <a:pt x="15106" y="15528"/>
                </a:cubicBezTo>
                <a:cubicBezTo>
                  <a:pt x="15106" y="15536"/>
                  <a:pt x="15106" y="15545"/>
                  <a:pt x="15106" y="15553"/>
                </a:cubicBezTo>
              </a:path>
              <a:path w="1241" h="423">
                <a:moveTo>
                  <a:pt x="15677" y="15602"/>
                </a:moveTo>
                <a:cubicBezTo>
                  <a:pt x="15677" y="15610"/>
                  <a:pt x="15677" y="15694"/>
                  <a:pt x="15677" y="15627"/>
                </a:cubicBezTo>
              </a:path>
              <a:path w="1241" h="423">
                <a:moveTo>
                  <a:pt x="15825" y="15379"/>
                </a:moveTo>
                <a:cubicBezTo>
                  <a:pt x="15838" y="15419"/>
                  <a:pt x="15874" y="15404"/>
                  <a:pt x="15925" y="15404"/>
                </a:cubicBezTo>
                <a:cubicBezTo>
                  <a:pt x="15987" y="15404"/>
                  <a:pt x="16022" y="15385"/>
                  <a:pt x="16073" y="15379"/>
                </a:cubicBezTo>
                <a:cubicBezTo>
                  <a:pt x="16121" y="15374"/>
                  <a:pt x="16173" y="15379"/>
                  <a:pt x="16222" y="15379"/>
                </a:cubicBezTo>
                <a:cubicBezTo>
                  <a:pt x="16222" y="15421"/>
                  <a:pt x="16211" y="15443"/>
                  <a:pt x="16197" y="15478"/>
                </a:cubicBezTo>
                <a:cubicBezTo>
                  <a:pt x="16178" y="15525"/>
                  <a:pt x="16137" y="15560"/>
                  <a:pt x="16123" y="15602"/>
                </a:cubicBezTo>
                <a:cubicBezTo>
                  <a:pt x="16114" y="15627"/>
                  <a:pt x="16111" y="15678"/>
                  <a:pt x="16098" y="15701"/>
                </a:cubicBezTo>
                <a:cubicBezTo>
                  <a:pt x="16075" y="15724"/>
                  <a:pt x="16067" y="15728"/>
                  <a:pt x="16073" y="15751"/>
                </a:cubicBezTo>
                <a:cubicBezTo>
                  <a:pt x="16110" y="15742"/>
                  <a:pt x="16119" y="15730"/>
                  <a:pt x="16148" y="1570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61"/>
          <p:cNvSpPr/>
          <p:nvPr/>
        </p:nvSpPr>
        <p:spPr>
          <a:xfrm>
            <a:off x="5956200" y="5545080"/>
            <a:ext cx="142920" cy="1080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6892" y="15404"/>
                </a:moveTo>
                <a:cubicBezTo>
                  <a:pt x="16879" y="15456"/>
                  <a:pt x="16855" y="15453"/>
                  <a:pt x="16818" y="15478"/>
                </a:cubicBezTo>
                <a:cubicBezTo>
                  <a:pt x="16777" y="15506"/>
                  <a:pt x="16731" y="15544"/>
                  <a:pt x="16694" y="15577"/>
                </a:cubicBezTo>
                <a:cubicBezTo>
                  <a:pt x="16663" y="15605"/>
                  <a:pt x="16657" y="15618"/>
                  <a:pt x="16619" y="15627"/>
                </a:cubicBezTo>
                <a:cubicBezTo>
                  <a:pt x="16609" y="15667"/>
                  <a:pt x="16610" y="15667"/>
                  <a:pt x="16570" y="15677"/>
                </a:cubicBezTo>
                <a:cubicBezTo>
                  <a:pt x="16558" y="15712"/>
                  <a:pt x="16557" y="15712"/>
                  <a:pt x="16545" y="15677"/>
                </a:cubicBezTo>
              </a:path>
              <a:path w="398" h="298">
                <a:moveTo>
                  <a:pt x="16570" y="15453"/>
                </a:moveTo>
                <a:cubicBezTo>
                  <a:pt x="16570" y="15461"/>
                  <a:pt x="16570" y="15470"/>
                  <a:pt x="16570" y="15478"/>
                </a:cubicBezTo>
                <a:cubicBezTo>
                  <a:pt x="16629" y="15493"/>
                  <a:pt x="16598" y="15530"/>
                  <a:pt x="16644" y="15553"/>
                </a:cubicBezTo>
                <a:cubicBezTo>
                  <a:pt x="16685" y="15573"/>
                  <a:pt x="16682" y="15608"/>
                  <a:pt x="16718" y="15627"/>
                </a:cubicBezTo>
                <a:cubicBezTo>
                  <a:pt x="16744" y="15640"/>
                  <a:pt x="16787" y="15646"/>
                  <a:pt x="16818" y="15652"/>
                </a:cubicBezTo>
                <a:cubicBezTo>
                  <a:pt x="16830" y="15690"/>
                  <a:pt x="16847" y="15677"/>
                  <a:pt x="16892" y="15677"/>
                </a:cubicBezTo>
                <a:cubicBezTo>
                  <a:pt x="16917" y="15677"/>
                  <a:pt x="16925" y="15677"/>
                  <a:pt x="16942" y="156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62"/>
          <p:cNvSpPr/>
          <p:nvPr/>
        </p:nvSpPr>
        <p:spPr>
          <a:xfrm>
            <a:off x="6224760" y="5510160"/>
            <a:ext cx="436320" cy="196920"/>
          </a:xfrm>
          <a:custGeom>
            <a:avLst/>
            <a:gdLst/>
            <a:ahLst/>
            <a:rect l="l" t="t" r="r" b="b"/>
            <a:pathLst>
              <a:path w="1216" h="547">
                <a:moveTo>
                  <a:pt x="17487" y="15329"/>
                </a:moveTo>
                <a:cubicBezTo>
                  <a:pt x="17481" y="15347"/>
                  <a:pt x="17444" y="15390"/>
                  <a:pt x="17413" y="15404"/>
                </a:cubicBezTo>
                <a:cubicBezTo>
                  <a:pt x="17372" y="15422"/>
                  <a:pt x="17357" y="15452"/>
                  <a:pt x="17338" y="15478"/>
                </a:cubicBezTo>
                <a:cubicBezTo>
                  <a:pt x="17315" y="15510"/>
                  <a:pt x="17299" y="15561"/>
                  <a:pt x="17289" y="15602"/>
                </a:cubicBezTo>
                <a:cubicBezTo>
                  <a:pt x="17274" y="15660"/>
                  <a:pt x="17320" y="15659"/>
                  <a:pt x="17338" y="15701"/>
                </a:cubicBezTo>
                <a:cubicBezTo>
                  <a:pt x="17352" y="15733"/>
                  <a:pt x="17387" y="15748"/>
                  <a:pt x="17438" y="15751"/>
                </a:cubicBezTo>
                <a:cubicBezTo>
                  <a:pt x="17492" y="15755"/>
                  <a:pt x="17566" y="15754"/>
                  <a:pt x="17611" y="15726"/>
                </a:cubicBezTo>
                <a:cubicBezTo>
                  <a:pt x="17636" y="15711"/>
                  <a:pt x="17723" y="15641"/>
                  <a:pt x="17735" y="15627"/>
                </a:cubicBezTo>
                <a:cubicBezTo>
                  <a:pt x="17751" y="15607"/>
                  <a:pt x="17777" y="15533"/>
                  <a:pt x="17760" y="15503"/>
                </a:cubicBezTo>
                <a:cubicBezTo>
                  <a:pt x="17744" y="15473"/>
                  <a:pt x="17688" y="15394"/>
                  <a:pt x="17661" y="15379"/>
                </a:cubicBezTo>
                <a:cubicBezTo>
                  <a:pt x="17620" y="15356"/>
                  <a:pt x="17513" y="15379"/>
                  <a:pt x="17462" y="15379"/>
                </a:cubicBezTo>
                <a:cubicBezTo>
                  <a:pt x="17462" y="15440"/>
                  <a:pt x="17471" y="15426"/>
                  <a:pt x="17512" y="15453"/>
                </a:cubicBezTo>
                <a:cubicBezTo>
                  <a:pt x="17520" y="15461"/>
                  <a:pt x="17529" y="15470"/>
                  <a:pt x="17537" y="15478"/>
                </a:cubicBezTo>
              </a:path>
              <a:path w="1216" h="547">
                <a:moveTo>
                  <a:pt x="17884" y="15478"/>
                </a:moveTo>
                <a:cubicBezTo>
                  <a:pt x="17884" y="15503"/>
                  <a:pt x="17884" y="15528"/>
                  <a:pt x="17884" y="15553"/>
                </a:cubicBezTo>
                <a:cubicBezTo>
                  <a:pt x="17917" y="15553"/>
                  <a:pt x="17950" y="15553"/>
                  <a:pt x="17983" y="15553"/>
                </a:cubicBezTo>
              </a:path>
              <a:path w="1216" h="547">
                <a:moveTo>
                  <a:pt x="18355" y="15329"/>
                </a:moveTo>
                <a:cubicBezTo>
                  <a:pt x="18319" y="15320"/>
                  <a:pt x="18284" y="15347"/>
                  <a:pt x="18256" y="15379"/>
                </a:cubicBezTo>
                <a:cubicBezTo>
                  <a:pt x="18221" y="15420"/>
                  <a:pt x="18207" y="15424"/>
                  <a:pt x="18207" y="15478"/>
                </a:cubicBezTo>
                <a:cubicBezTo>
                  <a:pt x="18207" y="15527"/>
                  <a:pt x="18270" y="15546"/>
                  <a:pt x="18306" y="15553"/>
                </a:cubicBezTo>
                <a:cubicBezTo>
                  <a:pt x="18343" y="15561"/>
                  <a:pt x="18455" y="15572"/>
                  <a:pt x="18479" y="15602"/>
                </a:cubicBezTo>
                <a:cubicBezTo>
                  <a:pt x="18497" y="15625"/>
                  <a:pt x="18504" y="15668"/>
                  <a:pt x="18504" y="15701"/>
                </a:cubicBezTo>
                <a:cubicBezTo>
                  <a:pt x="18504" y="15754"/>
                  <a:pt x="18446" y="15780"/>
                  <a:pt x="18405" y="15801"/>
                </a:cubicBezTo>
                <a:cubicBezTo>
                  <a:pt x="18353" y="15828"/>
                  <a:pt x="18314" y="15850"/>
                  <a:pt x="18256" y="15850"/>
                </a:cubicBezTo>
                <a:cubicBezTo>
                  <a:pt x="18231" y="15850"/>
                  <a:pt x="18223" y="15850"/>
                  <a:pt x="18207" y="15850"/>
                </a:cubicBezTo>
                <a:cubicBezTo>
                  <a:pt x="18207" y="15802"/>
                  <a:pt x="18212" y="15757"/>
                  <a:pt x="18256" y="15726"/>
                </a:cubicBezTo>
                <a:cubicBezTo>
                  <a:pt x="18297" y="15697"/>
                  <a:pt x="18380" y="15647"/>
                  <a:pt x="18405" y="15602"/>
                </a:cubicBezTo>
                <a:cubicBezTo>
                  <a:pt x="18426" y="15564"/>
                  <a:pt x="18410" y="15408"/>
                  <a:pt x="18380" y="15404"/>
                </a:cubicBezTo>
                <a:cubicBezTo>
                  <a:pt x="18369" y="15403"/>
                  <a:pt x="18279" y="15351"/>
                  <a:pt x="18306" y="15404"/>
                </a:cubicBezTo>
                <a:cubicBezTo>
                  <a:pt x="18323" y="15438"/>
                  <a:pt x="18350" y="15429"/>
                  <a:pt x="18380" y="1542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63"/>
          <p:cNvSpPr/>
          <p:nvPr/>
        </p:nvSpPr>
        <p:spPr>
          <a:xfrm>
            <a:off x="6777000" y="5562720"/>
            <a:ext cx="117360" cy="982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9075" y="15453"/>
                </a:moveTo>
                <a:cubicBezTo>
                  <a:pt x="19075" y="15461"/>
                  <a:pt x="19075" y="15470"/>
                  <a:pt x="19075" y="15478"/>
                </a:cubicBezTo>
                <a:cubicBezTo>
                  <a:pt x="19022" y="15491"/>
                  <a:pt x="19034" y="15515"/>
                  <a:pt x="19000" y="15553"/>
                </a:cubicBezTo>
                <a:cubicBezTo>
                  <a:pt x="18962" y="15595"/>
                  <a:pt x="18928" y="15637"/>
                  <a:pt x="18901" y="15677"/>
                </a:cubicBezTo>
                <a:cubicBezTo>
                  <a:pt x="18875" y="15715"/>
                  <a:pt x="18866" y="15731"/>
                  <a:pt x="18852" y="15701"/>
                </a:cubicBezTo>
              </a:path>
              <a:path w="323" h="274">
                <a:moveTo>
                  <a:pt x="18827" y="15528"/>
                </a:moveTo>
                <a:cubicBezTo>
                  <a:pt x="18857" y="15536"/>
                  <a:pt x="18871" y="15545"/>
                  <a:pt x="18901" y="15553"/>
                </a:cubicBezTo>
                <a:cubicBezTo>
                  <a:pt x="18910" y="15589"/>
                  <a:pt x="18939" y="15614"/>
                  <a:pt x="18976" y="15627"/>
                </a:cubicBezTo>
                <a:cubicBezTo>
                  <a:pt x="19013" y="15640"/>
                  <a:pt x="19032" y="15652"/>
                  <a:pt x="19075" y="15652"/>
                </a:cubicBezTo>
                <a:cubicBezTo>
                  <a:pt x="19119" y="15652"/>
                  <a:pt x="19114" y="15650"/>
                  <a:pt x="19149" y="156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64"/>
          <p:cNvSpPr/>
          <p:nvPr/>
        </p:nvSpPr>
        <p:spPr>
          <a:xfrm>
            <a:off x="7010280" y="5518080"/>
            <a:ext cx="1009800" cy="216000"/>
          </a:xfrm>
          <a:custGeom>
            <a:avLst/>
            <a:gdLst/>
            <a:ahLst/>
            <a:rect l="l" t="t" r="r" b="b"/>
            <a:pathLst>
              <a:path w="2804" h="597">
                <a:moveTo>
                  <a:pt x="19645" y="15404"/>
                </a:moveTo>
                <a:cubicBezTo>
                  <a:pt x="19617" y="15414"/>
                  <a:pt x="19603" y="15425"/>
                  <a:pt x="19571" y="15453"/>
                </a:cubicBezTo>
                <a:cubicBezTo>
                  <a:pt x="19517" y="15500"/>
                  <a:pt x="19522" y="15523"/>
                  <a:pt x="19496" y="15577"/>
                </a:cubicBezTo>
                <a:cubicBezTo>
                  <a:pt x="19476" y="15618"/>
                  <a:pt x="19472" y="15627"/>
                  <a:pt x="19472" y="15677"/>
                </a:cubicBezTo>
                <a:cubicBezTo>
                  <a:pt x="19472" y="15719"/>
                  <a:pt x="19507" y="15747"/>
                  <a:pt x="19546" y="15751"/>
                </a:cubicBezTo>
                <a:cubicBezTo>
                  <a:pt x="19604" y="15757"/>
                  <a:pt x="19670" y="15759"/>
                  <a:pt x="19720" y="15726"/>
                </a:cubicBezTo>
                <a:cubicBezTo>
                  <a:pt x="19766" y="15696"/>
                  <a:pt x="19827" y="15628"/>
                  <a:pt x="19844" y="15577"/>
                </a:cubicBezTo>
                <a:cubicBezTo>
                  <a:pt x="19859" y="15533"/>
                  <a:pt x="19847" y="15484"/>
                  <a:pt x="19819" y="15453"/>
                </a:cubicBezTo>
                <a:cubicBezTo>
                  <a:pt x="19774" y="15404"/>
                  <a:pt x="19761" y="15404"/>
                  <a:pt x="19695" y="15404"/>
                </a:cubicBezTo>
                <a:cubicBezTo>
                  <a:pt x="19670" y="15404"/>
                  <a:pt x="19646" y="15404"/>
                  <a:pt x="19621" y="15404"/>
                </a:cubicBezTo>
                <a:cubicBezTo>
                  <a:pt x="19621" y="15444"/>
                  <a:pt x="19626" y="15484"/>
                  <a:pt x="19670" y="15503"/>
                </a:cubicBezTo>
                <a:cubicBezTo>
                  <a:pt x="19678" y="15503"/>
                  <a:pt x="19687" y="15503"/>
                  <a:pt x="19695" y="15503"/>
                </a:cubicBezTo>
              </a:path>
              <a:path w="2804" h="597">
                <a:moveTo>
                  <a:pt x="19893" y="15801"/>
                </a:moveTo>
                <a:cubicBezTo>
                  <a:pt x="19902" y="15775"/>
                  <a:pt x="19927" y="15750"/>
                  <a:pt x="19893" y="15801"/>
                </a:cubicBezTo>
              </a:path>
              <a:path w="2804" h="597">
                <a:moveTo>
                  <a:pt x="20042" y="15429"/>
                </a:moveTo>
                <a:cubicBezTo>
                  <a:pt x="20042" y="15375"/>
                  <a:pt x="20039" y="15459"/>
                  <a:pt x="20092" y="15429"/>
                </a:cubicBezTo>
                <a:cubicBezTo>
                  <a:pt x="20121" y="15413"/>
                  <a:pt x="20197" y="15418"/>
                  <a:pt x="20216" y="15404"/>
                </a:cubicBezTo>
                <a:cubicBezTo>
                  <a:pt x="20241" y="15386"/>
                  <a:pt x="20236" y="15379"/>
                  <a:pt x="20290" y="15379"/>
                </a:cubicBezTo>
                <a:cubicBezTo>
                  <a:pt x="20290" y="15430"/>
                  <a:pt x="20299" y="15464"/>
                  <a:pt x="20265" y="15503"/>
                </a:cubicBezTo>
                <a:cubicBezTo>
                  <a:pt x="20237" y="15535"/>
                  <a:pt x="20180" y="15571"/>
                  <a:pt x="20166" y="15577"/>
                </a:cubicBezTo>
                <a:cubicBezTo>
                  <a:pt x="20141" y="15577"/>
                  <a:pt x="20133" y="15577"/>
                  <a:pt x="20141" y="15602"/>
                </a:cubicBezTo>
                <a:cubicBezTo>
                  <a:pt x="20157" y="15614"/>
                  <a:pt x="20237" y="15621"/>
                  <a:pt x="20241" y="15627"/>
                </a:cubicBezTo>
                <a:cubicBezTo>
                  <a:pt x="20256" y="15646"/>
                  <a:pt x="20272" y="15674"/>
                  <a:pt x="20290" y="15701"/>
                </a:cubicBezTo>
                <a:cubicBezTo>
                  <a:pt x="20329" y="15759"/>
                  <a:pt x="20309" y="15745"/>
                  <a:pt x="20290" y="15801"/>
                </a:cubicBezTo>
                <a:cubicBezTo>
                  <a:pt x="20275" y="15844"/>
                  <a:pt x="20266" y="15856"/>
                  <a:pt x="20241" y="15875"/>
                </a:cubicBezTo>
                <a:cubicBezTo>
                  <a:pt x="20203" y="15904"/>
                  <a:pt x="20189" y="15900"/>
                  <a:pt x="20141" y="15900"/>
                </a:cubicBezTo>
                <a:cubicBezTo>
                  <a:pt x="20116" y="15900"/>
                  <a:pt x="20071" y="15857"/>
                  <a:pt x="20067" y="15850"/>
                </a:cubicBezTo>
                <a:cubicBezTo>
                  <a:pt x="20067" y="15825"/>
                  <a:pt x="20067" y="15817"/>
                  <a:pt x="20092" y="15825"/>
                </a:cubicBezTo>
              </a:path>
              <a:path w="2804" h="597">
                <a:moveTo>
                  <a:pt x="20588" y="15329"/>
                </a:moveTo>
                <a:cubicBezTo>
                  <a:pt x="20646" y="15329"/>
                  <a:pt x="20704" y="15329"/>
                  <a:pt x="20762" y="15329"/>
                </a:cubicBezTo>
                <a:cubicBezTo>
                  <a:pt x="20762" y="15354"/>
                  <a:pt x="20762" y="15362"/>
                  <a:pt x="20786" y="15354"/>
                </a:cubicBezTo>
              </a:path>
              <a:path w="2804" h="597">
                <a:moveTo>
                  <a:pt x="20563" y="15429"/>
                </a:moveTo>
                <a:cubicBezTo>
                  <a:pt x="20524" y="15466"/>
                  <a:pt x="20513" y="15475"/>
                  <a:pt x="20513" y="15528"/>
                </a:cubicBezTo>
                <a:cubicBezTo>
                  <a:pt x="20513" y="15567"/>
                  <a:pt x="20489" y="15548"/>
                  <a:pt x="20489" y="15602"/>
                </a:cubicBezTo>
                <a:cubicBezTo>
                  <a:pt x="20489" y="15610"/>
                  <a:pt x="20489" y="15619"/>
                  <a:pt x="20489" y="15627"/>
                </a:cubicBezTo>
                <a:cubicBezTo>
                  <a:pt x="20552" y="15627"/>
                  <a:pt x="20586" y="15634"/>
                  <a:pt x="20638" y="15652"/>
                </a:cubicBezTo>
                <a:cubicBezTo>
                  <a:pt x="20674" y="15664"/>
                  <a:pt x="20662" y="15683"/>
                  <a:pt x="20662" y="15726"/>
                </a:cubicBezTo>
                <a:cubicBezTo>
                  <a:pt x="20662" y="15779"/>
                  <a:pt x="20651" y="15787"/>
                  <a:pt x="20613" y="15825"/>
                </a:cubicBezTo>
                <a:cubicBezTo>
                  <a:pt x="20575" y="15863"/>
                  <a:pt x="20566" y="15875"/>
                  <a:pt x="20513" y="15875"/>
                </a:cubicBezTo>
                <a:cubicBezTo>
                  <a:pt x="20489" y="15875"/>
                  <a:pt x="20480" y="15875"/>
                  <a:pt x="20464" y="15875"/>
                </a:cubicBezTo>
                <a:cubicBezTo>
                  <a:pt x="20464" y="15831"/>
                  <a:pt x="20462" y="15836"/>
                  <a:pt x="20489" y="15801"/>
                </a:cubicBezTo>
              </a:path>
              <a:path w="2804" h="597">
                <a:moveTo>
                  <a:pt x="21109" y="15577"/>
                </a:moveTo>
                <a:cubicBezTo>
                  <a:pt x="21208" y="15577"/>
                  <a:pt x="21307" y="15577"/>
                  <a:pt x="21406" y="15577"/>
                </a:cubicBezTo>
                <a:cubicBezTo>
                  <a:pt x="21382" y="15577"/>
                  <a:pt x="21374" y="15577"/>
                  <a:pt x="21382" y="15602"/>
                </a:cubicBezTo>
              </a:path>
              <a:path w="2804" h="597">
                <a:moveTo>
                  <a:pt x="20985" y="15776"/>
                </a:moveTo>
                <a:cubicBezTo>
                  <a:pt x="21134" y="15776"/>
                  <a:pt x="21282" y="15776"/>
                  <a:pt x="21431" y="15776"/>
                </a:cubicBezTo>
                <a:cubicBezTo>
                  <a:pt x="21406" y="15776"/>
                  <a:pt x="21398" y="15776"/>
                  <a:pt x="21406" y="15801"/>
                </a:cubicBezTo>
              </a:path>
              <a:path w="2804" h="597">
                <a:moveTo>
                  <a:pt x="21903" y="15379"/>
                </a:moveTo>
                <a:cubicBezTo>
                  <a:pt x="21851" y="15392"/>
                  <a:pt x="21862" y="15416"/>
                  <a:pt x="21828" y="15453"/>
                </a:cubicBezTo>
                <a:cubicBezTo>
                  <a:pt x="21794" y="15490"/>
                  <a:pt x="21758" y="15485"/>
                  <a:pt x="21729" y="15528"/>
                </a:cubicBezTo>
                <a:cubicBezTo>
                  <a:pt x="21713" y="15551"/>
                  <a:pt x="21667" y="15622"/>
                  <a:pt x="21654" y="15652"/>
                </a:cubicBezTo>
                <a:cubicBezTo>
                  <a:pt x="21635" y="15696"/>
                  <a:pt x="21651" y="15793"/>
                  <a:pt x="21679" y="15825"/>
                </a:cubicBezTo>
                <a:cubicBezTo>
                  <a:pt x="21699" y="15848"/>
                  <a:pt x="21717" y="15894"/>
                  <a:pt x="21729" y="15900"/>
                </a:cubicBezTo>
                <a:cubicBezTo>
                  <a:pt x="21757" y="15914"/>
                  <a:pt x="21816" y="15943"/>
                  <a:pt x="21853" y="15925"/>
                </a:cubicBezTo>
                <a:cubicBezTo>
                  <a:pt x="21886" y="15909"/>
                  <a:pt x="21928" y="15927"/>
                  <a:pt x="21952" y="15900"/>
                </a:cubicBezTo>
                <a:cubicBezTo>
                  <a:pt x="21970" y="15880"/>
                  <a:pt x="22010" y="15813"/>
                  <a:pt x="22027" y="15801"/>
                </a:cubicBezTo>
                <a:cubicBezTo>
                  <a:pt x="22070" y="15772"/>
                  <a:pt x="22084" y="15767"/>
                  <a:pt x="22101" y="15701"/>
                </a:cubicBezTo>
                <a:cubicBezTo>
                  <a:pt x="22113" y="15653"/>
                  <a:pt x="22125" y="15453"/>
                  <a:pt x="22076" y="15429"/>
                </a:cubicBezTo>
                <a:cubicBezTo>
                  <a:pt x="22042" y="15413"/>
                  <a:pt x="22030" y="15383"/>
                  <a:pt x="22002" y="15379"/>
                </a:cubicBezTo>
                <a:cubicBezTo>
                  <a:pt x="21961" y="15374"/>
                  <a:pt x="21948" y="15388"/>
                  <a:pt x="21927" y="15404"/>
                </a:cubicBezTo>
                <a:cubicBezTo>
                  <a:pt x="21894" y="15429"/>
                  <a:pt x="21857" y="15464"/>
                  <a:pt x="21853" y="15503"/>
                </a:cubicBezTo>
                <a:cubicBezTo>
                  <a:pt x="21853" y="15536"/>
                  <a:pt x="21853" y="15552"/>
                  <a:pt x="21853" y="15577"/>
                </a:cubicBezTo>
              </a:path>
              <a:path w="2804" h="597">
                <a:moveTo>
                  <a:pt x="22250" y="15801"/>
                </a:moveTo>
                <a:cubicBezTo>
                  <a:pt x="22250" y="15859"/>
                  <a:pt x="22232" y="15774"/>
                  <a:pt x="22225" y="15776"/>
                </a:cubicBezTo>
                <a:cubicBezTo>
                  <a:pt x="22203" y="15798"/>
                  <a:pt x="22194" y="15803"/>
                  <a:pt x="22200" y="15825"/>
                </a:cubicBezTo>
                <a:cubicBezTo>
                  <a:pt x="22220" y="15820"/>
                  <a:pt x="22306" y="15801"/>
                  <a:pt x="22250" y="1580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65"/>
          <p:cNvSpPr/>
          <p:nvPr/>
        </p:nvSpPr>
        <p:spPr>
          <a:xfrm>
            <a:off x="8153280" y="5527800"/>
            <a:ext cx="428760" cy="241200"/>
          </a:xfrm>
          <a:custGeom>
            <a:avLst/>
            <a:gdLst/>
            <a:ahLst/>
            <a:rect l="l" t="t" r="r" b="b"/>
            <a:pathLst>
              <a:path w="1191" h="671">
                <a:moveTo>
                  <a:pt x="22746" y="15503"/>
                </a:moveTo>
                <a:cubicBezTo>
                  <a:pt x="22746" y="15549"/>
                  <a:pt x="22724" y="15562"/>
                  <a:pt x="22721" y="15602"/>
                </a:cubicBezTo>
                <a:cubicBezTo>
                  <a:pt x="22716" y="15666"/>
                  <a:pt x="22701" y="15690"/>
                  <a:pt x="22696" y="15751"/>
                </a:cubicBezTo>
                <a:cubicBezTo>
                  <a:pt x="22693" y="15792"/>
                  <a:pt x="22671" y="15805"/>
                  <a:pt x="22671" y="15850"/>
                </a:cubicBezTo>
                <a:cubicBezTo>
                  <a:pt x="22671" y="15895"/>
                  <a:pt x="22675" y="15908"/>
                  <a:pt x="22647" y="15925"/>
                </a:cubicBezTo>
                <a:cubicBezTo>
                  <a:pt x="22672" y="15925"/>
                  <a:pt x="22696" y="15925"/>
                  <a:pt x="22721" y="15925"/>
                </a:cubicBezTo>
              </a:path>
              <a:path w="1191" h="671">
                <a:moveTo>
                  <a:pt x="23217" y="15553"/>
                </a:moveTo>
                <a:cubicBezTo>
                  <a:pt x="23217" y="15502"/>
                  <a:pt x="23206" y="15494"/>
                  <a:pt x="23192" y="15453"/>
                </a:cubicBezTo>
                <a:cubicBezTo>
                  <a:pt x="23183" y="15426"/>
                  <a:pt x="23143" y="15412"/>
                  <a:pt x="23118" y="15404"/>
                </a:cubicBezTo>
                <a:cubicBezTo>
                  <a:pt x="23077" y="15461"/>
                  <a:pt x="23044" y="15470"/>
                  <a:pt x="22994" y="15503"/>
                </a:cubicBezTo>
                <a:cubicBezTo>
                  <a:pt x="22965" y="15523"/>
                  <a:pt x="22930" y="15572"/>
                  <a:pt x="22920" y="15602"/>
                </a:cubicBezTo>
                <a:cubicBezTo>
                  <a:pt x="22913" y="15625"/>
                  <a:pt x="22931" y="15693"/>
                  <a:pt x="22944" y="15701"/>
                </a:cubicBezTo>
                <a:cubicBezTo>
                  <a:pt x="22984" y="15727"/>
                  <a:pt x="23036" y="15681"/>
                  <a:pt x="23044" y="15677"/>
                </a:cubicBezTo>
                <a:cubicBezTo>
                  <a:pt x="23085" y="15657"/>
                  <a:pt x="23108" y="15679"/>
                  <a:pt x="23143" y="15627"/>
                </a:cubicBezTo>
                <a:cubicBezTo>
                  <a:pt x="23161" y="15600"/>
                  <a:pt x="23198" y="15593"/>
                  <a:pt x="23168" y="15577"/>
                </a:cubicBezTo>
                <a:cubicBezTo>
                  <a:pt x="23168" y="15624"/>
                  <a:pt x="23151" y="15640"/>
                  <a:pt x="23143" y="15677"/>
                </a:cubicBezTo>
                <a:cubicBezTo>
                  <a:pt x="23132" y="15727"/>
                  <a:pt x="23098" y="15755"/>
                  <a:pt x="23093" y="15801"/>
                </a:cubicBezTo>
                <a:cubicBezTo>
                  <a:pt x="23088" y="15845"/>
                  <a:pt x="23068" y="15871"/>
                  <a:pt x="23068" y="15925"/>
                </a:cubicBezTo>
                <a:cubicBezTo>
                  <a:pt x="23068" y="15942"/>
                  <a:pt x="23068" y="16063"/>
                  <a:pt x="23068" y="15999"/>
                </a:cubicBezTo>
                <a:cubicBezTo>
                  <a:pt x="23068" y="15946"/>
                  <a:pt x="23101" y="15949"/>
                  <a:pt x="23143" y="15949"/>
                </a:cubicBezTo>
              </a:path>
              <a:path w="1191" h="671">
                <a:moveTo>
                  <a:pt x="23713" y="15354"/>
                </a:moveTo>
                <a:cubicBezTo>
                  <a:pt x="23682" y="15369"/>
                  <a:pt x="23643" y="15398"/>
                  <a:pt x="23639" y="15429"/>
                </a:cubicBezTo>
                <a:cubicBezTo>
                  <a:pt x="23630" y="15499"/>
                  <a:pt x="23617" y="15446"/>
                  <a:pt x="23589" y="15503"/>
                </a:cubicBezTo>
                <a:cubicBezTo>
                  <a:pt x="23576" y="15529"/>
                  <a:pt x="23549" y="15574"/>
                  <a:pt x="23540" y="15602"/>
                </a:cubicBezTo>
                <a:cubicBezTo>
                  <a:pt x="23530" y="15633"/>
                  <a:pt x="23518" y="15672"/>
                  <a:pt x="23515" y="15701"/>
                </a:cubicBezTo>
                <a:cubicBezTo>
                  <a:pt x="23505" y="15788"/>
                  <a:pt x="23515" y="15899"/>
                  <a:pt x="23540" y="15949"/>
                </a:cubicBezTo>
                <a:cubicBezTo>
                  <a:pt x="23551" y="15971"/>
                  <a:pt x="23579" y="15987"/>
                  <a:pt x="23614" y="15999"/>
                </a:cubicBezTo>
                <a:cubicBezTo>
                  <a:pt x="23660" y="16014"/>
                  <a:pt x="23680" y="15985"/>
                  <a:pt x="23713" y="15974"/>
                </a:cubicBezTo>
                <a:cubicBezTo>
                  <a:pt x="23735" y="15967"/>
                  <a:pt x="23792" y="15957"/>
                  <a:pt x="23812" y="15925"/>
                </a:cubicBezTo>
                <a:cubicBezTo>
                  <a:pt x="23836" y="15886"/>
                  <a:pt x="23845" y="15863"/>
                  <a:pt x="23812" y="15825"/>
                </a:cubicBezTo>
                <a:cubicBezTo>
                  <a:pt x="23777" y="15786"/>
                  <a:pt x="23764" y="15776"/>
                  <a:pt x="23713" y="15776"/>
                </a:cubicBezTo>
                <a:cubicBezTo>
                  <a:pt x="23637" y="15776"/>
                  <a:pt x="23578" y="15780"/>
                  <a:pt x="23515" y="15801"/>
                </a:cubicBezTo>
                <a:cubicBezTo>
                  <a:pt x="23470" y="15816"/>
                  <a:pt x="23436" y="15834"/>
                  <a:pt x="23416" y="1587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66"/>
          <p:cNvSpPr/>
          <p:nvPr/>
        </p:nvSpPr>
        <p:spPr>
          <a:xfrm>
            <a:off x="892080" y="2241720"/>
            <a:ext cx="63720" cy="5364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2480" y="6375"/>
                </a:moveTo>
                <a:cubicBezTo>
                  <a:pt x="2488" y="6375"/>
                  <a:pt x="2497" y="6375"/>
                  <a:pt x="2505" y="6375"/>
                </a:cubicBezTo>
                <a:cubicBezTo>
                  <a:pt x="2515" y="6335"/>
                  <a:pt x="2545" y="6316"/>
                  <a:pt x="2555" y="6276"/>
                </a:cubicBezTo>
                <a:cubicBezTo>
                  <a:pt x="2585" y="6268"/>
                  <a:pt x="2599" y="6259"/>
                  <a:pt x="2629" y="6251"/>
                </a:cubicBezTo>
                <a:cubicBezTo>
                  <a:pt x="2629" y="6226"/>
                  <a:pt x="2629" y="6218"/>
                  <a:pt x="2654" y="622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67"/>
          <p:cNvSpPr/>
          <p:nvPr/>
        </p:nvSpPr>
        <p:spPr>
          <a:xfrm>
            <a:off x="1054080" y="216072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2927" y="6102"/>
                </a:moveTo>
                <a:cubicBezTo>
                  <a:pt x="2935" y="6102"/>
                  <a:pt x="2944" y="6102"/>
                  <a:pt x="2952" y="6102"/>
                </a:cubicBezTo>
                <a:cubicBezTo>
                  <a:pt x="2964" y="6067"/>
                  <a:pt x="2959" y="6077"/>
                  <a:pt x="3001" y="6077"/>
                </a:cubicBezTo>
                <a:cubicBezTo>
                  <a:pt x="3019" y="6023"/>
                  <a:pt x="3032" y="6075"/>
                  <a:pt x="3076" y="6052"/>
                </a:cubicBezTo>
                <a:cubicBezTo>
                  <a:pt x="3113" y="6032"/>
                  <a:pt x="3141" y="6029"/>
                  <a:pt x="3175" y="600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68"/>
          <p:cNvSpPr/>
          <p:nvPr/>
        </p:nvSpPr>
        <p:spPr>
          <a:xfrm>
            <a:off x="1251000" y="2108160"/>
            <a:ext cx="61920" cy="27000"/>
          </a:xfrm>
          <a:custGeom>
            <a:avLst/>
            <a:gdLst/>
            <a:ahLst/>
            <a:rect l="l" t="t" r="r" b="b"/>
            <a:pathLst>
              <a:path w="174" h="75">
                <a:moveTo>
                  <a:pt x="3473" y="5928"/>
                </a:moveTo>
                <a:cubicBezTo>
                  <a:pt x="3495" y="5906"/>
                  <a:pt x="3500" y="5898"/>
                  <a:pt x="3522" y="5904"/>
                </a:cubicBezTo>
                <a:cubicBezTo>
                  <a:pt x="3530" y="5881"/>
                  <a:pt x="3565" y="5865"/>
                  <a:pt x="3597" y="5854"/>
                </a:cubicBezTo>
                <a:cubicBezTo>
                  <a:pt x="3621" y="5854"/>
                  <a:pt x="3630" y="5854"/>
                  <a:pt x="3646" y="585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69"/>
          <p:cNvSpPr/>
          <p:nvPr/>
        </p:nvSpPr>
        <p:spPr>
          <a:xfrm>
            <a:off x="1411200" y="2000160"/>
            <a:ext cx="241560" cy="81000"/>
          </a:xfrm>
          <a:custGeom>
            <a:avLst/>
            <a:gdLst/>
            <a:ahLst/>
            <a:rect l="l" t="t" r="r" b="b"/>
            <a:pathLst>
              <a:path w="671" h="224">
                <a:moveTo>
                  <a:pt x="3919" y="5779"/>
                </a:moveTo>
                <a:cubicBezTo>
                  <a:pt x="3946" y="5760"/>
                  <a:pt x="3989" y="5740"/>
                  <a:pt x="4018" y="5730"/>
                </a:cubicBezTo>
                <a:cubicBezTo>
                  <a:pt x="4055" y="5717"/>
                  <a:pt x="4075" y="5705"/>
                  <a:pt x="4118" y="5705"/>
                </a:cubicBezTo>
                <a:cubicBezTo>
                  <a:pt x="4142" y="5705"/>
                  <a:pt x="4151" y="5705"/>
                  <a:pt x="4167" y="5705"/>
                </a:cubicBezTo>
              </a:path>
              <a:path w="671" h="224">
                <a:moveTo>
                  <a:pt x="4366" y="5680"/>
                </a:moveTo>
                <a:cubicBezTo>
                  <a:pt x="4374" y="5648"/>
                  <a:pt x="4404" y="5597"/>
                  <a:pt x="4440" y="5581"/>
                </a:cubicBezTo>
                <a:cubicBezTo>
                  <a:pt x="4464" y="5570"/>
                  <a:pt x="4515" y="5559"/>
                  <a:pt x="4539" y="5556"/>
                </a:cubicBezTo>
                <a:cubicBezTo>
                  <a:pt x="4564" y="5556"/>
                  <a:pt x="4572" y="5556"/>
                  <a:pt x="4589" y="555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70"/>
          <p:cNvSpPr/>
          <p:nvPr/>
        </p:nvSpPr>
        <p:spPr>
          <a:xfrm>
            <a:off x="1741320" y="1938240"/>
            <a:ext cx="160560" cy="34920"/>
          </a:xfrm>
          <a:custGeom>
            <a:avLst/>
            <a:gdLst/>
            <a:ahLst/>
            <a:rect l="l" t="t" r="r" b="b"/>
            <a:pathLst>
              <a:path w="447" h="100">
                <a:moveTo>
                  <a:pt x="4837" y="5482"/>
                </a:moveTo>
                <a:cubicBezTo>
                  <a:pt x="4837" y="5474"/>
                  <a:pt x="4837" y="5465"/>
                  <a:pt x="4837" y="5457"/>
                </a:cubicBezTo>
                <a:cubicBezTo>
                  <a:pt x="4876" y="5447"/>
                  <a:pt x="4892" y="5432"/>
                  <a:pt x="4936" y="5432"/>
                </a:cubicBezTo>
                <a:cubicBezTo>
                  <a:pt x="4961" y="5432"/>
                  <a:pt x="4969" y="5432"/>
                  <a:pt x="4986" y="5432"/>
                </a:cubicBezTo>
              </a:path>
              <a:path w="447" h="100">
                <a:moveTo>
                  <a:pt x="5159" y="5432"/>
                </a:moveTo>
                <a:cubicBezTo>
                  <a:pt x="5197" y="5394"/>
                  <a:pt x="5206" y="5383"/>
                  <a:pt x="5259" y="5383"/>
                </a:cubicBezTo>
                <a:cubicBezTo>
                  <a:pt x="5267" y="5383"/>
                  <a:pt x="5275" y="5383"/>
                  <a:pt x="5283" y="538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71"/>
          <p:cNvSpPr/>
          <p:nvPr/>
        </p:nvSpPr>
        <p:spPr>
          <a:xfrm>
            <a:off x="2374920" y="1785960"/>
            <a:ext cx="90360" cy="4428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6598" y="5085"/>
                </a:moveTo>
                <a:cubicBezTo>
                  <a:pt x="6627" y="5056"/>
                  <a:pt x="6636" y="5044"/>
                  <a:pt x="6672" y="5035"/>
                </a:cubicBezTo>
                <a:cubicBezTo>
                  <a:pt x="6685" y="4997"/>
                  <a:pt x="6713" y="5009"/>
                  <a:pt x="6747" y="4986"/>
                </a:cubicBezTo>
                <a:cubicBezTo>
                  <a:pt x="6787" y="4959"/>
                  <a:pt x="6796" y="4961"/>
                  <a:pt x="6846" y="496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72"/>
          <p:cNvSpPr/>
          <p:nvPr/>
        </p:nvSpPr>
        <p:spPr>
          <a:xfrm>
            <a:off x="2562120" y="1608120"/>
            <a:ext cx="482760" cy="133200"/>
          </a:xfrm>
          <a:custGeom>
            <a:avLst/>
            <a:gdLst/>
            <a:ahLst/>
            <a:rect l="l" t="t" r="r" b="b"/>
            <a:pathLst>
              <a:path w="1340" h="373">
                <a:moveTo>
                  <a:pt x="7119" y="4837"/>
                </a:moveTo>
                <a:cubicBezTo>
                  <a:pt x="7158" y="4827"/>
                  <a:pt x="7174" y="4812"/>
                  <a:pt x="7218" y="4812"/>
                </a:cubicBezTo>
                <a:cubicBezTo>
                  <a:pt x="7257" y="4812"/>
                  <a:pt x="7272" y="4787"/>
                  <a:pt x="7317" y="4787"/>
                </a:cubicBezTo>
                <a:cubicBezTo>
                  <a:pt x="7334" y="4787"/>
                  <a:pt x="7350" y="4787"/>
                  <a:pt x="7367" y="4787"/>
                </a:cubicBezTo>
              </a:path>
              <a:path w="1340" h="373">
                <a:moveTo>
                  <a:pt x="7615" y="4663"/>
                </a:moveTo>
                <a:cubicBezTo>
                  <a:pt x="7640" y="4657"/>
                  <a:pt x="7692" y="4650"/>
                  <a:pt x="7714" y="4638"/>
                </a:cubicBezTo>
                <a:cubicBezTo>
                  <a:pt x="7748" y="4620"/>
                  <a:pt x="7773" y="4592"/>
                  <a:pt x="7813" y="4589"/>
                </a:cubicBezTo>
                <a:cubicBezTo>
                  <a:pt x="7830" y="4589"/>
                  <a:pt x="7846" y="4589"/>
                  <a:pt x="7863" y="4589"/>
                </a:cubicBezTo>
              </a:path>
              <a:path w="1340" h="373">
                <a:moveTo>
                  <a:pt x="8037" y="4564"/>
                </a:moveTo>
                <a:cubicBezTo>
                  <a:pt x="8067" y="4556"/>
                  <a:pt x="8081" y="4547"/>
                  <a:pt x="8111" y="4539"/>
                </a:cubicBezTo>
                <a:cubicBezTo>
                  <a:pt x="8121" y="4510"/>
                  <a:pt x="8145" y="4494"/>
                  <a:pt x="8186" y="4490"/>
                </a:cubicBezTo>
                <a:cubicBezTo>
                  <a:pt x="8194" y="4490"/>
                  <a:pt x="8202" y="4490"/>
                  <a:pt x="8210" y="4490"/>
                </a:cubicBezTo>
              </a:path>
              <a:path w="1340" h="373">
                <a:moveTo>
                  <a:pt x="8334" y="4490"/>
                </a:moveTo>
                <a:cubicBezTo>
                  <a:pt x="8359" y="4490"/>
                  <a:pt x="8384" y="4490"/>
                  <a:pt x="8409" y="4490"/>
                </a:cubicBezTo>
                <a:cubicBezTo>
                  <a:pt x="8421" y="4455"/>
                  <a:pt x="8416" y="4465"/>
                  <a:pt x="8458" y="446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73"/>
          <p:cNvSpPr/>
          <p:nvPr/>
        </p:nvSpPr>
        <p:spPr>
          <a:xfrm>
            <a:off x="4037040" y="1643040"/>
            <a:ext cx="214200" cy="27000"/>
          </a:xfrm>
          <a:custGeom>
            <a:avLst/>
            <a:gdLst/>
            <a:ahLst/>
            <a:rect l="l" t="t" r="r" b="b"/>
            <a:pathLst>
              <a:path w="596" h="75">
                <a:moveTo>
                  <a:pt x="11212" y="4564"/>
                </a:moveTo>
                <a:cubicBezTo>
                  <a:pt x="11212" y="4572"/>
                  <a:pt x="11212" y="4581"/>
                  <a:pt x="11212" y="4589"/>
                </a:cubicBezTo>
                <a:cubicBezTo>
                  <a:pt x="11250" y="4576"/>
                  <a:pt x="11232" y="4564"/>
                  <a:pt x="11286" y="4564"/>
                </a:cubicBezTo>
                <a:cubicBezTo>
                  <a:pt x="11336" y="4564"/>
                  <a:pt x="11345" y="4575"/>
                  <a:pt x="11385" y="4589"/>
                </a:cubicBezTo>
                <a:cubicBezTo>
                  <a:pt x="11393" y="4589"/>
                  <a:pt x="11402" y="4589"/>
                  <a:pt x="11410" y="4589"/>
                </a:cubicBezTo>
              </a:path>
              <a:path w="596" h="75">
                <a:moveTo>
                  <a:pt x="11658" y="4638"/>
                </a:moveTo>
                <a:cubicBezTo>
                  <a:pt x="11703" y="4638"/>
                  <a:pt x="11717" y="4618"/>
                  <a:pt x="11757" y="4614"/>
                </a:cubicBezTo>
                <a:cubicBezTo>
                  <a:pt x="11782" y="4614"/>
                  <a:pt x="11790" y="4614"/>
                  <a:pt x="11807" y="461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74"/>
          <p:cNvSpPr/>
          <p:nvPr/>
        </p:nvSpPr>
        <p:spPr>
          <a:xfrm>
            <a:off x="4348080" y="1517760"/>
            <a:ext cx="866880" cy="108000"/>
          </a:xfrm>
          <a:custGeom>
            <a:avLst/>
            <a:gdLst/>
            <a:ahLst/>
            <a:rect l="l" t="t" r="r" b="b"/>
            <a:pathLst>
              <a:path w="2407" h="298">
                <a:moveTo>
                  <a:pt x="12080" y="4514"/>
                </a:moveTo>
                <a:cubicBezTo>
                  <a:pt x="12088" y="4514"/>
                  <a:pt x="12097" y="4514"/>
                  <a:pt x="12105" y="4514"/>
                </a:cubicBezTo>
                <a:cubicBezTo>
                  <a:pt x="12117" y="4478"/>
                  <a:pt x="12135" y="4490"/>
                  <a:pt x="12179" y="4490"/>
                </a:cubicBezTo>
                <a:cubicBezTo>
                  <a:pt x="12196" y="4490"/>
                  <a:pt x="12212" y="4490"/>
                  <a:pt x="12229" y="4490"/>
                </a:cubicBezTo>
              </a:path>
              <a:path w="2407" h="298">
                <a:moveTo>
                  <a:pt x="12353" y="4465"/>
                </a:moveTo>
                <a:cubicBezTo>
                  <a:pt x="12353" y="4457"/>
                  <a:pt x="12353" y="4448"/>
                  <a:pt x="12353" y="4440"/>
                </a:cubicBezTo>
                <a:cubicBezTo>
                  <a:pt x="12411" y="4440"/>
                  <a:pt x="12468" y="4440"/>
                  <a:pt x="12526" y="4440"/>
                </a:cubicBezTo>
              </a:path>
              <a:path w="2407" h="298">
                <a:moveTo>
                  <a:pt x="12700" y="4415"/>
                </a:moveTo>
                <a:cubicBezTo>
                  <a:pt x="12739" y="4405"/>
                  <a:pt x="12763" y="4378"/>
                  <a:pt x="12799" y="4366"/>
                </a:cubicBezTo>
                <a:cubicBezTo>
                  <a:pt x="12818" y="4360"/>
                  <a:pt x="12853" y="4366"/>
                  <a:pt x="12874" y="4366"/>
                </a:cubicBezTo>
              </a:path>
              <a:path w="2407" h="298">
                <a:moveTo>
                  <a:pt x="13047" y="4366"/>
                </a:moveTo>
                <a:cubicBezTo>
                  <a:pt x="13093" y="4366"/>
                  <a:pt x="13106" y="4346"/>
                  <a:pt x="13146" y="4341"/>
                </a:cubicBezTo>
                <a:cubicBezTo>
                  <a:pt x="13186" y="4336"/>
                  <a:pt x="13230" y="4341"/>
                  <a:pt x="13271" y="4341"/>
                </a:cubicBezTo>
              </a:path>
              <a:path w="2407" h="298">
                <a:moveTo>
                  <a:pt x="13519" y="4341"/>
                </a:moveTo>
                <a:cubicBezTo>
                  <a:pt x="13567" y="4321"/>
                  <a:pt x="13586" y="4291"/>
                  <a:pt x="13643" y="4291"/>
                </a:cubicBezTo>
                <a:cubicBezTo>
                  <a:pt x="13655" y="4253"/>
                  <a:pt x="13672" y="4266"/>
                  <a:pt x="13717" y="4266"/>
                </a:cubicBezTo>
                <a:cubicBezTo>
                  <a:pt x="13725" y="4266"/>
                  <a:pt x="13734" y="4266"/>
                  <a:pt x="13742" y="4266"/>
                </a:cubicBezTo>
              </a:path>
              <a:path w="2407" h="298">
                <a:moveTo>
                  <a:pt x="13891" y="4266"/>
                </a:moveTo>
                <a:cubicBezTo>
                  <a:pt x="13930" y="4256"/>
                  <a:pt x="13946" y="4242"/>
                  <a:pt x="13990" y="4242"/>
                </a:cubicBezTo>
                <a:cubicBezTo>
                  <a:pt x="14006" y="4242"/>
                  <a:pt x="14023" y="4242"/>
                  <a:pt x="14039" y="4242"/>
                </a:cubicBezTo>
              </a:path>
              <a:path w="2407" h="298">
                <a:moveTo>
                  <a:pt x="14238" y="4242"/>
                </a:moveTo>
                <a:cubicBezTo>
                  <a:pt x="14320" y="4242"/>
                  <a:pt x="14419" y="4257"/>
                  <a:pt x="14486" y="421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75"/>
          <p:cNvSpPr/>
          <p:nvPr/>
        </p:nvSpPr>
        <p:spPr>
          <a:xfrm>
            <a:off x="5786280" y="1419120"/>
            <a:ext cx="250920" cy="19080"/>
          </a:xfrm>
          <a:custGeom>
            <a:avLst/>
            <a:gdLst/>
            <a:ahLst/>
            <a:rect l="l" t="t" r="r" b="b"/>
            <a:pathLst>
              <a:path w="696" h="51">
                <a:moveTo>
                  <a:pt x="16073" y="3994"/>
                </a:moveTo>
                <a:cubicBezTo>
                  <a:pt x="16112" y="3984"/>
                  <a:pt x="16128" y="3969"/>
                  <a:pt x="16173" y="3969"/>
                </a:cubicBezTo>
                <a:cubicBezTo>
                  <a:pt x="16214" y="3969"/>
                  <a:pt x="16256" y="3969"/>
                  <a:pt x="16297" y="3969"/>
                </a:cubicBezTo>
              </a:path>
              <a:path w="696" h="51">
                <a:moveTo>
                  <a:pt x="16520" y="3994"/>
                </a:moveTo>
                <a:cubicBezTo>
                  <a:pt x="16559" y="3984"/>
                  <a:pt x="16575" y="3969"/>
                  <a:pt x="16619" y="3969"/>
                </a:cubicBezTo>
                <a:cubicBezTo>
                  <a:pt x="16658" y="3969"/>
                  <a:pt x="16673" y="3944"/>
                  <a:pt x="16718" y="3944"/>
                </a:cubicBezTo>
                <a:cubicBezTo>
                  <a:pt x="16735" y="3944"/>
                  <a:pt x="16751" y="3944"/>
                  <a:pt x="16768" y="394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76"/>
          <p:cNvSpPr/>
          <p:nvPr/>
        </p:nvSpPr>
        <p:spPr>
          <a:xfrm>
            <a:off x="6161040" y="1411200"/>
            <a:ext cx="223920" cy="17640"/>
          </a:xfrm>
          <a:custGeom>
            <a:avLst/>
            <a:gdLst/>
            <a:ahLst/>
            <a:rect l="l" t="t" r="r" b="b"/>
            <a:pathLst>
              <a:path w="621" h="51">
                <a:moveTo>
                  <a:pt x="17115" y="3969"/>
                </a:moveTo>
                <a:cubicBezTo>
                  <a:pt x="17154" y="3959"/>
                  <a:pt x="17170" y="3944"/>
                  <a:pt x="17214" y="3944"/>
                </a:cubicBezTo>
                <a:cubicBezTo>
                  <a:pt x="17227" y="3906"/>
                  <a:pt x="17244" y="3919"/>
                  <a:pt x="17289" y="3919"/>
                </a:cubicBezTo>
                <a:cubicBezTo>
                  <a:pt x="17314" y="3919"/>
                  <a:pt x="17322" y="3919"/>
                  <a:pt x="17338" y="3919"/>
                </a:cubicBezTo>
              </a:path>
              <a:path w="621" h="51">
                <a:moveTo>
                  <a:pt x="17562" y="3944"/>
                </a:moveTo>
                <a:cubicBezTo>
                  <a:pt x="17601" y="3954"/>
                  <a:pt x="17616" y="3969"/>
                  <a:pt x="17661" y="3969"/>
                </a:cubicBezTo>
                <a:cubicBezTo>
                  <a:pt x="17686" y="3969"/>
                  <a:pt x="17710" y="3969"/>
                  <a:pt x="17735" y="396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Ink 77"/>
          <p:cNvSpPr/>
          <p:nvPr/>
        </p:nvSpPr>
        <p:spPr>
          <a:xfrm>
            <a:off x="6554880" y="1428840"/>
            <a:ext cx="98280" cy="9360"/>
          </a:xfrm>
          <a:custGeom>
            <a:avLst/>
            <a:gdLst/>
            <a:ahLst/>
            <a:rect l="l" t="t" r="r" b="b"/>
            <a:pathLst>
              <a:path w="273" h="26">
                <a:moveTo>
                  <a:pt x="18207" y="3969"/>
                </a:moveTo>
                <a:cubicBezTo>
                  <a:pt x="18215" y="3969"/>
                  <a:pt x="18223" y="3969"/>
                  <a:pt x="18231" y="3969"/>
                </a:cubicBezTo>
                <a:cubicBezTo>
                  <a:pt x="18244" y="4007"/>
                  <a:pt x="18261" y="3994"/>
                  <a:pt x="18306" y="3994"/>
                </a:cubicBezTo>
                <a:cubicBezTo>
                  <a:pt x="18364" y="3994"/>
                  <a:pt x="18421" y="3994"/>
                  <a:pt x="18479" y="399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Ink 78"/>
          <p:cNvSpPr/>
          <p:nvPr/>
        </p:nvSpPr>
        <p:spPr>
          <a:xfrm>
            <a:off x="6759720" y="1347840"/>
            <a:ext cx="563400" cy="90360"/>
          </a:xfrm>
          <a:custGeom>
            <a:avLst/>
            <a:gdLst/>
            <a:ahLst/>
            <a:rect l="l" t="t" r="r" b="b"/>
            <a:pathLst>
              <a:path w="1564" h="249">
                <a:moveTo>
                  <a:pt x="18777" y="3994"/>
                </a:moveTo>
                <a:cubicBezTo>
                  <a:pt x="18816" y="3984"/>
                  <a:pt x="18832" y="3969"/>
                  <a:pt x="18876" y="3969"/>
                </a:cubicBezTo>
                <a:cubicBezTo>
                  <a:pt x="18917" y="3969"/>
                  <a:pt x="18959" y="3969"/>
                  <a:pt x="19000" y="3969"/>
                </a:cubicBezTo>
              </a:path>
              <a:path w="1564" h="249">
                <a:moveTo>
                  <a:pt x="19224" y="3944"/>
                </a:moveTo>
                <a:cubicBezTo>
                  <a:pt x="19257" y="3944"/>
                  <a:pt x="19290" y="3944"/>
                  <a:pt x="19323" y="3944"/>
                </a:cubicBezTo>
                <a:cubicBezTo>
                  <a:pt x="19336" y="3906"/>
                  <a:pt x="19352" y="3919"/>
                  <a:pt x="19397" y="3919"/>
                </a:cubicBezTo>
                <a:cubicBezTo>
                  <a:pt x="19488" y="3919"/>
                  <a:pt x="19579" y="3919"/>
                  <a:pt x="19670" y="3919"/>
                </a:cubicBezTo>
                <a:cubicBezTo>
                  <a:pt x="19679" y="3882"/>
                  <a:pt x="19707" y="3858"/>
                  <a:pt x="19745" y="3845"/>
                </a:cubicBezTo>
                <a:cubicBezTo>
                  <a:pt x="19753" y="3845"/>
                  <a:pt x="19761" y="3845"/>
                  <a:pt x="19769" y="3845"/>
                </a:cubicBezTo>
              </a:path>
              <a:path w="1564" h="249">
                <a:moveTo>
                  <a:pt x="19968" y="3845"/>
                </a:moveTo>
                <a:cubicBezTo>
                  <a:pt x="20003" y="3818"/>
                  <a:pt x="19998" y="3820"/>
                  <a:pt x="20042" y="3820"/>
                </a:cubicBezTo>
                <a:cubicBezTo>
                  <a:pt x="20055" y="3782"/>
                  <a:pt x="20072" y="3795"/>
                  <a:pt x="20117" y="3795"/>
                </a:cubicBezTo>
                <a:cubicBezTo>
                  <a:pt x="20174" y="3795"/>
                  <a:pt x="20195" y="3786"/>
                  <a:pt x="20241" y="3770"/>
                </a:cubicBezTo>
                <a:cubicBezTo>
                  <a:pt x="20249" y="3770"/>
                  <a:pt x="20257" y="3770"/>
                  <a:pt x="20265" y="3770"/>
                </a:cubicBezTo>
                <a:cubicBezTo>
                  <a:pt x="20278" y="3734"/>
                  <a:pt x="20296" y="3746"/>
                  <a:pt x="20340" y="374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Ink 79"/>
          <p:cNvSpPr/>
          <p:nvPr/>
        </p:nvSpPr>
        <p:spPr>
          <a:xfrm>
            <a:off x="3963960" y="1598760"/>
            <a:ext cx="2117880" cy="482400"/>
          </a:xfrm>
          <a:custGeom>
            <a:avLst/>
            <a:gdLst/>
            <a:ahLst/>
            <a:rect l="l" t="t" r="r" b="b"/>
            <a:pathLst>
              <a:path w="5880" h="1340">
                <a:moveTo>
                  <a:pt x="11038" y="5283"/>
                </a:moveTo>
                <a:cubicBezTo>
                  <a:pt x="11038" y="5332"/>
                  <a:pt x="11020" y="5370"/>
                  <a:pt x="11013" y="5407"/>
                </a:cubicBezTo>
                <a:cubicBezTo>
                  <a:pt x="11001" y="5469"/>
                  <a:pt x="10979" y="5728"/>
                  <a:pt x="11038" y="5779"/>
                </a:cubicBezTo>
                <a:cubicBezTo>
                  <a:pt x="11046" y="5779"/>
                  <a:pt x="11055" y="5779"/>
                  <a:pt x="11063" y="5779"/>
                </a:cubicBezTo>
                <a:cubicBezTo>
                  <a:pt x="11063" y="5597"/>
                  <a:pt x="11063" y="5416"/>
                  <a:pt x="11063" y="5234"/>
                </a:cubicBezTo>
                <a:cubicBezTo>
                  <a:pt x="11063" y="5193"/>
                  <a:pt x="11063" y="5267"/>
                  <a:pt x="11063" y="5308"/>
                </a:cubicBezTo>
                <a:cubicBezTo>
                  <a:pt x="11063" y="5371"/>
                  <a:pt x="11088" y="5411"/>
                  <a:pt x="11088" y="5482"/>
                </a:cubicBezTo>
                <a:cubicBezTo>
                  <a:pt x="11088" y="5523"/>
                  <a:pt x="11148" y="5562"/>
                  <a:pt x="11112" y="5581"/>
                </a:cubicBezTo>
                <a:cubicBezTo>
                  <a:pt x="11070" y="5603"/>
                  <a:pt x="11108" y="5547"/>
                  <a:pt x="11112" y="5531"/>
                </a:cubicBezTo>
              </a:path>
              <a:path w="5880" h="1340">
                <a:moveTo>
                  <a:pt x="11311" y="5358"/>
                </a:moveTo>
                <a:cubicBezTo>
                  <a:pt x="11334" y="5335"/>
                  <a:pt x="11338" y="5327"/>
                  <a:pt x="11361" y="5333"/>
                </a:cubicBezTo>
                <a:cubicBezTo>
                  <a:pt x="11373" y="5314"/>
                  <a:pt x="11425" y="5295"/>
                  <a:pt x="11460" y="5283"/>
                </a:cubicBezTo>
                <a:cubicBezTo>
                  <a:pt x="11491" y="5273"/>
                  <a:pt x="11530" y="5268"/>
                  <a:pt x="11559" y="5259"/>
                </a:cubicBezTo>
                <a:cubicBezTo>
                  <a:pt x="11567" y="5259"/>
                  <a:pt x="11576" y="5259"/>
                  <a:pt x="11584" y="5259"/>
                </a:cubicBezTo>
              </a:path>
              <a:path w="5880" h="1340">
                <a:moveTo>
                  <a:pt x="11857" y="5184"/>
                </a:moveTo>
                <a:cubicBezTo>
                  <a:pt x="11916" y="5184"/>
                  <a:pt x="11908" y="5156"/>
                  <a:pt x="11956" y="5135"/>
                </a:cubicBezTo>
                <a:cubicBezTo>
                  <a:pt x="11991" y="5120"/>
                  <a:pt x="12067" y="5135"/>
                  <a:pt x="12105" y="5135"/>
                </a:cubicBezTo>
              </a:path>
              <a:path w="5880" h="1340">
                <a:moveTo>
                  <a:pt x="12254" y="5110"/>
                </a:moveTo>
                <a:cubicBezTo>
                  <a:pt x="12262" y="5110"/>
                  <a:pt x="12270" y="5110"/>
                  <a:pt x="12278" y="5110"/>
                </a:cubicBezTo>
                <a:cubicBezTo>
                  <a:pt x="12296" y="5056"/>
                  <a:pt x="12310" y="5109"/>
                  <a:pt x="12353" y="5085"/>
                </a:cubicBezTo>
                <a:cubicBezTo>
                  <a:pt x="12395" y="5062"/>
                  <a:pt x="12401" y="5060"/>
                  <a:pt x="12452" y="5060"/>
                </a:cubicBezTo>
              </a:path>
              <a:path w="5880" h="1340">
                <a:moveTo>
                  <a:pt x="12750" y="5011"/>
                </a:moveTo>
                <a:cubicBezTo>
                  <a:pt x="12795" y="5011"/>
                  <a:pt x="12809" y="4990"/>
                  <a:pt x="12849" y="4986"/>
                </a:cubicBezTo>
                <a:cubicBezTo>
                  <a:pt x="12881" y="4982"/>
                  <a:pt x="12916" y="4986"/>
                  <a:pt x="12948" y="4986"/>
                </a:cubicBezTo>
              </a:path>
              <a:path w="5880" h="1340">
                <a:moveTo>
                  <a:pt x="13221" y="4961"/>
                </a:moveTo>
                <a:cubicBezTo>
                  <a:pt x="13256" y="4935"/>
                  <a:pt x="13252" y="4936"/>
                  <a:pt x="13295" y="4936"/>
                </a:cubicBezTo>
                <a:cubicBezTo>
                  <a:pt x="13308" y="4898"/>
                  <a:pt x="13325" y="4911"/>
                  <a:pt x="13370" y="4911"/>
                </a:cubicBezTo>
                <a:cubicBezTo>
                  <a:pt x="13403" y="4911"/>
                  <a:pt x="13436" y="4911"/>
                  <a:pt x="13469" y="4911"/>
                </a:cubicBezTo>
              </a:path>
              <a:path w="5880" h="1340">
                <a:moveTo>
                  <a:pt x="13717" y="4887"/>
                </a:moveTo>
                <a:cubicBezTo>
                  <a:pt x="13774" y="4887"/>
                  <a:pt x="13795" y="4877"/>
                  <a:pt x="13841" y="4862"/>
                </a:cubicBezTo>
                <a:cubicBezTo>
                  <a:pt x="13887" y="4847"/>
                  <a:pt x="13966" y="4862"/>
                  <a:pt x="14015" y="4862"/>
                </a:cubicBezTo>
              </a:path>
              <a:path w="5880" h="1340">
                <a:moveTo>
                  <a:pt x="14337" y="4812"/>
                </a:moveTo>
                <a:cubicBezTo>
                  <a:pt x="14375" y="4784"/>
                  <a:pt x="14388" y="4787"/>
                  <a:pt x="14436" y="4787"/>
                </a:cubicBezTo>
                <a:cubicBezTo>
                  <a:pt x="14487" y="4787"/>
                  <a:pt x="14495" y="4776"/>
                  <a:pt x="14536" y="4762"/>
                </a:cubicBezTo>
                <a:cubicBezTo>
                  <a:pt x="14568" y="4751"/>
                  <a:pt x="14628" y="4746"/>
                  <a:pt x="14660" y="4738"/>
                </a:cubicBezTo>
                <a:cubicBezTo>
                  <a:pt x="14684" y="4738"/>
                  <a:pt x="14693" y="4738"/>
                  <a:pt x="14709" y="4738"/>
                </a:cubicBezTo>
              </a:path>
              <a:path w="5880" h="1340">
                <a:moveTo>
                  <a:pt x="14883" y="4688"/>
                </a:moveTo>
                <a:cubicBezTo>
                  <a:pt x="14922" y="4678"/>
                  <a:pt x="14937" y="4663"/>
                  <a:pt x="14982" y="4663"/>
                </a:cubicBezTo>
                <a:cubicBezTo>
                  <a:pt x="15027" y="4663"/>
                  <a:pt x="15050" y="4638"/>
                  <a:pt x="15106" y="4638"/>
                </a:cubicBezTo>
                <a:cubicBezTo>
                  <a:pt x="15172" y="4638"/>
                  <a:pt x="15193" y="4619"/>
                  <a:pt x="15255" y="4614"/>
                </a:cubicBezTo>
                <a:cubicBezTo>
                  <a:pt x="15320" y="4609"/>
                  <a:pt x="15388" y="4614"/>
                  <a:pt x="15453" y="4614"/>
                </a:cubicBezTo>
              </a:path>
              <a:path w="5880" h="1340">
                <a:moveTo>
                  <a:pt x="15528" y="4589"/>
                </a:moveTo>
                <a:cubicBezTo>
                  <a:pt x="15586" y="4589"/>
                  <a:pt x="15643" y="4589"/>
                  <a:pt x="15701" y="4589"/>
                </a:cubicBezTo>
                <a:cubicBezTo>
                  <a:pt x="15714" y="4551"/>
                  <a:pt x="15731" y="4564"/>
                  <a:pt x="15776" y="4564"/>
                </a:cubicBezTo>
                <a:cubicBezTo>
                  <a:pt x="15846" y="4564"/>
                  <a:pt x="15891" y="4570"/>
                  <a:pt x="15949" y="4589"/>
                </a:cubicBezTo>
                <a:cubicBezTo>
                  <a:pt x="15997" y="4605"/>
                  <a:pt x="16015" y="4576"/>
                  <a:pt x="16024" y="4539"/>
                </a:cubicBezTo>
                <a:cubicBezTo>
                  <a:pt x="16131" y="4539"/>
                  <a:pt x="16239" y="4539"/>
                  <a:pt x="16346" y="4539"/>
                </a:cubicBezTo>
              </a:path>
              <a:path w="5880" h="1340">
                <a:moveTo>
                  <a:pt x="16446" y="4564"/>
                </a:moveTo>
                <a:cubicBezTo>
                  <a:pt x="16483" y="4535"/>
                  <a:pt x="16497" y="4539"/>
                  <a:pt x="16545" y="4539"/>
                </a:cubicBezTo>
                <a:cubicBezTo>
                  <a:pt x="16558" y="4501"/>
                  <a:pt x="16574" y="4514"/>
                  <a:pt x="16619" y="4514"/>
                </a:cubicBezTo>
              </a:path>
              <a:path w="5880" h="1340">
                <a:moveTo>
                  <a:pt x="16694" y="4514"/>
                </a:moveTo>
                <a:cubicBezTo>
                  <a:pt x="16736" y="4514"/>
                  <a:pt x="16731" y="4504"/>
                  <a:pt x="16743" y="4539"/>
                </a:cubicBezTo>
                <a:cubicBezTo>
                  <a:pt x="16781" y="4511"/>
                  <a:pt x="16794" y="4514"/>
                  <a:pt x="16842" y="4514"/>
                </a:cubicBezTo>
                <a:cubicBezTo>
                  <a:pt x="16867" y="4514"/>
                  <a:pt x="16875" y="4514"/>
                  <a:pt x="16892" y="4514"/>
                </a:cubicBezTo>
                <a:cubicBezTo>
                  <a:pt x="16856" y="4503"/>
                  <a:pt x="16870" y="4478"/>
                  <a:pt x="16842" y="4440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nk 80"/>
          <p:cNvSpPr/>
          <p:nvPr/>
        </p:nvSpPr>
        <p:spPr>
          <a:xfrm>
            <a:off x="8045280" y="1035000"/>
            <a:ext cx="428760" cy="152280"/>
          </a:xfrm>
          <a:custGeom>
            <a:avLst/>
            <a:gdLst/>
            <a:ahLst/>
            <a:rect l="l" t="t" r="r" b="b"/>
            <a:pathLst>
              <a:path w="1192" h="423">
                <a:moveTo>
                  <a:pt x="22349" y="3274"/>
                </a:moveTo>
                <a:cubicBezTo>
                  <a:pt x="22349" y="3266"/>
                  <a:pt x="22349" y="3257"/>
                  <a:pt x="22349" y="3249"/>
                </a:cubicBezTo>
                <a:cubicBezTo>
                  <a:pt x="22381" y="3292"/>
                  <a:pt x="22368" y="3299"/>
                  <a:pt x="22423" y="3299"/>
                </a:cubicBezTo>
                <a:cubicBezTo>
                  <a:pt x="22463" y="3299"/>
                  <a:pt x="22478" y="3274"/>
                  <a:pt x="22523" y="3274"/>
                </a:cubicBezTo>
                <a:cubicBezTo>
                  <a:pt x="22548" y="3274"/>
                  <a:pt x="22572" y="3274"/>
                  <a:pt x="22597" y="3274"/>
                </a:cubicBezTo>
              </a:path>
              <a:path w="1192" h="423">
                <a:moveTo>
                  <a:pt x="22671" y="3249"/>
                </a:moveTo>
                <a:cubicBezTo>
                  <a:pt x="22679" y="3249"/>
                  <a:pt x="22688" y="3249"/>
                  <a:pt x="22696" y="3249"/>
                </a:cubicBezTo>
                <a:cubicBezTo>
                  <a:pt x="22709" y="3213"/>
                  <a:pt x="22727" y="3225"/>
                  <a:pt x="22771" y="3225"/>
                </a:cubicBezTo>
                <a:cubicBezTo>
                  <a:pt x="22796" y="3225"/>
                  <a:pt x="22804" y="3225"/>
                  <a:pt x="22820" y="3225"/>
                </a:cubicBezTo>
              </a:path>
              <a:path w="1192" h="423">
                <a:moveTo>
                  <a:pt x="22920" y="3175"/>
                </a:moveTo>
                <a:cubicBezTo>
                  <a:pt x="22942" y="3152"/>
                  <a:pt x="22950" y="3147"/>
                  <a:pt x="22944" y="3125"/>
                </a:cubicBezTo>
                <a:cubicBezTo>
                  <a:pt x="22969" y="3125"/>
                  <a:pt x="22994" y="3125"/>
                  <a:pt x="23019" y="3125"/>
                </a:cubicBezTo>
                <a:cubicBezTo>
                  <a:pt x="23031" y="3091"/>
                  <a:pt x="23056" y="3104"/>
                  <a:pt x="23093" y="3076"/>
                </a:cubicBezTo>
              </a:path>
              <a:path w="1192" h="423">
                <a:moveTo>
                  <a:pt x="23168" y="3051"/>
                </a:moveTo>
                <a:cubicBezTo>
                  <a:pt x="23242" y="3051"/>
                  <a:pt x="23317" y="3051"/>
                  <a:pt x="23391" y="3051"/>
                </a:cubicBezTo>
              </a:path>
              <a:path w="1192" h="423">
                <a:moveTo>
                  <a:pt x="23416" y="3026"/>
                </a:moveTo>
                <a:cubicBezTo>
                  <a:pt x="23349" y="3026"/>
                  <a:pt x="23301" y="3018"/>
                  <a:pt x="23267" y="3001"/>
                </a:cubicBezTo>
                <a:cubicBezTo>
                  <a:pt x="23252" y="2994"/>
                  <a:pt x="23209" y="3001"/>
                  <a:pt x="23192" y="3001"/>
                </a:cubicBezTo>
                <a:cubicBezTo>
                  <a:pt x="23201" y="2975"/>
                  <a:pt x="23211" y="2956"/>
                  <a:pt x="23242" y="2952"/>
                </a:cubicBezTo>
                <a:cubicBezTo>
                  <a:pt x="23310" y="2943"/>
                  <a:pt x="23361" y="2958"/>
                  <a:pt x="23416" y="2977"/>
                </a:cubicBezTo>
                <a:cubicBezTo>
                  <a:pt x="23447" y="2987"/>
                  <a:pt x="23487" y="2992"/>
                  <a:pt x="23515" y="3001"/>
                </a:cubicBezTo>
                <a:cubicBezTo>
                  <a:pt x="23528" y="3005"/>
                  <a:pt x="23570" y="3052"/>
                  <a:pt x="23540" y="3076"/>
                </a:cubicBezTo>
                <a:cubicBezTo>
                  <a:pt x="23530" y="3084"/>
                  <a:pt x="23495" y="3123"/>
                  <a:pt x="23490" y="3125"/>
                </a:cubicBezTo>
                <a:cubicBezTo>
                  <a:pt x="23484" y="3128"/>
                  <a:pt x="23420" y="3145"/>
                  <a:pt x="23416" y="3150"/>
                </a:cubicBezTo>
                <a:cubicBezTo>
                  <a:pt x="23407" y="3161"/>
                  <a:pt x="23324" y="3220"/>
                  <a:pt x="23391" y="3175"/>
                </a:cubicBezTo>
              </a:path>
              <a:path w="1192" h="423">
                <a:moveTo>
                  <a:pt x="23416" y="3051"/>
                </a:moveTo>
                <a:cubicBezTo>
                  <a:pt x="23443" y="3042"/>
                  <a:pt x="23461" y="3016"/>
                  <a:pt x="23465" y="2977"/>
                </a:cubicBezTo>
                <a:cubicBezTo>
                  <a:pt x="23465" y="2969"/>
                  <a:pt x="23465" y="2960"/>
                  <a:pt x="23465" y="2952"/>
                </a:cubicBezTo>
                <a:cubicBezTo>
                  <a:pt x="23404" y="2952"/>
                  <a:pt x="23365" y="2938"/>
                  <a:pt x="23316" y="2927"/>
                </a:cubicBezTo>
                <a:cubicBezTo>
                  <a:pt x="23258" y="2914"/>
                  <a:pt x="23219" y="2919"/>
                  <a:pt x="23168" y="2902"/>
                </a:cubicBezTo>
                <a:cubicBezTo>
                  <a:pt x="23143" y="2902"/>
                  <a:pt x="23135" y="2902"/>
                  <a:pt x="23118" y="2902"/>
                </a:cubicBezTo>
                <a:cubicBezTo>
                  <a:pt x="23136" y="2847"/>
                  <a:pt x="23153" y="2889"/>
                  <a:pt x="23192" y="2902"/>
                </a:cubicBezTo>
                <a:cubicBezTo>
                  <a:pt x="23226" y="2913"/>
                  <a:pt x="23263" y="2907"/>
                  <a:pt x="23292" y="2927"/>
                </a:cubicBezTo>
                <a:cubicBezTo>
                  <a:pt x="23329" y="2952"/>
                  <a:pt x="23376" y="2965"/>
                  <a:pt x="23416" y="2977"/>
                </a:cubicBezTo>
                <a:cubicBezTo>
                  <a:pt x="23453" y="2988"/>
                  <a:pt x="23472" y="3001"/>
                  <a:pt x="23515" y="3001"/>
                </a:cubicBezTo>
                <a:cubicBezTo>
                  <a:pt x="23515" y="3032"/>
                  <a:pt x="23507" y="3068"/>
                  <a:pt x="23490" y="3076"/>
                </a:cubicBezTo>
                <a:cubicBezTo>
                  <a:pt x="23463" y="3089"/>
                  <a:pt x="23455" y="3112"/>
                  <a:pt x="23416" y="3125"/>
                </a:cubicBezTo>
                <a:cubicBezTo>
                  <a:pt x="23382" y="3136"/>
                  <a:pt x="23387" y="3165"/>
                  <a:pt x="23366" y="3175"/>
                </a:cubicBezTo>
                <a:cubicBezTo>
                  <a:pt x="23328" y="3194"/>
                  <a:pt x="23326" y="3188"/>
                  <a:pt x="23366" y="317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81"/>
          <p:cNvSpPr/>
          <p:nvPr/>
        </p:nvSpPr>
        <p:spPr>
          <a:xfrm>
            <a:off x="7126200" y="1633680"/>
            <a:ext cx="1285920" cy="438120"/>
          </a:xfrm>
          <a:custGeom>
            <a:avLst/>
            <a:gdLst/>
            <a:ahLst/>
            <a:rect l="l" t="t" r="r" b="b"/>
            <a:pathLst>
              <a:path w="3573" h="1217">
                <a:moveTo>
                  <a:pt x="19794" y="4539"/>
                </a:moveTo>
                <a:cubicBezTo>
                  <a:pt x="19794" y="4547"/>
                  <a:pt x="19794" y="4556"/>
                  <a:pt x="19794" y="4564"/>
                </a:cubicBezTo>
                <a:cubicBezTo>
                  <a:pt x="19832" y="4551"/>
                  <a:pt x="19815" y="4539"/>
                  <a:pt x="19869" y="4539"/>
                </a:cubicBezTo>
                <a:cubicBezTo>
                  <a:pt x="19893" y="4539"/>
                  <a:pt x="19902" y="4539"/>
                  <a:pt x="19918" y="4539"/>
                </a:cubicBezTo>
                <a:cubicBezTo>
                  <a:pt x="19918" y="4582"/>
                  <a:pt x="19908" y="4577"/>
                  <a:pt x="19943" y="4589"/>
                </a:cubicBezTo>
              </a:path>
              <a:path w="3573" h="1217">
                <a:moveTo>
                  <a:pt x="20017" y="4638"/>
                </a:moveTo>
                <a:cubicBezTo>
                  <a:pt x="20042" y="4638"/>
                  <a:pt x="20067" y="4638"/>
                  <a:pt x="20092" y="4638"/>
                </a:cubicBezTo>
                <a:cubicBezTo>
                  <a:pt x="20104" y="4603"/>
                  <a:pt x="20105" y="4603"/>
                  <a:pt x="20117" y="4638"/>
                </a:cubicBezTo>
                <a:cubicBezTo>
                  <a:pt x="20141" y="4638"/>
                  <a:pt x="20150" y="4638"/>
                  <a:pt x="20166" y="4638"/>
                </a:cubicBezTo>
              </a:path>
              <a:path w="3573" h="1217">
                <a:moveTo>
                  <a:pt x="20340" y="4713"/>
                </a:moveTo>
                <a:cubicBezTo>
                  <a:pt x="20377" y="4741"/>
                  <a:pt x="20402" y="4728"/>
                  <a:pt x="20414" y="4762"/>
                </a:cubicBezTo>
              </a:path>
              <a:path w="3573" h="1217">
                <a:moveTo>
                  <a:pt x="20563" y="4837"/>
                </a:moveTo>
                <a:cubicBezTo>
                  <a:pt x="20602" y="4837"/>
                  <a:pt x="20583" y="4862"/>
                  <a:pt x="20638" y="4862"/>
                </a:cubicBezTo>
              </a:path>
              <a:path w="3573" h="1217">
                <a:moveTo>
                  <a:pt x="20811" y="4936"/>
                </a:moveTo>
                <a:cubicBezTo>
                  <a:pt x="20811" y="4944"/>
                  <a:pt x="20811" y="4953"/>
                  <a:pt x="20811" y="4961"/>
                </a:cubicBezTo>
                <a:cubicBezTo>
                  <a:pt x="20861" y="4961"/>
                  <a:pt x="20870" y="4972"/>
                  <a:pt x="20910" y="4986"/>
                </a:cubicBezTo>
                <a:cubicBezTo>
                  <a:pt x="20957" y="5002"/>
                  <a:pt x="20966" y="4978"/>
                  <a:pt x="21010" y="5011"/>
                </a:cubicBezTo>
              </a:path>
              <a:path w="3573" h="1217">
                <a:moveTo>
                  <a:pt x="21183" y="5085"/>
                </a:moveTo>
                <a:cubicBezTo>
                  <a:pt x="21208" y="5085"/>
                  <a:pt x="21233" y="5085"/>
                  <a:pt x="21258" y="5085"/>
                </a:cubicBezTo>
              </a:path>
              <a:path w="3573" h="1217">
                <a:moveTo>
                  <a:pt x="21481" y="5209"/>
                </a:moveTo>
                <a:cubicBezTo>
                  <a:pt x="21539" y="5209"/>
                  <a:pt x="21596" y="5209"/>
                  <a:pt x="21654" y="5209"/>
                </a:cubicBezTo>
              </a:path>
              <a:path w="3573" h="1217">
                <a:moveTo>
                  <a:pt x="21828" y="5308"/>
                </a:moveTo>
                <a:cubicBezTo>
                  <a:pt x="21860" y="5332"/>
                  <a:pt x="21871" y="5334"/>
                  <a:pt x="21903" y="5358"/>
                </a:cubicBezTo>
                <a:cubicBezTo>
                  <a:pt x="21914" y="5290"/>
                  <a:pt x="21911" y="5308"/>
                  <a:pt x="21977" y="5308"/>
                </a:cubicBezTo>
                <a:cubicBezTo>
                  <a:pt x="22025" y="5308"/>
                  <a:pt x="22038" y="5304"/>
                  <a:pt x="22076" y="5333"/>
                </a:cubicBezTo>
              </a:path>
              <a:path w="3573" h="1217">
                <a:moveTo>
                  <a:pt x="22175" y="5407"/>
                </a:moveTo>
                <a:cubicBezTo>
                  <a:pt x="22226" y="5407"/>
                  <a:pt x="22234" y="5418"/>
                  <a:pt x="22275" y="5432"/>
                </a:cubicBezTo>
                <a:cubicBezTo>
                  <a:pt x="22301" y="5441"/>
                  <a:pt x="22347" y="5432"/>
                  <a:pt x="22374" y="5432"/>
                </a:cubicBezTo>
              </a:path>
              <a:path w="3573" h="1217">
                <a:moveTo>
                  <a:pt x="22547" y="5507"/>
                </a:moveTo>
                <a:cubicBezTo>
                  <a:pt x="22599" y="5507"/>
                  <a:pt x="22610" y="5518"/>
                  <a:pt x="22647" y="5556"/>
                </a:cubicBezTo>
                <a:cubicBezTo>
                  <a:pt x="22682" y="5592"/>
                  <a:pt x="22733" y="5580"/>
                  <a:pt x="22771" y="5606"/>
                </a:cubicBezTo>
                <a:cubicBezTo>
                  <a:pt x="22808" y="5631"/>
                  <a:pt x="22800" y="5631"/>
                  <a:pt x="22845" y="5631"/>
                </a:cubicBezTo>
              </a:path>
              <a:path w="3573" h="1217">
                <a:moveTo>
                  <a:pt x="22920" y="5631"/>
                </a:moveTo>
                <a:cubicBezTo>
                  <a:pt x="22945" y="5631"/>
                  <a:pt x="22969" y="5631"/>
                  <a:pt x="22994" y="5631"/>
                </a:cubicBezTo>
                <a:cubicBezTo>
                  <a:pt x="23006" y="5665"/>
                  <a:pt x="23002" y="5655"/>
                  <a:pt x="23044" y="5655"/>
                </a:cubicBezTo>
                <a:cubicBezTo>
                  <a:pt x="23064" y="5685"/>
                  <a:pt x="23073" y="5675"/>
                  <a:pt x="23093" y="5705"/>
                </a:cubicBezTo>
                <a:cubicBezTo>
                  <a:pt x="23136" y="5705"/>
                  <a:pt x="23131" y="5695"/>
                  <a:pt x="23143" y="5730"/>
                </a:cubicBezTo>
                <a:cubicBezTo>
                  <a:pt x="23219" y="5730"/>
                  <a:pt x="23277" y="5736"/>
                  <a:pt x="23341" y="5755"/>
                </a:cubicBezTo>
                <a:cubicBezTo>
                  <a:pt x="23349" y="5755"/>
                  <a:pt x="23358" y="5755"/>
                  <a:pt x="23366" y="5755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82"/>
          <p:cNvSpPr/>
          <p:nvPr/>
        </p:nvSpPr>
        <p:spPr>
          <a:xfrm>
            <a:off x="4143240" y="6269040"/>
            <a:ext cx="196920" cy="214200"/>
          </a:xfrm>
          <a:custGeom>
            <a:avLst/>
            <a:gdLst/>
            <a:ahLst/>
            <a:rect l="l" t="t" r="r" b="b"/>
            <a:pathLst>
              <a:path w="547" h="596">
                <a:moveTo>
                  <a:pt x="12005" y="17512"/>
                </a:moveTo>
                <a:cubicBezTo>
                  <a:pt x="11972" y="17523"/>
                  <a:pt x="11954" y="17568"/>
                  <a:pt x="11931" y="17611"/>
                </a:cubicBezTo>
                <a:cubicBezTo>
                  <a:pt x="11897" y="17675"/>
                  <a:pt x="11844" y="17724"/>
                  <a:pt x="11807" y="17785"/>
                </a:cubicBezTo>
                <a:cubicBezTo>
                  <a:pt x="11771" y="17845"/>
                  <a:pt x="11706" y="17892"/>
                  <a:pt x="11683" y="17959"/>
                </a:cubicBezTo>
                <a:cubicBezTo>
                  <a:pt x="11683" y="17983"/>
                  <a:pt x="11683" y="17991"/>
                  <a:pt x="11658" y="17983"/>
                </a:cubicBezTo>
                <a:cubicBezTo>
                  <a:pt x="11640" y="18037"/>
                  <a:pt x="11633" y="17997"/>
                  <a:pt x="11633" y="17959"/>
                </a:cubicBezTo>
                <a:cubicBezTo>
                  <a:pt x="11633" y="17934"/>
                  <a:pt x="11633" y="17926"/>
                  <a:pt x="11633" y="17909"/>
                </a:cubicBezTo>
              </a:path>
              <a:path w="547" h="596">
                <a:moveTo>
                  <a:pt x="11609" y="17438"/>
                </a:moveTo>
                <a:cubicBezTo>
                  <a:pt x="11641" y="17481"/>
                  <a:pt x="11626" y="17513"/>
                  <a:pt x="11658" y="17562"/>
                </a:cubicBezTo>
                <a:cubicBezTo>
                  <a:pt x="11701" y="17626"/>
                  <a:pt x="11746" y="17691"/>
                  <a:pt x="11782" y="17760"/>
                </a:cubicBezTo>
                <a:cubicBezTo>
                  <a:pt x="11804" y="17801"/>
                  <a:pt x="11844" y="17845"/>
                  <a:pt x="11857" y="17884"/>
                </a:cubicBezTo>
                <a:cubicBezTo>
                  <a:pt x="11857" y="17892"/>
                  <a:pt x="11857" y="17901"/>
                  <a:pt x="11857" y="17909"/>
                </a:cubicBezTo>
                <a:cubicBezTo>
                  <a:pt x="11882" y="17909"/>
                  <a:pt x="11906" y="17909"/>
                  <a:pt x="11931" y="17909"/>
                </a:cubicBezTo>
                <a:cubicBezTo>
                  <a:pt x="11931" y="17884"/>
                  <a:pt x="11931" y="17876"/>
                  <a:pt x="11931" y="17859"/>
                </a:cubicBezTo>
              </a:path>
              <a:path w="547" h="596">
                <a:moveTo>
                  <a:pt x="11683" y="17487"/>
                </a:moveTo>
                <a:cubicBezTo>
                  <a:pt x="11675" y="17487"/>
                  <a:pt x="11666" y="17487"/>
                  <a:pt x="11658" y="17487"/>
                </a:cubicBezTo>
                <a:cubicBezTo>
                  <a:pt x="11658" y="17533"/>
                  <a:pt x="11636" y="17546"/>
                  <a:pt x="11633" y="17587"/>
                </a:cubicBezTo>
                <a:cubicBezTo>
                  <a:pt x="11628" y="17659"/>
                  <a:pt x="11622" y="17724"/>
                  <a:pt x="11609" y="17785"/>
                </a:cubicBezTo>
                <a:cubicBezTo>
                  <a:pt x="11603" y="17812"/>
                  <a:pt x="11609" y="17854"/>
                  <a:pt x="11609" y="17884"/>
                </a:cubicBezTo>
                <a:cubicBezTo>
                  <a:pt x="11574" y="17896"/>
                  <a:pt x="11584" y="17891"/>
                  <a:pt x="11584" y="17934"/>
                </a:cubicBezTo>
              </a:path>
              <a:path w="547" h="596">
                <a:moveTo>
                  <a:pt x="11509" y="17760"/>
                </a:moveTo>
                <a:cubicBezTo>
                  <a:pt x="11576" y="17760"/>
                  <a:pt x="11596" y="17739"/>
                  <a:pt x="11658" y="17735"/>
                </a:cubicBezTo>
                <a:cubicBezTo>
                  <a:pt x="11722" y="17731"/>
                  <a:pt x="11766" y="17711"/>
                  <a:pt x="11832" y="17711"/>
                </a:cubicBezTo>
                <a:cubicBezTo>
                  <a:pt x="11913" y="17711"/>
                  <a:pt x="11981" y="17718"/>
                  <a:pt x="12055" y="17686"/>
                </a:cubicBezTo>
              </a:path>
              <a:path w="547" h="596">
                <a:moveTo>
                  <a:pt x="11757" y="17413"/>
                </a:moveTo>
                <a:cubicBezTo>
                  <a:pt x="11757" y="17525"/>
                  <a:pt x="11750" y="17629"/>
                  <a:pt x="11733" y="17735"/>
                </a:cubicBezTo>
                <a:cubicBezTo>
                  <a:pt x="11727" y="17775"/>
                  <a:pt x="11733" y="17977"/>
                  <a:pt x="11733" y="17934"/>
                </a:cubicBezTo>
                <a:cubicBezTo>
                  <a:pt x="11733" y="17909"/>
                  <a:pt x="11733" y="17901"/>
                  <a:pt x="11733" y="17884"/>
                </a:cubicBezTo>
              </a:path>
              <a:path w="547" h="596">
                <a:moveTo>
                  <a:pt x="11509" y="17611"/>
                </a:moveTo>
                <a:cubicBezTo>
                  <a:pt x="11563" y="17611"/>
                  <a:pt x="11591" y="17627"/>
                  <a:pt x="11633" y="17636"/>
                </a:cubicBezTo>
                <a:cubicBezTo>
                  <a:pt x="11689" y="17648"/>
                  <a:pt x="11731" y="17671"/>
                  <a:pt x="11782" y="17686"/>
                </a:cubicBezTo>
                <a:cubicBezTo>
                  <a:pt x="11814" y="17696"/>
                  <a:pt x="11851" y="17708"/>
                  <a:pt x="11881" y="17711"/>
                </a:cubicBezTo>
                <a:cubicBezTo>
                  <a:pt x="11929" y="17716"/>
                  <a:pt x="11982" y="17711"/>
                  <a:pt x="12030" y="17711"/>
                </a:cubicBezTo>
              </a:path>
              <a:path w="547" h="596">
                <a:moveTo>
                  <a:pt x="11956" y="17413"/>
                </a:moveTo>
                <a:cubicBezTo>
                  <a:pt x="11948" y="17413"/>
                  <a:pt x="11939" y="17413"/>
                  <a:pt x="11931" y="17413"/>
                </a:cubicBezTo>
                <a:cubicBezTo>
                  <a:pt x="11919" y="17460"/>
                  <a:pt x="11883" y="17470"/>
                  <a:pt x="11857" y="17512"/>
                </a:cubicBezTo>
                <a:cubicBezTo>
                  <a:pt x="11827" y="17559"/>
                  <a:pt x="11811" y="17613"/>
                  <a:pt x="11782" y="17661"/>
                </a:cubicBezTo>
                <a:cubicBezTo>
                  <a:pt x="11752" y="17711"/>
                  <a:pt x="11734" y="17764"/>
                  <a:pt x="11708" y="17810"/>
                </a:cubicBezTo>
                <a:cubicBezTo>
                  <a:pt x="11685" y="17849"/>
                  <a:pt x="11668" y="17895"/>
                  <a:pt x="11658" y="17934"/>
                </a:cubicBezTo>
                <a:cubicBezTo>
                  <a:pt x="11616" y="17934"/>
                  <a:pt x="11620" y="17924"/>
                  <a:pt x="11609" y="17959"/>
                </a:cubicBezTo>
              </a:path>
              <a:path w="547" h="596">
                <a:moveTo>
                  <a:pt x="11509" y="17909"/>
                </a:moveTo>
                <a:cubicBezTo>
                  <a:pt x="11569" y="17897"/>
                  <a:pt x="11585" y="17856"/>
                  <a:pt x="11633" y="17835"/>
                </a:cubicBezTo>
                <a:cubicBezTo>
                  <a:pt x="11678" y="17815"/>
                  <a:pt x="11702" y="17785"/>
                  <a:pt x="11757" y="17785"/>
                </a:cubicBezTo>
                <a:cubicBezTo>
                  <a:pt x="11802" y="17785"/>
                  <a:pt x="11819" y="17798"/>
                  <a:pt x="11832" y="17760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83"/>
          <p:cNvSpPr/>
          <p:nvPr/>
        </p:nvSpPr>
        <p:spPr>
          <a:xfrm>
            <a:off x="4653000" y="6313320"/>
            <a:ext cx="527040" cy="204840"/>
          </a:xfrm>
          <a:custGeom>
            <a:avLst/>
            <a:gdLst/>
            <a:ahLst/>
            <a:rect l="l" t="t" r="r" b="b"/>
            <a:pathLst>
              <a:path w="1465" h="571">
                <a:moveTo>
                  <a:pt x="13047" y="17735"/>
                </a:moveTo>
                <a:cubicBezTo>
                  <a:pt x="13035" y="17782"/>
                  <a:pt x="12992" y="17792"/>
                  <a:pt x="12973" y="17835"/>
                </a:cubicBezTo>
                <a:cubicBezTo>
                  <a:pt x="12960" y="17864"/>
                  <a:pt x="12933" y="17904"/>
                  <a:pt x="12923" y="17934"/>
                </a:cubicBezTo>
                <a:cubicBezTo>
                  <a:pt x="12913" y="17964"/>
                  <a:pt x="12935" y="18014"/>
                  <a:pt x="12948" y="18033"/>
                </a:cubicBezTo>
                <a:cubicBezTo>
                  <a:pt x="12978" y="18078"/>
                  <a:pt x="13051" y="18058"/>
                  <a:pt x="13097" y="18058"/>
                </a:cubicBezTo>
                <a:cubicBezTo>
                  <a:pt x="13149" y="18058"/>
                  <a:pt x="13234" y="18016"/>
                  <a:pt x="13271" y="17983"/>
                </a:cubicBezTo>
                <a:cubicBezTo>
                  <a:pt x="13319" y="17940"/>
                  <a:pt x="13340" y="17922"/>
                  <a:pt x="13345" y="17859"/>
                </a:cubicBezTo>
                <a:cubicBezTo>
                  <a:pt x="13350" y="17799"/>
                  <a:pt x="13330" y="17757"/>
                  <a:pt x="13320" y="17711"/>
                </a:cubicBezTo>
                <a:cubicBezTo>
                  <a:pt x="13311" y="17670"/>
                  <a:pt x="13299" y="17635"/>
                  <a:pt x="13246" y="17611"/>
                </a:cubicBezTo>
                <a:cubicBezTo>
                  <a:pt x="13208" y="17594"/>
                  <a:pt x="13147" y="17613"/>
                  <a:pt x="13122" y="17636"/>
                </a:cubicBezTo>
                <a:cubicBezTo>
                  <a:pt x="13083" y="17671"/>
                  <a:pt x="13060" y="17708"/>
                  <a:pt x="13047" y="17760"/>
                </a:cubicBezTo>
                <a:cubicBezTo>
                  <a:pt x="13036" y="17804"/>
                  <a:pt x="13064" y="17844"/>
                  <a:pt x="13072" y="17884"/>
                </a:cubicBezTo>
              </a:path>
              <a:path w="1465" h="571">
                <a:moveTo>
                  <a:pt x="13568" y="17859"/>
                </a:moveTo>
                <a:cubicBezTo>
                  <a:pt x="13568" y="17884"/>
                  <a:pt x="13568" y="17892"/>
                  <a:pt x="13568" y="17909"/>
                </a:cubicBezTo>
                <a:cubicBezTo>
                  <a:pt x="13611" y="17909"/>
                  <a:pt x="13606" y="17919"/>
                  <a:pt x="13618" y="17884"/>
                </a:cubicBezTo>
                <a:cubicBezTo>
                  <a:pt x="13666" y="17884"/>
                  <a:pt x="13679" y="17888"/>
                  <a:pt x="13717" y="17859"/>
                </a:cubicBezTo>
              </a:path>
              <a:path w="1465" h="571">
                <a:moveTo>
                  <a:pt x="14163" y="17587"/>
                </a:moveTo>
                <a:cubicBezTo>
                  <a:pt x="14118" y="17587"/>
                  <a:pt x="14099" y="17581"/>
                  <a:pt x="14064" y="17611"/>
                </a:cubicBezTo>
                <a:cubicBezTo>
                  <a:pt x="14031" y="17639"/>
                  <a:pt x="13995" y="17669"/>
                  <a:pt x="13990" y="17711"/>
                </a:cubicBezTo>
                <a:cubicBezTo>
                  <a:pt x="13986" y="17744"/>
                  <a:pt x="13980" y="17792"/>
                  <a:pt x="14015" y="17810"/>
                </a:cubicBezTo>
                <a:cubicBezTo>
                  <a:pt x="14042" y="17824"/>
                  <a:pt x="14156" y="17830"/>
                  <a:pt x="14188" y="17835"/>
                </a:cubicBezTo>
                <a:cubicBezTo>
                  <a:pt x="14238" y="17843"/>
                  <a:pt x="14302" y="17809"/>
                  <a:pt x="14337" y="17785"/>
                </a:cubicBezTo>
                <a:cubicBezTo>
                  <a:pt x="14354" y="17774"/>
                  <a:pt x="14396" y="17706"/>
                  <a:pt x="14387" y="17686"/>
                </a:cubicBezTo>
                <a:cubicBezTo>
                  <a:pt x="14371" y="17650"/>
                  <a:pt x="14356" y="17582"/>
                  <a:pt x="14312" y="17562"/>
                </a:cubicBezTo>
                <a:cubicBezTo>
                  <a:pt x="14278" y="17547"/>
                  <a:pt x="14254" y="17537"/>
                  <a:pt x="14213" y="17537"/>
                </a:cubicBezTo>
                <a:cubicBezTo>
                  <a:pt x="14151" y="17537"/>
                  <a:pt x="14139" y="17557"/>
                  <a:pt x="14139" y="17611"/>
                </a:cubicBezTo>
                <a:cubicBezTo>
                  <a:pt x="14139" y="17628"/>
                  <a:pt x="14139" y="17644"/>
                  <a:pt x="14139" y="17661"/>
                </a:cubicBezTo>
              </a:path>
              <a:path w="1465" h="571">
                <a:moveTo>
                  <a:pt x="14089" y="17835"/>
                </a:moveTo>
                <a:cubicBezTo>
                  <a:pt x="14064" y="17867"/>
                  <a:pt x="14059" y="17903"/>
                  <a:pt x="14039" y="17934"/>
                </a:cubicBezTo>
                <a:cubicBezTo>
                  <a:pt x="14009" y="17980"/>
                  <a:pt x="14000" y="18009"/>
                  <a:pt x="14039" y="18058"/>
                </a:cubicBezTo>
                <a:cubicBezTo>
                  <a:pt x="14080" y="18111"/>
                  <a:pt x="14060" y="18107"/>
                  <a:pt x="14139" y="18107"/>
                </a:cubicBezTo>
                <a:cubicBezTo>
                  <a:pt x="14195" y="18107"/>
                  <a:pt x="14239" y="18116"/>
                  <a:pt x="14288" y="18083"/>
                </a:cubicBezTo>
                <a:cubicBezTo>
                  <a:pt x="14339" y="18049"/>
                  <a:pt x="14337" y="18050"/>
                  <a:pt x="14337" y="17983"/>
                </a:cubicBezTo>
                <a:cubicBezTo>
                  <a:pt x="14337" y="17949"/>
                  <a:pt x="14383" y="17922"/>
                  <a:pt x="14362" y="17884"/>
                </a:cubicBezTo>
                <a:cubicBezTo>
                  <a:pt x="14333" y="17831"/>
                  <a:pt x="14290" y="17835"/>
                  <a:pt x="14238" y="17835"/>
                </a:cubicBezTo>
                <a:cubicBezTo>
                  <a:pt x="14149" y="17835"/>
                  <a:pt x="14173" y="17830"/>
                  <a:pt x="14188" y="17859"/>
                </a:cubicBezTo>
                <a:cubicBezTo>
                  <a:pt x="14188" y="17867"/>
                  <a:pt x="14188" y="17876"/>
                  <a:pt x="14188" y="17884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nk 84"/>
          <p:cNvSpPr/>
          <p:nvPr/>
        </p:nvSpPr>
        <p:spPr>
          <a:xfrm>
            <a:off x="5357880" y="6367320"/>
            <a:ext cx="1159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5131" y="17686"/>
                </a:moveTo>
                <a:cubicBezTo>
                  <a:pt x="15123" y="17717"/>
                  <a:pt x="15098" y="17760"/>
                  <a:pt x="15081" y="17785"/>
                </a:cubicBezTo>
                <a:cubicBezTo>
                  <a:pt x="15069" y="17803"/>
                  <a:pt x="15015" y="17878"/>
                  <a:pt x="15007" y="17884"/>
                </a:cubicBezTo>
                <a:cubicBezTo>
                  <a:pt x="15000" y="17890"/>
                  <a:pt x="14920" y="17972"/>
                  <a:pt x="14908" y="17959"/>
                </a:cubicBezTo>
                <a:cubicBezTo>
                  <a:pt x="14908" y="17951"/>
                  <a:pt x="14908" y="17942"/>
                  <a:pt x="14908" y="17934"/>
                </a:cubicBezTo>
              </a:path>
              <a:path w="323" h="274">
                <a:moveTo>
                  <a:pt x="14883" y="17711"/>
                </a:moveTo>
                <a:cubicBezTo>
                  <a:pt x="14920" y="17738"/>
                  <a:pt x="14947" y="17750"/>
                  <a:pt x="14982" y="17785"/>
                </a:cubicBezTo>
                <a:cubicBezTo>
                  <a:pt x="15011" y="17814"/>
                  <a:pt x="15045" y="17847"/>
                  <a:pt x="15081" y="17859"/>
                </a:cubicBezTo>
                <a:cubicBezTo>
                  <a:pt x="15130" y="17875"/>
                  <a:pt x="15147" y="17909"/>
                  <a:pt x="15205" y="17909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Ink 85"/>
          <p:cNvSpPr/>
          <p:nvPr/>
        </p:nvSpPr>
        <p:spPr>
          <a:xfrm>
            <a:off x="5732640" y="6357960"/>
            <a:ext cx="723600" cy="187200"/>
          </a:xfrm>
          <a:custGeom>
            <a:avLst/>
            <a:gdLst/>
            <a:ahLst/>
            <a:rect l="l" t="t" r="r" b="b"/>
            <a:pathLst>
              <a:path w="2010" h="522">
                <a:moveTo>
                  <a:pt x="16098" y="17735"/>
                </a:moveTo>
                <a:cubicBezTo>
                  <a:pt x="16090" y="17737"/>
                  <a:pt x="16001" y="17757"/>
                  <a:pt x="15999" y="17760"/>
                </a:cubicBezTo>
                <a:cubicBezTo>
                  <a:pt x="15985" y="17778"/>
                  <a:pt x="15936" y="17814"/>
                  <a:pt x="15925" y="17835"/>
                </a:cubicBezTo>
                <a:cubicBezTo>
                  <a:pt x="15904" y="17877"/>
                  <a:pt x="15921" y="18001"/>
                  <a:pt x="15949" y="18033"/>
                </a:cubicBezTo>
                <a:cubicBezTo>
                  <a:pt x="15998" y="18089"/>
                  <a:pt x="16026" y="18083"/>
                  <a:pt x="16098" y="18083"/>
                </a:cubicBezTo>
                <a:cubicBezTo>
                  <a:pt x="16158" y="18083"/>
                  <a:pt x="16199" y="18068"/>
                  <a:pt x="16247" y="18058"/>
                </a:cubicBezTo>
                <a:cubicBezTo>
                  <a:pt x="16313" y="18045"/>
                  <a:pt x="16338" y="18040"/>
                  <a:pt x="16346" y="17959"/>
                </a:cubicBezTo>
                <a:cubicBezTo>
                  <a:pt x="16351" y="17906"/>
                  <a:pt x="16371" y="17867"/>
                  <a:pt x="16371" y="17810"/>
                </a:cubicBezTo>
                <a:cubicBezTo>
                  <a:pt x="16371" y="17776"/>
                  <a:pt x="16357" y="17704"/>
                  <a:pt x="16321" y="17686"/>
                </a:cubicBezTo>
                <a:cubicBezTo>
                  <a:pt x="16300" y="17675"/>
                  <a:pt x="16226" y="17645"/>
                  <a:pt x="16197" y="17661"/>
                </a:cubicBezTo>
                <a:cubicBezTo>
                  <a:pt x="16157" y="17684"/>
                  <a:pt x="16142" y="17731"/>
                  <a:pt x="16123" y="17760"/>
                </a:cubicBezTo>
                <a:cubicBezTo>
                  <a:pt x="16093" y="17806"/>
                  <a:pt x="16089" y="17789"/>
                  <a:pt x="16123" y="17835"/>
                </a:cubicBezTo>
              </a:path>
              <a:path w="2010" h="522">
                <a:moveTo>
                  <a:pt x="16619" y="17934"/>
                </a:moveTo>
                <a:cubicBezTo>
                  <a:pt x="16574" y="17994"/>
                  <a:pt x="16603" y="17981"/>
                  <a:pt x="16619" y="17934"/>
                </a:cubicBezTo>
                <a:cubicBezTo>
                  <a:pt x="16619" y="17909"/>
                  <a:pt x="16619" y="17901"/>
                  <a:pt x="16619" y="17934"/>
                </a:cubicBezTo>
              </a:path>
              <a:path w="2010" h="522">
                <a:moveTo>
                  <a:pt x="17066" y="17686"/>
                </a:moveTo>
                <a:cubicBezTo>
                  <a:pt x="17038" y="17722"/>
                  <a:pt x="17026" y="17750"/>
                  <a:pt x="16991" y="17785"/>
                </a:cubicBezTo>
                <a:cubicBezTo>
                  <a:pt x="16961" y="17815"/>
                  <a:pt x="16879" y="17919"/>
                  <a:pt x="16867" y="17959"/>
                </a:cubicBezTo>
                <a:cubicBezTo>
                  <a:pt x="16850" y="18019"/>
                  <a:pt x="16879" y="18046"/>
                  <a:pt x="16917" y="18083"/>
                </a:cubicBezTo>
                <a:cubicBezTo>
                  <a:pt x="16947" y="18113"/>
                  <a:pt x="16998" y="18128"/>
                  <a:pt x="17041" y="18132"/>
                </a:cubicBezTo>
                <a:cubicBezTo>
                  <a:pt x="17085" y="18136"/>
                  <a:pt x="17107" y="18135"/>
                  <a:pt x="17140" y="18107"/>
                </a:cubicBezTo>
                <a:cubicBezTo>
                  <a:pt x="17185" y="18068"/>
                  <a:pt x="17136" y="18049"/>
                  <a:pt x="17115" y="18033"/>
                </a:cubicBezTo>
                <a:cubicBezTo>
                  <a:pt x="17085" y="18010"/>
                  <a:pt x="17025" y="17971"/>
                  <a:pt x="16991" y="17983"/>
                </a:cubicBezTo>
                <a:cubicBezTo>
                  <a:pt x="16913" y="18011"/>
                  <a:pt x="17006" y="18008"/>
                  <a:pt x="17016" y="18008"/>
                </a:cubicBezTo>
              </a:path>
              <a:path w="2010" h="522">
                <a:moveTo>
                  <a:pt x="17363" y="17735"/>
                </a:moveTo>
                <a:cubicBezTo>
                  <a:pt x="17402" y="17726"/>
                  <a:pt x="17418" y="17711"/>
                  <a:pt x="17462" y="17711"/>
                </a:cubicBezTo>
                <a:cubicBezTo>
                  <a:pt x="17507" y="17711"/>
                  <a:pt x="17523" y="17696"/>
                  <a:pt x="17562" y="17686"/>
                </a:cubicBezTo>
              </a:path>
              <a:path w="2010" h="522">
                <a:moveTo>
                  <a:pt x="17413" y="17735"/>
                </a:moveTo>
                <a:cubicBezTo>
                  <a:pt x="17390" y="17766"/>
                  <a:pt x="17367" y="17796"/>
                  <a:pt x="17363" y="17835"/>
                </a:cubicBezTo>
                <a:cubicBezTo>
                  <a:pt x="17359" y="17866"/>
                  <a:pt x="17393" y="17911"/>
                  <a:pt x="17413" y="17934"/>
                </a:cubicBezTo>
                <a:cubicBezTo>
                  <a:pt x="17448" y="17973"/>
                  <a:pt x="17501" y="17984"/>
                  <a:pt x="17537" y="18008"/>
                </a:cubicBezTo>
                <a:cubicBezTo>
                  <a:pt x="17574" y="18032"/>
                  <a:pt x="17562" y="18069"/>
                  <a:pt x="17562" y="18107"/>
                </a:cubicBezTo>
                <a:cubicBezTo>
                  <a:pt x="17562" y="18130"/>
                  <a:pt x="17491" y="18174"/>
                  <a:pt x="17462" y="18182"/>
                </a:cubicBezTo>
                <a:cubicBezTo>
                  <a:pt x="17415" y="18195"/>
                  <a:pt x="17339" y="18178"/>
                  <a:pt x="17314" y="18132"/>
                </a:cubicBezTo>
                <a:cubicBezTo>
                  <a:pt x="17305" y="18115"/>
                  <a:pt x="17338" y="18062"/>
                  <a:pt x="17338" y="18033"/>
                </a:cubicBezTo>
              </a:path>
              <a:path w="2010" h="522">
                <a:moveTo>
                  <a:pt x="17636" y="17661"/>
                </a:moveTo>
                <a:cubicBezTo>
                  <a:pt x="17674" y="17671"/>
                  <a:pt x="17704" y="17684"/>
                  <a:pt x="17735" y="17711"/>
                </a:cubicBezTo>
                <a:cubicBezTo>
                  <a:pt x="17771" y="17743"/>
                  <a:pt x="17818" y="17742"/>
                  <a:pt x="17859" y="17760"/>
                </a:cubicBezTo>
                <a:cubicBezTo>
                  <a:pt x="17900" y="17780"/>
                  <a:pt x="17906" y="17789"/>
                  <a:pt x="17934" y="17785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Ink 86"/>
          <p:cNvSpPr/>
          <p:nvPr/>
        </p:nvSpPr>
        <p:spPr>
          <a:xfrm>
            <a:off x="6589800" y="6429240"/>
            <a:ext cx="11736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18306" y="17859"/>
                </a:moveTo>
                <a:cubicBezTo>
                  <a:pt x="18405" y="17859"/>
                  <a:pt x="18505" y="17859"/>
                  <a:pt x="18604" y="17859"/>
                </a:cubicBezTo>
                <a:cubicBezTo>
                  <a:pt x="18570" y="17884"/>
                  <a:pt x="18544" y="17899"/>
                  <a:pt x="18504" y="17909"/>
                </a:cubicBezTo>
              </a:path>
              <a:path w="323" h="150">
                <a:moveTo>
                  <a:pt x="18331" y="17983"/>
                </a:moveTo>
                <a:cubicBezTo>
                  <a:pt x="18355" y="17983"/>
                  <a:pt x="18364" y="17983"/>
                  <a:pt x="18380" y="17983"/>
                </a:cubicBezTo>
                <a:cubicBezTo>
                  <a:pt x="18402" y="18017"/>
                  <a:pt x="18428" y="18008"/>
                  <a:pt x="18479" y="18008"/>
                </a:cubicBezTo>
                <a:cubicBezTo>
                  <a:pt x="18529" y="18008"/>
                  <a:pt x="18578" y="18008"/>
                  <a:pt x="18628" y="18008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87"/>
          <p:cNvSpPr/>
          <p:nvPr/>
        </p:nvSpPr>
        <p:spPr>
          <a:xfrm>
            <a:off x="6892920" y="6323040"/>
            <a:ext cx="750960" cy="222120"/>
          </a:xfrm>
          <a:custGeom>
            <a:avLst/>
            <a:gdLst/>
            <a:ahLst/>
            <a:rect l="l" t="t" r="r" b="b"/>
            <a:pathLst>
              <a:path w="2085" h="621">
                <a:moveTo>
                  <a:pt x="19397" y="17711"/>
                </a:moveTo>
                <a:cubicBezTo>
                  <a:pt x="19359" y="17698"/>
                  <a:pt x="19377" y="17686"/>
                  <a:pt x="19323" y="17686"/>
                </a:cubicBezTo>
                <a:cubicBezTo>
                  <a:pt x="19291" y="17686"/>
                  <a:pt x="19238" y="17729"/>
                  <a:pt x="19224" y="17760"/>
                </a:cubicBezTo>
                <a:cubicBezTo>
                  <a:pt x="19206" y="17802"/>
                  <a:pt x="19165" y="17836"/>
                  <a:pt x="19149" y="17884"/>
                </a:cubicBezTo>
                <a:cubicBezTo>
                  <a:pt x="19130" y="17940"/>
                  <a:pt x="19139" y="18068"/>
                  <a:pt x="19174" y="18107"/>
                </a:cubicBezTo>
                <a:cubicBezTo>
                  <a:pt x="19213" y="18151"/>
                  <a:pt x="19268" y="18154"/>
                  <a:pt x="19323" y="18157"/>
                </a:cubicBezTo>
                <a:cubicBezTo>
                  <a:pt x="19378" y="18160"/>
                  <a:pt x="19451" y="18155"/>
                  <a:pt x="19496" y="18132"/>
                </a:cubicBezTo>
                <a:cubicBezTo>
                  <a:pt x="19572" y="18093"/>
                  <a:pt x="19566" y="18068"/>
                  <a:pt x="19596" y="18008"/>
                </a:cubicBezTo>
                <a:cubicBezTo>
                  <a:pt x="19622" y="17956"/>
                  <a:pt x="19621" y="17922"/>
                  <a:pt x="19621" y="17859"/>
                </a:cubicBezTo>
                <a:cubicBezTo>
                  <a:pt x="19621" y="17823"/>
                  <a:pt x="19614" y="17786"/>
                  <a:pt x="19596" y="17760"/>
                </a:cubicBezTo>
                <a:cubicBezTo>
                  <a:pt x="19542" y="17679"/>
                  <a:pt x="19544" y="17716"/>
                  <a:pt x="19472" y="17686"/>
                </a:cubicBezTo>
                <a:cubicBezTo>
                  <a:pt x="19425" y="17666"/>
                  <a:pt x="19408" y="17661"/>
                  <a:pt x="19348" y="17661"/>
                </a:cubicBezTo>
                <a:cubicBezTo>
                  <a:pt x="19295" y="17661"/>
                  <a:pt x="19270" y="17694"/>
                  <a:pt x="19224" y="17735"/>
                </a:cubicBezTo>
                <a:cubicBezTo>
                  <a:pt x="19177" y="17777"/>
                  <a:pt x="19158" y="17813"/>
                  <a:pt x="19199" y="17859"/>
                </a:cubicBezTo>
                <a:cubicBezTo>
                  <a:pt x="19207" y="17867"/>
                  <a:pt x="19216" y="17876"/>
                  <a:pt x="19224" y="17884"/>
                </a:cubicBezTo>
              </a:path>
              <a:path w="2085" h="621">
                <a:moveTo>
                  <a:pt x="19869" y="17959"/>
                </a:moveTo>
                <a:cubicBezTo>
                  <a:pt x="19842" y="17994"/>
                  <a:pt x="19844" y="17989"/>
                  <a:pt x="19844" y="18033"/>
                </a:cubicBezTo>
                <a:cubicBezTo>
                  <a:pt x="19884" y="18020"/>
                  <a:pt x="19869" y="18015"/>
                  <a:pt x="19869" y="17959"/>
                </a:cubicBezTo>
              </a:path>
              <a:path w="2085" h="621">
                <a:moveTo>
                  <a:pt x="20166" y="17636"/>
                </a:moveTo>
                <a:cubicBezTo>
                  <a:pt x="20213" y="17636"/>
                  <a:pt x="20229" y="17619"/>
                  <a:pt x="20265" y="17611"/>
                </a:cubicBezTo>
                <a:cubicBezTo>
                  <a:pt x="20316" y="17600"/>
                  <a:pt x="20368" y="17610"/>
                  <a:pt x="20414" y="17587"/>
                </a:cubicBezTo>
                <a:cubicBezTo>
                  <a:pt x="20453" y="17567"/>
                  <a:pt x="20442" y="17562"/>
                  <a:pt x="20489" y="17562"/>
                </a:cubicBezTo>
              </a:path>
              <a:path w="2085" h="621">
                <a:moveTo>
                  <a:pt x="20216" y="17711"/>
                </a:moveTo>
                <a:cubicBezTo>
                  <a:pt x="20185" y="17751"/>
                  <a:pt x="20212" y="17773"/>
                  <a:pt x="20191" y="17810"/>
                </a:cubicBezTo>
                <a:cubicBezTo>
                  <a:pt x="20168" y="17852"/>
                  <a:pt x="20166" y="17858"/>
                  <a:pt x="20166" y="17909"/>
                </a:cubicBezTo>
                <a:cubicBezTo>
                  <a:pt x="20263" y="17909"/>
                  <a:pt x="20379" y="17904"/>
                  <a:pt x="20439" y="17934"/>
                </a:cubicBezTo>
                <a:cubicBezTo>
                  <a:pt x="20474" y="17951"/>
                  <a:pt x="20464" y="17960"/>
                  <a:pt x="20464" y="18008"/>
                </a:cubicBezTo>
                <a:cubicBezTo>
                  <a:pt x="20464" y="18049"/>
                  <a:pt x="20459" y="18088"/>
                  <a:pt x="20414" y="18107"/>
                </a:cubicBezTo>
                <a:cubicBezTo>
                  <a:pt x="20383" y="18120"/>
                  <a:pt x="20346" y="18147"/>
                  <a:pt x="20315" y="18157"/>
                </a:cubicBezTo>
                <a:cubicBezTo>
                  <a:pt x="20260" y="18175"/>
                  <a:pt x="20208" y="18146"/>
                  <a:pt x="20166" y="18132"/>
                </a:cubicBezTo>
                <a:cubicBezTo>
                  <a:pt x="20137" y="18122"/>
                  <a:pt x="20177" y="18121"/>
                  <a:pt x="20216" y="18083"/>
                </a:cubicBezTo>
              </a:path>
              <a:path w="2085" h="621">
                <a:moveTo>
                  <a:pt x="20762" y="17611"/>
                </a:moveTo>
                <a:cubicBezTo>
                  <a:pt x="20816" y="17611"/>
                  <a:pt x="20862" y="17597"/>
                  <a:pt x="20886" y="17587"/>
                </a:cubicBezTo>
                <a:cubicBezTo>
                  <a:pt x="20941" y="17564"/>
                  <a:pt x="20993" y="17598"/>
                  <a:pt x="21034" y="17611"/>
                </a:cubicBezTo>
                <a:cubicBezTo>
                  <a:pt x="21101" y="17633"/>
                  <a:pt x="21042" y="17673"/>
                  <a:pt x="21034" y="17711"/>
                </a:cubicBezTo>
                <a:cubicBezTo>
                  <a:pt x="21017" y="17787"/>
                  <a:pt x="20962" y="17815"/>
                  <a:pt x="20935" y="17884"/>
                </a:cubicBezTo>
                <a:cubicBezTo>
                  <a:pt x="20908" y="17953"/>
                  <a:pt x="20869" y="17991"/>
                  <a:pt x="20836" y="18058"/>
                </a:cubicBezTo>
                <a:cubicBezTo>
                  <a:pt x="20820" y="18090"/>
                  <a:pt x="20811" y="18117"/>
                  <a:pt x="20811" y="18157"/>
                </a:cubicBezTo>
                <a:cubicBezTo>
                  <a:pt x="20894" y="18157"/>
                  <a:pt x="20957" y="18163"/>
                  <a:pt x="21034" y="18182"/>
                </a:cubicBezTo>
                <a:cubicBezTo>
                  <a:pt x="21067" y="18190"/>
                  <a:pt x="21257" y="18182"/>
                  <a:pt x="21208" y="18182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08000" y="31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08000" y="3892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08000" y="5884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108000" y="4484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108000" y="50958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393120" y="306864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390240" y="3860640"/>
            <a:ext cx="63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uck being shot at &amp;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392760" y="4454640"/>
            <a:ext cx="44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uck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>
            <a:off x="395280" y="50688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0% of ducks who die when shot at are found by the hunter.  What is the chance of this happe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393840" y="586116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a duck was shot at, what is the chance of a duck not being found by the hun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4"/>
          <p:cNvSpPr/>
          <p:nvPr/>
        </p:nvSpPr>
        <p:spPr>
          <a:xfrm flipV="1">
            <a:off x="826920" y="173808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5"/>
          <p:cNvSpPr/>
          <p:nvPr/>
        </p:nvSpPr>
        <p:spPr>
          <a:xfrm>
            <a:off x="826920" y="238608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6"/>
          <p:cNvSpPr/>
          <p:nvPr/>
        </p:nvSpPr>
        <p:spPr>
          <a:xfrm>
            <a:off x="3059280" y="1468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hot 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2987640" y="262080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t shot 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8"/>
          <p:cNvSpPr/>
          <p:nvPr/>
        </p:nvSpPr>
        <p:spPr>
          <a:xfrm flipV="1">
            <a:off x="3995640" y="1522440"/>
            <a:ext cx="201636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9"/>
          <p:cNvSpPr/>
          <p:nvPr/>
        </p:nvSpPr>
        <p:spPr>
          <a:xfrm>
            <a:off x="3995640" y="180972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0"/>
          <p:cNvSpPr/>
          <p:nvPr/>
        </p:nvSpPr>
        <p:spPr>
          <a:xfrm flipV="1">
            <a:off x="4067280" y="281772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1"/>
          <p:cNvSpPr/>
          <p:nvPr/>
        </p:nvSpPr>
        <p:spPr>
          <a:xfrm>
            <a:off x="4067280" y="310500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2"/>
          <p:cNvSpPr/>
          <p:nvPr/>
        </p:nvSpPr>
        <p:spPr>
          <a:xfrm>
            <a:off x="6084720" y="1341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3"/>
          <p:cNvSpPr/>
          <p:nvPr/>
        </p:nvSpPr>
        <p:spPr>
          <a:xfrm>
            <a:off x="6084720" y="19540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6156360" y="2602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5"/>
          <p:cNvSpPr/>
          <p:nvPr/>
        </p:nvSpPr>
        <p:spPr>
          <a:xfrm>
            <a:off x="6156360" y="3214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6"/>
          <p:cNvSpPr/>
          <p:nvPr/>
        </p:nvSpPr>
        <p:spPr>
          <a:xfrm>
            <a:off x="183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8"/>
          <p:cNvSpPr/>
          <p:nvPr/>
        </p:nvSpPr>
        <p:spPr>
          <a:xfrm>
            <a:off x="5148360" y="25304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0% of ducks get shot at during the duck shooting season –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f these 80% are killed. 4% of ducks not shot at, die of frigh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9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08000" y="31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08000" y="3892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108000" y="5884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108000" y="4484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108000" y="50958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393120" y="306864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390240" y="3860640"/>
            <a:ext cx="63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uck being shot at &amp;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392760" y="4454640"/>
            <a:ext cx="44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uck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395280" y="50688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0% of ducks who die when shot at are found by the hunter.  What is the chance of this happe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393840" y="586116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a duck was shot at, what is the chance of a duck not being found by the hun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4"/>
          <p:cNvSpPr/>
          <p:nvPr/>
        </p:nvSpPr>
        <p:spPr>
          <a:xfrm flipV="1">
            <a:off x="826920" y="173808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5"/>
          <p:cNvSpPr/>
          <p:nvPr/>
        </p:nvSpPr>
        <p:spPr>
          <a:xfrm>
            <a:off x="826920" y="238608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6"/>
          <p:cNvSpPr/>
          <p:nvPr/>
        </p:nvSpPr>
        <p:spPr>
          <a:xfrm>
            <a:off x="3059280" y="1468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hot 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7"/>
          <p:cNvSpPr/>
          <p:nvPr/>
        </p:nvSpPr>
        <p:spPr>
          <a:xfrm>
            <a:off x="2987640" y="262080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t shot 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8"/>
          <p:cNvSpPr/>
          <p:nvPr/>
        </p:nvSpPr>
        <p:spPr>
          <a:xfrm flipV="1">
            <a:off x="3995640" y="1522440"/>
            <a:ext cx="201636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9"/>
          <p:cNvSpPr/>
          <p:nvPr/>
        </p:nvSpPr>
        <p:spPr>
          <a:xfrm>
            <a:off x="3995640" y="180972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20"/>
          <p:cNvSpPr/>
          <p:nvPr/>
        </p:nvSpPr>
        <p:spPr>
          <a:xfrm flipV="1">
            <a:off x="4067280" y="281772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1"/>
          <p:cNvSpPr/>
          <p:nvPr/>
        </p:nvSpPr>
        <p:spPr>
          <a:xfrm>
            <a:off x="4067280" y="310500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2"/>
          <p:cNvSpPr/>
          <p:nvPr/>
        </p:nvSpPr>
        <p:spPr>
          <a:xfrm>
            <a:off x="6084720" y="1341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3"/>
          <p:cNvSpPr/>
          <p:nvPr/>
        </p:nvSpPr>
        <p:spPr>
          <a:xfrm>
            <a:off x="6084720" y="19540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4"/>
          <p:cNvSpPr/>
          <p:nvPr/>
        </p:nvSpPr>
        <p:spPr>
          <a:xfrm>
            <a:off x="6156360" y="2602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"/>
          <p:cNvSpPr/>
          <p:nvPr/>
        </p:nvSpPr>
        <p:spPr>
          <a:xfrm>
            <a:off x="6156360" y="3214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6"/>
          <p:cNvSpPr/>
          <p:nvPr/>
        </p:nvSpPr>
        <p:spPr>
          <a:xfrm>
            <a:off x="183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7"/>
          <p:cNvSpPr/>
          <p:nvPr/>
        </p:nvSpPr>
        <p:spPr>
          <a:xfrm>
            <a:off x="5219640" y="123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8"/>
          <p:cNvSpPr/>
          <p:nvPr/>
        </p:nvSpPr>
        <p:spPr>
          <a:xfrm>
            <a:off x="5148360" y="25304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0% of ducks get shot at during the duck shooting season –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f these 80% are killed. 4% of ducks not shot at, die of frigh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0"/>
          <p:cNvSpPr/>
          <p:nvPr/>
        </p:nvSpPr>
        <p:spPr>
          <a:xfrm>
            <a:off x="5148360" y="2995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1"/>
          <p:cNvSpPr/>
          <p:nvPr/>
        </p:nvSpPr>
        <p:spPr>
          <a:xfrm>
            <a:off x="5219640" y="173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2"/>
          <p:cNvSpPr/>
          <p:nvPr/>
        </p:nvSpPr>
        <p:spPr>
          <a:xfrm>
            <a:off x="1835280" y="23130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Ink 33"/>
          <p:cNvSpPr/>
          <p:nvPr/>
        </p:nvSpPr>
        <p:spPr>
          <a:xfrm>
            <a:off x="5813280" y="1384200"/>
            <a:ext cx="268560" cy="36720"/>
          </a:xfrm>
          <a:custGeom>
            <a:avLst/>
            <a:gdLst/>
            <a:ahLst/>
            <a:rect l="l" t="t" r="r" b="b"/>
            <a:pathLst>
              <a:path w="745" h="100">
                <a:moveTo>
                  <a:pt x="16148" y="3944"/>
                </a:moveTo>
                <a:cubicBezTo>
                  <a:pt x="16198" y="3944"/>
                  <a:pt x="16206" y="3933"/>
                  <a:pt x="16247" y="3919"/>
                </a:cubicBezTo>
                <a:cubicBezTo>
                  <a:pt x="16279" y="3908"/>
                  <a:pt x="16316" y="3904"/>
                  <a:pt x="16346" y="3894"/>
                </a:cubicBezTo>
                <a:cubicBezTo>
                  <a:pt x="16370" y="3886"/>
                  <a:pt x="16378" y="3919"/>
                  <a:pt x="16421" y="3919"/>
                </a:cubicBezTo>
              </a:path>
              <a:path w="745" h="100">
                <a:moveTo>
                  <a:pt x="16644" y="3894"/>
                </a:moveTo>
                <a:cubicBezTo>
                  <a:pt x="16679" y="3869"/>
                  <a:pt x="16676" y="3870"/>
                  <a:pt x="16718" y="3870"/>
                </a:cubicBezTo>
                <a:cubicBezTo>
                  <a:pt x="16731" y="3832"/>
                  <a:pt x="16748" y="3845"/>
                  <a:pt x="16793" y="3845"/>
                </a:cubicBezTo>
                <a:cubicBezTo>
                  <a:pt x="16826" y="3845"/>
                  <a:pt x="16859" y="3845"/>
                  <a:pt x="16892" y="38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Ink 34"/>
          <p:cNvSpPr/>
          <p:nvPr/>
        </p:nvSpPr>
        <p:spPr>
          <a:xfrm>
            <a:off x="6205680" y="892080"/>
            <a:ext cx="2546280" cy="546120"/>
          </a:xfrm>
          <a:custGeom>
            <a:avLst/>
            <a:gdLst/>
            <a:ahLst/>
            <a:rect l="l" t="t" r="r" b="b"/>
            <a:pathLst>
              <a:path w="7071" h="1515">
                <a:moveTo>
                  <a:pt x="20315" y="3423"/>
                </a:moveTo>
                <a:cubicBezTo>
                  <a:pt x="20255" y="3423"/>
                  <a:pt x="20278" y="3431"/>
                  <a:pt x="20241" y="3473"/>
                </a:cubicBezTo>
                <a:cubicBezTo>
                  <a:pt x="20221" y="3496"/>
                  <a:pt x="20179" y="3543"/>
                  <a:pt x="20166" y="3572"/>
                </a:cubicBezTo>
                <a:cubicBezTo>
                  <a:pt x="20147" y="3615"/>
                  <a:pt x="20174" y="3633"/>
                  <a:pt x="20191" y="3646"/>
                </a:cubicBezTo>
                <a:cubicBezTo>
                  <a:pt x="20235" y="3679"/>
                  <a:pt x="20233" y="3696"/>
                  <a:pt x="20290" y="3696"/>
                </a:cubicBezTo>
                <a:cubicBezTo>
                  <a:pt x="20336" y="3696"/>
                  <a:pt x="20380" y="3694"/>
                  <a:pt x="20414" y="3671"/>
                </a:cubicBezTo>
                <a:cubicBezTo>
                  <a:pt x="20451" y="3646"/>
                  <a:pt x="20464" y="3640"/>
                  <a:pt x="20489" y="3621"/>
                </a:cubicBezTo>
                <a:cubicBezTo>
                  <a:pt x="20515" y="3602"/>
                  <a:pt x="20535" y="3552"/>
                  <a:pt x="20538" y="3522"/>
                </a:cubicBezTo>
                <a:cubicBezTo>
                  <a:pt x="20543" y="3480"/>
                  <a:pt x="20559" y="3461"/>
                  <a:pt x="20563" y="3423"/>
                </a:cubicBezTo>
                <a:cubicBezTo>
                  <a:pt x="20567" y="3388"/>
                  <a:pt x="20532" y="3387"/>
                  <a:pt x="20513" y="3373"/>
                </a:cubicBezTo>
                <a:cubicBezTo>
                  <a:pt x="20469" y="3340"/>
                  <a:pt x="20471" y="3324"/>
                  <a:pt x="20414" y="3324"/>
                </a:cubicBezTo>
                <a:cubicBezTo>
                  <a:pt x="20391" y="3324"/>
                  <a:pt x="20345" y="3350"/>
                  <a:pt x="20315" y="3373"/>
                </a:cubicBezTo>
                <a:cubicBezTo>
                  <a:pt x="20267" y="3411"/>
                  <a:pt x="20304" y="3430"/>
                  <a:pt x="20315" y="3473"/>
                </a:cubicBezTo>
              </a:path>
              <a:path w="7071" h="1515">
                <a:moveTo>
                  <a:pt x="20712" y="3497"/>
                </a:moveTo>
                <a:cubicBezTo>
                  <a:pt x="20712" y="3557"/>
                  <a:pt x="20722" y="3551"/>
                  <a:pt x="20712" y="3547"/>
                </a:cubicBezTo>
                <a:cubicBezTo>
                  <a:pt x="20688" y="3537"/>
                  <a:pt x="20700" y="3571"/>
                  <a:pt x="20712" y="3497"/>
                </a:cubicBezTo>
              </a:path>
              <a:path w="7071" h="1515">
                <a:moveTo>
                  <a:pt x="20886" y="3200"/>
                </a:moveTo>
                <a:cubicBezTo>
                  <a:pt x="20958" y="3200"/>
                  <a:pt x="21018" y="3206"/>
                  <a:pt x="21084" y="3175"/>
                </a:cubicBezTo>
                <a:cubicBezTo>
                  <a:pt x="21130" y="3153"/>
                  <a:pt x="21183" y="3130"/>
                  <a:pt x="21233" y="3125"/>
                </a:cubicBezTo>
                <a:cubicBezTo>
                  <a:pt x="21257" y="3123"/>
                  <a:pt x="21283" y="3125"/>
                  <a:pt x="21307" y="3125"/>
                </a:cubicBezTo>
                <a:cubicBezTo>
                  <a:pt x="21307" y="3182"/>
                  <a:pt x="21279" y="3201"/>
                  <a:pt x="21258" y="3249"/>
                </a:cubicBezTo>
                <a:cubicBezTo>
                  <a:pt x="21225" y="3322"/>
                  <a:pt x="21202" y="3404"/>
                  <a:pt x="21158" y="3473"/>
                </a:cubicBezTo>
                <a:cubicBezTo>
                  <a:pt x="21137" y="3506"/>
                  <a:pt x="21102" y="3544"/>
                  <a:pt x="21084" y="3572"/>
                </a:cubicBezTo>
                <a:cubicBezTo>
                  <a:pt x="21052" y="3621"/>
                  <a:pt x="21037" y="3633"/>
                  <a:pt x="21084" y="3621"/>
                </a:cubicBezTo>
                <a:cubicBezTo>
                  <a:pt x="21092" y="3621"/>
                  <a:pt x="21101" y="3621"/>
                  <a:pt x="21109" y="3621"/>
                </a:cubicBezTo>
              </a:path>
              <a:path w="7071" h="1515">
                <a:moveTo>
                  <a:pt x="17239" y="3820"/>
                </a:moveTo>
                <a:cubicBezTo>
                  <a:pt x="17305" y="3820"/>
                  <a:pt x="17372" y="3820"/>
                  <a:pt x="17438" y="3820"/>
                </a:cubicBezTo>
              </a:path>
              <a:path w="7071" h="1515">
                <a:moveTo>
                  <a:pt x="17711" y="3845"/>
                </a:moveTo>
                <a:cubicBezTo>
                  <a:pt x="17794" y="3845"/>
                  <a:pt x="17876" y="3845"/>
                  <a:pt x="17959" y="3845"/>
                </a:cubicBezTo>
              </a:path>
              <a:path w="7071" h="1515">
                <a:moveTo>
                  <a:pt x="18157" y="3944"/>
                </a:moveTo>
                <a:cubicBezTo>
                  <a:pt x="18209" y="3944"/>
                  <a:pt x="18229" y="3962"/>
                  <a:pt x="18281" y="3969"/>
                </a:cubicBezTo>
              </a:path>
              <a:path w="7071" h="1515">
                <a:moveTo>
                  <a:pt x="18529" y="3969"/>
                </a:moveTo>
                <a:cubicBezTo>
                  <a:pt x="18576" y="3969"/>
                  <a:pt x="18608" y="3989"/>
                  <a:pt x="18653" y="3994"/>
                </a:cubicBezTo>
                <a:cubicBezTo>
                  <a:pt x="18743" y="4003"/>
                  <a:pt x="18819" y="3990"/>
                  <a:pt x="18901" y="3969"/>
                </a:cubicBezTo>
                <a:cubicBezTo>
                  <a:pt x="18934" y="3969"/>
                  <a:pt x="18951" y="3969"/>
                  <a:pt x="18976" y="3969"/>
                </a:cubicBezTo>
              </a:path>
              <a:path w="7071" h="1515">
                <a:moveTo>
                  <a:pt x="19174" y="3944"/>
                </a:moveTo>
                <a:cubicBezTo>
                  <a:pt x="19236" y="3917"/>
                  <a:pt x="19263" y="3937"/>
                  <a:pt x="19323" y="3919"/>
                </a:cubicBezTo>
                <a:cubicBezTo>
                  <a:pt x="19383" y="3901"/>
                  <a:pt x="19407" y="3894"/>
                  <a:pt x="19472" y="3894"/>
                </a:cubicBezTo>
              </a:path>
              <a:path w="7071" h="1515">
                <a:moveTo>
                  <a:pt x="19695" y="3845"/>
                </a:moveTo>
                <a:cubicBezTo>
                  <a:pt x="19709" y="3841"/>
                  <a:pt x="19777" y="3799"/>
                  <a:pt x="19794" y="3820"/>
                </a:cubicBezTo>
                <a:cubicBezTo>
                  <a:pt x="19794" y="3828"/>
                  <a:pt x="19794" y="3837"/>
                  <a:pt x="19794" y="3845"/>
                </a:cubicBezTo>
              </a:path>
              <a:path w="7071" h="1515">
                <a:moveTo>
                  <a:pt x="19844" y="3845"/>
                </a:moveTo>
                <a:cubicBezTo>
                  <a:pt x="19884" y="3825"/>
                  <a:pt x="19890" y="3816"/>
                  <a:pt x="19918" y="3820"/>
                </a:cubicBezTo>
              </a:path>
              <a:path w="7071" h="1515">
                <a:moveTo>
                  <a:pt x="21580" y="3225"/>
                </a:moveTo>
                <a:cubicBezTo>
                  <a:pt x="21580" y="3217"/>
                  <a:pt x="21580" y="3208"/>
                  <a:pt x="21580" y="3200"/>
                </a:cubicBezTo>
                <a:cubicBezTo>
                  <a:pt x="21619" y="3210"/>
                  <a:pt x="21635" y="3225"/>
                  <a:pt x="21679" y="3225"/>
                </a:cubicBezTo>
                <a:cubicBezTo>
                  <a:pt x="21737" y="3225"/>
                  <a:pt x="21795" y="3225"/>
                  <a:pt x="21853" y="3225"/>
                </a:cubicBezTo>
              </a:path>
              <a:path w="7071" h="1515">
                <a:moveTo>
                  <a:pt x="22027" y="3150"/>
                </a:moveTo>
                <a:cubicBezTo>
                  <a:pt x="22064" y="3112"/>
                  <a:pt x="22073" y="3101"/>
                  <a:pt x="22126" y="3101"/>
                </a:cubicBezTo>
                <a:cubicBezTo>
                  <a:pt x="22151" y="3101"/>
                  <a:pt x="22159" y="3101"/>
                  <a:pt x="22175" y="3101"/>
                </a:cubicBezTo>
                <a:cubicBezTo>
                  <a:pt x="22187" y="3066"/>
                  <a:pt x="22182" y="3076"/>
                  <a:pt x="22225" y="3076"/>
                </a:cubicBezTo>
              </a:path>
              <a:path w="7071" h="1515">
                <a:moveTo>
                  <a:pt x="22448" y="3026"/>
                </a:moveTo>
                <a:cubicBezTo>
                  <a:pt x="22448" y="3018"/>
                  <a:pt x="22448" y="3009"/>
                  <a:pt x="22448" y="3001"/>
                </a:cubicBezTo>
                <a:cubicBezTo>
                  <a:pt x="22489" y="2991"/>
                  <a:pt x="22505" y="2957"/>
                  <a:pt x="22547" y="2952"/>
                </a:cubicBezTo>
                <a:cubicBezTo>
                  <a:pt x="22595" y="2947"/>
                  <a:pt x="22647" y="2952"/>
                  <a:pt x="22696" y="2952"/>
                </a:cubicBezTo>
              </a:path>
              <a:path w="7071" h="1515">
                <a:moveTo>
                  <a:pt x="22944" y="2902"/>
                </a:moveTo>
                <a:cubicBezTo>
                  <a:pt x="22952" y="2902"/>
                  <a:pt x="22961" y="2902"/>
                  <a:pt x="22969" y="2902"/>
                </a:cubicBezTo>
                <a:cubicBezTo>
                  <a:pt x="22982" y="2864"/>
                  <a:pt x="22999" y="2877"/>
                  <a:pt x="23044" y="2877"/>
                </a:cubicBezTo>
                <a:cubicBezTo>
                  <a:pt x="23052" y="2877"/>
                  <a:pt x="23060" y="2877"/>
                  <a:pt x="23068" y="2877"/>
                </a:cubicBezTo>
              </a:path>
              <a:path w="7071" h="1515">
                <a:moveTo>
                  <a:pt x="23316" y="2902"/>
                </a:moveTo>
                <a:cubicBezTo>
                  <a:pt x="23421" y="2902"/>
                  <a:pt x="23466" y="2902"/>
                  <a:pt x="23540" y="2853"/>
                </a:cubicBezTo>
                <a:cubicBezTo>
                  <a:pt x="23551" y="2846"/>
                  <a:pt x="23600" y="2853"/>
                  <a:pt x="23614" y="2853"/>
                </a:cubicBezTo>
              </a:path>
              <a:path w="7071" h="1515">
                <a:moveTo>
                  <a:pt x="24209" y="2753"/>
                </a:moveTo>
                <a:cubicBezTo>
                  <a:pt x="24209" y="2712"/>
                  <a:pt x="24217" y="2696"/>
                  <a:pt x="24185" y="2704"/>
                </a:cubicBezTo>
                <a:cubicBezTo>
                  <a:pt x="24170" y="2748"/>
                  <a:pt x="24158" y="2739"/>
                  <a:pt x="24110" y="2778"/>
                </a:cubicBezTo>
                <a:cubicBezTo>
                  <a:pt x="24050" y="2827"/>
                  <a:pt x="23997" y="2881"/>
                  <a:pt x="23937" y="2927"/>
                </a:cubicBezTo>
                <a:cubicBezTo>
                  <a:pt x="23901" y="2955"/>
                  <a:pt x="23869" y="2994"/>
                  <a:pt x="23837" y="3026"/>
                </a:cubicBezTo>
                <a:cubicBezTo>
                  <a:pt x="23799" y="3064"/>
                  <a:pt x="23812" y="3093"/>
                  <a:pt x="23812" y="3026"/>
                </a:cubicBezTo>
              </a:path>
              <a:path w="7071" h="1515">
                <a:moveTo>
                  <a:pt x="23862" y="2480"/>
                </a:moveTo>
                <a:cubicBezTo>
                  <a:pt x="23874" y="2529"/>
                  <a:pt x="23899" y="2575"/>
                  <a:pt x="23912" y="2629"/>
                </a:cubicBezTo>
                <a:cubicBezTo>
                  <a:pt x="23926" y="2690"/>
                  <a:pt x="23953" y="2739"/>
                  <a:pt x="23961" y="2803"/>
                </a:cubicBezTo>
                <a:cubicBezTo>
                  <a:pt x="24021" y="2818"/>
                  <a:pt x="24025" y="2853"/>
                  <a:pt x="24061" y="2902"/>
                </a:cubicBezTo>
                <a:cubicBezTo>
                  <a:pt x="24093" y="2945"/>
                  <a:pt x="24110" y="2945"/>
                  <a:pt x="24110" y="3001"/>
                </a:cubicBezTo>
                <a:cubicBezTo>
                  <a:pt x="24148" y="3014"/>
                  <a:pt x="24135" y="3031"/>
                  <a:pt x="24135" y="3076"/>
                </a:cubicBezTo>
                <a:cubicBezTo>
                  <a:pt x="24135" y="3137"/>
                  <a:pt x="24147" y="3127"/>
                  <a:pt x="24160" y="3076"/>
                </a:cubicBezTo>
              </a:path>
              <a:path w="7071" h="1515">
                <a:moveTo>
                  <a:pt x="24160" y="2530"/>
                </a:moveTo>
                <a:cubicBezTo>
                  <a:pt x="24151" y="2568"/>
                  <a:pt x="24137" y="2599"/>
                  <a:pt x="24110" y="2629"/>
                </a:cubicBezTo>
                <a:cubicBezTo>
                  <a:pt x="24073" y="2670"/>
                  <a:pt x="24061" y="2711"/>
                  <a:pt x="24036" y="2753"/>
                </a:cubicBezTo>
                <a:cubicBezTo>
                  <a:pt x="24010" y="2796"/>
                  <a:pt x="24007" y="2835"/>
                  <a:pt x="23986" y="2877"/>
                </a:cubicBezTo>
                <a:cubicBezTo>
                  <a:pt x="23965" y="2919"/>
                  <a:pt x="23961" y="2926"/>
                  <a:pt x="23961" y="2977"/>
                </a:cubicBezTo>
                <a:cubicBezTo>
                  <a:pt x="23961" y="3031"/>
                  <a:pt x="23986" y="3134"/>
                  <a:pt x="23937" y="3101"/>
                </a:cubicBezTo>
              </a:path>
              <a:path w="7071" h="1515">
                <a:moveTo>
                  <a:pt x="23738" y="2729"/>
                </a:moveTo>
                <a:cubicBezTo>
                  <a:pt x="23789" y="2757"/>
                  <a:pt x="23815" y="2798"/>
                  <a:pt x="23862" y="2828"/>
                </a:cubicBezTo>
                <a:cubicBezTo>
                  <a:pt x="23903" y="2855"/>
                  <a:pt x="23992" y="2912"/>
                  <a:pt x="24036" y="2902"/>
                </a:cubicBezTo>
                <a:cubicBezTo>
                  <a:pt x="24062" y="2896"/>
                  <a:pt x="24143" y="2884"/>
                  <a:pt x="24185" y="2902"/>
                </a:cubicBezTo>
                <a:cubicBezTo>
                  <a:pt x="24227" y="2920"/>
                  <a:pt x="24233" y="2927"/>
                  <a:pt x="24284" y="2927"/>
                </a:cubicBezTo>
                <a:cubicBezTo>
                  <a:pt x="24292" y="2927"/>
                  <a:pt x="24301" y="2927"/>
                  <a:pt x="24309" y="2927"/>
                </a:cubicBezTo>
              </a:path>
              <a:path w="7071" h="1515">
                <a:moveTo>
                  <a:pt x="24085" y="2480"/>
                </a:moveTo>
                <a:cubicBezTo>
                  <a:pt x="24040" y="2492"/>
                  <a:pt x="24020" y="2529"/>
                  <a:pt x="24011" y="2580"/>
                </a:cubicBezTo>
                <a:cubicBezTo>
                  <a:pt x="23996" y="2665"/>
                  <a:pt x="24005" y="2745"/>
                  <a:pt x="23986" y="2828"/>
                </a:cubicBezTo>
                <a:cubicBezTo>
                  <a:pt x="23976" y="2872"/>
                  <a:pt x="23986" y="2931"/>
                  <a:pt x="23986" y="297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Ink 35"/>
          <p:cNvSpPr/>
          <p:nvPr/>
        </p:nvSpPr>
        <p:spPr>
          <a:xfrm>
            <a:off x="8143920" y="1108080"/>
            <a:ext cx="652320" cy="241200"/>
          </a:xfrm>
          <a:custGeom>
            <a:avLst/>
            <a:gdLst/>
            <a:ahLst/>
            <a:rect l="l" t="t" r="r" b="b"/>
            <a:pathLst>
              <a:path w="1812" h="671">
                <a:moveTo>
                  <a:pt x="22771" y="3175"/>
                </a:moveTo>
                <a:cubicBezTo>
                  <a:pt x="22726" y="3220"/>
                  <a:pt x="22711" y="3261"/>
                  <a:pt x="22696" y="3324"/>
                </a:cubicBezTo>
                <a:cubicBezTo>
                  <a:pt x="22686" y="3366"/>
                  <a:pt x="22655" y="3412"/>
                  <a:pt x="22647" y="3448"/>
                </a:cubicBezTo>
                <a:cubicBezTo>
                  <a:pt x="22647" y="3450"/>
                  <a:pt x="22620" y="3572"/>
                  <a:pt x="22622" y="3572"/>
                </a:cubicBezTo>
                <a:cubicBezTo>
                  <a:pt x="22630" y="3564"/>
                  <a:pt x="22639" y="3555"/>
                  <a:pt x="22647" y="3547"/>
                </a:cubicBezTo>
              </a:path>
              <a:path w="1812" h="671">
                <a:moveTo>
                  <a:pt x="22771" y="3200"/>
                </a:moveTo>
                <a:cubicBezTo>
                  <a:pt x="22827" y="3192"/>
                  <a:pt x="22901" y="3159"/>
                  <a:pt x="22944" y="3125"/>
                </a:cubicBezTo>
                <a:cubicBezTo>
                  <a:pt x="22974" y="3101"/>
                  <a:pt x="23029" y="3086"/>
                  <a:pt x="23068" y="3076"/>
                </a:cubicBezTo>
                <a:cubicBezTo>
                  <a:pt x="23096" y="3076"/>
                  <a:pt x="23102" y="3078"/>
                  <a:pt x="23068" y="3101"/>
                </a:cubicBezTo>
              </a:path>
              <a:path w="1812" h="671">
                <a:moveTo>
                  <a:pt x="22647" y="3373"/>
                </a:moveTo>
                <a:cubicBezTo>
                  <a:pt x="22752" y="3373"/>
                  <a:pt x="22854" y="3368"/>
                  <a:pt x="22944" y="3398"/>
                </a:cubicBezTo>
                <a:cubicBezTo>
                  <a:pt x="22952" y="3398"/>
                  <a:pt x="22961" y="3398"/>
                  <a:pt x="22969" y="3398"/>
                </a:cubicBezTo>
              </a:path>
              <a:path w="1812" h="671">
                <a:moveTo>
                  <a:pt x="22969" y="3547"/>
                </a:moveTo>
                <a:cubicBezTo>
                  <a:pt x="22932" y="3585"/>
                  <a:pt x="22920" y="3594"/>
                  <a:pt x="22920" y="3646"/>
                </a:cubicBezTo>
                <a:cubicBezTo>
                  <a:pt x="22980" y="3646"/>
                  <a:pt x="23048" y="3661"/>
                  <a:pt x="23093" y="3621"/>
                </a:cubicBezTo>
                <a:cubicBezTo>
                  <a:pt x="23122" y="3596"/>
                  <a:pt x="23131" y="3532"/>
                  <a:pt x="23143" y="3522"/>
                </a:cubicBezTo>
                <a:cubicBezTo>
                  <a:pt x="23159" y="3509"/>
                  <a:pt x="23181" y="3473"/>
                  <a:pt x="23143" y="3448"/>
                </a:cubicBezTo>
                <a:cubicBezTo>
                  <a:pt x="23116" y="3430"/>
                  <a:pt x="23080" y="3423"/>
                  <a:pt x="23044" y="3423"/>
                </a:cubicBezTo>
                <a:cubicBezTo>
                  <a:pt x="23017" y="3423"/>
                  <a:pt x="22997" y="3448"/>
                  <a:pt x="22994" y="3473"/>
                </a:cubicBezTo>
                <a:cubicBezTo>
                  <a:pt x="22994" y="3508"/>
                  <a:pt x="22989" y="3525"/>
                  <a:pt x="22969" y="3547"/>
                </a:cubicBezTo>
              </a:path>
              <a:path w="1812" h="671">
                <a:moveTo>
                  <a:pt x="22969" y="3547"/>
                </a:moveTo>
                <a:cubicBezTo>
                  <a:pt x="23043" y="3547"/>
                  <a:pt x="23118" y="3547"/>
                  <a:pt x="23192" y="3547"/>
                </a:cubicBezTo>
                <a:cubicBezTo>
                  <a:pt x="23186" y="3574"/>
                  <a:pt x="23151" y="3614"/>
                  <a:pt x="23168" y="3646"/>
                </a:cubicBezTo>
                <a:cubicBezTo>
                  <a:pt x="23190" y="3688"/>
                  <a:pt x="23275" y="3693"/>
                  <a:pt x="23316" y="3696"/>
                </a:cubicBezTo>
                <a:cubicBezTo>
                  <a:pt x="23339" y="3698"/>
                  <a:pt x="23429" y="3642"/>
                  <a:pt x="23440" y="3621"/>
                </a:cubicBezTo>
                <a:cubicBezTo>
                  <a:pt x="23463" y="3575"/>
                  <a:pt x="23453" y="3622"/>
                  <a:pt x="23465" y="3547"/>
                </a:cubicBezTo>
                <a:cubicBezTo>
                  <a:pt x="23497" y="3558"/>
                  <a:pt x="23505" y="3581"/>
                  <a:pt x="23515" y="3621"/>
                </a:cubicBezTo>
              </a:path>
              <a:path w="1812" h="671">
                <a:moveTo>
                  <a:pt x="23688" y="3547"/>
                </a:moveTo>
                <a:cubicBezTo>
                  <a:pt x="23680" y="3582"/>
                  <a:pt x="23664" y="3682"/>
                  <a:pt x="23664" y="3646"/>
                </a:cubicBezTo>
                <a:cubicBezTo>
                  <a:pt x="23664" y="3617"/>
                  <a:pt x="23710" y="3599"/>
                  <a:pt x="23738" y="3572"/>
                </a:cubicBezTo>
                <a:cubicBezTo>
                  <a:pt x="23763" y="3547"/>
                  <a:pt x="23803" y="3526"/>
                  <a:pt x="23837" y="3522"/>
                </a:cubicBezTo>
                <a:cubicBezTo>
                  <a:pt x="23862" y="3522"/>
                  <a:pt x="23870" y="3522"/>
                  <a:pt x="23887" y="3522"/>
                </a:cubicBezTo>
                <a:cubicBezTo>
                  <a:pt x="23887" y="3568"/>
                  <a:pt x="23867" y="3581"/>
                  <a:pt x="23862" y="3621"/>
                </a:cubicBezTo>
                <a:cubicBezTo>
                  <a:pt x="23856" y="3671"/>
                  <a:pt x="23866" y="3685"/>
                  <a:pt x="23912" y="3696"/>
                </a:cubicBezTo>
              </a:path>
              <a:path w="1812" h="671">
                <a:moveTo>
                  <a:pt x="24259" y="3547"/>
                </a:moveTo>
                <a:cubicBezTo>
                  <a:pt x="24221" y="3534"/>
                  <a:pt x="24238" y="3522"/>
                  <a:pt x="24185" y="3522"/>
                </a:cubicBezTo>
                <a:cubicBezTo>
                  <a:pt x="24144" y="3522"/>
                  <a:pt x="24088" y="3537"/>
                  <a:pt x="24061" y="3572"/>
                </a:cubicBezTo>
                <a:cubicBezTo>
                  <a:pt x="24046" y="3591"/>
                  <a:pt x="24014" y="3669"/>
                  <a:pt x="24011" y="3696"/>
                </a:cubicBezTo>
                <a:cubicBezTo>
                  <a:pt x="24011" y="3724"/>
                  <a:pt x="24013" y="3735"/>
                  <a:pt x="24036" y="3746"/>
                </a:cubicBezTo>
                <a:cubicBezTo>
                  <a:pt x="24080" y="3728"/>
                  <a:pt x="24143" y="3692"/>
                  <a:pt x="24185" y="3671"/>
                </a:cubicBezTo>
                <a:cubicBezTo>
                  <a:pt x="24227" y="3650"/>
                  <a:pt x="24280" y="3616"/>
                  <a:pt x="24309" y="3572"/>
                </a:cubicBezTo>
                <a:cubicBezTo>
                  <a:pt x="24354" y="3504"/>
                  <a:pt x="24369" y="3418"/>
                  <a:pt x="24408" y="3349"/>
                </a:cubicBezTo>
                <a:cubicBezTo>
                  <a:pt x="24436" y="3321"/>
                  <a:pt x="24445" y="3307"/>
                  <a:pt x="24433" y="3274"/>
                </a:cubicBezTo>
                <a:cubicBezTo>
                  <a:pt x="24433" y="3220"/>
                  <a:pt x="24397" y="3344"/>
                  <a:pt x="24383" y="3373"/>
                </a:cubicBezTo>
                <a:cubicBezTo>
                  <a:pt x="24348" y="3442"/>
                  <a:pt x="24339" y="3504"/>
                  <a:pt x="24309" y="3572"/>
                </a:cubicBezTo>
                <a:cubicBezTo>
                  <a:pt x="24286" y="3624"/>
                  <a:pt x="24284" y="3642"/>
                  <a:pt x="24284" y="3696"/>
                </a:cubicBezTo>
                <a:cubicBezTo>
                  <a:pt x="24284" y="3738"/>
                  <a:pt x="24292" y="3754"/>
                  <a:pt x="24259" y="374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Ink 36"/>
          <p:cNvSpPr/>
          <p:nvPr/>
        </p:nvSpPr>
        <p:spPr>
          <a:xfrm>
            <a:off x="6581880" y="1214280"/>
            <a:ext cx="2151000" cy="1000440"/>
          </a:xfrm>
          <a:custGeom>
            <a:avLst/>
            <a:gdLst/>
            <a:ahLst/>
            <a:rect l="l" t="t" r="r" b="b"/>
            <a:pathLst>
              <a:path w="5979" h="2780">
                <a:moveTo>
                  <a:pt x="18827" y="4465"/>
                </a:moveTo>
                <a:cubicBezTo>
                  <a:pt x="18862" y="4453"/>
                  <a:pt x="18886" y="4450"/>
                  <a:pt x="18926" y="4440"/>
                </a:cubicBezTo>
                <a:cubicBezTo>
                  <a:pt x="18960" y="4432"/>
                  <a:pt x="18990" y="4425"/>
                  <a:pt x="19025" y="4415"/>
                </a:cubicBezTo>
                <a:cubicBezTo>
                  <a:pt x="19061" y="4404"/>
                  <a:pt x="19086" y="4399"/>
                  <a:pt x="19124" y="4390"/>
                </a:cubicBezTo>
                <a:cubicBezTo>
                  <a:pt x="19168" y="4379"/>
                  <a:pt x="19221" y="4376"/>
                  <a:pt x="19273" y="4366"/>
                </a:cubicBezTo>
                <a:cubicBezTo>
                  <a:pt x="19314" y="4358"/>
                  <a:pt x="19381" y="4330"/>
                  <a:pt x="19422" y="4316"/>
                </a:cubicBezTo>
                <a:cubicBezTo>
                  <a:pt x="19464" y="4302"/>
                  <a:pt x="19508" y="4280"/>
                  <a:pt x="19546" y="4266"/>
                </a:cubicBezTo>
                <a:cubicBezTo>
                  <a:pt x="19581" y="4253"/>
                  <a:pt x="19637" y="4259"/>
                  <a:pt x="19670" y="4242"/>
                </a:cubicBezTo>
                <a:cubicBezTo>
                  <a:pt x="19707" y="4223"/>
                  <a:pt x="19730" y="4205"/>
                  <a:pt x="19769" y="4192"/>
                </a:cubicBezTo>
                <a:cubicBezTo>
                  <a:pt x="19814" y="4177"/>
                  <a:pt x="19854" y="4159"/>
                  <a:pt x="19893" y="4142"/>
                </a:cubicBezTo>
                <a:cubicBezTo>
                  <a:pt x="19962" y="4112"/>
                  <a:pt x="20022" y="4091"/>
                  <a:pt x="20092" y="4068"/>
                </a:cubicBezTo>
                <a:cubicBezTo>
                  <a:pt x="20156" y="4047"/>
                  <a:pt x="20228" y="4048"/>
                  <a:pt x="20290" y="4018"/>
                </a:cubicBezTo>
                <a:cubicBezTo>
                  <a:pt x="20350" y="3990"/>
                  <a:pt x="20402" y="3971"/>
                  <a:pt x="20464" y="3944"/>
                </a:cubicBezTo>
                <a:cubicBezTo>
                  <a:pt x="20525" y="3918"/>
                  <a:pt x="20581" y="3871"/>
                  <a:pt x="20638" y="3845"/>
                </a:cubicBezTo>
                <a:cubicBezTo>
                  <a:pt x="20686" y="3823"/>
                  <a:pt x="20756" y="3812"/>
                  <a:pt x="20811" y="3795"/>
                </a:cubicBezTo>
                <a:cubicBezTo>
                  <a:pt x="20848" y="3784"/>
                  <a:pt x="20900" y="3784"/>
                  <a:pt x="20935" y="3770"/>
                </a:cubicBezTo>
                <a:cubicBezTo>
                  <a:pt x="20994" y="3747"/>
                  <a:pt x="21052" y="3717"/>
                  <a:pt x="21109" y="3696"/>
                </a:cubicBezTo>
                <a:cubicBezTo>
                  <a:pt x="21164" y="3676"/>
                  <a:pt x="21226" y="3663"/>
                  <a:pt x="21282" y="3646"/>
                </a:cubicBezTo>
                <a:cubicBezTo>
                  <a:pt x="21317" y="3635"/>
                  <a:pt x="21400" y="3636"/>
                  <a:pt x="21431" y="3621"/>
                </a:cubicBezTo>
                <a:cubicBezTo>
                  <a:pt x="21492" y="3591"/>
                  <a:pt x="21487" y="3590"/>
                  <a:pt x="21555" y="3572"/>
                </a:cubicBezTo>
                <a:cubicBezTo>
                  <a:pt x="21600" y="3560"/>
                  <a:pt x="21629" y="3558"/>
                  <a:pt x="21679" y="3547"/>
                </a:cubicBezTo>
                <a:cubicBezTo>
                  <a:pt x="21695" y="3543"/>
                  <a:pt x="21731" y="3528"/>
                  <a:pt x="21754" y="3522"/>
                </a:cubicBezTo>
                <a:cubicBezTo>
                  <a:pt x="21764" y="3519"/>
                  <a:pt x="21814" y="3506"/>
                  <a:pt x="21853" y="3497"/>
                </a:cubicBezTo>
                <a:cubicBezTo>
                  <a:pt x="21882" y="3490"/>
                  <a:pt x="21917" y="3480"/>
                  <a:pt x="21952" y="3473"/>
                </a:cubicBezTo>
                <a:cubicBezTo>
                  <a:pt x="21985" y="3466"/>
                  <a:pt x="22016" y="3458"/>
                  <a:pt x="22051" y="3448"/>
                </a:cubicBezTo>
                <a:cubicBezTo>
                  <a:pt x="22089" y="3437"/>
                  <a:pt x="22138" y="3413"/>
                  <a:pt x="22175" y="3398"/>
                </a:cubicBezTo>
                <a:cubicBezTo>
                  <a:pt x="22215" y="3382"/>
                  <a:pt x="22218" y="3387"/>
                  <a:pt x="22250" y="3373"/>
                </a:cubicBezTo>
                <a:cubicBezTo>
                  <a:pt x="22225" y="3373"/>
                  <a:pt x="22217" y="3373"/>
                  <a:pt x="22200" y="3373"/>
                </a:cubicBezTo>
              </a:path>
              <a:path w="5979" h="2780">
                <a:moveTo>
                  <a:pt x="18901" y="4614"/>
                </a:moveTo>
                <a:cubicBezTo>
                  <a:pt x="18933" y="4630"/>
                  <a:pt x="18919" y="4622"/>
                  <a:pt x="18951" y="4638"/>
                </a:cubicBezTo>
                <a:cubicBezTo>
                  <a:pt x="18973" y="4656"/>
                  <a:pt x="18986" y="4694"/>
                  <a:pt x="19025" y="4713"/>
                </a:cubicBezTo>
                <a:cubicBezTo>
                  <a:pt x="19050" y="4726"/>
                  <a:pt x="19097" y="4729"/>
                  <a:pt x="19124" y="4738"/>
                </a:cubicBezTo>
                <a:cubicBezTo>
                  <a:pt x="19167" y="4752"/>
                  <a:pt x="19239" y="4769"/>
                  <a:pt x="19273" y="4787"/>
                </a:cubicBezTo>
                <a:cubicBezTo>
                  <a:pt x="19322" y="4812"/>
                  <a:pt x="19344" y="4820"/>
                  <a:pt x="19397" y="4837"/>
                </a:cubicBezTo>
                <a:cubicBezTo>
                  <a:pt x="19440" y="4851"/>
                  <a:pt x="19504" y="4869"/>
                  <a:pt x="19546" y="4887"/>
                </a:cubicBezTo>
                <a:cubicBezTo>
                  <a:pt x="19587" y="4905"/>
                  <a:pt x="19623" y="4923"/>
                  <a:pt x="19670" y="4936"/>
                </a:cubicBezTo>
                <a:cubicBezTo>
                  <a:pt x="19729" y="4952"/>
                  <a:pt x="19786" y="4970"/>
                  <a:pt x="19844" y="4986"/>
                </a:cubicBezTo>
                <a:cubicBezTo>
                  <a:pt x="19909" y="5004"/>
                  <a:pt x="19978" y="5017"/>
                  <a:pt x="20042" y="5035"/>
                </a:cubicBezTo>
                <a:cubicBezTo>
                  <a:pt x="20095" y="5050"/>
                  <a:pt x="20137" y="5077"/>
                  <a:pt x="20191" y="5085"/>
                </a:cubicBezTo>
                <a:cubicBezTo>
                  <a:pt x="20241" y="5092"/>
                  <a:pt x="20271" y="5097"/>
                  <a:pt x="20315" y="5110"/>
                </a:cubicBezTo>
                <a:cubicBezTo>
                  <a:pt x="20361" y="5123"/>
                  <a:pt x="20393" y="5124"/>
                  <a:pt x="20439" y="5135"/>
                </a:cubicBezTo>
                <a:cubicBezTo>
                  <a:pt x="20513" y="5153"/>
                  <a:pt x="20589" y="5163"/>
                  <a:pt x="20662" y="5184"/>
                </a:cubicBezTo>
                <a:cubicBezTo>
                  <a:pt x="20706" y="5197"/>
                  <a:pt x="20773" y="5229"/>
                  <a:pt x="20811" y="5234"/>
                </a:cubicBezTo>
                <a:cubicBezTo>
                  <a:pt x="20871" y="5242"/>
                  <a:pt x="20908" y="5244"/>
                  <a:pt x="20960" y="5259"/>
                </a:cubicBezTo>
                <a:cubicBezTo>
                  <a:pt x="21014" y="5275"/>
                  <a:pt x="21052" y="5270"/>
                  <a:pt x="21109" y="5283"/>
                </a:cubicBezTo>
                <a:cubicBezTo>
                  <a:pt x="21143" y="5291"/>
                  <a:pt x="21194" y="5322"/>
                  <a:pt x="21233" y="5333"/>
                </a:cubicBezTo>
                <a:cubicBezTo>
                  <a:pt x="21270" y="5343"/>
                  <a:pt x="21314" y="5347"/>
                  <a:pt x="21357" y="5358"/>
                </a:cubicBezTo>
                <a:cubicBezTo>
                  <a:pt x="21400" y="5369"/>
                  <a:pt x="21460" y="5392"/>
                  <a:pt x="21506" y="5407"/>
                </a:cubicBezTo>
                <a:cubicBezTo>
                  <a:pt x="21562" y="5426"/>
                  <a:pt x="21621" y="5440"/>
                  <a:pt x="21679" y="5457"/>
                </a:cubicBezTo>
                <a:cubicBezTo>
                  <a:pt x="21712" y="5467"/>
                  <a:pt x="21740" y="5473"/>
                  <a:pt x="21779" y="5482"/>
                </a:cubicBezTo>
                <a:cubicBezTo>
                  <a:pt x="21828" y="5493"/>
                  <a:pt x="21877" y="5496"/>
                  <a:pt x="21927" y="5507"/>
                </a:cubicBezTo>
                <a:cubicBezTo>
                  <a:pt x="21964" y="5515"/>
                  <a:pt x="21993" y="5527"/>
                  <a:pt x="22027" y="5531"/>
                </a:cubicBezTo>
                <a:cubicBezTo>
                  <a:pt x="22051" y="5534"/>
                  <a:pt x="22077" y="5529"/>
                  <a:pt x="22101" y="5531"/>
                </a:cubicBezTo>
                <a:cubicBezTo>
                  <a:pt x="22094" y="5528"/>
                  <a:pt x="22096" y="5564"/>
                  <a:pt x="22051" y="5507"/>
                </a:cubicBezTo>
                <a:cubicBezTo>
                  <a:pt x="22022" y="5477"/>
                  <a:pt x="22011" y="5462"/>
                  <a:pt x="22002" y="5432"/>
                </a:cubicBezTo>
              </a:path>
              <a:path w="5979" h="2780">
                <a:moveTo>
                  <a:pt x="20538" y="4564"/>
                </a:moveTo>
                <a:cubicBezTo>
                  <a:pt x="20498" y="4574"/>
                  <a:pt x="20469" y="4593"/>
                  <a:pt x="20464" y="4638"/>
                </a:cubicBezTo>
                <a:cubicBezTo>
                  <a:pt x="20459" y="4683"/>
                  <a:pt x="20439" y="4715"/>
                  <a:pt x="20439" y="4762"/>
                </a:cubicBezTo>
                <a:cubicBezTo>
                  <a:pt x="20439" y="4815"/>
                  <a:pt x="20465" y="4857"/>
                  <a:pt x="20513" y="4887"/>
                </a:cubicBezTo>
                <a:cubicBezTo>
                  <a:pt x="20567" y="4921"/>
                  <a:pt x="20626" y="4911"/>
                  <a:pt x="20687" y="4911"/>
                </a:cubicBezTo>
                <a:cubicBezTo>
                  <a:pt x="20752" y="4911"/>
                  <a:pt x="20812" y="4870"/>
                  <a:pt x="20836" y="4812"/>
                </a:cubicBezTo>
                <a:cubicBezTo>
                  <a:pt x="20852" y="4773"/>
                  <a:pt x="20880" y="4712"/>
                  <a:pt x="20861" y="4663"/>
                </a:cubicBezTo>
                <a:cubicBezTo>
                  <a:pt x="20848" y="4630"/>
                  <a:pt x="20781" y="4574"/>
                  <a:pt x="20762" y="4564"/>
                </a:cubicBezTo>
                <a:cubicBezTo>
                  <a:pt x="20725" y="4545"/>
                  <a:pt x="20675" y="4518"/>
                  <a:pt x="20638" y="4514"/>
                </a:cubicBezTo>
                <a:cubicBezTo>
                  <a:pt x="20612" y="4511"/>
                  <a:pt x="20591" y="4542"/>
                  <a:pt x="20588" y="4564"/>
                </a:cubicBezTo>
                <a:cubicBezTo>
                  <a:pt x="20581" y="4621"/>
                  <a:pt x="20613" y="4664"/>
                  <a:pt x="20638" y="4713"/>
                </a:cubicBezTo>
              </a:path>
              <a:path w="5979" h="2780">
                <a:moveTo>
                  <a:pt x="21010" y="4812"/>
                </a:moveTo>
                <a:cubicBezTo>
                  <a:pt x="21010" y="4859"/>
                  <a:pt x="21040" y="4906"/>
                  <a:pt x="21010" y="4812"/>
                </a:cubicBezTo>
              </a:path>
              <a:path w="5979" h="2780">
                <a:moveTo>
                  <a:pt x="21208" y="4713"/>
                </a:moveTo>
                <a:cubicBezTo>
                  <a:pt x="21254" y="4713"/>
                  <a:pt x="21266" y="4693"/>
                  <a:pt x="21307" y="4688"/>
                </a:cubicBezTo>
                <a:cubicBezTo>
                  <a:pt x="21331" y="4685"/>
                  <a:pt x="21358" y="4688"/>
                  <a:pt x="21382" y="4688"/>
                </a:cubicBezTo>
                <a:cubicBezTo>
                  <a:pt x="21382" y="4739"/>
                  <a:pt x="21391" y="4774"/>
                  <a:pt x="21357" y="4812"/>
                </a:cubicBezTo>
                <a:cubicBezTo>
                  <a:pt x="21318" y="4856"/>
                  <a:pt x="21307" y="4823"/>
                  <a:pt x="21307" y="4887"/>
                </a:cubicBezTo>
                <a:cubicBezTo>
                  <a:pt x="21307" y="4904"/>
                  <a:pt x="21356" y="4949"/>
                  <a:pt x="21382" y="4961"/>
                </a:cubicBezTo>
                <a:cubicBezTo>
                  <a:pt x="21408" y="4973"/>
                  <a:pt x="21427" y="4978"/>
                  <a:pt x="21431" y="5011"/>
                </a:cubicBezTo>
                <a:cubicBezTo>
                  <a:pt x="21434" y="5036"/>
                  <a:pt x="21421" y="5099"/>
                  <a:pt x="21406" y="5110"/>
                </a:cubicBezTo>
                <a:cubicBezTo>
                  <a:pt x="21393" y="5119"/>
                  <a:pt x="21313" y="5127"/>
                  <a:pt x="21307" y="5135"/>
                </a:cubicBezTo>
                <a:cubicBezTo>
                  <a:pt x="21296" y="5148"/>
                  <a:pt x="21273" y="5180"/>
                  <a:pt x="21233" y="5159"/>
                </a:cubicBezTo>
                <a:cubicBezTo>
                  <a:pt x="21200" y="5141"/>
                  <a:pt x="21171" y="5123"/>
                  <a:pt x="21158" y="5085"/>
                </a:cubicBezTo>
                <a:cubicBezTo>
                  <a:pt x="21158" y="5077"/>
                  <a:pt x="21158" y="5068"/>
                  <a:pt x="21158" y="5060"/>
                </a:cubicBezTo>
              </a:path>
              <a:path w="5979" h="2780">
                <a:moveTo>
                  <a:pt x="22647" y="4862"/>
                </a:moveTo>
                <a:cubicBezTo>
                  <a:pt x="22635" y="4942"/>
                  <a:pt x="22597" y="4969"/>
                  <a:pt x="22597" y="5060"/>
                </a:cubicBezTo>
                <a:cubicBezTo>
                  <a:pt x="22597" y="5093"/>
                  <a:pt x="22597" y="5261"/>
                  <a:pt x="22597" y="5209"/>
                </a:cubicBezTo>
                <a:cubicBezTo>
                  <a:pt x="22619" y="5173"/>
                  <a:pt x="22639" y="5106"/>
                  <a:pt x="22647" y="5060"/>
                </a:cubicBezTo>
                <a:cubicBezTo>
                  <a:pt x="22656" y="5009"/>
                  <a:pt x="22666" y="4956"/>
                  <a:pt x="22671" y="4911"/>
                </a:cubicBezTo>
                <a:cubicBezTo>
                  <a:pt x="22671" y="4887"/>
                  <a:pt x="22671" y="4879"/>
                  <a:pt x="22696" y="4887"/>
                </a:cubicBezTo>
                <a:cubicBezTo>
                  <a:pt x="22715" y="4893"/>
                  <a:pt x="22740" y="4931"/>
                  <a:pt x="22746" y="4961"/>
                </a:cubicBezTo>
                <a:cubicBezTo>
                  <a:pt x="22757" y="5013"/>
                  <a:pt x="22769" y="5067"/>
                  <a:pt x="22796" y="5110"/>
                </a:cubicBezTo>
                <a:cubicBezTo>
                  <a:pt x="22806" y="5126"/>
                  <a:pt x="22877" y="5157"/>
                  <a:pt x="22895" y="5135"/>
                </a:cubicBezTo>
                <a:cubicBezTo>
                  <a:pt x="22925" y="5097"/>
                  <a:pt x="22915" y="5033"/>
                  <a:pt x="22944" y="4986"/>
                </a:cubicBezTo>
                <a:cubicBezTo>
                  <a:pt x="22963" y="4954"/>
                  <a:pt x="23013" y="4899"/>
                  <a:pt x="23019" y="4887"/>
                </a:cubicBezTo>
                <a:cubicBezTo>
                  <a:pt x="23028" y="4869"/>
                  <a:pt x="23029" y="4890"/>
                  <a:pt x="23044" y="4936"/>
                </a:cubicBezTo>
                <a:cubicBezTo>
                  <a:pt x="23044" y="4944"/>
                  <a:pt x="23044" y="4953"/>
                  <a:pt x="23044" y="4961"/>
                </a:cubicBezTo>
              </a:path>
              <a:path w="5979" h="2780">
                <a:moveTo>
                  <a:pt x="23168" y="5035"/>
                </a:moveTo>
                <a:cubicBezTo>
                  <a:pt x="23144" y="5067"/>
                  <a:pt x="23122" y="5121"/>
                  <a:pt x="23118" y="5159"/>
                </a:cubicBezTo>
                <a:cubicBezTo>
                  <a:pt x="23115" y="5188"/>
                  <a:pt x="23161" y="5207"/>
                  <a:pt x="23192" y="5209"/>
                </a:cubicBezTo>
                <a:cubicBezTo>
                  <a:pt x="23263" y="5214"/>
                  <a:pt x="23280" y="5204"/>
                  <a:pt x="23316" y="5159"/>
                </a:cubicBezTo>
                <a:cubicBezTo>
                  <a:pt x="23338" y="5131"/>
                  <a:pt x="23350" y="5084"/>
                  <a:pt x="23316" y="5060"/>
                </a:cubicBezTo>
                <a:cubicBezTo>
                  <a:pt x="23306" y="5053"/>
                  <a:pt x="23108" y="5060"/>
                  <a:pt x="23242" y="5060"/>
                </a:cubicBezTo>
                <a:cubicBezTo>
                  <a:pt x="23250" y="5060"/>
                  <a:pt x="23259" y="5060"/>
                  <a:pt x="23267" y="5060"/>
                </a:cubicBezTo>
              </a:path>
              <a:path w="5979" h="2780">
                <a:moveTo>
                  <a:pt x="23589" y="4663"/>
                </a:moveTo>
                <a:cubicBezTo>
                  <a:pt x="23561" y="4719"/>
                  <a:pt x="23564" y="4770"/>
                  <a:pt x="23564" y="4837"/>
                </a:cubicBezTo>
                <a:cubicBezTo>
                  <a:pt x="23564" y="4917"/>
                  <a:pt x="23540" y="4979"/>
                  <a:pt x="23540" y="5060"/>
                </a:cubicBezTo>
                <a:cubicBezTo>
                  <a:pt x="23540" y="5127"/>
                  <a:pt x="23530" y="5154"/>
                  <a:pt x="23515" y="5184"/>
                </a:cubicBezTo>
                <a:cubicBezTo>
                  <a:pt x="23515" y="5192"/>
                  <a:pt x="23515" y="5201"/>
                  <a:pt x="23515" y="5209"/>
                </a:cubicBezTo>
              </a:path>
              <a:path w="5979" h="2780">
                <a:moveTo>
                  <a:pt x="23490" y="4936"/>
                </a:moveTo>
                <a:cubicBezTo>
                  <a:pt x="23525" y="4963"/>
                  <a:pt x="23593" y="4996"/>
                  <a:pt x="23639" y="5011"/>
                </a:cubicBezTo>
                <a:cubicBezTo>
                  <a:pt x="23698" y="5031"/>
                  <a:pt x="23696" y="5065"/>
                  <a:pt x="23664" y="5110"/>
                </a:cubicBezTo>
              </a:path>
              <a:path w="5979" h="2780">
                <a:moveTo>
                  <a:pt x="22895" y="5507"/>
                </a:moveTo>
                <a:cubicBezTo>
                  <a:pt x="22885" y="5466"/>
                  <a:pt x="22866" y="5437"/>
                  <a:pt x="22820" y="5432"/>
                </a:cubicBezTo>
                <a:cubicBezTo>
                  <a:pt x="22772" y="5427"/>
                  <a:pt x="22731" y="5426"/>
                  <a:pt x="22696" y="5457"/>
                </a:cubicBezTo>
                <a:cubicBezTo>
                  <a:pt x="22643" y="5504"/>
                  <a:pt x="22650" y="5543"/>
                  <a:pt x="22622" y="5606"/>
                </a:cubicBezTo>
                <a:cubicBezTo>
                  <a:pt x="22597" y="5661"/>
                  <a:pt x="22585" y="5721"/>
                  <a:pt x="22572" y="5779"/>
                </a:cubicBezTo>
                <a:cubicBezTo>
                  <a:pt x="22567" y="5799"/>
                  <a:pt x="22572" y="5939"/>
                  <a:pt x="22572" y="5879"/>
                </a:cubicBezTo>
              </a:path>
              <a:path w="5979" h="2780">
                <a:moveTo>
                  <a:pt x="22547" y="5705"/>
                </a:moveTo>
                <a:cubicBezTo>
                  <a:pt x="22626" y="5705"/>
                  <a:pt x="22681" y="5708"/>
                  <a:pt x="22746" y="5730"/>
                </a:cubicBezTo>
                <a:cubicBezTo>
                  <a:pt x="22778" y="5741"/>
                  <a:pt x="22815" y="5745"/>
                  <a:pt x="22845" y="5755"/>
                </a:cubicBezTo>
                <a:cubicBezTo>
                  <a:pt x="22870" y="5755"/>
                  <a:pt x="22878" y="5755"/>
                  <a:pt x="22895" y="5755"/>
                </a:cubicBezTo>
              </a:path>
              <a:path w="5979" h="2780">
                <a:moveTo>
                  <a:pt x="22920" y="5755"/>
                </a:moveTo>
                <a:cubicBezTo>
                  <a:pt x="22891" y="5792"/>
                  <a:pt x="22895" y="5806"/>
                  <a:pt x="22895" y="5854"/>
                </a:cubicBezTo>
                <a:cubicBezTo>
                  <a:pt x="22895" y="5880"/>
                  <a:pt x="22920" y="5901"/>
                  <a:pt x="22944" y="5904"/>
                </a:cubicBezTo>
                <a:cubicBezTo>
                  <a:pt x="22994" y="5910"/>
                  <a:pt x="23000" y="5905"/>
                  <a:pt x="23019" y="5879"/>
                </a:cubicBezTo>
                <a:cubicBezTo>
                  <a:pt x="23052" y="5835"/>
                  <a:pt x="23044" y="5813"/>
                  <a:pt x="23044" y="5755"/>
                </a:cubicBezTo>
                <a:cubicBezTo>
                  <a:pt x="23044" y="5708"/>
                  <a:pt x="23007" y="5689"/>
                  <a:pt x="22969" y="5680"/>
                </a:cubicBezTo>
                <a:cubicBezTo>
                  <a:pt x="22969" y="5711"/>
                  <a:pt x="22977" y="5747"/>
                  <a:pt x="22994" y="5755"/>
                </a:cubicBezTo>
                <a:cubicBezTo>
                  <a:pt x="23002" y="5755"/>
                  <a:pt x="23011" y="5755"/>
                  <a:pt x="23019" y="5755"/>
                </a:cubicBezTo>
              </a:path>
              <a:path w="5979" h="2780">
                <a:moveTo>
                  <a:pt x="23143" y="5680"/>
                </a:moveTo>
                <a:cubicBezTo>
                  <a:pt x="23143" y="5672"/>
                  <a:pt x="23143" y="5663"/>
                  <a:pt x="23143" y="5655"/>
                </a:cubicBezTo>
                <a:cubicBezTo>
                  <a:pt x="23136" y="5681"/>
                  <a:pt x="23100" y="5723"/>
                  <a:pt x="23118" y="5755"/>
                </a:cubicBezTo>
                <a:cubicBezTo>
                  <a:pt x="23142" y="5797"/>
                  <a:pt x="23174" y="5804"/>
                  <a:pt x="23217" y="5804"/>
                </a:cubicBezTo>
                <a:cubicBezTo>
                  <a:pt x="23270" y="5804"/>
                  <a:pt x="23278" y="5793"/>
                  <a:pt x="23316" y="5755"/>
                </a:cubicBezTo>
                <a:cubicBezTo>
                  <a:pt x="23348" y="5796"/>
                  <a:pt x="23330" y="5847"/>
                  <a:pt x="23391" y="5854"/>
                </a:cubicBezTo>
                <a:cubicBezTo>
                  <a:pt x="23416" y="5854"/>
                  <a:pt x="23424" y="5854"/>
                  <a:pt x="23440" y="5854"/>
                </a:cubicBezTo>
              </a:path>
              <a:path w="5979" h="2780">
                <a:moveTo>
                  <a:pt x="23564" y="5705"/>
                </a:moveTo>
                <a:cubicBezTo>
                  <a:pt x="23542" y="5713"/>
                  <a:pt x="23511" y="5774"/>
                  <a:pt x="23540" y="5804"/>
                </a:cubicBezTo>
                <a:cubicBezTo>
                  <a:pt x="23548" y="5804"/>
                  <a:pt x="23556" y="5804"/>
                  <a:pt x="23564" y="5804"/>
                </a:cubicBezTo>
                <a:cubicBezTo>
                  <a:pt x="23594" y="5794"/>
                  <a:pt x="23627" y="5785"/>
                  <a:pt x="23664" y="5755"/>
                </a:cubicBezTo>
                <a:cubicBezTo>
                  <a:pt x="23686" y="5732"/>
                  <a:pt x="23691" y="5724"/>
                  <a:pt x="23713" y="5730"/>
                </a:cubicBezTo>
                <a:cubicBezTo>
                  <a:pt x="23713" y="5761"/>
                  <a:pt x="23721" y="5796"/>
                  <a:pt x="23738" y="5804"/>
                </a:cubicBezTo>
                <a:cubicBezTo>
                  <a:pt x="23774" y="5822"/>
                  <a:pt x="23847" y="5824"/>
                  <a:pt x="23887" y="5829"/>
                </a:cubicBezTo>
              </a:path>
              <a:path w="5979" h="2780">
                <a:moveTo>
                  <a:pt x="24110" y="5730"/>
                </a:moveTo>
                <a:cubicBezTo>
                  <a:pt x="24108" y="5722"/>
                  <a:pt x="24088" y="5634"/>
                  <a:pt x="24085" y="5631"/>
                </a:cubicBezTo>
                <a:cubicBezTo>
                  <a:pt x="24051" y="5603"/>
                  <a:pt x="23994" y="5645"/>
                  <a:pt x="23986" y="5655"/>
                </a:cubicBezTo>
                <a:cubicBezTo>
                  <a:pt x="23953" y="5699"/>
                  <a:pt x="23937" y="5698"/>
                  <a:pt x="23937" y="5755"/>
                </a:cubicBezTo>
                <a:cubicBezTo>
                  <a:pt x="23937" y="5779"/>
                  <a:pt x="23937" y="5787"/>
                  <a:pt x="23961" y="5779"/>
                </a:cubicBezTo>
                <a:cubicBezTo>
                  <a:pt x="24036" y="5779"/>
                  <a:pt x="24013" y="5726"/>
                  <a:pt x="24085" y="5705"/>
                </a:cubicBezTo>
                <a:cubicBezTo>
                  <a:pt x="24174" y="5679"/>
                  <a:pt x="24159" y="5706"/>
                  <a:pt x="24209" y="5606"/>
                </a:cubicBezTo>
                <a:cubicBezTo>
                  <a:pt x="24240" y="5543"/>
                  <a:pt x="24241" y="5467"/>
                  <a:pt x="24259" y="5407"/>
                </a:cubicBezTo>
                <a:cubicBezTo>
                  <a:pt x="24259" y="5399"/>
                  <a:pt x="24259" y="5391"/>
                  <a:pt x="24259" y="5383"/>
                </a:cubicBezTo>
                <a:cubicBezTo>
                  <a:pt x="24207" y="5433"/>
                  <a:pt x="24174" y="5482"/>
                  <a:pt x="24160" y="5556"/>
                </a:cubicBezTo>
                <a:cubicBezTo>
                  <a:pt x="24145" y="5635"/>
                  <a:pt x="24167" y="5737"/>
                  <a:pt x="24185" y="5779"/>
                </a:cubicBezTo>
                <a:cubicBezTo>
                  <a:pt x="24185" y="5787"/>
                  <a:pt x="24185" y="5796"/>
                  <a:pt x="24185" y="5804"/>
                </a:cubicBezTo>
              </a:path>
              <a:path w="5979" h="2780">
                <a:moveTo>
                  <a:pt x="18281" y="4142"/>
                </a:moveTo>
                <a:cubicBezTo>
                  <a:pt x="18318" y="4142"/>
                  <a:pt x="18385" y="4126"/>
                  <a:pt x="18405" y="4167"/>
                </a:cubicBezTo>
                <a:cubicBezTo>
                  <a:pt x="18405" y="4192"/>
                  <a:pt x="18405" y="4200"/>
                  <a:pt x="18430" y="4192"/>
                </a:cubicBezTo>
              </a:path>
              <a:path w="5979" h="2780">
                <a:moveTo>
                  <a:pt x="18604" y="4316"/>
                </a:moveTo>
                <a:cubicBezTo>
                  <a:pt x="18637" y="4316"/>
                  <a:pt x="18670" y="4316"/>
                  <a:pt x="18703" y="4316"/>
                </a:cubicBezTo>
                <a:cubicBezTo>
                  <a:pt x="18703" y="4341"/>
                  <a:pt x="18703" y="4349"/>
                  <a:pt x="18728" y="4341"/>
                </a:cubicBezTo>
              </a:path>
              <a:path w="5979" h="2780">
                <a:moveTo>
                  <a:pt x="18951" y="4490"/>
                </a:moveTo>
                <a:cubicBezTo>
                  <a:pt x="18984" y="4490"/>
                  <a:pt x="19017" y="4490"/>
                  <a:pt x="19050" y="4490"/>
                </a:cubicBezTo>
              </a:path>
              <a:path w="5979" h="2780">
                <a:moveTo>
                  <a:pt x="19273" y="4589"/>
                </a:moveTo>
                <a:cubicBezTo>
                  <a:pt x="19298" y="4589"/>
                  <a:pt x="19306" y="4589"/>
                  <a:pt x="19298" y="4614"/>
                </a:cubicBezTo>
                <a:cubicBezTo>
                  <a:pt x="19324" y="4603"/>
                  <a:pt x="19388" y="4570"/>
                  <a:pt x="19422" y="4589"/>
                </a:cubicBezTo>
                <a:cubicBezTo>
                  <a:pt x="19444" y="4611"/>
                  <a:pt x="19453" y="4616"/>
                  <a:pt x="19447" y="4638"/>
                </a:cubicBezTo>
              </a:path>
              <a:path w="5979" h="2780">
                <a:moveTo>
                  <a:pt x="19546" y="4713"/>
                </a:moveTo>
                <a:cubicBezTo>
                  <a:pt x="19599" y="4713"/>
                  <a:pt x="19628" y="4706"/>
                  <a:pt x="19670" y="4738"/>
                </a:cubicBezTo>
              </a:path>
              <a:path w="5979" h="2780">
                <a:moveTo>
                  <a:pt x="19794" y="4787"/>
                </a:moveTo>
                <a:cubicBezTo>
                  <a:pt x="19794" y="4826"/>
                  <a:pt x="19811" y="4812"/>
                  <a:pt x="19844" y="4812"/>
                </a:cubicBezTo>
              </a:path>
              <a:path w="5979" h="2780">
                <a:moveTo>
                  <a:pt x="20241" y="4961"/>
                </a:moveTo>
                <a:cubicBezTo>
                  <a:pt x="20241" y="4953"/>
                  <a:pt x="20241" y="4944"/>
                  <a:pt x="20241" y="4936"/>
                </a:cubicBezTo>
                <a:cubicBezTo>
                  <a:pt x="20278" y="4965"/>
                  <a:pt x="20292" y="4961"/>
                  <a:pt x="20340" y="4961"/>
                </a:cubicBezTo>
                <a:cubicBezTo>
                  <a:pt x="20367" y="4961"/>
                  <a:pt x="20384" y="4988"/>
                  <a:pt x="20414" y="5011"/>
                </a:cubicBezTo>
              </a:path>
              <a:path w="5979" h="2780">
                <a:moveTo>
                  <a:pt x="20588" y="5085"/>
                </a:moveTo>
                <a:cubicBezTo>
                  <a:pt x="20641" y="5085"/>
                  <a:pt x="20649" y="5097"/>
                  <a:pt x="20687" y="5135"/>
                </a:cubicBezTo>
              </a:path>
              <a:path w="5979" h="2780">
                <a:moveTo>
                  <a:pt x="20935" y="5209"/>
                </a:moveTo>
                <a:cubicBezTo>
                  <a:pt x="20968" y="5209"/>
                  <a:pt x="21001" y="5209"/>
                  <a:pt x="21034" y="5209"/>
                </a:cubicBezTo>
              </a:path>
              <a:path w="5979" h="2780">
                <a:moveTo>
                  <a:pt x="21208" y="5283"/>
                </a:moveTo>
                <a:cubicBezTo>
                  <a:pt x="21233" y="5283"/>
                  <a:pt x="21241" y="5283"/>
                  <a:pt x="21258" y="5283"/>
                </a:cubicBezTo>
                <a:cubicBezTo>
                  <a:pt x="21271" y="5244"/>
                  <a:pt x="21269" y="5274"/>
                  <a:pt x="21282" y="5234"/>
                </a:cubicBezTo>
                <a:cubicBezTo>
                  <a:pt x="21334" y="5234"/>
                  <a:pt x="21332" y="5231"/>
                  <a:pt x="21332" y="5283"/>
                </a:cubicBezTo>
              </a:path>
              <a:path w="5979" h="2780">
                <a:moveTo>
                  <a:pt x="21456" y="5333"/>
                </a:moveTo>
                <a:cubicBezTo>
                  <a:pt x="21489" y="5333"/>
                  <a:pt x="21522" y="5333"/>
                  <a:pt x="21555" y="5333"/>
                </a:cubicBezTo>
              </a:path>
              <a:path w="5979" h="2780">
                <a:moveTo>
                  <a:pt x="21903" y="5383"/>
                </a:moveTo>
                <a:cubicBezTo>
                  <a:pt x="21911" y="5383"/>
                  <a:pt x="21919" y="5383"/>
                  <a:pt x="21927" y="5383"/>
                </a:cubicBezTo>
                <a:cubicBezTo>
                  <a:pt x="21940" y="5419"/>
                  <a:pt x="21958" y="5407"/>
                  <a:pt x="22002" y="5407"/>
                </a:cubicBezTo>
              </a:path>
              <a:path w="5979" h="2780">
                <a:moveTo>
                  <a:pt x="22076" y="5432"/>
                </a:moveTo>
                <a:cubicBezTo>
                  <a:pt x="22126" y="5432"/>
                  <a:pt x="22186" y="5448"/>
                  <a:pt x="22200" y="5407"/>
                </a:cubicBezTo>
                <a:cubicBezTo>
                  <a:pt x="22223" y="5430"/>
                  <a:pt x="22227" y="5438"/>
                  <a:pt x="22250" y="5432"/>
                </a:cubicBezTo>
              </a:path>
              <a:path w="5979" h="2780">
                <a:moveTo>
                  <a:pt x="22324" y="5482"/>
                </a:moveTo>
                <a:cubicBezTo>
                  <a:pt x="22349" y="5482"/>
                  <a:pt x="22357" y="5482"/>
                  <a:pt x="22374" y="5482"/>
                </a:cubicBezTo>
              </a:path>
              <a:path w="5979" h="2780">
                <a:moveTo>
                  <a:pt x="22324" y="5755"/>
                </a:moveTo>
                <a:cubicBezTo>
                  <a:pt x="22332" y="5747"/>
                  <a:pt x="22341" y="5738"/>
                  <a:pt x="22349" y="5730"/>
                </a:cubicBezTo>
                <a:cubicBezTo>
                  <a:pt x="22294" y="5730"/>
                  <a:pt x="22300" y="5737"/>
                  <a:pt x="22275" y="5755"/>
                </a:cubicBezTo>
                <a:cubicBezTo>
                  <a:pt x="22241" y="5779"/>
                  <a:pt x="22204" y="5814"/>
                  <a:pt x="22175" y="5829"/>
                </a:cubicBezTo>
                <a:cubicBezTo>
                  <a:pt x="22139" y="5847"/>
                  <a:pt x="22101" y="5824"/>
                  <a:pt x="22076" y="5879"/>
                </a:cubicBezTo>
                <a:cubicBezTo>
                  <a:pt x="22061" y="5913"/>
                  <a:pt x="22051" y="5937"/>
                  <a:pt x="22051" y="5978"/>
                </a:cubicBezTo>
                <a:cubicBezTo>
                  <a:pt x="22051" y="6034"/>
                  <a:pt x="22064" y="6052"/>
                  <a:pt x="22076" y="6077"/>
                </a:cubicBezTo>
                <a:cubicBezTo>
                  <a:pt x="22093" y="6110"/>
                  <a:pt x="22092" y="6111"/>
                  <a:pt x="22126" y="6127"/>
                </a:cubicBezTo>
                <a:cubicBezTo>
                  <a:pt x="22177" y="6151"/>
                  <a:pt x="22196" y="6152"/>
                  <a:pt x="22250" y="6152"/>
                </a:cubicBezTo>
                <a:cubicBezTo>
                  <a:pt x="22306" y="6152"/>
                  <a:pt x="22328" y="6142"/>
                  <a:pt x="22374" y="6127"/>
                </a:cubicBezTo>
                <a:cubicBezTo>
                  <a:pt x="22408" y="6116"/>
                  <a:pt x="22402" y="6087"/>
                  <a:pt x="22423" y="6077"/>
                </a:cubicBezTo>
                <a:cubicBezTo>
                  <a:pt x="22445" y="6066"/>
                  <a:pt x="22470" y="6029"/>
                  <a:pt x="22473" y="6003"/>
                </a:cubicBezTo>
                <a:cubicBezTo>
                  <a:pt x="22478" y="5962"/>
                  <a:pt x="22494" y="5941"/>
                  <a:pt x="22498" y="5904"/>
                </a:cubicBezTo>
                <a:cubicBezTo>
                  <a:pt x="22502" y="5871"/>
                  <a:pt x="22508" y="5822"/>
                  <a:pt x="22473" y="5804"/>
                </a:cubicBezTo>
                <a:cubicBezTo>
                  <a:pt x="22448" y="5792"/>
                  <a:pt x="22417" y="5781"/>
                  <a:pt x="22399" y="5779"/>
                </a:cubicBezTo>
                <a:cubicBezTo>
                  <a:pt x="22352" y="5773"/>
                  <a:pt x="22335" y="5758"/>
                  <a:pt x="22324" y="5779"/>
                </a:cubicBezTo>
              </a:path>
              <a:path w="5979" h="2780">
                <a:moveTo>
                  <a:pt x="22349" y="5779"/>
                </a:moveTo>
                <a:cubicBezTo>
                  <a:pt x="22311" y="5744"/>
                  <a:pt x="22348" y="5829"/>
                  <a:pt x="22299" y="5854"/>
                </a:cubicBezTo>
                <a:cubicBezTo>
                  <a:pt x="22255" y="5877"/>
                  <a:pt x="22251" y="5890"/>
                  <a:pt x="22225" y="5928"/>
                </a:cubicBezTo>
                <a:cubicBezTo>
                  <a:pt x="22196" y="5970"/>
                  <a:pt x="22189" y="5978"/>
                  <a:pt x="22151" y="6003"/>
                </a:cubicBezTo>
                <a:cubicBezTo>
                  <a:pt x="22121" y="6023"/>
                  <a:pt x="22117" y="6110"/>
                  <a:pt x="22101" y="6077"/>
                </a:cubicBezTo>
                <a:cubicBezTo>
                  <a:pt x="22069" y="6013"/>
                  <a:pt x="22108" y="5883"/>
                  <a:pt x="22126" y="5829"/>
                </a:cubicBezTo>
                <a:cubicBezTo>
                  <a:pt x="22147" y="5767"/>
                  <a:pt x="22101" y="5785"/>
                  <a:pt x="22126" y="5829"/>
                </a:cubicBezTo>
                <a:cubicBezTo>
                  <a:pt x="22151" y="5874"/>
                  <a:pt x="22213" y="5916"/>
                  <a:pt x="22250" y="5953"/>
                </a:cubicBezTo>
                <a:cubicBezTo>
                  <a:pt x="22270" y="5973"/>
                  <a:pt x="22318" y="6025"/>
                  <a:pt x="22324" y="6028"/>
                </a:cubicBezTo>
                <a:cubicBezTo>
                  <a:pt x="22333" y="6032"/>
                  <a:pt x="22393" y="6068"/>
                  <a:pt x="22399" y="6077"/>
                </a:cubicBezTo>
                <a:cubicBezTo>
                  <a:pt x="22417" y="6104"/>
                  <a:pt x="22399" y="5995"/>
                  <a:pt x="22399" y="6028"/>
                </a:cubicBezTo>
                <a:cubicBezTo>
                  <a:pt x="22399" y="6036"/>
                  <a:pt x="22399" y="6044"/>
                  <a:pt x="22399" y="6052"/>
                </a:cubicBezTo>
              </a:path>
              <a:path w="5979" h="2780">
                <a:moveTo>
                  <a:pt x="22473" y="5928"/>
                </a:moveTo>
                <a:cubicBezTo>
                  <a:pt x="22473" y="5920"/>
                  <a:pt x="22473" y="5912"/>
                  <a:pt x="22473" y="5904"/>
                </a:cubicBezTo>
                <a:cubicBezTo>
                  <a:pt x="22431" y="5904"/>
                  <a:pt x="22435" y="5894"/>
                  <a:pt x="22423" y="5928"/>
                </a:cubicBezTo>
                <a:cubicBezTo>
                  <a:pt x="22400" y="5936"/>
                  <a:pt x="22376" y="5960"/>
                  <a:pt x="22349" y="5978"/>
                </a:cubicBezTo>
                <a:cubicBezTo>
                  <a:pt x="22326" y="6001"/>
                  <a:pt x="22318" y="6005"/>
                  <a:pt x="22324" y="6028"/>
                </a:cubicBezTo>
                <a:cubicBezTo>
                  <a:pt x="22274" y="6040"/>
                  <a:pt x="22275" y="6052"/>
                  <a:pt x="22275" y="6102"/>
                </a:cubicBezTo>
                <a:cubicBezTo>
                  <a:pt x="22263" y="6066"/>
                  <a:pt x="22262" y="6066"/>
                  <a:pt x="22250" y="61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Ink 37"/>
          <p:cNvSpPr/>
          <p:nvPr/>
        </p:nvSpPr>
        <p:spPr>
          <a:xfrm>
            <a:off x="6724800" y="2054160"/>
            <a:ext cx="16956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9000" y="6028"/>
                </a:moveTo>
                <a:cubicBezTo>
                  <a:pt x="18940" y="6028"/>
                  <a:pt x="18938" y="6043"/>
                  <a:pt x="18926" y="6102"/>
                </a:cubicBezTo>
                <a:cubicBezTo>
                  <a:pt x="18873" y="6115"/>
                  <a:pt x="18877" y="6139"/>
                  <a:pt x="18852" y="6176"/>
                </a:cubicBezTo>
                <a:cubicBezTo>
                  <a:pt x="18827" y="6214"/>
                  <a:pt x="18812" y="6241"/>
                  <a:pt x="18777" y="6276"/>
                </a:cubicBezTo>
              </a:path>
              <a:path w="472" h="621">
                <a:moveTo>
                  <a:pt x="18752" y="5953"/>
                </a:moveTo>
                <a:cubicBezTo>
                  <a:pt x="18760" y="5953"/>
                  <a:pt x="18769" y="5953"/>
                  <a:pt x="18777" y="5953"/>
                </a:cubicBezTo>
                <a:cubicBezTo>
                  <a:pt x="18777" y="6007"/>
                  <a:pt x="18790" y="6036"/>
                  <a:pt x="18827" y="6077"/>
                </a:cubicBezTo>
                <a:cubicBezTo>
                  <a:pt x="18866" y="6120"/>
                  <a:pt x="18910" y="6160"/>
                  <a:pt x="18951" y="6201"/>
                </a:cubicBezTo>
                <a:cubicBezTo>
                  <a:pt x="18973" y="6223"/>
                  <a:pt x="18978" y="6232"/>
                  <a:pt x="19000" y="6226"/>
                </a:cubicBezTo>
                <a:cubicBezTo>
                  <a:pt x="19013" y="6266"/>
                  <a:pt x="19019" y="6251"/>
                  <a:pt x="19075" y="6251"/>
                </a:cubicBezTo>
              </a:path>
              <a:path w="472" h="621">
                <a:moveTo>
                  <a:pt x="19000" y="5804"/>
                </a:moveTo>
                <a:cubicBezTo>
                  <a:pt x="18992" y="5835"/>
                  <a:pt x="18987" y="5873"/>
                  <a:pt x="18976" y="5904"/>
                </a:cubicBezTo>
                <a:cubicBezTo>
                  <a:pt x="18956" y="5960"/>
                  <a:pt x="18971" y="6026"/>
                  <a:pt x="18951" y="6077"/>
                </a:cubicBezTo>
                <a:cubicBezTo>
                  <a:pt x="18926" y="6143"/>
                  <a:pt x="18901" y="6139"/>
                  <a:pt x="18901" y="6226"/>
                </a:cubicBezTo>
                <a:cubicBezTo>
                  <a:pt x="18901" y="6251"/>
                  <a:pt x="18901" y="6275"/>
                  <a:pt x="18901" y="6300"/>
                </a:cubicBezTo>
                <a:cubicBezTo>
                  <a:pt x="18862" y="6313"/>
                  <a:pt x="18891" y="6312"/>
                  <a:pt x="18852" y="6325"/>
                </a:cubicBezTo>
              </a:path>
              <a:path w="472" h="621">
                <a:moveTo>
                  <a:pt x="18678" y="6077"/>
                </a:moveTo>
                <a:cubicBezTo>
                  <a:pt x="18799" y="6077"/>
                  <a:pt x="18911" y="6078"/>
                  <a:pt x="19025" y="6052"/>
                </a:cubicBezTo>
                <a:cubicBezTo>
                  <a:pt x="19078" y="6040"/>
                  <a:pt x="19132" y="6076"/>
                  <a:pt x="19149" y="6028"/>
                </a:cubicBezTo>
              </a:path>
              <a:path w="472" h="621">
                <a:moveTo>
                  <a:pt x="19000" y="5705"/>
                </a:moveTo>
                <a:cubicBezTo>
                  <a:pt x="18992" y="5754"/>
                  <a:pt x="18990" y="5831"/>
                  <a:pt x="18976" y="5879"/>
                </a:cubicBezTo>
                <a:cubicBezTo>
                  <a:pt x="18957" y="5944"/>
                  <a:pt x="18951" y="5983"/>
                  <a:pt x="18951" y="6052"/>
                </a:cubicBezTo>
                <a:cubicBezTo>
                  <a:pt x="18951" y="6108"/>
                  <a:pt x="18926" y="6122"/>
                  <a:pt x="18926" y="6176"/>
                </a:cubicBezTo>
                <a:cubicBezTo>
                  <a:pt x="18926" y="6209"/>
                  <a:pt x="18926" y="6243"/>
                  <a:pt x="18926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Ink 38"/>
          <p:cNvSpPr/>
          <p:nvPr/>
        </p:nvSpPr>
        <p:spPr>
          <a:xfrm>
            <a:off x="7054920" y="2143080"/>
            <a:ext cx="633240" cy="196920"/>
          </a:xfrm>
          <a:custGeom>
            <a:avLst/>
            <a:gdLst/>
            <a:ahLst/>
            <a:rect l="l" t="t" r="r" b="b"/>
            <a:pathLst>
              <a:path w="1762" h="547">
                <a:moveTo>
                  <a:pt x="19794" y="5978"/>
                </a:moveTo>
                <a:cubicBezTo>
                  <a:pt x="19741" y="5978"/>
                  <a:pt x="19733" y="5991"/>
                  <a:pt x="19695" y="6028"/>
                </a:cubicBezTo>
                <a:cubicBezTo>
                  <a:pt x="19661" y="6062"/>
                  <a:pt x="19643" y="6094"/>
                  <a:pt x="19621" y="6127"/>
                </a:cubicBezTo>
                <a:cubicBezTo>
                  <a:pt x="19595" y="6167"/>
                  <a:pt x="19596" y="6176"/>
                  <a:pt x="19596" y="6226"/>
                </a:cubicBezTo>
                <a:cubicBezTo>
                  <a:pt x="19596" y="6271"/>
                  <a:pt x="19594" y="6294"/>
                  <a:pt x="19645" y="6300"/>
                </a:cubicBezTo>
                <a:cubicBezTo>
                  <a:pt x="19707" y="6307"/>
                  <a:pt x="19744" y="6292"/>
                  <a:pt x="19794" y="6276"/>
                </a:cubicBezTo>
                <a:cubicBezTo>
                  <a:pt x="19838" y="6262"/>
                  <a:pt x="19852" y="6245"/>
                  <a:pt x="19893" y="6226"/>
                </a:cubicBezTo>
                <a:cubicBezTo>
                  <a:pt x="19929" y="6210"/>
                  <a:pt x="19918" y="6199"/>
                  <a:pt x="19918" y="6152"/>
                </a:cubicBezTo>
                <a:cubicBezTo>
                  <a:pt x="19918" y="6108"/>
                  <a:pt x="19939" y="6001"/>
                  <a:pt x="19893" y="5978"/>
                </a:cubicBezTo>
                <a:cubicBezTo>
                  <a:pt x="19883" y="5973"/>
                  <a:pt x="19810" y="5933"/>
                  <a:pt x="19794" y="5953"/>
                </a:cubicBezTo>
                <a:cubicBezTo>
                  <a:pt x="19785" y="5964"/>
                  <a:pt x="19724" y="6094"/>
                  <a:pt x="19794" y="5978"/>
                </a:cubicBezTo>
              </a:path>
              <a:path w="1762" h="547">
                <a:moveTo>
                  <a:pt x="20216" y="6201"/>
                </a:moveTo>
                <a:cubicBezTo>
                  <a:pt x="20216" y="6234"/>
                  <a:pt x="20256" y="6146"/>
                  <a:pt x="20241" y="6176"/>
                </a:cubicBezTo>
                <a:cubicBezTo>
                  <a:pt x="20233" y="6184"/>
                  <a:pt x="20224" y="6193"/>
                  <a:pt x="20216" y="6201"/>
                </a:cubicBezTo>
              </a:path>
              <a:path w="1762" h="547">
                <a:moveTo>
                  <a:pt x="20216" y="6201"/>
                </a:moveTo>
                <a:cubicBezTo>
                  <a:pt x="20307" y="6176"/>
                  <a:pt x="20398" y="6152"/>
                  <a:pt x="20489" y="6127"/>
                </a:cubicBezTo>
                <a:cubicBezTo>
                  <a:pt x="20444" y="6161"/>
                  <a:pt x="20411" y="6161"/>
                  <a:pt x="20389" y="6226"/>
                </a:cubicBezTo>
                <a:cubicBezTo>
                  <a:pt x="20381" y="6249"/>
                  <a:pt x="20402" y="6317"/>
                  <a:pt x="20414" y="6325"/>
                </a:cubicBezTo>
                <a:cubicBezTo>
                  <a:pt x="20432" y="6337"/>
                  <a:pt x="20491" y="6367"/>
                  <a:pt x="20513" y="6375"/>
                </a:cubicBezTo>
                <a:cubicBezTo>
                  <a:pt x="20597" y="6403"/>
                  <a:pt x="20615" y="6345"/>
                  <a:pt x="20662" y="6325"/>
                </a:cubicBezTo>
                <a:cubicBezTo>
                  <a:pt x="20701" y="6308"/>
                  <a:pt x="20736" y="6309"/>
                  <a:pt x="20762" y="6251"/>
                </a:cubicBezTo>
                <a:cubicBezTo>
                  <a:pt x="20777" y="6218"/>
                  <a:pt x="20786" y="6192"/>
                  <a:pt x="20786" y="6152"/>
                </a:cubicBezTo>
                <a:cubicBezTo>
                  <a:pt x="20786" y="6079"/>
                  <a:pt x="20764" y="6132"/>
                  <a:pt x="20737" y="6077"/>
                </a:cubicBezTo>
                <a:cubicBezTo>
                  <a:pt x="20710" y="6022"/>
                  <a:pt x="20709" y="6028"/>
                  <a:pt x="20638" y="6028"/>
                </a:cubicBezTo>
                <a:cubicBezTo>
                  <a:pt x="20592" y="6028"/>
                  <a:pt x="20569" y="6025"/>
                  <a:pt x="20563" y="6077"/>
                </a:cubicBezTo>
                <a:cubicBezTo>
                  <a:pt x="20563" y="6085"/>
                  <a:pt x="20563" y="6094"/>
                  <a:pt x="20563" y="6102"/>
                </a:cubicBezTo>
              </a:path>
              <a:path w="1762" h="547">
                <a:moveTo>
                  <a:pt x="20985" y="6077"/>
                </a:moveTo>
                <a:cubicBezTo>
                  <a:pt x="21026" y="6067"/>
                  <a:pt x="21041" y="6033"/>
                  <a:pt x="21084" y="6028"/>
                </a:cubicBezTo>
                <a:cubicBezTo>
                  <a:pt x="21116" y="6025"/>
                  <a:pt x="21151" y="6028"/>
                  <a:pt x="21183" y="6028"/>
                </a:cubicBezTo>
                <a:cubicBezTo>
                  <a:pt x="21183" y="6079"/>
                  <a:pt x="21192" y="6114"/>
                  <a:pt x="21158" y="6152"/>
                </a:cubicBezTo>
                <a:cubicBezTo>
                  <a:pt x="21118" y="6198"/>
                  <a:pt x="21095" y="6252"/>
                  <a:pt x="21059" y="6300"/>
                </a:cubicBezTo>
                <a:cubicBezTo>
                  <a:pt x="21033" y="6334"/>
                  <a:pt x="21005" y="6371"/>
                  <a:pt x="20985" y="6400"/>
                </a:cubicBezTo>
                <a:cubicBezTo>
                  <a:pt x="20977" y="6408"/>
                  <a:pt x="20968" y="6416"/>
                  <a:pt x="20960" y="6424"/>
                </a:cubicBezTo>
                <a:cubicBezTo>
                  <a:pt x="21075" y="6424"/>
                  <a:pt x="21231" y="6411"/>
                  <a:pt x="21307" y="6449"/>
                </a:cubicBezTo>
                <a:cubicBezTo>
                  <a:pt x="21312" y="6452"/>
                  <a:pt x="21408" y="6458"/>
                  <a:pt x="21357" y="6499"/>
                </a:cubicBezTo>
                <a:cubicBezTo>
                  <a:pt x="21349" y="6499"/>
                  <a:pt x="21340" y="6499"/>
                  <a:pt x="21332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Ink 39"/>
          <p:cNvSpPr/>
          <p:nvPr/>
        </p:nvSpPr>
        <p:spPr>
          <a:xfrm>
            <a:off x="7062840" y="2367000"/>
            <a:ext cx="679320" cy="98280"/>
          </a:xfrm>
          <a:custGeom>
            <a:avLst/>
            <a:gdLst/>
            <a:ahLst/>
            <a:rect l="l" t="t" r="r" b="b"/>
            <a:pathLst>
              <a:path w="1886" h="274">
                <a:moveTo>
                  <a:pt x="19621" y="6573"/>
                </a:moveTo>
                <a:cubicBezTo>
                  <a:pt x="19642" y="6595"/>
                  <a:pt x="19648" y="6612"/>
                  <a:pt x="19695" y="6623"/>
                </a:cubicBezTo>
                <a:cubicBezTo>
                  <a:pt x="19745" y="6635"/>
                  <a:pt x="19827" y="6642"/>
                  <a:pt x="19869" y="6648"/>
                </a:cubicBezTo>
                <a:cubicBezTo>
                  <a:pt x="19919" y="6656"/>
                  <a:pt x="19970" y="6665"/>
                  <a:pt x="20017" y="6672"/>
                </a:cubicBezTo>
                <a:cubicBezTo>
                  <a:pt x="20115" y="6687"/>
                  <a:pt x="20227" y="6681"/>
                  <a:pt x="20315" y="6697"/>
                </a:cubicBezTo>
                <a:cubicBezTo>
                  <a:pt x="20364" y="6706"/>
                  <a:pt x="20424" y="6714"/>
                  <a:pt x="20464" y="6722"/>
                </a:cubicBezTo>
                <a:cubicBezTo>
                  <a:pt x="20616" y="6751"/>
                  <a:pt x="20792" y="6718"/>
                  <a:pt x="20935" y="6747"/>
                </a:cubicBezTo>
                <a:cubicBezTo>
                  <a:pt x="20976" y="6755"/>
                  <a:pt x="21026" y="6765"/>
                  <a:pt x="21059" y="6772"/>
                </a:cubicBezTo>
                <a:cubicBezTo>
                  <a:pt x="21100" y="6780"/>
                  <a:pt x="21150" y="6790"/>
                  <a:pt x="21183" y="6796"/>
                </a:cubicBezTo>
                <a:cubicBezTo>
                  <a:pt x="21236" y="6806"/>
                  <a:pt x="21304" y="6796"/>
                  <a:pt x="21357" y="6796"/>
                </a:cubicBezTo>
                <a:cubicBezTo>
                  <a:pt x="21381" y="6811"/>
                  <a:pt x="21379" y="6818"/>
                  <a:pt x="21431" y="6821"/>
                </a:cubicBezTo>
                <a:cubicBezTo>
                  <a:pt x="21456" y="6822"/>
                  <a:pt x="21481" y="6821"/>
                  <a:pt x="21506" y="6821"/>
                </a:cubicBezTo>
                <a:cubicBezTo>
                  <a:pt x="21451" y="6848"/>
                  <a:pt x="21477" y="6837"/>
                  <a:pt x="21406" y="684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Ink 40"/>
          <p:cNvSpPr/>
          <p:nvPr/>
        </p:nvSpPr>
        <p:spPr>
          <a:xfrm>
            <a:off x="6956280" y="3286080"/>
            <a:ext cx="874800" cy="285840"/>
          </a:xfrm>
          <a:custGeom>
            <a:avLst/>
            <a:gdLst/>
            <a:ahLst/>
            <a:rect l="l" t="t" r="r" b="b"/>
            <a:pathLst>
              <a:path w="2432" h="795">
                <a:moveTo>
                  <a:pt x="19447" y="9302"/>
                </a:moveTo>
                <a:cubicBezTo>
                  <a:pt x="19447" y="9294"/>
                  <a:pt x="19447" y="9285"/>
                  <a:pt x="19447" y="9277"/>
                </a:cubicBezTo>
                <a:cubicBezTo>
                  <a:pt x="19415" y="9285"/>
                  <a:pt x="19364" y="9315"/>
                  <a:pt x="19348" y="9351"/>
                </a:cubicBezTo>
                <a:cubicBezTo>
                  <a:pt x="19333" y="9385"/>
                  <a:pt x="19323" y="9410"/>
                  <a:pt x="19323" y="9451"/>
                </a:cubicBezTo>
                <a:cubicBezTo>
                  <a:pt x="19323" y="9512"/>
                  <a:pt x="19331" y="9550"/>
                  <a:pt x="19348" y="9599"/>
                </a:cubicBezTo>
                <a:cubicBezTo>
                  <a:pt x="19360" y="9636"/>
                  <a:pt x="19382" y="9661"/>
                  <a:pt x="19422" y="9674"/>
                </a:cubicBezTo>
                <a:cubicBezTo>
                  <a:pt x="19475" y="9692"/>
                  <a:pt x="19577" y="9679"/>
                  <a:pt x="19621" y="9649"/>
                </a:cubicBezTo>
                <a:cubicBezTo>
                  <a:pt x="19649" y="9630"/>
                  <a:pt x="19685" y="9579"/>
                  <a:pt x="19695" y="9550"/>
                </a:cubicBezTo>
                <a:cubicBezTo>
                  <a:pt x="19712" y="9500"/>
                  <a:pt x="19698" y="9392"/>
                  <a:pt x="19670" y="9351"/>
                </a:cubicBezTo>
                <a:cubicBezTo>
                  <a:pt x="19658" y="9333"/>
                  <a:pt x="19597" y="9278"/>
                  <a:pt x="19596" y="9277"/>
                </a:cubicBezTo>
                <a:cubicBezTo>
                  <a:pt x="19575" y="9267"/>
                  <a:pt x="19520" y="9277"/>
                  <a:pt x="19496" y="9277"/>
                </a:cubicBezTo>
                <a:cubicBezTo>
                  <a:pt x="19496" y="9318"/>
                  <a:pt x="19496" y="9360"/>
                  <a:pt x="19496" y="9401"/>
                </a:cubicBezTo>
              </a:path>
              <a:path w="2432" h="795">
                <a:moveTo>
                  <a:pt x="20042" y="9451"/>
                </a:moveTo>
                <a:cubicBezTo>
                  <a:pt x="20042" y="9504"/>
                  <a:pt x="20062" y="9421"/>
                  <a:pt x="20067" y="9401"/>
                </a:cubicBezTo>
                <a:cubicBezTo>
                  <a:pt x="20054" y="9439"/>
                  <a:pt x="20042" y="9422"/>
                  <a:pt x="20042" y="9475"/>
                </a:cubicBezTo>
                <a:cubicBezTo>
                  <a:pt x="20076" y="9464"/>
                  <a:pt x="20072" y="9436"/>
                  <a:pt x="20092" y="9426"/>
                </a:cubicBezTo>
                <a:cubicBezTo>
                  <a:pt x="20100" y="9426"/>
                  <a:pt x="20109" y="9426"/>
                  <a:pt x="20117" y="9426"/>
                </a:cubicBezTo>
              </a:path>
              <a:path w="2432" h="795">
                <a:moveTo>
                  <a:pt x="20489" y="9178"/>
                </a:moveTo>
                <a:cubicBezTo>
                  <a:pt x="20460" y="9188"/>
                  <a:pt x="20444" y="9212"/>
                  <a:pt x="20439" y="9252"/>
                </a:cubicBezTo>
                <a:cubicBezTo>
                  <a:pt x="20435" y="9284"/>
                  <a:pt x="20439" y="9319"/>
                  <a:pt x="20439" y="9351"/>
                </a:cubicBezTo>
                <a:cubicBezTo>
                  <a:pt x="20489" y="9351"/>
                  <a:pt x="20525" y="9360"/>
                  <a:pt x="20563" y="9327"/>
                </a:cubicBezTo>
                <a:cubicBezTo>
                  <a:pt x="20596" y="9298"/>
                  <a:pt x="20623" y="9297"/>
                  <a:pt x="20638" y="9252"/>
                </a:cubicBezTo>
                <a:cubicBezTo>
                  <a:pt x="20649" y="9220"/>
                  <a:pt x="20645" y="9144"/>
                  <a:pt x="20613" y="9128"/>
                </a:cubicBezTo>
                <a:cubicBezTo>
                  <a:pt x="20573" y="9108"/>
                  <a:pt x="20541" y="9144"/>
                  <a:pt x="20513" y="9153"/>
                </a:cubicBezTo>
                <a:cubicBezTo>
                  <a:pt x="20489" y="9153"/>
                  <a:pt x="20481" y="9153"/>
                  <a:pt x="20489" y="9178"/>
                </a:cubicBezTo>
              </a:path>
              <a:path w="2432" h="795">
                <a:moveTo>
                  <a:pt x="20389" y="9426"/>
                </a:moveTo>
                <a:cubicBezTo>
                  <a:pt x="20377" y="9464"/>
                  <a:pt x="20365" y="9447"/>
                  <a:pt x="20365" y="9500"/>
                </a:cubicBezTo>
                <a:cubicBezTo>
                  <a:pt x="20365" y="9536"/>
                  <a:pt x="20349" y="9604"/>
                  <a:pt x="20389" y="9624"/>
                </a:cubicBezTo>
                <a:cubicBezTo>
                  <a:pt x="20434" y="9646"/>
                  <a:pt x="20501" y="9608"/>
                  <a:pt x="20538" y="9599"/>
                </a:cubicBezTo>
                <a:cubicBezTo>
                  <a:pt x="20567" y="9592"/>
                  <a:pt x="20582" y="9578"/>
                  <a:pt x="20613" y="9550"/>
                </a:cubicBezTo>
                <a:cubicBezTo>
                  <a:pt x="20652" y="9515"/>
                  <a:pt x="20662" y="9501"/>
                  <a:pt x="20662" y="9451"/>
                </a:cubicBezTo>
                <a:cubicBezTo>
                  <a:pt x="20662" y="9426"/>
                  <a:pt x="20655" y="9363"/>
                  <a:pt x="20638" y="9351"/>
                </a:cubicBezTo>
                <a:cubicBezTo>
                  <a:pt x="20612" y="9333"/>
                  <a:pt x="20574" y="9327"/>
                  <a:pt x="20538" y="9327"/>
                </a:cubicBezTo>
                <a:cubicBezTo>
                  <a:pt x="20498" y="9327"/>
                  <a:pt x="20458" y="9332"/>
                  <a:pt x="20439" y="9376"/>
                </a:cubicBezTo>
                <a:cubicBezTo>
                  <a:pt x="20422" y="9413"/>
                  <a:pt x="20433" y="9415"/>
                  <a:pt x="20389" y="9426"/>
                </a:cubicBezTo>
              </a:path>
              <a:path w="2432" h="795">
                <a:moveTo>
                  <a:pt x="21084" y="9203"/>
                </a:moveTo>
                <a:cubicBezTo>
                  <a:pt x="21020" y="9203"/>
                  <a:pt x="21042" y="9231"/>
                  <a:pt x="21010" y="9252"/>
                </a:cubicBezTo>
                <a:cubicBezTo>
                  <a:pt x="20983" y="9270"/>
                  <a:pt x="20963" y="9313"/>
                  <a:pt x="20935" y="9327"/>
                </a:cubicBezTo>
                <a:cubicBezTo>
                  <a:pt x="20890" y="9350"/>
                  <a:pt x="20877" y="9374"/>
                  <a:pt x="20861" y="9426"/>
                </a:cubicBezTo>
                <a:cubicBezTo>
                  <a:pt x="20845" y="9481"/>
                  <a:pt x="20851" y="9584"/>
                  <a:pt x="20886" y="9624"/>
                </a:cubicBezTo>
                <a:cubicBezTo>
                  <a:pt x="20909" y="9650"/>
                  <a:pt x="20952" y="9670"/>
                  <a:pt x="20985" y="9674"/>
                </a:cubicBezTo>
                <a:cubicBezTo>
                  <a:pt x="21046" y="9681"/>
                  <a:pt x="21085" y="9681"/>
                  <a:pt x="21109" y="9649"/>
                </a:cubicBezTo>
                <a:cubicBezTo>
                  <a:pt x="21144" y="9602"/>
                  <a:pt x="21158" y="9641"/>
                  <a:pt x="21158" y="9575"/>
                </a:cubicBezTo>
                <a:cubicBezTo>
                  <a:pt x="21158" y="9502"/>
                  <a:pt x="21136" y="9555"/>
                  <a:pt x="21109" y="9500"/>
                </a:cubicBezTo>
                <a:cubicBezTo>
                  <a:pt x="21090" y="9462"/>
                  <a:pt x="21059" y="9475"/>
                  <a:pt x="21010" y="9475"/>
                </a:cubicBezTo>
                <a:cubicBezTo>
                  <a:pt x="20983" y="9475"/>
                  <a:pt x="20912" y="9474"/>
                  <a:pt x="20935" y="9525"/>
                </a:cubicBezTo>
                <a:cubicBezTo>
                  <a:pt x="20943" y="9533"/>
                  <a:pt x="20952" y="9542"/>
                  <a:pt x="20960" y="9550"/>
                </a:cubicBezTo>
              </a:path>
              <a:path w="2432" h="795">
                <a:moveTo>
                  <a:pt x="21506" y="9227"/>
                </a:moveTo>
                <a:cubicBezTo>
                  <a:pt x="21456" y="9239"/>
                  <a:pt x="21456" y="9251"/>
                  <a:pt x="21456" y="9302"/>
                </a:cubicBezTo>
                <a:cubicBezTo>
                  <a:pt x="21456" y="9349"/>
                  <a:pt x="21418" y="9401"/>
                  <a:pt x="21406" y="9451"/>
                </a:cubicBezTo>
                <a:cubicBezTo>
                  <a:pt x="21394" y="9503"/>
                  <a:pt x="21382" y="9543"/>
                  <a:pt x="21382" y="9599"/>
                </a:cubicBezTo>
                <a:cubicBezTo>
                  <a:pt x="21382" y="9640"/>
                  <a:pt x="21382" y="9682"/>
                  <a:pt x="21382" y="9723"/>
                </a:cubicBezTo>
                <a:cubicBezTo>
                  <a:pt x="21448" y="9723"/>
                  <a:pt x="21476" y="9716"/>
                  <a:pt x="21530" y="9699"/>
                </a:cubicBezTo>
                <a:cubicBezTo>
                  <a:pt x="21569" y="9686"/>
                  <a:pt x="21619" y="9684"/>
                  <a:pt x="21654" y="9674"/>
                </a:cubicBezTo>
                <a:cubicBezTo>
                  <a:pt x="21679" y="9666"/>
                  <a:pt x="21740" y="9671"/>
                  <a:pt x="21754" y="9649"/>
                </a:cubicBezTo>
                <a:cubicBezTo>
                  <a:pt x="21754" y="9641"/>
                  <a:pt x="21754" y="9632"/>
                  <a:pt x="21754" y="9624"/>
                </a:cubicBezTo>
              </a:path>
              <a:path w="2432" h="795">
                <a:moveTo>
                  <a:pt x="21580" y="9500"/>
                </a:moveTo>
                <a:cubicBezTo>
                  <a:pt x="21580" y="9616"/>
                  <a:pt x="21580" y="9731"/>
                  <a:pt x="21580" y="9847"/>
                </a:cubicBezTo>
                <a:cubicBezTo>
                  <a:pt x="21605" y="9847"/>
                  <a:pt x="21613" y="9847"/>
                  <a:pt x="21605" y="9872"/>
                </a:cubicBezTo>
              </a:path>
              <a:path w="2432" h="795">
                <a:moveTo>
                  <a:pt x="19397" y="9872"/>
                </a:moveTo>
                <a:cubicBezTo>
                  <a:pt x="19720" y="9872"/>
                  <a:pt x="20086" y="9836"/>
                  <a:pt x="20389" y="9897"/>
                </a:cubicBezTo>
                <a:cubicBezTo>
                  <a:pt x="20635" y="9947"/>
                  <a:pt x="20921" y="9874"/>
                  <a:pt x="21158" y="9922"/>
                </a:cubicBezTo>
                <a:cubicBezTo>
                  <a:pt x="21287" y="9948"/>
                  <a:pt x="21448" y="9922"/>
                  <a:pt x="21580" y="9922"/>
                </a:cubicBezTo>
                <a:cubicBezTo>
                  <a:pt x="21555" y="9922"/>
                  <a:pt x="21547" y="9922"/>
                  <a:pt x="21555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Ink 41"/>
          <p:cNvSpPr/>
          <p:nvPr/>
        </p:nvSpPr>
        <p:spPr>
          <a:xfrm>
            <a:off x="6840360" y="4010040"/>
            <a:ext cx="401760" cy="214200"/>
          </a:xfrm>
          <a:custGeom>
            <a:avLst/>
            <a:gdLst/>
            <a:ahLst/>
            <a:rect l="l" t="t" r="r" b="b"/>
            <a:pathLst>
              <a:path w="1118" h="597">
                <a:moveTo>
                  <a:pt x="19248" y="11261"/>
                </a:moveTo>
                <a:cubicBezTo>
                  <a:pt x="19202" y="11261"/>
                  <a:pt x="19184" y="11255"/>
                  <a:pt x="19149" y="11286"/>
                </a:cubicBezTo>
                <a:cubicBezTo>
                  <a:pt x="19101" y="11328"/>
                  <a:pt x="19080" y="11382"/>
                  <a:pt x="19050" y="11435"/>
                </a:cubicBezTo>
                <a:cubicBezTo>
                  <a:pt x="19027" y="11476"/>
                  <a:pt x="19003" y="11538"/>
                  <a:pt x="19000" y="11584"/>
                </a:cubicBezTo>
                <a:cubicBezTo>
                  <a:pt x="18998" y="11607"/>
                  <a:pt x="19003" y="11700"/>
                  <a:pt x="19025" y="11708"/>
                </a:cubicBezTo>
                <a:cubicBezTo>
                  <a:pt x="19080" y="11728"/>
                  <a:pt x="19135" y="11733"/>
                  <a:pt x="19199" y="11733"/>
                </a:cubicBezTo>
                <a:cubicBezTo>
                  <a:pt x="19279" y="11733"/>
                  <a:pt x="19329" y="11731"/>
                  <a:pt x="19397" y="11683"/>
                </a:cubicBezTo>
                <a:cubicBezTo>
                  <a:pt x="19439" y="11654"/>
                  <a:pt x="19507" y="11612"/>
                  <a:pt x="19521" y="11559"/>
                </a:cubicBezTo>
                <a:cubicBezTo>
                  <a:pt x="19535" y="11507"/>
                  <a:pt x="19546" y="11468"/>
                  <a:pt x="19546" y="11410"/>
                </a:cubicBezTo>
                <a:cubicBezTo>
                  <a:pt x="19546" y="11334"/>
                  <a:pt x="19542" y="11299"/>
                  <a:pt x="19496" y="11237"/>
                </a:cubicBezTo>
                <a:cubicBezTo>
                  <a:pt x="19465" y="11195"/>
                  <a:pt x="19446" y="11187"/>
                  <a:pt x="19397" y="11187"/>
                </a:cubicBezTo>
                <a:cubicBezTo>
                  <a:pt x="19333" y="11187"/>
                  <a:pt x="19286" y="11177"/>
                  <a:pt x="19248" y="11237"/>
                </a:cubicBezTo>
                <a:cubicBezTo>
                  <a:pt x="19231" y="11264"/>
                  <a:pt x="19145" y="11331"/>
                  <a:pt x="19149" y="11361"/>
                </a:cubicBezTo>
                <a:cubicBezTo>
                  <a:pt x="19169" y="11401"/>
                  <a:pt x="19178" y="11407"/>
                  <a:pt x="19174" y="11435"/>
                </a:cubicBezTo>
              </a:path>
              <a:path w="1118" h="597">
                <a:moveTo>
                  <a:pt x="19794" y="11460"/>
                </a:moveTo>
                <a:cubicBezTo>
                  <a:pt x="19772" y="11482"/>
                  <a:pt x="19767" y="11491"/>
                  <a:pt x="19745" y="11485"/>
                </a:cubicBezTo>
                <a:cubicBezTo>
                  <a:pt x="19745" y="11541"/>
                  <a:pt x="19732" y="11559"/>
                  <a:pt x="19720" y="11584"/>
                </a:cubicBezTo>
                <a:cubicBezTo>
                  <a:pt x="19702" y="11621"/>
                  <a:pt x="19725" y="11591"/>
                  <a:pt x="19745" y="11584"/>
                </a:cubicBezTo>
              </a:path>
              <a:path w="1118" h="597">
                <a:moveTo>
                  <a:pt x="20092" y="11137"/>
                </a:moveTo>
                <a:cubicBezTo>
                  <a:pt x="20039" y="11155"/>
                  <a:pt x="20088" y="11183"/>
                  <a:pt x="20092" y="11237"/>
                </a:cubicBezTo>
                <a:cubicBezTo>
                  <a:pt x="20096" y="11293"/>
                  <a:pt x="20084" y="11360"/>
                  <a:pt x="20067" y="11410"/>
                </a:cubicBezTo>
                <a:cubicBezTo>
                  <a:pt x="20046" y="11474"/>
                  <a:pt x="20042" y="11491"/>
                  <a:pt x="20042" y="11559"/>
                </a:cubicBezTo>
                <a:cubicBezTo>
                  <a:pt x="20042" y="11600"/>
                  <a:pt x="20024" y="11686"/>
                  <a:pt x="20067" y="11708"/>
                </a:cubicBezTo>
                <a:cubicBezTo>
                  <a:pt x="20103" y="11726"/>
                  <a:pt x="20110" y="11704"/>
                  <a:pt x="20117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Ink 42"/>
          <p:cNvSpPr/>
          <p:nvPr/>
        </p:nvSpPr>
        <p:spPr>
          <a:xfrm>
            <a:off x="7419960" y="4054320"/>
            <a:ext cx="1652760" cy="241560"/>
          </a:xfrm>
          <a:custGeom>
            <a:avLst/>
            <a:gdLst/>
            <a:ahLst/>
            <a:rect l="l" t="t" r="r" b="b"/>
            <a:pathLst>
              <a:path w="4590" h="671">
                <a:moveTo>
                  <a:pt x="20960" y="11311"/>
                </a:moveTo>
                <a:cubicBezTo>
                  <a:pt x="20952" y="11311"/>
                  <a:pt x="20943" y="11311"/>
                  <a:pt x="20935" y="11311"/>
                </a:cubicBezTo>
                <a:cubicBezTo>
                  <a:pt x="20924" y="11355"/>
                  <a:pt x="20895" y="11376"/>
                  <a:pt x="20861" y="11410"/>
                </a:cubicBezTo>
                <a:cubicBezTo>
                  <a:pt x="20812" y="11459"/>
                  <a:pt x="20778" y="11505"/>
                  <a:pt x="20737" y="11559"/>
                </a:cubicBezTo>
                <a:cubicBezTo>
                  <a:pt x="20706" y="11600"/>
                  <a:pt x="20672" y="11603"/>
                  <a:pt x="20638" y="11633"/>
                </a:cubicBezTo>
                <a:cubicBezTo>
                  <a:pt x="20630" y="11641"/>
                  <a:pt x="20621" y="11650"/>
                  <a:pt x="20613" y="11658"/>
                </a:cubicBezTo>
              </a:path>
              <a:path w="4590" h="671">
                <a:moveTo>
                  <a:pt x="20638" y="11410"/>
                </a:moveTo>
                <a:cubicBezTo>
                  <a:pt x="20674" y="11429"/>
                  <a:pt x="20692" y="11470"/>
                  <a:pt x="20737" y="11485"/>
                </a:cubicBezTo>
                <a:cubicBezTo>
                  <a:pt x="20783" y="11500"/>
                  <a:pt x="20816" y="11544"/>
                  <a:pt x="20861" y="11559"/>
                </a:cubicBezTo>
                <a:cubicBezTo>
                  <a:pt x="20886" y="11559"/>
                  <a:pt x="20894" y="11559"/>
                  <a:pt x="20910" y="11559"/>
                </a:cubicBezTo>
              </a:path>
              <a:path w="4590" h="671">
                <a:moveTo>
                  <a:pt x="21357" y="11261"/>
                </a:moveTo>
                <a:cubicBezTo>
                  <a:pt x="21312" y="11295"/>
                  <a:pt x="21273" y="11317"/>
                  <a:pt x="21258" y="11385"/>
                </a:cubicBezTo>
                <a:cubicBezTo>
                  <a:pt x="21246" y="11442"/>
                  <a:pt x="21236" y="11505"/>
                  <a:pt x="21233" y="11559"/>
                </a:cubicBezTo>
                <a:cubicBezTo>
                  <a:pt x="21230" y="11612"/>
                  <a:pt x="21225" y="11645"/>
                  <a:pt x="21258" y="11683"/>
                </a:cubicBezTo>
                <a:cubicBezTo>
                  <a:pt x="21286" y="11716"/>
                  <a:pt x="21365" y="11724"/>
                  <a:pt x="21406" y="11708"/>
                </a:cubicBezTo>
                <a:cubicBezTo>
                  <a:pt x="21441" y="11694"/>
                  <a:pt x="21502" y="11634"/>
                  <a:pt x="21530" y="11609"/>
                </a:cubicBezTo>
                <a:cubicBezTo>
                  <a:pt x="21581" y="11563"/>
                  <a:pt x="21600" y="11500"/>
                  <a:pt x="21605" y="11435"/>
                </a:cubicBezTo>
                <a:cubicBezTo>
                  <a:pt x="21609" y="11385"/>
                  <a:pt x="21581" y="11312"/>
                  <a:pt x="21555" y="11286"/>
                </a:cubicBezTo>
                <a:cubicBezTo>
                  <a:pt x="21535" y="11266"/>
                  <a:pt x="21465" y="11261"/>
                  <a:pt x="21431" y="11261"/>
                </a:cubicBezTo>
                <a:cubicBezTo>
                  <a:pt x="21385" y="11261"/>
                  <a:pt x="21363" y="11260"/>
                  <a:pt x="21357" y="11311"/>
                </a:cubicBezTo>
                <a:cubicBezTo>
                  <a:pt x="21354" y="11342"/>
                  <a:pt x="21357" y="11379"/>
                  <a:pt x="21357" y="11410"/>
                </a:cubicBezTo>
              </a:path>
              <a:path w="4590" h="671">
                <a:moveTo>
                  <a:pt x="21803" y="11460"/>
                </a:moveTo>
                <a:cubicBezTo>
                  <a:pt x="21812" y="11486"/>
                  <a:pt x="21896" y="11516"/>
                  <a:pt x="21803" y="11460"/>
                </a:cubicBezTo>
              </a:path>
              <a:path w="4590" h="671">
                <a:moveTo>
                  <a:pt x="22076" y="11311"/>
                </a:moveTo>
                <a:cubicBezTo>
                  <a:pt x="22084" y="11303"/>
                  <a:pt x="22093" y="11294"/>
                  <a:pt x="22101" y="11286"/>
                </a:cubicBezTo>
                <a:cubicBezTo>
                  <a:pt x="22114" y="11324"/>
                  <a:pt x="22130" y="11311"/>
                  <a:pt x="22175" y="11311"/>
                </a:cubicBezTo>
                <a:cubicBezTo>
                  <a:pt x="22186" y="11311"/>
                  <a:pt x="22232" y="11326"/>
                  <a:pt x="22250" y="11336"/>
                </a:cubicBezTo>
                <a:cubicBezTo>
                  <a:pt x="22288" y="11357"/>
                  <a:pt x="22275" y="11399"/>
                  <a:pt x="22275" y="11435"/>
                </a:cubicBezTo>
                <a:cubicBezTo>
                  <a:pt x="22275" y="11497"/>
                  <a:pt x="22265" y="11525"/>
                  <a:pt x="22250" y="11584"/>
                </a:cubicBezTo>
                <a:cubicBezTo>
                  <a:pt x="22239" y="11629"/>
                  <a:pt x="22217" y="11669"/>
                  <a:pt x="22200" y="11708"/>
                </a:cubicBezTo>
                <a:cubicBezTo>
                  <a:pt x="22182" y="11751"/>
                  <a:pt x="22150" y="11793"/>
                  <a:pt x="22126" y="11832"/>
                </a:cubicBezTo>
                <a:cubicBezTo>
                  <a:pt x="22107" y="11864"/>
                  <a:pt x="22060" y="11863"/>
                  <a:pt x="22051" y="11881"/>
                </a:cubicBezTo>
                <a:cubicBezTo>
                  <a:pt x="22035" y="11914"/>
                  <a:pt x="22038" y="11896"/>
                  <a:pt x="22027" y="11931"/>
                </a:cubicBezTo>
                <a:cubicBezTo>
                  <a:pt x="22088" y="11931"/>
                  <a:pt x="22127" y="11916"/>
                  <a:pt x="22175" y="11906"/>
                </a:cubicBezTo>
                <a:cubicBezTo>
                  <a:pt x="22257" y="11888"/>
                  <a:pt x="22347" y="11908"/>
                  <a:pt x="22399" y="11881"/>
                </a:cubicBezTo>
                <a:cubicBezTo>
                  <a:pt x="22413" y="11874"/>
                  <a:pt x="22457" y="11881"/>
                  <a:pt x="22473" y="11881"/>
                </a:cubicBezTo>
              </a:path>
              <a:path w="4590" h="671">
                <a:moveTo>
                  <a:pt x="22771" y="11485"/>
                </a:moveTo>
                <a:cubicBezTo>
                  <a:pt x="22816" y="11485"/>
                  <a:pt x="22830" y="11505"/>
                  <a:pt x="22870" y="11509"/>
                </a:cubicBezTo>
                <a:cubicBezTo>
                  <a:pt x="22922" y="11515"/>
                  <a:pt x="22920" y="11502"/>
                  <a:pt x="22920" y="11559"/>
                </a:cubicBezTo>
              </a:path>
              <a:path w="4590" h="671">
                <a:moveTo>
                  <a:pt x="22696" y="11708"/>
                </a:moveTo>
                <a:cubicBezTo>
                  <a:pt x="22735" y="11698"/>
                  <a:pt x="22751" y="11683"/>
                  <a:pt x="22796" y="11683"/>
                </a:cubicBezTo>
                <a:cubicBezTo>
                  <a:pt x="22845" y="11683"/>
                  <a:pt x="22895" y="11683"/>
                  <a:pt x="22944" y="11683"/>
                </a:cubicBezTo>
              </a:path>
              <a:path w="4590" h="671">
                <a:moveTo>
                  <a:pt x="23440" y="11336"/>
                </a:moveTo>
                <a:cubicBezTo>
                  <a:pt x="23392" y="11348"/>
                  <a:pt x="23348" y="11392"/>
                  <a:pt x="23316" y="11435"/>
                </a:cubicBezTo>
                <a:cubicBezTo>
                  <a:pt x="23255" y="11517"/>
                  <a:pt x="23222" y="11583"/>
                  <a:pt x="23217" y="11683"/>
                </a:cubicBezTo>
                <a:cubicBezTo>
                  <a:pt x="23214" y="11744"/>
                  <a:pt x="23204" y="11810"/>
                  <a:pt x="23242" y="11857"/>
                </a:cubicBezTo>
                <a:cubicBezTo>
                  <a:pt x="23274" y="11896"/>
                  <a:pt x="23343" y="11904"/>
                  <a:pt x="23391" y="11906"/>
                </a:cubicBezTo>
                <a:cubicBezTo>
                  <a:pt x="23483" y="11910"/>
                  <a:pt x="23498" y="11853"/>
                  <a:pt x="23589" y="11832"/>
                </a:cubicBezTo>
                <a:cubicBezTo>
                  <a:pt x="23662" y="11815"/>
                  <a:pt x="23664" y="11765"/>
                  <a:pt x="23713" y="11733"/>
                </a:cubicBezTo>
                <a:cubicBezTo>
                  <a:pt x="23774" y="11693"/>
                  <a:pt x="23757" y="11677"/>
                  <a:pt x="23788" y="11609"/>
                </a:cubicBezTo>
                <a:cubicBezTo>
                  <a:pt x="23803" y="11575"/>
                  <a:pt x="23828" y="11530"/>
                  <a:pt x="23812" y="11485"/>
                </a:cubicBezTo>
                <a:cubicBezTo>
                  <a:pt x="23789" y="11419"/>
                  <a:pt x="23758" y="11414"/>
                  <a:pt x="23713" y="11385"/>
                </a:cubicBezTo>
                <a:cubicBezTo>
                  <a:pt x="23667" y="11355"/>
                  <a:pt x="23649" y="11361"/>
                  <a:pt x="23589" y="11361"/>
                </a:cubicBezTo>
                <a:cubicBezTo>
                  <a:pt x="23538" y="11361"/>
                  <a:pt x="23540" y="11359"/>
                  <a:pt x="23540" y="11410"/>
                </a:cubicBezTo>
              </a:path>
              <a:path w="4590" h="671">
                <a:moveTo>
                  <a:pt x="24036" y="11757"/>
                </a:moveTo>
                <a:cubicBezTo>
                  <a:pt x="24051" y="11802"/>
                  <a:pt x="24072" y="11773"/>
                  <a:pt x="24085" y="11733"/>
                </a:cubicBezTo>
                <a:cubicBezTo>
                  <a:pt x="24104" y="11674"/>
                  <a:pt x="24056" y="11636"/>
                  <a:pt x="24110" y="11708"/>
                </a:cubicBezTo>
              </a:path>
              <a:path w="4590" h="671">
                <a:moveTo>
                  <a:pt x="24408" y="11410"/>
                </a:moveTo>
                <a:cubicBezTo>
                  <a:pt x="24355" y="11463"/>
                  <a:pt x="24360" y="11498"/>
                  <a:pt x="24333" y="11559"/>
                </a:cubicBezTo>
                <a:cubicBezTo>
                  <a:pt x="24313" y="11603"/>
                  <a:pt x="24309" y="11631"/>
                  <a:pt x="24309" y="11683"/>
                </a:cubicBezTo>
                <a:cubicBezTo>
                  <a:pt x="24309" y="11736"/>
                  <a:pt x="24299" y="11768"/>
                  <a:pt x="24333" y="11807"/>
                </a:cubicBezTo>
                <a:cubicBezTo>
                  <a:pt x="24356" y="11833"/>
                  <a:pt x="24400" y="11853"/>
                  <a:pt x="24433" y="11857"/>
                </a:cubicBezTo>
                <a:cubicBezTo>
                  <a:pt x="24481" y="11862"/>
                  <a:pt x="24523" y="11863"/>
                  <a:pt x="24557" y="11832"/>
                </a:cubicBezTo>
                <a:cubicBezTo>
                  <a:pt x="24588" y="11804"/>
                  <a:pt x="24594" y="11783"/>
                  <a:pt x="24606" y="11757"/>
                </a:cubicBezTo>
                <a:cubicBezTo>
                  <a:pt x="24628" y="11710"/>
                  <a:pt x="24649" y="11638"/>
                  <a:pt x="24631" y="11584"/>
                </a:cubicBezTo>
                <a:cubicBezTo>
                  <a:pt x="24613" y="11530"/>
                  <a:pt x="24608" y="11506"/>
                  <a:pt x="24581" y="11485"/>
                </a:cubicBezTo>
                <a:cubicBezTo>
                  <a:pt x="24559" y="11468"/>
                  <a:pt x="24516" y="11441"/>
                  <a:pt x="24482" y="11460"/>
                </a:cubicBezTo>
                <a:cubicBezTo>
                  <a:pt x="24448" y="11479"/>
                  <a:pt x="24457" y="11502"/>
                  <a:pt x="24457" y="11534"/>
                </a:cubicBezTo>
              </a:path>
              <a:path w="4590" h="671">
                <a:moveTo>
                  <a:pt x="24854" y="11460"/>
                </a:moveTo>
                <a:cubicBezTo>
                  <a:pt x="24901" y="11460"/>
                  <a:pt x="25003" y="11437"/>
                  <a:pt x="25028" y="11485"/>
                </a:cubicBezTo>
                <a:cubicBezTo>
                  <a:pt x="25039" y="11506"/>
                  <a:pt x="25051" y="11562"/>
                  <a:pt x="25053" y="11584"/>
                </a:cubicBezTo>
                <a:cubicBezTo>
                  <a:pt x="25060" y="11645"/>
                  <a:pt x="25020" y="11678"/>
                  <a:pt x="25003" y="11733"/>
                </a:cubicBezTo>
                <a:cubicBezTo>
                  <a:pt x="24992" y="11768"/>
                  <a:pt x="24937" y="11821"/>
                  <a:pt x="24904" y="11857"/>
                </a:cubicBezTo>
                <a:cubicBezTo>
                  <a:pt x="24876" y="11888"/>
                  <a:pt x="24811" y="11906"/>
                  <a:pt x="24854" y="11906"/>
                </a:cubicBezTo>
                <a:cubicBezTo>
                  <a:pt x="24970" y="11906"/>
                  <a:pt x="25086" y="11906"/>
                  <a:pt x="25202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Ink 43"/>
          <p:cNvSpPr/>
          <p:nvPr/>
        </p:nvSpPr>
        <p:spPr>
          <a:xfrm>
            <a:off x="6269040" y="4224240"/>
            <a:ext cx="204840" cy="22392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7859" y="11881"/>
                </a:moveTo>
                <a:cubicBezTo>
                  <a:pt x="17859" y="11857"/>
                  <a:pt x="17859" y="11848"/>
                  <a:pt x="17859" y="11832"/>
                </a:cubicBezTo>
                <a:cubicBezTo>
                  <a:pt x="17818" y="11874"/>
                  <a:pt x="17788" y="11904"/>
                  <a:pt x="17760" y="11956"/>
                </a:cubicBezTo>
                <a:cubicBezTo>
                  <a:pt x="17714" y="12041"/>
                  <a:pt x="17666" y="12056"/>
                  <a:pt x="17611" y="12129"/>
                </a:cubicBezTo>
                <a:cubicBezTo>
                  <a:pt x="17579" y="12172"/>
                  <a:pt x="17510" y="12213"/>
                  <a:pt x="17487" y="12254"/>
                </a:cubicBezTo>
                <a:cubicBezTo>
                  <a:pt x="17462" y="12299"/>
                  <a:pt x="17450" y="12308"/>
                  <a:pt x="17462" y="12303"/>
                </a:cubicBezTo>
                <a:cubicBezTo>
                  <a:pt x="17499" y="12288"/>
                  <a:pt x="17501" y="12297"/>
                  <a:pt x="17512" y="12254"/>
                </a:cubicBezTo>
              </a:path>
              <a:path w="571" h="621">
                <a:moveTo>
                  <a:pt x="17636" y="11733"/>
                </a:moveTo>
                <a:cubicBezTo>
                  <a:pt x="17636" y="11799"/>
                  <a:pt x="17655" y="11762"/>
                  <a:pt x="17661" y="11832"/>
                </a:cubicBezTo>
                <a:cubicBezTo>
                  <a:pt x="17666" y="11884"/>
                  <a:pt x="17683" y="11902"/>
                  <a:pt x="17686" y="11956"/>
                </a:cubicBezTo>
                <a:cubicBezTo>
                  <a:pt x="17690" y="12017"/>
                  <a:pt x="17702" y="12101"/>
                  <a:pt x="17735" y="12154"/>
                </a:cubicBezTo>
                <a:cubicBezTo>
                  <a:pt x="17759" y="12193"/>
                  <a:pt x="17761" y="12242"/>
                  <a:pt x="17785" y="12278"/>
                </a:cubicBezTo>
                <a:cubicBezTo>
                  <a:pt x="17793" y="12286"/>
                  <a:pt x="17802" y="12295"/>
                  <a:pt x="17810" y="12303"/>
                </a:cubicBezTo>
                <a:cubicBezTo>
                  <a:pt x="17798" y="12267"/>
                  <a:pt x="17773" y="12281"/>
                  <a:pt x="17735" y="12254"/>
                </a:cubicBezTo>
              </a:path>
              <a:path w="571" h="621">
                <a:moveTo>
                  <a:pt x="17413" y="11956"/>
                </a:moveTo>
                <a:cubicBezTo>
                  <a:pt x="17462" y="11956"/>
                  <a:pt x="17472" y="11954"/>
                  <a:pt x="17512" y="11981"/>
                </a:cubicBezTo>
                <a:cubicBezTo>
                  <a:pt x="17576" y="12024"/>
                  <a:pt x="17660" y="12045"/>
                  <a:pt x="17735" y="12055"/>
                </a:cubicBezTo>
                <a:cubicBezTo>
                  <a:pt x="17814" y="12065"/>
                  <a:pt x="17902" y="12055"/>
                  <a:pt x="17983" y="12055"/>
                </a:cubicBezTo>
                <a:cubicBezTo>
                  <a:pt x="17951" y="12044"/>
                  <a:pt x="17961" y="12040"/>
                  <a:pt x="17934" y="12005"/>
                </a:cubicBezTo>
              </a:path>
              <a:path w="571" h="621">
                <a:moveTo>
                  <a:pt x="17636" y="11807"/>
                </a:moveTo>
                <a:cubicBezTo>
                  <a:pt x="17626" y="11846"/>
                  <a:pt x="17611" y="11862"/>
                  <a:pt x="17611" y="11906"/>
                </a:cubicBezTo>
                <a:cubicBezTo>
                  <a:pt x="17611" y="12028"/>
                  <a:pt x="17607" y="12140"/>
                  <a:pt x="17636" y="12254"/>
                </a:cubicBezTo>
                <a:cubicBezTo>
                  <a:pt x="17649" y="12303"/>
                  <a:pt x="17619" y="12312"/>
                  <a:pt x="17611" y="12328"/>
                </a:cubicBezTo>
                <a:cubicBezTo>
                  <a:pt x="17611" y="12336"/>
                  <a:pt x="17611" y="12345"/>
                  <a:pt x="17611" y="12353"/>
                </a:cubicBezTo>
              </a:path>
              <a:path w="571" h="621">
                <a:moveTo>
                  <a:pt x="17487" y="12105"/>
                </a:moveTo>
                <a:cubicBezTo>
                  <a:pt x="17530" y="12070"/>
                  <a:pt x="17556" y="12055"/>
                  <a:pt x="17611" y="12055"/>
                </a:cubicBezTo>
                <a:cubicBezTo>
                  <a:pt x="17656" y="12055"/>
                  <a:pt x="17679" y="12030"/>
                  <a:pt x="17735" y="12030"/>
                </a:cubicBezTo>
                <a:cubicBezTo>
                  <a:pt x="17778" y="12030"/>
                  <a:pt x="17814" y="12069"/>
                  <a:pt x="17859" y="12080"/>
                </a:cubicBezTo>
                <a:cubicBezTo>
                  <a:pt x="17867" y="12080"/>
                  <a:pt x="17876" y="12080"/>
                  <a:pt x="17884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Ink 44"/>
          <p:cNvSpPr/>
          <p:nvPr/>
        </p:nvSpPr>
        <p:spPr>
          <a:xfrm>
            <a:off x="4786200" y="4589640"/>
            <a:ext cx="214560" cy="196560"/>
          </a:xfrm>
          <a:custGeom>
            <a:avLst/>
            <a:gdLst/>
            <a:ahLst/>
            <a:rect l="l" t="t" r="r" b="b"/>
            <a:pathLst>
              <a:path w="597" h="546">
                <a:moveTo>
                  <a:pt x="13717" y="12874"/>
                </a:moveTo>
                <a:cubicBezTo>
                  <a:pt x="13704" y="12848"/>
                  <a:pt x="13682" y="12877"/>
                  <a:pt x="13667" y="12898"/>
                </a:cubicBezTo>
                <a:cubicBezTo>
                  <a:pt x="13622" y="12962"/>
                  <a:pt x="13593" y="13037"/>
                  <a:pt x="13543" y="13097"/>
                </a:cubicBezTo>
                <a:cubicBezTo>
                  <a:pt x="13506" y="13141"/>
                  <a:pt x="13420" y="13175"/>
                  <a:pt x="13395" y="13221"/>
                </a:cubicBezTo>
                <a:cubicBezTo>
                  <a:pt x="13377" y="13254"/>
                  <a:pt x="13385" y="13290"/>
                  <a:pt x="13345" y="13295"/>
                </a:cubicBezTo>
                <a:cubicBezTo>
                  <a:pt x="13297" y="13301"/>
                  <a:pt x="13340" y="13228"/>
                  <a:pt x="13345" y="13196"/>
                </a:cubicBezTo>
              </a:path>
              <a:path w="597" h="546">
                <a:moveTo>
                  <a:pt x="13395" y="12750"/>
                </a:moveTo>
                <a:cubicBezTo>
                  <a:pt x="13441" y="12796"/>
                  <a:pt x="13434" y="12822"/>
                  <a:pt x="13469" y="12874"/>
                </a:cubicBezTo>
                <a:cubicBezTo>
                  <a:pt x="13502" y="12923"/>
                  <a:pt x="13539" y="12968"/>
                  <a:pt x="13568" y="13022"/>
                </a:cubicBezTo>
                <a:cubicBezTo>
                  <a:pt x="13596" y="13076"/>
                  <a:pt x="13630" y="13105"/>
                  <a:pt x="13667" y="13146"/>
                </a:cubicBezTo>
                <a:cubicBezTo>
                  <a:pt x="13695" y="13177"/>
                  <a:pt x="13707" y="13183"/>
                  <a:pt x="13717" y="13221"/>
                </a:cubicBezTo>
                <a:cubicBezTo>
                  <a:pt x="13758" y="13211"/>
                  <a:pt x="13757" y="13212"/>
                  <a:pt x="13767" y="13171"/>
                </a:cubicBezTo>
              </a:path>
              <a:path w="597" h="546">
                <a:moveTo>
                  <a:pt x="13643" y="12750"/>
                </a:moveTo>
                <a:cubicBezTo>
                  <a:pt x="13633" y="12789"/>
                  <a:pt x="13598" y="12838"/>
                  <a:pt x="13593" y="12874"/>
                </a:cubicBezTo>
                <a:cubicBezTo>
                  <a:pt x="13580" y="12961"/>
                  <a:pt x="13588" y="13038"/>
                  <a:pt x="13568" y="13122"/>
                </a:cubicBezTo>
                <a:cubicBezTo>
                  <a:pt x="13557" y="13170"/>
                  <a:pt x="13557" y="13205"/>
                  <a:pt x="13543" y="13246"/>
                </a:cubicBezTo>
                <a:cubicBezTo>
                  <a:pt x="13538" y="13262"/>
                  <a:pt x="13504" y="13310"/>
                  <a:pt x="13469" y="13295"/>
                </a:cubicBezTo>
                <a:cubicBezTo>
                  <a:pt x="13461" y="13287"/>
                  <a:pt x="13452" y="13279"/>
                  <a:pt x="13444" y="13271"/>
                </a:cubicBezTo>
              </a:path>
              <a:path w="597" h="546">
                <a:moveTo>
                  <a:pt x="13320" y="13072"/>
                </a:moveTo>
                <a:cubicBezTo>
                  <a:pt x="13380" y="13072"/>
                  <a:pt x="13413" y="13057"/>
                  <a:pt x="13469" y="13047"/>
                </a:cubicBezTo>
                <a:cubicBezTo>
                  <a:pt x="13545" y="13034"/>
                  <a:pt x="13611" y="13022"/>
                  <a:pt x="13692" y="13022"/>
                </a:cubicBezTo>
                <a:cubicBezTo>
                  <a:pt x="13734" y="13022"/>
                  <a:pt x="13836" y="13024"/>
                  <a:pt x="13866" y="12998"/>
                </a:cubicBezTo>
                <a:cubicBezTo>
                  <a:pt x="13892" y="12976"/>
                  <a:pt x="13884" y="12957"/>
                  <a:pt x="13866" y="12948"/>
                </a:cubicBezTo>
              </a:path>
              <a:path w="597" h="546">
                <a:moveTo>
                  <a:pt x="13519" y="12774"/>
                </a:moveTo>
                <a:cubicBezTo>
                  <a:pt x="13468" y="12825"/>
                  <a:pt x="13466" y="12837"/>
                  <a:pt x="13444" y="12898"/>
                </a:cubicBezTo>
                <a:cubicBezTo>
                  <a:pt x="13426" y="12949"/>
                  <a:pt x="13381" y="13007"/>
                  <a:pt x="13345" y="13047"/>
                </a:cubicBezTo>
                <a:cubicBezTo>
                  <a:pt x="13318" y="13077"/>
                  <a:pt x="13305" y="13109"/>
                  <a:pt x="13295" y="13146"/>
                </a:cubicBezTo>
                <a:cubicBezTo>
                  <a:pt x="13295" y="13122"/>
                  <a:pt x="13295" y="13113"/>
                  <a:pt x="13295" y="130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Ink 45"/>
          <p:cNvSpPr/>
          <p:nvPr/>
        </p:nvSpPr>
        <p:spPr>
          <a:xfrm>
            <a:off x="5259240" y="4670280"/>
            <a:ext cx="571680" cy="152640"/>
          </a:xfrm>
          <a:custGeom>
            <a:avLst/>
            <a:gdLst/>
            <a:ahLst/>
            <a:rect l="l" t="t" r="r" b="b"/>
            <a:pathLst>
              <a:path w="1588" h="423">
                <a:moveTo>
                  <a:pt x="14883" y="12998"/>
                </a:moveTo>
                <a:cubicBezTo>
                  <a:pt x="14866" y="12946"/>
                  <a:pt x="14854" y="12993"/>
                  <a:pt x="14808" y="12998"/>
                </a:cubicBezTo>
                <a:cubicBezTo>
                  <a:pt x="14776" y="13002"/>
                  <a:pt x="14724" y="13039"/>
                  <a:pt x="14709" y="13072"/>
                </a:cubicBezTo>
                <a:cubicBezTo>
                  <a:pt x="14691" y="13113"/>
                  <a:pt x="14649" y="13154"/>
                  <a:pt x="14635" y="13196"/>
                </a:cubicBezTo>
                <a:cubicBezTo>
                  <a:pt x="14628" y="13217"/>
                  <a:pt x="14590" y="13235"/>
                  <a:pt x="14610" y="13271"/>
                </a:cubicBezTo>
                <a:cubicBezTo>
                  <a:pt x="14623" y="13294"/>
                  <a:pt x="14670" y="13318"/>
                  <a:pt x="14684" y="13320"/>
                </a:cubicBezTo>
                <a:cubicBezTo>
                  <a:pt x="14729" y="13326"/>
                  <a:pt x="14761" y="13345"/>
                  <a:pt x="14808" y="13345"/>
                </a:cubicBezTo>
                <a:cubicBezTo>
                  <a:pt x="14873" y="13345"/>
                  <a:pt x="14906" y="13331"/>
                  <a:pt x="14957" y="13320"/>
                </a:cubicBezTo>
                <a:cubicBezTo>
                  <a:pt x="15012" y="13308"/>
                  <a:pt x="15037" y="13305"/>
                  <a:pt x="15056" y="13246"/>
                </a:cubicBezTo>
                <a:cubicBezTo>
                  <a:pt x="15073" y="13194"/>
                  <a:pt x="15064" y="13083"/>
                  <a:pt x="15032" y="13047"/>
                </a:cubicBezTo>
                <a:cubicBezTo>
                  <a:pt x="14991" y="13000"/>
                  <a:pt x="15005" y="12998"/>
                  <a:pt x="14932" y="12998"/>
                </a:cubicBezTo>
                <a:cubicBezTo>
                  <a:pt x="14881" y="12998"/>
                  <a:pt x="14880" y="12994"/>
                  <a:pt x="14858" y="13022"/>
                </a:cubicBezTo>
                <a:cubicBezTo>
                  <a:pt x="14831" y="13057"/>
                  <a:pt x="14819" y="13104"/>
                  <a:pt x="14808" y="13146"/>
                </a:cubicBezTo>
              </a:path>
              <a:path w="1588" h="423">
                <a:moveTo>
                  <a:pt x="15156" y="13246"/>
                </a:moveTo>
                <a:cubicBezTo>
                  <a:pt x="15156" y="13271"/>
                  <a:pt x="15156" y="13279"/>
                  <a:pt x="15156" y="13295"/>
                </a:cubicBezTo>
                <a:cubicBezTo>
                  <a:pt x="15192" y="13247"/>
                  <a:pt x="15224" y="13246"/>
                  <a:pt x="15156" y="13246"/>
                </a:cubicBezTo>
              </a:path>
              <a:path w="1588" h="423">
                <a:moveTo>
                  <a:pt x="15453" y="13047"/>
                </a:moveTo>
                <a:cubicBezTo>
                  <a:pt x="15446" y="13078"/>
                  <a:pt x="15421" y="13121"/>
                  <a:pt x="15404" y="13146"/>
                </a:cubicBezTo>
                <a:cubicBezTo>
                  <a:pt x="15377" y="13186"/>
                  <a:pt x="15379" y="13196"/>
                  <a:pt x="15379" y="13246"/>
                </a:cubicBezTo>
                <a:cubicBezTo>
                  <a:pt x="15379" y="13309"/>
                  <a:pt x="15408" y="13288"/>
                  <a:pt x="15429" y="13320"/>
                </a:cubicBezTo>
                <a:cubicBezTo>
                  <a:pt x="15450" y="13351"/>
                  <a:pt x="15452" y="13345"/>
                  <a:pt x="15503" y="13345"/>
                </a:cubicBezTo>
                <a:cubicBezTo>
                  <a:pt x="15564" y="13345"/>
                  <a:pt x="15553" y="13317"/>
                  <a:pt x="15602" y="13295"/>
                </a:cubicBezTo>
                <a:cubicBezTo>
                  <a:pt x="15630" y="13283"/>
                  <a:pt x="15647" y="13264"/>
                  <a:pt x="15652" y="13221"/>
                </a:cubicBezTo>
                <a:cubicBezTo>
                  <a:pt x="15657" y="13173"/>
                  <a:pt x="15658" y="13132"/>
                  <a:pt x="15627" y="13097"/>
                </a:cubicBezTo>
                <a:cubicBezTo>
                  <a:pt x="15592" y="13058"/>
                  <a:pt x="15579" y="13047"/>
                  <a:pt x="15528" y="13047"/>
                </a:cubicBezTo>
                <a:cubicBezTo>
                  <a:pt x="15491" y="13047"/>
                  <a:pt x="15459" y="13133"/>
                  <a:pt x="15453" y="13097"/>
                </a:cubicBezTo>
                <a:cubicBezTo>
                  <a:pt x="15453" y="13080"/>
                  <a:pt x="15453" y="13064"/>
                  <a:pt x="15453" y="13047"/>
                </a:cubicBezTo>
              </a:path>
              <a:path w="1588" h="423">
                <a:moveTo>
                  <a:pt x="15825" y="13072"/>
                </a:moveTo>
                <a:cubicBezTo>
                  <a:pt x="15844" y="13058"/>
                  <a:pt x="15899" y="13010"/>
                  <a:pt x="15925" y="13022"/>
                </a:cubicBezTo>
                <a:cubicBezTo>
                  <a:pt x="15936" y="13027"/>
                  <a:pt x="15993" y="13109"/>
                  <a:pt x="15999" y="13122"/>
                </a:cubicBezTo>
                <a:cubicBezTo>
                  <a:pt x="16015" y="13157"/>
                  <a:pt x="15994" y="13198"/>
                  <a:pt x="15974" y="13221"/>
                </a:cubicBezTo>
                <a:cubicBezTo>
                  <a:pt x="15948" y="13250"/>
                  <a:pt x="15891" y="13285"/>
                  <a:pt x="15875" y="13320"/>
                </a:cubicBezTo>
                <a:cubicBezTo>
                  <a:pt x="15861" y="13352"/>
                  <a:pt x="15854" y="13357"/>
                  <a:pt x="15825" y="13395"/>
                </a:cubicBezTo>
                <a:cubicBezTo>
                  <a:pt x="15949" y="13395"/>
                  <a:pt x="16073" y="13395"/>
                  <a:pt x="16197" y="1339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Ink 46"/>
          <p:cNvSpPr/>
          <p:nvPr/>
        </p:nvSpPr>
        <p:spPr>
          <a:xfrm>
            <a:off x="6010200" y="4680000"/>
            <a:ext cx="150840" cy="12384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16694" y="13221"/>
                </a:moveTo>
                <a:cubicBezTo>
                  <a:pt x="16752" y="13221"/>
                  <a:pt x="16788" y="13209"/>
                  <a:pt x="16842" y="13196"/>
                </a:cubicBezTo>
                <a:cubicBezTo>
                  <a:pt x="16922" y="13177"/>
                  <a:pt x="17031" y="13196"/>
                  <a:pt x="17115" y="13196"/>
                </a:cubicBezTo>
              </a:path>
              <a:path w="422" h="348">
                <a:moveTo>
                  <a:pt x="16917" y="12998"/>
                </a:moveTo>
                <a:cubicBezTo>
                  <a:pt x="16917" y="13105"/>
                  <a:pt x="16917" y="13213"/>
                  <a:pt x="16917" y="13320"/>
                </a:cubicBezTo>
                <a:cubicBezTo>
                  <a:pt x="16942" y="13320"/>
                  <a:pt x="16950" y="13320"/>
                  <a:pt x="16942" y="1334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Ink 47"/>
          <p:cNvSpPr/>
          <p:nvPr/>
        </p:nvSpPr>
        <p:spPr>
          <a:xfrm>
            <a:off x="6438960" y="4687920"/>
            <a:ext cx="874800" cy="206280"/>
          </a:xfrm>
          <a:custGeom>
            <a:avLst/>
            <a:gdLst/>
            <a:ahLst/>
            <a:rect l="l" t="t" r="r" b="b"/>
            <a:pathLst>
              <a:path w="2432" h="572">
                <a:moveTo>
                  <a:pt x="18157" y="13146"/>
                </a:moveTo>
                <a:cubicBezTo>
                  <a:pt x="18157" y="13138"/>
                  <a:pt x="18157" y="13130"/>
                  <a:pt x="18157" y="13122"/>
                </a:cubicBezTo>
                <a:cubicBezTo>
                  <a:pt x="18102" y="13122"/>
                  <a:pt x="18122" y="13141"/>
                  <a:pt x="18083" y="13146"/>
                </a:cubicBezTo>
                <a:cubicBezTo>
                  <a:pt x="18039" y="13151"/>
                  <a:pt x="18015" y="13189"/>
                  <a:pt x="17983" y="13221"/>
                </a:cubicBezTo>
                <a:cubicBezTo>
                  <a:pt x="17953" y="13252"/>
                  <a:pt x="17912" y="13277"/>
                  <a:pt x="17909" y="13320"/>
                </a:cubicBezTo>
                <a:cubicBezTo>
                  <a:pt x="17903" y="13399"/>
                  <a:pt x="17887" y="13379"/>
                  <a:pt x="17909" y="13444"/>
                </a:cubicBezTo>
                <a:cubicBezTo>
                  <a:pt x="17922" y="13482"/>
                  <a:pt x="17935" y="13516"/>
                  <a:pt x="17983" y="13519"/>
                </a:cubicBezTo>
                <a:cubicBezTo>
                  <a:pt x="18053" y="13524"/>
                  <a:pt x="18101" y="13513"/>
                  <a:pt x="18157" y="13494"/>
                </a:cubicBezTo>
                <a:cubicBezTo>
                  <a:pt x="18212" y="13476"/>
                  <a:pt x="18238" y="13461"/>
                  <a:pt x="18281" y="13419"/>
                </a:cubicBezTo>
                <a:cubicBezTo>
                  <a:pt x="18311" y="13390"/>
                  <a:pt x="18320" y="13331"/>
                  <a:pt x="18331" y="13295"/>
                </a:cubicBezTo>
                <a:cubicBezTo>
                  <a:pt x="18344" y="13254"/>
                  <a:pt x="18318" y="13191"/>
                  <a:pt x="18281" y="13171"/>
                </a:cubicBezTo>
                <a:cubicBezTo>
                  <a:pt x="18251" y="13155"/>
                  <a:pt x="18237" y="13110"/>
                  <a:pt x="18182" y="13097"/>
                </a:cubicBezTo>
                <a:cubicBezTo>
                  <a:pt x="18135" y="13086"/>
                  <a:pt x="18094" y="13089"/>
                  <a:pt x="18083" y="13122"/>
                </a:cubicBezTo>
                <a:cubicBezTo>
                  <a:pt x="18083" y="13163"/>
                  <a:pt x="18100" y="13171"/>
                  <a:pt x="18157" y="13146"/>
                </a:cubicBezTo>
              </a:path>
              <a:path w="2432" h="572">
                <a:moveTo>
                  <a:pt x="18529" y="13370"/>
                </a:moveTo>
                <a:cubicBezTo>
                  <a:pt x="18529" y="13378"/>
                  <a:pt x="18529" y="13387"/>
                  <a:pt x="18529" y="13395"/>
                </a:cubicBezTo>
                <a:cubicBezTo>
                  <a:pt x="18569" y="13382"/>
                  <a:pt x="18539" y="13383"/>
                  <a:pt x="18579" y="13370"/>
                </a:cubicBezTo>
                <a:cubicBezTo>
                  <a:pt x="18579" y="13345"/>
                  <a:pt x="18579" y="13337"/>
                  <a:pt x="18604" y="13345"/>
                </a:cubicBezTo>
              </a:path>
              <a:path w="2432" h="572">
                <a:moveTo>
                  <a:pt x="18976" y="13047"/>
                </a:moveTo>
                <a:cubicBezTo>
                  <a:pt x="18939" y="13075"/>
                  <a:pt x="18912" y="13086"/>
                  <a:pt x="18876" y="13122"/>
                </a:cubicBezTo>
                <a:cubicBezTo>
                  <a:pt x="18838" y="13160"/>
                  <a:pt x="18827" y="13168"/>
                  <a:pt x="18827" y="13221"/>
                </a:cubicBezTo>
                <a:cubicBezTo>
                  <a:pt x="18827" y="13286"/>
                  <a:pt x="18834" y="13290"/>
                  <a:pt x="18901" y="13295"/>
                </a:cubicBezTo>
                <a:cubicBezTo>
                  <a:pt x="18920" y="13297"/>
                  <a:pt x="18982" y="13310"/>
                  <a:pt x="19000" y="13320"/>
                </a:cubicBezTo>
                <a:cubicBezTo>
                  <a:pt x="19014" y="13328"/>
                  <a:pt x="19096" y="13364"/>
                  <a:pt x="19100" y="13370"/>
                </a:cubicBezTo>
                <a:cubicBezTo>
                  <a:pt x="19112" y="13388"/>
                  <a:pt x="19136" y="13408"/>
                  <a:pt x="19124" y="13444"/>
                </a:cubicBezTo>
                <a:cubicBezTo>
                  <a:pt x="19107" y="13493"/>
                  <a:pt x="19070" y="13529"/>
                  <a:pt x="19025" y="13543"/>
                </a:cubicBezTo>
                <a:cubicBezTo>
                  <a:pt x="18978" y="13558"/>
                  <a:pt x="18901" y="13543"/>
                  <a:pt x="18852" y="13543"/>
                </a:cubicBezTo>
                <a:cubicBezTo>
                  <a:pt x="18852" y="13495"/>
                  <a:pt x="18847" y="13463"/>
                  <a:pt x="18876" y="13419"/>
                </a:cubicBezTo>
                <a:cubicBezTo>
                  <a:pt x="18903" y="13379"/>
                  <a:pt x="18964" y="13357"/>
                  <a:pt x="19000" y="13320"/>
                </a:cubicBezTo>
                <a:cubicBezTo>
                  <a:pt x="19034" y="13285"/>
                  <a:pt x="19063" y="13244"/>
                  <a:pt x="19100" y="13221"/>
                </a:cubicBezTo>
                <a:cubicBezTo>
                  <a:pt x="19135" y="13199"/>
                  <a:pt x="19168" y="13199"/>
                  <a:pt x="19174" y="13146"/>
                </a:cubicBezTo>
                <a:cubicBezTo>
                  <a:pt x="19180" y="13095"/>
                  <a:pt x="19159" y="13091"/>
                  <a:pt x="19149" y="13072"/>
                </a:cubicBezTo>
                <a:cubicBezTo>
                  <a:pt x="19127" y="13027"/>
                  <a:pt x="19169" y="13022"/>
                  <a:pt x="19100" y="13022"/>
                </a:cubicBezTo>
                <a:cubicBezTo>
                  <a:pt x="19043" y="13022"/>
                  <a:pt x="19025" y="13034"/>
                  <a:pt x="19000" y="13047"/>
                </a:cubicBezTo>
                <a:cubicBezTo>
                  <a:pt x="18992" y="13047"/>
                  <a:pt x="18984" y="13047"/>
                  <a:pt x="18976" y="13047"/>
                </a:cubicBezTo>
              </a:path>
              <a:path w="2432" h="572">
                <a:moveTo>
                  <a:pt x="19596" y="13072"/>
                </a:moveTo>
                <a:cubicBezTo>
                  <a:pt x="19552" y="13072"/>
                  <a:pt x="19546" y="13078"/>
                  <a:pt x="19521" y="13097"/>
                </a:cubicBezTo>
                <a:cubicBezTo>
                  <a:pt x="19489" y="13121"/>
                  <a:pt x="19479" y="13164"/>
                  <a:pt x="19447" y="13196"/>
                </a:cubicBezTo>
                <a:cubicBezTo>
                  <a:pt x="19411" y="13232"/>
                  <a:pt x="19381" y="13276"/>
                  <a:pt x="19372" y="13320"/>
                </a:cubicBezTo>
                <a:cubicBezTo>
                  <a:pt x="19358" y="13388"/>
                  <a:pt x="19379" y="13441"/>
                  <a:pt x="19397" y="13494"/>
                </a:cubicBezTo>
                <a:cubicBezTo>
                  <a:pt x="19410" y="13532"/>
                  <a:pt x="19427" y="13519"/>
                  <a:pt x="19472" y="13519"/>
                </a:cubicBezTo>
                <a:cubicBezTo>
                  <a:pt x="19519" y="13519"/>
                  <a:pt x="19561" y="13518"/>
                  <a:pt x="19596" y="13494"/>
                </a:cubicBezTo>
                <a:cubicBezTo>
                  <a:pt x="19619" y="13479"/>
                  <a:pt x="19637" y="13423"/>
                  <a:pt x="19621" y="13395"/>
                </a:cubicBezTo>
                <a:cubicBezTo>
                  <a:pt x="19598" y="13355"/>
                  <a:pt x="19534" y="13370"/>
                  <a:pt x="19496" y="13370"/>
                </a:cubicBezTo>
                <a:cubicBezTo>
                  <a:pt x="19454" y="13370"/>
                  <a:pt x="19459" y="13360"/>
                  <a:pt x="19447" y="13395"/>
                </a:cubicBezTo>
              </a:path>
              <a:path w="2432" h="572">
                <a:moveTo>
                  <a:pt x="19993" y="13097"/>
                </a:moveTo>
                <a:cubicBezTo>
                  <a:pt x="19985" y="13097"/>
                  <a:pt x="19976" y="13097"/>
                  <a:pt x="19968" y="13097"/>
                </a:cubicBezTo>
                <a:cubicBezTo>
                  <a:pt x="19968" y="13181"/>
                  <a:pt x="19967" y="13249"/>
                  <a:pt x="19943" y="13320"/>
                </a:cubicBezTo>
                <a:cubicBezTo>
                  <a:pt x="19934" y="13345"/>
                  <a:pt x="19931" y="13396"/>
                  <a:pt x="19918" y="13419"/>
                </a:cubicBezTo>
                <a:cubicBezTo>
                  <a:pt x="19896" y="13458"/>
                  <a:pt x="19893" y="13448"/>
                  <a:pt x="19893" y="13494"/>
                </a:cubicBezTo>
                <a:cubicBezTo>
                  <a:pt x="19951" y="13494"/>
                  <a:pt x="19996" y="13478"/>
                  <a:pt x="20042" y="13469"/>
                </a:cubicBezTo>
                <a:cubicBezTo>
                  <a:pt x="20097" y="13458"/>
                  <a:pt x="20131" y="13444"/>
                  <a:pt x="20191" y="13444"/>
                </a:cubicBezTo>
                <a:cubicBezTo>
                  <a:pt x="20231" y="13444"/>
                  <a:pt x="20245" y="13419"/>
                  <a:pt x="20290" y="13419"/>
                </a:cubicBezTo>
                <a:cubicBezTo>
                  <a:pt x="20315" y="13419"/>
                  <a:pt x="20323" y="13419"/>
                  <a:pt x="20315" y="13395"/>
                </a:cubicBezTo>
              </a:path>
              <a:path w="2432" h="572">
                <a:moveTo>
                  <a:pt x="20191" y="13246"/>
                </a:moveTo>
                <a:cubicBezTo>
                  <a:pt x="20191" y="13309"/>
                  <a:pt x="20184" y="13343"/>
                  <a:pt x="20166" y="13395"/>
                </a:cubicBezTo>
                <a:cubicBezTo>
                  <a:pt x="20155" y="13428"/>
                  <a:pt x="20166" y="13484"/>
                  <a:pt x="20166" y="13519"/>
                </a:cubicBezTo>
                <a:cubicBezTo>
                  <a:pt x="20196" y="13529"/>
                  <a:pt x="20209" y="13561"/>
                  <a:pt x="20241" y="13593"/>
                </a:cubicBezTo>
                <a:cubicBezTo>
                  <a:pt x="20263" y="13570"/>
                  <a:pt x="20268" y="13562"/>
                  <a:pt x="20290" y="1356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Ink 48"/>
          <p:cNvSpPr/>
          <p:nvPr/>
        </p:nvSpPr>
        <p:spPr>
          <a:xfrm>
            <a:off x="7527960" y="4749840"/>
            <a:ext cx="152280" cy="73080"/>
          </a:xfrm>
          <a:custGeom>
            <a:avLst/>
            <a:gdLst/>
            <a:ahLst/>
            <a:rect l="l" t="t" r="r" b="b"/>
            <a:pathLst>
              <a:path w="423" h="200">
                <a:moveTo>
                  <a:pt x="20910" y="13196"/>
                </a:moveTo>
                <a:cubicBezTo>
                  <a:pt x="21042" y="13196"/>
                  <a:pt x="21175" y="13196"/>
                  <a:pt x="21307" y="13196"/>
                </a:cubicBezTo>
                <a:cubicBezTo>
                  <a:pt x="21282" y="13196"/>
                  <a:pt x="21274" y="13196"/>
                  <a:pt x="21282" y="13221"/>
                </a:cubicBezTo>
              </a:path>
              <a:path w="423" h="200">
                <a:moveTo>
                  <a:pt x="20910" y="13395"/>
                </a:moveTo>
                <a:cubicBezTo>
                  <a:pt x="20939" y="13373"/>
                  <a:pt x="20996" y="13352"/>
                  <a:pt x="21034" y="13345"/>
                </a:cubicBezTo>
                <a:cubicBezTo>
                  <a:pt x="21111" y="13331"/>
                  <a:pt x="21204" y="13345"/>
                  <a:pt x="21282" y="13345"/>
                </a:cubicBezTo>
                <a:cubicBezTo>
                  <a:pt x="21294" y="13380"/>
                  <a:pt x="21289" y="13370"/>
                  <a:pt x="21332" y="1337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Ink 49"/>
          <p:cNvSpPr/>
          <p:nvPr/>
        </p:nvSpPr>
        <p:spPr>
          <a:xfrm>
            <a:off x="7823160" y="4697280"/>
            <a:ext cx="865080" cy="258840"/>
          </a:xfrm>
          <a:custGeom>
            <a:avLst/>
            <a:gdLst/>
            <a:ahLst/>
            <a:rect l="l" t="t" r="r" b="b"/>
            <a:pathLst>
              <a:path w="2407" h="721">
                <a:moveTo>
                  <a:pt x="21903" y="13122"/>
                </a:moveTo>
                <a:cubicBezTo>
                  <a:pt x="21895" y="13125"/>
                  <a:pt x="21833" y="13163"/>
                  <a:pt x="21828" y="13171"/>
                </a:cubicBezTo>
                <a:cubicBezTo>
                  <a:pt x="21809" y="13199"/>
                  <a:pt x="21766" y="13258"/>
                  <a:pt x="21754" y="13295"/>
                </a:cubicBezTo>
                <a:cubicBezTo>
                  <a:pt x="21741" y="13333"/>
                  <a:pt x="21729" y="13316"/>
                  <a:pt x="21729" y="13370"/>
                </a:cubicBezTo>
                <a:cubicBezTo>
                  <a:pt x="21729" y="13419"/>
                  <a:pt x="21761" y="13455"/>
                  <a:pt x="21803" y="13469"/>
                </a:cubicBezTo>
                <a:cubicBezTo>
                  <a:pt x="21843" y="13483"/>
                  <a:pt x="21882" y="13494"/>
                  <a:pt x="21927" y="13494"/>
                </a:cubicBezTo>
                <a:cubicBezTo>
                  <a:pt x="22002" y="13494"/>
                  <a:pt x="21995" y="13469"/>
                  <a:pt x="22051" y="13444"/>
                </a:cubicBezTo>
                <a:cubicBezTo>
                  <a:pt x="22111" y="13417"/>
                  <a:pt x="22075" y="13416"/>
                  <a:pt x="22101" y="13370"/>
                </a:cubicBezTo>
                <a:cubicBezTo>
                  <a:pt x="22122" y="13332"/>
                  <a:pt x="22139" y="13292"/>
                  <a:pt x="22151" y="13246"/>
                </a:cubicBezTo>
                <a:cubicBezTo>
                  <a:pt x="22166" y="13188"/>
                  <a:pt x="22136" y="13165"/>
                  <a:pt x="22126" y="13146"/>
                </a:cubicBezTo>
                <a:cubicBezTo>
                  <a:pt x="22102" y="13100"/>
                  <a:pt x="22070" y="13120"/>
                  <a:pt x="22051" y="13097"/>
                </a:cubicBezTo>
                <a:cubicBezTo>
                  <a:pt x="22028" y="13068"/>
                  <a:pt x="22022" y="13057"/>
                  <a:pt x="21977" y="13097"/>
                </a:cubicBezTo>
                <a:cubicBezTo>
                  <a:pt x="21937" y="13132"/>
                  <a:pt x="21927" y="13145"/>
                  <a:pt x="21927" y="13196"/>
                </a:cubicBezTo>
              </a:path>
              <a:path w="2407" h="721">
                <a:moveTo>
                  <a:pt x="22324" y="13395"/>
                </a:moveTo>
                <a:cubicBezTo>
                  <a:pt x="22342" y="13447"/>
                  <a:pt x="22387" y="13373"/>
                  <a:pt x="22324" y="13395"/>
                </a:cubicBezTo>
              </a:path>
              <a:path w="2407" h="721">
                <a:moveTo>
                  <a:pt x="22647" y="13097"/>
                </a:moveTo>
                <a:cubicBezTo>
                  <a:pt x="22637" y="13128"/>
                  <a:pt x="22595" y="13142"/>
                  <a:pt x="22572" y="13171"/>
                </a:cubicBezTo>
                <a:cubicBezTo>
                  <a:pt x="22545" y="13206"/>
                  <a:pt x="22547" y="13203"/>
                  <a:pt x="22547" y="13246"/>
                </a:cubicBezTo>
                <a:cubicBezTo>
                  <a:pt x="22585" y="13259"/>
                  <a:pt x="22584" y="13280"/>
                  <a:pt x="22647" y="13295"/>
                </a:cubicBezTo>
                <a:cubicBezTo>
                  <a:pt x="22679" y="13303"/>
                  <a:pt x="22742" y="13306"/>
                  <a:pt x="22771" y="13320"/>
                </a:cubicBezTo>
                <a:cubicBezTo>
                  <a:pt x="22789" y="13329"/>
                  <a:pt x="22843" y="13366"/>
                  <a:pt x="22845" y="13370"/>
                </a:cubicBezTo>
                <a:cubicBezTo>
                  <a:pt x="22863" y="13407"/>
                  <a:pt x="22841" y="13469"/>
                  <a:pt x="22820" y="13494"/>
                </a:cubicBezTo>
                <a:cubicBezTo>
                  <a:pt x="22799" y="13519"/>
                  <a:pt x="22751" y="13549"/>
                  <a:pt x="22721" y="13568"/>
                </a:cubicBezTo>
                <a:cubicBezTo>
                  <a:pt x="22675" y="13597"/>
                  <a:pt x="22647" y="13593"/>
                  <a:pt x="22597" y="13593"/>
                </a:cubicBezTo>
                <a:cubicBezTo>
                  <a:pt x="22589" y="13593"/>
                  <a:pt x="22580" y="13593"/>
                  <a:pt x="22572" y="13593"/>
                </a:cubicBezTo>
                <a:cubicBezTo>
                  <a:pt x="22572" y="13529"/>
                  <a:pt x="22582" y="13497"/>
                  <a:pt x="22622" y="13444"/>
                </a:cubicBezTo>
                <a:cubicBezTo>
                  <a:pt x="22669" y="13381"/>
                  <a:pt x="22735" y="13340"/>
                  <a:pt x="22796" y="13295"/>
                </a:cubicBezTo>
                <a:cubicBezTo>
                  <a:pt x="22842" y="13260"/>
                  <a:pt x="22869" y="13211"/>
                  <a:pt x="22895" y="13171"/>
                </a:cubicBezTo>
                <a:cubicBezTo>
                  <a:pt x="22920" y="13134"/>
                  <a:pt x="22920" y="13142"/>
                  <a:pt x="22920" y="13097"/>
                </a:cubicBezTo>
                <a:cubicBezTo>
                  <a:pt x="22846" y="13097"/>
                  <a:pt x="22730" y="13078"/>
                  <a:pt x="22696" y="13122"/>
                </a:cubicBezTo>
                <a:cubicBezTo>
                  <a:pt x="22688" y="13130"/>
                  <a:pt x="22679" y="13138"/>
                  <a:pt x="22671" y="13146"/>
                </a:cubicBezTo>
              </a:path>
              <a:path w="2407" h="721">
                <a:moveTo>
                  <a:pt x="23242" y="13097"/>
                </a:moveTo>
                <a:cubicBezTo>
                  <a:pt x="23202" y="13070"/>
                  <a:pt x="23212" y="13102"/>
                  <a:pt x="23168" y="13146"/>
                </a:cubicBezTo>
                <a:cubicBezTo>
                  <a:pt x="23139" y="13175"/>
                  <a:pt x="23088" y="13176"/>
                  <a:pt x="23068" y="13221"/>
                </a:cubicBezTo>
                <a:cubicBezTo>
                  <a:pt x="23053" y="13254"/>
                  <a:pt x="23044" y="13280"/>
                  <a:pt x="23044" y="13320"/>
                </a:cubicBezTo>
                <a:cubicBezTo>
                  <a:pt x="23081" y="13333"/>
                  <a:pt x="23081" y="13355"/>
                  <a:pt x="23143" y="13370"/>
                </a:cubicBezTo>
                <a:cubicBezTo>
                  <a:pt x="23182" y="13380"/>
                  <a:pt x="23258" y="13379"/>
                  <a:pt x="23292" y="13395"/>
                </a:cubicBezTo>
                <a:cubicBezTo>
                  <a:pt x="23308" y="13403"/>
                  <a:pt x="23415" y="13468"/>
                  <a:pt x="23416" y="13469"/>
                </a:cubicBezTo>
                <a:cubicBezTo>
                  <a:pt x="23439" y="13497"/>
                  <a:pt x="23407" y="13575"/>
                  <a:pt x="23391" y="13593"/>
                </a:cubicBezTo>
                <a:cubicBezTo>
                  <a:pt x="23368" y="13619"/>
                  <a:pt x="23323" y="13661"/>
                  <a:pt x="23292" y="13667"/>
                </a:cubicBezTo>
                <a:cubicBezTo>
                  <a:pt x="23252" y="13675"/>
                  <a:pt x="23115" y="13686"/>
                  <a:pt x="23093" y="13643"/>
                </a:cubicBezTo>
                <a:cubicBezTo>
                  <a:pt x="23076" y="13610"/>
                  <a:pt x="23098" y="13565"/>
                  <a:pt x="23118" y="13543"/>
                </a:cubicBezTo>
                <a:cubicBezTo>
                  <a:pt x="23162" y="13495"/>
                  <a:pt x="23187" y="13451"/>
                  <a:pt x="23242" y="13419"/>
                </a:cubicBezTo>
                <a:cubicBezTo>
                  <a:pt x="23308" y="13381"/>
                  <a:pt x="23355" y="13336"/>
                  <a:pt x="23416" y="13295"/>
                </a:cubicBezTo>
                <a:cubicBezTo>
                  <a:pt x="23450" y="13272"/>
                  <a:pt x="23523" y="13230"/>
                  <a:pt x="23540" y="13196"/>
                </a:cubicBezTo>
                <a:cubicBezTo>
                  <a:pt x="23562" y="13153"/>
                  <a:pt x="23532" y="13110"/>
                  <a:pt x="23515" y="13097"/>
                </a:cubicBezTo>
                <a:cubicBezTo>
                  <a:pt x="23480" y="13071"/>
                  <a:pt x="23430" y="13059"/>
                  <a:pt x="23391" y="13047"/>
                </a:cubicBezTo>
                <a:cubicBezTo>
                  <a:pt x="23339" y="13031"/>
                  <a:pt x="23260" y="13045"/>
                  <a:pt x="23242" y="13072"/>
                </a:cubicBezTo>
              </a:path>
              <a:path w="2407" h="721">
                <a:moveTo>
                  <a:pt x="23912" y="13122"/>
                </a:moveTo>
                <a:cubicBezTo>
                  <a:pt x="23857" y="13140"/>
                  <a:pt x="23909" y="13167"/>
                  <a:pt x="23887" y="13221"/>
                </a:cubicBezTo>
                <a:cubicBezTo>
                  <a:pt x="23872" y="13258"/>
                  <a:pt x="23835" y="13316"/>
                  <a:pt x="23812" y="13345"/>
                </a:cubicBezTo>
                <a:cubicBezTo>
                  <a:pt x="23776" y="13391"/>
                  <a:pt x="23765" y="13450"/>
                  <a:pt x="23738" y="13494"/>
                </a:cubicBezTo>
                <a:cubicBezTo>
                  <a:pt x="23713" y="13535"/>
                  <a:pt x="23713" y="13542"/>
                  <a:pt x="23713" y="13593"/>
                </a:cubicBezTo>
                <a:cubicBezTo>
                  <a:pt x="23713" y="13634"/>
                  <a:pt x="23748" y="13639"/>
                  <a:pt x="23788" y="13643"/>
                </a:cubicBezTo>
                <a:cubicBezTo>
                  <a:pt x="23842" y="13648"/>
                  <a:pt x="23883" y="13622"/>
                  <a:pt x="23937" y="13618"/>
                </a:cubicBezTo>
                <a:cubicBezTo>
                  <a:pt x="23989" y="13614"/>
                  <a:pt x="24029" y="13593"/>
                  <a:pt x="24085" y="13593"/>
                </a:cubicBezTo>
                <a:cubicBezTo>
                  <a:pt x="24102" y="13593"/>
                  <a:pt x="24155" y="13568"/>
                  <a:pt x="24110" y="13568"/>
                </a:cubicBezTo>
              </a:path>
              <a:path w="2407" h="721">
                <a:moveTo>
                  <a:pt x="23961" y="13444"/>
                </a:moveTo>
                <a:cubicBezTo>
                  <a:pt x="23952" y="13483"/>
                  <a:pt x="23937" y="13499"/>
                  <a:pt x="23937" y="13543"/>
                </a:cubicBezTo>
                <a:cubicBezTo>
                  <a:pt x="23937" y="13600"/>
                  <a:pt x="23927" y="13621"/>
                  <a:pt x="23912" y="13667"/>
                </a:cubicBezTo>
                <a:cubicBezTo>
                  <a:pt x="23903" y="13693"/>
                  <a:pt x="23912" y="13739"/>
                  <a:pt x="23912" y="1376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Ink 50"/>
          <p:cNvSpPr/>
          <p:nvPr/>
        </p:nvSpPr>
        <p:spPr>
          <a:xfrm>
            <a:off x="6983280" y="5180040"/>
            <a:ext cx="285840" cy="150840"/>
          </a:xfrm>
          <a:custGeom>
            <a:avLst/>
            <a:gdLst/>
            <a:ahLst/>
            <a:rect l="l" t="t" r="r" b="b"/>
            <a:pathLst>
              <a:path w="795" h="422">
                <a:moveTo>
                  <a:pt x="19546" y="14436"/>
                </a:moveTo>
                <a:cubicBezTo>
                  <a:pt x="19510" y="14463"/>
                  <a:pt x="19497" y="14467"/>
                  <a:pt x="19472" y="14486"/>
                </a:cubicBezTo>
                <a:cubicBezTo>
                  <a:pt x="19455" y="14499"/>
                  <a:pt x="19406" y="14564"/>
                  <a:pt x="19397" y="14585"/>
                </a:cubicBezTo>
                <a:cubicBezTo>
                  <a:pt x="19383" y="14616"/>
                  <a:pt x="19390" y="14718"/>
                  <a:pt x="19422" y="14734"/>
                </a:cubicBezTo>
                <a:cubicBezTo>
                  <a:pt x="19454" y="14750"/>
                  <a:pt x="19481" y="14759"/>
                  <a:pt x="19521" y="14759"/>
                </a:cubicBezTo>
                <a:cubicBezTo>
                  <a:pt x="19578" y="14759"/>
                  <a:pt x="19596" y="14747"/>
                  <a:pt x="19621" y="14734"/>
                </a:cubicBezTo>
                <a:cubicBezTo>
                  <a:pt x="19643" y="14723"/>
                  <a:pt x="19689" y="14696"/>
                  <a:pt x="19695" y="14684"/>
                </a:cubicBezTo>
                <a:cubicBezTo>
                  <a:pt x="19711" y="14652"/>
                  <a:pt x="19720" y="14625"/>
                  <a:pt x="19720" y="14585"/>
                </a:cubicBezTo>
                <a:cubicBezTo>
                  <a:pt x="19720" y="14544"/>
                  <a:pt x="19738" y="14458"/>
                  <a:pt x="19695" y="14436"/>
                </a:cubicBezTo>
                <a:cubicBezTo>
                  <a:pt x="19667" y="14422"/>
                  <a:pt x="19665" y="14392"/>
                  <a:pt x="19621" y="14387"/>
                </a:cubicBezTo>
                <a:cubicBezTo>
                  <a:pt x="19579" y="14382"/>
                  <a:pt x="19560" y="14396"/>
                  <a:pt x="19546" y="14436"/>
                </a:cubicBezTo>
                <a:cubicBezTo>
                  <a:pt x="19537" y="14464"/>
                  <a:pt x="19528" y="14482"/>
                  <a:pt x="19521" y="14511"/>
                </a:cubicBezTo>
              </a:path>
              <a:path w="795" h="422">
                <a:moveTo>
                  <a:pt x="19918" y="14660"/>
                </a:moveTo>
                <a:cubicBezTo>
                  <a:pt x="19918" y="14668"/>
                  <a:pt x="19918" y="14676"/>
                  <a:pt x="19918" y="14684"/>
                </a:cubicBezTo>
                <a:cubicBezTo>
                  <a:pt x="19950" y="14674"/>
                  <a:pt x="19957" y="14667"/>
                  <a:pt x="19968" y="14635"/>
                </a:cubicBezTo>
              </a:path>
              <a:path w="795" h="422">
                <a:moveTo>
                  <a:pt x="20166" y="14387"/>
                </a:moveTo>
                <a:cubicBezTo>
                  <a:pt x="20126" y="14440"/>
                  <a:pt x="20160" y="14445"/>
                  <a:pt x="20166" y="14511"/>
                </a:cubicBezTo>
                <a:cubicBezTo>
                  <a:pt x="20172" y="14582"/>
                  <a:pt x="20135" y="14790"/>
                  <a:pt x="20191" y="148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Ink 51"/>
          <p:cNvSpPr/>
          <p:nvPr/>
        </p:nvSpPr>
        <p:spPr>
          <a:xfrm>
            <a:off x="7367760" y="5214960"/>
            <a:ext cx="8856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20687" y="14486"/>
                </a:moveTo>
                <a:cubicBezTo>
                  <a:pt x="20644" y="14497"/>
                  <a:pt x="20606" y="14541"/>
                  <a:pt x="20588" y="14585"/>
                </a:cubicBezTo>
                <a:cubicBezTo>
                  <a:pt x="20572" y="14624"/>
                  <a:pt x="20530" y="14646"/>
                  <a:pt x="20513" y="14684"/>
                </a:cubicBezTo>
                <a:cubicBezTo>
                  <a:pt x="20502" y="14708"/>
                  <a:pt x="20495" y="14733"/>
                  <a:pt x="20489" y="14759"/>
                </a:cubicBezTo>
                <a:cubicBezTo>
                  <a:pt x="20453" y="14771"/>
                  <a:pt x="20453" y="14772"/>
                  <a:pt x="20489" y="14784"/>
                </a:cubicBezTo>
              </a:path>
              <a:path w="249" h="299">
                <a:moveTo>
                  <a:pt x="20489" y="14536"/>
                </a:moveTo>
                <a:cubicBezTo>
                  <a:pt x="20499" y="14576"/>
                  <a:pt x="20498" y="14575"/>
                  <a:pt x="20538" y="14585"/>
                </a:cubicBezTo>
                <a:cubicBezTo>
                  <a:pt x="20551" y="14625"/>
                  <a:pt x="20550" y="14595"/>
                  <a:pt x="20563" y="14635"/>
                </a:cubicBezTo>
                <a:cubicBezTo>
                  <a:pt x="20612" y="14647"/>
                  <a:pt x="20641" y="14694"/>
                  <a:pt x="20687" y="14709"/>
                </a:cubicBezTo>
                <a:cubicBezTo>
                  <a:pt x="20695" y="14709"/>
                  <a:pt x="20704" y="14709"/>
                  <a:pt x="20712" y="1470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Ink 52"/>
          <p:cNvSpPr/>
          <p:nvPr/>
        </p:nvSpPr>
        <p:spPr>
          <a:xfrm>
            <a:off x="7554960" y="5170320"/>
            <a:ext cx="571320" cy="187560"/>
          </a:xfrm>
          <a:custGeom>
            <a:avLst/>
            <a:gdLst/>
            <a:ahLst/>
            <a:rect l="l" t="t" r="r" b="b"/>
            <a:pathLst>
              <a:path w="1588" h="522">
                <a:moveTo>
                  <a:pt x="21134" y="14461"/>
                </a:moveTo>
                <a:cubicBezTo>
                  <a:pt x="21100" y="14486"/>
                  <a:pt x="21060" y="14495"/>
                  <a:pt x="21034" y="14536"/>
                </a:cubicBezTo>
                <a:cubicBezTo>
                  <a:pt x="21005" y="14582"/>
                  <a:pt x="21031" y="14623"/>
                  <a:pt x="21010" y="14660"/>
                </a:cubicBezTo>
                <a:cubicBezTo>
                  <a:pt x="20996" y="14684"/>
                  <a:pt x="20965" y="14723"/>
                  <a:pt x="20985" y="14759"/>
                </a:cubicBezTo>
                <a:cubicBezTo>
                  <a:pt x="21000" y="14785"/>
                  <a:pt x="21057" y="14805"/>
                  <a:pt x="21084" y="14808"/>
                </a:cubicBezTo>
                <a:cubicBezTo>
                  <a:pt x="21136" y="14814"/>
                  <a:pt x="21193" y="14815"/>
                  <a:pt x="21233" y="14784"/>
                </a:cubicBezTo>
                <a:cubicBezTo>
                  <a:pt x="21283" y="14745"/>
                  <a:pt x="21302" y="14740"/>
                  <a:pt x="21307" y="14684"/>
                </a:cubicBezTo>
                <a:cubicBezTo>
                  <a:pt x="21311" y="14641"/>
                  <a:pt x="21344" y="14623"/>
                  <a:pt x="21357" y="14585"/>
                </a:cubicBezTo>
                <a:cubicBezTo>
                  <a:pt x="21369" y="14548"/>
                  <a:pt x="21341" y="14501"/>
                  <a:pt x="21307" y="14486"/>
                </a:cubicBezTo>
                <a:cubicBezTo>
                  <a:pt x="21273" y="14471"/>
                  <a:pt x="21249" y="14461"/>
                  <a:pt x="21208" y="14461"/>
                </a:cubicBezTo>
                <a:cubicBezTo>
                  <a:pt x="21164" y="14461"/>
                  <a:pt x="21159" y="14467"/>
                  <a:pt x="21134" y="14486"/>
                </a:cubicBezTo>
                <a:cubicBezTo>
                  <a:pt x="21094" y="14517"/>
                  <a:pt x="21124" y="14522"/>
                  <a:pt x="21134" y="14560"/>
                </a:cubicBezTo>
              </a:path>
              <a:path w="1588" h="522">
                <a:moveTo>
                  <a:pt x="21456" y="14610"/>
                </a:moveTo>
                <a:cubicBezTo>
                  <a:pt x="21456" y="14674"/>
                  <a:pt x="21485" y="14642"/>
                  <a:pt x="21456" y="14684"/>
                </a:cubicBezTo>
                <a:cubicBezTo>
                  <a:pt x="21479" y="14677"/>
                  <a:pt x="21503" y="14675"/>
                  <a:pt x="21530" y="14660"/>
                </a:cubicBezTo>
                <a:cubicBezTo>
                  <a:pt x="21538" y="14652"/>
                  <a:pt x="21547" y="14643"/>
                  <a:pt x="21555" y="14635"/>
                </a:cubicBezTo>
              </a:path>
              <a:path w="1588" h="522">
                <a:moveTo>
                  <a:pt x="21903" y="14436"/>
                </a:moveTo>
                <a:cubicBezTo>
                  <a:pt x="21859" y="14447"/>
                  <a:pt x="21837" y="14477"/>
                  <a:pt x="21803" y="14511"/>
                </a:cubicBezTo>
                <a:cubicBezTo>
                  <a:pt x="21779" y="14536"/>
                  <a:pt x="21771" y="14544"/>
                  <a:pt x="21754" y="14560"/>
                </a:cubicBezTo>
                <a:cubicBezTo>
                  <a:pt x="21763" y="14586"/>
                  <a:pt x="21772" y="14606"/>
                  <a:pt x="21803" y="14610"/>
                </a:cubicBezTo>
                <a:cubicBezTo>
                  <a:pt x="21846" y="14616"/>
                  <a:pt x="21865" y="14647"/>
                  <a:pt x="21903" y="14660"/>
                </a:cubicBezTo>
                <a:cubicBezTo>
                  <a:pt x="21945" y="14674"/>
                  <a:pt x="21984" y="14713"/>
                  <a:pt x="22002" y="14759"/>
                </a:cubicBezTo>
                <a:cubicBezTo>
                  <a:pt x="22021" y="14807"/>
                  <a:pt x="21946" y="14820"/>
                  <a:pt x="21927" y="14833"/>
                </a:cubicBezTo>
                <a:cubicBezTo>
                  <a:pt x="21881" y="14864"/>
                  <a:pt x="21887" y="14883"/>
                  <a:pt x="21828" y="14883"/>
                </a:cubicBezTo>
                <a:cubicBezTo>
                  <a:pt x="21803" y="14883"/>
                  <a:pt x="21795" y="14883"/>
                  <a:pt x="21779" y="14883"/>
                </a:cubicBezTo>
                <a:cubicBezTo>
                  <a:pt x="21779" y="14844"/>
                  <a:pt x="21809" y="14777"/>
                  <a:pt x="21828" y="14759"/>
                </a:cubicBezTo>
                <a:cubicBezTo>
                  <a:pt x="21871" y="14716"/>
                  <a:pt x="21909" y="14683"/>
                  <a:pt x="21952" y="14635"/>
                </a:cubicBezTo>
                <a:cubicBezTo>
                  <a:pt x="21989" y="14594"/>
                  <a:pt x="22015" y="14551"/>
                  <a:pt x="22051" y="14511"/>
                </a:cubicBezTo>
                <a:cubicBezTo>
                  <a:pt x="22088" y="14470"/>
                  <a:pt x="22101" y="14441"/>
                  <a:pt x="22101" y="14387"/>
                </a:cubicBezTo>
                <a:cubicBezTo>
                  <a:pt x="22101" y="14379"/>
                  <a:pt x="22101" y="14370"/>
                  <a:pt x="22101" y="14362"/>
                </a:cubicBezTo>
                <a:cubicBezTo>
                  <a:pt x="22045" y="14362"/>
                  <a:pt x="22027" y="14375"/>
                  <a:pt x="22002" y="14387"/>
                </a:cubicBezTo>
                <a:cubicBezTo>
                  <a:pt x="21967" y="14404"/>
                  <a:pt x="21977" y="14413"/>
                  <a:pt x="21977" y="14461"/>
                </a:cubicBezTo>
              </a:path>
              <a:path w="1588" h="522">
                <a:moveTo>
                  <a:pt x="22498" y="14511"/>
                </a:moveTo>
                <a:cubicBezTo>
                  <a:pt x="22498" y="14503"/>
                  <a:pt x="22498" y="14494"/>
                  <a:pt x="22498" y="14486"/>
                </a:cubicBezTo>
                <a:cubicBezTo>
                  <a:pt x="22463" y="14510"/>
                  <a:pt x="22476" y="14559"/>
                  <a:pt x="22423" y="14585"/>
                </a:cubicBezTo>
                <a:cubicBezTo>
                  <a:pt x="22416" y="14615"/>
                  <a:pt x="22406" y="14630"/>
                  <a:pt x="22399" y="14660"/>
                </a:cubicBezTo>
                <a:cubicBezTo>
                  <a:pt x="22369" y="14670"/>
                  <a:pt x="22356" y="14702"/>
                  <a:pt x="22324" y="14734"/>
                </a:cubicBezTo>
              </a:path>
              <a:path w="1588" h="522">
                <a:moveTo>
                  <a:pt x="22349" y="14511"/>
                </a:moveTo>
                <a:cubicBezTo>
                  <a:pt x="22357" y="14511"/>
                  <a:pt x="22366" y="14511"/>
                  <a:pt x="22374" y="14511"/>
                </a:cubicBezTo>
                <a:cubicBezTo>
                  <a:pt x="22382" y="14541"/>
                  <a:pt x="22391" y="14555"/>
                  <a:pt x="22399" y="14585"/>
                </a:cubicBezTo>
                <a:cubicBezTo>
                  <a:pt x="22431" y="14602"/>
                  <a:pt x="22464" y="14638"/>
                  <a:pt x="22498" y="14660"/>
                </a:cubicBezTo>
                <a:cubicBezTo>
                  <a:pt x="22526" y="14687"/>
                  <a:pt x="22540" y="14695"/>
                  <a:pt x="22572" y="1468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Ink 53"/>
          <p:cNvSpPr/>
          <p:nvPr/>
        </p:nvSpPr>
        <p:spPr>
          <a:xfrm>
            <a:off x="8251920" y="5197320"/>
            <a:ext cx="419040" cy="125640"/>
          </a:xfrm>
          <a:custGeom>
            <a:avLst/>
            <a:gdLst/>
            <a:ahLst/>
            <a:rect l="l" t="t" r="r" b="b"/>
            <a:pathLst>
              <a:path w="1166" h="349">
                <a:moveTo>
                  <a:pt x="23044" y="14436"/>
                </a:moveTo>
                <a:cubicBezTo>
                  <a:pt x="22998" y="14459"/>
                  <a:pt x="22984" y="14515"/>
                  <a:pt x="22944" y="14560"/>
                </a:cubicBezTo>
                <a:cubicBezTo>
                  <a:pt x="22910" y="14599"/>
                  <a:pt x="22920" y="14632"/>
                  <a:pt x="22920" y="14684"/>
                </a:cubicBezTo>
                <a:cubicBezTo>
                  <a:pt x="22920" y="14735"/>
                  <a:pt x="22915" y="14737"/>
                  <a:pt x="22944" y="14759"/>
                </a:cubicBezTo>
                <a:cubicBezTo>
                  <a:pt x="22982" y="14788"/>
                  <a:pt x="22996" y="14784"/>
                  <a:pt x="23044" y="14784"/>
                </a:cubicBezTo>
                <a:cubicBezTo>
                  <a:pt x="23119" y="14784"/>
                  <a:pt x="23129" y="14759"/>
                  <a:pt x="23192" y="14734"/>
                </a:cubicBezTo>
                <a:cubicBezTo>
                  <a:pt x="23224" y="14721"/>
                  <a:pt x="23255" y="14672"/>
                  <a:pt x="23267" y="14635"/>
                </a:cubicBezTo>
                <a:cubicBezTo>
                  <a:pt x="23285" y="14580"/>
                  <a:pt x="23255" y="14551"/>
                  <a:pt x="23242" y="14511"/>
                </a:cubicBezTo>
                <a:cubicBezTo>
                  <a:pt x="23216" y="14433"/>
                  <a:pt x="23176" y="14485"/>
                  <a:pt x="23118" y="14461"/>
                </a:cubicBezTo>
                <a:cubicBezTo>
                  <a:pt x="23052" y="14434"/>
                  <a:pt x="23084" y="14441"/>
                  <a:pt x="23044" y="14461"/>
                </a:cubicBezTo>
                <a:cubicBezTo>
                  <a:pt x="22989" y="14489"/>
                  <a:pt x="23003" y="14464"/>
                  <a:pt x="23019" y="14511"/>
                </a:cubicBezTo>
              </a:path>
              <a:path w="1166" h="349">
                <a:moveTo>
                  <a:pt x="23416" y="14511"/>
                </a:moveTo>
                <a:cubicBezTo>
                  <a:pt x="23435" y="14568"/>
                  <a:pt x="23443" y="14575"/>
                  <a:pt x="23440" y="14610"/>
                </a:cubicBezTo>
                <a:cubicBezTo>
                  <a:pt x="23480" y="14623"/>
                  <a:pt x="23450" y="14622"/>
                  <a:pt x="23490" y="14635"/>
                </a:cubicBezTo>
                <a:cubicBezTo>
                  <a:pt x="23490" y="14610"/>
                  <a:pt x="23490" y="14602"/>
                  <a:pt x="23515" y="14610"/>
                </a:cubicBezTo>
              </a:path>
              <a:path w="1166" h="349">
                <a:moveTo>
                  <a:pt x="23713" y="14436"/>
                </a:moveTo>
                <a:cubicBezTo>
                  <a:pt x="23756" y="14468"/>
                  <a:pt x="23781" y="14481"/>
                  <a:pt x="23837" y="14486"/>
                </a:cubicBezTo>
                <a:cubicBezTo>
                  <a:pt x="23928" y="14494"/>
                  <a:pt x="24046" y="14379"/>
                  <a:pt x="24085" y="14461"/>
                </a:cubicBezTo>
                <a:cubicBezTo>
                  <a:pt x="24101" y="14494"/>
                  <a:pt x="24081" y="14538"/>
                  <a:pt x="24061" y="14560"/>
                </a:cubicBezTo>
                <a:cubicBezTo>
                  <a:pt x="24027" y="14599"/>
                  <a:pt x="24004" y="14642"/>
                  <a:pt x="23986" y="14684"/>
                </a:cubicBezTo>
                <a:cubicBezTo>
                  <a:pt x="23976" y="14707"/>
                  <a:pt x="23958" y="14804"/>
                  <a:pt x="23912" y="14784"/>
                </a:cubicBezTo>
                <a:cubicBezTo>
                  <a:pt x="23904" y="14776"/>
                  <a:pt x="23895" y="14767"/>
                  <a:pt x="23887" y="1475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Ink 54"/>
          <p:cNvSpPr/>
          <p:nvPr/>
        </p:nvSpPr>
        <p:spPr>
          <a:xfrm>
            <a:off x="6232680" y="5616720"/>
            <a:ext cx="206280" cy="22356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7735" y="15677"/>
                </a:moveTo>
                <a:cubicBezTo>
                  <a:pt x="17757" y="15670"/>
                  <a:pt x="17793" y="15628"/>
                  <a:pt x="17760" y="15652"/>
                </a:cubicBezTo>
                <a:cubicBezTo>
                  <a:pt x="17711" y="15687"/>
                  <a:pt x="17705" y="15764"/>
                  <a:pt x="17661" y="15801"/>
                </a:cubicBezTo>
                <a:cubicBezTo>
                  <a:pt x="17611" y="15843"/>
                  <a:pt x="17552" y="15899"/>
                  <a:pt x="17512" y="15949"/>
                </a:cubicBezTo>
                <a:cubicBezTo>
                  <a:pt x="17474" y="15996"/>
                  <a:pt x="17454" y="16053"/>
                  <a:pt x="17413" y="16098"/>
                </a:cubicBezTo>
                <a:cubicBezTo>
                  <a:pt x="17374" y="16142"/>
                  <a:pt x="17363" y="16166"/>
                  <a:pt x="17363" y="16098"/>
                </a:cubicBezTo>
              </a:path>
              <a:path w="571" h="621">
                <a:moveTo>
                  <a:pt x="17462" y="15602"/>
                </a:moveTo>
                <a:cubicBezTo>
                  <a:pt x="17454" y="15602"/>
                  <a:pt x="17446" y="15602"/>
                  <a:pt x="17438" y="15602"/>
                </a:cubicBezTo>
                <a:cubicBezTo>
                  <a:pt x="17438" y="15638"/>
                  <a:pt x="17444" y="15675"/>
                  <a:pt x="17462" y="15701"/>
                </a:cubicBezTo>
                <a:cubicBezTo>
                  <a:pt x="17493" y="15747"/>
                  <a:pt x="17508" y="15795"/>
                  <a:pt x="17537" y="15850"/>
                </a:cubicBezTo>
                <a:cubicBezTo>
                  <a:pt x="17556" y="15885"/>
                  <a:pt x="17602" y="15965"/>
                  <a:pt x="17611" y="15999"/>
                </a:cubicBezTo>
                <a:cubicBezTo>
                  <a:pt x="17624" y="16050"/>
                  <a:pt x="17622" y="16103"/>
                  <a:pt x="17636" y="16148"/>
                </a:cubicBezTo>
                <a:cubicBezTo>
                  <a:pt x="17642" y="16168"/>
                  <a:pt x="17636" y="16201"/>
                  <a:pt x="17636" y="16222"/>
                </a:cubicBezTo>
                <a:cubicBezTo>
                  <a:pt x="17649" y="16183"/>
                  <a:pt x="17648" y="16212"/>
                  <a:pt x="17661" y="16173"/>
                </a:cubicBezTo>
              </a:path>
              <a:path w="571" h="621">
                <a:moveTo>
                  <a:pt x="17611" y="15602"/>
                </a:moveTo>
                <a:cubicBezTo>
                  <a:pt x="17611" y="15654"/>
                  <a:pt x="17595" y="15677"/>
                  <a:pt x="17587" y="15726"/>
                </a:cubicBezTo>
                <a:cubicBezTo>
                  <a:pt x="17578" y="15781"/>
                  <a:pt x="17547" y="15827"/>
                  <a:pt x="17537" y="15875"/>
                </a:cubicBezTo>
                <a:cubicBezTo>
                  <a:pt x="17522" y="15949"/>
                  <a:pt x="17514" y="15982"/>
                  <a:pt x="17487" y="16049"/>
                </a:cubicBezTo>
                <a:cubicBezTo>
                  <a:pt x="17472" y="16085"/>
                  <a:pt x="17480" y="16087"/>
                  <a:pt x="17438" y="16098"/>
                </a:cubicBezTo>
                <a:cubicBezTo>
                  <a:pt x="17438" y="16123"/>
                  <a:pt x="17438" y="16131"/>
                  <a:pt x="17413" y="16123"/>
                </a:cubicBezTo>
              </a:path>
              <a:path w="571" h="621">
                <a:moveTo>
                  <a:pt x="17314" y="15850"/>
                </a:moveTo>
                <a:cubicBezTo>
                  <a:pt x="17367" y="15809"/>
                  <a:pt x="17371" y="15846"/>
                  <a:pt x="17438" y="15850"/>
                </a:cubicBezTo>
                <a:cubicBezTo>
                  <a:pt x="17526" y="15855"/>
                  <a:pt x="17602" y="15906"/>
                  <a:pt x="17686" y="15925"/>
                </a:cubicBezTo>
                <a:cubicBezTo>
                  <a:pt x="17729" y="15935"/>
                  <a:pt x="17764" y="15949"/>
                  <a:pt x="17810" y="15949"/>
                </a:cubicBezTo>
                <a:cubicBezTo>
                  <a:pt x="17852" y="15949"/>
                  <a:pt x="17848" y="15959"/>
                  <a:pt x="17859" y="15925"/>
                </a:cubicBezTo>
                <a:cubicBezTo>
                  <a:pt x="17859" y="15892"/>
                  <a:pt x="17851" y="15884"/>
                  <a:pt x="17810" y="15900"/>
                </a:cubicBezTo>
              </a:path>
              <a:path w="571" h="621">
                <a:moveTo>
                  <a:pt x="17363" y="15701"/>
                </a:moveTo>
                <a:cubicBezTo>
                  <a:pt x="17363" y="15797"/>
                  <a:pt x="17371" y="15891"/>
                  <a:pt x="17388" y="15974"/>
                </a:cubicBezTo>
                <a:cubicBezTo>
                  <a:pt x="17398" y="16026"/>
                  <a:pt x="17402" y="16185"/>
                  <a:pt x="17363" y="16197"/>
                </a:cubicBezTo>
              </a:path>
              <a:path w="571" h="621">
                <a:moveTo>
                  <a:pt x="17388" y="16049"/>
                </a:moveTo>
                <a:cubicBezTo>
                  <a:pt x="17440" y="15975"/>
                  <a:pt x="17525" y="15938"/>
                  <a:pt x="17611" y="15900"/>
                </a:cubicBezTo>
                <a:cubicBezTo>
                  <a:pt x="17663" y="15877"/>
                  <a:pt x="17736" y="15841"/>
                  <a:pt x="17785" y="15825"/>
                </a:cubicBezTo>
                <a:cubicBezTo>
                  <a:pt x="17819" y="15814"/>
                  <a:pt x="17846" y="15808"/>
                  <a:pt x="17859" y="15801"/>
                </a:cubicBezTo>
                <a:cubicBezTo>
                  <a:pt x="17867" y="15801"/>
                  <a:pt x="17876" y="15801"/>
                  <a:pt x="17884" y="158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Ink 55"/>
          <p:cNvSpPr/>
          <p:nvPr/>
        </p:nvSpPr>
        <p:spPr>
          <a:xfrm>
            <a:off x="6643800" y="5634000"/>
            <a:ext cx="13500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8455" y="15652"/>
                </a:moveTo>
                <a:cubicBezTo>
                  <a:pt x="18532" y="15652"/>
                  <a:pt x="18588" y="15655"/>
                  <a:pt x="18653" y="15677"/>
                </a:cubicBezTo>
                <a:cubicBezTo>
                  <a:pt x="18686" y="15688"/>
                  <a:pt x="18742" y="15677"/>
                  <a:pt x="18777" y="15677"/>
                </a:cubicBezTo>
                <a:cubicBezTo>
                  <a:pt x="18777" y="15705"/>
                  <a:pt x="18774" y="15715"/>
                  <a:pt x="18752" y="15726"/>
                </a:cubicBezTo>
              </a:path>
              <a:path w="373" h="249">
                <a:moveTo>
                  <a:pt x="18455" y="15875"/>
                </a:moveTo>
                <a:cubicBezTo>
                  <a:pt x="18455" y="15883"/>
                  <a:pt x="18455" y="15892"/>
                  <a:pt x="18455" y="15900"/>
                </a:cubicBezTo>
                <a:cubicBezTo>
                  <a:pt x="18530" y="15900"/>
                  <a:pt x="18590" y="15888"/>
                  <a:pt x="18653" y="15875"/>
                </a:cubicBezTo>
                <a:cubicBezTo>
                  <a:pt x="18680" y="15869"/>
                  <a:pt x="18723" y="15875"/>
                  <a:pt x="18752" y="15875"/>
                </a:cubicBezTo>
                <a:cubicBezTo>
                  <a:pt x="18764" y="15840"/>
                  <a:pt x="18759" y="15850"/>
                  <a:pt x="18802" y="15850"/>
                </a:cubicBezTo>
                <a:cubicBezTo>
                  <a:pt x="18802" y="15875"/>
                  <a:pt x="18802" y="15883"/>
                  <a:pt x="18827" y="158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Ink 56"/>
          <p:cNvSpPr/>
          <p:nvPr/>
        </p:nvSpPr>
        <p:spPr>
          <a:xfrm>
            <a:off x="6956280" y="5572080"/>
            <a:ext cx="884520" cy="250920"/>
          </a:xfrm>
          <a:custGeom>
            <a:avLst/>
            <a:gdLst/>
            <a:ahLst/>
            <a:rect l="l" t="t" r="r" b="b"/>
            <a:pathLst>
              <a:path w="2457" h="696">
                <a:moveTo>
                  <a:pt x="19596" y="15503"/>
                </a:moveTo>
                <a:cubicBezTo>
                  <a:pt x="19566" y="15513"/>
                  <a:pt x="19555" y="15524"/>
                  <a:pt x="19521" y="15553"/>
                </a:cubicBezTo>
                <a:cubicBezTo>
                  <a:pt x="19477" y="15591"/>
                  <a:pt x="19439" y="15636"/>
                  <a:pt x="19397" y="15677"/>
                </a:cubicBezTo>
                <a:cubicBezTo>
                  <a:pt x="19368" y="15705"/>
                  <a:pt x="19335" y="15741"/>
                  <a:pt x="19323" y="15776"/>
                </a:cubicBezTo>
                <a:cubicBezTo>
                  <a:pt x="19303" y="15835"/>
                  <a:pt x="19333" y="15904"/>
                  <a:pt x="19348" y="15949"/>
                </a:cubicBezTo>
                <a:cubicBezTo>
                  <a:pt x="19358" y="15978"/>
                  <a:pt x="19381" y="15994"/>
                  <a:pt x="19422" y="15999"/>
                </a:cubicBezTo>
                <a:cubicBezTo>
                  <a:pt x="19493" y="16007"/>
                  <a:pt x="19487" y="16019"/>
                  <a:pt x="19546" y="15999"/>
                </a:cubicBezTo>
                <a:cubicBezTo>
                  <a:pt x="19585" y="15986"/>
                  <a:pt x="19638" y="15970"/>
                  <a:pt x="19670" y="15949"/>
                </a:cubicBezTo>
                <a:cubicBezTo>
                  <a:pt x="19710" y="15923"/>
                  <a:pt x="19730" y="15886"/>
                  <a:pt x="19745" y="15850"/>
                </a:cubicBezTo>
                <a:cubicBezTo>
                  <a:pt x="19765" y="15802"/>
                  <a:pt x="19774" y="15741"/>
                  <a:pt x="19794" y="15701"/>
                </a:cubicBezTo>
                <a:cubicBezTo>
                  <a:pt x="19811" y="15668"/>
                  <a:pt x="19835" y="15622"/>
                  <a:pt x="19819" y="15577"/>
                </a:cubicBezTo>
                <a:cubicBezTo>
                  <a:pt x="19804" y="15536"/>
                  <a:pt x="19761" y="15487"/>
                  <a:pt x="19720" y="15478"/>
                </a:cubicBezTo>
                <a:cubicBezTo>
                  <a:pt x="19658" y="15465"/>
                  <a:pt x="19627" y="15489"/>
                  <a:pt x="19571" y="15503"/>
                </a:cubicBezTo>
                <a:cubicBezTo>
                  <a:pt x="19557" y="15507"/>
                  <a:pt x="19504" y="15550"/>
                  <a:pt x="19496" y="15577"/>
                </a:cubicBezTo>
                <a:cubicBezTo>
                  <a:pt x="19481" y="15629"/>
                  <a:pt x="19492" y="15688"/>
                  <a:pt x="19521" y="15726"/>
                </a:cubicBezTo>
              </a:path>
              <a:path w="2457" h="696">
                <a:moveTo>
                  <a:pt x="19943" y="15925"/>
                </a:moveTo>
                <a:cubicBezTo>
                  <a:pt x="19912" y="15935"/>
                  <a:pt x="19908" y="15945"/>
                  <a:pt x="19918" y="15949"/>
                </a:cubicBezTo>
                <a:cubicBezTo>
                  <a:pt x="19926" y="15949"/>
                  <a:pt x="19935" y="15949"/>
                  <a:pt x="19943" y="15949"/>
                </a:cubicBezTo>
              </a:path>
              <a:path w="2457" h="696">
                <a:moveTo>
                  <a:pt x="20439" y="15602"/>
                </a:moveTo>
                <a:cubicBezTo>
                  <a:pt x="20423" y="15607"/>
                  <a:pt x="20378" y="15625"/>
                  <a:pt x="20365" y="15652"/>
                </a:cubicBezTo>
                <a:cubicBezTo>
                  <a:pt x="20351" y="15681"/>
                  <a:pt x="20358" y="15723"/>
                  <a:pt x="20340" y="15751"/>
                </a:cubicBezTo>
                <a:cubicBezTo>
                  <a:pt x="20311" y="15795"/>
                  <a:pt x="20315" y="15817"/>
                  <a:pt x="20315" y="15875"/>
                </a:cubicBezTo>
                <a:cubicBezTo>
                  <a:pt x="20315" y="15909"/>
                  <a:pt x="20302" y="15955"/>
                  <a:pt x="20340" y="15974"/>
                </a:cubicBezTo>
                <a:cubicBezTo>
                  <a:pt x="20367" y="15987"/>
                  <a:pt x="20410" y="16014"/>
                  <a:pt x="20439" y="16024"/>
                </a:cubicBezTo>
                <a:cubicBezTo>
                  <a:pt x="20480" y="16038"/>
                  <a:pt x="20535" y="16024"/>
                  <a:pt x="20563" y="15999"/>
                </a:cubicBezTo>
                <a:cubicBezTo>
                  <a:pt x="20596" y="15970"/>
                  <a:pt x="20623" y="15970"/>
                  <a:pt x="20638" y="15925"/>
                </a:cubicBezTo>
                <a:cubicBezTo>
                  <a:pt x="20654" y="15877"/>
                  <a:pt x="20687" y="15858"/>
                  <a:pt x="20687" y="15801"/>
                </a:cubicBezTo>
                <a:cubicBezTo>
                  <a:pt x="20687" y="15767"/>
                  <a:pt x="20733" y="15739"/>
                  <a:pt x="20712" y="15701"/>
                </a:cubicBezTo>
                <a:cubicBezTo>
                  <a:pt x="20692" y="15666"/>
                  <a:pt x="20700" y="15616"/>
                  <a:pt x="20662" y="15602"/>
                </a:cubicBezTo>
                <a:cubicBezTo>
                  <a:pt x="20616" y="15585"/>
                  <a:pt x="20614" y="15577"/>
                  <a:pt x="20563" y="15577"/>
                </a:cubicBezTo>
                <a:cubicBezTo>
                  <a:pt x="20512" y="15577"/>
                  <a:pt x="20505" y="15588"/>
                  <a:pt x="20464" y="15602"/>
                </a:cubicBezTo>
                <a:cubicBezTo>
                  <a:pt x="20427" y="15614"/>
                  <a:pt x="20369" y="15644"/>
                  <a:pt x="20365" y="15677"/>
                </a:cubicBezTo>
                <a:cubicBezTo>
                  <a:pt x="20365" y="15701"/>
                  <a:pt x="20365" y="15710"/>
                  <a:pt x="20365" y="15726"/>
                </a:cubicBezTo>
              </a:path>
              <a:path w="2457" h="696">
                <a:moveTo>
                  <a:pt x="21059" y="15577"/>
                </a:moveTo>
                <a:cubicBezTo>
                  <a:pt x="21117" y="15577"/>
                  <a:pt x="21175" y="15577"/>
                  <a:pt x="21233" y="15577"/>
                </a:cubicBezTo>
              </a:path>
              <a:path w="2457" h="696">
                <a:moveTo>
                  <a:pt x="21010" y="15677"/>
                </a:moveTo>
                <a:cubicBezTo>
                  <a:pt x="20986" y="15708"/>
                  <a:pt x="20964" y="15762"/>
                  <a:pt x="20960" y="15801"/>
                </a:cubicBezTo>
                <a:cubicBezTo>
                  <a:pt x="20960" y="15825"/>
                  <a:pt x="20960" y="15834"/>
                  <a:pt x="20960" y="15850"/>
                </a:cubicBezTo>
                <a:cubicBezTo>
                  <a:pt x="21033" y="15850"/>
                  <a:pt x="21095" y="15855"/>
                  <a:pt x="21134" y="15875"/>
                </a:cubicBezTo>
                <a:cubicBezTo>
                  <a:pt x="21159" y="15888"/>
                  <a:pt x="21178" y="15907"/>
                  <a:pt x="21183" y="15949"/>
                </a:cubicBezTo>
                <a:cubicBezTo>
                  <a:pt x="21189" y="16000"/>
                  <a:pt x="21172" y="16009"/>
                  <a:pt x="21158" y="16049"/>
                </a:cubicBezTo>
                <a:cubicBezTo>
                  <a:pt x="21145" y="16086"/>
                  <a:pt x="21126" y="16101"/>
                  <a:pt x="21109" y="16123"/>
                </a:cubicBezTo>
                <a:cubicBezTo>
                  <a:pt x="21090" y="16148"/>
                  <a:pt x="21014" y="16166"/>
                  <a:pt x="20985" y="16173"/>
                </a:cubicBezTo>
                <a:cubicBezTo>
                  <a:pt x="20934" y="16186"/>
                  <a:pt x="20863" y="16173"/>
                  <a:pt x="20811" y="16173"/>
                </a:cubicBezTo>
                <a:cubicBezTo>
                  <a:pt x="20855" y="16129"/>
                  <a:pt x="20878" y="16123"/>
                  <a:pt x="20935" y="16098"/>
                </a:cubicBezTo>
              </a:path>
              <a:path w="2457" h="696">
                <a:moveTo>
                  <a:pt x="21654" y="15602"/>
                </a:moveTo>
                <a:cubicBezTo>
                  <a:pt x="21623" y="15602"/>
                  <a:pt x="21588" y="15610"/>
                  <a:pt x="21580" y="15627"/>
                </a:cubicBezTo>
                <a:cubicBezTo>
                  <a:pt x="21565" y="15657"/>
                  <a:pt x="21561" y="15666"/>
                  <a:pt x="21530" y="15701"/>
                </a:cubicBezTo>
                <a:cubicBezTo>
                  <a:pt x="21507" y="15727"/>
                  <a:pt x="21470" y="15749"/>
                  <a:pt x="21456" y="15776"/>
                </a:cubicBezTo>
                <a:cubicBezTo>
                  <a:pt x="21440" y="15808"/>
                  <a:pt x="21431" y="15835"/>
                  <a:pt x="21431" y="15875"/>
                </a:cubicBezTo>
                <a:cubicBezTo>
                  <a:pt x="21431" y="15915"/>
                  <a:pt x="21406" y="15929"/>
                  <a:pt x="21406" y="15974"/>
                </a:cubicBezTo>
                <a:cubicBezTo>
                  <a:pt x="21406" y="16024"/>
                  <a:pt x="21417" y="16033"/>
                  <a:pt x="21431" y="16073"/>
                </a:cubicBezTo>
                <a:cubicBezTo>
                  <a:pt x="21441" y="16103"/>
                  <a:pt x="21433" y="16137"/>
                  <a:pt x="21456" y="16148"/>
                </a:cubicBezTo>
                <a:cubicBezTo>
                  <a:pt x="21486" y="16163"/>
                  <a:pt x="21547" y="16170"/>
                  <a:pt x="21580" y="16173"/>
                </a:cubicBezTo>
                <a:cubicBezTo>
                  <a:pt x="21631" y="16177"/>
                  <a:pt x="21639" y="16161"/>
                  <a:pt x="21679" y="16148"/>
                </a:cubicBezTo>
                <a:cubicBezTo>
                  <a:pt x="21719" y="16134"/>
                  <a:pt x="21748" y="16122"/>
                  <a:pt x="21754" y="16073"/>
                </a:cubicBezTo>
                <a:cubicBezTo>
                  <a:pt x="21757" y="16046"/>
                  <a:pt x="21802" y="16041"/>
                  <a:pt x="21779" y="15999"/>
                </a:cubicBezTo>
                <a:cubicBezTo>
                  <a:pt x="21761" y="15966"/>
                  <a:pt x="21742" y="15937"/>
                  <a:pt x="21704" y="15925"/>
                </a:cubicBezTo>
                <a:cubicBezTo>
                  <a:pt x="21669" y="15914"/>
                  <a:pt x="21616" y="15902"/>
                  <a:pt x="21580" y="15900"/>
                </a:cubicBezTo>
                <a:cubicBezTo>
                  <a:pt x="21516" y="15896"/>
                  <a:pt x="21504" y="15915"/>
                  <a:pt x="21456" y="15925"/>
                </a:cubicBezTo>
                <a:cubicBezTo>
                  <a:pt x="21429" y="15931"/>
                  <a:pt x="21386" y="15925"/>
                  <a:pt x="21357" y="159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Ink 57"/>
          <p:cNvSpPr/>
          <p:nvPr/>
        </p:nvSpPr>
        <p:spPr>
          <a:xfrm>
            <a:off x="2384280" y="6296040"/>
            <a:ext cx="21456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6772" y="17537"/>
                </a:moveTo>
                <a:cubicBezTo>
                  <a:pt x="6728" y="17537"/>
                  <a:pt x="6722" y="17543"/>
                  <a:pt x="6697" y="17562"/>
                </a:cubicBezTo>
                <a:cubicBezTo>
                  <a:pt x="6671" y="17582"/>
                  <a:pt x="6651" y="17630"/>
                  <a:pt x="6648" y="17661"/>
                </a:cubicBezTo>
                <a:cubicBezTo>
                  <a:pt x="6644" y="17702"/>
                  <a:pt x="6623" y="17715"/>
                  <a:pt x="6623" y="17760"/>
                </a:cubicBezTo>
                <a:cubicBezTo>
                  <a:pt x="6623" y="17825"/>
                  <a:pt x="6605" y="17911"/>
                  <a:pt x="6648" y="17959"/>
                </a:cubicBezTo>
                <a:cubicBezTo>
                  <a:pt x="6686" y="18002"/>
                  <a:pt x="6707" y="17961"/>
                  <a:pt x="6747" y="17983"/>
                </a:cubicBezTo>
                <a:cubicBezTo>
                  <a:pt x="6789" y="18006"/>
                  <a:pt x="6795" y="18008"/>
                  <a:pt x="6846" y="18008"/>
                </a:cubicBezTo>
                <a:cubicBezTo>
                  <a:pt x="6897" y="18008"/>
                  <a:pt x="6904" y="18006"/>
                  <a:pt x="6945" y="17983"/>
                </a:cubicBezTo>
                <a:cubicBezTo>
                  <a:pt x="6999" y="17953"/>
                  <a:pt x="7043" y="17948"/>
                  <a:pt x="7094" y="17909"/>
                </a:cubicBezTo>
                <a:cubicBezTo>
                  <a:pt x="7133" y="17880"/>
                  <a:pt x="7148" y="17842"/>
                  <a:pt x="7169" y="17810"/>
                </a:cubicBezTo>
                <a:cubicBezTo>
                  <a:pt x="7191" y="17776"/>
                  <a:pt x="7214" y="17726"/>
                  <a:pt x="7218" y="17686"/>
                </a:cubicBezTo>
                <a:cubicBezTo>
                  <a:pt x="7223" y="17642"/>
                  <a:pt x="7221" y="17619"/>
                  <a:pt x="7193" y="17587"/>
                </a:cubicBezTo>
                <a:cubicBezTo>
                  <a:pt x="7156" y="17545"/>
                  <a:pt x="7179" y="17537"/>
                  <a:pt x="7119" y="17537"/>
                </a:cubicBezTo>
                <a:cubicBezTo>
                  <a:pt x="7073" y="17537"/>
                  <a:pt x="7061" y="17517"/>
                  <a:pt x="7020" y="17512"/>
                </a:cubicBezTo>
                <a:cubicBezTo>
                  <a:pt x="6980" y="17507"/>
                  <a:pt x="6966" y="17487"/>
                  <a:pt x="6921" y="17487"/>
                </a:cubicBezTo>
                <a:cubicBezTo>
                  <a:pt x="6866" y="17487"/>
                  <a:pt x="6850" y="17498"/>
                  <a:pt x="6796" y="17512"/>
                </a:cubicBezTo>
                <a:cubicBezTo>
                  <a:pt x="6755" y="17522"/>
                  <a:pt x="6727" y="17541"/>
                  <a:pt x="6722" y="17587"/>
                </a:cubicBezTo>
                <a:cubicBezTo>
                  <a:pt x="6719" y="17611"/>
                  <a:pt x="6722" y="17637"/>
                  <a:pt x="6722" y="17661"/>
                </a:cubicBezTo>
                <a:cubicBezTo>
                  <a:pt x="6760" y="17674"/>
                  <a:pt x="6743" y="17686"/>
                  <a:pt x="6796" y="17686"/>
                </a:cubicBezTo>
                <a:cubicBezTo>
                  <a:pt x="6867" y="17686"/>
                  <a:pt x="6821" y="17691"/>
                  <a:pt x="6846" y="17735"/>
                </a:cubicBezTo>
                <a:cubicBezTo>
                  <a:pt x="6866" y="17770"/>
                  <a:pt x="6903" y="17796"/>
                  <a:pt x="6921" y="17810"/>
                </a:cubicBezTo>
                <a:cubicBezTo>
                  <a:pt x="6955" y="17836"/>
                  <a:pt x="6982" y="17871"/>
                  <a:pt x="7020" y="17884"/>
                </a:cubicBezTo>
                <a:cubicBezTo>
                  <a:pt x="7066" y="17899"/>
                  <a:pt x="7078" y="17861"/>
                  <a:pt x="7094" y="17909"/>
                </a:cubicBezTo>
                <a:cubicBezTo>
                  <a:pt x="7158" y="17888"/>
                  <a:pt x="7086" y="17874"/>
                  <a:pt x="7069" y="17835"/>
                </a:cubicBezTo>
                <a:cubicBezTo>
                  <a:pt x="7054" y="17802"/>
                  <a:pt x="7045" y="17775"/>
                  <a:pt x="7045" y="17735"/>
                </a:cubicBezTo>
                <a:cubicBezTo>
                  <a:pt x="7045" y="17690"/>
                  <a:pt x="7015" y="17676"/>
                  <a:pt x="6995" y="17661"/>
                </a:cubicBezTo>
                <a:cubicBezTo>
                  <a:pt x="6956" y="17632"/>
                  <a:pt x="6992" y="17579"/>
                  <a:pt x="6970" y="17562"/>
                </a:cubicBezTo>
                <a:cubicBezTo>
                  <a:pt x="6945" y="17562"/>
                  <a:pt x="6937" y="17562"/>
                  <a:pt x="6921" y="17562"/>
                </a:cubicBezTo>
                <a:cubicBezTo>
                  <a:pt x="6921" y="17595"/>
                  <a:pt x="6886" y="17639"/>
                  <a:pt x="6896" y="17661"/>
                </a:cubicBezTo>
                <a:cubicBezTo>
                  <a:pt x="6917" y="17708"/>
                  <a:pt x="6921" y="17725"/>
                  <a:pt x="6921" y="17785"/>
                </a:cubicBezTo>
                <a:cubicBezTo>
                  <a:pt x="6921" y="17838"/>
                  <a:pt x="6953" y="17835"/>
                  <a:pt x="6995" y="17835"/>
                </a:cubicBezTo>
                <a:cubicBezTo>
                  <a:pt x="7008" y="17835"/>
                  <a:pt x="7058" y="17807"/>
                  <a:pt x="7069" y="17785"/>
                </a:cubicBezTo>
                <a:cubicBezTo>
                  <a:pt x="7085" y="17751"/>
                  <a:pt x="7082" y="17771"/>
                  <a:pt x="7094" y="17735"/>
                </a:cubicBezTo>
                <a:cubicBezTo>
                  <a:pt x="7094" y="17711"/>
                  <a:pt x="7094" y="17702"/>
                  <a:pt x="7094" y="17686"/>
                </a:cubicBezTo>
                <a:cubicBezTo>
                  <a:pt x="7044" y="17686"/>
                  <a:pt x="7012" y="17704"/>
                  <a:pt x="6970" y="17735"/>
                </a:cubicBezTo>
                <a:cubicBezTo>
                  <a:pt x="6927" y="17767"/>
                  <a:pt x="6908" y="17810"/>
                  <a:pt x="6871" y="17835"/>
                </a:cubicBezTo>
                <a:cubicBezTo>
                  <a:pt x="6813" y="17874"/>
                  <a:pt x="6780" y="17880"/>
                  <a:pt x="6772" y="17959"/>
                </a:cubicBezTo>
                <a:cubicBezTo>
                  <a:pt x="6770" y="17983"/>
                  <a:pt x="6772" y="18009"/>
                  <a:pt x="6772" y="18033"/>
                </a:cubicBezTo>
                <a:cubicBezTo>
                  <a:pt x="6827" y="18033"/>
                  <a:pt x="6847" y="18040"/>
                  <a:pt x="6871" y="18008"/>
                </a:cubicBezTo>
                <a:cubicBezTo>
                  <a:pt x="6894" y="17978"/>
                  <a:pt x="6918" y="17947"/>
                  <a:pt x="6921" y="17909"/>
                </a:cubicBezTo>
                <a:cubicBezTo>
                  <a:pt x="6926" y="17839"/>
                  <a:pt x="6945" y="17784"/>
                  <a:pt x="6945" y="17711"/>
                </a:cubicBezTo>
                <a:cubicBezTo>
                  <a:pt x="6945" y="17666"/>
                  <a:pt x="6922" y="17644"/>
                  <a:pt x="6896" y="17611"/>
                </a:cubicBezTo>
                <a:cubicBezTo>
                  <a:pt x="6843" y="17611"/>
                  <a:pt x="6834" y="17623"/>
                  <a:pt x="6796" y="17661"/>
                </a:cubicBezTo>
                <a:cubicBezTo>
                  <a:pt x="6756" y="17702"/>
                  <a:pt x="6768" y="17722"/>
                  <a:pt x="6747" y="17760"/>
                </a:cubicBezTo>
                <a:cubicBezTo>
                  <a:pt x="6727" y="17796"/>
                  <a:pt x="6714" y="17813"/>
                  <a:pt x="6697" y="17835"/>
                </a:cubicBezTo>
                <a:cubicBezTo>
                  <a:pt x="6673" y="17866"/>
                  <a:pt x="6667" y="17894"/>
                  <a:pt x="6697" y="17909"/>
                </a:cubicBezTo>
                <a:cubicBezTo>
                  <a:pt x="6718" y="17919"/>
                  <a:pt x="6774" y="17932"/>
                  <a:pt x="6796" y="17934"/>
                </a:cubicBezTo>
                <a:cubicBezTo>
                  <a:pt x="6804" y="17934"/>
                  <a:pt x="6813" y="17934"/>
                  <a:pt x="6821" y="17934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Ink 58"/>
          <p:cNvSpPr/>
          <p:nvPr/>
        </p:nvSpPr>
        <p:spPr>
          <a:xfrm>
            <a:off x="2894040" y="6313320"/>
            <a:ext cx="749160" cy="223920"/>
          </a:xfrm>
          <a:custGeom>
            <a:avLst/>
            <a:gdLst/>
            <a:ahLst/>
            <a:rect l="l" t="t" r="r" b="b"/>
            <a:pathLst>
              <a:path w="2084" h="621">
                <a:moveTo>
                  <a:pt x="8458" y="17537"/>
                </a:moveTo>
                <a:cubicBezTo>
                  <a:pt x="8421" y="17537"/>
                  <a:pt x="8363" y="17547"/>
                  <a:pt x="8334" y="17562"/>
                </a:cubicBezTo>
                <a:cubicBezTo>
                  <a:pt x="8296" y="17581"/>
                  <a:pt x="8241" y="17632"/>
                  <a:pt x="8210" y="17661"/>
                </a:cubicBezTo>
                <a:cubicBezTo>
                  <a:pt x="8148" y="17720"/>
                  <a:pt x="8119" y="17778"/>
                  <a:pt x="8086" y="17835"/>
                </a:cubicBezTo>
                <a:cubicBezTo>
                  <a:pt x="8053" y="17893"/>
                  <a:pt x="8037" y="17912"/>
                  <a:pt x="8037" y="17983"/>
                </a:cubicBezTo>
                <a:cubicBezTo>
                  <a:pt x="8037" y="18010"/>
                  <a:pt x="8081" y="18074"/>
                  <a:pt x="8111" y="18083"/>
                </a:cubicBezTo>
                <a:cubicBezTo>
                  <a:pt x="8172" y="18100"/>
                  <a:pt x="8307" y="18093"/>
                  <a:pt x="8359" y="18058"/>
                </a:cubicBezTo>
                <a:cubicBezTo>
                  <a:pt x="8405" y="18027"/>
                  <a:pt x="8423" y="17974"/>
                  <a:pt x="8458" y="17934"/>
                </a:cubicBezTo>
                <a:cubicBezTo>
                  <a:pt x="8482" y="17907"/>
                  <a:pt x="8483" y="17799"/>
                  <a:pt x="8483" y="17835"/>
                </a:cubicBezTo>
                <a:cubicBezTo>
                  <a:pt x="8483" y="17917"/>
                  <a:pt x="8483" y="18133"/>
                  <a:pt x="8483" y="18132"/>
                </a:cubicBezTo>
              </a:path>
              <a:path w="2084" h="621">
                <a:moveTo>
                  <a:pt x="8334" y="17909"/>
                </a:moveTo>
                <a:cubicBezTo>
                  <a:pt x="8391" y="17909"/>
                  <a:pt x="8412" y="17919"/>
                  <a:pt x="8458" y="17934"/>
                </a:cubicBezTo>
                <a:cubicBezTo>
                  <a:pt x="8522" y="17956"/>
                  <a:pt x="8606" y="17926"/>
                  <a:pt x="8657" y="17909"/>
                </a:cubicBezTo>
                <a:cubicBezTo>
                  <a:pt x="8685" y="17909"/>
                  <a:pt x="8691" y="17907"/>
                  <a:pt x="8657" y="17884"/>
                </a:cubicBezTo>
              </a:path>
              <a:path w="2084" h="621">
                <a:moveTo>
                  <a:pt x="8781" y="17859"/>
                </a:moveTo>
                <a:cubicBezTo>
                  <a:pt x="8810" y="17897"/>
                  <a:pt x="8806" y="17910"/>
                  <a:pt x="8806" y="17959"/>
                </a:cubicBezTo>
                <a:cubicBezTo>
                  <a:pt x="8806" y="18004"/>
                  <a:pt x="8788" y="18012"/>
                  <a:pt x="8830" y="17983"/>
                </a:cubicBezTo>
              </a:path>
              <a:path w="2084" h="621">
                <a:moveTo>
                  <a:pt x="8905" y="17686"/>
                </a:moveTo>
                <a:cubicBezTo>
                  <a:pt x="8905" y="17711"/>
                  <a:pt x="8905" y="17719"/>
                  <a:pt x="8905" y="17686"/>
                </a:cubicBezTo>
              </a:path>
              <a:path w="2084" h="621">
                <a:moveTo>
                  <a:pt x="8905" y="17686"/>
                </a:moveTo>
                <a:cubicBezTo>
                  <a:pt x="8957" y="17808"/>
                  <a:pt x="8965" y="17890"/>
                  <a:pt x="9004" y="17983"/>
                </a:cubicBezTo>
                <a:cubicBezTo>
                  <a:pt x="9027" y="18037"/>
                  <a:pt x="9035" y="18054"/>
                  <a:pt x="9079" y="18083"/>
                </a:cubicBezTo>
                <a:cubicBezTo>
                  <a:pt x="9079" y="18083"/>
                  <a:pt x="9124" y="18139"/>
                  <a:pt x="9153" y="18107"/>
                </a:cubicBezTo>
                <a:cubicBezTo>
                  <a:pt x="9179" y="18079"/>
                  <a:pt x="9216" y="18002"/>
                  <a:pt x="9227" y="17959"/>
                </a:cubicBezTo>
                <a:cubicBezTo>
                  <a:pt x="9237" y="17920"/>
                  <a:pt x="9252" y="17904"/>
                  <a:pt x="9252" y="17859"/>
                </a:cubicBezTo>
                <a:cubicBezTo>
                  <a:pt x="9252" y="17851"/>
                  <a:pt x="9252" y="17843"/>
                  <a:pt x="9252" y="17835"/>
                </a:cubicBezTo>
                <a:cubicBezTo>
                  <a:pt x="9286" y="17857"/>
                  <a:pt x="9253" y="17890"/>
                  <a:pt x="9277" y="17909"/>
                </a:cubicBezTo>
                <a:cubicBezTo>
                  <a:pt x="9301" y="17929"/>
                  <a:pt x="9342" y="17931"/>
                  <a:pt x="9376" y="17934"/>
                </a:cubicBezTo>
                <a:cubicBezTo>
                  <a:pt x="9431" y="17940"/>
                  <a:pt x="9460" y="17938"/>
                  <a:pt x="9500" y="17909"/>
                </a:cubicBezTo>
                <a:cubicBezTo>
                  <a:pt x="9521" y="17893"/>
                  <a:pt x="9589" y="17855"/>
                  <a:pt x="9599" y="17835"/>
                </a:cubicBezTo>
                <a:cubicBezTo>
                  <a:pt x="9599" y="17810"/>
                  <a:pt x="9599" y="17802"/>
                  <a:pt x="9599" y="17785"/>
                </a:cubicBezTo>
                <a:cubicBezTo>
                  <a:pt x="9550" y="17785"/>
                  <a:pt x="9519" y="17780"/>
                  <a:pt x="9475" y="17810"/>
                </a:cubicBezTo>
                <a:cubicBezTo>
                  <a:pt x="9431" y="17840"/>
                  <a:pt x="9397" y="17847"/>
                  <a:pt x="9376" y="17909"/>
                </a:cubicBezTo>
                <a:cubicBezTo>
                  <a:pt x="9367" y="17936"/>
                  <a:pt x="9370" y="17996"/>
                  <a:pt x="9401" y="18008"/>
                </a:cubicBezTo>
                <a:cubicBezTo>
                  <a:pt x="9438" y="18022"/>
                  <a:pt x="9483" y="18033"/>
                  <a:pt x="9525" y="18033"/>
                </a:cubicBezTo>
                <a:cubicBezTo>
                  <a:pt x="9579" y="18033"/>
                  <a:pt x="9633" y="18035"/>
                  <a:pt x="9674" y="18008"/>
                </a:cubicBezTo>
                <a:cubicBezTo>
                  <a:pt x="9686" y="18000"/>
                  <a:pt x="9752" y="17957"/>
                  <a:pt x="9773" y="17983"/>
                </a:cubicBezTo>
                <a:cubicBezTo>
                  <a:pt x="9779" y="17990"/>
                  <a:pt x="9748" y="18027"/>
                  <a:pt x="9748" y="18058"/>
                </a:cubicBezTo>
                <a:cubicBezTo>
                  <a:pt x="9766" y="17986"/>
                  <a:pt x="9807" y="18035"/>
                  <a:pt x="9847" y="17983"/>
                </a:cubicBezTo>
                <a:cubicBezTo>
                  <a:pt x="9871" y="17951"/>
                  <a:pt x="9922" y="17899"/>
                  <a:pt x="9947" y="17884"/>
                </a:cubicBezTo>
                <a:cubicBezTo>
                  <a:pt x="9955" y="17884"/>
                  <a:pt x="9963" y="17884"/>
                  <a:pt x="9971" y="17884"/>
                </a:cubicBezTo>
                <a:cubicBezTo>
                  <a:pt x="9999" y="17922"/>
                  <a:pt x="9996" y="17935"/>
                  <a:pt x="9996" y="17983"/>
                </a:cubicBezTo>
                <a:cubicBezTo>
                  <a:pt x="9996" y="18016"/>
                  <a:pt x="9996" y="18050"/>
                  <a:pt x="9996" y="18083"/>
                </a:cubicBezTo>
                <a:cubicBezTo>
                  <a:pt x="10051" y="18083"/>
                  <a:pt x="10070" y="18062"/>
                  <a:pt x="10120" y="1803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Ink 59"/>
          <p:cNvSpPr/>
          <p:nvPr/>
        </p:nvSpPr>
        <p:spPr>
          <a:xfrm>
            <a:off x="3813120" y="6446880"/>
            <a:ext cx="196920" cy="117360"/>
          </a:xfrm>
          <a:custGeom>
            <a:avLst/>
            <a:gdLst/>
            <a:ahLst/>
            <a:rect l="l" t="t" r="r" b="b"/>
            <a:pathLst>
              <a:path w="546" h="323">
                <a:moveTo>
                  <a:pt x="10790" y="17959"/>
                </a:moveTo>
                <a:cubicBezTo>
                  <a:pt x="10736" y="17959"/>
                  <a:pt x="10682" y="17947"/>
                  <a:pt x="10641" y="17983"/>
                </a:cubicBezTo>
                <a:cubicBezTo>
                  <a:pt x="10601" y="18018"/>
                  <a:pt x="10592" y="18032"/>
                  <a:pt x="10592" y="18083"/>
                </a:cubicBezTo>
                <a:cubicBezTo>
                  <a:pt x="10592" y="18108"/>
                  <a:pt x="10592" y="18132"/>
                  <a:pt x="10592" y="18157"/>
                </a:cubicBezTo>
                <a:cubicBezTo>
                  <a:pt x="10653" y="18157"/>
                  <a:pt x="10712" y="18168"/>
                  <a:pt x="10765" y="18132"/>
                </a:cubicBezTo>
                <a:cubicBezTo>
                  <a:pt x="10801" y="18108"/>
                  <a:pt x="10879" y="18014"/>
                  <a:pt x="10840" y="18033"/>
                </a:cubicBezTo>
                <a:cubicBezTo>
                  <a:pt x="10802" y="18052"/>
                  <a:pt x="10815" y="18098"/>
                  <a:pt x="10815" y="18132"/>
                </a:cubicBezTo>
                <a:cubicBezTo>
                  <a:pt x="10815" y="18195"/>
                  <a:pt x="10889" y="18150"/>
                  <a:pt x="10914" y="18132"/>
                </a:cubicBezTo>
              </a:path>
              <a:path w="546" h="323">
                <a:moveTo>
                  <a:pt x="11112" y="17934"/>
                </a:moveTo>
                <a:cubicBezTo>
                  <a:pt x="11112" y="17926"/>
                  <a:pt x="11112" y="17917"/>
                  <a:pt x="11112" y="17909"/>
                </a:cubicBezTo>
                <a:cubicBezTo>
                  <a:pt x="11081" y="17917"/>
                  <a:pt x="11029" y="17948"/>
                  <a:pt x="11013" y="17983"/>
                </a:cubicBezTo>
                <a:cubicBezTo>
                  <a:pt x="11001" y="18010"/>
                  <a:pt x="11011" y="18069"/>
                  <a:pt x="11038" y="18083"/>
                </a:cubicBezTo>
                <a:cubicBezTo>
                  <a:pt x="11060" y="18094"/>
                  <a:pt x="11122" y="18085"/>
                  <a:pt x="11137" y="18107"/>
                </a:cubicBezTo>
                <a:cubicBezTo>
                  <a:pt x="11158" y="18139"/>
                  <a:pt x="11114" y="18195"/>
                  <a:pt x="11088" y="18207"/>
                </a:cubicBezTo>
                <a:cubicBezTo>
                  <a:pt x="11065" y="18218"/>
                  <a:pt x="11012" y="18228"/>
                  <a:pt x="10988" y="18231"/>
                </a:cubicBezTo>
                <a:cubicBezTo>
                  <a:pt x="10980" y="18231"/>
                  <a:pt x="10972" y="18231"/>
                  <a:pt x="10964" y="1823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Ink 60"/>
          <p:cNvSpPr/>
          <p:nvPr/>
        </p:nvSpPr>
        <p:spPr>
          <a:xfrm>
            <a:off x="4633920" y="6259680"/>
            <a:ext cx="1787400" cy="285480"/>
          </a:xfrm>
          <a:custGeom>
            <a:avLst/>
            <a:gdLst/>
            <a:ahLst/>
            <a:rect l="l" t="t" r="r" b="b"/>
            <a:pathLst>
              <a:path w="4962" h="795">
                <a:moveTo>
                  <a:pt x="12898" y="17810"/>
                </a:moveTo>
                <a:cubicBezTo>
                  <a:pt x="12887" y="17855"/>
                  <a:pt x="12874" y="17881"/>
                  <a:pt x="12874" y="17934"/>
                </a:cubicBezTo>
                <a:cubicBezTo>
                  <a:pt x="12874" y="18000"/>
                  <a:pt x="12874" y="18066"/>
                  <a:pt x="12874" y="18132"/>
                </a:cubicBezTo>
                <a:cubicBezTo>
                  <a:pt x="12883" y="18103"/>
                  <a:pt x="12915" y="18074"/>
                  <a:pt x="12923" y="18033"/>
                </a:cubicBezTo>
                <a:cubicBezTo>
                  <a:pt x="12939" y="17953"/>
                  <a:pt x="12981" y="17876"/>
                  <a:pt x="12998" y="17810"/>
                </a:cubicBezTo>
                <a:cubicBezTo>
                  <a:pt x="13015" y="17742"/>
                  <a:pt x="13020" y="17677"/>
                  <a:pt x="13047" y="17611"/>
                </a:cubicBezTo>
                <a:cubicBezTo>
                  <a:pt x="13063" y="17573"/>
                  <a:pt x="13092" y="17516"/>
                  <a:pt x="13122" y="17512"/>
                </a:cubicBezTo>
                <a:cubicBezTo>
                  <a:pt x="13175" y="17505"/>
                  <a:pt x="13171" y="17550"/>
                  <a:pt x="13171" y="17587"/>
                </a:cubicBezTo>
                <a:cubicBezTo>
                  <a:pt x="13171" y="17657"/>
                  <a:pt x="13164" y="17701"/>
                  <a:pt x="13146" y="17760"/>
                </a:cubicBezTo>
                <a:cubicBezTo>
                  <a:pt x="13124" y="17834"/>
                  <a:pt x="13128" y="17805"/>
                  <a:pt x="13072" y="17835"/>
                </a:cubicBezTo>
                <a:cubicBezTo>
                  <a:pt x="13024" y="17860"/>
                  <a:pt x="13032" y="17884"/>
                  <a:pt x="12973" y="17884"/>
                </a:cubicBezTo>
                <a:cubicBezTo>
                  <a:pt x="12962" y="17884"/>
                  <a:pt x="12856" y="17884"/>
                  <a:pt x="12923" y="17884"/>
                </a:cubicBezTo>
              </a:path>
              <a:path w="4962" h="795">
                <a:moveTo>
                  <a:pt x="13395" y="17512"/>
                </a:moveTo>
                <a:cubicBezTo>
                  <a:pt x="13384" y="17554"/>
                  <a:pt x="13366" y="17592"/>
                  <a:pt x="13345" y="17636"/>
                </a:cubicBezTo>
                <a:cubicBezTo>
                  <a:pt x="13315" y="17699"/>
                  <a:pt x="13298" y="17764"/>
                  <a:pt x="13295" y="17835"/>
                </a:cubicBezTo>
                <a:cubicBezTo>
                  <a:pt x="13292" y="17918"/>
                  <a:pt x="13307" y="17960"/>
                  <a:pt x="13320" y="18033"/>
                </a:cubicBezTo>
                <a:cubicBezTo>
                  <a:pt x="13341" y="18151"/>
                  <a:pt x="13306" y="18068"/>
                  <a:pt x="13370" y="18132"/>
                </a:cubicBezTo>
                <a:cubicBezTo>
                  <a:pt x="13396" y="18158"/>
                  <a:pt x="13368" y="18171"/>
                  <a:pt x="13419" y="18132"/>
                </a:cubicBezTo>
              </a:path>
              <a:path w="4962" h="795">
                <a:moveTo>
                  <a:pt x="13643" y="17735"/>
                </a:moveTo>
                <a:cubicBezTo>
                  <a:pt x="13614" y="17773"/>
                  <a:pt x="13618" y="17786"/>
                  <a:pt x="13618" y="17835"/>
                </a:cubicBezTo>
                <a:cubicBezTo>
                  <a:pt x="13618" y="17905"/>
                  <a:pt x="13598" y="17899"/>
                  <a:pt x="13618" y="17959"/>
                </a:cubicBezTo>
                <a:cubicBezTo>
                  <a:pt x="13634" y="18005"/>
                  <a:pt x="13610" y="18015"/>
                  <a:pt x="13643" y="18058"/>
                </a:cubicBezTo>
                <a:cubicBezTo>
                  <a:pt x="13692" y="18041"/>
                  <a:pt x="13668" y="18006"/>
                  <a:pt x="13692" y="17959"/>
                </a:cubicBezTo>
                <a:cubicBezTo>
                  <a:pt x="13718" y="17907"/>
                  <a:pt x="13717" y="17876"/>
                  <a:pt x="13717" y="17810"/>
                </a:cubicBezTo>
                <a:cubicBezTo>
                  <a:pt x="13717" y="17751"/>
                  <a:pt x="13742" y="17724"/>
                  <a:pt x="13742" y="17661"/>
                </a:cubicBezTo>
                <a:cubicBezTo>
                  <a:pt x="13742" y="17653"/>
                  <a:pt x="13742" y="17644"/>
                  <a:pt x="13742" y="17636"/>
                </a:cubicBezTo>
                <a:cubicBezTo>
                  <a:pt x="13805" y="17652"/>
                  <a:pt x="13780" y="17682"/>
                  <a:pt x="13816" y="17735"/>
                </a:cubicBezTo>
                <a:cubicBezTo>
                  <a:pt x="13848" y="17783"/>
                  <a:pt x="13880" y="17838"/>
                  <a:pt x="13915" y="17884"/>
                </a:cubicBezTo>
                <a:cubicBezTo>
                  <a:pt x="13940" y="17918"/>
                  <a:pt x="13976" y="17955"/>
                  <a:pt x="14015" y="17959"/>
                </a:cubicBezTo>
                <a:cubicBezTo>
                  <a:pt x="14049" y="17963"/>
                  <a:pt x="14090" y="17950"/>
                  <a:pt x="14114" y="17934"/>
                </a:cubicBezTo>
                <a:cubicBezTo>
                  <a:pt x="14152" y="17909"/>
                  <a:pt x="14147" y="17847"/>
                  <a:pt x="14163" y="17810"/>
                </a:cubicBezTo>
                <a:cubicBezTo>
                  <a:pt x="14187" y="17755"/>
                  <a:pt x="14188" y="17720"/>
                  <a:pt x="14188" y="17661"/>
                </a:cubicBezTo>
                <a:cubicBezTo>
                  <a:pt x="14188" y="17600"/>
                  <a:pt x="14163" y="17653"/>
                  <a:pt x="14163" y="17686"/>
                </a:cubicBezTo>
              </a:path>
              <a:path w="4962" h="795">
                <a:moveTo>
                  <a:pt x="14337" y="17810"/>
                </a:moveTo>
                <a:cubicBezTo>
                  <a:pt x="14337" y="17853"/>
                  <a:pt x="14316" y="17936"/>
                  <a:pt x="14362" y="17959"/>
                </a:cubicBezTo>
                <a:cubicBezTo>
                  <a:pt x="14381" y="17969"/>
                  <a:pt x="14434" y="17998"/>
                  <a:pt x="14461" y="17983"/>
                </a:cubicBezTo>
                <a:cubicBezTo>
                  <a:pt x="14499" y="17963"/>
                  <a:pt x="14486" y="17919"/>
                  <a:pt x="14486" y="17884"/>
                </a:cubicBezTo>
                <a:cubicBezTo>
                  <a:pt x="14486" y="17843"/>
                  <a:pt x="14480" y="17805"/>
                  <a:pt x="14436" y="17785"/>
                </a:cubicBezTo>
                <a:cubicBezTo>
                  <a:pt x="14412" y="17785"/>
                  <a:pt x="14403" y="17785"/>
                  <a:pt x="14387" y="17785"/>
                </a:cubicBezTo>
                <a:cubicBezTo>
                  <a:pt x="14387" y="17849"/>
                  <a:pt x="14395" y="17835"/>
                  <a:pt x="14461" y="17835"/>
                </a:cubicBezTo>
              </a:path>
              <a:path w="4962" h="795">
                <a:moveTo>
                  <a:pt x="14709" y="17462"/>
                </a:moveTo>
                <a:cubicBezTo>
                  <a:pt x="14709" y="17543"/>
                  <a:pt x="14697" y="17611"/>
                  <a:pt x="14684" y="17686"/>
                </a:cubicBezTo>
                <a:cubicBezTo>
                  <a:pt x="14681" y="17703"/>
                  <a:pt x="14694" y="17994"/>
                  <a:pt x="14660" y="17983"/>
                </a:cubicBezTo>
                <a:cubicBezTo>
                  <a:pt x="14660" y="17975"/>
                  <a:pt x="14660" y="17967"/>
                  <a:pt x="14660" y="17959"/>
                </a:cubicBezTo>
              </a:path>
              <a:path w="4962" h="795">
                <a:moveTo>
                  <a:pt x="14585" y="17735"/>
                </a:moveTo>
                <a:cubicBezTo>
                  <a:pt x="14593" y="17735"/>
                  <a:pt x="14602" y="17735"/>
                  <a:pt x="14610" y="17735"/>
                </a:cubicBezTo>
                <a:cubicBezTo>
                  <a:pt x="14621" y="17719"/>
                  <a:pt x="14671" y="17691"/>
                  <a:pt x="14709" y="17711"/>
                </a:cubicBezTo>
                <a:cubicBezTo>
                  <a:pt x="14743" y="17729"/>
                  <a:pt x="14797" y="17775"/>
                  <a:pt x="14833" y="17785"/>
                </a:cubicBezTo>
                <a:cubicBezTo>
                  <a:pt x="14858" y="17792"/>
                  <a:pt x="14904" y="17785"/>
                  <a:pt x="14932" y="17785"/>
                </a:cubicBezTo>
              </a:path>
              <a:path w="4962" h="795">
                <a:moveTo>
                  <a:pt x="15602" y="17438"/>
                </a:moveTo>
                <a:cubicBezTo>
                  <a:pt x="15547" y="17438"/>
                  <a:pt x="15523" y="17447"/>
                  <a:pt x="15478" y="17462"/>
                </a:cubicBezTo>
                <a:cubicBezTo>
                  <a:pt x="15436" y="17475"/>
                  <a:pt x="15379" y="17519"/>
                  <a:pt x="15354" y="17562"/>
                </a:cubicBezTo>
                <a:cubicBezTo>
                  <a:pt x="15317" y="17626"/>
                  <a:pt x="15284" y="17686"/>
                  <a:pt x="15280" y="17760"/>
                </a:cubicBezTo>
                <a:cubicBezTo>
                  <a:pt x="15280" y="17765"/>
                  <a:pt x="15297" y="17896"/>
                  <a:pt x="15304" y="17909"/>
                </a:cubicBezTo>
                <a:cubicBezTo>
                  <a:pt x="15320" y="17938"/>
                  <a:pt x="15359" y="17976"/>
                  <a:pt x="15304" y="17983"/>
                </a:cubicBezTo>
                <a:cubicBezTo>
                  <a:pt x="15296" y="17983"/>
                  <a:pt x="15288" y="17983"/>
                  <a:pt x="15280" y="17983"/>
                </a:cubicBezTo>
              </a:path>
              <a:path w="4962" h="795">
                <a:moveTo>
                  <a:pt x="15230" y="17835"/>
                </a:moveTo>
                <a:cubicBezTo>
                  <a:pt x="15239" y="17807"/>
                  <a:pt x="15286" y="17792"/>
                  <a:pt x="15329" y="17810"/>
                </a:cubicBezTo>
                <a:cubicBezTo>
                  <a:pt x="15377" y="17830"/>
                  <a:pt x="15425" y="17834"/>
                  <a:pt x="15478" y="17859"/>
                </a:cubicBezTo>
                <a:cubicBezTo>
                  <a:pt x="15529" y="17883"/>
                  <a:pt x="15548" y="17884"/>
                  <a:pt x="15602" y="17884"/>
                </a:cubicBezTo>
                <a:cubicBezTo>
                  <a:pt x="15630" y="17884"/>
                  <a:pt x="15641" y="17882"/>
                  <a:pt x="15652" y="17859"/>
                </a:cubicBezTo>
                <a:cubicBezTo>
                  <a:pt x="15602" y="17871"/>
                  <a:pt x="15602" y="17883"/>
                  <a:pt x="15602" y="17934"/>
                </a:cubicBezTo>
                <a:cubicBezTo>
                  <a:pt x="15602" y="17959"/>
                  <a:pt x="15602" y="17967"/>
                  <a:pt x="15602" y="17983"/>
                </a:cubicBezTo>
                <a:cubicBezTo>
                  <a:pt x="15652" y="17983"/>
                  <a:pt x="15701" y="17983"/>
                  <a:pt x="15751" y="17983"/>
                </a:cubicBezTo>
                <a:cubicBezTo>
                  <a:pt x="15751" y="17938"/>
                  <a:pt x="15772" y="17924"/>
                  <a:pt x="15776" y="17884"/>
                </a:cubicBezTo>
                <a:cubicBezTo>
                  <a:pt x="15777" y="17878"/>
                  <a:pt x="15731" y="17814"/>
                  <a:pt x="15726" y="17810"/>
                </a:cubicBezTo>
                <a:cubicBezTo>
                  <a:pt x="15698" y="17792"/>
                  <a:pt x="15669" y="17822"/>
                  <a:pt x="15652" y="17835"/>
                </a:cubicBezTo>
                <a:cubicBezTo>
                  <a:pt x="15665" y="17884"/>
                  <a:pt x="15676" y="17884"/>
                  <a:pt x="15726" y="17884"/>
                </a:cubicBezTo>
              </a:path>
              <a:path w="4962" h="795">
                <a:moveTo>
                  <a:pt x="15825" y="17859"/>
                </a:moveTo>
                <a:cubicBezTo>
                  <a:pt x="15825" y="17905"/>
                  <a:pt x="15818" y="17924"/>
                  <a:pt x="15850" y="17959"/>
                </a:cubicBezTo>
                <a:cubicBezTo>
                  <a:pt x="15874" y="17985"/>
                  <a:pt x="15938" y="17997"/>
                  <a:pt x="15974" y="17983"/>
                </a:cubicBezTo>
                <a:cubicBezTo>
                  <a:pt x="15989" y="17977"/>
                  <a:pt x="16067" y="17922"/>
                  <a:pt x="16073" y="17909"/>
                </a:cubicBezTo>
                <a:cubicBezTo>
                  <a:pt x="16085" y="17885"/>
                  <a:pt x="16085" y="17829"/>
                  <a:pt x="16073" y="17859"/>
                </a:cubicBezTo>
                <a:cubicBezTo>
                  <a:pt x="16059" y="17893"/>
                  <a:pt x="16068" y="17930"/>
                  <a:pt x="16098" y="17934"/>
                </a:cubicBezTo>
                <a:cubicBezTo>
                  <a:pt x="16106" y="17934"/>
                  <a:pt x="16115" y="17934"/>
                  <a:pt x="16123" y="17934"/>
                </a:cubicBezTo>
              </a:path>
              <a:path w="4962" h="795">
                <a:moveTo>
                  <a:pt x="16197" y="17934"/>
                </a:moveTo>
                <a:cubicBezTo>
                  <a:pt x="16197" y="17959"/>
                  <a:pt x="16197" y="17967"/>
                  <a:pt x="16197" y="17983"/>
                </a:cubicBezTo>
                <a:cubicBezTo>
                  <a:pt x="16251" y="17983"/>
                  <a:pt x="16280" y="17971"/>
                  <a:pt x="16321" y="17934"/>
                </a:cubicBezTo>
                <a:cubicBezTo>
                  <a:pt x="16353" y="17905"/>
                  <a:pt x="16367" y="17894"/>
                  <a:pt x="16396" y="17884"/>
                </a:cubicBezTo>
                <a:cubicBezTo>
                  <a:pt x="16434" y="17897"/>
                  <a:pt x="16421" y="17914"/>
                  <a:pt x="16421" y="17959"/>
                </a:cubicBezTo>
                <a:cubicBezTo>
                  <a:pt x="16421" y="17967"/>
                  <a:pt x="16421" y="17975"/>
                  <a:pt x="16421" y="17983"/>
                </a:cubicBezTo>
                <a:cubicBezTo>
                  <a:pt x="16479" y="17983"/>
                  <a:pt x="16536" y="17983"/>
                  <a:pt x="16594" y="17983"/>
                </a:cubicBezTo>
              </a:path>
              <a:path w="4962" h="795">
                <a:moveTo>
                  <a:pt x="16768" y="17859"/>
                </a:moveTo>
                <a:cubicBezTo>
                  <a:pt x="16755" y="17823"/>
                  <a:pt x="16738" y="17835"/>
                  <a:pt x="16694" y="17835"/>
                </a:cubicBezTo>
                <a:cubicBezTo>
                  <a:pt x="16642" y="17835"/>
                  <a:pt x="16631" y="17846"/>
                  <a:pt x="16594" y="17884"/>
                </a:cubicBezTo>
                <a:cubicBezTo>
                  <a:pt x="16557" y="17922"/>
                  <a:pt x="16545" y="17931"/>
                  <a:pt x="16545" y="17983"/>
                </a:cubicBezTo>
                <a:cubicBezTo>
                  <a:pt x="16600" y="17983"/>
                  <a:pt x="16651" y="17994"/>
                  <a:pt x="16694" y="17959"/>
                </a:cubicBezTo>
                <a:cubicBezTo>
                  <a:pt x="16739" y="17923"/>
                  <a:pt x="16760" y="17879"/>
                  <a:pt x="16793" y="17835"/>
                </a:cubicBezTo>
                <a:cubicBezTo>
                  <a:pt x="16841" y="17771"/>
                  <a:pt x="16844" y="17705"/>
                  <a:pt x="16867" y="17636"/>
                </a:cubicBezTo>
                <a:cubicBezTo>
                  <a:pt x="16885" y="17581"/>
                  <a:pt x="16915" y="17578"/>
                  <a:pt x="16867" y="17562"/>
                </a:cubicBezTo>
                <a:cubicBezTo>
                  <a:pt x="16818" y="17623"/>
                  <a:pt x="16796" y="17680"/>
                  <a:pt x="16793" y="17760"/>
                </a:cubicBezTo>
                <a:cubicBezTo>
                  <a:pt x="16791" y="17806"/>
                  <a:pt x="16763" y="18005"/>
                  <a:pt x="16818" y="18033"/>
                </a:cubicBezTo>
                <a:cubicBezTo>
                  <a:pt x="16847" y="18048"/>
                  <a:pt x="16876" y="17999"/>
                  <a:pt x="16892" y="17983"/>
                </a:cubicBezTo>
              </a:path>
              <a:path w="4962" h="795">
                <a:moveTo>
                  <a:pt x="17115" y="17388"/>
                </a:moveTo>
                <a:cubicBezTo>
                  <a:pt x="17125" y="17456"/>
                  <a:pt x="17174" y="17492"/>
                  <a:pt x="17190" y="17562"/>
                </a:cubicBezTo>
                <a:cubicBezTo>
                  <a:pt x="17206" y="17635"/>
                  <a:pt x="17252" y="17714"/>
                  <a:pt x="17264" y="17785"/>
                </a:cubicBezTo>
                <a:cubicBezTo>
                  <a:pt x="17276" y="17854"/>
                  <a:pt x="17268" y="17922"/>
                  <a:pt x="17239" y="17983"/>
                </a:cubicBezTo>
                <a:cubicBezTo>
                  <a:pt x="17211" y="18043"/>
                  <a:pt x="17186" y="18086"/>
                  <a:pt x="17140" y="18132"/>
                </a:cubicBezTo>
                <a:cubicBezTo>
                  <a:pt x="17110" y="18162"/>
                  <a:pt x="17106" y="18157"/>
                  <a:pt x="17066" y="18157"/>
                </a:cubicBezTo>
                <a:cubicBezTo>
                  <a:pt x="17080" y="18202"/>
                  <a:pt x="17104" y="18184"/>
                  <a:pt x="17140" y="18157"/>
                </a:cubicBezTo>
              </a:path>
              <a:path w="4962" h="795">
                <a:moveTo>
                  <a:pt x="17537" y="17959"/>
                </a:moveTo>
                <a:cubicBezTo>
                  <a:pt x="17628" y="17959"/>
                  <a:pt x="17719" y="17959"/>
                  <a:pt x="17810" y="17959"/>
                </a:cubicBezTo>
                <a:cubicBezTo>
                  <a:pt x="17810" y="17992"/>
                  <a:pt x="17801" y="18000"/>
                  <a:pt x="17760" y="17983"/>
                </a:cubicBezTo>
              </a:path>
              <a:path w="4962" h="795">
                <a:moveTo>
                  <a:pt x="17562" y="18058"/>
                </a:moveTo>
                <a:cubicBezTo>
                  <a:pt x="17554" y="18058"/>
                  <a:pt x="17545" y="18058"/>
                  <a:pt x="17537" y="18058"/>
                </a:cubicBezTo>
                <a:cubicBezTo>
                  <a:pt x="17575" y="18071"/>
                  <a:pt x="17558" y="18083"/>
                  <a:pt x="17611" y="18083"/>
                </a:cubicBezTo>
                <a:cubicBezTo>
                  <a:pt x="17656" y="18083"/>
                  <a:pt x="17671" y="18104"/>
                  <a:pt x="17711" y="18107"/>
                </a:cubicBezTo>
                <a:cubicBezTo>
                  <a:pt x="17759" y="18110"/>
                  <a:pt x="17822" y="18121"/>
                  <a:pt x="17835" y="1808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Ink 61"/>
          <p:cNvSpPr/>
          <p:nvPr/>
        </p:nvSpPr>
        <p:spPr>
          <a:xfrm>
            <a:off x="6653160" y="6375240"/>
            <a:ext cx="455760" cy="179640"/>
          </a:xfrm>
          <a:custGeom>
            <a:avLst/>
            <a:gdLst/>
            <a:ahLst/>
            <a:rect l="l" t="t" r="r" b="b"/>
            <a:pathLst>
              <a:path w="1267" h="497">
                <a:moveTo>
                  <a:pt x="18653" y="17810"/>
                </a:moveTo>
                <a:cubicBezTo>
                  <a:pt x="18626" y="17817"/>
                  <a:pt x="18574" y="17843"/>
                  <a:pt x="18554" y="17859"/>
                </a:cubicBezTo>
                <a:cubicBezTo>
                  <a:pt x="18517" y="17888"/>
                  <a:pt x="18484" y="17939"/>
                  <a:pt x="18479" y="17983"/>
                </a:cubicBezTo>
                <a:cubicBezTo>
                  <a:pt x="18474" y="18024"/>
                  <a:pt x="18461" y="18111"/>
                  <a:pt x="18504" y="18132"/>
                </a:cubicBezTo>
                <a:cubicBezTo>
                  <a:pt x="18557" y="18158"/>
                  <a:pt x="18613" y="18157"/>
                  <a:pt x="18678" y="18157"/>
                </a:cubicBezTo>
                <a:cubicBezTo>
                  <a:pt x="18742" y="18157"/>
                  <a:pt x="18801" y="18134"/>
                  <a:pt x="18852" y="18107"/>
                </a:cubicBezTo>
                <a:cubicBezTo>
                  <a:pt x="18930" y="18066"/>
                  <a:pt x="18892" y="18050"/>
                  <a:pt x="18926" y="17983"/>
                </a:cubicBezTo>
                <a:cubicBezTo>
                  <a:pt x="18952" y="17932"/>
                  <a:pt x="18913" y="17917"/>
                  <a:pt x="18901" y="17859"/>
                </a:cubicBezTo>
                <a:cubicBezTo>
                  <a:pt x="18890" y="17804"/>
                  <a:pt x="18865" y="17767"/>
                  <a:pt x="18802" y="17760"/>
                </a:cubicBezTo>
                <a:cubicBezTo>
                  <a:pt x="18741" y="17753"/>
                  <a:pt x="18727" y="17767"/>
                  <a:pt x="18703" y="17785"/>
                </a:cubicBezTo>
                <a:cubicBezTo>
                  <a:pt x="18644" y="17828"/>
                  <a:pt x="18653" y="17815"/>
                  <a:pt x="18653" y="17884"/>
                </a:cubicBezTo>
                <a:cubicBezTo>
                  <a:pt x="18653" y="17922"/>
                  <a:pt x="18677" y="17933"/>
                  <a:pt x="18703" y="17959"/>
                </a:cubicBezTo>
              </a:path>
              <a:path w="1267" h="497">
                <a:moveTo>
                  <a:pt x="19124" y="18033"/>
                </a:moveTo>
                <a:cubicBezTo>
                  <a:pt x="19089" y="18045"/>
                  <a:pt x="19097" y="18069"/>
                  <a:pt x="19124" y="18033"/>
                </a:cubicBezTo>
                <a:cubicBezTo>
                  <a:pt x="19149" y="18008"/>
                  <a:pt x="19157" y="18000"/>
                  <a:pt x="19124" y="18033"/>
                </a:cubicBezTo>
              </a:path>
              <a:path w="1267" h="497">
                <a:moveTo>
                  <a:pt x="19621" y="17735"/>
                </a:moveTo>
                <a:cubicBezTo>
                  <a:pt x="19617" y="17723"/>
                  <a:pt x="19570" y="17683"/>
                  <a:pt x="19546" y="17711"/>
                </a:cubicBezTo>
                <a:cubicBezTo>
                  <a:pt x="19534" y="17725"/>
                  <a:pt x="19485" y="17754"/>
                  <a:pt x="19472" y="17785"/>
                </a:cubicBezTo>
                <a:cubicBezTo>
                  <a:pt x="19457" y="17820"/>
                  <a:pt x="19447" y="17808"/>
                  <a:pt x="19447" y="17859"/>
                </a:cubicBezTo>
                <a:cubicBezTo>
                  <a:pt x="19447" y="17919"/>
                  <a:pt x="19456" y="17907"/>
                  <a:pt x="19496" y="17934"/>
                </a:cubicBezTo>
                <a:cubicBezTo>
                  <a:pt x="19518" y="17949"/>
                  <a:pt x="19564" y="17980"/>
                  <a:pt x="19571" y="17983"/>
                </a:cubicBezTo>
                <a:cubicBezTo>
                  <a:pt x="19597" y="17996"/>
                  <a:pt x="19604" y="18024"/>
                  <a:pt x="19621" y="18033"/>
                </a:cubicBezTo>
                <a:cubicBezTo>
                  <a:pt x="19643" y="18044"/>
                  <a:pt x="19670" y="18052"/>
                  <a:pt x="19695" y="18058"/>
                </a:cubicBezTo>
                <a:cubicBezTo>
                  <a:pt x="19695" y="18089"/>
                  <a:pt x="19687" y="18124"/>
                  <a:pt x="19670" y="18132"/>
                </a:cubicBezTo>
                <a:cubicBezTo>
                  <a:pt x="19659" y="18137"/>
                  <a:pt x="19575" y="18152"/>
                  <a:pt x="19571" y="18157"/>
                </a:cubicBezTo>
                <a:cubicBezTo>
                  <a:pt x="19541" y="18194"/>
                  <a:pt x="19540" y="18157"/>
                  <a:pt x="19496" y="18182"/>
                </a:cubicBezTo>
                <a:cubicBezTo>
                  <a:pt x="19474" y="18205"/>
                  <a:pt x="19469" y="18213"/>
                  <a:pt x="19447" y="18207"/>
                </a:cubicBezTo>
                <a:cubicBezTo>
                  <a:pt x="19424" y="18176"/>
                  <a:pt x="19401" y="18146"/>
                  <a:pt x="19397" y="18107"/>
                </a:cubicBezTo>
                <a:cubicBezTo>
                  <a:pt x="19393" y="18071"/>
                  <a:pt x="19394" y="18031"/>
                  <a:pt x="19422" y="18008"/>
                </a:cubicBezTo>
                <a:cubicBezTo>
                  <a:pt x="19446" y="17988"/>
                  <a:pt x="19462" y="17989"/>
                  <a:pt x="19496" y="17959"/>
                </a:cubicBezTo>
                <a:cubicBezTo>
                  <a:pt x="19523" y="17935"/>
                  <a:pt x="19584" y="17901"/>
                  <a:pt x="19621" y="17884"/>
                </a:cubicBezTo>
                <a:cubicBezTo>
                  <a:pt x="19646" y="17872"/>
                  <a:pt x="19705" y="17865"/>
                  <a:pt x="19720" y="17835"/>
                </a:cubicBezTo>
                <a:cubicBezTo>
                  <a:pt x="19748" y="17780"/>
                  <a:pt x="19737" y="17785"/>
                  <a:pt x="19720" y="17735"/>
                </a:cubicBezTo>
                <a:cubicBezTo>
                  <a:pt x="19708" y="17699"/>
                  <a:pt x="19689" y="17711"/>
                  <a:pt x="19645" y="17711"/>
                </a:cubicBezTo>
                <a:cubicBezTo>
                  <a:pt x="19608" y="17711"/>
                  <a:pt x="19574" y="17739"/>
                  <a:pt x="19546" y="1776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Ink 62"/>
          <p:cNvSpPr/>
          <p:nvPr/>
        </p:nvSpPr>
        <p:spPr>
          <a:xfrm>
            <a:off x="7250040" y="6483240"/>
            <a:ext cx="127080" cy="88920"/>
          </a:xfrm>
          <a:custGeom>
            <a:avLst/>
            <a:gdLst/>
            <a:ahLst/>
            <a:rect l="l" t="t" r="r" b="b"/>
            <a:pathLst>
              <a:path w="349" h="249">
                <a:moveTo>
                  <a:pt x="20414" y="18008"/>
                </a:moveTo>
                <a:cubicBezTo>
                  <a:pt x="20414" y="18016"/>
                  <a:pt x="20414" y="18025"/>
                  <a:pt x="20414" y="18033"/>
                </a:cubicBezTo>
                <a:cubicBezTo>
                  <a:pt x="20384" y="18043"/>
                  <a:pt x="20373" y="18054"/>
                  <a:pt x="20340" y="18083"/>
                </a:cubicBezTo>
                <a:cubicBezTo>
                  <a:pt x="20291" y="18126"/>
                  <a:pt x="20252" y="18192"/>
                  <a:pt x="20191" y="18207"/>
                </a:cubicBezTo>
                <a:cubicBezTo>
                  <a:pt x="20178" y="18246"/>
                  <a:pt x="20179" y="18217"/>
                  <a:pt x="20166" y="18256"/>
                </a:cubicBezTo>
                <a:cubicBezTo>
                  <a:pt x="20141" y="18256"/>
                  <a:pt x="20133" y="18256"/>
                  <a:pt x="20141" y="18231"/>
                </a:cubicBezTo>
              </a:path>
              <a:path w="349" h="249">
                <a:moveTo>
                  <a:pt x="20141" y="18008"/>
                </a:moveTo>
                <a:cubicBezTo>
                  <a:pt x="20170" y="18037"/>
                  <a:pt x="20205" y="18071"/>
                  <a:pt x="20241" y="18083"/>
                </a:cubicBezTo>
                <a:cubicBezTo>
                  <a:pt x="20276" y="18095"/>
                  <a:pt x="20334" y="18116"/>
                  <a:pt x="20365" y="18132"/>
                </a:cubicBezTo>
                <a:cubicBezTo>
                  <a:pt x="20395" y="18147"/>
                  <a:pt x="20439" y="18191"/>
                  <a:pt x="20464" y="18207"/>
                </a:cubicBezTo>
                <a:cubicBezTo>
                  <a:pt x="20523" y="18245"/>
                  <a:pt x="20462" y="18231"/>
                  <a:pt x="20439" y="1823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Ink 63"/>
          <p:cNvSpPr/>
          <p:nvPr/>
        </p:nvSpPr>
        <p:spPr>
          <a:xfrm>
            <a:off x="7527960" y="6429240"/>
            <a:ext cx="357120" cy="196920"/>
          </a:xfrm>
          <a:custGeom>
            <a:avLst/>
            <a:gdLst/>
            <a:ahLst/>
            <a:rect l="l" t="t" r="r" b="b"/>
            <a:pathLst>
              <a:path w="994" h="547">
                <a:moveTo>
                  <a:pt x="21059" y="17859"/>
                </a:moveTo>
                <a:cubicBezTo>
                  <a:pt x="21029" y="17869"/>
                  <a:pt x="21018" y="17880"/>
                  <a:pt x="20985" y="17909"/>
                </a:cubicBezTo>
                <a:cubicBezTo>
                  <a:pt x="20956" y="17935"/>
                  <a:pt x="20921" y="17974"/>
                  <a:pt x="20910" y="18008"/>
                </a:cubicBezTo>
                <a:cubicBezTo>
                  <a:pt x="20897" y="18046"/>
                  <a:pt x="20898" y="18188"/>
                  <a:pt x="20935" y="18207"/>
                </a:cubicBezTo>
                <a:cubicBezTo>
                  <a:pt x="20975" y="18227"/>
                  <a:pt x="20966" y="18231"/>
                  <a:pt x="21034" y="18231"/>
                </a:cubicBezTo>
                <a:cubicBezTo>
                  <a:pt x="21083" y="18231"/>
                  <a:pt x="21094" y="18220"/>
                  <a:pt x="21134" y="18207"/>
                </a:cubicBezTo>
                <a:cubicBezTo>
                  <a:pt x="21179" y="18192"/>
                  <a:pt x="21208" y="18175"/>
                  <a:pt x="21233" y="18157"/>
                </a:cubicBezTo>
                <a:cubicBezTo>
                  <a:pt x="21268" y="18131"/>
                  <a:pt x="21302" y="18131"/>
                  <a:pt x="21307" y="18083"/>
                </a:cubicBezTo>
                <a:cubicBezTo>
                  <a:pt x="21312" y="18037"/>
                  <a:pt x="21317" y="17969"/>
                  <a:pt x="21282" y="17934"/>
                </a:cubicBezTo>
                <a:cubicBezTo>
                  <a:pt x="21261" y="17913"/>
                  <a:pt x="21185" y="17868"/>
                  <a:pt x="21158" y="17859"/>
                </a:cubicBezTo>
                <a:cubicBezTo>
                  <a:pt x="21124" y="17848"/>
                  <a:pt x="21027" y="17850"/>
                  <a:pt x="21010" y="17884"/>
                </a:cubicBezTo>
                <a:cubicBezTo>
                  <a:pt x="20994" y="17918"/>
                  <a:pt x="21027" y="17955"/>
                  <a:pt x="21034" y="17983"/>
                </a:cubicBezTo>
              </a:path>
              <a:path w="994" h="547">
                <a:moveTo>
                  <a:pt x="21481" y="18107"/>
                </a:moveTo>
                <a:cubicBezTo>
                  <a:pt x="21488" y="18129"/>
                  <a:pt x="21530" y="18165"/>
                  <a:pt x="21506" y="18132"/>
                </a:cubicBezTo>
                <a:cubicBezTo>
                  <a:pt x="21498" y="18124"/>
                  <a:pt x="21489" y="18115"/>
                  <a:pt x="21481" y="18107"/>
                </a:cubicBezTo>
              </a:path>
              <a:path w="994" h="547">
                <a:moveTo>
                  <a:pt x="21605" y="17959"/>
                </a:moveTo>
                <a:cubicBezTo>
                  <a:pt x="21650" y="17959"/>
                  <a:pt x="21663" y="17939"/>
                  <a:pt x="21704" y="17934"/>
                </a:cubicBezTo>
                <a:cubicBezTo>
                  <a:pt x="21755" y="17928"/>
                  <a:pt x="21776" y="17913"/>
                  <a:pt x="21828" y="17909"/>
                </a:cubicBezTo>
                <a:cubicBezTo>
                  <a:pt x="21853" y="17909"/>
                  <a:pt x="21861" y="17909"/>
                  <a:pt x="21878" y="17909"/>
                </a:cubicBezTo>
                <a:cubicBezTo>
                  <a:pt x="21878" y="17965"/>
                  <a:pt x="21890" y="18016"/>
                  <a:pt x="21853" y="18058"/>
                </a:cubicBezTo>
                <a:cubicBezTo>
                  <a:pt x="21836" y="18077"/>
                  <a:pt x="21783" y="18130"/>
                  <a:pt x="21779" y="18132"/>
                </a:cubicBezTo>
                <a:cubicBezTo>
                  <a:pt x="21754" y="18132"/>
                  <a:pt x="21746" y="18132"/>
                  <a:pt x="21754" y="18157"/>
                </a:cubicBezTo>
                <a:cubicBezTo>
                  <a:pt x="21772" y="18211"/>
                  <a:pt x="21785" y="18158"/>
                  <a:pt x="21828" y="18182"/>
                </a:cubicBezTo>
                <a:cubicBezTo>
                  <a:pt x="21874" y="18208"/>
                  <a:pt x="21858" y="18265"/>
                  <a:pt x="21878" y="18281"/>
                </a:cubicBezTo>
                <a:cubicBezTo>
                  <a:pt x="21907" y="18304"/>
                  <a:pt x="21918" y="18311"/>
                  <a:pt x="21878" y="18355"/>
                </a:cubicBezTo>
                <a:cubicBezTo>
                  <a:pt x="21856" y="18380"/>
                  <a:pt x="21785" y="18403"/>
                  <a:pt x="21754" y="18405"/>
                </a:cubicBezTo>
                <a:cubicBezTo>
                  <a:pt x="21712" y="18405"/>
                  <a:pt x="21704" y="18405"/>
                  <a:pt x="21679" y="18405"/>
                </a:cubicBezTo>
                <a:cubicBezTo>
                  <a:pt x="21679" y="18345"/>
                  <a:pt x="21687" y="18368"/>
                  <a:pt x="21729" y="18331"/>
                </a:cubicBezTo>
                <a:cubicBezTo>
                  <a:pt x="21737" y="18323"/>
                  <a:pt x="21746" y="18314"/>
                  <a:pt x="21754" y="1830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Ink 64"/>
          <p:cNvSpPr/>
          <p:nvPr/>
        </p:nvSpPr>
        <p:spPr>
          <a:xfrm>
            <a:off x="8035920" y="6510240"/>
            <a:ext cx="12528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22399" y="18107"/>
                </a:moveTo>
                <a:cubicBezTo>
                  <a:pt x="22436" y="18079"/>
                  <a:pt x="22451" y="18083"/>
                  <a:pt x="22498" y="18083"/>
                </a:cubicBezTo>
                <a:cubicBezTo>
                  <a:pt x="22548" y="18083"/>
                  <a:pt x="22597" y="18083"/>
                  <a:pt x="22647" y="18083"/>
                </a:cubicBezTo>
                <a:cubicBezTo>
                  <a:pt x="22624" y="18105"/>
                  <a:pt x="22619" y="18113"/>
                  <a:pt x="22597" y="18107"/>
                </a:cubicBezTo>
              </a:path>
              <a:path w="348" h="199">
                <a:moveTo>
                  <a:pt x="22324" y="18231"/>
                </a:moveTo>
                <a:cubicBezTo>
                  <a:pt x="22387" y="18231"/>
                  <a:pt x="22421" y="18239"/>
                  <a:pt x="22473" y="18256"/>
                </a:cubicBezTo>
                <a:cubicBezTo>
                  <a:pt x="22513" y="18269"/>
                  <a:pt x="22560" y="18269"/>
                  <a:pt x="22597" y="18281"/>
                </a:cubicBezTo>
                <a:cubicBezTo>
                  <a:pt x="22637" y="18294"/>
                  <a:pt x="22662" y="18284"/>
                  <a:pt x="22671" y="1825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Ink 65"/>
          <p:cNvSpPr/>
          <p:nvPr/>
        </p:nvSpPr>
        <p:spPr>
          <a:xfrm>
            <a:off x="8304120" y="6465960"/>
            <a:ext cx="679680" cy="231840"/>
          </a:xfrm>
          <a:custGeom>
            <a:avLst/>
            <a:gdLst/>
            <a:ahLst/>
            <a:rect l="l" t="t" r="r" b="b"/>
            <a:pathLst>
              <a:path w="1887" h="646">
                <a:moveTo>
                  <a:pt x="23192" y="17959"/>
                </a:moveTo>
                <a:cubicBezTo>
                  <a:pt x="23162" y="17959"/>
                  <a:pt x="23126" y="17967"/>
                  <a:pt x="23118" y="17983"/>
                </a:cubicBezTo>
                <a:cubicBezTo>
                  <a:pt x="23103" y="18013"/>
                  <a:pt x="23078" y="18076"/>
                  <a:pt x="23068" y="18107"/>
                </a:cubicBezTo>
                <a:cubicBezTo>
                  <a:pt x="23050" y="18159"/>
                  <a:pt x="23061" y="18270"/>
                  <a:pt x="23093" y="18306"/>
                </a:cubicBezTo>
                <a:cubicBezTo>
                  <a:pt x="23129" y="18347"/>
                  <a:pt x="23191" y="18331"/>
                  <a:pt x="23242" y="18331"/>
                </a:cubicBezTo>
                <a:cubicBezTo>
                  <a:pt x="23309" y="18331"/>
                  <a:pt x="23382" y="18345"/>
                  <a:pt x="23440" y="18306"/>
                </a:cubicBezTo>
                <a:cubicBezTo>
                  <a:pt x="23479" y="18279"/>
                  <a:pt x="23494" y="18238"/>
                  <a:pt x="23515" y="18207"/>
                </a:cubicBezTo>
                <a:cubicBezTo>
                  <a:pt x="23533" y="18181"/>
                  <a:pt x="23561" y="18120"/>
                  <a:pt x="23540" y="18083"/>
                </a:cubicBezTo>
                <a:cubicBezTo>
                  <a:pt x="23513" y="18036"/>
                  <a:pt x="23477" y="18013"/>
                  <a:pt x="23440" y="17983"/>
                </a:cubicBezTo>
                <a:cubicBezTo>
                  <a:pt x="23400" y="17950"/>
                  <a:pt x="23370" y="17959"/>
                  <a:pt x="23316" y="17959"/>
                </a:cubicBezTo>
                <a:cubicBezTo>
                  <a:pt x="23272" y="17959"/>
                  <a:pt x="23225" y="17960"/>
                  <a:pt x="23192" y="17983"/>
                </a:cubicBezTo>
                <a:cubicBezTo>
                  <a:pt x="23143" y="18016"/>
                  <a:pt x="23172" y="18048"/>
                  <a:pt x="23192" y="18083"/>
                </a:cubicBezTo>
              </a:path>
              <a:path w="1887" h="646">
                <a:moveTo>
                  <a:pt x="23763" y="18281"/>
                </a:moveTo>
                <a:cubicBezTo>
                  <a:pt x="23723" y="18294"/>
                  <a:pt x="23723" y="18294"/>
                  <a:pt x="23763" y="18281"/>
                </a:cubicBezTo>
              </a:path>
              <a:path w="1887" h="646">
                <a:moveTo>
                  <a:pt x="24656" y="17983"/>
                </a:moveTo>
                <a:cubicBezTo>
                  <a:pt x="24648" y="18014"/>
                  <a:pt x="24643" y="18077"/>
                  <a:pt x="24631" y="18107"/>
                </a:cubicBezTo>
                <a:cubicBezTo>
                  <a:pt x="24615" y="18144"/>
                  <a:pt x="24588" y="18194"/>
                  <a:pt x="24581" y="18231"/>
                </a:cubicBezTo>
                <a:cubicBezTo>
                  <a:pt x="24571" y="18278"/>
                  <a:pt x="24557" y="18307"/>
                  <a:pt x="24557" y="18355"/>
                </a:cubicBezTo>
                <a:cubicBezTo>
                  <a:pt x="24557" y="18380"/>
                  <a:pt x="24557" y="18405"/>
                  <a:pt x="24557" y="18430"/>
                </a:cubicBezTo>
                <a:cubicBezTo>
                  <a:pt x="24627" y="18430"/>
                  <a:pt x="24672" y="18424"/>
                  <a:pt x="24730" y="18405"/>
                </a:cubicBezTo>
                <a:cubicBezTo>
                  <a:pt x="24744" y="18400"/>
                  <a:pt x="24967" y="18418"/>
                  <a:pt x="24954" y="18380"/>
                </a:cubicBezTo>
                <a:cubicBezTo>
                  <a:pt x="24946" y="18380"/>
                  <a:pt x="24937" y="18380"/>
                  <a:pt x="24929" y="18380"/>
                </a:cubicBezTo>
              </a:path>
              <a:path w="1887" h="646">
                <a:moveTo>
                  <a:pt x="24805" y="18231"/>
                </a:moveTo>
                <a:cubicBezTo>
                  <a:pt x="24797" y="18231"/>
                  <a:pt x="24788" y="18231"/>
                  <a:pt x="24780" y="18231"/>
                </a:cubicBezTo>
                <a:cubicBezTo>
                  <a:pt x="24780" y="18301"/>
                  <a:pt x="24774" y="18347"/>
                  <a:pt x="24755" y="18405"/>
                </a:cubicBezTo>
                <a:cubicBezTo>
                  <a:pt x="24739" y="18452"/>
                  <a:pt x="24745" y="18510"/>
                  <a:pt x="24730" y="18554"/>
                </a:cubicBezTo>
                <a:cubicBezTo>
                  <a:pt x="24730" y="18579"/>
                  <a:pt x="24730" y="18587"/>
                  <a:pt x="24730" y="18604"/>
                </a:cubicBezTo>
              </a:path>
              <a:path w="1887" h="646">
                <a:moveTo>
                  <a:pt x="24061" y="18008"/>
                </a:moveTo>
                <a:cubicBezTo>
                  <a:pt x="24119" y="18008"/>
                  <a:pt x="24176" y="18008"/>
                  <a:pt x="24234" y="18008"/>
                </a:cubicBezTo>
                <a:cubicBezTo>
                  <a:pt x="24234" y="18071"/>
                  <a:pt x="24226" y="18105"/>
                  <a:pt x="24209" y="18157"/>
                </a:cubicBezTo>
                <a:cubicBezTo>
                  <a:pt x="24195" y="18200"/>
                  <a:pt x="24153" y="18215"/>
                  <a:pt x="24135" y="18256"/>
                </a:cubicBezTo>
                <a:cubicBezTo>
                  <a:pt x="24124" y="18280"/>
                  <a:pt x="24104" y="18302"/>
                  <a:pt x="24085" y="18331"/>
                </a:cubicBezTo>
                <a:cubicBezTo>
                  <a:pt x="24063" y="18364"/>
                  <a:pt x="24067" y="18405"/>
                  <a:pt x="24036" y="18430"/>
                </a:cubicBezTo>
                <a:cubicBezTo>
                  <a:pt x="24011" y="18430"/>
                  <a:pt x="24003" y="18430"/>
                  <a:pt x="24011" y="18455"/>
                </a:cubicBezTo>
                <a:cubicBezTo>
                  <a:pt x="24076" y="18455"/>
                  <a:pt x="24043" y="18473"/>
                  <a:pt x="24110" y="18479"/>
                </a:cubicBezTo>
                <a:cubicBezTo>
                  <a:pt x="24158" y="18483"/>
                  <a:pt x="24169" y="18491"/>
                  <a:pt x="24209" y="18504"/>
                </a:cubicBezTo>
                <a:cubicBezTo>
                  <a:pt x="24211" y="18505"/>
                  <a:pt x="24395" y="18501"/>
                  <a:pt x="24358" y="18529"/>
                </a:cubicBezTo>
                <a:cubicBezTo>
                  <a:pt x="24350" y="18529"/>
                  <a:pt x="24341" y="18529"/>
                  <a:pt x="24333" y="18529"/>
                </a:cubicBezTo>
              </a:path>
              <a:path w="1887" h="646">
                <a:moveTo>
                  <a:pt x="23788" y="18306"/>
                </a:moveTo>
                <a:cubicBezTo>
                  <a:pt x="23781" y="18308"/>
                  <a:pt x="23719" y="18341"/>
                  <a:pt x="23738" y="18355"/>
                </a:cubicBezTo>
                <a:cubicBezTo>
                  <a:pt x="23746" y="18355"/>
                  <a:pt x="23755" y="18355"/>
                  <a:pt x="23763" y="18355"/>
                </a:cubicBezTo>
                <a:cubicBezTo>
                  <a:pt x="23794" y="18345"/>
                  <a:pt x="23808" y="18312"/>
                  <a:pt x="23763" y="18306"/>
                </a:cubicBezTo>
                <a:cubicBezTo>
                  <a:pt x="23711" y="18299"/>
                  <a:pt x="23713" y="18308"/>
                  <a:pt x="23713" y="18355"/>
                </a:cubicBezTo>
                <a:cubicBezTo>
                  <a:pt x="23713" y="18399"/>
                  <a:pt x="23783" y="18378"/>
                  <a:pt x="23738" y="18355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Ink 66"/>
          <p:cNvSpPr/>
          <p:nvPr/>
        </p:nvSpPr>
        <p:spPr>
          <a:xfrm>
            <a:off x="2946240" y="6607080"/>
            <a:ext cx="1001880" cy="233280"/>
          </a:xfrm>
          <a:custGeom>
            <a:avLst/>
            <a:gdLst/>
            <a:ahLst/>
            <a:rect l="l" t="t" r="r" b="b"/>
            <a:pathLst>
              <a:path w="2779" h="646">
                <a:moveTo>
                  <a:pt x="8235" y="18504"/>
                </a:moveTo>
                <a:cubicBezTo>
                  <a:pt x="8226" y="18548"/>
                  <a:pt x="8210" y="18581"/>
                  <a:pt x="8210" y="18628"/>
                </a:cubicBezTo>
                <a:cubicBezTo>
                  <a:pt x="8210" y="18695"/>
                  <a:pt x="8201" y="18714"/>
                  <a:pt x="8186" y="18777"/>
                </a:cubicBezTo>
                <a:cubicBezTo>
                  <a:pt x="8186" y="18802"/>
                  <a:pt x="8186" y="18810"/>
                  <a:pt x="8186" y="18827"/>
                </a:cubicBezTo>
                <a:cubicBezTo>
                  <a:pt x="8264" y="18807"/>
                  <a:pt x="8221" y="18790"/>
                  <a:pt x="8260" y="18752"/>
                </a:cubicBezTo>
                <a:cubicBezTo>
                  <a:pt x="8282" y="18730"/>
                  <a:pt x="8343" y="18708"/>
                  <a:pt x="8359" y="18703"/>
                </a:cubicBezTo>
                <a:cubicBezTo>
                  <a:pt x="8385" y="18712"/>
                  <a:pt x="8405" y="18721"/>
                  <a:pt x="8409" y="18752"/>
                </a:cubicBezTo>
                <a:cubicBezTo>
                  <a:pt x="8415" y="18796"/>
                  <a:pt x="8386" y="18870"/>
                  <a:pt x="8434" y="18876"/>
                </a:cubicBezTo>
                <a:cubicBezTo>
                  <a:pt x="8458" y="18876"/>
                  <a:pt x="8467" y="18876"/>
                  <a:pt x="8483" y="18876"/>
                </a:cubicBezTo>
              </a:path>
              <a:path w="2779" h="646">
                <a:moveTo>
                  <a:pt x="8706" y="18728"/>
                </a:moveTo>
                <a:cubicBezTo>
                  <a:pt x="8661" y="18728"/>
                  <a:pt x="8642" y="18722"/>
                  <a:pt x="8607" y="18752"/>
                </a:cubicBezTo>
                <a:cubicBezTo>
                  <a:pt x="8567" y="18787"/>
                  <a:pt x="8558" y="18801"/>
                  <a:pt x="8558" y="18852"/>
                </a:cubicBezTo>
                <a:cubicBezTo>
                  <a:pt x="8614" y="18852"/>
                  <a:pt x="8656" y="18858"/>
                  <a:pt x="8706" y="18827"/>
                </a:cubicBezTo>
                <a:cubicBezTo>
                  <a:pt x="8742" y="18805"/>
                  <a:pt x="8801" y="18768"/>
                  <a:pt x="8806" y="18802"/>
                </a:cubicBezTo>
                <a:cubicBezTo>
                  <a:pt x="8806" y="18827"/>
                  <a:pt x="8806" y="18835"/>
                  <a:pt x="8830" y="18827"/>
                </a:cubicBezTo>
              </a:path>
              <a:path w="2779" h="646">
                <a:moveTo>
                  <a:pt x="8930" y="18876"/>
                </a:moveTo>
                <a:cubicBezTo>
                  <a:pt x="8930" y="18917"/>
                  <a:pt x="8930" y="18959"/>
                  <a:pt x="8930" y="19000"/>
                </a:cubicBezTo>
                <a:cubicBezTo>
                  <a:pt x="8956" y="18955"/>
                  <a:pt x="8963" y="18905"/>
                  <a:pt x="8979" y="18852"/>
                </a:cubicBezTo>
                <a:cubicBezTo>
                  <a:pt x="9003" y="18772"/>
                  <a:pt x="9055" y="18706"/>
                  <a:pt x="9079" y="18628"/>
                </a:cubicBezTo>
                <a:cubicBezTo>
                  <a:pt x="9091" y="18589"/>
                  <a:pt x="9087" y="18589"/>
                  <a:pt x="9128" y="18579"/>
                </a:cubicBezTo>
                <a:cubicBezTo>
                  <a:pt x="9128" y="18646"/>
                  <a:pt x="9147" y="18727"/>
                  <a:pt x="9103" y="18777"/>
                </a:cubicBezTo>
                <a:cubicBezTo>
                  <a:pt x="9068" y="18817"/>
                  <a:pt x="9055" y="18827"/>
                  <a:pt x="9004" y="18827"/>
                </a:cubicBezTo>
                <a:cubicBezTo>
                  <a:pt x="8939" y="18827"/>
                  <a:pt x="9002" y="18784"/>
                  <a:pt x="9029" y="18777"/>
                </a:cubicBezTo>
              </a:path>
              <a:path w="2779" h="646">
                <a:moveTo>
                  <a:pt x="9227" y="18852"/>
                </a:moveTo>
                <a:cubicBezTo>
                  <a:pt x="9227" y="18897"/>
                  <a:pt x="9163" y="18997"/>
                  <a:pt x="9203" y="18976"/>
                </a:cubicBezTo>
                <a:cubicBezTo>
                  <a:pt x="9229" y="18963"/>
                  <a:pt x="9243" y="18877"/>
                  <a:pt x="9252" y="18852"/>
                </a:cubicBezTo>
                <a:cubicBezTo>
                  <a:pt x="9276" y="18786"/>
                  <a:pt x="9303" y="18715"/>
                  <a:pt x="9327" y="18653"/>
                </a:cubicBezTo>
                <a:cubicBezTo>
                  <a:pt x="9347" y="18601"/>
                  <a:pt x="9389" y="18545"/>
                  <a:pt x="9426" y="18504"/>
                </a:cubicBezTo>
                <a:cubicBezTo>
                  <a:pt x="9434" y="18496"/>
                  <a:pt x="9443" y="18487"/>
                  <a:pt x="9451" y="18479"/>
                </a:cubicBezTo>
                <a:cubicBezTo>
                  <a:pt x="9488" y="18492"/>
                  <a:pt x="9480" y="18502"/>
                  <a:pt x="9500" y="18529"/>
                </a:cubicBezTo>
                <a:cubicBezTo>
                  <a:pt x="9531" y="18571"/>
                  <a:pt x="9537" y="18587"/>
                  <a:pt x="9500" y="18628"/>
                </a:cubicBezTo>
                <a:cubicBezTo>
                  <a:pt x="9463" y="18669"/>
                  <a:pt x="9401" y="18755"/>
                  <a:pt x="9351" y="18777"/>
                </a:cubicBezTo>
                <a:cubicBezTo>
                  <a:pt x="9315" y="18793"/>
                  <a:pt x="9309" y="18774"/>
                  <a:pt x="9302" y="18752"/>
                </a:cubicBezTo>
              </a:path>
              <a:path w="2779" h="646">
                <a:moveTo>
                  <a:pt x="9674" y="18703"/>
                </a:moveTo>
                <a:cubicBezTo>
                  <a:pt x="9712" y="18688"/>
                  <a:pt x="9770" y="18689"/>
                  <a:pt x="9798" y="18653"/>
                </a:cubicBezTo>
                <a:cubicBezTo>
                  <a:pt x="9818" y="18627"/>
                  <a:pt x="9818" y="18589"/>
                  <a:pt x="9823" y="18554"/>
                </a:cubicBezTo>
                <a:cubicBezTo>
                  <a:pt x="9774" y="18560"/>
                  <a:pt x="9763" y="18546"/>
                  <a:pt x="9723" y="18579"/>
                </a:cubicBezTo>
                <a:cubicBezTo>
                  <a:pt x="9688" y="18608"/>
                  <a:pt x="9659" y="18638"/>
                  <a:pt x="9649" y="18678"/>
                </a:cubicBezTo>
                <a:cubicBezTo>
                  <a:pt x="9640" y="18717"/>
                  <a:pt x="9662" y="18744"/>
                  <a:pt x="9699" y="18752"/>
                </a:cubicBezTo>
                <a:cubicBezTo>
                  <a:pt x="9767" y="18766"/>
                  <a:pt x="9857" y="18672"/>
                  <a:pt x="9897" y="18728"/>
                </a:cubicBezTo>
                <a:cubicBezTo>
                  <a:pt x="9906" y="18741"/>
                  <a:pt x="9894" y="18786"/>
                  <a:pt x="9897" y="18802"/>
                </a:cubicBezTo>
                <a:cubicBezTo>
                  <a:pt x="9930" y="18783"/>
                  <a:pt x="9960" y="18751"/>
                  <a:pt x="9996" y="18728"/>
                </a:cubicBezTo>
                <a:cubicBezTo>
                  <a:pt x="10030" y="18707"/>
                  <a:pt x="10062" y="18688"/>
                  <a:pt x="10096" y="18653"/>
                </a:cubicBezTo>
                <a:cubicBezTo>
                  <a:pt x="10130" y="18619"/>
                  <a:pt x="10128" y="18634"/>
                  <a:pt x="10170" y="18628"/>
                </a:cubicBezTo>
                <a:cubicBezTo>
                  <a:pt x="10170" y="18686"/>
                  <a:pt x="10170" y="18744"/>
                  <a:pt x="10170" y="18802"/>
                </a:cubicBezTo>
                <a:cubicBezTo>
                  <a:pt x="10227" y="18802"/>
                  <a:pt x="10268" y="18808"/>
                  <a:pt x="10319" y="18777"/>
                </a:cubicBezTo>
                <a:cubicBezTo>
                  <a:pt x="10360" y="18752"/>
                  <a:pt x="10403" y="18731"/>
                  <a:pt x="10443" y="18703"/>
                </a:cubicBezTo>
                <a:cubicBezTo>
                  <a:pt x="10480" y="18677"/>
                  <a:pt x="10501" y="18679"/>
                  <a:pt x="10492" y="18628"/>
                </a:cubicBezTo>
                <a:cubicBezTo>
                  <a:pt x="10483" y="18575"/>
                  <a:pt x="10465" y="18582"/>
                  <a:pt x="10418" y="18579"/>
                </a:cubicBezTo>
                <a:cubicBezTo>
                  <a:pt x="10371" y="18576"/>
                  <a:pt x="10355" y="18576"/>
                  <a:pt x="10319" y="18604"/>
                </a:cubicBezTo>
                <a:cubicBezTo>
                  <a:pt x="10292" y="18625"/>
                  <a:pt x="10283" y="18668"/>
                  <a:pt x="10294" y="18703"/>
                </a:cubicBezTo>
                <a:cubicBezTo>
                  <a:pt x="10298" y="18717"/>
                  <a:pt x="10341" y="18769"/>
                  <a:pt x="10368" y="18777"/>
                </a:cubicBezTo>
                <a:cubicBezTo>
                  <a:pt x="10442" y="18798"/>
                  <a:pt x="10582" y="18783"/>
                  <a:pt x="10641" y="18752"/>
                </a:cubicBezTo>
                <a:cubicBezTo>
                  <a:pt x="10681" y="18731"/>
                  <a:pt x="10729" y="18710"/>
                  <a:pt x="10765" y="18678"/>
                </a:cubicBezTo>
                <a:cubicBezTo>
                  <a:pt x="10790" y="18678"/>
                  <a:pt x="10798" y="18678"/>
                  <a:pt x="10790" y="18653"/>
                </a:cubicBezTo>
                <a:cubicBezTo>
                  <a:pt x="10733" y="18653"/>
                  <a:pt x="10685" y="18643"/>
                  <a:pt x="10641" y="18678"/>
                </a:cubicBezTo>
                <a:cubicBezTo>
                  <a:pt x="10602" y="18709"/>
                  <a:pt x="10621" y="18734"/>
                  <a:pt x="10616" y="18777"/>
                </a:cubicBezTo>
                <a:cubicBezTo>
                  <a:pt x="10669" y="18771"/>
                  <a:pt x="10688" y="18783"/>
                  <a:pt x="10740" y="18752"/>
                </a:cubicBezTo>
                <a:cubicBezTo>
                  <a:pt x="10771" y="18733"/>
                  <a:pt x="10849" y="18682"/>
                  <a:pt x="10864" y="18653"/>
                </a:cubicBezTo>
                <a:cubicBezTo>
                  <a:pt x="10907" y="18571"/>
                  <a:pt x="10907" y="18489"/>
                  <a:pt x="10939" y="18405"/>
                </a:cubicBezTo>
                <a:cubicBezTo>
                  <a:pt x="10939" y="18377"/>
                  <a:pt x="10941" y="18366"/>
                  <a:pt x="10964" y="18355"/>
                </a:cubicBezTo>
                <a:cubicBezTo>
                  <a:pt x="10931" y="18388"/>
                  <a:pt x="10915" y="18406"/>
                  <a:pt x="10889" y="18479"/>
                </a:cubicBezTo>
                <a:cubicBezTo>
                  <a:pt x="10863" y="18551"/>
                  <a:pt x="10864" y="18604"/>
                  <a:pt x="10864" y="18678"/>
                </a:cubicBezTo>
                <a:cubicBezTo>
                  <a:pt x="10864" y="18715"/>
                  <a:pt x="10845" y="18803"/>
                  <a:pt x="10889" y="18802"/>
                </a:cubicBezTo>
                <a:cubicBezTo>
                  <a:pt x="10889" y="18794"/>
                  <a:pt x="10889" y="18785"/>
                  <a:pt x="10889" y="18777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Ink 67"/>
          <p:cNvSpPr/>
          <p:nvPr/>
        </p:nvSpPr>
        <p:spPr>
          <a:xfrm>
            <a:off x="839880" y="224172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2332" y="6325"/>
                </a:moveTo>
                <a:cubicBezTo>
                  <a:pt x="2363" y="6301"/>
                  <a:pt x="2392" y="6280"/>
                  <a:pt x="2431" y="6276"/>
                </a:cubicBezTo>
                <a:cubicBezTo>
                  <a:pt x="2463" y="6273"/>
                  <a:pt x="2474" y="6259"/>
                  <a:pt x="2505" y="6251"/>
                </a:cubicBezTo>
                <a:cubicBezTo>
                  <a:pt x="2518" y="6213"/>
                  <a:pt x="2535" y="6226"/>
                  <a:pt x="2580" y="622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Ink 68"/>
          <p:cNvSpPr/>
          <p:nvPr/>
        </p:nvSpPr>
        <p:spPr>
          <a:xfrm>
            <a:off x="1044720" y="217008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2902" y="6102"/>
                </a:moveTo>
                <a:cubicBezTo>
                  <a:pt x="2938" y="6102"/>
                  <a:pt x="2974" y="6095"/>
                  <a:pt x="3001" y="6077"/>
                </a:cubicBezTo>
                <a:cubicBezTo>
                  <a:pt x="3046" y="6046"/>
                  <a:pt x="3038" y="6052"/>
                  <a:pt x="3101" y="6052"/>
                </a:cubicBezTo>
                <a:cubicBezTo>
                  <a:pt x="3113" y="6016"/>
                  <a:pt x="3131" y="6028"/>
                  <a:pt x="3175" y="602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Ink 69"/>
          <p:cNvSpPr/>
          <p:nvPr/>
        </p:nvSpPr>
        <p:spPr>
          <a:xfrm>
            <a:off x="1241280" y="2116080"/>
            <a:ext cx="61920" cy="19080"/>
          </a:xfrm>
          <a:custGeom>
            <a:avLst/>
            <a:gdLst/>
            <a:ahLst/>
            <a:rect l="l" t="t" r="r" b="b"/>
            <a:pathLst>
              <a:path w="174" h="50">
                <a:moveTo>
                  <a:pt x="3448" y="5928"/>
                </a:moveTo>
                <a:cubicBezTo>
                  <a:pt x="3497" y="5928"/>
                  <a:pt x="3507" y="5917"/>
                  <a:pt x="3547" y="5904"/>
                </a:cubicBezTo>
                <a:cubicBezTo>
                  <a:pt x="3590" y="5890"/>
                  <a:pt x="3580" y="5911"/>
                  <a:pt x="3621" y="58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Ink 70"/>
          <p:cNvSpPr/>
          <p:nvPr/>
        </p:nvSpPr>
        <p:spPr>
          <a:xfrm>
            <a:off x="1411200" y="206208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3919" y="5755"/>
                </a:moveTo>
                <a:cubicBezTo>
                  <a:pt x="3981" y="5755"/>
                  <a:pt x="4018" y="5747"/>
                  <a:pt x="4068" y="5730"/>
                </a:cubicBezTo>
                <a:cubicBezTo>
                  <a:pt x="4094" y="5721"/>
                  <a:pt x="4139" y="5730"/>
                  <a:pt x="4167" y="57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Ink 71"/>
          <p:cNvSpPr/>
          <p:nvPr/>
        </p:nvSpPr>
        <p:spPr>
          <a:xfrm>
            <a:off x="1589040" y="2000160"/>
            <a:ext cx="63720" cy="27000"/>
          </a:xfrm>
          <a:custGeom>
            <a:avLst/>
            <a:gdLst/>
            <a:ahLst/>
            <a:rect l="l" t="t" r="r" b="b"/>
            <a:pathLst>
              <a:path w="175" h="76">
                <a:moveTo>
                  <a:pt x="4415" y="5631"/>
                </a:moveTo>
                <a:cubicBezTo>
                  <a:pt x="4454" y="5602"/>
                  <a:pt x="4478" y="5606"/>
                  <a:pt x="4490" y="5556"/>
                </a:cubicBezTo>
                <a:cubicBezTo>
                  <a:pt x="4523" y="5556"/>
                  <a:pt x="4556" y="5556"/>
                  <a:pt x="4589" y="55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Ink 72"/>
          <p:cNvSpPr/>
          <p:nvPr/>
        </p:nvSpPr>
        <p:spPr>
          <a:xfrm>
            <a:off x="1776240" y="1938240"/>
            <a:ext cx="73080" cy="17640"/>
          </a:xfrm>
          <a:custGeom>
            <a:avLst/>
            <a:gdLst/>
            <a:ahLst/>
            <a:rect l="l" t="t" r="r" b="b"/>
            <a:pathLst>
              <a:path w="200" h="50">
                <a:moveTo>
                  <a:pt x="4936" y="5432"/>
                </a:moveTo>
                <a:cubicBezTo>
                  <a:pt x="4986" y="5432"/>
                  <a:pt x="4995" y="5421"/>
                  <a:pt x="5035" y="5407"/>
                </a:cubicBezTo>
                <a:cubicBezTo>
                  <a:pt x="5043" y="5407"/>
                  <a:pt x="5052" y="5407"/>
                  <a:pt x="5060" y="5407"/>
                </a:cubicBezTo>
                <a:cubicBezTo>
                  <a:pt x="5073" y="5371"/>
                  <a:pt x="5091" y="5383"/>
                  <a:pt x="5135" y="538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Ink 73"/>
          <p:cNvSpPr/>
          <p:nvPr/>
        </p:nvSpPr>
        <p:spPr>
          <a:xfrm>
            <a:off x="2374920" y="1758960"/>
            <a:ext cx="196920" cy="63360"/>
          </a:xfrm>
          <a:custGeom>
            <a:avLst/>
            <a:gdLst/>
            <a:ahLst/>
            <a:rect l="l" t="t" r="r" b="b"/>
            <a:pathLst>
              <a:path w="547" h="174">
                <a:moveTo>
                  <a:pt x="6598" y="5060"/>
                </a:moveTo>
                <a:cubicBezTo>
                  <a:pt x="6598" y="5052"/>
                  <a:pt x="6598" y="5043"/>
                  <a:pt x="6598" y="5035"/>
                </a:cubicBezTo>
                <a:cubicBezTo>
                  <a:pt x="6621" y="5028"/>
                  <a:pt x="6645" y="5026"/>
                  <a:pt x="6672" y="5011"/>
                </a:cubicBezTo>
                <a:cubicBezTo>
                  <a:pt x="6711" y="4989"/>
                  <a:pt x="6701" y="4986"/>
                  <a:pt x="6747" y="4986"/>
                </a:cubicBezTo>
              </a:path>
              <a:path w="547" h="174">
                <a:moveTo>
                  <a:pt x="6921" y="4936"/>
                </a:moveTo>
                <a:cubicBezTo>
                  <a:pt x="6921" y="4928"/>
                  <a:pt x="6921" y="4919"/>
                  <a:pt x="6921" y="4911"/>
                </a:cubicBezTo>
                <a:cubicBezTo>
                  <a:pt x="6994" y="4911"/>
                  <a:pt x="7087" y="4928"/>
                  <a:pt x="7144" y="488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Ink 74"/>
          <p:cNvSpPr/>
          <p:nvPr/>
        </p:nvSpPr>
        <p:spPr>
          <a:xfrm>
            <a:off x="2670120" y="1687680"/>
            <a:ext cx="71640" cy="3636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7417" y="4787"/>
                </a:moveTo>
                <a:cubicBezTo>
                  <a:pt x="7448" y="4755"/>
                  <a:pt x="7472" y="4718"/>
                  <a:pt x="7516" y="4713"/>
                </a:cubicBezTo>
                <a:cubicBezTo>
                  <a:pt x="7535" y="4711"/>
                  <a:pt x="7611" y="4684"/>
                  <a:pt x="7615" y="4688"/>
                </a:cubicBezTo>
                <a:cubicBezTo>
                  <a:pt x="7615" y="4696"/>
                  <a:pt x="7615" y="4705"/>
                  <a:pt x="7615" y="471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Ink 75"/>
          <p:cNvSpPr/>
          <p:nvPr/>
        </p:nvSpPr>
        <p:spPr>
          <a:xfrm>
            <a:off x="2820960" y="1625760"/>
            <a:ext cx="189000" cy="44280"/>
          </a:xfrm>
          <a:custGeom>
            <a:avLst/>
            <a:gdLst/>
            <a:ahLst/>
            <a:rect l="l" t="t" r="r" b="b"/>
            <a:pathLst>
              <a:path w="522" h="125">
                <a:moveTo>
                  <a:pt x="7838" y="4638"/>
                </a:moveTo>
                <a:cubicBezTo>
                  <a:pt x="7876" y="4629"/>
                  <a:pt x="7908" y="4616"/>
                  <a:pt x="7938" y="4589"/>
                </a:cubicBezTo>
                <a:cubicBezTo>
                  <a:pt x="7973" y="4557"/>
                  <a:pt x="7991" y="4564"/>
                  <a:pt x="8037" y="4564"/>
                </a:cubicBezTo>
              </a:path>
              <a:path w="522" h="125">
                <a:moveTo>
                  <a:pt x="8235" y="4539"/>
                </a:moveTo>
                <a:cubicBezTo>
                  <a:pt x="8268" y="4539"/>
                  <a:pt x="8301" y="4539"/>
                  <a:pt x="8334" y="4539"/>
                </a:cubicBezTo>
                <a:cubicBezTo>
                  <a:pt x="8334" y="4514"/>
                  <a:pt x="8334" y="4506"/>
                  <a:pt x="8359" y="451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Ink 76"/>
          <p:cNvSpPr/>
          <p:nvPr/>
        </p:nvSpPr>
        <p:spPr>
          <a:xfrm>
            <a:off x="4160880" y="1643040"/>
            <a:ext cx="11736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11559" y="4638"/>
                </a:moveTo>
                <a:cubicBezTo>
                  <a:pt x="11599" y="4628"/>
                  <a:pt x="11622" y="4601"/>
                  <a:pt x="11658" y="4589"/>
                </a:cubicBezTo>
                <a:cubicBezTo>
                  <a:pt x="11686" y="4580"/>
                  <a:pt x="11727" y="4589"/>
                  <a:pt x="11757" y="4589"/>
                </a:cubicBezTo>
                <a:cubicBezTo>
                  <a:pt x="11770" y="4551"/>
                  <a:pt x="11787" y="4564"/>
                  <a:pt x="11832" y="4564"/>
                </a:cubicBezTo>
                <a:cubicBezTo>
                  <a:pt x="11848" y="4564"/>
                  <a:pt x="11865" y="4564"/>
                  <a:pt x="11881" y="45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Ink 77"/>
          <p:cNvSpPr/>
          <p:nvPr/>
        </p:nvSpPr>
        <p:spPr>
          <a:xfrm>
            <a:off x="4375080" y="1616040"/>
            <a:ext cx="73080" cy="190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12154" y="4539"/>
                </a:moveTo>
                <a:cubicBezTo>
                  <a:pt x="12154" y="4531"/>
                  <a:pt x="12154" y="4522"/>
                  <a:pt x="12154" y="4514"/>
                </a:cubicBezTo>
                <a:cubicBezTo>
                  <a:pt x="12179" y="4514"/>
                  <a:pt x="12204" y="4514"/>
                  <a:pt x="12229" y="4514"/>
                </a:cubicBezTo>
                <a:cubicBezTo>
                  <a:pt x="12242" y="4478"/>
                  <a:pt x="12259" y="4490"/>
                  <a:pt x="12303" y="4490"/>
                </a:cubicBezTo>
                <a:cubicBezTo>
                  <a:pt x="12328" y="4490"/>
                  <a:pt x="12336" y="4490"/>
                  <a:pt x="12353" y="449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Ink 78"/>
          <p:cNvSpPr/>
          <p:nvPr/>
        </p:nvSpPr>
        <p:spPr>
          <a:xfrm>
            <a:off x="4537080" y="1589040"/>
            <a:ext cx="349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2601" y="4415"/>
                </a:moveTo>
                <a:cubicBezTo>
                  <a:pt x="12649" y="4415"/>
                  <a:pt x="12662" y="4411"/>
                  <a:pt x="12700" y="44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Ink 79"/>
          <p:cNvSpPr/>
          <p:nvPr/>
        </p:nvSpPr>
        <p:spPr>
          <a:xfrm>
            <a:off x="4670280" y="1571760"/>
            <a:ext cx="81000" cy="17280"/>
          </a:xfrm>
          <a:custGeom>
            <a:avLst/>
            <a:gdLst/>
            <a:ahLst/>
            <a:rect l="l" t="t" r="r" b="b"/>
            <a:pathLst>
              <a:path w="224" h="50">
                <a:moveTo>
                  <a:pt x="12973" y="4415"/>
                </a:moveTo>
                <a:cubicBezTo>
                  <a:pt x="13012" y="4405"/>
                  <a:pt x="13027" y="4390"/>
                  <a:pt x="13072" y="4390"/>
                </a:cubicBezTo>
                <a:cubicBezTo>
                  <a:pt x="13085" y="4354"/>
                  <a:pt x="13102" y="4366"/>
                  <a:pt x="13146" y="4366"/>
                </a:cubicBezTo>
                <a:cubicBezTo>
                  <a:pt x="13171" y="4366"/>
                  <a:pt x="13179" y="4366"/>
                  <a:pt x="13196" y="436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Ink 80"/>
          <p:cNvSpPr/>
          <p:nvPr/>
        </p:nvSpPr>
        <p:spPr>
          <a:xfrm>
            <a:off x="4840200" y="154476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3444" y="4341"/>
                </a:moveTo>
                <a:cubicBezTo>
                  <a:pt x="13495" y="4328"/>
                  <a:pt x="13509" y="4291"/>
                  <a:pt x="13568" y="4291"/>
                </a:cubicBezTo>
                <a:cubicBezTo>
                  <a:pt x="13601" y="4291"/>
                  <a:pt x="13634" y="4291"/>
                  <a:pt x="13667" y="429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Ink 81"/>
          <p:cNvSpPr/>
          <p:nvPr/>
        </p:nvSpPr>
        <p:spPr>
          <a:xfrm>
            <a:off x="5027760" y="1482840"/>
            <a:ext cx="169560" cy="44280"/>
          </a:xfrm>
          <a:custGeom>
            <a:avLst/>
            <a:gdLst/>
            <a:ahLst/>
            <a:rect l="l" t="t" r="r" b="b"/>
            <a:pathLst>
              <a:path w="472" h="125">
                <a:moveTo>
                  <a:pt x="13965" y="4242"/>
                </a:moveTo>
                <a:cubicBezTo>
                  <a:pt x="14004" y="4232"/>
                  <a:pt x="14020" y="4217"/>
                  <a:pt x="14064" y="4217"/>
                </a:cubicBezTo>
                <a:cubicBezTo>
                  <a:pt x="14072" y="4217"/>
                  <a:pt x="14081" y="4217"/>
                  <a:pt x="14089" y="4217"/>
                </a:cubicBezTo>
              </a:path>
              <a:path w="472" h="125">
                <a:moveTo>
                  <a:pt x="14263" y="4167"/>
                </a:moveTo>
                <a:cubicBezTo>
                  <a:pt x="14263" y="4159"/>
                  <a:pt x="14263" y="4150"/>
                  <a:pt x="14263" y="4142"/>
                </a:cubicBezTo>
                <a:cubicBezTo>
                  <a:pt x="14296" y="4142"/>
                  <a:pt x="14329" y="4142"/>
                  <a:pt x="14362" y="4142"/>
                </a:cubicBezTo>
                <a:cubicBezTo>
                  <a:pt x="14372" y="4112"/>
                  <a:pt x="14418" y="4114"/>
                  <a:pt x="14436" y="4142"/>
                </a:cubicBezTo>
                <a:cubicBezTo>
                  <a:pt x="14436" y="4150"/>
                  <a:pt x="14436" y="4159"/>
                  <a:pt x="14436" y="416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Ink 82"/>
          <p:cNvSpPr/>
          <p:nvPr/>
        </p:nvSpPr>
        <p:spPr>
          <a:xfrm>
            <a:off x="3973680" y="1251000"/>
            <a:ext cx="384120" cy="241200"/>
          </a:xfrm>
          <a:custGeom>
            <a:avLst/>
            <a:gdLst/>
            <a:ahLst/>
            <a:rect l="l" t="t" r="r" b="b"/>
            <a:pathLst>
              <a:path w="1068" h="670">
                <a:moveTo>
                  <a:pt x="11063" y="3497"/>
                </a:moveTo>
                <a:cubicBezTo>
                  <a:pt x="11063" y="3433"/>
                  <a:pt x="11063" y="3536"/>
                  <a:pt x="11063" y="3547"/>
                </a:cubicBezTo>
                <a:cubicBezTo>
                  <a:pt x="11063" y="3712"/>
                  <a:pt x="11063" y="3878"/>
                  <a:pt x="11063" y="4043"/>
                </a:cubicBezTo>
                <a:cubicBezTo>
                  <a:pt x="11105" y="4029"/>
                  <a:pt x="11088" y="3995"/>
                  <a:pt x="11088" y="3944"/>
                </a:cubicBezTo>
                <a:cubicBezTo>
                  <a:pt x="11088" y="3839"/>
                  <a:pt x="11083" y="3737"/>
                  <a:pt x="11112" y="3646"/>
                </a:cubicBezTo>
                <a:cubicBezTo>
                  <a:pt x="11118" y="3628"/>
                  <a:pt x="11112" y="3485"/>
                  <a:pt x="11112" y="3547"/>
                </a:cubicBezTo>
                <a:cubicBezTo>
                  <a:pt x="11112" y="3599"/>
                  <a:pt x="11096" y="3621"/>
                  <a:pt x="11088" y="3671"/>
                </a:cubicBezTo>
                <a:cubicBezTo>
                  <a:pt x="11078" y="3733"/>
                  <a:pt x="11063" y="3781"/>
                  <a:pt x="11063" y="3845"/>
                </a:cubicBezTo>
                <a:cubicBezTo>
                  <a:pt x="11063" y="3895"/>
                  <a:pt x="11017" y="3968"/>
                  <a:pt x="11038" y="4018"/>
                </a:cubicBezTo>
                <a:cubicBezTo>
                  <a:pt x="11056" y="4060"/>
                  <a:pt x="11063" y="4067"/>
                  <a:pt x="11063" y="4118"/>
                </a:cubicBezTo>
                <a:cubicBezTo>
                  <a:pt x="11063" y="4156"/>
                  <a:pt x="11035" y="4155"/>
                  <a:pt x="11063" y="4118"/>
                </a:cubicBezTo>
                <a:cubicBezTo>
                  <a:pt x="11071" y="4110"/>
                  <a:pt x="11080" y="4101"/>
                  <a:pt x="11088" y="4093"/>
                </a:cubicBezTo>
              </a:path>
              <a:path w="1068" h="670">
                <a:moveTo>
                  <a:pt x="11336" y="4018"/>
                </a:moveTo>
                <a:cubicBezTo>
                  <a:pt x="11336" y="4010"/>
                  <a:pt x="11336" y="4002"/>
                  <a:pt x="11336" y="3994"/>
                </a:cubicBezTo>
                <a:cubicBezTo>
                  <a:pt x="11386" y="3994"/>
                  <a:pt x="11394" y="3983"/>
                  <a:pt x="11435" y="3969"/>
                </a:cubicBezTo>
                <a:cubicBezTo>
                  <a:pt x="11467" y="3958"/>
                  <a:pt x="11504" y="3954"/>
                  <a:pt x="11534" y="3944"/>
                </a:cubicBezTo>
                <a:cubicBezTo>
                  <a:pt x="11564" y="3934"/>
                  <a:pt x="11604" y="3922"/>
                  <a:pt x="11633" y="3919"/>
                </a:cubicBezTo>
                <a:cubicBezTo>
                  <a:pt x="11641" y="3919"/>
                  <a:pt x="11650" y="3919"/>
                  <a:pt x="11658" y="3919"/>
                </a:cubicBezTo>
              </a:path>
              <a:path w="1068" h="670">
                <a:moveTo>
                  <a:pt x="11857" y="3919"/>
                </a:moveTo>
                <a:cubicBezTo>
                  <a:pt x="11902" y="3919"/>
                  <a:pt x="11916" y="3898"/>
                  <a:pt x="11956" y="3894"/>
                </a:cubicBezTo>
                <a:cubicBezTo>
                  <a:pt x="11992" y="3890"/>
                  <a:pt x="12012" y="3919"/>
                  <a:pt x="12055" y="3919"/>
                </a:cubicBezTo>
                <a:cubicBezTo>
                  <a:pt x="12080" y="3919"/>
                  <a:pt x="12088" y="3919"/>
                  <a:pt x="12105" y="3919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Ink 83"/>
          <p:cNvSpPr/>
          <p:nvPr/>
        </p:nvSpPr>
        <p:spPr>
          <a:xfrm>
            <a:off x="4456080" y="1366920"/>
            <a:ext cx="179280" cy="27000"/>
          </a:xfrm>
          <a:custGeom>
            <a:avLst/>
            <a:gdLst/>
            <a:ahLst/>
            <a:rect l="l" t="t" r="r" b="b"/>
            <a:pathLst>
              <a:path w="497" h="76">
                <a:moveTo>
                  <a:pt x="12378" y="3870"/>
                </a:moveTo>
                <a:cubicBezTo>
                  <a:pt x="12378" y="3862"/>
                  <a:pt x="12378" y="3853"/>
                  <a:pt x="12378" y="3845"/>
                </a:cubicBezTo>
                <a:cubicBezTo>
                  <a:pt x="12420" y="3845"/>
                  <a:pt x="12415" y="3855"/>
                  <a:pt x="12427" y="3820"/>
                </a:cubicBezTo>
                <a:cubicBezTo>
                  <a:pt x="12452" y="3820"/>
                  <a:pt x="12460" y="3820"/>
                  <a:pt x="12477" y="3820"/>
                </a:cubicBezTo>
              </a:path>
              <a:path w="497" h="76">
                <a:moveTo>
                  <a:pt x="12700" y="3820"/>
                </a:moveTo>
                <a:cubicBezTo>
                  <a:pt x="12700" y="3812"/>
                  <a:pt x="12700" y="3803"/>
                  <a:pt x="12700" y="3795"/>
                </a:cubicBezTo>
                <a:cubicBezTo>
                  <a:pt x="12758" y="3795"/>
                  <a:pt x="12816" y="3795"/>
                  <a:pt x="12874" y="3795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Ink 84"/>
          <p:cNvSpPr/>
          <p:nvPr/>
        </p:nvSpPr>
        <p:spPr>
          <a:xfrm>
            <a:off x="4732200" y="1347840"/>
            <a:ext cx="36720" cy="19080"/>
          </a:xfrm>
          <a:custGeom>
            <a:avLst/>
            <a:gdLst/>
            <a:ahLst/>
            <a:rect l="l" t="t" r="r" b="b"/>
            <a:pathLst>
              <a:path w="101" h="50">
                <a:moveTo>
                  <a:pt x="13146" y="3795"/>
                </a:moveTo>
                <a:cubicBezTo>
                  <a:pt x="13171" y="3795"/>
                  <a:pt x="13179" y="3795"/>
                  <a:pt x="13196" y="3795"/>
                </a:cubicBezTo>
                <a:cubicBezTo>
                  <a:pt x="13207" y="3763"/>
                  <a:pt x="13214" y="3756"/>
                  <a:pt x="13246" y="374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Ink 85"/>
          <p:cNvSpPr/>
          <p:nvPr/>
        </p:nvSpPr>
        <p:spPr>
          <a:xfrm>
            <a:off x="4857840" y="1330200"/>
            <a:ext cx="54000" cy="190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3494" y="3746"/>
                </a:moveTo>
                <a:cubicBezTo>
                  <a:pt x="13527" y="3746"/>
                  <a:pt x="13560" y="3746"/>
                  <a:pt x="13593" y="3746"/>
                </a:cubicBezTo>
                <a:cubicBezTo>
                  <a:pt x="13604" y="3682"/>
                  <a:pt x="13584" y="3696"/>
                  <a:pt x="13643" y="369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Ink 86"/>
          <p:cNvSpPr/>
          <p:nvPr/>
        </p:nvSpPr>
        <p:spPr>
          <a:xfrm>
            <a:off x="5099040" y="1258920"/>
            <a:ext cx="322200" cy="54000"/>
          </a:xfrm>
          <a:custGeom>
            <a:avLst/>
            <a:gdLst/>
            <a:ahLst/>
            <a:rect l="l" t="t" r="r" b="b"/>
            <a:pathLst>
              <a:path w="894" h="150">
                <a:moveTo>
                  <a:pt x="14163" y="3646"/>
                </a:moveTo>
                <a:cubicBezTo>
                  <a:pt x="14188" y="3646"/>
                  <a:pt x="14196" y="3646"/>
                  <a:pt x="14213" y="3646"/>
                </a:cubicBezTo>
                <a:cubicBezTo>
                  <a:pt x="14226" y="3608"/>
                  <a:pt x="14243" y="3621"/>
                  <a:pt x="14288" y="3621"/>
                </a:cubicBezTo>
                <a:cubicBezTo>
                  <a:pt x="14304" y="3621"/>
                  <a:pt x="14321" y="3621"/>
                  <a:pt x="14337" y="3621"/>
                </a:cubicBezTo>
              </a:path>
              <a:path w="894" h="150">
                <a:moveTo>
                  <a:pt x="14486" y="3572"/>
                </a:moveTo>
                <a:cubicBezTo>
                  <a:pt x="14532" y="3572"/>
                  <a:pt x="14544" y="3552"/>
                  <a:pt x="14585" y="3547"/>
                </a:cubicBezTo>
                <a:cubicBezTo>
                  <a:pt x="14625" y="3542"/>
                  <a:pt x="14639" y="3522"/>
                  <a:pt x="14684" y="3522"/>
                </a:cubicBezTo>
                <a:cubicBezTo>
                  <a:pt x="14723" y="3522"/>
                  <a:pt x="14704" y="3497"/>
                  <a:pt x="14759" y="3497"/>
                </a:cubicBezTo>
              </a:path>
              <a:path w="894" h="150">
                <a:moveTo>
                  <a:pt x="14932" y="3522"/>
                </a:moveTo>
                <a:cubicBezTo>
                  <a:pt x="14932" y="3514"/>
                  <a:pt x="14932" y="3505"/>
                  <a:pt x="14932" y="3497"/>
                </a:cubicBezTo>
                <a:cubicBezTo>
                  <a:pt x="14973" y="3497"/>
                  <a:pt x="15015" y="3497"/>
                  <a:pt x="15056" y="3497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Ink 87"/>
          <p:cNvSpPr/>
          <p:nvPr/>
        </p:nvSpPr>
        <p:spPr>
          <a:xfrm>
            <a:off x="5545080" y="1251000"/>
            <a:ext cx="63720" cy="17280"/>
          </a:xfrm>
          <a:custGeom>
            <a:avLst/>
            <a:gdLst/>
            <a:ahLst/>
            <a:rect l="l" t="t" r="r" b="b"/>
            <a:pathLst>
              <a:path w="174" h="50">
                <a:moveTo>
                  <a:pt x="15404" y="3522"/>
                </a:moveTo>
                <a:cubicBezTo>
                  <a:pt x="15445" y="3491"/>
                  <a:pt x="15465" y="3517"/>
                  <a:pt x="15503" y="3497"/>
                </a:cubicBezTo>
                <a:cubicBezTo>
                  <a:pt x="15541" y="3477"/>
                  <a:pt x="15533" y="3473"/>
                  <a:pt x="15577" y="347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Ink 88"/>
          <p:cNvSpPr/>
          <p:nvPr/>
        </p:nvSpPr>
        <p:spPr>
          <a:xfrm>
            <a:off x="5715000" y="1251000"/>
            <a:ext cx="54000" cy="7920"/>
          </a:xfrm>
          <a:custGeom>
            <a:avLst/>
            <a:gdLst/>
            <a:ahLst/>
            <a:rect l="l" t="t" r="r" b="b"/>
            <a:pathLst>
              <a:path w="150" h="25">
                <a:moveTo>
                  <a:pt x="15875" y="3497"/>
                </a:moveTo>
                <a:cubicBezTo>
                  <a:pt x="15914" y="3488"/>
                  <a:pt x="15930" y="3473"/>
                  <a:pt x="15974" y="3473"/>
                </a:cubicBezTo>
                <a:cubicBezTo>
                  <a:pt x="15999" y="3473"/>
                  <a:pt x="16007" y="3473"/>
                  <a:pt x="16024" y="347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nk 89"/>
          <p:cNvSpPr/>
          <p:nvPr/>
        </p:nvSpPr>
        <p:spPr>
          <a:xfrm>
            <a:off x="5911920" y="1268280"/>
            <a:ext cx="61920" cy="972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6421" y="3547"/>
                </a:moveTo>
                <a:cubicBezTo>
                  <a:pt x="16480" y="3547"/>
                  <a:pt x="16499" y="3537"/>
                  <a:pt x="16545" y="3522"/>
                </a:cubicBezTo>
                <a:cubicBezTo>
                  <a:pt x="16570" y="3522"/>
                  <a:pt x="16578" y="3522"/>
                  <a:pt x="16594" y="352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Ink 90"/>
          <p:cNvSpPr/>
          <p:nvPr/>
        </p:nvSpPr>
        <p:spPr>
          <a:xfrm>
            <a:off x="6188040" y="1285920"/>
            <a:ext cx="46080" cy="17280"/>
          </a:xfrm>
          <a:custGeom>
            <a:avLst/>
            <a:gdLst/>
            <a:ahLst/>
            <a:rect l="l" t="t" r="r" b="b"/>
            <a:pathLst>
              <a:path w="125" h="50">
                <a:moveTo>
                  <a:pt x="17190" y="3572"/>
                </a:moveTo>
                <a:cubicBezTo>
                  <a:pt x="17215" y="3572"/>
                  <a:pt x="17239" y="3572"/>
                  <a:pt x="17264" y="3572"/>
                </a:cubicBezTo>
                <a:cubicBezTo>
                  <a:pt x="17279" y="3618"/>
                  <a:pt x="17298" y="3576"/>
                  <a:pt x="17314" y="362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Ink 91"/>
          <p:cNvSpPr/>
          <p:nvPr/>
        </p:nvSpPr>
        <p:spPr>
          <a:xfrm>
            <a:off x="6323040" y="1339920"/>
            <a:ext cx="6192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7562" y="3746"/>
                </a:moveTo>
                <a:cubicBezTo>
                  <a:pt x="17607" y="3746"/>
                  <a:pt x="17620" y="3726"/>
                  <a:pt x="17661" y="3721"/>
                </a:cubicBezTo>
                <a:cubicBezTo>
                  <a:pt x="17702" y="3716"/>
                  <a:pt x="17704" y="3722"/>
                  <a:pt x="17735" y="374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Ink 92"/>
          <p:cNvSpPr/>
          <p:nvPr/>
        </p:nvSpPr>
        <p:spPr>
          <a:xfrm>
            <a:off x="534960" y="6197760"/>
            <a:ext cx="2438280" cy="53640"/>
          </a:xfrm>
          <a:custGeom>
            <a:avLst/>
            <a:gdLst/>
            <a:ahLst/>
            <a:rect l="l" t="t" r="r" b="b"/>
            <a:pathLst>
              <a:path w="6773" h="150">
                <a:moveTo>
                  <a:pt x="1513" y="17338"/>
                </a:moveTo>
                <a:cubicBezTo>
                  <a:pt x="1505" y="17338"/>
                  <a:pt x="1496" y="17338"/>
                  <a:pt x="1488" y="17338"/>
                </a:cubicBezTo>
                <a:cubicBezTo>
                  <a:pt x="1594" y="17338"/>
                  <a:pt x="1694" y="17334"/>
                  <a:pt x="1786" y="17314"/>
                </a:cubicBezTo>
                <a:cubicBezTo>
                  <a:pt x="1821" y="17306"/>
                  <a:pt x="1848" y="17298"/>
                  <a:pt x="1885" y="17289"/>
                </a:cubicBezTo>
                <a:cubicBezTo>
                  <a:pt x="1921" y="17280"/>
                  <a:pt x="1967" y="17274"/>
                  <a:pt x="2009" y="17264"/>
                </a:cubicBezTo>
                <a:cubicBezTo>
                  <a:pt x="2048" y="17255"/>
                  <a:pt x="2065" y="17243"/>
                  <a:pt x="2108" y="17239"/>
                </a:cubicBezTo>
                <a:cubicBezTo>
                  <a:pt x="2163" y="17234"/>
                  <a:pt x="2240" y="17217"/>
                  <a:pt x="2282" y="17214"/>
                </a:cubicBezTo>
                <a:cubicBezTo>
                  <a:pt x="2678" y="17185"/>
                  <a:pt x="3198" y="17157"/>
                  <a:pt x="3572" y="17239"/>
                </a:cubicBezTo>
                <a:cubicBezTo>
                  <a:pt x="3613" y="17248"/>
                  <a:pt x="3660" y="17260"/>
                  <a:pt x="3696" y="17264"/>
                </a:cubicBezTo>
                <a:cubicBezTo>
                  <a:pt x="3880" y="17282"/>
                  <a:pt x="4095" y="17277"/>
                  <a:pt x="4266" y="17289"/>
                </a:cubicBezTo>
                <a:cubicBezTo>
                  <a:pt x="4363" y="17296"/>
                  <a:pt x="4480" y="17308"/>
                  <a:pt x="4564" y="17314"/>
                </a:cubicBezTo>
                <a:cubicBezTo>
                  <a:pt x="4850" y="17335"/>
                  <a:pt x="5159" y="17319"/>
                  <a:pt x="5432" y="17338"/>
                </a:cubicBezTo>
                <a:cubicBezTo>
                  <a:pt x="5483" y="17342"/>
                  <a:pt x="5542" y="17359"/>
                  <a:pt x="5581" y="17363"/>
                </a:cubicBezTo>
                <a:cubicBezTo>
                  <a:pt x="5786" y="17383"/>
                  <a:pt x="6012" y="17352"/>
                  <a:pt x="6201" y="17338"/>
                </a:cubicBezTo>
                <a:cubicBezTo>
                  <a:pt x="6298" y="17331"/>
                  <a:pt x="6415" y="17320"/>
                  <a:pt x="6499" y="17314"/>
                </a:cubicBezTo>
                <a:cubicBezTo>
                  <a:pt x="6634" y="17305"/>
                  <a:pt x="6777" y="17330"/>
                  <a:pt x="6896" y="17338"/>
                </a:cubicBezTo>
                <a:cubicBezTo>
                  <a:pt x="7322" y="17367"/>
                  <a:pt x="7877" y="17380"/>
                  <a:pt x="8260" y="17314"/>
                </a:cubicBezTo>
                <a:cubicBezTo>
                  <a:pt x="8243" y="17322"/>
                  <a:pt x="8251" y="17331"/>
                  <a:pt x="8210" y="17338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392760" y="2421000"/>
            <a:ext cx="44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Bo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00360" y="692280"/>
          <a:ext cx="4608360" cy="1512720"/>
        </p:xfrm>
        <a:graphic>
          <a:graphicData uri="http://schemas.openxmlformats.org/drawingml/2006/table">
            <a:tbl>
              <a:tblPr/>
              <a:tblGrid>
                <a:gridCol w="1152360"/>
                <a:gridCol w="1152720"/>
                <a:gridCol w="1152360"/>
                <a:gridCol w="115092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83"/>
          <p:cNvSpPr/>
          <p:nvPr/>
        </p:nvSpPr>
        <p:spPr>
          <a:xfrm>
            <a:off x="468360" y="69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avourite p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5"/>
          <p:cNvSpPr/>
          <p:nvPr/>
        </p:nvSpPr>
        <p:spPr>
          <a:xfrm>
            <a:off x="389880" y="323856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og being favourite p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6"/>
          <p:cNvSpPr/>
          <p:nvPr/>
        </p:nvSpPr>
        <p:spPr>
          <a:xfrm>
            <a:off x="386640" y="4876920"/>
            <a:ext cx="69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that a Boy has a Cat as favourite 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386280" y="5695920"/>
            <a:ext cx="84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girl, given that a dog is a favourite 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8"/>
          <p:cNvSpPr/>
          <p:nvPr/>
        </p:nvSpPr>
        <p:spPr>
          <a:xfrm>
            <a:off x="387000" y="4057560"/>
            <a:ext cx="84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Boy and having a Cat as favourite p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2360" y="44280"/>
            <a:ext cx="511164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395280" y="134136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esign a simulation to find the chance of an injury on a rainy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252000" y="2421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oo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1"/>
          <p:cNvSpPr/>
          <p:nvPr/>
        </p:nvSpPr>
        <p:spPr>
          <a:xfrm>
            <a:off x="251280" y="35244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i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250920" y="46292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eco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re is a 20% chance of a car crash on a rainy day. 45% of these crashes involve injury to the people in the c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3"/>
          <p:cNvSpPr/>
          <p:nvPr/>
        </p:nvSpPr>
        <p:spPr>
          <a:xfrm>
            <a:off x="250920" y="57340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alcula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4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10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395280" y="134136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esign a simulation to find the chance of an injury on a rainy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252000" y="2421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oo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251280" y="35244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i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250920" y="46292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eco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re is a 20% chance of a car crash on a rainy day. 45% of these crashes involve injury to the people in the c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250920" y="57340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alcula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0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Ink 10"/>
          <p:cNvSpPr/>
          <p:nvPr/>
        </p:nvSpPr>
        <p:spPr>
          <a:xfrm>
            <a:off x="6848640" y="2143080"/>
            <a:ext cx="13464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9025" y="6052"/>
                </a:moveTo>
                <a:cubicBezTo>
                  <a:pt x="19033" y="6019"/>
                  <a:pt x="19064" y="5986"/>
                  <a:pt x="19100" y="5978"/>
                </a:cubicBezTo>
                <a:cubicBezTo>
                  <a:pt x="19160" y="5965"/>
                  <a:pt x="19214" y="5968"/>
                  <a:pt x="19273" y="5953"/>
                </a:cubicBezTo>
                <a:cubicBezTo>
                  <a:pt x="19302" y="5946"/>
                  <a:pt x="19342" y="5953"/>
                  <a:pt x="19372" y="5953"/>
                </a:cubicBezTo>
                <a:cubicBezTo>
                  <a:pt x="19372" y="6019"/>
                  <a:pt x="19348" y="6027"/>
                  <a:pt x="19298" y="6077"/>
                </a:cubicBezTo>
                <a:cubicBezTo>
                  <a:pt x="19273" y="6102"/>
                  <a:pt x="19213" y="6168"/>
                  <a:pt x="19199" y="6176"/>
                </a:cubicBezTo>
                <a:cubicBezTo>
                  <a:pt x="19174" y="6176"/>
                  <a:pt x="19166" y="6176"/>
                  <a:pt x="19174" y="6201"/>
                </a:cubicBezTo>
                <a:cubicBezTo>
                  <a:pt x="19213" y="6211"/>
                  <a:pt x="19229" y="6226"/>
                  <a:pt x="19273" y="6226"/>
                </a:cubicBezTo>
                <a:cubicBezTo>
                  <a:pt x="19323" y="6226"/>
                  <a:pt x="19372" y="6221"/>
                  <a:pt x="19397" y="6276"/>
                </a:cubicBezTo>
                <a:cubicBezTo>
                  <a:pt x="19417" y="6320"/>
                  <a:pt x="19374" y="6371"/>
                  <a:pt x="19348" y="6400"/>
                </a:cubicBezTo>
                <a:cubicBezTo>
                  <a:pt x="19325" y="6425"/>
                  <a:pt x="19280" y="6445"/>
                  <a:pt x="19248" y="6449"/>
                </a:cubicBezTo>
                <a:cubicBezTo>
                  <a:pt x="19204" y="6454"/>
                  <a:pt x="19178" y="6474"/>
                  <a:pt x="19124" y="6474"/>
                </a:cubicBezTo>
                <a:cubicBezTo>
                  <a:pt x="19072" y="6474"/>
                  <a:pt x="19046" y="6436"/>
                  <a:pt x="19075" y="6400"/>
                </a:cubicBezTo>
                <a:cubicBezTo>
                  <a:pt x="19083" y="6392"/>
                  <a:pt x="19092" y="6383"/>
                  <a:pt x="19100" y="6375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Ink 11"/>
          <p:cNvSpPr/>
          <p:nvPr/>
        </p:nvSpPr>
        <p:spPr>
          <a:xfrm>
            <a:off x="7126200" y="2062080"/>
            <a:ext cx="1000080" cy="366840"/>
          </a:xfrm>
          <a:custGeom>
            <a:avLst/>
            <a:gdLst/>
            <a:ahLst/>
            <a:rect l="l" t="t" r="r" b="b"/>
            <a:pathLst>
              <a:path w="2779" h="1018">
                <a:moveTo>
                  <a:pt x="20166" y="6152"/>
                </a:moveTo>
                <a:cubicBezTo>
                  <a:pt x="20100" y="6112"/>
                  <a:pt x="20069" y="6148"/>
                  <a:pt x="19993" y="6152"/>
                </a:cubicBezTo>
                <a:cubicBezTo>
                  <a:pt x="19920" y="6156"/>
                  <a:pt x="19894" y="6176"/>
                  <a:pt x="19844" y="6226"/>
                </a:cubicBezTo>
                <a:cubicBezTo>
                  <a:pt x="19808" y="6262"/>
                  <a:pt x="19798" y="6300"/>
                  <a:pt x="19794" y="6350"/>
                </a:cubicBezTo>
                <a:cubicBezTo>
                  <a:pt x="19791" y="6391"/>
                  <a:pt x="19857" y="6398"/>
                  <a:pt x="19893" y="6400"/>
                </a:cubicBezTo>
                <a:cubicBezTo>
                  <a:pt x="19959" y="6404"/>
                  <a:pt x="20038" y="6362"/>
                  <a:pt x="20092" y="6325"/>
                </a:cubicBezTo>
                <a:cubicBezTo>
                  <a:pt x="20143" y="6289"/>
                  <a:pt x="20179" y="6246"/>
                  <a:pt x="20216" y="6201"/>
                </a:cubicBezTo>
                <a:cubicBezTo>
                  <a:pt x="20254" y="6155"/>
                  <a:pt x="20287" y="6105"/>
                  <a:pt x="20315" y="6052"/>
                </a:cubicBezTo>
                <a:cubicBezTo>
                  <a:pt x="20339" y="6007"/>
                  <a:pt x="20352" y="5946"/>
                  <a:pt x="20365" y="5904"/>
                </a:cubicBezTo>
                <a:cubicBezTo>
                  <a:pt x="20373" y="5877"/>
                  <a:pt x="20365" y="5833"/>
                  <a:pt x="20365" y="5804"/>
                </a:cubicBezTo>
                <a:cubicBezTo>
                  <a:pt x="20316" y="5866"/>
                  <a:pt x="20334" y="5887"/>
                  <a:pt x="20315" y="5953"/>
                </a:cubicBezTo>
                <a:cubicBezTo>
                  <a:pt x="20300" y="6004"/>
                  <a:pt x="20269" y="6048"/>
                  <a:pt x="20265" y="6102"/>
                </a:cubicBezTo>
                <a:cubicBezTo>
                  <a:pt x="20260" y="6179"/>
                  <a:pt x="20269" y="6238"/>
                  <a:pt x="20290" y="6300"/>
                </a:cubicBezTo>
                <a:cubicBezTo>
                  <a:pt x="20304" y="6341"/>
                  <a:pt x="20320" y="6325"/>
                  <a:pt x="20365" y="6325"/>
                </a:cubicBezTo>
              </a:path>
              <a:path w="2779" h="1018">
                <a:moveTo>
                  <a:pt x="20489" y="6176"/>
                </a:moveTo>
                <a:cubicBezTo>
                  <a:pt x="20489" y="6209"/>
                  <a:pt x="20489" y="6243"/>
                  <a:pt x="20489" y="6276"/>
                </a:cubicBezTo>
              </a:path>
              <a:path w="2779" h="1018">
                <a:moveTo>
                  <a:pt x="20613" y="6003"/>
                </a:moveTo>
                <a:lnTo>
                  <a:pt x="20613" y="6003"/>
                </a:lnTo>
                <a:lnTo>
                  <a:pt x="20613" y="6003"/>
                </a:lnTo>
              </a:path>
              <a:path w="2779" h="1018">
                <a:moveTo>
                  <a:pt x="20613" y="6003"/>
                </a:moveTo>
                <a:cubicBezTo>
                  <a:pt x="20704" y="6044"/>
                  <a:pt x="20795" y="6086"/>
                  <a:pt x="20886" y="6127"/>
                </a:cubicBezTo>
                <a:cubicBezTo>
                  <a:pt x="20839" y="6127"/>
                  <a:pt x="20774" y="6139"/>
                  <a:pt x="20762" y="6176"/>
                </a:cubicBezTo>
                <a:cubicBezTo>
                  <a:pt x="20746" y="6225"/>
                  <a:pt x="20761" y="6272"/>
                  <a:pt x="20811" y="6276"/>
                </a:cubicBezTo>
                <a:cubicBezTo>
                  <a:pt x="20878" y="6281"/>
                  <a:pt x="20904" y="6266"/>
                  <a:pt x="20935" y="6251"/>
                </a:cubicBezTo>
                <a:cubicBezTo>
                  <a:pt x="20967" y="6235"/>
                  <a:pt x="20960" y="6247"/>
                  <a:pt x="20960" y="6201"/>
                </a:cubicBezTo>
                <a:cubicBezTo>
                  <a:pt x="20935" y="6125"/>
                  <a:pt x="20945" y="6223"/>
                  <a:pt x="20935" y="6251"/>
                </a:cubicBezTo>
                <a:cubicBezTo>
                  <a:pt x="20909" y="6327"/>
                  <a:pt x="20906" y="6401"/>
                  <a:pt x="20886" y="6474"/>
                </a:cubicBezTo>
                <a:cubicBezTo>
                  <a:pt x="20868" y="6539"/>
                  <a:pt x="20852" y="6613"/>
                  <a:pt x="20811" y="6672"/>
                </a:cubicBezTo>
                <a:cubicBezTo>
                  <a:pt x="20787" y="6706"/>
                  <a:pt x="20751" y="6743"/>
                  <a:pt x="20712" y="6747"/>
                </a:cubicBezTo>
                <a:cubicBezTo>
                  <a:pt x="20682" y="6750"/>
                  <a:pt x="20600" y="6761"/>
                  <a:pt x="20588" y="6722"/>
                </a:cubicBezTo>
                <a:cubicBezTo>
                  <a:pt x="20571" y="6665"/>
                  <a:pt x="20588" y="6591"/>
                  <a:pt x="20613" y="6548"/>
                </a:cubicBezTo>
                <a:cubicBezTo>
                  <a:pt x="20621" y="6532"/>
                  <a:pt x="20630" y="6515"/>
                  <a:pt x="20638" y="6499"/>
                </a:cubicBezTo>
              </a:path>
              <a:path w="2779" h="1018">
                <a:moveTo>
                  <a:pt x="21233" y="6102"/>
                </a:moveTo>
                <a:cubicBezTo>
                  <a:pt x="21233" y="6143"/>
                  <a:pt x="21233" y="6185"/>
                  <a:pt x="21233" y="6226"/>
                </a:cubicBezTo>
              </a:path>
              <a:path w="2779" h="1018">
                <a:moveTo>
                  <a:pt x="21307" y="5978"/>
                </a:moveTo>
                <a:cubicBezTo>
                  <a:pt x="21318" y="5946"/>
                  <a:pt x="21377" y="5902"/>
                  <a:pt x="21357" y="5928"/>
                </a:cubicBezTo>
                <a:cubicBezTo>
                  <a:pt x="21340" y="5945"/>
                  <a:pt x="21324" y="5961"/>
                  <a:pt x="21307" y="5978"/>
                </a:cubicBezTo>
              </a:path>
              <a:path w="2779" h="1018">
                <a:moveTo>
                  <a:pt x="21307" y="5978"/>
                </a:moveTo>
                <a:cubicBezTo>
                  <a:pt x="21381" y="5895"/>
                  <a:pt x="21456" y="5813"/>
                  <a:pt x="21530" y="5730"/>
                </a:cubicBezTo>
                <a:cubicBezTo>
                  <a:pt x="21523" y="5809"/>
                  <a:pt x="21506" y="5872"/>
                  <a:pt x="21506" y="5953"/>
                </a:cubicBezTo>
                <a:cubicBezTo>
                  <a:pt x="21506" y="6007"/>
                  <a:pt x="21508" y="6061"/>
                  <a:pt x="21481" y="6102"/>
                </a:cubicBezTo>
                <a:cubicBezTo>
                  <a:pt x="21456" y="6140"/>
                  <a:pt x="21456" y="6153"/>
                  <a:pt x="21456" y="6201"/>
                </a:cubicBezTo>
              </a:path>
              <a:path w="2779" h="1018">
                <a:moveTo>
                  <a:pt x="21456" y="6077"/>
                </a:moveTo>
                <a:cubicBezTo>
                  <a:pt x="21456" y="6069"/>
                  <a:pt x="21456" y="6060"/>
                  <a:pt x="21456" y="6052"/>
                </a:cubicBezTo>
                <a:cubicBezTo>
                  <a:pt x="21506" y="6040"/>
                  <a:pt x="21520" y="6028"/>
                  <a:pt x="21580" y="6028"/>
                </a:cubicBezTo>
                <a:cubicBezTo>
                  <a:pt x="21632" y="6028"/>
                  <a:pt x="21661" y="6027"/>
                  <a:pt x="21704" y="6052"/>
                </a:cubicBezTo>
              </a:path>
              <a:path w="2779" h="1018">
                <a:moveTo>
                  <a:pt x="21704" y="6077"/>
                </a:moveTo>
                <a:cubicBezTo>
                  <a:pt x="21676" y="6077"/>
                  <a:pt x="21665" y="6079"/>
                  <a:pt x="21654" y="6102"/>
                </a:cubicBezTo>
                <a:cubicBezTo>
                  <a:pt x="21662" y="6104"/>
                  <a:pt x="21752" y="6124"/>
                  <a:pt x="21754" y="6127"/>
                </a:cubicBezTo>
                <a:cubicBezTo>
                  <a:pt x="21778" y="6157"/>
                  <a:pt x="21779" y="6208"/>
                  <a:pt x="21779" y="6251"/>
                </a:cubicBezTo>
                <a:cubicBezTo>
                  <a:pt x="21779" y="6293"/>
                  <a:pt x="21743" y="6321"/>
                  <a:pt x="21704" y="6325"/>
                </a:cubicBezTo>
                <a:cubicBezTo>
                  <a:pt x="21679" y="6325"/>
                  <a:pt x="21671" y="6325"/>
                  <a:pt x="21654" y="6325"/>
                </a:cubicBezTo>
                <a:cubicBezTo>
                  <a:pt x="21663" y="6288"/>
                  <a:pt x="21675" y="6280"/>
                  <a:pt x="21704" y="6251"/>
                </a:cubicBezTo>
              </a:path>
              <a:path w="2779" h="1018">
                <a:moveTo>
                  <a:pt x="22299" y="6102"/>
                </a:moveTo>
                <a:cubicBezTo>
                  <a:pt x="22290" y="6141"/>
                  <a:pt x="22275" y="6157"/>
                  <a:pt x="22275" y="6201"/>
                </a:cubicBezTo>
                <a:cubicBezTo>
                  <a:pt x="22275" y="6249"/>
                  <a:pt x="22234" y="6299"/>
                  <a:pt x="22225" y="6350"/>
                </a:cubicBezTo>
                <a:cubicBezTo>
                  <a:pt x="22216" y="6404"/>
                  <a:pt x="22196" y="6446"/>
                  <a:pt x="22175" y="6499"/>
                </a:cubicBezTo>
                <a:cubicBezTo>
                  <a:pt x="22158" y="6542"/>
                  <a:pt x="22162" y="6594"/>
                  <a:pt x="22126" y="6623"/>
                </a:cubicBezTo>
                <a:cubicBezTo>
                  <a:pt x="22092" y="6650"/>
                  <a:pt x="22101" y="6646"/>
                  <a:pt x="22101" y="6598"/>
                </a:cubicBezTo>
                <a:cubicBezTo>
                  <a:pt x="22101" y="6523"/>
                  <a:pt x="22120" y="6434"/>
                  <a:pt x="22076" y="6375"/>
                </a:cubicBezTo>
                <a:cubicBezTo>
                  <a:pt x="22076" y="6437"/>
                  <a:pt x="22084" y="6474"/>
                  <a:pt x="22101" y="6524"/>
                </a:cubicBezTo>
                <a:cubicBezTo>
                  <a:pt x="22111" y="6554"/>
                  <a:pt x="22123" y="6594"/>
                  <a:pt x="22126" y="6623"/>
                </a:cubicBezTo>
                <a:cubicBezTo>
                  <a:pt x="22126" y="6631"/>
                  <a:pt x="22126" y="6640"/>
                  <a:pt x="22126" y="6648"/>
                </a:cubicBezTo>
                <a:cubicBezTo>
                  <a:pt x="22172" y="6648"/>
                  <a:pt x="22190" y="6654"/>
                  <a:pt x="22225" y="6623"/>
                </a:cubicBezTo>
                <a:cubicBezTo>
                  <a:pt x="22280" y="6574"/>
                  <a:pt x="22312" y="6585"/>
                  <a:pt x="22374" y="6548"/>
                </a:cubicBezTo>
                <a:cubicBezTo>
                  <a:pt x="22421" y="6520"/>
                  <a:pt x="22477" y="6481"/>
                  <a:pt x="22523" y="6449"/>
                </a:cubicBezTo>
                <a:cubicBezTo>
                  <a:pt x="22545" y="6426"/>
                  <a:pt x="22550" y="6418"/>
                  <a:pt x="22572" y="6424"/>
                </a:cubicBezTo>
              </a:path>
              <a:path w="2779" h="1018">
                <a:moveTo>
                  <a:pt x="21803" y="6003"/>
                </a:moveTo>
                <a:cubicBezTo>
                  <a:pt x="21778" y="6003"/>
                  <a:pt x="21754" y="6003"/>
                  <a:pt x="21729" y="6003"/>
                </a:cubicBezTo>
                <a:cubicBezTo>
                  <a:pt x="21716" y="6042"/>
                  <a:pt x="21717" y="6013"/>
                  <a:pt x="21704" y="605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Ink 12"/>
          <p:cNvSpPr/>
          <p:nvPr/>
        </p:nvSpPr>
        <p:spPr>
          <a:xfrm>
            <a:off x="1295280" y="2419200"/>
            <a:ext cx="1170000" cy="277920"/>
          </a:xfrm>
          <a:custGeom>
            <a:avLst/>
            <a:gdLst/>
            <a:ahLst/>
            <a:rect l="l" t="t" r="r" b="b"/>
            <a:pathLst>
              <a:path w="3250" h="770">
                <a:moveTo>
                  <a:pt x="4068" y="6821"/>
                </a:moveTo>
                <a:cubicBezTo>
                  <a:pt x="4017" y="6821"/>
                  <a:pt x="4010" y="6832"/>
                  <a:pt x="3969" y="6846"/>
                </a:cubicBezTo>
                <a:cubicBezTo>
                  <a:pt x="3924" y="6861"/>
                  <a:pt x="3889" y="6895"/>
                  <a:pt x="3845" y="6921"/>
                </a:cubicBezTo>
                <a:cubicBezTo>
                  <a:pt x="3791" y="6953"/>
                  <a:pt x="3733" y="7000"/>
                  <a:pt x="3696" y="7045"/>
                </a:cubicBezTo>
                <a:cubicBezTo>
                  <a:pt x="3641" y="7113"/>
                  <a:pt x="3648" y="7175"/>
                  <a:pt x="3621" y="7243"/>
                </a:cubicBezTo>
                <a:cubicBezTo>
                  <a:pt x="3601" y="7294"/>
                  <a:pt x="3597" y="7330"/>
                  <a:pt x="3597" y="7392"/>
                </a:cubicBezTo>
                <a:cubicBezTo>
                  <a:pt x="3597" y="7437"/>
                  <a:pt x="3595" y="7460"/>
                  <a:pt x="3646" y="7466"/>
                </a:cubicBezTo>
                <a:cubicBezTo>
                  <a:pt x="3719" y="7474"/>
                  <a:pt x="3778" y="7457"/>
                  <a:pt x="3845" y="7441"/>
                </a:cubicBezTo>
                <a:cubicBezTo>
                  <a:pt x="3885" y="7432"/>
                  <a:pt x="3938" y="7413"/>
                  <a:pt x="3969" y="7392"/>
                </a:cubicBezTo>
                <a:cubicBezTo>
                  <a:pt x="4009" y="7365"/>
                  <a:pt x="4018" y="7367"/>
                  <a:pt x="4068" y="7367"/>
                </a:cubicBezTo>
              </a:path>
              <a:path w="3250" h="770">
                <a:moveTo>
                  <a:pt x="4440" y="7144"/>
                </a:moveTo>
                <a:cubicBezTo>
                  <a:pt x="4389" y="7144"/>
                  <a:pt x="4382" y="7155"/>
                  <a:pt x="4341" y="7169"/>
                </a:cubicBezTo>
                <a:cubicBezTo>
                  <a:pt x="4314" y="7178"/>
                  <a:pt x="4257" y="7187"/>
                  <a:pt x="4242" y="7218"/>
                </a:cubicBezTo>
                <a:cubicBezTo>
                  <a:pt x="4221" y="7261"/>
                  <a:pt x="4192" y="7288"/>
                  <a:pt x="4192" y="7342"/>
                </a:cubicBezTo>
                <a:cubicBezTo>
                  <a:pt x="4192" y="7388"/>
                  <a:pt x="4190" y="7411"/>
                  <a:pt x="4242" y="7417"/>
                </a:cubicBezTo>
                <a:cubicBezTo>
                  <a:pt x="4293" y="7423"/>
                  <a:pt x="4306" y="7402"/>
                  <a:pt x="4341" y="7367"/>
                </a:cubicBezTo>
                <a:cubicBezTo>
                  <a:pt x="4360" y="7348"/>
                  <a:pt x="4404" y="7294"/>
                  <a:pt x="4415" y="7268"/>
                </a:cubicBezTo>
                <a:cubicBezTo>
                  <a:pt x="4415" y="7260"/>
                  <a:pt x="4415" y="7251"/>
                  <a:pt x="4415" y="7243"/>
                </a:cubicBezTo>
                <a:cubicBezTo>
                  <a:pt x="4415" y="7328"/>
                  <a:pt x="4415" y="7416"/>
                  <a:pt x="4440" y="7466"/>
                </a:cubicBezTo>
                <a:cubicBezTo>
                  <a:pt x="4440" y="7494"/>
                  <a:pt x="4442" y="7500"/>
                  <a:pt x="4465" y="7466"/>
                </a:cubicBezTo>
              </a:path>
              <a:path w="3250" h="770">
                <a:moveTo>
                  <a:pt x="4638" y="6846"/>
                </a:moveTo>
                <a:cubicBezTo>
                  <a:pt x="4623" y="6891"/>
                  <a:pt x="4614" y="6871"/>
                  <a:pt x="4614" y="6945"/>
                </a:cubicBezTo>
                <a:cubicBezTo>
                  <a:pt x="4614" y="7059"/>
                  <a:pt x="4614" y="7161"/>
                  <a:pt x="4589" y="7268"/>
                </a:cubicBezTo>
                <a:cubicBezTo>
                  <a:pt x="4581" y="7303"/>
                  <a:pt x="4575" y="7397"/>
                  <a:pt x="4614" y="7417"/>
                </a:cubicBezTo>
                <a:cubicBezTo>
                  <a:pt x="4622" y="7417"/>
                  <a:pt x="4630" y="7417"/>
                  <a:pt x="4638" y="7417"/>
                </a:cubicBezTo>
              </a:path>
              <a:path w="3250" h="770">
                <a:moveTo>
                  <a:pt x="4911" y="7169"/>
                </a:moveTo>
                <a:cubicBezTo>
                  <a:pt x="4867" y="7180"/>
                  <a:pt x="4846" y="7209"/>
                  <a:pt x="4812" y="7243"/>
                </a:cubicBezTo>
                <a:cubicBezTo>
                  <a:pt x="4783" y="7272"/>
                  <a:pt x="4750" y="7306"/>
                  <a:pt x="4738" y="7342"/>
                </a:cubicBezTo>
                <a:cubicBezTo>
                  <a:pt x="4723" y="7389"/>
                  <a:pt x="4755" y="7403"/>
                  <a:pt x="4762" y="7417"/>
                </a:cubicBezTo>
                <a:cubicBezTo>
                  <a:pt x="4779" y="7451"/>
                  <a:pt x="4790" y="7441"/>
                  <a:pt x="4837" y="7441"/>
                </a:cubicBezTo>
                <a:cubicBezTo>
                  <a:pt x="4874" y="7441"/>
                  <a:pt x="4908" y="7414"/>
                  <a:pt x="4936" y="7392"/>
                </a:cubicBezTo>
              </a:path>
              <a:path w="3250" h="770">
                <a:moveTo>
                  <a:pt x="5035" y="7268"/>
                </a:moveTo>
                <a:cubicBezTo>
                  <a:pt x="5035" y="7327"/>
                  <a:pt x="5026" y="7366"/>
                  <a:pt x="5060" y="7392"/>
                </a:cubicBezTo>
                <a:cubicBezTo>
                  <a:pt x="5112" y="7431"/>
                  <a:pt x="5115" y="7412"/>
                  <a:pt x="5159" y="7367"/>
                </a:cubicBezTo>
                <a:cubicBezTo>
                  <a:pt x="5179" y="7347"/>
                  <a:pt x="5194" y="7278"/>
                  <a:pt x="5209" y="7268"/>
                </a:cubicBezTo>
                <a:cubicBezTo>
                  <a:pt x="5217" y="7268"/>
                  <a:pt x="5226" y="7268"/>
                  <a:pt x="5234" y="7268"/>
                </a:cubicBezTo>
                <a:cubicBezTo>
                  <a:pt x="5283" y="7284"/>
                  <a:pt x="5243" y="7297"/>
                  <a:pt x="5259" y="7342"/>
                </a:cubicBezTo>
                <a:cubicBezTo>
                  <a:pt x="5272" y="7380"/>
                  <a:pt x="5303" y="7439"/>
                  <a:pt x="5333" y="7441"/>
                </a:cubicBezTo>
                <a:cubicBezTo>
                  <a:pt x="5396" y="7446"/>
                  <a:pt x="5376" y="7434"/>
                  <a:pt x="5407" y="7392"/>
                </a:cubicBezTo>
              </a:path>
              <a:path w="3250" h="770">
                <a:moveTo>
                  <a:pt x="5482" y="6821"/>
                </a:moveTo>
                <a:cubicBezTo>
                  <a:pt x="5482" y="6934"/>
                  <a:pt x="5489" y="7037"/>
                  <a:pt x="5507" y="7144"/>
                </a:cubicBezTo>
                <a:cubicBezTo>
                  <a:pt x="5515" y="7190"/>
                  <a:pt x="5479" y="7291"/>
                  <a:pt x="5531" y="7317"/>
                </a:cubicBezTo>
                <a:cubicBezTo>
                  <a:pt x="5556" y="7317"/>
                  <a:pt x="5564" y="7317"/>
                  <a:pt x="5581" y="7317"/>
                </a:cubicBezTo>
              </a:path>
              <a:path w="3250" h="770">
                <a:moveTo>
                  <a:pt x="5879" y="7144"/>
                </a:moveTo>
                <a:cubicBezTo>
                  <a:pt x="5828" y="7144"/>
                  <a:pt x="5820" y="7155"/>
                  <a:pt x="5779" y="7169"/>
                </a:cubicBezTo>
                <a:cubicBezTo>
                  <a:pt x="5753" y="7178"/>
                  <a:pt x="5734" y="7231"/>
                  <a:pt x="5730" y="7268"/>
                </a:cubicBezTo>
                <a:cubicBezTo>
                  <a:pt x="5730" y="7293"/>
                  <a:pt x="5730" y="7301"/>
                  <a:pt x="5730" y="7317"/>
                </a:cubicBezTo>
                <a:cubicBezTo>
                  <a:pt x="5775" y="7317"/>
                  <a:pt x="5794" y="7323"/>
                  <a:pt x="5829" y="7293"/>
                </a:cubicBezTo>
                <a:cubicBezTo>
                  <a:pt x="5870" y="7257"/>
                  <a:pt x="5837" y="7257"/>
                  <a:pt x="5879" y="7243"/>
                </a:cubicBezTo>
                <a:cubicBezTo>
                  <a:pt x="5879" y="7295"/>
                  <a:pt x="5893" y="7296"/>
                  <a:pt x="5904" y="7317"/>
                </a:cubicBezTo>
                <a:cubicBezTo>
                  <a:pt x="5927" y="7363"/>
                  <a:pt x="5940" y="7330"/>
                  <a:pt x="5978" y="7293"/>
                </a:cubicBezTo>
              </a:path>
              <a:path w="3250" h="770">
                <a:moveTo>
                  <a:pt x="6028" y="6722"/>
                </a:moveTo>
                <a:cubicBezTo>
                  <a:pt x="6028" y="6921"/>
                  <a:pt x="6028" y="7467"/>
                  <a:pt x="6028" y="7268"/>
                </a:cubicBezTo>
              </a:path>
              <a:path w="3250" h="770">
                <a:moveTo>
                  <a:pt x="5953" y="7094"/>
                </a:moveTo>
                <a:cubicBezTo>
                  <a:pt x="5989" y="7094"/>
                  <a:pt x="6025" y="7101"/>
                  <a:pt x="6052" y="7119"/>
                </a:cubicBezTo>
                <a:cubicBezTo>
                  <a:pt x="6089" y="7144"/>
                  <a:pt x="6082" y="7144"/>
                  <a:pt x="6127" y="7144"/>
                </a:cubicBezTo>
              </a:path>
              <a:path w="3250" h="770">
                <a:moveTo>
                  <a:pt x="6176" y="7144"/>
                </a:moveTo>
                <a:cubicBezTo>
                  <a:pt x="6165" y="7179"/>
                  <a:pt x="6152" y="7185"/>
                  <a:pt x="6152" y="7243"/>
                </a:cubicBezTo>
                <a:cubicBezTo>
                  <a:pt x="6152" y="7286"/>
                  <a:pt x="6186" y="7313"/>
                  <a:pt x="6226" y="7317"/>
                </a:cubicBezTo>
                <a:cubicBezTo>
                  <a:pt x="6258" y="7320"/>
                  <a:pt x="6270" y="7334"/>
                  <a:pt x="6300" y="7342"/>
                </a:cubicBezTo>
                <a:cubicBezTo>
                  <a:pt x="6325" y="7309"/>
                  <a:pt x="6346" y="7298"/>
                  <a:pt x="6350" y="7268"/>
                </a:cubicBezTo>
                <a:cubicBezTo>
                  <a:pt x="6357" y="7214"/>
                  <a:pt x="6338" y="7194"/>
                  <a:pt x="6325" y="7144"/>
                </a:cubicBezTo>
                <a:cubicBezTo>
                  <a:pt x="6314" y="7102"/>
                  <a:pt x="6328" y="7087"/>
                  <a:pt x="6276" y="7069"/>
                </a:cubicBezTo>
                <a:cubicBezTo>
                  <a:pt x="6251" y="7069"/>
                  <a:pt x="6243" y="7069"/>
                  <a:pt x="6226" y="7069"/>
                </a:cubicBezTo>
                <a:cubicBezTo>
                  <a:pt x="6226" y="7116"/>
                  <a:pt x="6211" y="7156"/>
                  <a:pt x="6251" y="7169"/>
                </a:cubicBezTo>
              </a:path>
              <a:path w="3250" h="770">
                <a:moveTo>
                  <a:pt x="6400" y="7243"/>
                </a:moveTo>
                <a:cubicBezTo>
                  <a:pt x="6422" y="7266"/>
                  <a:pt x="6430" y="7271"/>
                  <a:pt x="6424" y="7293"/>
                </a:cubicBezTo>
                <a:cubicBezTo>
                  <a:pt x="6459" y="7304"/>
                  <a:pt x="6449" y="7300"/>
                  <a:pt x="6449" y="7342"/>
                </a:cubicBezTo>
                <a:cubicBezTo>
                  <a:pt x="6459" y="7303"/>
                  <a:pt x="6498" y="7254"/>
                  <a:pt x="6524" y="7218"/>
                </a:cubicBezTo>
                <a:cubicBezTo>
                  <a:pt x="6553" y="7179"/>
                  <a:pt x="6575" y="7128"/>
                  <a:pt x="6598" y="7094"/>
                </a:cubicBezTo>
                <a:cubicBezTo>
                  <a:pt x="6612" y="7073"/>
                  <a:pt x="6701" y="7026"/>
                  <a:pt x="6722" y="7020"/>
                </a:cubicBezTo>
                <a:cubicBezTo>
                  <a:pt x="6770" y="7007"/>
                  <a:pt x="6812" y="7019"/>
                  <a:pt x="6846" y="7045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Ink 13"/>
          <p:cNvSpPr/>
          <p:nvPr/>
        </p:nvSpPr>
        <p:spPr>
          <a:xfrm>
            <a:off x="2768760" y="2463840"/>
            <a:ext cx="901440" cy="216000"/>
          </a:xfrm>
          <a:custGeom>
            <a:avLst/>
            <a:gdLst/>
            <a:ahLst/>
            <a:rect l="l" t="t" r="r" b="b"/>
            <a:pathLst>
              <a:path w="2507" h="596">
                <a:moveTo>
                  <a:pt x="7689" y="7144"/>
                </a:moveTo>
                <a:cubicBezTo>
                  <a:pt x="7689" y="7218"/>
                  <a:pt x="7689" y="7293"/>
                  <a:pt x="7689" y="7367"/>
                </a:cubicBezTo>
                <a:cubicBezTo>
                  <a:pt x="7711" y="7330"/>
                  <a:pt x="7753" y="7265"/>
                  <a:pt x="7764" y="7218"/>
                </a:cubicBezTo>
                <a:cubicBezTo>
                  <a:pt x="7773" y="7179"/>
                  <a:pt x="7770" y="7104"/>
                  <a:pt x="7789" y="7069"/>
                </a:cubicBezTo>
                <a:cubicBezTo>
                  <a:pt x="7818" y="7016"/>
                  <a:pt x="7861" y="7020"/>
                  <a:pt x="7913" y="7020"/>
                </a:cubicBezTo>
                <a:cubicBezTo>
                  <a:pt x="7948" y="7020"/>
                  <a:pt x="7965" y="7025"/>
                  <a:pt x="7987" y="7045"/>
                </a:cubicBezTo>
              </a:path>
              <a:path w="2507" h="596">
                <a:moveTo>
                  <a:pt x="8334" y="7119"/>
                </a:moveTo>
                <a:cubicBezTo>
                  <a:pt x="8278" y="7119"/>
                  <a:pt x="8230" y="7109"/>
                  <a:pt x="8186" y="7144"/>
                </a:cubicBezTo>
                <a:cubicBezTo>
                  <a:pt x="8148" y="7175"/>
                  <a:pt x="8108" y="7214"/>
                  <a:pt x="8086" y="7243"/>
                </a:cubicBezTo>
                <a:cubicBezTo>
                  <a:pt x="8058" y="7280"/>
                  <a:pt x="8062" y="7295"/>
                  <a:pt x="8062" y="7342"/>
                </a:cubicBezTo>
                <a:cubicBezTo>
                  <a:pt x="8115" y="7342"/>
                  <a:pt x="8142" y="7340"/>
                  <a:pt x="8186" y="7317"/>
                </a:cubicBezTo>
                <a:cubicBezTo>
                  <a:pt x="8199" y="7310"/>
                  <a:pt x="8297" y="7230"/>
                  <a:pt x="8310" y="7243"/>
                </a:cubicBezTo>
                <a:cubicBezTo>
                  <a:pt x="8317" y="7250"/>
                  <a:pt x="8310" y="7307"/>
                  <a:pt x="8310" y="7317"/>
                </a:cubicBezTo>
              </a:path>
              <a:path w="2507" h="596">
                <a:moveTo>
                  <a:pt x="8483" y="7243"/>
                </a:moveTo>
                <a:cubicBezTo>
                  <a:pt x="8483" y="7268"/>
                  <a:pt x="8483" y="7292"/>
                  <a:pt x="8483" y="7317"/>
                </a:cubicBezTo>
                <a:cubicBezTo>
                  <a:pt x="8508" y="7284"/>
                  <a:pt x="8524" y="7241"/>
                  <a:pt x="8558" y="7218"/>
                </a:cubicBezTo>
                <a:cubicBezTo>
                  <a:pt x="8584" y="7200"/>
                  <a:pt x="8609" y="7176"/>
                  <a:pt x="8632" y="7169"/>
                </a:cubicBezTo>
                <a:cubicBezTo>
                  <a:pt x="8655" y="7184"/>
                  <a:pt x="8677" y="7226"/>
                  <a:pt x="8682" y="7268"/>
                </a:cubicBezTo>
                <a:cubicBezTo>
                  <a:pt x="8686" y="7308"/>
                  <a:pt x="8684" y="7346"/>
                  <a:pt x="8731" y="7367"/>
                </a:cubicBezTo>
                <a:cubicBezTo>
                  <a:pt x="8739" y="7367"/>
                  <a:pt x="8748" y="7367"/>
                  <a:pt x="8756" y="7367"/>
                </a:cubicBezTo>
              </a:path>
              <a:path w="2507" h="596">
                <a:moveTo>
                  <a:pt x="9054" y="7218"/>
                </a:moveTo>
                <a:cubicBezTo>
                  <a:pt x="9002" y="7218"/>
                  <a:pt x="9001" y="7213"/>
                  <a:pt x="8979" y="7243"/>
                </a:cubicBezTo>
                <a:cubicBezTo>
                  <a:pt x="8951" y="7281"/>
                  <a:pt x="8910" y="7295"/>
                  <a:pt x="8905" y="7342"/>
                </a:cubicBezTo>
                <a:cubicBezTo>
                  <a:pt x="8905" y="7367"/>
                  <a:pt x="8905" y="7375"/>
                  <a:pt x="8905" y="7392"/>
                </a:cubicBezTo>
                <a:cubicBezTo>
                  <a:pt x="8961" y="7392"/>
                  <a:pt x="8984" y="7393"/>
                  <a:pt x="9029" y="7367"/>
                </a:cubicBezTo>
                <a:cubicBezTo>
                  <a:pt x="9100" y="7326"/>
                  <a:pt x="9116" y="7266"/>
                  <a:pt x="9153" y="7193"/>
                </a:cubicBezTo>
                <a:cubicBezTo>
                  <a:pt x="9183" y="7134"/>
                  <a:pt x="9216" y="7051"/>
                  <a:pt x="9227" y="6995"/>
                </a:cubicBezTo>
                <a:cubicBezTo>
                  <a:pt x="9236" y="6949"/>
                  <a:pt x="9227" y="6893"/>
                  <a:pt x="9227" y="6846"/>
                </a:cubicBezTo>
                <a:cubicBezTo>
                  <a:pt x="9195" y="6890"/>
                  <a:pt x="9200" y="6926"/>
                  <a:pt x="9178" y="6970"/>
                </a:cubicBezTo>
                <a:cubicBezTo>
                  <a:pt x="9147" y="7032"/>
                  <a:pt x="9153" y="7095"/>
                  <a:pt x="9153" y="7169"/>
                </a:cubicBezTo>
                <a:cubicBezTo>
                  <a:pt x="9153" y="7214"/>
                  <a:pt x="9131" y="7311"/>
                  <a:pt x="9178" y="7317"/>
                </a:cubicBezTo>
                <a:cubicBezTo>
                  <a:pt x="9186" y="7317"/>
                  <a:pt x="9195" y="7317"/>
                  <a:pt x="9203" y="7317"/>
                </a:cubicBezTo>
              </a:path>
              <a:path w="2507" h="596">
                <a:moveTo>
                  <a:pt x="9302" y="7268"/>
                </a:moveTo>
                <a:cubicBezTo>
                  <a:pt x="9302" y="7309"/>
                  <a:pt x="9282" y="7419"/>
                  <a:pt x="9327" y="7441"/>
                </a:cubicBezTo>
                <a:cubicBezTo>
                  <a:pt x="9360" y="7458"/>
                  <a:pt x="9506" y="7447"/>
                  <a:pt x="9525" y="7417"/>
                </a:cubicBezTo>
                <a:cubicBezTo>
                  <a:pt x="9536" y="7399"/>
                  <a:pt x="9565" y="7320"/>
                  <a:pt x="9550" y="7293"/>
                </a:cubicBezTo>
                <a:cubicBezTo>
                  <a:pt x="9531" y="7260"/>
                  <a:pt x="9485" y="7222"/>
                  <a:pt x="9451" y="7218"/>
                </a:cubicBezTo>
                <a:cubicBezTo>
                  <a:pt x="9405" y="7213"/>
                  <a:pt x="9381" y="7220"/>
                  <a:pt x="9376" y="7268"/>
                </a:cubicBezTo>
                <a:cubicBezTo>
                  <a:pt x="9371" y="7309"/>
                  <a:pt x="9369" y="7307"/>
                  <a:pt x="9401" y="7317"/>
                </a:cubicBezTo>
              </a:path>
              <a:path w="2507" h="596">
                <a:moveTo>
                  <a:pt x="9674" y="7317"/>
                </a:moveTo>
                <a:cubicBezTo>
                  <a:pt x="9674" y="7358"/>
                  <a:pt x="9674" y="7400"/>
                  <a:pt x="9674" y="7441"/>
                </a:cubicBezTo>
                <a:cubicBezTo>
                  <a:pt x="9739" y="7441"/>
                  <a:pt x="9726" y="7422"/>
                  <a:pt x="9748" y="7367"/>
                </a:cubicBezTo>
                <a:cubicBezTo>
                  <a:pt x="9766" y="7323"/>
                  <a:pt x="9795" y="7276"/>
                  <a:pt x="9823" y="7243"/>
                </a:cubicBezTo>
                <a:cubicBezTo>
                  <a:pt x="9856" y="7205"/>
                  <a:pt x="9844" y="7182"/>
                  <a:pt x="9897" y="7169"/>
                </a:cubicBezTo>
                <a:cubicBezTo>
                  <a:pt x="9897" y="7235"/>
                  <a:pt x="9897" y="7301"/>
                  <a:pt x="9897" y="7367"/>
                </a:cubicBezTo>
                <a:cubicBezTo>
                  <a:pt x="9957" y="7367"/>
                  <a:pt x="9934" y="7359"/>
                  <a:pt x="9971" y="7317"/>
                </a:cubicBezTo>
                <a:cubicBezTo>
                  <a:pt x="10000" y="7284"/>
                  <a:pt x="10001" y="7258"/>
                  <a:pt x="10046" y="7243"/>
                </a:cubicBezTo>
                <a:cubicBezTo>
                  <a:pt x="10103" y="7224"/>
                  <a:pt x="10112" y="7264"/>
                  <a:pt x="10145" y="7268"/>
                </a:cubicBezTo>
                <a:cubicBezTo>
                  <a:pt x="10175" y="7272"/>
                  <a:pt x="10191" y="7306"/>
                  <a:pt x="10195" y="7342"/>
                </a:cubicBezTo>
                <a:cubicBezTo>
                  <a:pt x="10198" y="7366"/>
                  <a:pt x="10195" y="7393"/>
                  <a:pt x="10195" y="7417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Ink 14"/>
          <p:cNvSpPr/>
          <p:nvPr/>
        </p:nvSpPr>
        <p:spPr>
          <a:xfrm>
            <a:off x="4054320" y="2500200"/>
            <a:ext cx="938520" cy="187560"/>
          </a:xfrm>
          <a:custGeom>
            <a:avLst/>
            <a:gdLst/>
            <a:ahLst/>
            <a:rect l="l" t="t" r="r" b="b"/>
            <a:pathLst>
              <a:path w="2606" h="522">
                <a:moveTo>
                  <a:pt x="11286" y="7218"/>
                </a:moveTo>
                <a:cubicBezTo>
                  <a:pt x="11286" y="7268"/>
                  <a:pt x="11275" y="7277"/>
                  <a:pt x="11261" y="7317"/>
                </a:cubicBezTo>
                <a:cubicBezTo>
                  <a:pt x="11261" y="7342"/>
                  <a:pt x="11261" y="7350"/>
                  <a:pt x="11261" y="7367"/>
                </a:cubicBezTo>
                <a:cubicBezTo>
                  <a:pt x="11304" y="7356"/>
                  <a:pt x="11327" y="7327"/>
                  <a:pt x="11361" y="7293"/>
                </a:cubicBezTo>
                <a:cubicBezTo>
                  <a:pt x="11421" y="7233"/>
                  <a:pt x="11453" y="7237"/>
                  <a:pt x="11509" y="7193"/>
                </a:cubicBezTo>
                <a:cubicBezTo>
                  <a:pt x="11546" y="7164"/>
                  <a:pt x="11562" y="7169"/>
                  <a:pt x="11609" y="7169"/>
                </a:cubicBezTo>
                <a:cubicBezTo>
                  <a:pt x="11609" y="7218"/>
                  <a:pt x="11588" y="7435"/>
                  <a:pt x="11633" y="7441"/>
                </a:cubicBezTo>
                <a:cubicBezTo>
                  <a:pt x="11658" y="7441"/>
                  <a:pt x="11666" y="7441"/>
                  <a:pt x="11683" y="7441"/>
                </a:cubicBezTo>
              </a:path>
              <a:path w="2606" h="522">
                <a:moveTo>
                  <a:pt x="11857" y="7218"/>
                </a:moveTo>
                <a:cubicBezTo>
                  <a:pt x="11857" y="7260"/>
                  <a:pt x="11836" y="7344"/>
                  <a:pt x="11881" y="7367"/>
                </a:cubicBezTo>
                <a:cubicBezTo>
                  <a:pt x="11930" y="7392"/>
                  <a:pt x="11971" y="7354"/>
                  <a:pt x="12005" y="7342"/>
                </a:cubicBezTo>
                <a:cubicBezTo>
                  <a:pt x="12050" y="7327"/>
                  <a:pt x="12056" y="7284"/>
                  <a:pt x="12080" y="7268"/>
                </a:cubicBezTo>
                <a:cubicBezTo>
                  <a:pt x="12117" y="7244"/>
                  <a:pt x="12105" y="7242"/>
                  <a:pt x="12105" y="7293"/>
                </a:cubicBezTo>
                <a:cubicBezTo>
                  <a:pt x="12105" y="7323"/>
                  <a:pt x="12130" y="7334"/>
                  <a:pt x="12154" y="7342"/>
                </a:cubicBezTo>
              </a:path>
              <a:path w="2606" h="522">
                <a:moveTo>
                  <a:pt x="12328" y="7293"/>
                </a:moveTo>
                <a:cubicBezTo>
                  <a:pt x="12328" y="7318"/>
                  <a:pt x="12328" y="7342"/>
                  <a:pt x="12328" y="7367"/>
                </a:cubicBezTo>
                <a:cubicBezTo>
                  <a:pt x="12381" y="7354"/>
                  <a:pt x="12377" y="7330"/>
                  <a:pt x="12402" y="7293"/>
                </a:cubicBezTo>
                <a:cubicBezTo>
                  <a:pt x="12426" y="7257"/>
                  <a:pt x="12421" y="7253"/>
                  <a:pt x="12452" y="7243"/>
                </a:cubicBezTo>
                <a:cubicBezTo>
                  <a:pt x="12452" y="7263"/>
                  <a:pt x="12436" y="7337"/>
                  <a:pt x="12477" y="7317"/>
                </a:cubicBezTo>
                <a:cubicBezTo>
                  <a:pt x="12513" y="7300"/>
                  <a:pt x="12532" y="7256"/>
                  <a:pt x="12551" y="7243"/>
                </a:cubicBezTo>
                <a:cubicBezTo>
                  <a:pt x="12559" y="7243"/>
                  <a:pt x="12568" y="7243"/>
                  <a:pt x="12576" y="7243"/>
                </a:cubicBezTo>
                <a:cubicBezTo>
                  <a:pt x="12604" y="7252"/>
                  <a:pt x="12621" y="7277"/>
                  <a:pt x="12626" y="7317"/>
                </a:cubicBezTo>
                <a:cubicBezTo>
                  <a:pt x="12632" y="7368"/>
                  <a:pt x="12619" y="7367"/>
                  <a:pt x="12675" y="7367"/>
                </a:cubicBezTo>
              </a:path>
              <a:path w="2606" h="522">
                <a:moveTo>
                  <a:pt x="12824" y="6945"/>
                </a:moveTo>
                <a:cubicBezTo>
                  <a:pt x="12874" y="6957"/>
                  <a:pt x="12874" y="6969"/>
                  <a:pt x="12874" y="7020"/>
                </a:cubicBezTo>
                <a:cubicBezTo>
                  <a:pt x="12874" y="7103"/>
                  <a:pt x="12874" y="7185"/>
                  <a:pt x="12874" y="7268"/>
                </a:cubicBezTo>
                <a:cubicBezTo>
                  <a:pt x="12919" y="7256"/>
                  <a:pt x="12929" y="7243"/>
                  <a:pt x="12948" y="7218"/>
                </a:cubicBezTo>
                <a:cubicBezTo>
                  <a:pt x="12979" y="7177"/>
                  <a:pt x="12999" y="7169"/>
                  <a:pt x="13047" y="7169"/>
                </a:cubicBezTo>
                <a:cubicBezTo>
                  <a:pt x="13072" y="7169"/>
                  <a:pt x="13080" y="7169"/>
                  <a:pt x="13097" y="7169"/>
                </a:cubicBezTo>
                <a:cubicBezTo>
                  <a:pt x="13097" y="7222"/>
                  <a:pt x="13107" y="7254"/>
                  <a:pt x="13072" y="7293"/>
                </a:cubicBezTo>
                <a:cubicBezTo>
                  <a:pt x="13041" y="7327"/>
                  <a:pt x="13019" y="7397"/>
                  <a:pt x="12973" y="7417"/>
                </a:cubicBezTo>
                <a:cubicBezTo>
                  <a:pt x="12934" y="7434"/>
                  <a:pt x="12908" y="7397"/>
                  <a:pt x="12898" y="7367"/>
                </a:cubicBezTo>
                <a:cubicBezTo>
                  <a:pt x="12886" y="7331"/>
                  <a:pt x="12904" y="7317"/>
                  <a:pt x="12923" y="7293"/>
                </a:cubicBezTo>
              </a:path>
              <a:path w="2606" h="522">
                <a:moveTo>
                  <a:pt x="13295" y="7268"/>
                </a:moveTo>
                <a:cubicBezTo>
                  <a:pt x="13325" y="7246"/>
                  <a:pt x="13377" y="7233"/>
                  <a:pt x="13395" y="7193"/>
                </a:cubicBezTo>
                <a:cubicBezTo>
                  <a:pt x="13395" y="7185"/>
                  <a:pt x="13395" y="7177"/>
                  <a:pt x="13395" y="7169"/>
                </a:cubicBezTo>
                <a:cubicBezTo>
                  <a:pt x="13345" y="7169"/>
                  <a:pt x="13296" y="7169"/>
                  <a:pt x="13246" y="7169"/>
                </a:cubicBezTo>
                <a:cubicBezTo>
                  <a:pt x="13235" y="7232"/>
                  <a:pt x="13221" y="7206"/>
                  <a:pt x="13221" y="7268"/>
                </a:cubicBezTo>
                <a:cubicBezTo>
                  <a:pt x="13221" y="7311"/>
                  <a:pt x="13227" y="7327"/>
                  <a:pt x="13271" y="7342"/>
                </a:cubicBezTo>
                <a:cubicBezTo>
                  <a:pt x="13313" y="7356"/>
                  <a:pt x="13330" y="7399"/>
                  <a:pt x="13370" y="7417"/>
                </a:cubicBezTo>
                <a:cubicBezTo>
                  <a:pt x="13403" y="7432"/>
                  <a:pt x="13395" y="7421"/>
                  <a:pt x="13395" y="7466"/>
                </a:cubicBezTo>
                <a:cubicBezTo>
                  <a:pt x="13426" y="7455"/>
                  <a:pt x="13442" y="7405"/>
                  <a:pt x="13469" y="7367"/>
                </a:cubicBezTo>
                <a:cubicBezTo>
                  <a:pt x="13505" y="7317"/>
                  <a:pt x="13579" y="7195"/>
                  <a:pt x="13643" y="7169"/>
                </a:cubicBezTo>
                <a:cubicBezTo>
                  <a:pt x="13672" y="7157"/>
                  <a:pt x="13736" y="7121"/>
                  <a:pt x="13767" y="7119"/>
                </a:cubicBezTo>
                <a:cubicBezTo>
                  <a:pt x="13799" y="7117"/>
                  <a:pt x="13833" y="7119"/>
                  <a:pt x="13866" y="7119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Ink 15"/>
          <p:cNvSpPr/>
          <p:nvPr/>
        </p:nvSpPr>
        <p:spPr>
          <a:xfrm>
            <a:off x="5340240" y="2482920"/>
            <a:ext cx="1027080" cy="419040"/>
          </a:xfrm>
          <a:custGeom>
            <a:avLst/>
            <a:gdLst/>
            <a:ahLst/>
            <a:rect l="l" t="t" r="r" b="b"/>
            <a:pathLst>
              <a:path w="2854" h="1167">
                <a:moveTo>
                  <a:pt x="15131" y="7218"/>
                </a:moveTo>
                <a:cubicBezTo>
                  <a:pt x="15081" y="7201"/>
                  <a:pt x="15120" y="7211"/>
                  <a:pt x="15056" y="7218"/>
                </a:cubicBezTo>
                <a:cubicBezTo>
                  <a:pt x="15004" y="7224"/>
                  <a:pt x="14981" y="7210"/>
                  <a:pt x="14932" y="7243"/>
                </a:cubicBezTo>
                <a:cubicBezTo>
                  <a:pt x="14904" y="7262"/>
                  <a:pt x="14886" y="7336"/>
                  <a:pt x="14883" y="7367"/>
                </a:cubicBezTo>
                <a:cubicBezTo>
                  <a:pt x="14878" y="7409"/>
                  <a:pt x="14891" y="7428"/>
                  <a:pt x="14932" y="7441"/>
                </a:cubicBezTo>
                <a:cubicBezTo>
                  <a:pt x="14977" y="7455"/>
                  <a:pt x="15042" y="7432"/>
                  <a:pt x="15081" y="7417"/>
                </a:cubicBezTo>
                <a:cubicBezTo>
                  <a:pt x="15118" y="7402"/>
                  <a:pt x="15210" y="7329"/>
                  <a:pt x="15230" y="7293"/>
                </a:cubicBezTo>
                <a:cubicBezTo>
                  <a:pt x="15230" y="7268"/>
                  <a:pt x="15230" y="7260"/>
                  <a:pt x="15230" y="7243"/>
                </a:cubicBezTo>
                <a:cubicBezTo>
                  <a:pt x="15185" y="7254"/>
                  <a:pt x="15178" y="7278"/>
                  <a:pt x="15156" y="7317"/>
                </a:cubicBezTo>
                <a:cubicBezTo>
                  <a:pt x="15125" y="7371"/>
                  <a:pt x="15091" y="7481"/>
                  <a:pt x="15081" y="7541"/>
                </a:cubicBezTo>
                <a:cubicBezTo>
                  <a:pt x="15062" y="7654"/>
                  <a:pt x="15049" y="7779"/>
                  <a:pt x="15007" y="7888"/>
                </a:cubicBezTo>
                <a:cubicBezTo>
                  <a:pt x="14997" y="7915"/>
                  <a:pt x="14950" y="8024"/>
                  <a:pt x="14932" y="8037"/>
                </a:cubicBezTo>
                <a:cubicBezTo>
                  <a:pt x="14908" y="8037"/>
                  <a:pt x="14900" y="8037"/>
                  <a:pt x="14908" y="8062"/>
                </a:cubicBezTo>
                <a:cubicBezTo>
                  <a:pt x="14871" y="8053"/>
                  <a:pt x="14846" y="8025"/>
                  <a:pt x="14833" y="7987"/>
                </a:cubicBezTo>
                <a:cubicBezTo>
                  <a:pt x="14814" y="7929"/>
                  <a:pt x="14827" y="7813"/>
                  <a:pt x="14858" y="7764"/>
                </a:cubicBezTo>
                <a:cubicBezTo>
                  <a:pt x="14891" y="7731"/>
                  <a:pt x="14908" y="7714"/>
                  <a:pt x="14932" y="7689"/>
                </a:cubicBezTo>
              </a:path>
              <a:path w="2854" h="1167">
                <a:moveTo>
                  <a:pt x="15280" y="7342"/>
                </a:moveTo>
                <a:cubicBezTo>
                  <a:pt x="15280" y="7367"/>
                  <a:pt x="15280" y="7375"/>
                  <a:pt x="15304" y="7367"/>
                </a:cubicBezTo>
                <a:cubicBezTo>
                  <a:pt x="15328" y="7359"/>
                  <a:pt x="15351" y="7358"/>
                  <a:pt x="15379" y="7342"/>
                </a:cubicBezTo>
                <a:cubicBezTo>
                  <a:pt x="15417" y="7321"/>
                  <a:pt x="15468" y="7316"/>
                  <a:pt x="15503" y="7293"/>
                </a:cubicBezTo>
                <a:cubicBezTo>
                  <a:pt x="15540" y="7269"/>
                  <a:pt x="15568" y="7231"/>
                  <a:pt x="15577" y="7193"/>
                </a:cubicBezTo>
                <a:cubicBezTo>
                  <a:pt x="15516" y="7193"/>
                  <a:pt x="15478" y="7201"/>
                  <a:pt x="15429" y="7218"/>
                </a:cubicBezTo>
                <a:cubicBezTo>
                  <a:pt x="15380" y="7235"/>
                  <a:pt x="15360" y="7257"/>
                  <a:pt x="15354" y="7317"/>
                </a:cubicBezTo>
                <a:cubicBezTo>
                  <a:pt x="15351" y="7350"/>
                  <a:pt x="15344" y="7399"/>
                  <a:pt x="15379" y="7417"/>
                </a:cubicBezTo>
                <a:cubicBezTo>
                  <a:pt x="15409" y="7432"/>
                  <a:pt x="15490" y="7456"/>
                  <a:pt x="15528" y="7441"/>
                </a:cubicBezTo>
                <a:cubicBezTo>
                  <a:pt x="15566" y="7426"/>
                  <a:pt x="15584" y="7397"/>
                  <a:pt x="15627" y="7392"/>
                </a:cubicBezTo>
                <a:cubicBezTo>
                  <a:pt x="15680" y="7386"/>
                  <a:pt x="15648" y="7357"/>
                  <a:pt x="15627" y="7417"/>
                </a:cubicBezTo>
                <a:cubicBezTo>
                  <a:pt x="15627" y="7441"/>
                  <a:pt x="15627" y="7450"/>
                  <a:pt x="15627" y="7466"/>
                </a:cubicBezTo>
                <a:cubicBezTo>
                  <a:pt x="15670" y="7452"/>
                  <a:pt x="15663" y="7439"/>
                  <a:pt x="15701" y="7392"/>
                </a:cubicBezTo>
                <a:cubicBezTo>
                  <a:pt x="15725" y="7363"/>
                  <a:pt x="15792" y="7309"/>
                  <a:pt x="15801" y="7293"/>
                </a:cubicBezTo>
                <a:cubicBezTo>
                  <a:pt x="15801" y="7268"/>
                  <a:pt x="15801" y="7260"/>
                  <a:pt x="15825" y="7268"/>
                </a:cubicBezTo>
                <a:cubicBezTo>
                  <a:pt x="15865" y="7281"/>
                  <a:pt x="15850" y="7316"/>
                  <a:pt x="15850" y="7367"/>
                </a:cubicBezTo>
                <a:cubicBezTo>
                  <a:pt x="15850" y="7392"/>
                  <a:pt x="15850" y="7416"/>
                  <a:pt x="15850" y="7441"/>
                </a:cubicBezTo>
                <a:cubicBezTo>
                  <a:pt x="15897" y="7441"/>
                  <a:pt x="15900" y="7437"/>
                  <a:pt x="15949" y="7417"/>
                </a:cubicBezTo>
              </a:path>
              <a:path w="2854" h="1167">
                <a:moveTo>
                  <a:pt x="16098" y="7367"/>
                </a:moveTo>
                <a:cubicBezTo>
                  <a:pt x="16113" y="7307"/>
                  <a:pt x="16149" y="7339"/>
                  <a:pt x="16173" y="7293"/>
                </a:cubicBezTo>
                <a:cubicBezTo>
                  <a:pt x="16184" y="7271"/>
                  <a:pt x="16191" y="7243"/>
                  <a:pt x="16197" y="7218"/>
                </a:cubicBezTo>
                <a:cubicBezTo>
                  <a:pt x="16148" y="7218"/>
                  <a:pt x="16117" y="7213"/>
                  <a:pt x="16073" y="7243"/>
                </a:cubicBezTo>
                <a:cubicBezTo>
                  <a:pt x="16034" y="7270"/>
                  <a:pt x="16010" y="7323"/>
                  <a:pt x="15999" y="7367"/>
                </a:cubicBezTo>
                <a:cubicBezTo>
                  <a:pt x="15989" y="7406"/>
                  <a:pt x="16012" y="7449"/>
                  <a:pt x="16049" y="7466"/>
                </a:cubicBezTo>
                <a:cubicBezTo>
                  <a:pt x="16078" y="7479"/>
                  <a:pt x="16118" y="7506"/>
                  <a:pt x="16148" y="7516"/>
                </a:cubicBezTo>
                <a:cubicBezTo>
                  <a:pt x="16196" y="7532"/>
                  <a:pt x="16197" y="7501"/>
                  <a:pt x="16197" y="7565"/>
                </a:cubicBezTo>
                <a:cubicBezTo>
                  <a:pt x="16229" y="7526"/>
                  <a:pt x="16270" y="7483"/>
                  <a:pt x="16297" y="7441"/>
                </a:cubicBezTo>
                <a:cubicBezTo>
                  <a:pt x="16323" y="7400"/>
                  <a:pt x="16352" y="7317"/>
                  <a:pt x="16396" y="7293"/>
                </a:cubicBezTo>
                <a:cubicBezTo>
                  <a:pt x="16428" y="7275"/>
                  <a:pt x="16439" y="7268"/>
                  <a:pt x="16495" y="7268"/>
                </a:cubicBezTo>
                <a:cubicBezTo>
                  <a:pt x="16532" y="7268"/>
                  <a:pt x="16544" y="7292"/>
                  <a:pt x="16570" y="7317"/>
                </a:cubicBezTo>
              </a:path>
              <a:path w="2854" h="1167">
                <a:moveTo>
                  <a:pt x="16694" y="7293"/>
                </a:moveTo>
                <a:cubicBezTo>
                  <a:pt x="16694" y="7268"/>
                  <a:pt x="16694" y="7243"/>
                  <a:pt x="16694" y="7218"/>
                </a:cubicBezTo>
                <a:cubicBezTo>
                  <a:pt x="16626" y="7204"/>
                  <a:pt x="16633" y="7253"/>
                  <a:pt x="16570" y="7293"/>
                </a:cubicBezTo>
                <a:cubicBezTo>
                  <a:pt x="16515" y="7328"/>
                  <a:pt x="16510" y="7357"/>
                  <a:pt x="16495" y="7417"/>
                </a:cubicBezTo>
                <a:cubicBezTo>
                  <a:pt x="16552" y="7458"/>
                  <a:pt x="16552" y="7433"/>
                  <a:pt x="16619" y="7417"/>
                </a:cubicBezTo>
                <a:cubicBezTo>
                  <a:pt x="16660" y="7407"/>
                  <a:pt x="16678" y="7377"/>
                  <a:pt x="16718" y="7367"/>
                </a:cubicBezTo>
                <a:cubicBezTo>
                  <a:pt x="16718" y="7389"/>
                  <a:pt x="16688" y="7460"/>
                  <a:pt x="16694" y="7466"/>
                </a:cubicBezTo>
                <a:cubicBezTo>
                  <a:pt x="16723" y="7496"/>
                  <a:pt x="16800" y="7434"/>
                  <a:pt x="16818" y="7417"/>
                </a:cubicBezTo>
                <a:cubicBezTo>
                  <a:pt x="16826" y="7409"/>
                  <a:pt x="16834" y="7400"/>
                  <a:pt x="16842" y="7392"/>
                </a:cubicBezTo>
              </a:path>
              <a:path w="2854" h="1167">
                <a:moveTo>
                  <a:pt x="16966" y="6896"/>
                </a:moveTo>
                <a:cubicBezTo>
                  <a:pt x="16954" y="6957"/>
                  <a:pt x="16942" y="7003"/>
                  <a:pt x="16942" y="7069"/>
                </a:cubicBezTo>
                <a:cubicBezTo>
                  <a:pt x="16942" y="7150"/>
                  <a:pt x="16922" y="7215"/>
                  <a:pt x="16917" y="7293"/>
                </a:cubicBezTo>
                <a:cubicBezTo>
                  <a:pt x="16914" y="7345"/>
                  <a:pt x="16935" y="7378"/>
                  <a:pt x="16892" y="7392"/>
                </a:cubicBezTo>
              </a:path>
              <a:path w="2854" h="1167">
                <a:moveTo>
                  <a:pt x="16818" y="7193"/>
                </a:moveTo>
                <a:cubicBezTo>
                  <a:pt x="16837" y="7155"/>
                  <a:pt x="16849" y="7204"/>
                  <a:pt x="16892" y="7218"/>
                </a:cubicBezTo>
                <a:cubicBezTo>
                  <a:pt x="16922" y="7228"/>
                  <a:pt x="16962" y="7240"/>
                  <a:pt x="16991" y="7243"/>
                </a:cubicBezTo>
                <a:cubicBezTo>
                  <a:pt x="17027" y="7247"/>
                  <a:pt x="17062" y="7263"/>
                  <a:pt x="17066" y="7293"/>
                </a:cubicBezTo>
                <a:cubicBezTo>
                  <a:pt x="17071" y="7333"/>
                  <a:pt x="17044" y="7418"/>
                  <a:pt x="17090" y="7441"/>
                </a:cubicBezTo>
                <a:cubicBezTo>
                  <a:pt x="17132" y="7462"/>
                  <a:pt x="17156" y="7421"/>
                  <a:pt x="17165" y="7417"/>
                </a:cubicBezTo>
                <a:cubicBezTo>
                  <a:pt x="17200" y="7400"/>
                  <a:pt x="17190" y="7390"/>
                  <a:pt x="17190" y="7342"/>
                </a:cubicBezTo>
                <a:cubicBezTo>
                  <a:pt x="17190" y="7299"/>
                  <a:pt x="17184" y="7283"/>
                  <a:pt x="17140" y="7268"/>
                </a:cubicBezTo>
                <a:cubicBezTo>
                  <a:pt x="17132" y="7268"/>
                  <a:pt x="17123" y="7268"/>
                  <a:pt x="17115" y="7268"/>
                </a:cubicBezTo>
                <a:cubicBezTo>
                  <a:pt x="17128" y="7306"/>
                  <a:pt x="17137" y="7296"/>
                  <a:pt x="17165" y="7317"/>
                </a:cubicBezTo>
                <a:cubicBezTo>
                  <a:pt x="17202" y="7344"/>
                  <a:pt x="17229" y="7357"/>
                  <a:pt x="17264" y="7392"/>
                </a:cubicBezTo>
                <a:cubicBezTo>
                  <a:pt x="17292" y="7420"/>
                  <a:pt x="17291" y="7435"/>
                  <a:pt x="17314" y="7466"/>
                </a:cubicBezTo>
                <a:cubicBezTo>
                  <a:pt x="17327" y="7410"/>
                  <a:pt x="17380" y="7390"/>
                  <a:pt x="17413" y="7342"/>
                </a:cubicBezTo>
                <a:cubicBezTo>
                  <a:pt x="17435" y="7310"/>
                  <a:pt x="17494" y="7230"/>
                  <a:pt x="17537" y="7218"/>
                </a:cubicBezTo>
                <a:cubicBezTo>
                  <a:pt x="17582" y="7218"/>
                  <a:pt x="17595" y="7222"/>
                  <a:pt x="17611" y="7193"/>
                </a:cubicBezTo>
                <a:cubicBezTo>
                  <a:pt x="17646" y="7219"/>
                  <a:pt x="17642" y="7218"/>
                  <a:pt x="17686" y="7218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Ink 16"/>
          <p:cNvSpPr/>
          <p:nvPr/>
        </p:nvSpPr>
        <p:spPr>
          <a:xfrm>
            <a:off x="6831000" y="2500200"/>
            <a:ext cx="1189080" cy="241560"/>
          </a:xfrm>
          <a:custGeom>
            <a:avLst/>
            <a:gdLst/>
            <a:ahLst/>
            <a:rect l="l" t="t" r="r" b="b"/>
            <a:pathLst>
              <a:path w="3300" h="671">
                <a:moveTo>
                  <a:pt x="19124" y="7045"/>
                </a:moveTo>
                <a:cubicBezTo>
                  <a:pt x="19104" y="7052"/>
                  <a:pt x="19070" y="7066"/>
                  <a:pt x="19050" y="7094"/>
                </a:cubicBezTo>
                <a:cubicBezTo>
                  <a:pt x="19032" y="7120"/>
                  <a:pt x="18983" y="7216"/>
                  <a:pt x="18976" y="7243"/>
                </a:cubicBezTo>
                <a:cubicBezTo>
                  <a:pt x="18959" y="7310"/>
                  <a:pt x="18972" y="7413"/>
                  <a:pt x="19000" y="7466"/>
                </a:cubicBezTo>
                <a:cubicBezTo>
                  <a:pt x="19030" y="7523"/>
                  <a:pt x="19084" y="7554"/>
                  <a:pt x="19149" y="7565"/>
                </a:cubicBezTo>
                <a:cubicBezTo>
                  <a:pt x="19236" y="7580"/>
                  <a:pt x="19297" y="7554"/>
                  <a:pt x="19372" y="7516"/>
                </a:cubicBezTo>
                <a:cubicBezTo>
                  <a:pt x="19446" y="7479"/>
                  <a:pt x="19500" y="7410"/>
                  <a:pt x="19546" y="7342"/>
                </a:cubicBezTo>
                <a:cubicBezTo>
                  <a:pt x="19599" y="7264"/>
                  <a:pt x="19596" y="7183"/>
                  <a:pt x="19596" y="7094"/>
                </a:cubicBezTo>
                <a:cubicBezTo>
                  <a:pt x="19596" y="7047"/>
                  <a:pt x="19595" y="7005"/>
                  <a:pt x="19571" y="6970"/>
                </a:cubicBezTo>
                <a:cubicBezTo>
                  <a:pt x="19541" y="6925"/>
                  <a:pt x="19469" y="6945"/>
                  <a:pt x="19422" y="6945"/>
                </a:cubicBezTo>
                <a:cubicBezTo>
                  <a:pt x="19353" y="6945"/>
                  <a:pt x="19285" y="6932"/>
                  <a:pt x="19224" y="6970"/>
                </a:cubicBezTo>
                <a:cubicBezTo>
                  <a:pt x="19195" y="6988"/>
                  <a:pt x="19111" y="7031"/>
                  <a:pt x="19100" y="7069"/>
                </a:cubicBezTo>
                <a:cubicBezTo>
                  <a:pt x="19089" y="7108"/>
                  <a:pt x="19091" y="7212"/>
                  <a:pt x="19124" y="7243"/>
                </a:cubicBezTo>
                <a:cubicBezTo>
                  <a:pt x="19141" y="7251"/>
                  <a:pt x="19157" y="7260"/>
                  <a:pt x="19174" y="7268"/>
                </a:cubicBezTo>
              </a:path>
              <a:path w="3300" h="671">
                <a:moveTo>
                  <a:pt x="19745" y="7441"/>
                </a:moveTo>
                <a:cubicBezTo>
                  <a:pt x="19707" y="7454"/>
                  <a:pt x="19720" y="7471"/>
                  <a:pt x="19720" y="7516"/>
                </a:cubicBezTo>
                <a:cubicBezTo>
                  <a:pt x="19720" y="7569"/>
                  <a:pt x="19735" y="7464"/>
                  <a:pt x="19745" y="7441"/>
                </a:cubicBezTo>
              </a:path>
              <a:path w="3300" h="671">
                <a:moveTo>
                  <a:pt x="20117" y="7541"/>
                </a:moveTo>
                <a:cubicBezTo>
                  <a:pt x="20253" y="7541"/>
                  <a:pt x="20392" y="7540"/>
                  <a:pt x="20513" y="7516"/>
                </a:cubicBezTo>
                <a:cubicBezTo>
                  <a:pt x="20577" y="7503"/>
                  <a:pt x="20611" y="7527"/>
                  <a:pt x="20638" y="7541"/>
                </a:cubicBezTo>
                <a:cubicBezTo>
                  <a:pt x="20676" y="7561"/>
                  <a:pt x="20662" y="7507"/>
                  <a:pt x="20662" y="7491"/>
                </a:cubicBezTo>
              </a:path>
              <a:path w="3300" h="671">
                <a:moveTo>
                  <a:pt x="21010" y="7516"/>
                </a:moveTo>
                <a:cubicBezTo>
                  <a:pt x="21053" y="7549"/>
                  <a:pt x="21076" y="7541"/>
                  <a:pt x="21134" y="7541"/>
                </a:cubicBezTo>
                <a:cubicBezTo>
                  <a:pt x="21194" y="7541"/>
                  <a:pt x="21233" y="7551"/>
                  <a:pt x="21282" y="7565"/>
                </a:cubicBezTo>
                <a:cubicBezTo>
                  <a:pt x="21343" y="7583"/>
                  <a:pt x="21441" y="7565"/>
                  <a:pt x="21506" y="7565"/>
                </a:cubicBezTo>
                <a:cubicBezTo>
                  <a:pt x="21481" y="7565"/>
                  <a:pt x="21473" y="7565"/>
                  <a:pt x="21506" y="7565"/>
                </a:cubicBezTo>
              </a:path>
              <a:path w="3300" h="671">
                <a:moveTo>
                  <a:pt x="21754" y="7590"/>
                </a:moveTo>
                <a:cubicBezTo>
                  <a:pt x="21754" y="7622"/>
                  <a:pt x="21751" y="7590"/>
                  <a:pt x="21803" y="7590"/>
                </a:cubicBezTo>
                <a:cubicBezTo>
                  <a:pt x="21861" y="7590"/>
                  <a:pt x="21906" y="7606"/>
                  <a:pt x="21952" y="7615"/>
                </a:cubicBezTo>
                <a:cubicBezTo>
                  <a:pt x="22066" y="7638"/>
                  <a:pt x="22357" y="7660"/>
                  <a:pt x="22250" y="7615"/>
                </a:cubicBezTo>
                <a:cubicBezTo>
                  <a:pt x="22233" y="7607"/>
                  <a:pt x="22217" y="7598"/>
                  <a:pt x="22200" y="759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Ink 17"/>
          <p:cNvSpPr/>
          <p:nvPr/>
        </p:nvSpPr>
        <p:spPr>
          <a:xfrm>
            <a:off x="1251000" y="3340080"/>
            <a:ext cx="312840" cy="23184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3473" y="9376"/>
                </a:moveTo>
                <a:cubicBezTo>
                  <a:pt x="3473" y="9465"/>
                  <a:pt x="3431" y="9899"/>
                  <a:pt x="3497" y="9922"/>
                </a:cubicBezTo>
              </a:path>
              <a:path w="869" h="646">
                <a:moveTo>
                  <a:pt x="3919" y="9525"/>
                </a:moveTo>
                <a:cubicBezTo>
                  <a:pt x="3919" y="9584"/>
                  <a:pt x="3911" y="9563"/>
                  <a:pt x="3870" y="9599"/>
                </a:cubicBezTo>
                <a:cubicBezTo>
                  <a:pt x="3830" y="9634"/>
                  <a:pt x="3820" y="9648"/>
                  <a:pt x="3820" y="9699"/>
                </a:cubicBezTo>
                <a:cubicBezTo>
                  <a:pt x="3820" y="9738"/>
                  <a:pt x="3807" y="9711"/>
                  <a:pt x="3795" y="9748"/>
                </a:cubicBezTo>
                <a:cubicBezTo>
                  <a:pt x="3849" y="9748"/>
                  <a:pt x="3874" y="9768"/>
                  <a:pt x="3919" y="9773"/>
                </a:cubicBezTo>
                <a:cubicBezTo>
                  <a:pt x="3946" y="9776"/>
                  <a:pt x="3966" y="9796"/>
                  <a:pt x="3969" y="9823"/>
                </a:cubicBezTo>
                <a:cubicBezTo>
                  <a:pt x="3976" y="9876"/>
                  <a:pt x="3920" y="9879"/>
                  <a:pt x="3894" y="9897"/>
                </a:cubicBezTo>
                <a:cubicBezTo>
                  <a:pt x="3855" y="9924"/>
                  <a:pt x="3845" y="9922"/>
                  <a:pt x="3795" y="9922"/>
                </a:cubicBezTo>
                <a:cubicBezTo>
                  <a:pt x="3746" y="9922"/>
                  <a:pt x="3768" y="9881"/>
                  <a:pt x="3795" y="9872"/>
                </a:cubicBezTo>
              </a:path>
              <a:path w="869" h="646">
                <a:moveTo>
                  <a:pt x="4192" y="9277"/>
                </a:moveTo>
                <a:cubicBezTo>
                  <a:pt x="4192" y="9369"/>
                  <a:pt x="4149" y="9849"/>
                  <a:pt x="4217" y="9872"/>
                </a:cubicBezTo>
              </a:path>
              <a:path w="869" h="646">
                <a:moveTo>
                  <a:pt x="4093" y="9649"/>
                </a:moveTo>
                <a:cubicBezTo>
                  <a:pt x="4138" y="9638"/>
                  <a:pt x="4163" y="9624"/>
                  <a:pt x="4217" y="9624"/>
                </a:cubicBezTo>
                <a:cubicBezTo>
                  <a:pt x="4272" y="9624"/>
                  <a:pt x="4317" y="9614"/>
                  <a:pt x="4341" y="96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Ink 18"/>
          <p:cNvSpPr/>
          <p:nvPr/>
        </p:nvSpPr>
        <p:spPr>
          <a:xfrm>
            <a:off x="1812960" y="3276720"/>
            <a:ext cx="901800" cy="447480"/>
          </a:xfrm>
          <a:custGeom>
            <a:avLst/>
            <a:gdLst/>
            <a:ahLst/>
            <a:rect l="l" t="t" r="r" b="b"/>
            <a:pathLst>
              <a:path w="2507" h="1242">
                <a:moveTo>
                  <a:pt x="5333" y="9599"/>
                </a:moveTo>
                <a:cubicBezTo>
                  <a:pt x="5284" y="9599"/>
                  <a:pt x="5274" y="9588"/>
                  <a:pt x="5234" y="9575"/>
                </a:cubicBezTo>
                <a:cubicBezTo>
                  <a:pt x="5204" y="9565"/>
                  <a:pt x="5155" y="9586"/>
                  <a:pt x="5135" y="9599"/>
                </a:cubicBezTo>
                <a:cubicBezTo>
                  <a:pt x="5095" y="9626"/>
                  <a:pt x="5081" y="9668"/>
                  <a:pt x="5060" y="9699"/>
                </a:cubicBezTo>
                <a:cubicBezTo>
                  <a:pt x="5035" y="9735"/>
                  <a:pt x="5035" y="9728"/>
                  <a:pt x="5035" y="9773"/>
                </a:cubicBezTo>
                <a:cubicBezTo>
                  <a:pt x="5086" y="9773"/>
                  <a:pt x="5121" y="9782"/>
                  <a:pt x="5159" y="9748"/>
                </a:cubicBezTo>
                <a:cubicBezTo>
                  <a:pt x="5213" y="9700"/>
                  <a:pt x="5240" y="9682"/>
                  <a:pt x="5283" y="9624"/>
                </a:cubicBezTo>
                <a:cubicBezTo>
                  <a:pt x="5321" y="9573"/>
                  <a:pt x="5390" y="9535"/>
                  <a:pt x="5407" y="9475"/>
                </a:cubicBezTo>
                <a:cubicBezTo>
                  <a:pt x="5429" y="9398"/>
                  <a:pt x="5407" y="9284"/>
                  <a:pt x="5407" y="9203"/>
                </a:cubicBezTo>
                <a:cubicBezTo>
                  <a:pt x="5378" y="9242"/>
                  <a:pt x="5403" y="9266"/>
                  <a:pt x="5383" y="9302"/>
                </a:cubicBezTo>
                <a:cubicBezTo>
                  <a:pt x="5354" y="9353"/>
                  <a:pt x="5358" y="9388"/>
                  <a:pt x="5358" y="9451"/>
                </a:cubicBezTo>
                <a:cubicBezTo>
                  <a:pt x="5358" y="9550"/>
                  <a:pt x="5357" y="9639"/>
                  <a:pt x="5383" y="9723"/>
                </a:cubicBezTo>
                <a:cubicBezTo>
                  <a:pt x="5394" y="9759"/>
                  <a:pt x="5390" y="9748"/>
                  <a:pt x="5432" y="9748"/>
                </a:cubicBezTo>
              </a:path>
              <a:path w="2507" h="1242">
                <a:moveTo>
                  <a:pt x="5631" y="9575"/>
                </a:moveTo>
                <a:cubicBezTo>
                  <a:pt x="5631" y="9608"/>
                  <a:pt x="5631" y="9641"/>
                  <a:pt x="5631" y="9674"/>
                </a:cubicBezTo>
                <a:cubicBezTo>
                  <a:pt x="5655" y="9674"/>
                  <a:pt x="5663" y="9674"/>
                  <a:pt x="5655" y="9649"/>
                </a:cubicBezTo>
              </a:path>
              <a:path w="2507" h="1242">
                <a:moveTo>
                  <a:pt x="5730" y="9351"/>
                </a:moveTo>
                <a:lnTo>
                  <a:pt x="5730" y="9351"/>
                </a:lnTo>
                <a:lnTo>
                  <a:pt x="5730" y="9351"/>
                </a:lnTo>
              </a:path>
              <a:path w="2507" h="1242">
                <a:moveTo>
                  <a:pt x="5730" y="9351"/>
                </a:moveTo>
                <a:cubicBezTo>
                  <a:pt x="5813" y="9376"/>
                  <a:pt x="5895" y="9401"/>
                  <a:pt x="5978" y="9426"/>
                </a:cubicBezTo>
                <a:cubicBezTo>
                  <a:pt x="5931" y="9426"/>
                  <a:pt x="5915" y="9420"/>
                  <a:pt x="5879" y="9451"/>
                </a:cubicBezTo>
                <a:cubicBezTo>
                  <a:pt x="5845" y="9481"/>
                  <a:pt x="5854" y="9507"/>
                  <a:pt x="5854" y="9550"/>
                </a:cubicBezTo>
                <a:cubicBezTo>
                  <a:pt x="5854" y="9558"/>
                  <a:pt x="5854" y="9567"/>
                  <a:pt x="5854" y="9575"/>
                </a:cubicBezTo>
                <a:cubicBezTo>
                  <a:pt x="5908" y="9575"/>
                  <a:pt x="5912" y="9584"/>
                  <a:pt x="5953" y="9575"/>
                </a:cubicBezTo>
                <a:cubicBezTo>
                  <a:pt x="5990" y="9567"/>
                  <a:pt x="5978" y="9565"/>
                  <a:pt x="5978" y="9525"/>
                </a:cubicBezTo>
                <a:cubicBezTo>
                  <a:pt x="5978" y="9653"/>
                  <a:pt x="5965" y="9774"/>
                  <a:pt x="5953" y="9897"/>
                </a:cubicBezTo>
                <a:cubicBezTo>
                  <a:pt x="5942" y="10011"/>
                  <a:pt x="5960" y="10070"/>
                  <a:pt x="5904" y="10170"/>
                </a:cubicBezTo>
                <a:cubicBezTo>
                  <a:pt x="5877" y="10218"/>
                  <a:pt x="5825" y="10273"/>
                  <a:pt x="5804" y="10319"/>
                </a:cubicBezTo>
                <a:cubicBezTo>
                  <a:pt x="5795" y="10338"/>
                  <a:pt x="5767" y="10365"/>
                  <a:pt x="5730" y="10344"/>
                </a:cubicBezTo>
                <a:cubicBezTo>
                  <a:pt x="5666" y="10308"/>
                  <a:pt x="5660" y="10283"/>
                  <a:pt x="5631" y="10220"/>
                </a:cubicBezTo>
                <a:cubicBezTo>
                  <a:pt x="5596" y="10146"/>
                  <a:pt x="5614" y="10161"/>
                  <a:pt x="5631" y="10096"/>
                </a:cubicBezTo>
              </a:path>
              <a:path w="2507" h="1242">
                <a:moveTo>
                  <a:pt x="6201" y="9426"/>
                </a:moveTo>
                <a:cubicBezTo>
                  <a:pt x="6201" y="9482"/>
                  <a:pt x="6191" y="9504"/>
                  <a:pt x="6176" y="9550"/>
                </a:cubicBezTo>
                <a:cubicBezTo>
                  <a:pt x="6157" y="9607"/>
                  <a:pt x="6174" y="9584"/>
                  <a:pt x="6201" y="9575"/>
                </a:cubicBezTo>
              </a:path>
              <a:path w="2507" h="1242">
                <a:moveTo>
                  <a:pt x="6300" y="9277"/>
                </a:moveTo>
                <a:lnTo>
                  <a:pt x="6300" y="9277"/>
                </a:lnTo>
                <a:lnTo>
                  <a:pt x="6300" y="9277"/>
                </a:lnTo>
                <a:lnTo>
                  <a:pt x="6300" y="9277"/>
                </a:lnTo>
              </a:path>
              <a:path w="2507" h="1242">
                <a:moveTo>
                  <a:pt x="6300" y="9277"/>
                </a:moveTo>
                <a:cubicBezTo>
                  <a:pt x="6383" y="9219"/>
                  <a:pt x="6465" y="9161"/>
                  <a:pt x="6548" y="9103"/>
                </a:cubicBezTo>
                <a:cubicBezTo>
                  <a:pt x="6523" y="9173"/>
                  <a:pt x="6524" y="9227"/>
                  <a:pt x="6524" y="9302"/>
                </a:cubicBezTo>
                <a:cubicBezTo>
                  <a:pt x="6524" y="9442"/>
                  <a:pt x="6524" y="9583"/>
                  <a:pt x="6524" y="9723"/>
                </a:cubicBezTo>
              </a:path>
              <a:path w="2507" h="1242">
                <a:moveTo>
                  <a:pt x="6424" y="9426"/>
                </a:moveTo>
                <a:cubicBezTo>
                  <a:pt x="6470" y="9426"/>
                  <a:pt x="6483" y="9406"/>
                  <a:pt x="6524" y="9401"/>
                </a:cubicBezTo>
                <a:cubicBezTo>
                  <a:pt x="6574" y="9395"/>
                  <a:pt x="6584" y="9413"/>
                  <a:pt x="6623" y="9426"/>
                </a:cubicBezTo>
                <a:cubicBezTo>
                  <a:pt x="6666" y="9440"/>
                  <a:pt x="6655" y="9419"/>
                  <a:pt x="6697" y="9451"/>
                </a:cubicBezTo>
              </a:path>
              <a:path w="2507" h="1242">
                <a:moveTo>
                  <a:pt x="7268" y="9401"/>
                </a:moveTo>
                <a:cubicBezTo>
                  <a:pt x="7300" y="9377"/>
                  <a:pt x="7353" y="9355"/>
                  <a:pt x="7392" y="9351"/>
                </a:cubicBezTo>
                <a:cubicBezTo>
                  <a:pt x="7457" y="9344"/>
                  <a:pt x="7456" y="9341"/>
                  <a:pt x="7466" y="9401"/>
                </a:cubicBezTo>
              </a:path>
              <a:path w="2507" h="1242">
                <a:moveTo>
                  <a:pt x="7268" y="9575"/>
                </a:moveTo>
                <a:cubicBezTo>
                  <a:pt x="7359" y="9575"/>
                  <a:pt x="7450" y="9575"/>
                  <a:pt x="7541" y="95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Ink 19"/>
          <p:cNvSpPr/>
          <p:nvPr/>
        </p:nvSpPr>
        <p:spPr>
          <a:xfrm>
            <a:off x="3071880" y="3197160"/>
            <a:ext cx="1330200" cy="276120"/>
          </a:xfrm>
          <a:custGeom>
            <a:avLst/>
            <a:gdLst/>
            <a:ahLst/>
            <a:rect l="l" t="t" r="r" b="b"/>
            <a:pathLst>
              <a:path w="3697" h="770">
                <a:moveTo>
                  <a:pt x="8880" y="9103"/>
                </a:moveTo>
                <a:cubicBezTo>
                  <a:pt x="8832" y="9103"/>
                  <a:pt x="8766" y="9116"/>
                  <a:pt x="8731" y="9153"/>
                </a:cubicBezTo>
                <a:cubicBezTo>
                  <a:pt x="8683" y="9205"/>
                  <a:pt x="8617" y="9267"/>
                  <a:pt x="8582" y="9327"/>
                </a:cubicBezTo>
                <a:cubicBezTo>
                  <a:pt x="8541" y="9398"/>
                  <a:pt x="8533" y="9445"/>
                  <a:pt x="8533" y="9525"/>
                </a:cubicBezTo>
                <a:cubicBezTo>
                  <a:pt x="8533" y="9558"/>
                  <a:pt x="8533" y="9591"/>
                  <a:pt x="8533" y="9624"/>
                </a:cubicBezTo>
                <a:cubicBezTo>
                  <a:pt x="8596" y="9624"/>
                  <a:pt x="8641" y="9646"/>
                  <a:pt x="8706" y="9649"/>
                </a:cubicBezTo>
                <a:cubicBezTo>
                  <a:pt x="8780" y="9653"/>
                  <a:pt x="8861" y="9617"/>
                  <a:pt x="8930" y="9599"/>
                </a:cubicBezTo>
                <a:cubicBezTo>
                  <a:pt x="8995" y="9578"/>
                  <a:pt x="9011" y="9570"/>
                  <a:pt x="9054" y="9575"/>
                </a:cubicBezTo>
              </a:path>
              <a:path w="3697" h="770">
                <a:moveTo>
                  <a:pt x="9252" y="9351"/>
                </a:moveTo>
                <a:cubicBezTo>
                  <a:pt x="9178" y="9351"/>
                  <a:pt x="9195" y="9354"/>
                  <a:pt x="9153" y="9401"/>
                </a:cubicBezTo>
                <a:cubicBezTo>
                  <a:pt x="9122" y="9436"/>
                  <a:pt x="9128" y="9454"/>
                  <a:pt x="9128" y="9500"/>
                </a:cubicBezTo>
                <a:cubicBezTo>
                  <a:pt x="9178" y="9500"/>
                  <a:pt x="9187" y="9489"/>
                  <a:pt x="9227" y="9475"/>
                </a:cubicBezTo>
                <a:cubicBezTo>
                  <a:pt x="9271" y="9460"/>
                  <a:pt x="9269" y="9437"/>
                  <a:pt x="9302" y="9426"/>
                </a:cubicBezTo>
                <a:cubicBezTo>
                  <a:pt x="9302" y="9488"/>
                  <a:pt x="9316" y="9460"/>
                  <a:pt x="9327" y="9525"/>
                </a:cubicBezTo>
              </a:path>
              <a:path w="3697" h="770">
                <a:moveTo>
                  <a:pt x="9500" y="9451"/>
                </a:moveTo>
                <a:cubicBezTo>
                  <a:pt x="9510" y="9489"/>
                  <a:pt x="9543" y="9511"/>
                  <a:pt x="9550" y="9525"/>
                </a:cubicBezTo>
                <a:cubicBezTo>
                  <a:pt x="9550" y="9533"/>
                  <a:pt x="9550" y="9542"/>
                  <a:pt x="9550" y="9550"/>
                </a:cubicBezTo>
                <a:cubicBezTo>
                  <a:pt x="9589" y="9510"/>
                  <a:pt x="9612" y="9466"/>
                  <a:pt x="9649" y="9426"/>
                </a:cubicBezTo>
                <a:cubicBezTo>
                  <a:pt x="9673" y="9400"/>
                  <a:pt x="9716" y="9341"/>
                  <a:pt x="9748" y="9327"/>
                </a:cubicBezTo>
                <a:cubicBezTo>
                  <a:pt x="9764" y="9320"/>
                  <a:pt x="9805" y="9327"/>
                  <a:pt x="9823" y="9327"/>
                </a:cubicBezTo>
              </a:path>
              <a:path w="3697" h="770">
                <a:moveTo>
                  <a:pt x="10616" y="9302"/>
                </a:moveTo>
                <a:cubicBezTo>
                  <a:pt x="10551" y="9302"/>
                  <a:pt x="10537" y="9306"/>
                  <a:pt x="10492" y="9351"/>
                </a:cubicBezTo>
                <a:cubicBezTo>
                  <a:pt x="10465" y="9378"/>
                  <a:pt x="10397" y="9447"/>
                  <a:pt x="10393" y="9475"/>
                </a:cubicBezTo>
                <a:cubicBezTo>
                  <a:pt x="10386" y="9527"/>
                  <a:pt x="10384" y="9560"/>
                  <a:pt x="10418" y="9575"/>
                </a:cubicBezTo>
                <a:cubicBezTo>
                  <a:pt x="10496" y="9610"/>
                  <a:pt x="10512" y="9593"/>
                  <a:pt x="10592" y="9575"/>
                </a:cubicBezTo>
                <a:cubicBezTo>
                  <a:pt x="10633" y="9566"/>
                  <a:pt x="10705" y="9542"/>
                  <a:pt x="10740" y="9525"/>
                </a:cubicBezTo>
                <a:cubicBezTo>
                  <a:pt x="10748" y="9517"/>
                  <a:pt x="10757" y="9508"/>
                  <a:pt x="10765" y="9500"/>
                </a:cubicBezTo>
              </a:path>
              <a:path w="3697" h="770">
                <a:moveTo>
                  <a:pt x="10840" y="9426"/>
                </a:moveTo>
                <a:cubicBezTo>
                  <a:pt x="10840" y="9475"/>
                  <a:pt x="10851" y="9485"/>
                  <a:pt x="10864" y="9525"/>
                </a:cubicBezTo>
                <a:cubicBezTo>
                  <a:pt x="10870" y="9544"/>
                  <a:pt x="10864" y="9579"/>
                  <a:pt x="10864" y="9599"/>
                </a:cubicBezTo>
                <a:cubicBezTo>
                  <a:pt x="10909" y="9556"/>
                  <a:pt x="10912" y="9525"/>
                  <a:pt x="10939" y="9475"/>
                </a:cubicBezTo>
                <a:cubicBezTo>
                  <a:pt x="10968" y="9422"/>
                  <a:pt x="10975" y="9330"/>
                  <a:pt x="11038" y="9302"/>
                </a:cubicBezTo>
                <a:cubicBezTo>
                  <a:pt x="11072" y="9287"/>
                  <a:pt x="11096" y="9277"/>
                  <a:pt x="11137" y="9277"/>
                </a:cubicBezTo>
                <a:cubicBezTo>
                  <a:pt x="11154" y="9277"/>
                  <a:pt x="11170" y="9277"/>
                  <a:pt x="11187" y="9277"/>
                </a:cubicBezTo>
              </a:path>
              <a:path w="3697" h="770">
                <a:moveTo>
                  <a:pt x="11485" y="9327"/>
                </a:moveTo>
                <a:cubicBezTo>
                  <a:pt x="11437" y="9327"/>
                  <a:pt x="11405" y="9322"/>
                  <a:pt x="11361" y="9351"/>
                </a:cubicBezTo>
                <a:cubicBezTo>
                  <a:pt x="11312" y="9384"/>
                  <a:pt x="11293" y="9408"/>
                  <a:pt x="11261" y="9451"/>
                </a:cubicBezTo>
                <a:cubicBezTo>
                  <a:pt x="11310" y="9479"/>
                  <a:pt x="11380" y="9476"/>
                  <a:pt x="11435" y="9451"/>
                </a:cubicBezTo>
                <a:cubicBezTo>
                  <a:pt x="11469" y="9435"/>
                  <a:pt x="11507" y="9378"/>
                  <a:pt x="11534" y="9351"/>
                </a:cubicBezTo>
                <a:cubicBezTo>
                  <a:pt x="11534" y="9422"/>
                  <a:pt x="11509" y="9468"/>
                  <a:pt x="11584" y="9475"/>
                </a:cubicBezTo>
                <a:cubicBezTo>
                  <a:pt x="11592" y="9475"/>
                  <a:pt x="11601" y="9475"/>
                  <a:pt x="11609" y="9475"/>
                </a:cubicBezTo>
              </a:path>
              <a:path w="3697" h="770">
                <a:moveTo>
                  <a:pt x="11757" y="9302"/>
                </a:moveTo>
                <a:cubicBezTo>
                  <a:pt x="11757" y="9330"/>
                  <a:pt x="11755" y="9340"/>
                  <a:pt x="11733" y="9351"/>
                </a:cubicBezTo>
                <a:cubicBezTo>
                  <a:pt x="11759" y="9371"/>
                  <a:pt x="11800" y="9412"/>
                  <a:pt x="11832" y="9426"/>
                </a:cubicBezTo>
                <a:cubicBezTo>
                  <a:pt x="11865" y="9441"/>
                  <a:pt x="11901" y="9439"/>
                  <a:pt x="11906" y="9475"/>
                </a:cubicBezTo>
                <a:cubicBezTo>
                  <a:pt x="11911" y="9517"/>
                  <a:pt x="11897" y="9537"/>
                  <a:pt x="11857" y="9550"/>
                </a:cubicBezTo>
                <a:cubicBezTo>
                  <a:pt x="11820" y="9563"/>
                  <a:pt x="11800" y="9575"/>
                  <a:pt x="11757" y="9575"/>
                </a:cubicBezTo>
                <a:cubicBezTo>
                  <a:pt x="11767" y="9544"/>
                  <a:pt x="11806" y="9521"/>
                  <a:pt x="11832" y="9475"/>
                </a:cubicBezTo>
              </a:path>
              <a:path w="3697" h="770">
                <a:moveTo>
                  <a:pt x="12105" y="8880"/>
                </a:moveTo>
                <a:cubicBezTo>
                  <a:pt x="12105" y="8985"/>
                  <a:pt x="12096" y="9079"/>
                  <a:pt x="12080" y="9178"/>
                </a:cubicBezTo>
                <a:cubicBezTo>
                  <a:pt x="12071" y="9232"/>
                  <a:pt x="12080" y="9295"/>
                  <a:pt x="12080" y="9351"/>
                </a:cubicBezTo>
                <a:cubicBezTo>
                  <a:pt x="12115" y="9351"/>
                  <a:pt x="12153" y="9344"/>
                  <a:pt x="12179" y="9327"/>
                </a:cubicBezTo>
                <a:cubicBezTo>
                  <a:pt x="12202" y="9304"/>
                  <a:pt x="12206" y="9296"/>
                  <a:pt x="12229" y="9302"/>
                </a:cubicBezTo>
                <a:cubicBezTo>
                  <a:pt x="12229" y="9365"/>
                  <a:pt x="12241" y="9427"/>
                  <a:pt x="12204" y="9475"/>
                </a:cubicBezTo>
              </a:path>
              <a:path w="3697" h="770">
                <a:moveTo>
                  <a:pt x="11931" y="9203"/>
                </a:moveTo>
                <a:cubicBezTo>
                  <a:pt x="11906" y="9203"/>
                  <a:pt x="11882" y="9203"/>
                  <a:pt x="11857" y="9203"/>
                </a:cubicBezTo>
                <a:cubicBezTo>
                  <a:pt x="11850" y="9214"/>
                  <a:pt x="11808" y="9264"/>
                  <a:pt x="11782" y="9277"/>
                </a:cubicBezTo>
                <a:cubicBezTo>
                  <a:pt x="11757" y="9277"/>
                  <a:pt x="11749" y="9277"/>
                  <a:pt x="11757" y="93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Ink 20"/>
          <p:cNvSpPr/>
          <p:nvPr/>
        </p:nvSpPr>
        <p:spPr>
          <a:xfrm>
            <a:off x="4643280" y="3224160"/>
            <a:ext cx="223920" cy="231840"/>
          </a:xfrm>
          <a:custGeom>
            <a:avLst/>
            <a:gdLst/>
            <a:ahLst/>
            <a:rect l="l" t="t" r="r" b="b"/>
            <a:pathLst>
              <a:path w="622" h="646">
                <a:moveTo>
                  <a:pt x="12948" y="9302"/>
                </a:moveTo>
                <a:cubicBezTo>
                  <a:pt x="12940" y="9302"/>
                  <a:pt x="12931" y="9302"/>
                  <a:pt x="12923" y="9302"/>
                </a:cubicBezTo>
                <a:cubicBezTo>
                  <a:pt x="12923" y="9358"/>
                  <a:pt x="12913" y="9380"/>
                  <a:pt x="12898" y="9426"/>
                </a:cubicBezTo>
                <a:cubicBezTo>
                  <a:pt x="12898" y="9451"/>
                  <a:pt x="12898" y="9459"/>
                  <a:pt x="12923" y="9451"/>
                </a:cubicBezTo>
              </a:path>
              <a:path w="622" h="646">
                <a:moveTo>
                  <a:pt x="12998" y="9203"/>
                </a:moveTo>
                <a:cubicBezTo>
                  <a:pt x="13022" y="9203"/>
                  <a:pt x="13030" y="9203"/>
                  <a:pt x="12998" y="9203"/>
                </a:cubicBezTo>
              </a:path>
              <a:path w="622" h="646">
                <a:moveTo>
                  <a:pt x="13519" y="9004"/>
                </a:moveTo>
                <a:cubicBezTo>
                  <a:pt x="13497" y="8988"/>
                  <a:pt x="13449" y="8945"/>
                  <a:pt x="13419" y="8954"/>
                </a:cubicBezTo>
                <a:cubicBezTo>
                  <a:pt x="13359" y="8971"/>
                  <a:pt x="13313" y="9011"/>
                  <a:pt x="13271" y="9054"/>
                </a:cubicBezTo>
                <a:cubicBezTo>
                  <a:pt x="13232" y="9093"/>
                  <a:pt x="13210" y="9122"/>
                  <a:pt x="13196" y="9178"/>
                </a:cubicBezTo>
                <a:cubicBezTo>
                  <a:pt x="13182" y="9233"/>
                  <a:pt x="13171" y="9268"/>
                  <a:pt x="13171" y="9327"/>
                </a:cubicBezTo>
                <a:cubicBezTo>
                  <a:pt x="13171" y="9397"/>
                  <a:pt x="13178" y="9442"/>
                  <a:pt x="13196" y="9500"/>
                </a:cubicBezTo>
                <a:cubicBezTo>
                  <a:pt x="13210" y="9548"/>
                  <a:pt x="13210" y="9567"/>
                  <a:pt x="13221" y="9599"/>
                </a:cubicBezTo>
              </a:path>
              <a:path w="622" h="646">
                <a:moveTo>
                  <a:pt x="13097" y="9401"/>
                </a:moveTo>
                <a:cubicBezTo>
                  <a:pt x="13146" y="9352"/>
                  <a:pt x="13151" y="9351"/>
                  <a:pt x="13221" y="9351"/>
                </a:cubicBezTo>
                <a:cubicBezTo>
                  <a:pt x="13277" y="9351"/>
                  <a:pt x="13328" y="9339"/>
                  <a:pt x="13370" y="9376"/>
                </a:cubicBezTo>
                <a:cubicBezTo>
                  <a:pt x="13378" y="9384"/>
                  <a:pt x="13387" y="9393"/>
                  <a:pt x="13395" y="94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Ink 21"/>
          <p:cNvSpPr/>
          <p:nvPr/>
        </p:nvSpPr>
        <p:spPr>
          <a:xfrm>
            <a:off x="5232240" y="3178080"/>
            <a:ext cx="268560" cy="223920"/>
          </a:xfrm>
          <a:custGeom>
            <a:avLst/>
            <a:gdLst/>
            <a:ahLst/>
            <a:rect l="l" t="t" r="r" b="b"/>
            <a:pathLst>
              <a:path w="745" h="622">
                <a:moveTo>
                  <a:pt x="14560" y="9203"/>
                </a:moveTo>
                <a:cubicBezTo>
                  <a:pt x="14560" y="9279"/>
                  <a:pt x="14557" y="9337"/>
                  <a:pt x="14536" y="9401"/>
                </a:cubicBezTo>
                <a:cubicBezTo>
                  <a:pt x="14522" y="9446"/>
                  <a:pt x="14527" y="9449"/>
                  <a:pt x="14560" y="9426"/>
                </a:cubicBezTo>
              </a:path>
              <a:path w="745" h="622">
                <a:moveTo>
                  <a:pt x="14585" y="9203"/>
                </a:moveTo>
                <a:cubicBezTo>
                  <a:pt x="14585" y="9161"/>
                  <a:pt x="14625" y="9178"/>
                  <a:pt x="14660" y="9178"/>
                </a:cubicBezTo>
              </a:path>
              <a:path w="745" h="622">
                <a:moveTo>
                  <a:pt x="14833" y="8830"/>
                </a:moveTo>
                <a:cubicBezTo>
                  <a:pt x="14833" y="8896"/>
                  <a:pt x="14816" y="8945"/>
                  <a:pt x="14808" y="9004"/>
                </a:cubicBezTo>
                <a:cubicBezTo>
                  <a:pt x="14794" y="9115"/>
                  <a:pt x="14808" y="9239"/>
                  <a:pt x="14808" y="9351"/>
                </a:cubicBezTo>
              </a:path>
              <a:path w="745" h="622">
                <a:moveTo>
                  <a:pt x="14734" y="9153"/>
                </a:moveTo>
                <a:cubicBezTo>
                  <a:pt x="14780" y="9107"/>
                  <a:pt x="14792" y="9103"/>
                  <a:pt x="14858" y="9103"/>
                </a:cubicBezTo>
                <a:cubicBezTo>
                  <a:pt x="14892" y="9103"/>
                  <a:pt x="14926" y="9135"/>
                  <a:pt x="14957" y="9153"/>
                </a:cubicBezTo>
              </a:path>
              <a:path w="745" h="622">
                <a:moveTo>
                  <a:pt x="15131" y="9103"/>
                </a:moveTo>
                <a:cubicBezTo>
                  <a:pt x="15081" y="9141"/>
                  <a:pt x="15081" y="9132"/>
                  <a:pt x="15081" y="9203"/>
                </a:cubicBezTo>
                <a:cubicBezTo>
                  <a:pt x="15081" y="9253"/>
                  <a:pt x="15144" y="9266"/>
                  <a:pt x="15180" y="9277"/>
                </a:cubicBezTo>
                <a:cubicBezTo>
                  <a:pt x="15220" y="9289"/>
                  <a:pt x="15250" y="9304"/>
                  <a:pt x="15255" y="9351"/>
                </a:cubicBezTo>
                <a:cubicBezTo>
                  <a:pt x="15258" y="9382"/>
                  <a:pt x="15183" y="9420"/>
                  <a:pt x="15156" y="9426"/>
                </a:cubicBezTo>
                <a:cubicBezTo>
                  <a:pt x="15086" y="9441"/>
                  <a:pt x="15066" y="9370"/>
                  <a:pt x="15032" y="9351"/>
                </a:cubicBezTo>
                <a:cubicBezTo>
                  <a:pt x="14997" y="9351"/>
                  <a:pt x="14984" y="9342"/>
                  <a:pt x="14982" y="9302"/>
                </a:cubicBezTo>
              </a:path>
              <a:path w="745" h="622">
                <a:moveTo>
                  <a:pt x="14660" y="8905"/>
                </a:moveTo>
                <a:cubicBezTo>
                  <a:pt x="14660" y="8937"/>
                  <a:pt x="14680" y="8933"/>
                  <a:pt x="14709" y="8954"/>
                </a:cubicBezTo>
              </a:path>
              <a:path w="745" h="622">
                <a:moveTo>
                  <a:pt x="15280" y="9103"/>
                </a:moveTo>
                <a:cubicBezTo>
                  <a:pt x="15267" y="9094"/>
                  <a:pt x="15201" y="9054"/>
                  <a:pt x="15180" y="9079"/>
                </a:cubicBezTo>
                <a:cubicBezTo>
                  <a:pt x="15180" y="9087"/>
                  <a:pt x="15180" y="9095"/>
                  <a:pt x="15180" y="9103"/>
                </a:cubicBezTo>
              </a:path>
              <a:path w="745" h="622">
                <a:moveTo>
                  <a:pt x="15007" y="8880"/>
                </a:moveTo>
                <a:cubicBezTo>
                  <a:pt x="15007" y="8913"/>
                  <a:pt x="15007" y="8946"/>
                  <a:pt x="15007" y="89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Ink 22"/>
          <p:cNvSpPr/>
          <p:nvPr/>
        </p:nvSpPr>
        <p:spPr>
          <a:xfrm>
            <a:off x="5776920" y="3303720"/>
            <a:ext cx="144360" cy="10764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6421" y="9203"/>
                </a:moveTo>
                <a:cubicBezTo>
                  <a:pt x="16382" y="9193"/>
                  <a:pt x="16366" y="9178"/>
                  <a:pt x="16321" y="9178"/>
                </a:cubicBezTo>
                <a:cubicBezTo>
                  <a:pt x="16265" y="9178"/>
                  <a:pt x="16219" y="9202"/>
                  <a:pt x="16173" y="9227"/>
                </a:cubicBezTo>
                <a:cubicBezTo>
                  <a:pt x="16135" y="9247"/>
                  <a:pt x="16068" y="9284"/>
                  <a:pt x="16049" y="9327"/>
                </a:cubicBezTo>
                <a:cubicBezTo>
                  <a:pt x="16049" y="9351"/>
                  <a:pt x="16049" y="9360"/>
                  <a:pt x="16049" y="9376"/>
                </a:cubicBezTo>
                <a:cubicBezTo>
                  <a:pt x="16130" y="9376"/>
                  <a:pt x="16198" y="9383"/>
                  <a:pt x="16272" y="9351"/>
                </a:cubicBezTo>
                <a:cubicBezTo>
                  <a:pt x="16321" y="9329"/>
                  <a:pt x="16352" y="9297"/>
                  <a:pt x="16396" y="9277"/>
                </a:cubicBezTo>
                <a:cubicBezTo>
                  <a:pt x="16404" y="9277"/>
                  <a:pt x="16413" y="9277"/>
                  <a:pt x="16421" y="9277"/>
                </a:cubicBezTo>
                <a:cubicBezTo>
                  <a:pt x="16411" y="9316"/>
                  <a:pt x="16396" y="9332"/>
                  <a:pt x="16396" y="9376"/>
                </a:cubicBezTo>
                <a:cubicBezTo>
                  <a:pt x="16396" y="9402"/>
                  <a:pt x="16403" y="9463"/>
                  <a:pt x="16421" y="9475"/>
                </a:cubicBezTo>
                <a:cubicBezTo>
                  <a:pt x="16429" y="9475"/>
                  <a:pt x="16438" y="9475"/>
                  <a:pt x="16446" y="94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Ink 23"/>
          <p:cNvSpPr/>
          <p:nvPr/>
        </p:nvSpPr>
        <p:spPr>
          <a:xfrm>
            <a:off x="6510240" y="3232080"/>
            <a:ext cx="812880" cy="304920"/>
          </a:xfrm>
          <a:custGeom>
            <a:avLst/>
            <a:gdLst/>
            <a:ahLst/>
            <a:rect l="l" t="t" r="r" b="b"/>
            <a:pathLst>
              <a:path w="2258" h="845">
                <a:moveTo>
                  <a:pt x="18107" y="9029"/>
                </a:moveTo>
                <a:cubicBezTo>
                  <a:pt x="18107" y="9153"/>
                  <a:pt x="18107" y="9277"/>
                  <a:pt x="18107" y="9401"/>
                </a:cubicBezTo>
                <a:cubicBezTo>
                  <a:pt x="18071" y="9414"/>
                  <a:pt x="18083" y="9431"/>
                  <a:pt x="18083" y="9475"/>
                </a:cubicBezTo>
                <a:cubicBezTo>
                  <a:pt x="18083" y="9483"/>
                  <a:pt x="18083" y="9492"/>
                  <a:pt x="18083" y="9500"/>
                </a:cubicBezTo>
              </a:path>
              <a:path w="2258" h="845">
                <a:moveTo>
                  <a:pt x="19000" y="9351"/>
                </a:moveTo>
                <a:cubicBezTo>
                  <a:pt x="18976" y="9351"/>
                  <a:pt x="18967" y="9351"/>
                  <a:pt x="18951" y="9351"/>
                </a:cubicBezTo>
                <a:cubicBezTo>
                  <a:pt x="18951" y="9392"/>
                  <a:pt x="18951" y="9434"/>
                  <a:pt x="18951" y="9475"/>
                </a:cubicBezTo>
                <a:cubicBezTo>
                  <a:pt x="18996" y="9475"/>
                  <a:pt x="19010" y="9497"/>
                  <a:pt x="19050" y="9500"/>
                </a:cubicBezTo>
                <a:cubicBezTo>
                  <a:pt x="19115" y="9505"/>
                  <a:pt x="19150" y="9495"/>
                  <a:pt x="19199" y="9451"/>
                </a:cubicBezTo>
                <a:cubicBezTo>
                  <a:pt x="19212" y="9440"/>
                  <a:pt x="19248" y="9370"/>
                  <a:pt x="19224" y="9351"/>
                </a:cubicBezTo>
                <a:cubicBezTo>
                  <a:pt x="19206" y="9337"/>
                  <a:pt x="19150" y="9305"/>
                  <a:pt x="19124" y="9302"/>
                </a:cubicBezTo>
                <a:cubicBezTo>
                  <a:pt x="19084" y="9297"/>
                  <a:pt x="19030" y="9288"/>
                  <a:pt x="19025" y="9327"/>
                </a:cubicBezTo>
                <a:cubicBezTo>
                  <a:pt x="19025" y="9351"/>
                  <a:pt x="19025" y="9359"/>
                  <a:pt x="19000" y="9351"/>
                </a:cubicBezTo>
              </a:path>
              <a:path w="2258" h="845">
                <a:moveTo>
                  <a:pt x="19397" y="9376"/>
                </a:moveTo>
                <a:cubicBezTo>
                  <a:pt x="19423" y="9411"/>
                  <a:pt x="19422" y="9407"/>
                  <a:pt x="19422" y="9451"/>
                </a:cubicBezTo>
                <a:cubicBezTo>
                  <a:pt x="19457" y="9462"/>
                  <a:pt x="19447" y="9458"/>
                  <a:pt x="19447" y="9500"/>
                </a:cubicBezTo>
                <a:cubicBezTo>
                  <a:pt x="19470" y="9492"/>
                  <a:pt x="19486" y="9459"/>
                  <a:pt x="19496" y="9426"/>
                </a:cubicBezTo>
                <a:cubicBezTo>
                  <a:pt x="19508" y="9388"/>
                  <a:pt x="19518" y="9358"/>
                  <a:pt x="19546" y="9327"/>
                </a:cubicBezTo>
                <a:cubicBezTo>
                  <a:pt x="19577" y="9292"/>
                  <a:pt x="19599" y="9223"/>
                  <a:pt x="19645" y="9203"/>
                </a:cubicBezTo>
                <a:cubicBezTo>
                  <a:pt x="19653" y="9203"/>
                  <a:pt x="19662" y="9203"/>
                  <a:pt x="19670" y="9203"/>
                </a:cubicBezTo>
                <a:cubicBezTo>
                  <a:pt x="19682" y="9167"/>
                  <a:pt x="19683" y="9167"/>
                  <a:pt x="19695" y="9203"/>
                </a:cubicBezTo>
                <a:cubicBezTo>
                  <a:pt x="19730" y="9214"/>
                  <a:pt x="19720" y="9210"/>
                  <a:pt x="19720" y="9252"/>
                </a:cubicBezTo>
              </a:path>
              <a:path w="2258" h="845">
                <a:moveTo>
                  <a:pt x="18132" y="9475"/>
                </a:moveTo>
                <a:cubicBezTo>
                  <a:pt x="18135" y="9476"/>
                  <a:pt x="18204" y="9496"/>
                  <a:pt x="18207" y="9500"/>
                </a:cubicBezTo>
                <a:cubicBezTo>
                  <a:pt x="18207" y="9525"/>
                  <a:pt x="18207" y="9533"/>
                  <a:pt x="18231" y="9525"/>
                </a:cubicBezTo>
                <a:cubicBezTo>
                  <a:pt x="18234" y="9524"/>
                  <a:pt x="18303" y="9504"/>
                  <a:pt x="18306" y="9500"/>
                </a:cubicBezTo>
                <a:cubicBezTo>
                  <a:pt x="18315" y="9488"/>
                  <a:pt x="18345" y="9434"/>
                  <a:pt x="18355" y="9426"/>
                </a:cubicBezTo>
                <a:cubicBezTo>
                  <a:pt x="18384" y="9403"/>
                  <a:pt x="18380" y="9404"/>
                  <a:pt x="18380" y="9351"/>
                </a:cubicBezTo>
                <a:cubicBezTo>
                  <a:pt x="18380" y="9272"/>
                  <a:pt x="18377" y="9197"/>
                  <a:pt x="18355" y="9153"/>
                </a:cubicBezTo>
                <a:cubicBezTo>
                  <a:pt x="18342" y="9127"/>
                  <a:pt x="18319" y="9117"/>
                  <a:pt x="18306" y="9079"/>
                </a:cubicBezTo>
                <a:cubicBezTo>
                  <a:pt x="18295" y="9046"/>
                  <a:pt x="18266" y="9049"/>
                  <a:pt x="18256" y="9029"/>
                </a:cubicBezTo>
                <a:cubicBezTo>
                  <a:pt x="18245" y="9007"/>
                  <a:pt x="18208" y="8982"/>
                  <a:pt x="18182" y="8979"/>
                </a:cubicBezTo>
                <a:cubicBezTo>
                  <a:pt x="18151" y="8975"/>
                  <a:pt x="18114" y="8990"/>
                  <a:pt x="18107" y="9004"/>
                </a:cubicBezTo>
                <a:cubicBezTo>
                  <a:pt x="18091" y="9036"/>
                  <a:pt x="18083" y="9030"/>
                  <a:pt x="18083" y="9079"/>
                </a:cubicBezTo>
                <a:cubicBezTo>
                  <a:pt x="18083" y="9087"/>
                  <a:pt x="18083" y="9095"/>
                  <a:pt x="18083" y="9103"/>
                </a:cubicBezTo>
              </a:path>
              <a:path w="2258" h="845">
                <a:moveTo>
                  <a:pt x="20340" y="9079"/>
                </a:moveTo>
                <a:cubicBezTo>
                  <a:pt x="20327" y="9116"/>
                  <a:pt x="20315" y="9100"/>
                  <a:pt x="20315" y="9153"/>
                </a:cubicBezTo>
                <a:cubicBezTo>
                  <a:pt x="20315" y="9219"/>
                  <a:pt x="20296" y="9184"/>
                  <a:pt x="20290" y="9252"/>
                </a:cubicBezTo>
                <a:cubicBezTo>
                  <a:pt x="20285" y="9308"/>
                  <a:pt x="20274" y="9348"/>
                  <a:pt x="20265" y="9401"/>
                </a:cubicBezTo>
                <a:cubicBezTo>
                  <a:pt x="20255" y="9458"/>
                  <a:pt x="20265" y="9675"/>
                  <a:pt x="20265" y="9649"/>
                </a:cubicBezTo>
                <a:cubicBezTo>
                  <a:pt x="20265" y="9495"/>
                  <a:pt x="20244" y="9315"/>
                  <a:pt x="20290" y="9178"/>
                </a:cubicBezTo>
                <a:cubicBezTo>
                  <a:pt x="20303" y="9139"/>
                  <a:pt x="20290" y="9071"/>
                  <a:pt x="20290" y="9029"/>
                </a:cubicBezTo>
                <a:cubicBezTo>
                  <a:pt x="20290" y="9105"/>
                  <a:pt x="20284" y="9163"/>
                  <a:pt x="20265" y="9227"/>
                </a:cubicBezTo>
                <a:cubicBezTo>
                  <a:pt x="20251" y="9272"/>
                  <a:pt x="20265" y="9353"/>
                  <a:pt x="20265" y="9401"/>
                </a:cubicBezTo>
              </a:path>
              <a:path w="2258" h="845">
                <a:moveTo>
                  <a:pt x="18182" y="9029"/>
                </a:moveTo>
                <a:cubicBezTo>
                  <a:pt x="18155" y="9038"/>
                  <a:pt x="18136" y="9047"/>
                  <a:pt x="18132" y="9079"/>
                </a:cubicBezTo>
                <a:cubicBezTo>
                  <a:pt x="18127" y="9119"/>
                  <a:pt x="18107" y="9132"/>
                  <a:pt x="18107" y="9178"/>
                </a:cubicBezTo>
                <a:cubicBezTo>
                  <a:pt x="18107" y="9233"/>
                  <a:pt x="18088" y="9211"/>
                  <a:pt x="18083" y="9252"/>
                </a:cubicBezTo>
                <a:cubicBezTo>
                  <a:pt x="18076" y="9311"/>
                  <a:pt x="18094" y="9350"/>
                  <a:pt x="18107" y="9376"/>
                </a:cubicBezTo>
                <a:cubicBezTo>
                  <a:pt x="18119" y="9402"/>
                  <a:pt x="18149" y="9410"/>
                  <a:pt x="18157" y="9426"/>
                </a:cubicBezTo>
                <a:cubicBezTo>
                  <a:pt x="18180" y="9471"/>
                  <a:pt x="18138" y="9475"/>
                  <a:pt x="18207" y="9475"/>
                </a:cubicBezTo>
                <a:cubicBezTo>
                  <a:pt x="18256" y="9475"/>
                  <a:pt x="18262" y="9460"/>
                  <a:pt x="18281" y="9451"/>
                </a:cubicBezTo>
                <a:cubicBezTo>
                  <a:pt x="18307" y="9438"/>
                  <a:pt x="18314" y="9410"/>
                  <a:pt x="18331" y="9401"/>
                </a:cubicBezTo>
                <a:cubicBezTo>
                  <a:pt x="18356" y="9388"/>
                  <a:pt x="18376" y="9385"/>
                  <a:pt x="18380" y="9351"/>
                </a:cubicBezTo>
                <a:cubicBezTo>
                  <a:pt x="18389" y="9281"/>
                  <a:pt x="18372" y="9213"/>
                  <a:pt x="18355" y="9178"/>
                </a:cubicBezTo>
                <a:cubicBezTo>
                  <a:pt x="18342" y="9151"/>
                  <a:pt x="18336" y="9090"/>
                  <a:pt x="18331" y="9079"/>
                </a:cubicBezTo>
                <a:cubicBezTo>
                  <a:pt x="18318" y="9053"/>
                  <a:pt x="18315" y="9033"/>
                  <a:pt x="18281" y="9029"/>
                </a:cubicBezTo>
                <a:cubicBezTo>
                  <a:pt x="18256" y="9029"/>
                  <a:pt x="18248" y="9029"/>
                  <a:pt x="18231" y="9029"/>
                </a:cubicBezTo>
              </a:path>
              <a:path w="2258" h="845">
                <a:moveTo>
                  <a:pt x="20315" y="9252"/>
                </a:moveTo>
                <a:cubicBezTo>
                  <a:pt x="20315" y="9293"/>
                  <a:pt x="20315" y="9335"/>
                  <a:pt x="20315" y="9376"/>
                </a:cubicBezTo>
                <a:cubicBezTo>
                  <a:pt x="20277" y="9389"/>
                  <a:pt x="20290" y="9406"/>
                  <a:pt x="20290" y="9451"/>
                </a:cubicBezTo>
                <a:cubicBezTo>
                  <a:pt x="20290" y="9583"/>
                  <a:pt x="20290" y="9930"/>
                  <a:pt x="20290" y="97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Ink 24"/>
          <p:cNvSpPr/>
          <p:nvPr/>
        </p:nvSpPr>
        <p:spPr>
          <a:xfrm>
            <a:off x="7742160" y="2847960"/>
            <a:ext cx="1295640" cy="1509840"/>
          </a:xfrm>
          <a:custGeom>
            <a:avLst/>
            <a:gdLst/>
            <a:ahLst/>
            <a:rect l="l" t="t" r="r" b="b"/>
            <a:pathLst>
              <a:path w="3597" h="4193">
                <a:moveTo>
                  <a:pt x="24904" y="12080"/>
                </a:moveTo>
                <a:cubicBezTo>
                  <a:pt x="24912" y="12088"/>
                  <a:pt x="24921" y="12097"/>
                  <a:pt x="24929" y="12105"/>
                </a:cubicBezTo>
                <a:cubicBezTo>
                  <a:pt x="24951" y="12079"/>
                  <a:pt x="24995" y="12042"/>
                  <a:pt x="25003" y="12030"/>
                </a:cubicBezTo>
                <a:cubicBezTo>
                  <a:pt x="25024" y="11998"/>
                  <a:pt x="25034" y="11960"/>
                  <a:pt x="25053" y="11931"/>
                </a:cubicBezTo>
                <a:cubicBezTo>
                  <a:pt x="25060" y="11921"/>
                  <a:pt x="25095" y="11888"/>
                  <a:pt x="25102" y="11857"/>
                </a:cubicBezTo>
                <a:cubicBezTo>
                  <a:pt x="25145" y="11677"/>
                  <a:pt x="25116" y="11384"/>
                  <a:pt x="25078" y="11212"/>
                </a:cubicBezTo>
                <a:cubicBezTo>
                  <a:pt x="25069" y="11171"/>
                  <a:pt x="25056" y="11141"/>
                  <a:pt x="25053" y="11088"/>
                </a:cubicBezTo>
                <a:cubicBezTo>
                  <a:pt x="25047" y="10978"/>
                  <a:pt x="25066" y="10873"/>
                  <a:pt x="25078" y="10765"/>
                </a:cubicBezTo>
                <a:cubicBezTo>
                  <a:pt x="25089" y="10665"/>
                  <a:pt x="25100" y="10569"/>
                  <a:pt x="25102" y="10468"/>
                </a:cubicBezTo>
                <a:cubicBezTo>
                  <a:pt x="25104" y="10384"/>
                  <a:pt x="25113" y="10290"/>
                  <a:pt x="25078" y="10220"/>
                </a:cubicBezTo>
                <a:cubicBezTo>
                  <a:pt x="25054" y="10172"/>
                  <a:pt x="25009" y="10117"/>
                  <a:pt x="24978" y="10071"/>
                </a:cubicBezTo>
                <a:cubicBezTo>
                  <a:pt x="24939" y="10012"/>
                  <a:pt x="24878" y="9920"/>
                  <a:pt x="24829" y="9872"/>
                </a:cubicBezTo>
                <a:cubicBezTo>
                  <a:pt x="24748" y="9794"/>
                  <a:pt x="24650" y="9737"/>
                  <a:pt x="24557" y="9674"/>
                </a:cubicBezTo>
                <a:cubicBezTo>
                  <a:pt x="24484" y="9624"/>
                  <a:pt x="24435" y="9591"/>
                  <a:pt x="24358" y="9550"/>
                </a:cubicBezTo>
                <a:cubicBezTo>
                  <a:pt x="24230" y="9482"/>
                  <a:pt x="24102" y="9432"/>
                  <a:pt x="23986" y="9351"/>
                </a:cubicBezTo>
                <a:cubicBezTo>
                  <a:pt x="23913" y="9300"/>
                  <a:pt x="23838" y="9255"/>
                  <a:pt x="23763" y="9203"/>
                </a:cubicBezTo>
                <a:cubicBezTo>
                  <a:pt x="23687" y="9150"/>
                  <a:pt x="23615" y="9106"/>
                  <a:pt x="23540" y="9054"/>
                </a:cubicBezTo>
                <a:cubicBezTo>
                  <a:pt x="23463" y="9001"/>
                  <a:pt x="23395" y="8933"/>
                  <a:pt x="23316" y="8880"/>
                </a:cubicBezTo>
                <a:cubicBezTo>
                  <a:pt x="23241" y="8830"/>
                  <a:pt x="23183" y="8792"/>
                  <a:pt x="23118" y="8731"/>
                </a:cubicBezTo>
                <a:cubicBezTo>
                  <a:pt x="23066" y="8682"/>
                  <a:pt x="23044" y="8657"/>
                  <a:pt x="22994" y="8607"/>
                </a:cubicBezTo>
                <a:cubicBezTo>
                  <a:pt x="22919" y="8531"/>
                  <a:pt x="22811" y="8453"/>
                  <a:pt x="22746" y="8384"/>
                </a:cubicBezTo>
                <a:cubicBezTo>
                  <a:pt x="22726" y="8363"/>
                  <a:pt x="22699" y="8314"/>
                  <a:pt x="22671" y="8285"/>
                </a:cubicBezTo>
                <a:cubicBezTo>
                  <a:pt x="22650" y="8264"/>
                  <a:pt x="22647" y="8254"/>
                  <a:pt x="22622" y="8235"/>
                </a:cubicBezTo>
                <a:cubicBezTo>
                  <a:pt x="22595" y="8214"/>
                  <a:pt x="22570" y="8201"/>
                  <a:pt x="22547" y="8186"/>
                </a:cubicBezTo>
                <a:cubicBezTo>
                  <a:pt x="22544" y="8236"/>
                  <a:pt x="22526" y="8297"/>
                  <a:pt x="22523" y="8334"/>
                </a:cubicBezTo>
                <a:cubicBezTo>
                  <a:pt x="22519" y="8382"/>
                  <a:pt x="22544" y="8420"/>
                  <a:pt x="22547" y="8434"/>
                </a:cubicBezTo>
                <a:cubicBezTo>
                  <a:pt x="22552" y="8452"/>
                  <a:pt x="22570" y="8510"/>
                  <a:pt x="22572" y="8508"/>
                </a:cubicBezTo>
                <a:cubicBezTo>
                  <a:pt x="22587" y="8494"/>
                  <a:pt x="22602" y="8436"/>
                  <a:pt x="22597" y="8409"/>
                </a:cubicBezTo>
                <a:cubicBezTo>
                  <a:pt x="22589" y="8366"/>
                  <a:pt x="22551" y="8313"/>
                  <a:pt x="22547" y="8260"/>
                </a:cubicBezTo>
                <a:cubicBezTo>
                  <a:pt x="22544" y="8227"/>
                  <a:pt x="22549" y="8194"/>
                  <a:pt x="22547" y="8161"/>
                </a:cubicBezTo>
                <a:cubicBezTo>
                  <a:pt x="22601" y="8168"/>
                  <a:pt x="22621" y="8173"/>
                  <a:pt x="22647" y="8186"/>
                </a:cubicBezTo>
                <a:cubicBezTo>
                  <a:pt x="22690" y="8208"/>
                  <a:pt x="22689" y="8203"/>
                  <a:pt x="22721" y="8235"/>
                </a:cubicBezTo>
                <a:cubicBezTo>
                  <a:pt x="22721" y="8243"/>
                  <a:pt x="22721" y="8252"/>
                  <a:pt x="22721" y="8260"/>
                </a:cubicBezTo>
              </a:path>
              <a:path w="3597" h="4193">
                <a:moveTo>
                  <a:pt x="22870" y="8682"/>
                </a:moveTo>
                <a:cubicBezTo>
                  <a:pt x="22733" y="8682"/>
                  <a:pt x="22595" y="8676"/>
                  <a:pt x="22473" y="8657"/>
                </a:cubicBezTo>
                <a:cubicBezTo>
                  <a:pt x="22426" y="8650"/>
                  <a:pt x="22387" y="8655"/>
                  <a:pt x="22349" y="8632"/>
                </a:cubicBezTo>
                <a:cubicBezTo>
                  <a:pt x="22318" y="8613"/>
                  <a:pt x="22277" y="8600"/>
                  <a:pt x="22250" y="8582"/>
                </a:cubicBezTo>
                <a:cubicBezTo>
                  <a:pt x="22210" y="8555"/>
                  <a:pt x="22168" y="8540"/>
                  <a:pt x="22126" y="8508"/>
                </a:cubicBezTo>
                <a:cubicBezTo>
                  <a:pt x="22084" y="8476"/>
                  <a:pt x="22044" y="8441"/>
                  <a:pt x="22002" y="8409"/>
                </a:cubicBezTo>
                <a:cubicBezTo>
                  <a:pt x="21957" y="8375"/>
                  <a:pt x="21939" y="8325"/>
                  <a:pt x="21903" y="8285"/>
                </a:cubicBezTo>
                <a:cubicBezTo>
                  <a:pt x="21867" y="8245"/>
                  <a:pt x="21818" y="8225"/>
                  <a:pt x="21779" y="8186"/>
                </a:cubicBezTo>
                <a:cubicBezTo>
                  <a:pt x="21745" y="8152"/>
                  <a:pt x="21715" y="8130"/>
                  <a:pt x="21704" y="8086"/>
                </a:cubicBezTo>
                <a:cubicBezTo>
                  <a:pt x="21694" y="8043"/>
                  <a:pt x="21701" y="8039"/>
                  <a:pt x="21679" y="8012"/>
                </a:cubicBezTo>
                <a:cubicBezTo>
                  <a:pt x="21671" y="8002"/>
                  <a:pt x="21610" y="7995"/>
                  <a:pt x="21605" y="7987"/>
                </a:cubicBezTo>
                <a:cubicBezTo>
                  <a:pt x="21570" y="7931"/>
                  <a:pt x="21611" y="7973"/>
                  <a:pt x="21555" y="7938"/>
                </a:cubicBezTo>
                <a:cubicBezTo>
                  <a:pt x="21547" y="7930"/>
                  <a:pt x="21538" y="7921"/>
                  <a:pt x="21530" y="7913"/>
                </a:cubicBezTo>
                <a:cubicBezTo>
                  <a:pt x="21530" y="7966"/>
                  <a:pt x="21547" y="7996"/>
                  <a:pt x="21555" y="8037"/>
                </a:cubicBezTo>
                <a:cubicBezTo>
                  <a:pt x="21563" y="8076"/>
                  <a:pt x="21574" y="8100"/>
                  <a:pt x="21580" y="8136"/>
                </a:cubicBezTo>
                <a:cubicBezTo>
                  <a:pt x="21591" y="8203"/>
                  <a:pt x="21600" y="8171"/>
                  <a:pt x="21605" y="8235"/>
                </a:cubicBezTo>
                <a:cubicBezTo>
                  <a:pt x="21605" y="8243"/>
                  <a:pt x="21605" y="8252"/>
                  <a:pt x="21605" y="8260"/>
                </a:cubicBezTo>
                <a:cubicBezTo>
                  <a:pt x="21584" y="8239"/>
                  <a:pt x="21572" y="8228"/>
                  <a:pt x="21555" y="8186"/>
                </a:cubicBezTo>
                <a:cubicBezTo>
                  <a:pt x="21542" y="8154"/>
                  <a:pt x="21514" y="8093"/>
                  <a:pt x="21506" y="8062"/>
                </a:cubicBezTo>
                <a:cubicBezTo>
                  <a:pt x="21497" y="8024"/>
                  <a:pt x="21499" y="7962"/>
                  <a:pt x="21530" y="7938"/>
                </a:cubicBezTo>
                <a:cubicBezTo>
                  <a:pt x="21547" y="7925"/>
                  <a:pt x="21601" y="7903"/>
                  <a:pt x="21630" y="7913"/>
                </a:cubicBezTo>
                <a:cubicBezTo>
                  <a:pt x="21675" y="7928"/>
                  <a:pt x="21716" y="7950"/>
                  <a:pt x="21754" y="7987"/>
                </a:cubicBezTo>
                <a:cubicBezTo>
                  <a:pt x="21771" y="8004"/>
                  <a:pt x="21801" y="8017"/>
                  <a:pt x="21828" y="8037"/>
                </a:cubicBezTo>
                <a:cubicBezTo>
                  <a:pt x="21863" y="8063"/>
                  <a:pt x="21860" y="8089"/>
                  <a:pt x="21878" y="811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Ink 25"/>
          <p:cNvSpPr/>
          <p:nvPr/>
        </p:nvSpPr>
        <p:spPr>
          <a:xfrm>
            <a:off x="3152880" y="3625920"/>
            <a:ext cx="1187280" cy="241200"/>
          </a:xfrm>
          <a:custGeom>
            <a:avLst/>
            <a:gdLst/>
            <a:ahLst/>
            <a:rect l="l" t="t" r="r" b="b"/>
            <a:pathLst>
              <a:path w="3300" h="670">
                <a:moveTo>
                  <a:pt x="8880" y="10443"/>
                </a:moveTo>
                <a:cubicBezTo>
                  <a:pt x="8848" y="10443"/>
                  <a:pt x="8815" y="10451"/>
                  <a:pt x="8806" y="10468"/>
                </a:cubicBezTo>
                <a:cubicBezTo>
                  <a:pt x="8792" y="10496"/>
                  <a:pt x="8799" y="10540"/>
                  <a:pt x="8781" y="10567"/>
                </a:cubicBezTo>
                <a:cubicBezTo>
                  <a:pt x="8766" y="10590"/>
                  <a:pt x="8737" y="10631"/>
                  <a:pt x="8756" y="10666"/>
                </a:cubicBezTo>
                <a:cubicBezTo>
                  <a:pt x="8780" y="10709"/>
                  <a:pt x="8812" y="10716"/>
                  <a:pt x="8855" y="10716"/>
                </a:cubicBezTo>
                <a:cubicBezTo>
                  <a:pt x="8912" y="10716"/>
                  <a:pt x="8962" y="10728"/>
                  <a:pt x="9004" y="10691"/>
                </a:cubicBezTo>
                <a:cubicBezTo>
                  <a:pt x="9043" y="10656"/>
                  <a:pt x="9054" y="10643"/>
                  <a:pt x="9054" y="10592"/>
                </a:cubicBezTo>
                <a:cubicBezTo>
                  <a:pt x="9054" y="10555"/>
                  <a:pt x="9070" y="10488"/>
                  <a:pt x="9029" y="10468"/>
                </a:cubicBezTo>
                <a:cubicBezTo>
                  <a:pt x="8992" y="10450"/>
                  <a:pt x="8884" y="10463"/>
                  <a:pt x="8880" y="10492"/>
                </a:cubicBezTo>
                <a:cubicBezTo>
                  <a:pt x="8880" y="10500"/>
                  <a:pt x="8880" y="10509"/>
                  <a:pt x="8880" y="10517"/>
                </a:cubicBezTo>
              </a:path>
              <a:path w="3300" h="670">
                <a:moveTo>
                  <a:pt x="9351" y="10071"/>
                </a:moveTo>
                <a:cubicBezTo>
                  <a:pt x="9351" y="10191"/>
                  <a:pt x="9341" y="10300"/>
                  <a:pt x="9327" y="10418"/>
                </a:cubicBezTo>
                <a:cubicBezTo>
                  <a:pt x="9318" y="10489"/>
                  <a:pt x="9327" y="10702"/>
                  <a:pt x="9327" y="10691"/>
                </a:cubicBezTo>
              </a:path>
              <a:path w="3300" h="670">
                <a:moveTo>
                  <a:pt x="9277" y="10468"/>
                </a:moveTo>
                <a:cubicBezTo>
                  <a:pt x="9277" y="10460"/>
                  <a:pt x="9277" y="10451"/>
                  <a:pt x="9277" y="10443"/>
                </a:cubicBezTo>
                <a:cubicBezTo>
                  <a:pt x="9307" y="10433"/>
                  <a:pt x="9318" y="10422"/>
                  <a:pt x="9351" y="10393"/>
                </a:cubicBezTo>
                <a:cubicBezTo>
                  <a:pt x="9390" y="10357"/>
                  <a:pt x="9412" y="10338"/>
                  <a:pt x="9451" y="10294"/>
                </a:cubicBezTo>
                <a:cubicBezTo>
                  <a:pt x="9473" y="10271"/>
                  <a:pt x="9478" y="10263"/>
                  <a:pt x="9500" y="10269"/>
                </a:cubicBezTo>
              </a:path>
              <a:path w="3300" h="670">
                <a:moveTo>
                  <a:pt x="9550" y="10071"/>
                </a:moveTo>
                <a:cubicBezTo>
                  <a:pt x="9557" y="10121"/>
                  <a:pt x="9572" y="10143"/>
                  <a:pt x="9575" y="10195"/>
                </a:cubicBezTo>
                <a:cubicBezTo>
                  <a:pt x="9583" y="10326"/>
                  <a:pt x="9575" y="10460"/>
                  <a:pt x="9575" y="10592"/>
                </a:cubicBezTo>
                <a:cubicBezTo>
                  <a:pt x="9623" y="10564"/>
                  <a:pt x="9632" y="10528"/>
                  <a:pt x="9674" y="10492"/>
                </a:cubicBezTo>
                <a:cubicBezTo>
                  <a:pt x="9710" y="10461"/>
                  <a:pt x="9731" y="10469"/>
                  <a:pt x="9748" y="10492"/>
                </a:cubicBezTo>
                <a:cubicBezTo>
                  <a:pt x="9768" y="10519"/>
                  <a:pt x="9756" y="10549"/>
                  <a:pt x="9773" y="10592"/>
                </a:cubicBezTo>
                <a:cubicBezTo>
                  <a:pt x="9777" y="10603"/>
                  <a:pt x="9800" y="10659"/>
                  <a:pt x="9823" y="10666"/>
                </a:cubicBezTo>
                <a:cubicBezTo>
                  <a:pt x="9863" y="10678"/>
                  <a:pt x="9894" y="10664"/>
                  <a:pt x="9922" y="10641"/>
                </a:cubicBezTo>
                <a:cubicBezTo>
                  <a:pt x="9957" y="10613"/>
                  <a:pt x="9952" y="10589"/>
                  <a:pt x="9971" y="10567"/>
                </a:cubicBezTo>
                <a:cubicBezTo>
                  <a:pt x="10007" y="10527"/>
                  <a:pt x="9993" y="10497"/>
                  <a:pt x="9996" y="10443"/>
                </a:cubicBezTo>
                <a:cubicBezTo>
                  <a:pt x="9998" y="10402"/>
                  <a:pt x="9998" y="10368"/>
                  <a:pt x="9947" y="10368"/>
                </a:cubicBezTo>
                <a:cubicBezTo>
                  <a:pt x="9898" y="10368"/>
                  <a:pt x="9879" y="10432"/>
                  <a:pt x="9872" y="10468"/>
                </a:cubicBezTo>
                <a:cubicBezTo>
                  <a:pt x="9860" y="10528"/>
                  <a:pt x="9860" y="10597"/>
                  <a:pt x="9922" y="10616"/>
                </a:cubicBezTo>
                <a:cubicBezTo>
                  <a:pt x="10010" y="10643"/>
                  <a:pt x="10201" y="10571"/>
                  <a:pt x="10244" y="10641"/>
                </a:cubicBezTo>
                <a:cubicBezTo>
                  <a:pt x="10244" y="10649"/>
                  <a:pt x="10244" y="10658"/>
                  <a:pt x="10244" y="10666"/>
                </a:cubicBezTo>
                <a:cubicBezTo>
                  <a:pt x="10244" y="10616"/>
                  <a:pt x="10231" y="10615"/>
                  <a:pt x="10244" y="10567"/>
                </a:cubicBezTo>
                <a:cubicBezTo>
                  <a:pt x="10258" y="10513"/>
                  <a:pt x="10287" y="10440"/>
                  <a:pt x="10319" y="10393"/>
                </a:cubicBezTo>
                <a:cubicBezTo>
                  <a:pt x="10343" y="10359"/>
                  <a:pt x="10350" y="10362"/>
                  <a:pt x="10368" y="10344"/>
                </a:cubicBezTo>
                <a:cubicBezTo>
                  <a:pt x="10376" y="10397"/>
                  <a:pt x="10371" y="10390"/>
                  <a:pt x="10393" y="10418"/>
                </a:cubicBezTo>
                <a:cubicBezTo>
                  <a:pt x="10413" y="10443"/>
                  <a:pt x="10432" y="10428"/>
                  <a:pt x="10443" y="10468"/>
                </a:cubicBezTo>
                <a:cubicBezTo>
                  <a:pt x="10465" y="10545"/>
                  <a:pt x="10443" y="10661"/>
                  <a:pt x="10443" y="10740"/>
                </a:cubicBezTo>
                <a:cubicBezTo>
                  <a:pt x="10494" y="10740"/>
                  <a:pt x="10527" y="10748"/>
                  <a:pt x="10567" y="10716"/>
                </a:cubicBezTo>
                <a:cubicBezTo>
                  <a:pt x="10587" y="10700"/>
                  <a:pt x="10659" y="10617"/>
                  <a:pt x="10666" y="10592"/>
                </a:cubicBezTo>
                <a:cubicBezTo>
                  <a:pt x="10666" y="10567"/>
                  <a:pt x="10666" y="10559"/>
                  <a:pt x="10666" y="10542"/>
                </a:cubicBezTo>
                <a:cubicBezTo>
                  <a:pt x="10692" y="10568"/>
                  <a:pt x="10683" y="10600"/>
                  <a:pt x="10716" y="10616"/>
                </a:cubicBezTo>
                <a:cubicBezTo>
                  <a:pt x="10763" y="10639"/>
                  <a:pt x="10825" y="10604"/>
                  <a:pt x="10840" y="10592"/>
                </a:cubicBezTo>
                <a:cubicBezTo>
                  <a:pt x="10864" y="10573"/>
                  <a:pt x="10878" y="10562"/>
                  <a:pt x="10889" y="10517"/>
                </a:cubicBezTo>
                <a:cubicBezTo>
                  <a:pt x="10898" y="10477"/>
                  <a:pt x="10889" y="10484"/>
                  <a:pt x="10889" y="10443"/>
                </a:cubicBezTo>
              </a:path>
              <a:path w="3300" h="670">
                <a:moveTo>
                  <a:pt x="10988" y="10443"/>
                </a:moveTo>
                <a:cubicBezTo>
                  <a:pt x="10996" y="10443"/>
                  <a:pt x="11005" y="10443"/>
                  <a:pt x="11013" y="10443"/>
                </a:cubicBezTo>
                <a:cubicBezTo>
                  <a:pt x="11013" y="10501"/>
                  <a:pt x="11013" y="10558"/>
                  <a:pt x="11013" y="10616"/>
                </a:cubicBezTo>
                <a:cubicBezTo>
                  <a:pt x="11043" y="10606"/>
                  <a:pt x="11075" y="10573"/>
                  <a:pt x="11112" y="10542"/>
                </a:cubicBezTo>
              </a:path>
              <a:path w="3300" h="670">
                <a:moveTo>
                  <a:pt x="11162" y="10393"/>
                </a:moveTo>
                <a:cubicBezTo>
                  <a:pt x="11187" y="10393"/>
                  <a:pt x="11212" y="10393"/>
                  <a:pt x="11237" y="10393"/>
                </a:cubicBezTo>
              </a:path>
              <a:path w="3300" h="670">
                <a:moveTo>
                  <a:pt x="11410" y="10368"/>
                </a:moveTo>
                <a:cubicBezTo>
                  <a:pt x="11357" y="10377"/>
                  <a:pt x="11340" y="10385"/>
                  <a:pt x="11311" y="10418"/>
                </a:cubicBezTo>
                <a:cubicBezTo>
                  <a:pt x="11288" y="10441"/>
                  <a:pt x="11280" y="10445"/>
                  <a:pt x="11286" y="10468"/>
                </a:cubicBezTo>
                <a:cubicBezTo>
                  <a:pt x="11334" y="10480"/>
                  <a:pt x="11342" y="10523"/>
                  <a:pt x="11385" y="10542"/>
                </a:cubicBezTo>
                <a:cubicBezTo>
                  <a:pt x="11430" y="10562"/>
                  <a:pt x="11435" y="10560"/>
                  <a:pt x="11435" y="10616"/>
                </a:cubicBezTo>
                <a:cubicBezTo>
                  <a:pt x="11435" y="10657"/>
                  <a:pt x="11429" y="10696"/>
                  <a:pt x="11385" y="10716"/>
                </a:cubicBezTo>
                <a:cubicBezTo>
                  <a:pt x="11369" y="10723"/>
                  <a:pt x="11329" y="10716"/>
                  <a:pt x="11311" y="10716"/>
                </a:cubicBezTo>
                <a:cubicBezTo>
                  <a:pt x="11351" y="10662"/>
                  <a:pt x="11335" y="10652"/>
                  <a:pt x="11410" y="10641"/>
                </a:cubicBezTo>
              </a:path>
              <a:path w="3300" h="670">
                <a:moveTo>
                  <a:pt x="11633" y="10567"/>
                </a:moveTo>
                <a:cubicBezTo>
                  <a:pt x="11663" y="10545"/>
                  <a:pt x="11715" y="10532"/>
                  <a:pt x="11733" y="10492"/>
                </a:cubicBezTo>
                <a:cubicBezTo>
                  <a:pt x="11743" y="10470"/>
                  <a:pt x="11733" y="10418"/>
                  <a:pt x="11733" y="10393"/>
                </a:cubicBezTo>
                <a:cubicBezTo>
                  <a:pt x="11688" y="10393"/>
                  <a:pt x="11640" y="10378"/>
                  <a:pt x="11609" y="10418"/>
                </a:cubicBezTo>
                <a:cubicBezTo>
                  <a:pt x="11589" y="10444"/>
                  <a:pt x="11562" y="10512"/>
                  <a:pt x="11559" y="10542"/>
                </a:cubicBezTo>
                <a:cubicBezTo>
                  <a:pt x="11554" y="10583"/>
                  <a:pt x="11597" y="10614"/>
                  <a:pt x="11633" y="10616"/>
                </a:cubicBezTo>
                <a:cubicBezTo>
                  <a:pt x="11707" y="10621"/>
                  <a:pt x="11764" y="10616"/>
                  <a:pt x="11832" y="10592"/>
                </a:cubicBezTo>
                <a:cubicBezTo>
                  <a:pt x="11906" y="10566"/>
                  <a:pt x="11982" y="10557"/>
                  <a:pt x="12055" y="1054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Ink 26"/>
          <p:cNvSpPr/>
          <p:nvPr/>
        </p:nvSpPr>
        <p:spPr>
          <a:xfrm>
            <a:off x="4680000" y="3687840"/>
            <a:ext cx="320760" cy="135000"/>
          </a:xfrm>
          <a:custGeom>
            <a:avLst/>
            <a:gdLst/>
            <a:ahLst/>
            <a:rect l="l" t="t" r="r" b="b"/>
            <a:pathLst>
              <a:path w="894" h="373">
                <a:moveTo>
                  <a:pt x="13022" y="10443"/>
                </a:moveTo>
                <a:cubicBezTo>
                  <a:pt x="13022" y="10494"/>
                  <a:pt x="13010" y="10526"/>
                  <a:pt x="12998" y="10567"/>
                </a:cubicBezTo>
                <a:cubicBezTo>
                  <a:pt x="12979" y="10634"/>
                  <a:pt x="12995" y="10598"/>
                  <a:pt x="13022" y="10567"/>
                </a:cubicBezTo>
                <a:cubicBezTo>
                  <a:pt x="13072" y="10511"/>
                  <a:pt x="13068" y="10458"/>
                  <a:pt x="13097" y="10393"/>
                </a:cubicBezTo>
                <a:cubicBezTo>
                  <a:pt x="13126" y="10329"/>
                  <a:pt x="13121" y="10295"/>
                  <a:pt x="13171" y="10244"/>
                </a:cubicBezTo>
                <a:cubicBezTo>
                  <a:pt x="13171" y="10311"/>
                  <a:pt x="13186" y="10357"/>
                  <a:pt x="13196" y="10418"/>
                </a:cubicBezTo>
                <a:cubicBezTo>
                  <a:pt x="13205" y="10474"/>
                  <a:pt x="13178" y="10537"/>
                  <a:pt x="13246" y="10567"/>
                </a:cubicBezTo>
                <a:cubicBezTo>
                  <a:pt x="13308" y="10595"/>
                  <a:pt x="13341" y="10552"/>
                  <a:pt x="13370" y="10517"/>
                </a:cubicBezTo>
                <a:cubicBezTo>
                  <a:pt x="13411" y="10467"/>
                  <a:pt x="13393" y="10400"/>
                  <a:pt x="13419" y="10344"/>
                </a:cubicBezTo>
                <a:cubicBezTo>
                  <a:pt x="13432" y="10317"/>
                  <a:pt x="13465" y="10278"/>
                  <a:pt x="13469" y="10269"/>
                </a:cubicBezTo>
                <a:cubicBezTo>
                  <a:pt x="13481" y="10245"/>
                  <a:pt x="13477" y="10277"/>
                  <a:pt x="13519" y="10319"/>
                </a:cubicBezTo>
              </a:path>
              <a:path w="894" h="373">
                <a:moveTo>
                  <a:pt x="13767" y="10393"/>
                </a:moveTo>
                <a:cubicBezTo>
                  <a:pt x="13728" y="10406"/>
                  <a:pt x="13725" y="10449"/>
                  <a:pt x="13692" y="10492"/>
                </a:cubicBezTo>
                <a:cubicBezTo>
                  <a:pt x="13663" y="10530"/>
                  <a:pt x="13667" y="10544"/>
                  <a:pt x="13667" y="10592"/>
                </a:cubicBezTo>
                <a:cubicBezTo>
                  <a:pt x="13730" y="10592"/>
                  <a:pt x="13792" y="10606"/>
                  <a:pt x="13841" y="10567"/>
                </a:cubicBezTo>
                <a:cubicBezTo>
                  <a:pt x="13881" y="10535"/>
                  <a:pt x="13891" y="10517"/>
                  <a:pt x="13891" y="10468"/>
                </a:cubicBezTo>
                <a:cubicBezTo>
                  <a:pt x="13891" y="10397"/>
                  <a:pt x="13818" y="10418"/>
                  <a:pt x="13767" y="10418"/>
                </a:cubicBezTo>
                <a:cubicBezTo>
                  <a:pt x="13719" y="10418"/>
                  <a:pt x="13658" y="10419"/>
                  <a:pt x="13618" y="10443"/>
                </a:cubicBezTo>
                <a:cubicBezTo>
                  <a:pt x="13587" y="10462"/>
                  <a:pt x="13572" y="10471"/>
                  <a:pt x="13543" y="104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Ink 27"/>
          <p:cNvSpPr/>
          <p:nvPr/>
        </p:nvSpPr>
        <p:spPr>
          <a:xfrm>
            <a:off x="5313240" y="3705120"/>
            <a:ext cx="401760" cy="135000"/>
          </a:xfrm>
          <a:custGeom>
            <a:avLst/>
            <a:gdLst/>
            <a:ahLst/>
            <a:rect l="l" t="t" r="r" b="b"/>
            <a:pathLst>
              <a:path w="1117" h="373">
                <a:moveTo>
                  <a:pt x="15007" y="10344"/>
                </a:moveTo>
                <a:cubicBezTo>
                  <a:pt x="14984" y="10321"/>
                  <a:pt x="14976" y="10317"/>
                  <a:pt x="14982" y="10294"/>
                </a:cubicBezTo>
                <a:cubicBezTo>
                  <a:pt x="14929" y="10307"/>
                  <a:pt x="14911" y="10317"/>
                  <a:pt x="14883" y="10368"/>
                </a:cubicBezTo>
                <a:cubicBezTo>
                  <a:pt x="14855" y="10418"/>
                  <a:pt x="14812" y="10476"/>
                  <a:pt x="14784" y="10517"/>
                </a:cubicBezTo>
                <a:cubicBezTo>
                  <a:pt x="14751" y="10564"/>
                  <a:pt x="14749" y="10585"/>
                  <a:pt x="14784" y="10616"/>
                </a:cubicBezTo>
                <a:cubicBezTo>
                  <a:pt x="14821" y="10649"/>
                  <a:pt x="14882" y="10663"/>
                  <a:pt x="14932" y="10666"/>
                </a:cubicBezTo>
                <a:cubicBezTo>
                  <a:pt x="14991" y="10669"/>
                  <a:pt x="15076" y="10638"/>
                  <a:pt x="15131" y="10616"/>
                </a:cubicBezTo>
                <a:cubicBezTo>
                  <a:pt x="15147" y="10608"/>
                  <a:pt x="15164" y="10600"/>
                  <a:pt x="15180" y="10592"/>
                </a:cubicBezTo>
              </a:path>
              <a:path w="1117" h="373">
                <a:moveTo>
                  <a:pt x="15329" y="10468"/>
                </a:moveTo>
                <a:cubicBezTo>
                  <a:pt x="15274" y="10426"/>
                  <a:pt x="15284" y="10450"/>
                  <a:pt x="15230" y="10468"/>
                </a:cubicBezTo>
                <a:cubicBezTo>
                  <a:pt x="15182" y="10484"/>
                  <a:pt x="15180" y="10489"/>
                  <a:pt x="15180" y="10542"/>
                </a:cubicBezTo>
                <a:cubicBezTo>
                  <a:pt x="15180" y="10573"/>
                  <a:pt x="15222" y="10588"/>
                  <a:pt x="15255" y="10592"/>
                </a:cubicBezTo>
                <a:cubicBezTo>
                  <a:pt x="15301" y="10597"/>
                  <a:pt x="15313" y="10572"/>
                  <a:pt x="15354" y="10567"/>
                </a:cubicBezTo>
                <a:cubicBezTo>
                  <a:pt x="15415" y="10560"/>
                  <a:pt x="15359" y="10544"/>
                  <a:pt x="15404" y="10567"/>
                </a:cubicBezTo>
                <a:cubicBezTo>
                  <a:pt x="15412" y="10567"/>
                  <a:pt x="15421" y="10567"/>
                  <a:pt x="15429" y="10567"/>
                </a:cubicBezTo>
              </a:path>
              <a:path w="1117" h="373">
                <a:moveTo>
                  <a:pt x="15478" y="10666"/>
                </a:moveTo>
                <a:cubicBezTo>
                  <a:pt x="15522" y="10622"/>
                  <a:pt x="15534" y="10589"/>
                  <a:pt x="15577" y="10542"/>
                </a:cubicBezTo>
                <a:cubicBezTo>
                  <a:pt x="15616" y="10500"/>
                  <a:pt x="15622" y="10457"/>
                  <a:pt x="15677" y="10443"/>
                </a:cubicBezTo>
                <a:cubicBezTo>
                  <a:pt x="15689" y="10405"/>
                  <a:pt x="15706" y="10418"/>
                  <a:pt x="15751" y="10418"/>
                </a:cubicBezTo>
                <a:cubicBezTo>
                  <a:pt x="15792" y="10418"/>
                  <a:pt x="15834" y="10418"/>
                  <a:pt x="15875" y="1041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Ink 28"/>
          <p:cNvSpPr/>
          <p:nvPr/>
        </p:nvSpPr>
        <p:spPr>
          <a:xfrm>
            <a:off x="5938920" y="3697200"/>
            <a:ext cx="598320" cy="187560"/>
          </a:xfrm>
          <a:custGeom>
            <a:avLst/>
            <a:gdLst/>
            <a:ahLst/>
            <a:rect l="l" t="t" r="r" b="b"/>
            <a:pathLst>
              <a:path w="1663" h="522">
                <a:moveTo>
                  <a:pt x="16669" y="10468"/>
                </a:moveTo>
                <a:cubicBezTo>
                  <a:pt x="16694" y="10468"/>
                  <a:pt x="16702" y="10468"/>
                  <a:pt x="16694" y="10443"/>
                </a:cubicBezTo>
                <a:cubicBezTo>
                  <a:pt x="16686" y="10466"/>
                  <a:pt x="16652" y="10496"/>
                  <a:pt x="16619" y="10517"/>
                </a:cubicBezTo>
                <a:cubicBezTo>
                  <a:pt x="16551" y="10561"/>
                  <a:pt x="16549" y="10568"/>
                  <a:pt x="16520" y="10641"/>
                </a:cubicBezTo>
                <a:cubicBezTo>
                  <a:pt x="16487" y="10723"/>
                  <a:pt x="16488" y="10702"/>
                  <a:pt x="16545" y="10740"/>
                </a:cubicBezTo>
                <a:cubicBezTo>
                  <a:pt x="16581" y="10764"/>
                  <a:pt x="16645" y="10780"/>
                  <a:pt x="16694" y="10765"/>
                </a:cubicBezTo>
                <a:cubicBezTo>
                  <a:pt x="16759" y="10746"/>
                  <a:pt x="16813" y="10734"/>
                  <a:pt x="16867" y="10691"/>
                </a:cubicBezTo>
              </a:path>
              <a:path w="1663" h="522">
                <a:moveTo>
                  <a:pt x="16917" y="10641"/>
                </a:moveTo>
                <a:cubicBezTo>
                  <a:pt x="16909" y="10641"/>
                  <a:pt x="16900" y="10641"/>
                  <a:pt x="16892" y="10641"/>
                </a:cubicBezTo>
                <a:cubicBezTo>
                  <a:pt x="16892" y="10684"/>
                  <a:pt x="16882" y="10679"/>
                  <a:pt x="16917" y="10691"/>
                </a:cubicBezTo>
                <a:cubicBezTo>
                  <a:pt x="16928" y="10647"/>
                  <a:pt x="16957" y="10626"/>
                  <a:pt x="16991" y="10592"/>
                </a:cubicBezTo>
                <a:cubicBezTo>
                  <a:pt x="17039" y="10544"/>
                  <a:pt x="17067" y="10491"/>
                  <a:pt x="17115" y="10443"/>
                </a:cubicBezTo>
                <a:cubicBezTo>
                  <a:pt x="17151" y="10407"/>
                  <a:pt x="17148" y="10432"/>
                  <a:pt x="17190" y="10443"/>
                </a:cubicBezTo>
              </a:path>
              <a:path w="1663" h="522">
                <a:moveTo>
                  <a:pt x="17363" y="10492"/>
                </a:moveTo>
                <a:cubicBezTo>
                  <a:pt x="17331" y="10516"/>
                  <a:pt x="17264" y="10535"/>
                  <a:pt x="17239" y="10567"/>
                </a:cubicBezTo>
                <a:cubicBezTo>
                  <a:pt x="17239" y="10595"/>
                  <a:pt x="17237" y="10606"/>
                  <a:pt x="17214" y="10616"/>
                </a:cubicBezTo>
                <a:cubicBezTo>
                  <a:pt x="17223" y="10644"/>
                  <a:pt x="17248" y="10663"/>
                  <a:pt x="17289" y="10666"/>
                </a:cubicBezTo>
                <a:cubicBezTo>
                  <a:pt x="17345" y="10670"/>
                  <a:pt x="17359" y="10641"/>
                  <a:pt x="17413" y="10641"/>
                </a:cubicBezTo>
                <a:cubicBezTo>
                  <a:pt x="17413" y="10713"/>
                  <a:pt x="17435" y="10694"/>
                  <a:pt x="17487" y="10666"/>
                </a:cubicBezTo>
                <a:cubicBezTo>
                  <a:pt x="17504" y="10658"/>
                  <a:pt x="17520" y="10649"/>
                  <a:pt x="17537" y="10641"/>
                </a:cubicBezTo>
              </a:path>
              <a:path w="1663" h="522">
                <a:moveTo>
                  <a:pt x="17711" y="10517"/>
                </a:moveTo>
                <a:cubicBezTo>
                  <a:pt x="17660" y="10546"/>
                  <a:pt x="17649" y="10541"/>
                  <a:pt x="17636" y="10592"/>
                </a:cubicBezTo>
                <a:cubicBezTo>
                  <a:pt x="17663" y="10598"/>
                  <a:pt x="17721" y="10612"/>
                  <a:pt x="17735" y="10641"/>
                </a:cubicBezTo>
                <a:cubicBezTo>
                  <a:pt x="17744" y="10660"/>
                  <a:pt x="17775" y="10713"/>
                  <a:pt x="17760" y="10740"/>
                </a:cubicBezTo>
                <a:cubicBezTo>
                  <a:pt x="17746" y="10765"/>
                  <a:pt x="17663" y="10781"/>
                  <a:pt x="17636" y="10790"/>
                </a:cubicBezTo>
                <a:cubicBezTo>
                  <a:pt x="17608" y="10790"/>
                  <a:pt x="17597" y="10788"/>
                  <a:pt x="17587" y="10765"/>
                </a:cubicBezTo>
                <a:cubicBezTo>
                  <a:pt x="17603" y="10733"/>
                  <a:pt x="17627" y="10718"/>
                  <a:pt x="17661" y="10691"/>
                </a:cubicBezTo>
              </a:path>
              <a:path w="1663" h="522">
                <a:moveTo>
                  <a:pt x="18008" y="10269"/>
                </a:moveTo>
                <a:cubicBezTo>
                  <a:pt x="17995" y="10332"/>
                  <a:pt x="17963" y="10377"/>
                  <a:pt x="17959" y="10443"/>
                </a:cubicBezTo>
                <a:cubicBezTo>
                  <a:pt x="17957" y="10484"/>
                  <a:pt x="17959" y="10526"/>
                  <a:pt x="17959" y="10567"/>
                </a:cubicBezTo>
                <a:cubicBezTo>
                  <a:pt x="18009" y="10567"/>
                  <a:pt x="18017" y="10556"/>
                  <a:pt x="18058" y="10542"/>
                </a:cubicBezTo>
                <a:cubicBezTo>
                  <a:pt x="18095" y="10530"/>
                  <a:pt x="18113" y="10517"/>
                  <a:pt x="18157" y="10517"/>
                </a:cubicBezTo>
                <a:cubicBezTo>
                  <a:pt x="18157" y="10584"/>
                  <a:pt x="18174" y="10665"/>
                  <a:pt x="18132" y="10716"/>
                </a:cubicBezTo>
                <a:cubicBezTo>
                  <a:pt x="18124" y="10724"/>
                  <a:pt x="18115" y="10732"/>
                  <a:pt x="18107" y="107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Ink 29"/>
          <p:cNvSpPr/>
          <p:nvPr/>
        </p:nvSpPr>
        <p:spPr>
          <a:xfrm>
            <a:off x="6939000" y="3697200"/>
            <a:ext cx="160200" cy="223920"/>
          </a:xfrm>
          <a:custGeom>
            <a:avLst/>
            <a:gdLst/>
            <a:ahLst/>
            <a:rect l="l" t="t" r="r" b="b"/>
            <a:pathLst>
              <a:path w="448" h="621">
                <a:moveTo>
                  <a:pt x="19397" y="10269"/>
                </a:moveTo>
                <a:cubicBezTo>
                  <a:pt x="19421" y="10275"/>
                  <a:pt x="19475" y="10282"/>
                  <a:pt x="19496" y="10294"/>
                </a:cubicBezTo>
                <a:cubicBezTo>
                  <a:pt x="19515" y="10305"/>
                  <a:pt x="19552" y="10372"/>
                  <a:pt x="19546" y="10393"/>
                </a:cubicBezTo>
                <a:cubicBezTo>
                  <a:pt x="19526" y="10462"/>
                  <a:pt x="19466" y="10540"/>
                  <a:pt x="19422" y="10592"/>
                </a:cubicBezTo>
                <a:cubicBezTo>
                  <a:pt x="19383" y="10638"/>
                  <a:pt x="19306" y="10674"/>
                  <a:pt x="19273" y="10716"/>
                </a:cubicBezTo>
                <a:cubicBezTo>
                  <a:pt x="19273" y="10724"/>
                  <a:pt x="19273" y="10732"/>
                  <a:pt x="19273" y="10740"/>
                </a:cubicBezTo>
                <a:cubicBezTo>
                  <a:pt x="19288" y="10784"/>
                  <a:pt x="19344" y="10765"/>
                  <a:pt x="19397" y="10765"/>
                </a:cubicBezTo>
                <a:cubicBezTo>
                  <a:pt x="19463" y="10765"/>
                  <a:pt x="19530" y="10765"/>
                  <a:pt x="19596" y="10765"/>
                </a:cubicBezTo>
              </a:path>
              <a:path w="448" h="621">
                <a:moveTo>
                  <a:pt x="19720" y="10740"/>
                </a:moveTo>
                <a:cubicBezTo>
                  <a:pt x="19714" y="10764"/>
                  <a:pt x="19707" y="10819"/>
                  <a:pt x="19695" y="10840"/>
                </a:cubicBezTo>
                <a:cubicBezTo>
                  <a:pt x="19668" y="10888"/>
                  <a:pt x="19639" y="10891"/>
                  <a:pt x="19720" y="108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Ink 30"/>
          <p:cNvSpPr/>
          <p:nvPr/>
        </p:nvSpPr>
        <p:spPr>
          <a:xfrm>
            <a:off x="7250040" y="3705120"/>
            <a:ext cx="108000" cy="216000"/>
          </a:xfrm>
          <a:custGeom>
            <a:avLst/>
            <a:gdLst/>
            <a:ahLst/>
            <a:rect l="l" t="t" r="r" b="b"/>
            <a:pathLst>
              <a:path w="299" h="596">
                <a:moveTo>
                  <a:pt x="20141" y="10319"/>
                </a:moveTo>
                <a:cubicBezTo>
                  <a:pt x="20200" y="10319"/>
                  <a:pt x="20205" y="10306"/>
                  <a:pt x="20241" y="10294"/>
                </a:cubicBezTo>
                <a:cubicBezTo>
                  <a:pt x="20257" y="10317"/>
                  <a:pt x="20283" y="10360"/>
                  <a:pt x="20265" y="10393"/>
                </a:cubicBezTo>
                <a:cubicBezTo>
                  <a:pt x="20246" y="10428"/>
                  <a:pt x="20221" y="10451"/>
                  <a:pt x="20216" y="10492"/>
                </a:cubicBezTo>
                <a:cubicBezTo>
                  <a:pt x="20210" y="10545"/>
                  <a:pt x="20252" y="10542"/>
                  <a:pt x="20290" y="10542"/>
                </a:cubicBezTo>
                <a:cubicBezTo>
                  <a:pt x="20290" y="10575"/>
                  <a:pt x="20324" y="10620"/>
                  <a:pt x="20315" y="10641"/>
                </a:cubicBezTo>
                <a:cubicBezTo>
                  <a:pt x="20297" y="10682"/>
                  <a:pt x="20243" y="10698"/>
                  <a:pt x="20216" y="10716"/>
                </a:cubicBezTo>
                <a:cubicBezTo>
                  <a:pt x="20184" y="10737"/>
                  <a:pt x="20171" y="10742"/>
                  <a:pt x="20141" y="10765"/>
                </a:cubicBezTo>
                <a:cubicBezTo>
                  <a:pt x="20185" y="10765"/>
                  <a:pt x="20181" y="10766"/>
                  <a:pt x="20216" y="10740"/>
                </a:cubicBezTo>
              </a:path>
              <a:path w="299" h="596">
                <a:moveTo>
                  <a:pt x="20439" y="10790"/>
                </a:moveTo>
                <a:cubicBezTo>
                  <a:pt x="20431" y="10790"/>
                  <a:pt x="20422" y="10790"/>
                  <a:pt x="20414" y="10790"/>
                </a:cubicBezTo>
                <a:cubicBezTo>
                  <a:pt x="20404" y="10829"/>
                  <a:pt x="20389" y="10856"/>
                  <a:pt x="20365" y="10889"/>
                </a:cubicBezTo>
                <a:cubicBezTo>
                  <a:pt x="20393" y="10889"/>
                  <a:pt x="20403" y="10886"/>
                  <a:pt x="20414" y="108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Ink 31"/>
          <p:cNvSpPr/>
          <p:nvPr/>
        </p:nvSpPr>
        <p:spPr>
          <a:xfrm>
            <a:off x="7473960" y="3714840"/>
            <a:ext cx="642960" cy="250560"/>
          </a:xfrm>
          <a:custGeom>
            <a:avLst/>
            <a:gdLst/>
            <a:ahLst/>
            <a:rect l="l" t="t" r="r" b="b"/>
            <a:pathLst>
              <a:path w="1786" h="695">
                <a:moveTo>
                  <a:pt x="20861" y="10344"/>
                </a:moveTo>
                <a:cubicBezTo>
                  <a:pt x="20861" y="10406"/>
                  <a:pt x="20863" y="10442"/>
                  <a:pt x="20836" y="10492"/>
                </a:cubicBezTo>
                <a:cubicBezTo>
                  <a:pt x="20816" y="10530"/>
                  <a:pt x="20771" y="10600"/>
                  <a:pt x="20762" y="10641"/>
                </a:cubicBezTo>
                <a:cubicBezTo>
                  <a:pt x="20754" y="10676"/>
                  <a:pt x="20762" y="10728"/>
                  <a:pt x="20762" y="10765"/>
                </a:cubicBezTo>
                <a:cubicBezTo>
                  <a:pt x="20852" y="10765"/>
                  <a:pt x="20926" y="10761"/>
                  <a:pt x="21010" y="10740"/>
                </a:cubicBezTo>
                <a:cubicBezTo>
                  <a:pt x="21059" y="10728"/>
                  <a:pt x="21059" y="10752"/>
                  <a:pt x="21059" y="10691"/>
                </a:cubicBezTo>
              </a:path>
              <a:path w="1786" h="695">
                <a:moveTo>
                  <a:pt x="21010" y="10567"/>
                </a:moveTo>
                <a:cubicBezTo>
                  <a:pt x="21010" y="10575"/>
                  <a:pt x="21010" y="10584"/>
                  <a:pt x="21010" y="10592"/>
                </a:cubicBezTo>
                <a:cubicBezTo>
                  <a:pt x="20982" y="10601"/>
                  <a:pt x="20971" y="10649"/>
                  <a:pt x="20960" y="10691"/>
                </a:cubicBezTo>
                <a:cubicBezTo>
                  <a:pt x="20949" y="10734"/>
                  <a:pt x="20960" y="10795"/>
                  <a:pt x="20960" y="10840"/>
                </a:cubicBezTo>
                <a:cubicBezTo>
                  <a:pt x="21004" y="10840"/>
                  <a:pt x="21022" y="10828"/>
                  <a:pt x="21034" y="10864"/>
                </a:cubicBezTo>
              </a:path>
              <a:path w="1786" h="695">
                <a:moveTo>
                  <a:pt x="21208" y="10864"/>
                </a:moveTo>
                <a:cubicBezTo>
                  <a:pt x="21198" y="10903"/>
                  <a:pt x="21183" y="10919"/>
                  <a:pt x="21183" y="10964"/>
                </a:cubicBezTo>
                <a:cubicBezTo>
                  <a:pt x="21183" y="11027"/>
                  <a:pt x="21226" y="10965"/>
                  <a:pt x="21233" y="10939"/>
                </a:cubicBezTo>
              </a:path>
              <a:path w="1786" h="695">
                <a:moveTo>
                  <a:pt x="21506" y="10393"/>
                </a:moveTo>
                <a:cubicBezTo>
                  <a:pt x="21442" y="10393"/>
                  <a:pt x="21427" y="10436"/>
                  <a:pt x="21406" y="10492"/>
                </a:cubicBezTo>
                <a:cubicBezTo>
                  <a:pt x="21396" y="10519"/>
                  <a:pt x="21424" y="10565"/>
                  <a:pt x="21431" y="10567"/>
                </a:cubicBezTo>
                <a:cubicBezTo>
                  <a:pt x="21492" y="10584"/>
                  <a:pt x="21528" y="10594"/>
                  <a:pt x="21580" y="10641"/>
                </a:cubicBezTo>
                <a:cubicBezTo>
                  <a:pt x="21614" y="10672"/>
                  <a:pt x="21605" y="10697"/>
                  <a:pt x="21605" y="10740"/>
                </a:cubicBezTo>
                <a:cubicBezTo>
                  <a:pt x="21605" y="10748"/>
                  <a:pt x="21605" y="10757"/>
                  <a:pt x="21605" y="10765"/>
                </a:cubicBezTo>
                <a:cubicBezTo>
                  <a:pt x="21561" y="10765"/>
                  <a:pt x="21485" y="10787"/>
                  <a:pt x="21481" y="10740"/>
                </a:cubicBezTo>
                <a:cubicBezTo>
                  <a:pt x="21481" y="10724"/>
                  <a:pt x="21481" y="10707"/>
                  <a:pt x="21481" y="10691"/>
                </a:cubicBezTo>
              </a:path>
              <a:path w="1786" h="695">
                <a:moveTo>
                  <a:pt x="21630" y="10393"/>
                </a:moveTo>
                <a:cubicBezTo>
                  <a:pt x="21667" y="10403"/>
                  <a:pt x="21699" y="10416"/>
                  <a:pt x="21729" y="10443"/>
                </a:cubicBezTo>
                <a:cubicBezTo>
                  <a:pt x="21775" y="10484"/>
                  <a:pt x="21757" y="10501"/>
                  <a:pt x="21779" y="10542"/>
                </a:cubicBezTo>
                <a:cubicBezTo>
                  <a:pt x="21801" y="10565"/>
                  <a:pt x="21809" y="10570"/>
                  <a:pt x="21803" y="10592"/>
                </a:cubicBezTo>
              </a:path>
              <a:path w="1786" h="695">
                <a:moveTo>
                  <a:pt x="21878" y="10815"/>
                </a:moveTo>
                <a:cubicBezTo>
                  <a:pt x="21855" y="10846"/>
                  <a:pt x="21832" y="10875"/>
                  <a:pt x="21828" y="10914"/>
                </a:cubicBezTo>
                <a:cubicBezTo>
                  <a:pt x="21823" y="10957"/>
                  <a:pt x="21819" y="10977"/>
                  <a:pt x="21853" y="10988"/>
                </a:cubicBezTo>
              </a:path>
              <a:path w="1786" h="695">
                <a:moveTo>
                  <a:pt x="22324" y="10319"/>
                </a:moveTo>
                <a:cubicBezTo>
                  <a:pt x="22236" y="10337"/>
                  <a:pt x="22259" y="10368"/>
                  <a:pt x="22225" y="10443"/>
                </a:cubicBezTo>
                <a:cubicBezTo>
                  <a:pt x="22197" y="10505"/>
                  <a:pt x="22141" y="10575"/>
                  <a:pt x="22126" y="10641"/>
                </a:cubicBezTo>
                <a:cubicBezTo>
                  <a:pt x="22111" y="10710"/>
                  <a:pt x="22130" y="10744"/>
                  <a:pt x="22175" y="10790"/>
                </a:cubicBezTo>
                <a:cubicBezTo>
                  <a:pt x="22214" y="10830"/>
                  <a:pt x="22271" y="10815"/>
                  <a:pt x="22324" y="10815"/>
                </a:cubicBezTo>
                <a:cubicBezTo>
                  <a:pt x="22370" y="10815"/>
                  <a:pt x="22394" y="10803"/>
                  <a:pt x="22399" y="10765"/>
                </a:cubicBezTo>
                <a:cubicBezTo>
                  <a:pt x="22403" y="10731"/>
                  <a:pt x="22351" y="10697"/>
                  <a:pt x="22324" y="10691"/>
                </a:cubicBezTo>
                <a:cubicBezTo>
                  <a:pt x="22300" y="10686"/>
                  <a:pt x="22195" y="10692"/>
                  <a:pt x="22200" y="10740"/>
                </a:cubicBezTo>
                <a:cubicBezTo>
                  <a:pt x="22202" y="10755"/>
                  <a:pt x="22264" y="10781"/>
                  <a:pt x="22275" y="10790"/>
                </a:cubicBezTo>
              </a:path>
              <a:path w="1786" h="695">
                <a:moveTo>
                  <a:pt x="22498" y="10889"/>
                </a:moveTo>
                <a:cubicBezTo>
                  <a:pt x="22488" y="10928"/>
                  <a:pt x="22473" y="10944"/>
                  <a:pt x="22473" y="10988"/>
                </a:cubicBezTo>
                <a:cubicBezTo>
                  <a:pt x="22473" y="11013"/>
                  <a:pt x="22473" y="11021"/>
                  <a:pt x="22448" y="11013"/>
                </a:cubicBezTo>
                <a:cubicBezTo>
                  <a:pt x="22496" y="11013"/>
                  <a:pt x="22510" y="11017"/>
                  <a:pt x="22547" y="1098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Ink 32"/>
          <p:cNvSpPr/>
          <p:nvPr/>
        </p:nvSpPr>
        <p:spPr>
          <a:xfrm>
            <a:off x="8242200" y="3759120"/>
            <a:ext cx="98640" cy="241560"/>
          </a:xfrm>
          <a:custGeom>
            <a:avLst/>
            <a:gdLst/>
            <a:ahLst/>
            <a:rect l="l" t="t" r="r" b="b"/>
            <a:pathLst>
              <a:path w="274" h="670">
                <a:moveTo>
                  <a:pt x="22895" y="10443"/>
                </a:moveTo>
                <a:cubicBezTo>
                  <a:pt x="22920" y="10449"/>
                  <a:pt x="22971" y="10456"/>
                  <a:pt x="22994" y="10468"/>
                </a:cubicBezTo>
                <a:cubicBezTo>
                  <a:pt x="23025" y="10485"/>
                  <a:pt x="23066" y="10477"/>
                  <a:pt x="23093" y="10492"/>
                </a:cubicBezTo>
                <a:cubicBezTo>
                  <a:pt x="23157" y="10527"/>
                  <a:pt x="23082" y="10575"/>
                  <a:pt x="23068" y="10616"/>
                </a:cubicBezTo>
                <a:cubicBezTo>
                  <a:pt x="23051" y="10665"/>
                  <a:pt x="23019" y="10713"/>
                  <a:pt x="22994" y="10765"/>
                </a:cubicBezTo>
                <a:cubicBezTo>
                  <a:pt x="22973" y="10809"/>
                  <a:pt x="22933" y="10848"/>
                  <a:pt x="22920" y="10889"/>
                </a:cubicBezTo>
                <a:cubicBezTo>
                  <a:pt x="22906" y="10933"/>
                  <a:pt x="22924" y="10949"/>
                  <a:pt x="22944" y="10964"/>
                </a:cubicBezTo>
                <a:cubicBezTo>
                  <a:pt x="22952" y="10972"/>
                  <a:pt x="22961" y="10980"/>
                  <a:pt x="22969" y="10988"/>
                </a:cubicBezTo>
              </a:path>
              <a:path w="274" h="670">
                <a:moveTo>
                  <a:pt x="23093" y="11038"/>
                </a:moveTo>
                <a:cubicBezTo>
                  <a:pt x="23093" y="11046"/>
                  <a:pt x="23093" y="11055"/>
                  <a:pt x="23093" y="11063"/>
                </a:cubicBezTo>
                <a:cubicBezTo>
                  <a:pt x="23058" y="11075"/>
                  <a:pt x="23068" y="11070"/>
                  <a:pt x="23068" y="11112"/>
                </a:cubicBezTo>
                <a:cubicBezTo>
                  <a:pt x="23127" y="11112"/>
                  <a:pt x="23125" y="11119"/>
                  <a:pt x="23168" y="1108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Ink 33"/>
          <p:cNvSpPr/>
          <p:nvPr/>
        </p:nvSpPr>
        <p:spPr>
          <a:xfrm>
            <a:off x="8466120" y="3795840"/>
            <a:ext cx="338040" cy="249120"/>
          </a:xfrm>
          <a:custGeom>
            <a:avLst/>
            <a:gdLst/>
            <a:ahLst/>
            <a:rect l="l" t="t" r="r" b="b"/>
            <a:pathLst>
              <a:path w="943" h="696">
                <a:moveTo>
                  <a:pt x="23664" y="10567"/>
                </a:moveTo>
                <a:cubicBezTo>
                  <a:pt x="23645" y="10562"/>
                  <a:pt x="23574" y="10597"/>
                  <a:pt x="23540" y="10641"/>
                </a:cubicBezTo>
                <a:cubicBezTo>
                  <a:pt x="23505" y="10686"/>
                  <a:pt x="23526" y="10699"/>
                  <a:pt x="23540" y="10740"/>
                </a:cubicBezTo>
                <a:cubicBezTo>
                  <a:pt x="23560" y="10800"/>
                  <a:pt x="23586" y="10801"/>
                  <a:pt x="23639" y="10840"/>
                </a:cubicBezTo>
                <a:cubicBezTo>
                  <a:pt x="23666" y="10860"/>
                  <a:pt x="23685" y="10908"/>
                  <a:pt x="23688" y="10939"/>
                </a:cubicBezTo>
                <a:cubicBezTo>
                  <a:pt x="23693" y="10987"/>
                  <a:pt x="23663" y="11013"/>
                  <a:pt x="23614" y="11038"/>
                </a:cubicBezTo>
                <a:cubicBezTo>
                  <a:pt x="23592" y="11049"/>
                  <a:pt x="23522" y="11023"/>
                  <a:pt x="23515" y="11013"/>
                </a:cubicBezTo>
                <a:cubicBezTo>
                  <a:pt x="23481" y="10961"/>
                  <a:pt x="23547" y="10936"/>
                  <a:pt x="23564" y="10914"/>
                </a:cubicBezTo>
                <a:cubicBezTo>
                  <a:pt x="23618" y="10845"/>
                  <a:pt x="23704" y="10828"/>
                  <a:pt x="23763" y="10765"/>
                </a:cubicBezTo>
                <a:cubicBezTo>
                  <a:pt x="23798" y="10728"/>
                  <a:pt x="23824" y="10679"/>
                  <a:pt x="23862" y="10641"/>
                </a:cubicBezTo>
                <a:cubicBezTo>
                  <a:pt x="23898" y="10605"/>
                  <a:pt x="23872" y="10605"/>
                  <a:pt x="23912" y="10592"/>
                </a:cubicBezTo>
                <a:cubicBezTo>
                  <a:pt x="23870" y="10592"/>
                  <a:pt x="23814" y="10575"/>
                  <a:pt x="23788" y="10616"/>
                </a:cubicBezTo>
                <a:cubicBezTo>
                  <a:pt x="23763" y="10657"/>
                  <a:pt x="23751" y="10692"/>
                  <a:pt x="23738" y="10740"/>
                </a:cubicBezTo>
                <a:cubicBezTo>
                  <a:pt x="23719" y="10798"/>
                  <a:pt x="23710" y="10805"/>
                  <a:pt x="23713" y="10840"/>
                </a:cubicBezTo>
              </a:path>
              <a:path w="943" h="696">
                <a:moveTo>
                  <a:pt x="23837" y="11137"/>
                </a:moveTo>
                <a:cubicBezTo>
                  <a:pt x="23845" y="11137"/>
                  <a:pt x="23854" y="11137"/>
                  <a:pt x="23862" y="11137"/>
                </a:cubicBezTo>
                <a:cubicBezTo>
                  <a:pt x="23862" y="11171"/>
                  <a:pt x="23849" y="11218"/>
                  <a:pt x="23887" y="11237"/>
                </a:cubicBezTo>
                <a:cubicBezTo>
                  <a:pt x="23895" y="11237"/>
                  <a:pt x="23904" y="11237"/>
                  <a:pt x="23912" y="11237"/>
                </a:cubicBezTo>
              </a:path>
              <a:path w="943" h="696">
                <a:moveTo>
                  <a:pt x="24457" y="10592"/>
                </a:moveTo>
                <a:cubicBezTo>
                  <a:pt x="24445" y="10554"/>
                  <a:pt x="24428" y="10567"/>
                  <a:pt x="24383" y="10567"/>
                </a:cubicBezTo>
                <a:cubicBezTo>
                  <a:pt x="24329" y="10567"/>
                  <a:pt x="24311" y="10568"/>
                  <a:pt x="24259" y="10592"/>
                </a:cubicBezTo>
                <a:cubicBezTo>
                  <a:pt x="24207" y="10616"/>
                  <a:pt x="24191" y="10662"/>
                  <a:pt x="24185" y="10716"/>
                </a:cubicBezTo>
                <a:cubicBezTo>
                  <a:pt x="24179" y="10770"/>
                  <a:pt x="24193" y="10772"/>
                  <a:pt x="24234" y="10790"/>
                </a:cubicBezTo>
                <a:cubicBezTo>
                  <a:pt x="24314" y="10825"/>
                  <a:pt x="24292" y="10812"/>
                  <a:pt x="24358" y="10790"/>
                </a:cubicBezTo>
                <a:cubicBezTo>
                  <a:pt x="24397" y="10777"/>
                  <a:pt x="24445" y="10737"/>
                  <a:pt x="24457" y="10691"/>
                </a:cubicBezTo>
                <a:cubicBezTo>
                  <a:pt x="24473" y="10631"/>
                  <a:pt x="24478" y="10604"/>
                  <a:pt x="24457" y="10666"/>
                </a:cubicBezTo>
                <a:cubicBezTo>
                  <a:pt x="24431" y="10742"/>
                  <a:pt x="24393" y="10811"/>
                  <a:pt x="24383" y="10889"/>
                </a:cubicBezTo>
                <a:cubicBezTo>
                  <a:pt x="24374" y="10958"/>
                  <a:pt x="24358" y="10994"/>
                  <a:pt x="24358" y="11063"/>
                </a:cubicBezTo>
                <a:cubicBezTo>
                  <a:pt x="24358" y="11110"/>
                  <a:pt x="24338" y="11142"/>
                  <a:pt x="24333" y="11187"/>
                </a:cubicBezTo>
                <a:cubicBezTo>
                  <a:pt x="24325" y="11268"/>
                  <a:pt x="24333" y="11130"/>
                  <a:pt x="24333" y="1121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nk 34"/>
          <p:cNvSpPr/>
          <p:nvPr/>
        </p:nvSpPr>
        <p:spPr>
          <a:xfrm>
            <a:off x="1152360" y="4044960"/>
            <a:ext cx="347760" cy="241200"/>
          </a:xfrm>
          <a:custGeom>
            <a:avLst/>
            <a:gdLst/>
            <a:ahLst/>
            <a:rect l="l" t="t" r="r" b="b"/>
            <a:pathLst>
              <a:path w="968" h="670">
                <a:moveTo>
                  <a:pt x="3423" y="11311"/>
                </a:moveTo>
                <a:cubicBezTo>
                  <a:pt x="3423" y="11410"/>
                  <a:pt x="3420" y="11491"/>
                  <a:pt x="3398" y="11584"/>
                </a:cubicBezTo>
                <a:cubicBezTo>
                  <a:pt x="3386" y="11636"/>
                  <a:pt x="3398" y="11703"/>
                  <a:pt x="3398" y="11757"/>
                </a:cubicBezTo>
                <a:cubicBezTo>
                  <a:pt x="3423" y="11757"/>
                  <a:pt x="3431" y="11757"/>
                  <a:pt x="3423" y="11733"/>
                </a:cubicBezTo>
              </a:path>
              <a:path w="968" h="670">
                <a:moveTo>
                  <a:pt x="3200" y="11361"/>
                </a:moveTo>
                <a:cubicBezTo>
                  <a:pt x="3250" y="11361"/>
                  <a:pt x="3258" y="11350"/>
                  <a:pt x="3299" y="11336"/>
                </a:cubicBezTo>
                <a:cubicBezTo>
                  <a:pt x="3344" y="11321"/>
                  <a:pt x="3407" y="11323"/>
                  <a:pt x="3448" y="11311"/>
                </a:cubicBezTo>
                <a:cubicBezTo>
                  <a:pt x="3487" y="11299"/>
                  <a:pt x="3489" y="11310"/>
                  <a:pt x="3497" y="11336"/>
                </a:cubicBezTo>
              </a:path>
              <a:path w="968" h="670">
                <a:moveTo>
                  <a:pt x="3200" y="11881"/>
                </a:moveTo>
                <a:cubicBezTo>
                  <a:pt x="3296" y="11881"/>
                  <a:pt x="3389" y="11884"/>
                  <a:pt x="3473" y="11857"/>
                </a:cubicBezTo>
                <a:cubicBezTo>
                  <a:pt x="3522" y="11841"/>
                  <a:pt x="3550" y="11844"/>
                  <a:pt x="3597" y="11807"/>
                </a:cubicBezTo>
              </a:path>
              <a:path w="968" h="670">
                <a:moveTo>
                  <a:pt x="3994" y="11237"/>
                </a:moveTo>
                <a:cubicBezTo>
                  <a:pt x="3949" y="11237"/>
                  <a:pt x="3928" y="11230"/>
                  <a:pt x="3894" y="11261"/>
                </a:cubicBezTo>
                <a:cubicBezTo>
                  <a:pt x="3857" y="11294"/>
                  <a:pt x="3832" y="11363"/>
                  <a:pt x="3820" y="11410"/>
                </a:cubicBezTo>
                <a:cubicBezTo>
                  <a:pt x="3798" y="11499"/>
                  <a:pt x="3794" y="11730"/>
                  <a:pt x="3845" y="11807"/>
                </a:cubicBezTo>
                <a:cubicBezTo>
                  <a:pt x="3854" y="11820"/>
                  <a:pt x="3916" y="11904"/>
                  <a:pt x="3919" y="11906"/>
                </a:cubicBezTo>
                <a:cubicBezTo>
                  <a:pt x="3944" y="11906"/>
                  <a:pt x="3952" y="11906"/>
                  <a:pt x="3944" y="11881"/>
                </a:cubicBezTo>
              </a:path>
              <a:path w="968" h="670">
                <a:moveTo>
                  <a:pt x="3721" y="11782"/>
                </a:moveTo>
                <a:cubicBezTo>
                  <a:pt x="3734" y="11730"/>
                  <a:pt x="3767" y="11728"/>
                  <a:pt x="3820" y="11708"/>
                </a:cubicBezTo>
                <a:cubicBezTo>
                  <a:pt x="3895" y="11680"/>
                  <a:pt x="3968" y="11650"/>
                  <a:pt x="4043" y="11633"/>
                </a:cubicBezTo>
                <a:cubicBezTo>
                  <a:pt x="4080" y="11624"/>
                  <a:pt x="4128" y="11633"/>
                  <a:pt x="4167" y="116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Ink 35"/>
          <p:cNvSpPr/>
          <p:nvPr/>
        </p:nvSpPr>
        <p:spPr>
          <a:xfrm>
            <a:off x="1785960" y="4054320"/>
            <a:ext cx="250920" cy="223920"/>
          </a:xfrm>
          <a:custGeom>
            <a:avLst/>
            <a:gdLst/>
            <a:ahLst/>
            <a:rect l="l" t="t" r="r" b="b"/>
            <a:pathLst>
              <a:path w="695" h="621">
                <a:moveTo>
                  <a:pt x="4986" y="11336"/>
                </a:moveTo>
                <a:cubicBezTo>
                  <a:pt x="4986" y="11328"/>
                  <a:pt x="4986" y="11319"/>
                  <a:pt x="4986" y="11311"/>
                </a:cubicBezTo>
                <a:cubicBezTo>
                  <a:pt x="4986" y="11440"/>
                  <a:pt x="4991" y="11562"/>
                  <a:pt x="4961" y="11683"/>
                </a:cubicBezTo>
                <a:cubicBezTo>
                  <a:pt x="4953" y="11716"/>
                  <a:pt x="4952" y="11790"/>
                  <a:pt x="4986" y="11807"/>
                </a:cubicBezTo>
                <a:cubicBezTo>
                  <a:pt x="4994" y="11807"/>
                  <a:pt x="5003" y="11807"/>
                  <a:pt x="5011" y="11807"/>
                </a:cubicBezTo>
              </a:path>
              <a:path w="695" h="621">
                <a:moveTo>
                  <a:pt x="5333" y="11534"/>
                </a:moveTo>
                <a:cubicBezTo>
                  <a:pt x="5295" y="11547"/>
                  <a:pt x="5303" y="11556"/>
                  <a:pt x="5283" y="11584"/>
                </a:cubicBezTo>
                <a:cubicBezTo>
                  <a:pt x="5259" y="11617"/>
                  <a:pt x="5238" y="11628"/>
                  <a:pt x="5234" y="11658"/>
                </a:cubicBezTo>
                <a:cubicBezTo>
                  <a:pt x="5234" y="11683"/>
                  <a:pt x="5234" y="11691"/>
                  <a:pt x="5234" y="11708"/>
                </a:cubicBezTo>
                <a:cubicBezTo>
                  <a:pt x="5284" y="11708"/>
                  <a:pt x="5292" y="11719"/>
                  <a:pt x="5333" y="11733"/>
                </a:cubicBezTo>
                <a:cubicBezTo>
                  <a:pt x="5361" y="11742"/>
                  <a:pt x="5409" y="11761"/>
                  <a:pt x="5383" y="11807"/>
                </a:cubicBezTo>
                <a:cubicBezTo>
                  <a:pt x="5366" y="11837"/>
                  <a:pt x="5312" y="11872"/>
                  <a:pt x="5283" y="11881"/>
                </a:cubicBezTo>
                <a:cubicBezTo>
                  <a:pt x="5238" y="11896"/>
                  <a:pt x="5236" y="11890"/>
                  <a:pt x="5259" y="11857"/>
                </a:cubicBezTo>
              </a:path>
              <a:path w="695" h="621">
                <a:moveTo>
                  <a:pt x="5507" y="11261"/>
                </a:moveTo>
                <a:cubicBezTo>
                  <a:pt x="5481" y="11331"/>
                  <a:pt x="5482" y="11384"/>
                  <a:pt x="5482" y="11460"/>
                </a:cubicBezTo>
                <a:cubicBezTo>
                  <a:pt x="5482" y="11538"/>
                  <a:pt x="5490" y="11587"/>
                  <a:pt x="5507" y="11658"/>
                </a:cubicBezTo>
                <a:cubicBezTo>
                  <a:pt x="5520" y="11713"/>
                  <a:pt x="5518" y="11754"/>
                  <a:pt x="5531" y="11782"/>
                </a:cubicBezTo>
                <a:cubicBezTo>
                  <a:pt x="5531" y="11807"/>
                  <a:pt x="5531" y="11815"/>
                  <a:pt x="5531" y="11832"/>
                </a:cubicBezTo>
              </a:path>
              <a:path w="695" h="621">
                <a:moveTo>
                  <a:pt x="5383" y="11658"/>
                </a:moveTo>
                <a:cubicBezTo>
                  <a:pt x="5438" y="11658"/>
                  <a:pt x="5476" y="11636"/>
                  <a:pt x="5531" y="11633"/>
                </a:cubicBezTo>
                <a:cubicBezTo>
                  <a:pt x="5589" y="11633"/>
                  <a:pt x="5614" y="11633"/>
                  <a:pt x="5655" y="116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Ink 36"/>
          <p:cNvSpPr/>
          <p:nvPr/>
        </p:nvSpPr>
        <p:spPr>
          <a:xfrm>
            <a:off x="2232000" y="4017960"/>
            <a:ext cx="546120" cy="455760"/>
          </a:xfrm>
          <a:custGeom>
            <a:avLst/>
            <a:gdLst/>
            <a:ahLst/>
            <a:rect l="l" t="t" r="r" b="b"/>
            <a:pathLst>
              <a:path w="1514" h="1266">
                <a:moveTo>
                  <a:pt x="6325" y="11609"/>
                </a:moveTo>
                <a:cubicBezTo>
                  <a:pt x="6273" y="11643"/>
                  <a:pt x="6269" y="11645"/>
                  <a:pt x="6226" y="11683"/>
                </a:cubicBezTo>
                <a:cubicBezTo>
                  <a:pt x="6192" y="11713"/>
                  <a:pt x="6201" y="11739"/>
                  <a:pt x="6201" y="11782"/>
                </a:cubicBezTo>
                <a:cubicBezTo>
                  <a:pt x="6201" y="11790"/>
                  <a:pt x="6201" y="11799"/>
                  <a:pt x="6201" y="11807"/>
                </a:cubicBezTo>
                <a:cubicBezTo>
                  <a:pt x="6274" y="11807"/>
                  <a:pt x="6290" y="11773"/>
                  <a:pt x="6350" y="11757"/>
                </a:cubicBezTo>
                <a:cubicBezTo>
                  <a:pt x="6440" y="11733"/>
                  <a:pt x="6407" y="11689"/>
                  <a:pt x="6474" y="11633"/>
                </a:cubicBezTo>
                <a:cubicBezTo>
                  <a:pt x="6540" y="11577"/>
                  <a:pt x="6519" y="11571"/>
                  <a:pt x="6548" y="11485"/>
                </a:cubicBezTo>
                <a:cubicBezTo>
                  <a:pt x="6572" y="11414"/>
                  <a:pt x="6573" y="11363"/>
                  <a:pt x="6573" y="11286"/>
                </a:cubicBezTo>
                <a:cubicBezTo>
                  <a:pt x="6573" y="11245"/>
                  <a:pt x="6573" y="11203"/>
                  <a:pt x="6573" y="11162"/>
                </a:cubicBezTo>
                <a:cubicBezTo>
                  <a:pt x="6561" y="11224"/>
                  <a:pt x="6548" y="11269"/>
                  <a:pt x="6548" y="11336"/>
                </a:cubicBezTo>
                <a:cubicBezTo>
                  <a:pt x="6548" y="11466"/>
                  <a:pt x="6543" y="11587"/>
                  <a:pt x="6573" y="11708"/>
                </a:cubicBezTo>
                <a:cubicBezTo>
                  <a:pt x="6585" y="11758"/>
                  <a:pt x="6562" y="11757"/>
                  <a:pt x="6623" y="11757"/>
                </a:cubicBezTo>
              </a:path>
              <a:path w="1514" h="1266">
                <a:moveTo>
                  <a:pt x="6747" y="11633"/>
                </a:moveTo>
                <a:cubicBezTo>
                  <a:pt x="6747" y="11679"/>
                  <a:pt x="6727" y="11692"/>
                  <a:pt x="6722" y="11733"/>
                </a:cubicBezTo>
                <a:cubicBezTo>
                  <a:pt x="6717" y="11780"/>
                  <a:pt x="6740" y="11754"/>
                  <a:pt x="6747" y="11733"/>
                </a:cubicBezTo>
              </a:path>
              <a:path w="1514" h="1266">
                <a:moveTo>
                  <a:pt x="6524" y="11609"/>
                </a:moveTo>
                <a:cubicBezTo>
                  <a:pt x="6428" y="11609"/>
                  <a:pt x="6335" y="11606"/>
                  <a:pt x="6251" y="11633"/>
                </a:cubicBezTo>
                <a:cubicBezTo>
                  <a:pt x="6226" y="11633"/>
                  <a:pt x="6218" y="11633"/>
                  <a:pt x="6226" y="11658"/>
                </a:cubicBezTo>
              </a:path>
              <a:path w="1514" h="1266">
                <a:moveTo>
                  <a:pt x="6747" y="11435"/>
                </a:moveTo>
                <a:cubicBezTo>
                  <a:pt x="6747" y="11460"/>
                  <a:pt x="6747" y="11468"/>
                  <a:pt x="6747" y="11435"/>
                </a:cubicBezTo>
              </a:path>
              <a:path w="1514" h="1266">
                <a:moveTo>
                  <a:pt x="7094" y="11633"/>
                </a:moveTo>
                <a:cubicBezTo>
                  <a:pt x="7059" y="11633"/>
                  <a:pt x="7033" y="11640"/>
                  <a:pt x="7020" y="11658"/>
                </a:cubicBezTo>
                <a:cubicBezTo>
                  <a:pt x="6984" y="11707"/>
                  <a:pt x="6970" y="11702"/>
                  <a:pt x="6970" y="11757"/>
                </a:cubicBezTo>
                <a:cubicBezTo>
                  <a:pt x="6970" y="11765"/>
                  <a:pt x="6970" y="11774"/>
                  <a:pt x="6970" y="11782"/>
                </a:cubicBezTo>
                <a:cubicBezTo>
                  <a:pt x="7033" y="11782"/>
                  <a:pt x="7067" y="11774"/>
                  <a:pt x="7119" y="11757"/>
                </a:cubicBezTo>
                <a:cubicBezTo>
                  <a:pt x="7154" y="11745"/>
                  <a:pt x="7144" y="11694"/>
                  <a:pt x="7144" y="11733"/>
                </a:cubicBezTo>
                <a:cubicBezTo>
                  <a:pt x="7144" y="11829"/>
                  <a:pt x="7146" y="11911"/>
                  <a:pt x="7119" y="12005"/>
                </a:cubicBezTo>
                <a:cubicBezTo>
                  <a:pt x="7092" y="12098"/>
                  <a:pt x="7103" y="12187"/>
                  <a:pt x="7069" y="12278"/>
                </a:cubicBezTo>
                <a:cubicBezTo>
                  <a:pt x="7041" y="12353"/>
                  <a:pt x="7028" y="12350"/>
                  <a:pt x="6970" y="12402"/>
                </a:cubicBezTo>
                <a:cubicBezTo>
                  <a:pt x="6943" y="12426"/>
                  <a:pt x="6893" y="12435"/>
                  <a:pt x="6871" y="12402"/>
                </a:cubicBezTo>
                <a:cubicBezTo>
                  <a:pt x="6833" y="12346"/>
                  <a:pt x="6856" y="12302"/>
                  <a:pt x="6871" y="12254"/>
                </a:cubicBezTo>
                <a:cubicBezTo>
                  <a:pt x="6871" y="12246"/>
                  <a:pt x="6871" y="12237"/>
                  <a:pt x="6871" y="12229"/>
                </a:cubicBezTo>
              </a:path>
              <a:path w="1514" h="1266">
                <a:moveTo>
                  <a:pt x="7392" y="11584"/>
                </a:moveTo>
                <a:cubicBezTo>
                  <a:pt x="7392" y="11634"/>
                  <a:pt x="7381" y="11642"/>
                  <a:pt x="7367" y="11683"/>
                </a:cubicBezTo>
                <a:cubicBezTo>
                  <a:pt x="7354" y="11721"/>
                  <a:pt x="7367" y="11725"/>
                  <a:pt x="7392" y="11733"/>
                </a:cubicBezTo>
              </a:path>
              <a:path w="1514" h="1266">
                <a:moveTo>
                  <a:pt x="7590" y="11212"/>
                </a:moveTo>
                <a:cubicBezTo>
                  <a:pt x="7590" y="11318"/>
                  <a:pt x="7598" y="11410"/>
                  <a:pt x="7615" y="11509"/>
                </a:cubicBezTo>
                <a:cubicBezTo>
                  <a:pt x="7626" y="11572"/>
                  <a:pt x="7634" y="11792"/>
                  <a:pt x="7590" y="11807"/>
                </a:cubicBezTo>
              </a:path>
              <a:path w="1514" h="1266">
                <a:moveTo>
                  <a:pt x="7541" y="11534"/>
                </a:moveTo>
                <a:cubicBezTo>
                  <a:pt x="7563" y="11511"/>
                  <a:pt x="7568" y="11503"/>
                  <a:pt x="7590" y="11509"/>
                </a:cubicBezTo>
                <a:cubicBezTo>
                  <a:pt x="7604" y="11469"/>
                  <a:pt x="7639" y="11485"/>
                  <a:pt x="7689" y="11485"/>
                </a:cubicBezTo>
                <a:cubicBezTo>
                  <a:pt x="7697" y="11485"/>
                  <a:pt x="7706" y="11485"/>
                  <a:pt x="7714" y="11485"/>
                </a:cubicBezTo>
              </a:path>
              <a:path w="1514" h="1266">
                <a:moveTo>
                  <a:pt x="7293" y="11410"/>
                </a:moveTo>
                <a:cubicBezTo>
                  <a:pt x="7341" y="11410"/>
                  <a:pt x="7354" y="11407"/>
                  <a:pt x="7392" y="1143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Ink 37"/>
          <p:cNvSpPr/>
          <p:nvPr/>
        </p:nvSpPr>
        <p:spPr>
          <a:xfrm>
            <a:off x="3000240" y="4106880"/>
            <a:ext cx="152640" cy="15228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8359" y="11509"/>
                </a:moveTo>
                <a:cubicBezTo>
                  <a:pt x="8333" y="11570"/>
                  <a:pt x="8334" y="11592"/>
                  <a:pt x="8334" y="11658"/>
                </a:cubicBezTo>
                <a:cubicBezTo>
                  <a:pt x="8334" y="11683"/>
                  <a:pt x="8334" y="11708"/>
                  <a:pt x="8334" y="11733"/>
                </a:cubicBezTo>
                <a:cubicBezTo>
                  <a:pt x="8359" y="11733"/>
                  <a:pt x="8367" y="11733"/>
                  <a:pt x="8359" y="11708"/>
                </a:cubicBezTo>
              </a:path>
              <a:path w="423" h="423">
                <a:moveTo>
                  <a:pt x="8409" y="11410"/>
                </a:moveTo>
                <a:lnTo>
                  <a:pt x="8409" y="11410"/>
                </a:lnTo>
              </a:path>
              <a:path w="423" h="423">
                <a:moveTo>
                  <a:pt x="8409" y="11410"/>
                </a:moveTo>
                <a:cubicBezTo>
                  <a:pt x="8575" y="11518"/>
                  <a:pt x="8615" y="11474"/>
                  <a:pt x="8533" y="11584"/>
                </a:cubicBezTo>
                <a:cubicBezTo>
                  <a:pt x="8533" y="11592"/>
                  <a:pt x="8533" y="11601"/>
                  <a:pt x="8533" y="11609"/>
                </a:cubicBezTo>
                <a:cubicBezTo>
                  <a:pt x="8563" y="11616"/>
                  <a:pt x="8628" y="11621"/>
                  <a:pt x="8657" y="11633"/>
                </a:cubicBezTo>
                <a:cubicBezTo>
                  <a:pt x="8697" y="11650"/>
                  <a:pt x="8751" y="11659"/>
                  <a:pt x="8756" y="11708"/>
                </a:cubicBezTo>
                <a:cubicBezTo>
                  <a:pt x="8762" y="11760"/>
                  <a:pt x="8709" y="11764"/>
                  <a:pt x="8682" y="11782"/>
                </a:cubicBezTo>
                <a:cubicBezTo>
                  <a:pt x="8635" y="11814"/>
                  <a:pt x="8590" y="11824"/>
                  <a:pt x="8533" y="11832"/>
                </a:cubicBezTo>
                <a:cubicBezTo>
                  <a:pt x="8533" y="11799"/>
                  <a:pt x="8533" y="11766"/>
                  <a:pt x="8533" y="117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Ink 38"/>
          <p:cNvSpPr/>
          <p:nvPr/>
        </p:nvSpPr>
        <p:spPr>
          <a:xfrm>
            <a:off x="3510000" y="4170240"/>
            <a:ext cx="11592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9996" y="11609"/>
                </a:moveTo>
                <a:cubicBezTo>
                  <a:pt x="9958" y="11596"/>
                  <a:pt x="9976" y="11584"/>
                  <a:pt x="9922" y="11584"/>
                </a:cubicBezTo>
                <a:cubicBezTo>
                  <a:pt x="9872" y="11584"/>
                  <a:pt x="9861" y="11633"/>
                  <a:pt x="9823" y="11658"/>
                </a:cubicBezTo>
                <a:cubicBezTo>
                  <a:pt x="9779" y="11686"/>
                  <a:pt x="9754" y="11703"/>
                  <a:pt x="9748" y="11757"/>
                </a:cubicBezTo>
                <a:cubicBezTo>
                  <a:pt x="9748" y="11782"/>
                  <a:pt x="9748" y="11790"/>
                  <a:pt x="9748" y="11807"/>
                </a:cubicBezTo>
                <a:cubicBezTo>
                  <a:pt x="9805" y="11807"/>
                  <a:pt x="9847" y="11815"/>
                  <a:pt x="9897" y="11782"/>
                </a:cubicBezTo>
                <a:cubicBezTo>
                  <a:pt x="9933" y="11758"/>
                  <a:pt x="9965" y="11714"/>
                  <a:pt x="9996" y="11683"/>
                </a:cubicBezTo>
                <a:cubicBezTo>
                  <a:pt x="9996" y="11735"/>
                  <a:pt x="10010" y="11736"/>
                  <a:pt x="10021" y="11757"/>
                </a:cubicBezTo>
                <a:cubicBezTo>
                  <a:pt x="10037" y="11789"/>
                  <a:pt x="10025" y="11782"/>
                  <a:pt x="10071" y="117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Ink 39"/>
          <p:cNvSpPr/>
          <p:nvPr/>
        </p:nvSpPr>
        <p:spPr>
          <a:xfrm>
            <a:off x="3963960" y="4106880"/>
            <a:ext cx="179280" cy="14436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11112" y="11460"/>
                </a:moveTo>
                <a:cubicBezTo>
                  <a:pt x="11090" y="11468"/>
                  <a:pt x="11058" y="11502"/>
                  <a:pt x="11038" y="11534"/>
                </a:cubicBezTo>
                <a:cubicBezTo>
                  <a:pt x="11005" y="11585"/>
                  <a:pt x="11013" y="11625"/>
                  <a:pt x="11013" y="11683"/>
                </a:cubicBezTo>
                <a:cubicBezTo>
                  <a:pt x="11013" y="11766"/>
                  <a:pt x="11060" y="11778"/>
                  <a:pt x="11137" y="11782"/>
                </a:cubicBezTo>
                <a:cubicBezTo>
                  <a:pt x="11221" y="11787"/>
                  <a:pt x="11258" y="11812"/>
                  <a:pt x="11336" y="11782"/>
                </a:cubicBezTo>
                <a:cubicBezTo>
                  <a:pt x="11433" y="11745"/>
                  <a:pt x="11428" y="11735"/>
                  <a:pt x="11485" y="11658"/>
                </a:cubicBezTo>
                <a:cubicBezTo>
                  <a:pt x="11519" y="11611"/>
                  <a:pt x="11520" y="11561"/>
                  <a:pt x="11485" y="11509"/>
                </a:cubicBezTo>
                <a:cubicBezTo>
                  <a:pt x="11441" y="11444"/>
                  <a:pt x="11385" y="11414"/>
                  <a:pt x="11311" y="11410"/>
                </a:cubicBezTo>
                <a:cubicBezTo>
                  <a:pt x="11251" y="11407"/>
                  <a:pt x="11183" y="11404"/>
                  <a:pt x="11137" y="11435"/>
                </a:cubicBezTo>
                <a:cubicBezTo>
                  <a:pt x="11070" y="11480"/>
                  <a:pt x="11082" y="11497"/>
                  <a:pt x="11137" y="115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Ink 40"/>
          <p:cNvSpPr/>
          <p:nvPr/>
        </p:nvSpPr>
        <p:spPr>
          <a:xfrm>
            <a:off x="4295880" y="4133880"/>
            <a:ext cx="204840" cy="135000"/>
          </a:xfrm>
          <a:custGeom>
            <a:avLst/>
            <a:gdLst/>
            <a:ahLst/>
            <a:rect l="l" t="t" r="r" b="b"/>
            <a:pathLst>
              <a:path w="572" h="373">
                <a:moveTo>
                  <a:pt x="12055" y="11609"/>
                </a:moveTo>
                <a:cubicBezTo>
                  <a:pt x="11998" y="11633"/>
                  <a:pt x="11956" y="11646"/>
                  <a:pt x="11931" y="11708"/>
                </a:cubicBezTo>
                <a:cubicBezTo>
                  <a:pt x="11916" y="11744"/>
                  <a:pt x="11949" y="11792"/>
                  <a:pt x="11981" y="11807"/>
                </a:cubicBezTo>
                <a:cubicBezTo>
                  <a:pt x="12027" y="11828"/>
                  <a:pt x="12072" y="11793"/>
                  <a:pt x="12105" y="11782"/>
                </a:cubicBezTo>
                <a:cubicBezTo>
                  <a:pt x="12145" y="11768"/>
                  <a:pt x="12135" y="11742"/>
                  <a:pt x="12105" y="11708"/>
                </a:cubicBezTo>
                <a:cubicBezTo>
                  <a:pt x="12079" y="11678"/>
                  <a:pt x="12039" y="11645"/>
                  <a:pt x="12005" y="11633"/>
                </a:cubicBezTo>
                <a:cubicBezTo>
                  <a:pt x="11975" y="11623"/>
                  <a:pt x="12003" y="11631"/>
                  <a:pt x="12055" y="11609"/>
                </a:cubicBezTo>
              </a:path>
              <a:path w="572" h="373">
                <a:moveTo>
                  <a:pt x="12055" y="11609"/>
                </a:moveTo>
                <a:cubicBezTo>
                  <a:pt x="12127" y="11676"/>
                  <a:pt x="12243" y="11709"/>
                  <a:pt x="12254" y="11807"/>
                </a:cubicBezTo>
                <a:cubicBezTo>
                  <a:pt x="12259" y="11856"/>
                  <a:pt x="12266" y="11867"/>
                  <a:pt x="12278" y="11807"/>
                </a:cubicBezTo>
                <a:cubicBezTo>
                  <a:pt x="12292" y="11737"/>
                  <a:pt x="12309" y="11671"/>
                  <a:pt x="12353" y="11609"/>
                </a:cubicBezTo>
                <a:cubicBezTo>
                  <a:pt x="12378" y="11574"/>
                  <a:pt x="12409" y="11504"/>
                  <a:pt x="12452" y="11485"/>
                </a:cubicBezTo>
                <a:cubicBezTo>
                  <a:pt x="12488" y="11469"/>
                  <a:pt x="12494" y="11487"/>
                  <a:pt x="12502" y="1150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Ink 41"/>
          <p:cNvSpPr/>
          <p:nvPr/>
        </p:nvSpPr>
        <p:spPr>
          <a:xfrm>
            <a:off x="4724280" y="4125960"/>
            <a:ext cx="2700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3196" y="11460"/>
                </a:moveTo>
                <a:cubicBezTo>
                  <a:pt x="13196" y="11533"/>
                  <a:pt x="13183" y="11597"/>
                  <a:pt x="13171" y="11658"/>
                </a:cubicBezTo>
                <a:cubicBezTo>
                  <a:pt x="13158" y="11721"/>
                  <a:pt x="13146" y="11762"/>
                  <a:pt x="13146" y="11832"/>
                </a:cubicBezTo>
                <a:cubicBezTo>
                  <a:pt x="13146" y="11882"/>
                  <a:pt x="13134" y="11923"/>
                  <a:pt x="13146" y="11956"/>
                </a:cubicBezTo>
                <a:cubicBezTo>
                  <a:pt x="13146" y="11964"/>
                  <a:pt x="13146" y="11973"/>
                  <a:pt x="13146" y="1198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Ink 42"/>
          <p:cNvSpPr/>
          <p:nvPr/>
        </p:nvSpPr>
        <p:spPr>
          <a:xfrm>
            <a:off x="5126040" y="4143240"/>
            <a:ext cx="446040" cy="214560"/>
          </a:xfrm>
          <a:custGeom>
            <a:avLst/>
            <a:gdLst/>
            <a:ahLst/>
            <a:rect l="l" t="t" r="r" b="b"/>
            <a:pathLst>
              <a:path w="1241" h="597">
                <a:moveTo>
                  <a:pt x="14387" y="11509"/>
                </a:moveTo>
                <a:cubicBezTo>
                  <a:pt x="14362" y="11509"/>
                  <a:pt x="14354" y="11509"/>
                  <a:pt x="14337" y="11509"/>
                </a:cubicBezTo>
                <a:cubicBezTo>
                  <a:pt x="14337" y="11564"/>
                  <a:pt x="14331" y="11608"/>
                  <a:pt x="14312" y="11658"/>
                </a:cubicBezTo>
                <a:cubicBezTo>
                  <a:pt x="14287" y="11723"/>
                  <a:pt x="14247" y="11797"/>
                  <a:pt x="14238" y="11857"/>
                </a:cubicBezTo>
                <a:cubicBezTo>
                  <a:pt x="14227" y="11936"/>
                  <a:pt x="14238" y="12025"/>
                  <a:pt x="14238" y="12105"/>
                </a:cubicBezTo>
                <a:cubicBezTo>
                  <a:pt x="14279" y="12105"/>
                  <a:pt x="14321" y="12105"/>
                  <a:pt x="14362" y="12105"/>
                </a:cubicBezTo>
              </a:path>
              <a:path w="1241" h="597">
                <a:moveTo>
                  <a:pt x="14511" y="11981"/>
                </a:moveTo>
                <a:cubicBezTo>
                  <a:pt x="14511" y="12014"/>
                  <a:pt x="14511" y="12047"/>
                  <a:pt x="14511" y="12080"/>
                </a:cubicBezTo>
                <a:cubicBezTo>
                  <a:pt x="14576" y="12055"/>
                  <a:pt x="14626" y="12048"/>
                  <a:pt x="14684" y="12005"/>
                </a:cubicBezTo>
                <a:cubicBezTo>
                  <a:pt x="14712" y="11984"/>
                  <a:pt x="14756" y="11920"/>
                  <a:pt x="14734" y="11881"/>
                </a:cubicBezTo>
                <a:cubicBezTo>
                  <a:pt x="14712" y="11842"/>
                  <a:pt x="14646" y="11857"/>
                  <a:pt x="14610" y="11857"/>
                </a:cubicBezTo>
                <a:cubicBezTo>
                  <a:pt x="14557" y="11857"/>
                  <a:pt x="14549" y="11868"/>
                  <a:pt x="14511" y="11906"/>
                </a:cubicBezTo>
                <a:cubicBezTo>
                  <a:pt x="14548" y="11915"/>
                  <a:pt x="14572" y="11934"/>
                  <a:pt x="14610" y="11956"/>
                </a:cubicBezTo>
              </a:path>
              <a:path w="1241" h="597">
                <a:moveTo>
                  <a:pt x="14858" y="11857"/>
                </a:moveTo>
                <a:cubicBezTo>
                  <a:pt x="14804" y="11896"/>
                  <a:pt x="14808" y="11878"/>
                  <a:pt x="14808" y="11956"/>
                </a:cubicBezTo>
                <a:cubicBezTo>
                  <a:pt x="14808" y="12008"/>
                  <a:pt x="14829" y="12024"/>
                  <a:pt x="14883" y="12030"/>
                </a:cubicBezTo>
                <a:cubicBezTo>
                  <a:pt x="14922" y="12034"/>
                  <a:pt x="14977" y="12022"/>
                  <a:pt x="15007" y="12005"/>
                </a:cubicBezTo>
                <a:cubicBezTo>
                  <a:pt x="15035" y="11989"/>
                  <a:pt x="15049" y="11911"/>
                  <a:pt x="15032" y="11881"/>
                </a:cubicBezTo>
                <a:cubicBezTo>
                  <a:pt x="15011" y="11844"/>
                  <a:pt x="14967" y="11857"/>
                  <a:pt x="14932" y="11857"/>
                </a:cubicBezTo>
                <a:cubicBezTo>
                  <a:pt x="14870" y="11857"/>
                  <a:pt x="14943" y="11878"/>
                  <a:pt x="14957" y="11881"/>
                </a:cubicBezTo>
              </a:path>
              <a:path w="1241" h="597">
                <a:moveTo>
                  <a:pt x="15230" y="11584"/>
                </a:moveTo>
                <a:cubicBezTo>
                  <a:pt x="15230" y="11642"/>
                  <a:pt x="15218" y="11678"/>
                  <a:pt x="15205" y="11733"/>
                </a:cubicBezTo>
                <a:cubicBezTo>
                  <a:pt x="15182" y="11829"/>
                  <a:pt x="15091" y="11962"/>
                  <a:pt x="15180" y="12005"/>
                </a:cubicBezTo>
                <a:cubicBezTo>
                  <a:pt x="15188" y="12005"/>
                  <a:pt x="15197" y="12005"/>
                  <a:pt x="15205" y="12005"/>
                </a:cubicBezTo>
              </a:path>
              <a:path w="1241" h="597">
                <a:moveTo>
                  <a:pt x="15255" y="11857"/>
                </a:moveTo>
                <a:cubicBezTo>
                  <a:pt x="15295" y="11817"/>
                  <a:pt x="15338" y="11793"/>
                  <a:pt x="15379" y="11757"/>
                </a:cubicBezTo>
                <a:cubicBezTo>
                  <a:pt x="15411" y="11729"/>
                  <a:pt x="15425" y="11718"/>
                  <a:pt x="15453" y="11708"/>
                </a:cubicBezTo>
              </a:path>
              <a:path w="1241" h="597">
                <a:moveTo>
                  <a:pt x="15379" y="11807"/>
                </a:moveTo>
                <a:cubicBezTo>
                  <a:pt x="15379" y="11873"/>
                  <a:pt x="15379" y="11939"/>
                  <a:pt x="15379" y="12005"/>
                </a:cubicBezTo>
                <a:cubicBezTo>
                  <a:pt x="15418" y="12015"/>
                  <a:pt x="15434" y="12030"/>
                  <a:pt x="15478" y="120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Ink 43"/>
          <p:cNvSpPr/>
          <p:nvPr/>
        </p:nvSpPr>
        <p:spPr>
          <a:xfrm>
            <a:off x="5919840" y="4143240"/>
            <a:ext cx="295200" cy="152640"/>
          </a:xfrm>
          <a:custGeom>
            <a:avLst/>
            <a:gdLst/>
            <a:ahLst/>
            <a:rect l="l" t="t" r="r" b="b"/>
            <a:pathLst>
              <a:path w="819" h="423">
                <a:moveTo>
                  <a:pt x="16669" y="11782"/>
                </a:moveTo>
                <a:cubicBezTo>
                  <a:pt x="16659" y="11753"/>
                  <a:pt x="16612" y="11736"/>
                  <a:pt x="16570" y="11757"/>
                </a:cubicBezTo>
                <a:cubicBezTo>
                  <a:pt x="16496" y="11794"/>
                  <a:pt x="16519" y="11796"/>
                  <a:pt x="16470" y="11857"/>
                </a:cubicBezTo>
                <a:cubicBezTo>
                  <a:pt x="16462" y="11865"/>
                  <a:pt x="16454" y="11873"/>
                  <a:pt x="16446" y="11881"/>
                </a:cubicBezTo>
                <a:cubicBezTo>
                  <a:pt x="16489" y="11914"/>
                  <a:pt x="16512" y="11906"/>
                  <a:pt x="16570" y="11906"/>
                </a:cubicBezTo>
                <a:cubicBezTo>
                  <a:pt x="16640" y="11906"/>
                  <a:pt x="16658" y="11856"/>
                  <a:pt x="16718" y="11832"/>
                </a:cubicBezTo>
                <a:cubicBezTo>
                  <a:pt x="16746" y="11832"/>
                  <a:pt x="16757" y="11830"/>
                  <a:pt x="16768" y="11807"/>
                </a:cubicBezTo>
                <a:cubicBezTo>
                  <a:pt x="16748" y="11747"/>
                  <a:pt x="16710" y="11817"/>
                  <a:pt x="16694" y="11857"/>
                </a:cubicBezTo>
                <a:cubicBezTo>
                  <a:pt x="16672" y="11912"/>
                  <a:pt x="16680" y="11889"/>
                  <a:pt x="16694" y="11931"/>
                </a:cubicBezTo>
                <a:cubicBezTo>
                  <a:pt x="16749" y="11931"/>
                  <a:pt x="16775" y="11916"/>
                  <a:pt x="16818" y="11881"/>
                </a:cubicBezTo>
              </a:path>
              <a:path w="819" h="423">
                <a:moveTo>
                  <a:pt x="16966" y="11509"/>
                </a:moveTo>
                <a:cubicBezTo>
                  <a:pt x="16966" y="11575"/>
                  <a:pt x="16945" y="11619"/>
                  <a:pt x="16942" y="11683"/>
                </a:cubicBezTo>
                <a:cubicBezTo>
                  <a:pt x="16938" y="11765"/>
                  <a:pt x="16942" y="11849"/>
                  <a:pt x="16942" y="11931"/>
                </a:cubicBezTo>
              </a:path>
              <a:path w="819" h="423">
                <a:moveTo>
                  <a:pt x="16867" y="11757"/>
                </a:moveTo>
                <a:cubicBezTo>
                  <a:pt x="16908" y="11747"/>
                  <a:pt x="16975" y="11749"/>
                  <a:pt x="17016" y="11733"/>
                </a:cubicBezTo>
                <a:cubicBezTo>
                  <a:pt x="17069" y="11712"/>
                  <a:pt x="17101" y="11708"/>
                  <a:pt x="17165" y="11708"/>
                </a:cubicBezTo>
                <a:cubicBezTo>
                  <a:pt x="17198" y="11708"/>
                  <a:pt x="17231" y="11708"/>
                  <a:pt x="17264" y="117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Ink 44"/>
          <p:cNvSpPr/>
          <p:nvPr/>
        </p:nvSpPr>
        <p:spPr>
          <a:xfrm>
            <a:off x="6535800" y="4106880"/>
            <a:ext cx="393480" cy="216000"/>
          </a:xfrm>
          <a:custGeom>
            <a:avLst/>
            <a:gdLst/>
            <a:ahLst/>
            <a:rect l="l" t="t" r="r" b="b"/>
            <a:pathLst>
              <a:path w="1092" h="596">
                <a:moveTo>
                  <a:pt x="18306" y="11460"/>
                </a:moveTo>
                <a:cubicBezTo>
                  <a:pt x="18306" y="11531"/>
                  <a:pt x="18291" y="11551"/>
                  <a:pt x="18256" y="11609"/>
                </a:cubicBezTo>
                <a:cubicBezTo>
                  <a:pt x="18216" y="11674"/>
                  <a:pt x="18172" y="11782"/>
                  <a:pt x="18157" y="11857"/>
                </a:cubicBezTo>
                <a:cubicBezTo>
                  <a:pt x="18148" y="11902"/>
                  <a:pt x="18157" y="11960"/>
                  <a:pt x="18157" y="12005"/>
                </a:cubicBezTo>
              </a:path>
              <a:path w="1092" h="596">
                <a:moveTo>
                  <a:pt x="18231" y="11757"/>
                </a:moveTo>
                <a:cubicBezTo>
                  <a:pt x="18240" y="11711"/>
                  <a:pt x="18250" y="11667"/>
                  <a:pt x="18281" y="11633"/>
                </a:cubicBezTo>
                <a:cubicBezTo>
                  <a:pt x="18325" y="11585"/>
                  <a:pt x="18353" y="11551"/>
                  <a:pt x="18405" y="11509"/>
                </a:cubicBezTo>
              </a:path>
              <a:path w="1092" h="596">
                <a:moveTo>
                  <a:pt x="18504" y="11410"/>
                </a:moveTo>
                <a:cubicBezTo>
                  <a:pt x="18504" y="11492"/>
                  <a:pt x="18492" y="11557"/>
                  <a:pt x="18479" y="11633"/>
                </a:cubicBezTo>
                <a:cubicBezTo>
                  <a:pt x="18470" y="11684"/>
                  <a:pt x="18455" y="11729"/>
                  <a:pt x="18455" y="11782"/>
                </a:cubicBezTo>
                <a:cubicBezTo>
                  <a:pt x="18455" y="11807"/>
                  <a:pt x="18455" y="11832"/>
                  <a:pt x="18455" y="11857"/>
                </a:cubicBezTo>
                <a:cubicBezTo>
                  <a:pt x="18512" y="11857"/>
                  <a:pt x="18532" y="11835"/>
                  <a:pt x="18579" y="11807"/>
                </a:cubicBezTo>
                <a:cubicBezTo>
                  <a:pt x="18589" y="11801"/>
                  <a:pt x="18684" y="11758"/>
                  <a:pt x="18703" y="11782"/>
                </a:cubicBezTo>
                <a:cubicBezTo>
                  <a:pt x="18726" y="11810"/>
                  <a:pt x="18736" y="11824"/>
                  <a:pt x="18752" y="11857"/>
                </a:cubicBezTo>
                <a:cubicBezTo>
                  <a:pt x="18759" y="11870"/>
                  <a:pt x="18792" y="11922"/>
                  <a:pt x="18827" y="11906"/>
                </a:cubicBezTo>
                <a:cubicBezTo>
                  <a:pt x="18862" y="11891"/>
                  <a:pt x="18897" y="11872"/>
                  <a:pt x="18901" y="11832"/>
                </a:cubicBezTo>
                <a:cubicBezTo>
                  <a:pt x="18907" y="11782"/>
                  <a:pt x="18902" y="11777"/>
                  <a:pt x="18876" y="11757"/>
                </a:cubicBezTo>
                <a:cubicBezTo>
                  <a:pt x="18839" y="11729"/>
                  <a:pt x="18802" y="11726"/>
                  <a:pt x="18777" y="11782"/>
                </a:cubicBezTo>
                <a:cubicBezTo>
                  <a:pt x="18758" y="11824"/>
                  <a:pt x="18778" y="11920"/>
                  <a:pt x="18802" y="11956"/>
                </a:cubicBezTo>
                <a:cubicBezTo>
                  <a:pt x="18840" y="12012"/>
                  <a:pt x="18929" y="11977"/>
                  <a:pt x="18976" y="11956"/>
                </a:cubicBezTo>
                <a:cubicBezTo>
                  <a:pt x="19071" y="11913"/>
                  <a:pt x="19152" y="11913"/>
                  <a:pt x="19248" y="1185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Ink 45"/>
          <p:cNvSpPr/>
          <p:nvPr/>
        </p:nvSpPr>
        <p:spPr>
          <a:xfrm>
            <a:off x="7170840" y="4214880"/>
            <a:ext cx="608040" cy="214200"/>
          </a:xfrm>
          <a:custGeom>
            <a:avLst/>
            <a:gdLst/>
            <a:ahLst/>
            <a:rect l="l" t="t" r="r" b="b"/>
            <a:pathLst>
              <a:path w="1688" h="596">
                <a:moveTo>
                  <a:pt x="20042" y="11906"/>
                </a:moveTo>
                <a:cubicBezTo>
                  <a:pt x="19992" y="11906"/>
                  <a:pt x="19993" y="11912"/>
                  <a:pt x="19968" y="11956"/>
                </a:cubicBezTo>
                <a:cubicBezTo>
                  <a:pt x="19949" y="11989"/>
                  <a:pt x="19929" y="12048"/>
                  <a:pt x="19918" y="12080"/>
                </a:cubicBezTo>
                <a:cubicBezTo>
                  <a:pt x="19918" y="12088"/>
                  <a:pt x="19918" y="12097"/>
                  <a:pt x="19918" y="12105"/>
                </a:cubicBezTo>
                <a:cubicBezTo>
                  <a:pt x="19919" y="12106"/>
                  <a:pt x="19966" y="12095"/>
                  <a:pt x="19993" y="12055"/>
                </a:cubicBezTo>
                <a:cubicBezTo>
                  <a:pt x="20033" y="11996"/>
                  <a:pt x="20078" y="11943"/>
                  <a:pt x="20141" y="11906"/>
                </a:cubicBezTo>
                <a:cubicBezTo>
                  <a:pt x="20187" y="11879"/>
                  <a:pt x="20244" y="11844"/>
                  <a:pt x="20290" y="11832"/>
                </a:cubicBezTo>
                <a:cubicBezTo>
                  <a:pt x="20290" y="11964"/>
                  <a:pt x="20290" y="12097"/>
                  <a:pt x="20290" y="12229"/>
                </a:cubicBezTo>
                <a:cubicBezTo>
                  <a:pt x="20338" y="12229"/>
                  <a:pt x="20352" y="12233"/>
                  <a:pt x="20389" y="12204"/>
                </a:cubicBezTo>
              </a:path>
              <a:path w="1688" h="596">
                <a:moveTo>
                  <a:pt x="20538" y="12080"/>
                </a:moveTo>
                <a:cubicBezTo>
                  <a:pt x="20538" y="12088"/>
                  <a:pt x="20538" y="12097"/>
                  <a:pt x="20538" y="12105"/>
                </a:cubicBezTo>
                <a:cubicBezTo>
                  <a:pt x="20573" y="12093"/>
                  <a:pt x="20585" y="12080"/>
                  <a:pt x="20638" y="12055"/>
                </a:cubicBezTo>
                <a:cubicBezTo>
                  <a:pt x="20675" y="12037"/>
                  <a:pt x="20733" y="12012"/>
                  <a:pt x="20737" y="11981"/>
                </a:cubicBezTo>
                <a:cubicBezTo>
                  <a:pt x="20744" y="11928"/>
                  <a:pt x="20700" y="11931"/>
                  <a:pt x="20662" y="11931"/>
                </a:cubicBezTo>
                <a:cubicBezTo>
                  <a:pt x="20614" y="11931"/>
                  <a:pt x="20545" y="11914"/>
                  <a:pt x="20513" y="11956"/>
                </a:cubicBezTo>
                <a:cubicBezTo>
                  <a:pt x="20472" y="12010"/>
                  <a:pt x="20464" y="12039"/>
                  <a:pt x="20464" y="12105"/>
                </a:cubicBezTo>
                <a:cubicBezTo>
                  <a:pt x="20464" y="12150"/>
                  <a:pt x="20462" y="12173"/>
                  <a:pt x="20513" y="12179"/>
                </a:cubicBezTo>
                <a:cubicBezTo>
                  <a:pt x="20554" y="12184"/>
                  <a:pt x="20567" y="12204"/>
                  <a:pt x="20613" y="12204"/>
                </a:cubicBezTo>
                <a:cubicBezTo>
                  <a:pt x="20666" y="12204"/>
                  <a:pt x="20693" y="12205"/>
                  <a:pt x="20737" y="12179"/>
                </a:cubicBezTo>
              </a:path>
              <a:path w="1688" h="596">
                <a:moveTo>
                  <a:pt x="20786" y="12005"/>
                </a:moveTo>
                <a:cubicBezTo>
                  <a:pt x="20852" y="12005"/>
                  <a:pt x="20934" y="11990"/>
                  <a:pt x="20985" y="12030"/>
                </a:cubicBezTo>
                <a:cubicBezTo>
                  <a:pt x="21020" y="12058"/>
                  <a:pt x="21010" y="12088"/>
                  <a:pt x="21010" y="12129"/>
                </a:cubicBezTo>
                <a:cubicBezTo>
                  <a:pt x="21010" y="12172"/>
                  <a:pt x="20965" y="12199"/>
                  <a:pt x="20935" y="12229"/>
                </a:cubicBezTo>
                <a:cubicBezTo>
                  <a:pt x="20909" y="12255"/>
                  <a:pt x="20902" y="12336"/>
                  <a:pt x="20886" y="12303"/>
                </a:cubicBezTo>
                <a:cubicBezTo>
                  <a:pt x="20874" y="12278"/>
                  <a:pt x="20917" y="12267"/>
                  <a:pt x="20935" y="12254"/>
                </a:cubicBezTo>
              </a:path>
              <a:path w="1688" h="596">
                <a:moveTo>
                  <a:pt x="21158" y="11931"/>
                </a:moveTo>
                <a:cubicBezTo>
                  <a:pt x="21122" y="11931"/>
                  <a:pt x="21072" y="11937"/>
                  <a:pt x="21059" y="11981"/>
                </a:cubicBezTo>
                <a:cubicBezTo>
                  <a:pt x="21049" y="12015"/>
                  <a:pt x="21043" y="12134"/>
                  <a:pt x="21084" y="12154"/>
                </a:cubicBezTo>
                <a:cubicBezTo>
                  <a:pt x="21104" y="12164"/>
                  <a:pt x="21162" y="12178"/>
                  <a:pt x="21183" y="12179"/>
                </a:cubicBezTo>
                <a:cubicBezTo>
                  <a:pt x="21235" y="12179"/>
                  <a:pt x="21253" y="12177"/>
                  <a:pt x="21258" y="12129"/>
                </a:cubicBezTo>
              </a:path>
              <a:path w="1688" h="596">
                <a:moveTo>
                  <a:pt x="21357" y="11708"/>
                </a:moveTo>
                <a:cubicBezTo>
                  <a:pt x="21344" y="11759"/>
                  <a:pt x="21332" y="11794"/>
                  <a:pt x="21332" y="11857"/>
                </a:cubicBezTo>
                <a:cubicBezTo>
                  <a:pt x="21332" y="11918"/>
                  <a:pt x="21362" y="12136"/>
                  <a:pt x="21307" y="12154"/>
                </a:cubicBezTo>
              </a:path>
              <a:path w="1688" h="596">
                <a:moveTo>
                  <a:pt x="21307" y="11956"/>
                </a:moveTo>
                <a:cubicBezTo>
                  <a:pt x="21355" y="11936"/>
                  <a:pt x="21405" y="11911"/>
                  <a:pt x="21456" y="11906"/>
                </a:cubicBezTo>
                <a:cubicBezTo>
                  <a:pt x="21516" y="11900"/>
                  <a:pt x="21557" y="11917"/>
                  <a:pt x="21605" y="1188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Ink 46"/>
          <p:cNvSpPr/>
          <p:nvPr/>
        </p:nvSpPr>
        <p:spPr>
          <a:xfrm>
            <a:off x="7974000" y="4268880"/>
            <a:ext cx="169920" cy="19692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22324" y="11857"/>
                </a:moveTo>
                <a:cubicBezTo>
                  <a:pt x="22362" y="11884"/>
                  <a:pt x="22376" y="11881"/>
                  <a:pt x="22423" y="11881"/>
                </a:cubicBezTo>
                <a:cubicBezTo>
                  <a:pt x="22492" y="11881"/>
                  <a:pt x="22514" y="11909"/>
                  <a:pt x="22498" y="11981"/>
                </a:cubicBezTo>
                <a:cubicBezTo>
                  <a:pt x="22480" y="12058"/>
                  <a:pt x="22387" y="12152"/>
                  <a:pt x="22324" y="12204"/>
                </a:cubicBezTo>
                <a:cubicBezTo>
                  <a:pt x="22284" y="12238"/>
                  <a:pt x="22224" y="12331"/>
                  <a:pt x="22175" y="12353"/>
                </a:cubicBezTo>
                <a:cubicBezTo>
                  <a:pt x="22143" y="12368"/>
                  <a:pt x="22151" y="12358"/>
                  <a:pt x="22151" y="12402"/>
                </a:cubicBezTo>
                <a:cubicBezTo>
                  <a:pt x="22276" y="12402"/>
                  <a:pt x="22522" y="12450"/>
                  <a:pt x="22622" y="1237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Ink 47"/>
          <p:cNvSpPr/>
          <p:nvPr/>
        </p:nvSpPr>
        <p:spPr>
          <a:xfrm>
            <a:off x="8277120" y="4286160"/>
            <a:ext cx="617760" cy="349200"/>
          </a:xfrm>
          <a:custGeom>
            <a:avLst/>
            <a:gdLst/>
            <a:ahLst/>
            <a:rect l="l" t="t" r="r" b="b"/>
            <a:pathLst>
              <a:path w="1712" h="969">
                <a:moveTo>
                  <a:pt x="23168" y="12204"/>
                </a:moveTo>
                <a:cubicBezTo>
                  <a:pt x="23113" y="12204"/>
                  <a:pt x="23086" y="12190"/>
                  <a:pt x="23068" y="12229"/>
                </a:cubicBezTo>
                <a:cubicBezTo>
                  <a:pt x="23047" y="12275"/>
                  <a:pt x="22999" y="12306"/>
                  <a:pt x="22994" y="12353"/>
                </a:cubicBezTo>
                <a:cubicBezTo>
                  <a:pt x="22994" y="12361"/>
                  <a:pt x="22994" y="12370"/>
                  <a:pt x="22994" y="12378"/>
                </a:cubicBezTo>
                <a:cubicBezTo>
                  <a:pt x="23033" y="12387"/>
                  <a:pt x="23049" y="12402"/>
                  <a:pt x="23093" y="12402"/>
                </a:cubicBezTo>
                <a:cubicBezTo>
                  <a:pt x="23154" y="12402"/>
                  <a:pt x="23194" y="12357"/>
                  <a:pt x="23242" y="12328"/>
                </a:cubicBezTo>
                <a:cubicBezTo>
                  <a:pt x="23309" y="12288"/>
                  <a:pt x="23350" y="12272"/>
                  <a:pt x="23391" y="12204"/>
                </a:cubicBezTo>
                <a:cubicBezTo>
                  <a:pt x="23428" y="12142"/>
                  <a:pt x="23454" y="12049"/>
                  <a:pt x="23465" y="11981"/>
                </a:cubicBezTo>
                <a:cubicBezTo>
                  <a:pt x="23474" y="11928"/>
                  <a:pt x="23474" y="11917"/>
                  <a:pt x="23440" y="11906"/>
                </a:cubicBezTo>
                <a:cubicBezTo>
                  <a:pt x="23416" y="11972"/>
                  <a:pt x="23413" y="12041"/>
                  <a:pt x="23391" y="12105"/>
                </a:cubicBezTo>
                <a:cubicBezTo>
                  <a:pt x="23370" y="12167"/>
                  <a:pt x="23363" y="12247"/>
                  <a:pt x="23341" y="12303"/>
                </a:cubicBezTo>
                <a:cubicBezTo>
                  <a:pt x="23324" y="12347"/>
                  <a:pt x="23316" y="12374"/>
                  <a:pt x="23316" y="12427"/>
                </a:cubicBezTo>
                <a:cubicBezTo>
                  <a:pt x="23316" y="12489"/>
                  <a:pt x="23302" y="12502"/>
                  <a:pt x="23366" y="12502"/>
                </a:cubicBezTo>
              </a:path>
              <a:path w="1712" h="969">
                <a:moveTo>
                  <a:pt x="23589" y="12328"/>
                </a:moveTo>
                <a:cubicBezTo>
                  <a:pt x="23567" y="12371"/>
                  <a:pt x="23564" y="12383"/>
                  <a:pt x="23540" y="12402"/>
                </a:cubicBezTo>
                <a:cubicBezTo>
                  <a:pt x="23566" y="12454"/>
                  <a:pt x="23565" y="12447"/>
                  <a:pt x="23614" y="12427"/>
                </a:cubicBezTo>
              </a:path>
              <a:path w="1712" h="969">
                <a:moveTo>
                  <a:pt x="23788" y="12030"/>
                </a:moveTo>
                <a:lnTo>
                  <a:pt x="23788" y="12030"/>
                </a:lnTo>
              </a:path>
              <a:path w="1712" h="969">
                <a:moveTo>
                  <a:pt x="23788" y="12030"/>
                </a:moveTo>
                <a:cubicBezTo>
                  <a:pt x="23813" y="12096"/>
                  <a:pt x="23837" y="12163"/>
                  <a:pt x="23862" y="12229"/>
                </a:cubicBezTo>
                <a:cubicBezTo>
                  <a:pt x="23798" y="12282"/>
                  <a:pt x="23832" y="12326"/>
                  <a:pt x="23788" y="12378"/>
                </a:cubicBezTo>
                <a:cubicBezTo>
                  <a:pt x="23780" y="12387"/>
                  <a:pt x="23766" y="12421"/>
                  <a:pt x="23812" y="12427"/>
                </a:cubicBezTo>
                <a:cubicBezTo>
                  <a:pt x="23873" y="12435"/>
                  <a:pt x="23888" y="12419"/>
                  <a:pt x="23912" y="12402"/>
                </a:cubicBezTo>
                <a:cubicBezTo>
                  <a:pt x="23979" y="12353"/>
                  <a:pt x="23986" y="12367"/>
                  <a:pt x="23986" y="12278"/>
                </a:cubicBezTo>
                <a:cubicBezTo>
                  <a:pt x="23986" y="12192"/>
                  <a:pt x="23999" y="12263"/>
                  <a:pt x="23986" y="12303"/>
                </a:cubicBezTo>
                <a:cubicBezTo>
                  <a:pt x="23958" y="12387"/>
                  <a:pt x="23928" y="12486"/>
                  <a:pt x="23912" y="12576"/>
                </a:cubicBezTo>
                <a:cubicBezTo>
                  <a:pt x="23903" y="12625"/>
                  <a:pt x="23872" y="12667"/>
                  <a:pt x="23837" y="12725"/>
                </a:cubicBezTo>
                <a:cubicBezTo>
                  <a:pt x="23809" y="12771"/>
                  <a:pt x="23764" y="12849"/>
                  <a:pt x="23713" y="12874"/>
                </a:cubicBezTo>
                <a:cubicBezTo>
                  <a:pt x="23681" y="12890"/>
                  <a:pt x="23600" y="12874"/>
                  <a:pt x="23564" y="12874"/>
                </a:cubicBezTo>
                <a:cubicBezTo>
                  <a:pt x="23564" y="12812"/>
                  <a:pt x="23555" y="12755"/>
                  <a:pt x="23589" y="12700"/>
                </a:cubicBezTo>
                <a:cubicBezTo>
                  <a:pt x="23614" y="12675"/>
                  <a:pt x="23622" y="12667"/>
                  <a:pt x="23639" y="12650"/>
                </a:cubicBezTo>
              </a:path>
              <a:path w="1712" h="969">
                <a:moveTo>
                  <a:pt x="24185" y="12278"/>
                </a:moveTo>
                <a:cubicBezTo>
                  <a:pt x="24185" y="12324"/>
                  <a:pt x="24163" y="12337"/>
                  <a:pt x="24160" y="12378"/>
                </a:cubicBezTo>
                <a:cubicBezTo>
                  <a:pt x="24156" y="12429"/>
                  <a:pt x="24179" y="12487"/>
                  <a:pt x="24135" y="12502"/>
                </a:cubicBezTo>
                <a:cubicBezTo>
                  <a:pt x="24177" y="12529"/>
                  <a:pt x="24160" y="12522"/>
                  <a:pt x="24160" y="12477"/>
                </a:cubicBezTo>
              </a:path>
              <a:path w="1712" h="969">
                <a:moveTo>
                  <a:pt x="24482" y="11931"/>
                </a:moveTo>
                <a:cubicBezTo>
                  <a:pt x="24465" y="11959"/>
                  <a:pt x="24438" y="12023"/>
                  <a:pt x="24433" y="12055"/>
                </a:cubicBezTo>
                <a:cubicBezTo>
                  <a:pt x="24420" y="12140"/>
                  <a:pt x="24395" y="12218"/>
                  <a:pt x="24383" y="12303"/>
                </a:cubicBezTo>
                <a:cubicBezTo>
                  <a:pt x="24375" y="12361"/>
                  <a:pt x="24364" y="12421"/>
                  <a:pt x="24358" y="12477"/>
                </a:cubicBezTo>
                <a:cubicBezTo>
                  <a:pt x="24356" y="12497"/>
                  <a:pt x="24333" y="12543"/>
                  <a:pt x="24333" y="12502"/>
                </a:cubicBezTo>
              </a:path>
              <a:path w="1712" h="969">
                <a:moveTo>
                  <a:pt x="24309" y="12229"/>
                </a:moveTo>
                <a:cubicBezTo>
                  <a:pt x="24365" y="12229"/>
                  <a:pt x="24415" y="12217"/>
                  <a:pt x="24457" y="12254"/>
                </a:cubicBezTo>
                <a:cubicBezTo>
                  <a:pt x="24504" y="12295"/>
                  <a:pt x="24493" y="12294"/>
                  <a:pt x="24557" y="12303"/>
                </a:cubicBezTo>
              </a:path>
              <a:path w="1712" h="969">
                <a:moveTo>
                  <a:pt x="24681" y="12179"/>
                </a:moveTo>
                <a:cubicBezTo>
                  <a:pt x="24636" y="12202"/>
                  <a:pt x="24631" y="12224"/>
                  <a:pt x="24631" y="12278"/>
                </a:cubicBezTo>
                <a:cubicBezTo>
                  <a:pt x="24631" y="12335"/>
                  <a:pt x="24623" y="12377"/>
                  <a:pt x="24656" y="12427"/>
                </a:cubicBezTo>
                <a:cubicBezTo>
                  <a:pt x="24686" y="12472"/>
                  <a:pt x="24705" y="12469"/>
                  <a:pt x="24705" y="12526"/>
                </a:cubicBezTo>
                <a:cubicBezTo>
                  <a:pt x="24705" y="12558"/>
                  <a:pt x="24662" y="12612"/>
                  <a:pt x="24631" y="12626"/>
                </a:cubicBezTo>
                <a:cubicBezTo>
                  <a:pt x="24605" y="12637"/>
                  <a:pt x="24517" y="12632"/>
                  <a:pt x="24507" y="12601"/>
                </a:cubicBezTo>
                <a:cubicBezTo>
                  <a:pt x="24484" y="12525"/>
                  <a:pt x="24476" y="12542"/>
                  <a:pt x="24433" y="12477"/>
                </a:cubicBezTo>
              </a:path>
              <a:path w="1712" h="969">
                <a:moveTo>
                  <a:pt x="24234" y="11981"/>
                </a:moveTo>
                <a:cubicBezTo>
                  <a:pt x="24242" y="11983"/>
                  <a:pt x="24331" y="12002"/>
                  <a:pt x="24333" y="12005"/>
                </a:cubicBezTo>
                <a:cubicBezTo>
                  <a:pt x="24333" y="12013"/>
                  <a:pt x="24333" y="12022"/>
                  <a:pt x="24333" y="120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Ink 48"/>
          <p:cNvSpPr/>
          <p:nvPr/>
        </p:nvSpPr>
        <p:spPr>
          <a:xfrm>
            <a:off x="1204920" y="4429080"/>
            <a:ext cx="1054080" cy="384120"/>
          </a:xfrm>
          <a:custGeom>
            <a:avLst/>
            <a:gdLst/>
            <a:ahLst/>
            <a:rect l="l" t="t" r="r" b="b"/>
            <a:pathLst>
              <a:path w="2928" h="1068">
                <a:moveTo>
                  <a:pt x="3522" y="12402"/>
                </a:moveTo>
                <a:cubicBezTo>
                  <a:pt x="3522" y="12378"/>
                  <a:pt x="3522" y="12369"/>
                  <a:pt x="3522" y="12353"/>
                </a:cubicBezTo>
                <a:cubicBezTo>
                  <a:pt x="3522" y="12443"/>
                  <a:pt x="3562" y="12877"/>
                  <a:pt x="3497" y="12898"/>
                </a:cubicBezTo>
              </a:path>
              <a:path w="2928" h="1068">
                <a:moveTo>
                  <a:pt x="3398" y="12402"/>
                </a:moveTo>
                <a:cubicBezTo>
                  <a:pt x="3398" y="12410"/>
                  <a:pt x="3398" y="12419"/>
                  <a:pt x="3398" y="12427"/>
                </a:cubicBezTo>
                <a:cubicBezTo>
                  <a:pt x="3473" y="12427"/>
                  <a:pt x="3527" y="12420"/>
                  <a:pt x="3597" y="12402"/>
                </a:cubicBezTo>
                <a:cubicBezTo>
                  <a:pt x="3644" y="12390"/>
                  <a:pt x="3653" y="12409"/>
                  <a:pt x="3696" y="12378"/>
                </a:cubicBezTo>
                <a:cubicBezTo>
                  <a:pt x="3696" y="12402"/>
                  <a:pt x="3696" y="12411"/>
                  <a:pt x="3696" y="12427"/>
                </a:cubicBezTo>
              </a:path>
              <a:path w="2928" h="1068">
                <a:moveTo>
                  <a:pt x="3349" y="12923"/>
                </a:moveTo>
                <a:cubicBezTo>
                  <a:pt x="3412" y="12923"/>
                  <a:pt x="3446" y="12915"/>
                  <a:pt x="3497" y="12898"/>
                </a:cubicBezTo>
                <a:cubicBezTo>
                  <a:pt x="3561" y="12876"/>
                  <a:pt x="3679" y="12898"/>
                  <a:pt x="3746" y="12898"/>
                </a:cubicBezTo>
              </a:path>
              <a:path w="2928" h="1068">
                <a:moveTo>
                  <a:pt x="4266" y="12378"/>
                </a:moveTo>
                <a:cubicBezTo>
                  <a:pt x="4200" y="12378"/>
                  <a:pt x="4152" y="12377"/>
                  <a:pt x="4118" y="12402"/>
                </a:cubicBezTo>
                <a:cubicBezTo>
                  <a:pt x="4041" y="12457"/>
                  <a:pt x="4067" y="12451"/>
                  <a:pt x="4018" y="12526"/>
                </a:cubicBezTo>
                <a:cubicBezTo>
                  <a:pt x="3993" y="12564"/>
                  <a:pt x="3971" y="12626"/>
                  <a:pt x="3969" y="12675"/>
                </a:cubicBezTo>
                <a:cubicBezTo>
                  <a:pt x="3966" y="12742"/>
                  <a:pt x="3967" y="12838"/>
                  <a:pt x="3994" y="12898"/>
                </a:cubicBezTo>
                <a:cubicBezTo>
                  <a:pt x="4001" y="12913"/>
                  <a:pt x="4060" y="12981"/>
                  <a:pt x="4043" y="12998"/>
                </a:cubicBezTo>
                <a:cubicBezTo>
                  <a:pt x="4035" y="12998"/>
                  <a:pt x="4026" y="12998"/>
                  <a:pt x="4018" y="12998"/>
                </a:cubicBezTo>
              </a:path>
              <a:path w="2928" h="1068">
                <a:moveTo>
                  <a:pt x="3894" y="12849"/>
                </a:moveTo>
                <a:cubicBezTo>
                  <a:pt x="3908" y="12792"/>
                  <a:pt x="3939" y="12799"/>
                  <a:pt x="3994" y="12774"/>
                </a:cubicBezTo>
                <a:cubicBezTo>
                  <a:pt x="4061" y="12743"/>
                  <a:pt x="4119" y="12750"/>
                  <a:pt x="4192" y="12750"/>
                </a:cubicBezTo>
                <a:cubicBezTo>
                  <a:pt x="4233" y="12750"/>
                  <a:pt x="4275" y="12750"/>
                  <a:pt x="4316" y="12750"/>
                </a:cubicBezTo>
              </a:path>
              <a:path w="2928" h="1068">
                <a:moveTo>
                  <a:pt x="5184" y="12328"/>
                </a:moveTo>
                <a:cubicBezTo>
                  <a:pt x="5156" y="12337"/>
                  <a:pt x="5142" y="12391"/>
                  <a:pt x="5135" y="12427"/>
                </a:cubicBezTo>
                <a:cubicBezTo>
                  <a:pt x="5104" y="12587"/>
                  <a:pt x="5135" y="12784"/>
                  <a:pt x="5135" y="12948"/>
                </a:cubicBezTo>
              </a:path>
              <a:path w="2928" h="1068">
                <a:moveTo>
                  <a:pt x="5110" y="12725"/>
                </a:moveTo>
                <a:cubicBezTo>
                  <a:pt x="5110" y="12703"/>
                  <a:pt x="5110" y="12614"/>
                  <a:pt x="5110" y="12725"/>
                </a:cubicBezTo>
              </a:path>
              <a:path w="2928" h="1068">
                <a:moveTo>
                  <a:pt x="5358" y="12303"/>
                </a:moveTo>
                <a:cubicBezTo>
                  <a:pt x="5358" y="12455"/>
                  <a:pt x="5347" y="12607"/>
                  <a:pt x="5383" y="12750"/>
                </a:cubicBezTo>
                <a:cubicBezTo>
                  <a:pt x="5383" y="12774"/>
                  <a:pt x="5383" y="12783"/>
                  <a:pt x="5383" y="12799"/>
                </a:cubicBezTo>
                <a:cubicBezTo>
                  <a:pt x="5418" y="12790"/>
                  <a:pt x="5486" y="12762"/>
                  <a:pt x="5507" y="12725"/>
                </a:cubicBezTo>
                <a:cubicBezTo>
                  <a:pt x="5507" y="12697"/>
                  <a:pt x="5509" y="12686"/>
                  <a:pt x="5531" y="12675"/>
                </a:cubicBezTo>
                <a:cubicBezTo>
                  <a:pt x="5547" y="12680"/>
                  <a:pt x="5593" y="12698"/>
                  <a:pt x="5606" y="12725"/>
                </a:cubicBezTo>
                <a:cubicBezTo>
                  <a:pt x="5619" y="12751"/>
                  <a:pt x="5646" y="12795"/>
                  <a:pt x="5655" y="12824"/>
                </a:cubicBezTo>
                <a:cubicBezTo>
                  <a:pt x="5655" y="12849"/>
                  <a:pt x="5655" y="12857"/>
                  <a:pt x="5655" y="12874"/>
                </a:cubicBezTo>
                <a:cubicBezTo>
                  <a:pt x="5701" y="12874"/>
                  <a:pt x="5720" y="12881"/>
                  <a:pt x="5755" y="12849"/>
                </a:cubicBezTo>
                <a:cubicBezTo>
                  <a:pt x="5763" y="12841"/>
                  <a:pt x="5771" y="12832"/>
                  <a:pt x="5779" y="12824"/>
                </a:cubicBezTo>
              </a:path>
              <a:path w="2928" h="1068">
                <a:moveTo>
                  <a:pt x="5829" y="12725"/>
                </a:moveTo>
                <a:cubicBezTo>
                  <a:pt x="5868" y="12712"/>
                  <a:pt x="5855" y="12685"/>
                  <a:pt x="5879" y="12650"/>
                </a:cubicBezTo>
                <a:cubicBezTo>
                  <a:pt x="5904" y="12614"/>
                  <a:pt x="5904" y="12621"/>
                  <a:pt x="5904" y="12576"/>
                </a:cubicBezTo>
                <a:cubicBezTo>
                  <a:pt x="5844" y="12591"/>
                  <a:pt x="5843" y="12603"/>
                  <a:pt x="5804" y="12650"/>
                </a:cubicBezTo>
                <a:cubicBezTo>
                  <a:pt x="5771" y="12690"/>
                  <a:pt x="5779" y="12723"/>
                  <a:pt x="5779" y="12774"/>
                </a:cubicBezTo>
                <a:cubicBezTo>
                  <a:pt x="5779" y="12805"/>
                  <a:pt x="5821" y="12820"/>
                  <a:pt x="5854" y="12824"/>
                </a:cubicBezTo>
                <a:cubicBezTo>
                  <a:pt x="5930" y="12832"/>
                  <a:pt x="5923" y="12798"/>
                  <a:pt x="5978" y="12774"/>
                </a:cubicBezTo>
                <a:cubicBezTo>
                  <a:pt x="6014" y="12758"/>
                  <a:pt x="6038" y="12743"/>
                  <a:pt x="6052" y="12700"/>
                </a:cubicBezTo>
                <a:cubicBezTo>
                  <a:pt x="6052" y="12692"/>
                  <a:pt x="6052" y="12683"/>
                  <a:pt x="6052" y="12675"/>
                </a:cubicBezTo>
                <a:cubicBezTo>
                  <a:pt x="6052" y="12716"/>
                  <a:pt x="6035" y="12769"/>
                  <a:pt x="6077" y="12774"/>
                </a:cubicBezTo>
                <a:cubicBezTo>
                  <a:pt x="6124" y="12780"/>
                  <a:pt x="6167" y="12780"/>
                  <a:pt x="6201" y="12750"/>
                </a:cubicBezTo>
                <a:cubicBezTo>
                  <a:pt x="6229" y="12726"/>
                  <a:pt x="6235" y="12642"/>
                  <a:pt x="6251" y="12675"/>
                </a:cubicBezTo>
                <a:cubicBezTo>
                  <a:pt x="6276" y="12725"/>
                  <a:pt x="6269" y="12868"/>
                  <a:pt x="6276" y="12923"/>
                </a:cubicBezTo>
                <a:cubicBezTo>
                  <a:pt x="6286" y="12996"/>
                  <a:pt x="6247" y="13127"/>
                  <a:pt x="6226" y="13196"/>
                </a:cubicBezTo>
                <a:cubicBezTo>
                  <a:pt x="6208" y="13255"/>
                  <a:pt x="6169" y="13302"/>
                  <a:pt x="6127" y="13345"/>
                </a:cubicBezTo>
                <a:cubicBezTo>
                  <a:pt x="6094" y="13378"/>
                  <a:pt x="6072" y="13370"/>
                  <a:pt x="6028" y="13370"/>
                </a:cubicBezTo>
                <a:cubicBezTo>
                  <a:pt x="5956" y="13370"/>
                  <a:pt x="5974" y="13312"/>
                  <a:pt x="5953" y="13271"/>
                </a:cubicBezTo>
                <a:cubicBezTo>
                  <a:pt x="5929" y="13224"/>
                  <a:pt x="5922" y="13177"/>
                  <a:pt x="5904" y="13122"/>
                </a:cubicBezTo>
              </a:path>
              <a:path w="2928" h="1068">
                <a:moveTo>
                  <a:pt x="4887" y="12626"/>
                </a:moveTo>
                <a:cubicBezTo>
                  <a:pt x="4935" y="12626"/>
                  <a:pt x="4976" y="12606"/>
                  <a:pt x="5011" y="12601"/>
                </a:cubicBezTo>
                <a:cubicBezTo>
                  <a:pt x="5093" y="12589"/>
                  <a:pt x="5179" y="12601"/>
                  <a:pt x="5259" y="12576"/>
                </a:cubicBezTo>
                <a:cubicBezTo>
                  <a:pt x="5350" y="12547"/>
                  <a:pt x="5440" y="12510"/>
                  <a:pt x="5531" y="1247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Ink 49"/>
          <p:cNvSpPr/>
          <p:nvPr/>
        </p:nvSpPr>
        <p:spPr>
          <a:xfrm>
            <a:off x="2527200" y="4518000"/>
            <a:ext cx="473040" cy="98280"/>
          </a:xfrm>
          <a:custGeom>
            <a:avLst/>
            <a:gdLst/>
            <a:ahLst/>
            <a:rect l="l" t="t" r="r" b="b"/>
            <a:pathLst>
              <a:path w="1315" h="274">
                <a:moveTo>
                  <a:pt x="7268" y="12601"/>
                </a:moveTo>
                <a:cubicBezTo>
                  <a:pt x="7244" y="12564"/>
                  <a:pt x="7209" y="12564"/>
                  <a:pt x="7169" y="12601"/>
                </a:cubicBezTo>
                <a:cubicBezTo>
                  <a:pt x="7104" y="12661"/>
                  <a:pt x="7086" y="12683"/>
                  <a:pt x="7045" y="12750"/>
                </a:cubicBezTo>
                <a:cubicBezTo>
                  <a:pt x="7022" y="12772"/>
                  <a:pt x="7014" y="12777"/>
                  <a:pt x="7020" y="12799"/>
                </a:cubicBezTo>
                <a:cubicBezTo>
                  <a:pt x="7086" y="12809"/>
                  <a:pt x="7123" y="12823"/>
                  <a:pt x="7193" y="12799"/>
                </a:cubicBezTo>
                <a:cubicBezTo>
                  <a:pt x="7212" y="12792"/>
                  <a:pt x="7335" y="12733"/>
                  <a:pt x="7342" y="12725"/>
                </a:cubicBezTo>
                <a:cubicBezTo>
                  <a:pt x="7371" y="12693"/>
                  <a:pt x="7383" y="12676"/>
                  <a:pt x="7392" y="12650"/>
                </a:cubicBezTo>
                <a:cubicBezTo>
                  <a:pt x="7363" y="12660"/>
                  <a:pt x="7347" y="12684"/>
                  <a:pt x="7342" y="12725"/>
                </a:cubicBezTo>
                <a:cubicBezTo>
                  <a:pt x="7336" y="12775"/>
                  <a:pt x="7347" y="12788"/>
                  <a:pt x="7392" y="12799"/>
                </a:cubicBezTo>
              </a:path>
              <a:path w="1315" h="274">
                <a:moveTo>
                  <a:pt x="7541" y="12650"/>
                </a:moveTo>
                <a:cubicBezTo>
                  <a:pt x="7541" y="12716"/>
                  <a:pt x="7549" y="12765"/>
                  <a:pt x="7565" y="12799"/>
                </a:cubicBezTo>
                <a:cubicBezTo>
                  <a:pt x="7583" y="12837"/>
                  <a:pt x="7570" y="12787"/>
                  <a:pt x="7590" y="12750"/>
                </a:cubicBezTo>
                <a:cubicBezTo>
                  <a:pt x="7614" y="12707"/>
                  <a:pt x="7646" y="12649"/>
                  <a:pt x="7665" y="12601"/>
                </a:cubicBezTo>
                <a:cubicBezTo>
                  <a:pt x="7665" y="12576"/>
                  <a:pt x="7665" y="12568"/>
                  <a:pt x="7665" y="12551"/>
                </a:cubicBezTo>
                <a:cubicBezTo>
                  <a:pt x="7703" y="12564"/>
                  <a:pt x="7691" y="12592"/>
                  <a:pt x="7714" y="12626"/>
                </a:cubicBezTo>
                <a:cubicBezTo>
                  <a:pt x="7735" y="12658"/>
                  <a:pt x="7803" y="12671"/>
                  <a:pt x="7838" y="12675"/>
                </a:cubicBezTo>
                <a:cubicBezTo>
                  <a:pt x="7892" y="12680"/>
                  <a:pt x="7917" y="12679"/>
                  <a:pt x="7938" y="12650"/>
                </a:cubicBezTo>
                <a:cubicBezTo>
                  <a:pt x="7963" y="12616"/>
                  <a:pt x="7962" y="12619"/>
                  <a:pt x="7962" y="12576"/>
                </a:cubicBezTo>
                <a:cubicBezTo>
                  <a:pt x="7913" y="12576"/>
                  <a:pt x="7845" y="12559"/>
                  <a:pt x="7813" y="12601"/>
                </a:cubicBezTo>
                <a:cubicBezTo>
                  <a:pt x="7787" y="12635"/>
                  <a:pt x="7776" y="12709"/>
                  <a:pt x="7789" y="12750"/>
                </a:cubicBezTo>
                <a:cubicBezTo>
                  <a:pt x="7814" y="12828"/>
                  <a:pt x="7893" y="12799"/>
                  <a:pt x="7962" y="12799"/>
                </a:cubicBezTo>
                <a:cubicBezTo>
                  <a:pt x="8051" y="12799"/>
                  <a:pt x="8126" y="12805"/>
                  <a:pt x="8210" y="12774"/>
                </a:cubicBezTo>
                <a:cubicBezTo>
                  <a:pt x="8266" y="12747"/>
                  <a:pt x="8288" y="12739"/>
                  <a:pt x="8334" y="1275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Ink 50"/>
          <p:cNvSpPr/>
          <p:nvPr/>
        </p:nvSpPr>
        <p:spPr>
          <a:xfrm>
            <a:off x="3286080" y="4384800"/>
            <a:ext cx="465120" cy="28548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9550" y="12204"/>
                </a:moveTo>
                <a:cubicBezTo>
                  <a:pt x="9528" y="12187"/>
                  <a:pt x="9484" y="12160"/>
                  <a:pt x="9451" y="12179"/>
                </a:cubicBezTo>
                <a:cubicBezTo>
                  <a:pt x="9397" y="12210"/>
                  <a:pt x="9355" y="12227"/>
                  <a:pt x="9327" y="12278"/>
                </a:cubicBezTo>
                <a:cubicBezTo>
                  <a:pt x="9285" y="12353"/>
                  <a:pt x="9221" y="12413"/>
                  <a:pt x="9203" y="12502"/>
                </a:cubicBezTo>
                <a:cubicBezTo>
                  <a:pt x="9190" y="12565"/>
                  <a:pt x="9183" y="12637"/>
                  <a:pt x="9178" y="12700"/>
                </a:cubicBezTo>
                <a:cubicBezTo>
                  <a:pt x="9175" y="12743"/>
                  <a:pt x="9203" y="12778"/>
                  <a:pt x="9203" y="12824"/>
                </a:cubicBezTo>
                <a:cubicBezTo>
                  <a:pt x="9203" y="12852"/>
                  <a:pt x="9201" y="12858"/>
                  <a:pt x="9178" y="12824"/>
                </a:cubicBezTo>
              </a:path>
              <a:path w="1291" h="795">
                <a:moveTo>
                  <a:pt x="9128" y="12700"/>
                </a:moveTo>
                <a:cubicBezTo>
                  <a:pt x="9137" y="12662"/>
                  <a:pt x="9164" y="12639"/>
                  <a:pt x="9203" y="12626"/>
                </a:cubicBezTo>
                <a:cubicBezTo>
                  <a:pt x="9252" y="12610"/>
                  <a:pt x="9290" y="12638"/>
                  <a:pt x="9327" y="12650"/>
                </a:cubicBezTo>
                <a:cubicBezTo>
                  <a:pt x="9357" y="12660"/>
                  <a:pt x="9390" y="12653"/>
                  <a:pt x="9401" y="12675"/>
                </a:cubicBezTo>
                <a:cubicBezTo>
                  <a:pt x="9429" y="12731"/>
                  <a:pt x="9417" y="12745"/>
                  <a:pt x="9401" y="12799"/>
                </a:cubicBezTo>
                <a:cubicBezTo>
                  <a:pt x="9401" y="12807"/>
                  <a:pt x="9401" y="12816"/>
                  <a:pt x="9401" y="12824"/>
                </a:cubicBezTo>
                <a:cubicBezTo>
                  <a:pt x="9422" y="12845"/>
                  <a:pt x="9441" y="12759"/>
                  <a:pt x="9500" y="12725"/>
                </a:cubicBezTo>
                <a:cubicBezTo>
                  <a:pt x="9529" y="12708"/>
                  <a:pt x="9558" y="12662"/>
                  <a:pt x="9575" y="12650"/>
                </a:cubicBezTo>
                <a:cubicBezTo>
                  <a:pt x="9602" y="12631"/>
                  <a:pt x="9633" y="12663"/>
                  <a:pt x="9649" y="12675"/>
                </a:cubicBezTo>
              </a:path>
              <a:path w="1291" h="795">
                <a:moveTo>
                  <a:pt x="9649" y="12750"/>
                </a:moveTo>
                <a:cubicBezTo>
                  <a:pt x="9649" y="12791"/>
                  <a:pt x="9602" y="12816"/>
                  <a:pt x="9624" y="12849"/>
                </a:cubicBezTo>
                <a:cubicBezTo>
                  <a:pt x="9632" y="12861"/>
                  <a:pt x="9670" y="12895"/>
                  <a:pt x="9699" y="12898"/>
                </a:cubicBezTo>
                <a:cubicBezTo>
                  <a:pt x="9742" y="12903"/>
                  <a:pt x="9767" y="12902"/>
                  <a:pt x="9798" y="12874"/>
                </a:cubicBezTo>
                <a:cubicBezTo>
                  <a:pt x="9829" y="12847"/>
                  <a:pt x="9843" y="12791"/>
                  <a:pt x="9847" y="12750"/>
                </a:cubicBezTo>
                <a:cubicBezTo>
                  <a:pt x="9851" y="12707"/>
                  <a:pt x="9809" y="12679"/>
                  <a:pt x="9773" y="12675"/>
                </a:cubicBezTo>
                <a:cubicBezTo>
                  <a:pt x="9699" y="12667"/>
                  <a:pt x="9735" y="12685"/>
                  <a:pt x="9748" y="12725"/>
                </a:cubicBezTo>
                <a:cubicBezTo>
                  <a:pt x="9748" y="12733"/>
                  <a:pt x="9748" y="12742"/>
                  <a:pt x="9748" y="12750"/>
                </a:cubicBezTo>
              </a:path>
              <a:path w="1291" h="795">
                <a:moveTo>
                  <a:pt x="10021" y="12750"/>
                </a:moveTo>
                <a:cubicBezTo>
                  <a:pt x="9992" y="12787"/>
                  <a:pt x="9996" y="12801"/>
                  <a:pt x="9996" y="12849"/>
                </a:cubicBezTo>
                <a:cubicBezTo>
                  <a:pt x="9996" y="12857"/>
                  <a:pt x="9996" y="12866"/>
                  <a:pt x="9996" y="12874"/>
                </a:cubicBezTo>
                <a:cubicBezTo>
                  <a:pt x="10038" y="12863"/>
                  <a:pt x="10096" y="12815"/>
                  <a:pt x="10120" y="12774"/>
                </a:cubicBezTo>
                <a:cubicBezTo>
                  <a:pt x="10130" y="12756"/>
                  <a:pt x="10145" y="12706"/>
                  <a:pt x="10145" y="12750"/>
                </a:cubicBezTo>
                <a:cubicBezTo>
                  <a:pt x="10145" y="12783"/>
                  <a:pt x="10145" y="12816"/>
                  <a:pt x="10145" y="12849"/>
                </a:cubicBezTo>
                <a:cubicBezTo>
                  <a:pt x="10206" y="12849"/>
                  <a:pt x="10195" y="12821"/>
                  <a:pt x="10244" y="12799"/>
                </a:cubicBezTo>
                <a:cubicBezTo>
                  <a:pt x="10264" y="12790"/>
                  <a:pt x="10316" y="12758"/>
                  <a:pt x="10344" y="12774"/>
                </a:cubicBezTo>
                <a:cubicBezTo>
                  <a:pt x="10379" y="12794"/>
                  <a:pt x="10400" y="12813"/>
                  <a:pt x="10418" y="12849"/>
                </a:cubicBezTo>
                <a:cubicBezTo>
                  <a:pt x="10418" y="12857"/>
                  <a:pt x="10418" y="12866"/>
                  <a:pt x="10418" y="12874"/>
                </a:cubicBezTo>
                <a:cubicBezTo>
                  <a:pt x="10389" y="12911"/>
                  <a:pt x="10393" y="12925"/>
                  <a:pt x="10393" y="1297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Ink 51"/>
          <p:cNvSpPr/>
          <p:nvPr/>
        </p:nvSpPr>
        <p:spPr>
          <a:xfrm>
            <a:off x="4241880" y="4500720"/>
            <a:ext cx="866520" cy="196560"/>
          </a:xfrm>
          <a:custGeom>
            <a:avLst/>
            <a:gdLst/>
            <a:ahLst/>
            <a:rect l="l" t="t" r="r" b="b"/>
            <a:pathLst>
              <a:path w="2407" h="546">
                <a:moveTo>
                  <a:pt x="12005" y="12526"/>
                </a:moveTo>
                <a:cubicBezTo>
                  <a:pt x="11951" y="12526"/>
                  <a:pt x="11956" y="12533"/>
                  <a:pt x="11931" y="12551"/>
                </a:cubicBezTo>
                <a:cubicBezTo>
                  <a:pt x="11877" y="12590"/>
                  <a:pt x="11831" y="12605"/>
                  <a:pt x="11807" y="12675"/>
                </a:cubicBezTo>
                <a:cubicBezTo>
                  <a:pt x="11793" y="12716"/>
                  <a:pt x="11782" y="12754"/>
                  <a:pt x="11782" y="12799"/>
                </a:cubicBezTo>
                <a:cubicBezTo>
                  <a:pt x="11782" y="12866"/>
                  <a:pt x="11815" y="12896"/>
                  <a:pt x="11832" y="12948"/>
                </a:cubicBezTo>
                <a:cubicBezTo>
                  <a:pt x="11846" y="12991"/>
                  <a:pt x="11907" y="13010"/>
                  <a:pt x="11956" y="13022"/>
                </a:cubicBezTo>
                <a:cubicBezTo>
                  <a:pt x="11995" y="13031"/>
                  <a:pt x="12076" y="13019"/>
                  <a:pt x="12105" y="12998"/>
                </a:cubicBezTo>
                <a:cubicBezTo>
                  <a:pt x="12156" y="12961"/>
                  <a:pt x="12200" y="12903"/>
                  <a:pt x="12229" y="12849"/>
                </a:cubicBezTo>
                <a:cubicBezTo>
                  <a:pt x="12264" y="12784"/>
                  <a:pt x="12278" y="12747"/>
                  <a:pt x="12278" y="12675"/>
                </a:cubicBezTo>
                <a:cubicBezTo>
                  <a:pt x="12278" y="12606"/>
                  <a:pt x="12277" y="12599"/>
                  <a:pt x="12229" y="12551"/>
                </a:cubicBezTo>
                <a:cubicBezTo>
                  <a:pt x="12193" y="12514"/>
                  <a:pt x="12153" y="12526"/>
                  <a:pt x="12105" y="12526"/>
                </a:cubicBezTo>
                <a:cubicBezTo>
                  <a:pt x="12039" y="12526"/>
                  <a:pt x="12006" y="12505"/>
                  <a:pt x="11981" y="12576"/>
                </a:cubicBezTo>
                <a:cubicBezTo>
                  <a:pt x="11972" y="12601"/>
                  <a:pt x="11999" y="12626"/>
                  <a:pt x="12005" y="12650"/>
                </a:cubicBezTo>
              </a:path>
              <a:path w="2407" h="546">
                <a:moveTo>
                  <a:pt x="12551" y="12526"/>
                </a:moveTo>
                <a:cubicBezTo>
                  <a:pt x="12551" y="12485"/>
                  <a:pt x="12567" y="12563"/>
                  <a:pt x="12551" y="12601"/>
                </a:cubicBezTo>
                <a:cubicBezTo>
                  <a:pt x="12524" y="12666"/>
                  <a:pt x="12526" y="12720"/>
                  <a:pt x="12526" y="12799"/>
                </a:cubicBezTo>
                <a:cubicBezTo>
                  <a:pt x="12526" y="12850"/>
                  <a:pt x="12503" y="13041"/>
                  <a:pt x="12551" y="13047"/>
                </a:cubicBezTo>
                <a:cubicBezTo>
                  <a:pt x="12559" y="13047"/>
                  <a:pt x="12568" y="13047"/>
                  <a:pt x="12576" y="13047"/>
                </a:cubicBezTo>
              </a:path>
              <a:path w="2407" h="546">
                <a:moveTo>
                  <a:pt x="13122" y="12774"/>
                </a:moveTo>
                <a:cubicBezTo>
                  <a:pt x="13416" y="12774"/>
                  <a:pt x="13928" y="12864"/>
                  <a:pt x="14163" y="12750"/>
                </a:cubicBezTo>
                <a:cubicBezTo>
                  <a:pt x="14201" y="12732"/>
                  <a:pt x="14197" y="12714"/>
                  <a:pt x="14163" y="12675"/>
                </a:cubicBezTo>
                <a:cubicBezTo>
                  <a:pt x="14140" y="12649"/>
                  <a:pt x="14071" y="12614"/>
                  <a:pt x="14039" y="12601"/>
                </a:cubicBezTo>
                <a:cubicBezTo>
                  <a:pt x="14031" y="12598"/>
                  <a:pt x="13921" y="12601"/>
                  <a:pt x="13990" y="12601"/>
                </a:cubicBezTo>
                <a:cubicBezTo>
                  <a:pt x="14036" y="12601"/>
                  <a:pt x="14079" y="12627"/>
                  <a:pt x="14114" y="12650"/>
                </a:cubicBezTo>
                <a:cubicBezTo>
                  <a:pt x="14157" y="12679"/>
                  <a:pt x="14163" y="12672"/>
                  <a:pt x="14163" y="12725"/>
                </a:cubicBezTo>
                <a:cubicBezTo>
                  <a:pt x="14163" y="12789"/>
                  <a:pt x="14184" y="12761"/>
                  <a:pt x="14163" y="12824"/>
                </a:cubicBezTo>
                <a:cubicBezTo>
                  <a:pt x="14147" y="12872"/>
                  <a:pt x="14133" y="12869"/>
                  <a:pt x="14114" y="12898"/>
                </a:cubicBezTo>
                <a:cubicBezTo>
                  <a:pt x="14114" y="12923"/>
                  <a:pt x="14114" y="12931"/>
                  <a:pt x="14089" y="12923"/>
                </a:cubicBezTo>
              </a:path>
              <a:path w="2407" h="546">
                <a:moveTo>
                  <a:pt x="13221" y="12526"/>
                </a:moveTo>
                <a:cubicBezTo>
                  <a:pt x="13221" y="12534"/>
                  <a:pt x="13221" y="12543"/>
                  <a:pt x="13221" y="12551"/>
                </a:cubicBezTo>
                <a:cubicBezTo>
                  <a:pt x="13221" y="12500"/>
                  <a:pt x="13202" y="12583"/>
                  <a:pt x="13196" y="12601"/>
                </a:cubicBezTo>
                <a:cubicBezTo>
                  <a:pt x="13184" y="12637"/>
                  <a:pt x="13162" y="12691"/>
                  <a:pt x="13146" y="12725"/>
                </a:cubicBezTo>
                <a:cubicBezTo>
                  <a:pt x="13128" y="12763"/>
                  <a:pt x="13085" y="12785"/>
                  <a:pt x="13072" y="12824"/>
                </a:cubicBezTo>
                <a:cubicBezTo>
                  <a:pt x="13062" y="12853"/>
                  <a:pt x="13067" y="12908"/>
                  <a:pt x="13097" y="12923"/>
                </a:cubicBezTo>
                <a:cubicBezTo>
                  <a:pt x="13123" y="12936"/>
                  <a:pt x="13192" y="12946"/>
                  <a:pt x="13221" y="12948"/>
                </a:cubicBezTo>
                <a:cubicBezTo>
                  <a:pt x="13283" y="12952"/>
                  <a:pt x="13320" y="12962"/>
                  <a:pt x="13370" y="12973"/>
                </a:cubicBezTo>
                <a:cubicBezTo>
                  <a:pt x="13411" y="12973"/>
                  <a:pt x="13419" y="12973"/>
                  <a:pt x="13444" y="1297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Ink 52"/>
          <p:cNvSpPr/>
          <p:nvPr/>
        </p:nvSpPr>
        <p:spPr>
          <a:xfrm>
            <a:off x="5384880" y="4510080"/>
            <a:ext cx="393480" cy="249120"/>
          </a:xfrm>
          <a:custGeom>
            <a:avLst/>
            <a:gdLst/>
            <a:ahLst/>
            <a:rect l="l" t="t" r="r" b="b"/>
            <a:pathLst>
              <a:path w="1093" h="696">
                <a:moveTo>
                  <a:pt x="15156" y="12576"/>
                </a:moveTo>
                <a:cubicBezTo>
                  <a:pt x="15103" y="12594"/>
                  <a:pt x="15149" y="12563"/>
                  <a:pt x="15106" y="12601"/>
                </a:cubicBezTo>
                <a:cubicBezTo>
                  <a:pt x="15063" y="12639"/>
                  <a:pt x="15078" y="12680"/>
                  <a:pt x="15056" y="12725"/>
                </a:cubicBezTo>
                <a:cubicBezTo>
                  <a:pt x="15037" y="12763"/>
                  <a:pt x="15029" y="12815"/>
                  <a:pt x="15007" y="12849"/>
                </a:cubicBezTo>
                <a:cubicBezTo>
                  <a:pt x="14984" y="12883"/>
                  <a:pt x="14962" y="12932"/>
                  <a:pt x="14957" y="12973"/>
                </a:cubicBezTo>
                <a:cubicBezTo>
                  <a:pt x="14954" y="12997"/>
                  <a:pt x="14957" y="13023"/>
                  <a:pt x="14957" y="13047"/>
                </a:cubicBezTo>
                <a:cubicBezTo>
                  <a:pt x="15063" y="13047"/>
                  <a:pt x="15155" y="13039"/>
                  <a:pt x="15255" y="13022"/>
                </a:cubicBezTo>
                <a:cubicBezTo>
                  <a:pt x="15324" y="13010"/>
                  <a:pt x="15407" y="13022"/>
                  <a:pt x="15478" y="13022"/>
                </a:cubicBezTo>
              </a:path>
              <a:path w="1093" h="696">
                <a:moveTo>
                  <a:pt x="15205" y="12824"/>
                </a:moveTo>
                <a:cubicBezTo>
                  <a:pt x="15237" y="12866"/>
                  <a:pt x="15230" y="12892"/>
                  <a:pt x="15230" y="12948"/>
                </a:cubicBezTo>
                <a:cubicBezTo>
                  <a:pt x="15230" y="13039"/>
                  <a:pt x="15230" y="13130"/>
                  <a:pt x="15230" y="13221"/>
                </a:cubicBezTo>
                <a:cubicBezTo>
                  <a:pt x="15278" y="13221"/>
                  <a:pt x="15280" y="13218"/>
                  <a:pt x="15329" y="13196"/>
                </a:cubicBezTo>
              </a:path>
              <a:path w="1093" h="696">
                <a:moveTo>
                  <a:pt x="15801" y="12551"/>
                </a:moveTo>
                <a:cubicBezTo>
                  <a:pt x="15801" y="12543"/>
                  <a:pt x="15801" y="12534"/>
                  <a:pt x="15801" y="12526"/>
                </a:cubicBezTo>
                <a:cubicBezTo>
                  <a:pt x="15875" y="12526"/>
                  <a:pt x="15950" y="12526"/>
                  <a:pt x="16024" y="12526"/>
                </a:cubicBezTo>
                <a:cubicBezTo>
                  <a:pt x="16024" y="12551"/>
                  <a:pt x="16024" y="12559"/>
                  <a:pt x="16049" y="12551"/>
                </a:cubicBezTo>
              </a:path>
              <a:path w="1093" h="696">
                <a:moveTo>
                  <a:pt x="15801" y="12650"/>
                </a:moveTo>
                <a:cubicBezTo>
                  <a:pt x="15786" y="12696"/>
                  <a:pt x="15757" y="12675"/>
                  <a:pt x="15751" y="12750"/>
                </a:cubicBezTo>
                <a:cubicBezTo>
                  <a:pt x="15748" y="12790"/>
                  <a:pt x="15726" y="12768"/>
                  <a:pt x="15726" y="12824"/>
                </a:cubicBezTo>
                <a:cubicBezTo>
                  <a:pt x="15726" y="12877"/>
                  <a:pt x="15759" y="12874"/>
                  <a:pt x="15801" y="12874"/>
                </a:cubicBezTo>
                <a:cubicBezTo>
                  <a:pt x="15850" y="12874"/>
                  <a:pt x="15860" y="12885"/>
                  <a:pt x="15900" y="12898"/>
                </a:cubicBezTo>
                <a:cubicBezTo>
                  <a:pt x="15921" y="12905"/>
                  <a:pt x="15990" y="12920"/>
                  <a:pt x="15999" y="12948"/>
                </a:cubicBezTo>
                <a:cubicBezTo>
                  <a:pt x="16012" y="12990"/>
                  <a:pt x="16024" y="13027"/>
                  <a:pt x="16024" y="13072"/>
                </a:cubicBezTo>
                <a:cubicBezTo>
                  <a:pt x="16024" y="13104"/>
                  <a:pt x="16016" y="13138"/>
                  <a:pt x="15999" y="13146"/>
                </a:cubicBezTo>
                <a:cubicBezTo>
                  <a:pt x="15953" y="13168"/>
                  <a:pt x="15902" y="13171"/>
                  <a:pt x="15850" y="13171"/>
                </a:cubicBezTo>
                <a:cubicBezTo>
                  <a:pt x="15792" y="13171"/>
                  <a:pt x="15774" y="13157"/>
                  <a:pt x="15751" y="13146"/>
                </a:cubicBezTo>
                <a:cubicBezTo>
                  <a:pt x="15717" y="13129"/>
                  <a:pt x="15680" y="13146"/>
                  <a:pt x="15751" y="13146"/>
                </a:cubicBezTo>
                <a:cubicBezTo>
                  <a:pt x="15759" y="13146"/>
                  <a:pt x="15768" y="13146"/>
                  <a:pt x="15776" y="1314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Ink 53"/>
          <p:cNvSpPr/>
          <p:nvPr/>
        </p:nvSpPr>
        <p:spPr>
          <a:xfrm>
            <a:off x="6143760" y="4473720"/>
            <a:ext cx="2724120" cy="634680"/>
          </a:xfrm>
          <a:custGeom>
            <a:avLst/>
            <a:gdLst/>
            <a:ahLst/>
            <a:rect l="l" t="t" r="r" b="b"/>
            <a:pathLst>
              <a:path w="7566" h="1762">
                <a:moveTo>
                  <a:pt x="17314" y="12427"/>
                </a:moveTo>
                <a:cubicBezTo>
                  <a:pt x="17306" y="12427"/>
                  <a:pt x="17297" y="12427"/>
                  <a:pt x="17289" y="12427"/>
                </a:cubicBezTo>
                <a:cubicBezTo>
                  <a:pt x="17277" y="12462"/>
                  <a:pt x="17282" y="12452"/>
                  <a:pt x="17239" y="12452"/>
                </a:cubicBezTo>
                <a:cubicBezTo>
                  <a:pt x="17228" y="12496"/>
                  <a:pt x="17199" y="12517"/>
                  <a:pt x="17165" y="12551"/>
                </a:cubicBezTo>
                <a:cubicBezTo>
                  <a:pt x="17125" y="12591"/>
                  <a:pt x="17133" y="12625"/>
                  <a:pt x="17115" y="12675"/>
                </a:cubicBezTo>
                <a:cubicBezTo>
                  <a:pt x="17093" y="12737"/>
                  <a:pt x="17071" y="12782"/>
                  <a:pt x="17066" y="12849"/>
                </a:cubicBezTo>
                <a:cubicBezTo>
                  <a:pt x="17062" y="12907"/>
                  <a:pt x="17052" y="12979"/>
                  <a:pt x="17090" y="13022"/>
                </a:cubicBezTo>
                <a:cubicBezTo>
                  <a:pt x="17117" y="13052"/>
                  <a:pt x="17131" y="13084"/>
                  <a:pt x="17140" y="13122"/>
                </a:cubicBezTo>
                <a:cubicBezTo>
                  <a:pt x="17180" y="13135"/>
                  <a:pt x="17150" y="13133"/>
                  <a:pt x="17190" y="13146"/>
                </a:cubicBezTo>
                <a:cubicBezTo>
                  <a:pt x="17190" y="13174"/>
                  <a:pt x="17192" y="13185"/>
                  <a:pt x="17214" y="13196"/>
                </a:cubicBezTo>
              </a:path>
              <a:path w="7566" h="1762">
                <a:moveTo>
                  <a:pt x="17438" y="12898"/>
                </a:moveTo>
                <a:cubicBezTo>
                  <a:pt x="17438" y="12949"/>
                  <a:pt x="17427" y="12957"/>
                  <a:pt x="17413" y="12998"/>
                </a:cubicBezTo>
                <a:cubicBezTo>
                  <a:pt x="17413" y="13022"/>
                  <a:pt x="17413" y="13031"/>
                  <a:pt x="17413" y="13047"/>
                </a:cubicBezTo>
              </a:path>
              <a:path w="7566" h="1762">
                <a:moveTo>
                  <a:pt x="17512" y="12650"/>
                </a:moveTo>
                <a:cubicBezTo>
                  <a:pt x="17520" y="12626"/>
                  <a:pt x="17546" y="12600"/>
                  <a:pt x="17512" y="12650"/>
                </a:cubicBezTo>
              </a:path>
              <a:path w="7566" h="1762">
                <a:moveTo>
                  <a:pt x="17611" y="13047"/>
                </a:moveTo>
                <a:cubicBezTo>
                  <a:pt x="17611" y="13055"/>
                  <a:pt x="17611" y="13064"/>
                  <a:pt x="17611" y="13072"/>
                </a:cubicBezTo>
                <a:cubicBezTo>
                  <a:pt x="17641" y="13062"/>
                  <a:pt x="17652" y="13051"/>
                  <a:pt x="17686" y="13022"/>
                </a:cubicBezTo>
                <a:cubicBezTo>
                  <a:pt x="17717" y="12995"/>
                  <a:pt x="17748" y="12960"/>
                  <a:pt x="17785" y="12948"/>
                </a:cubicBezTo>
                <a:cubicBezTo>
                  <a:pt x="17793" y="12948"/>
                  <a:pt x="17802" y="12948"/>
                  <a:pt x="17810" y="12948"/>
                </a:cubicBezTo>
                <a:cubicBezTo>
                  <a:pt x="17826" y="12899"/>
                  <a:pt x="17854" y="12930"/>
                  <a:pt x="17859" y="12973"/>
                </a:cubicBezTo>
                <a:cubicBezTo>
                  <a:pt x="17862" y="13005"/>
                  <a:pt x="17859" y="13040"/>
                  <a:pt x="17859" y="13072"/>
                </a:cubicBezTo>
                <a:cubicBezTo>
                  <a:pt x="17884" y="13072"/>
                  <a:pt x="17892" y="13072"/>
                  <a:pt x="17909" y="13072"/>
                </a:cubicBezTo>
              </a:path>
              <a:path w="7566" h="1762">
                <a:moveTo>
                  <a:pt x="18207" y="12898"/>
                </a:moveTo>
                <a:cubicBezTo>
                  <a:pt x="18152" y="12898"/>
                  <a:pt x="18124" y="12910"/>
                  <a:pt x="18083" y="12948"/>
                </a:cubicBezTo>
                <a:cubicBezTo>
                  <a:pt x="18047" y="12980"/>
                  <a:pt x="18030" y="13015"/>
                  <a:pt x="18008" y="13047"/>
                </a:cubicBezTo>
                <a:cubicBezTo>
                  <a:pt x="17989" y="13075"/>
                  <a:pt x="17955" y="13121"/>
                  <a:pt x="18008" y="13146"/>
                </a:cubicBezTo>
                <a:cubicBezTo>
                  <a:pt x="18051" y="13167"/>
                  <a:pt x="18079" y="13171"/>
                  <a:pt x="18132" y="13171"/>
                </a:cubicBezTo>
                <a:cubicBezTo>
                  <a:pt x="18179" y="13171"/>
                  <a:pt x="18195" y="13154"/>
                  <a:pt x="18231" y="13146"/>
                </a:cubicBezTo>
                <a:cubicBezTo>
                  <a:pt x="18296" y="13132"/>
                  <a:pt x="18288" y="13126"/>
                  <a:pt x="18331" y="13072"/>
                </a:cubicBezTo>
              </a:path>
              <a:path w="7566" h="1762">
                <a:moveTo>
                  <a:pt x="18455" y="12526"/>
                </a:moveTo>
                <a:cubicBezTo>
                  <a:pt x="18431" y="12558"/>
                  <a:pt x="18416" y="12608"/>
                  <a:pt x="18405" y="12650"/>
                </a:cubicBezTo>
                <a:cubicBezTo>
                  <a:pt x="18382" y="12743"/>
                  <a:pt x="18373" y="13021"/>
                  <a:pt x="18430" y="13097"/>
                </a:cubicBezTo>
              </a:path>
              <a:path w="7566" h="1762">
                <a:moveTo>
                  <a:pt x="18604" y="12948"/>
                </a:moveTo>
                <a:cubicBezTo>
                  <a:pt x="18596" y="12948"/>
                  <a:pt x="18587" y="12948"/>
                  <a:pt x="18579" y="12948"/>
                </a:cubicBezTo>
                <a:cubicBezTo>
                  <a:pt x="18579" y="12986"/>
                  <a:pt x="18563" y="13051"/>
                  <a:pt x="18604" y="13072"/>
                </a:cubicBezTo>
                <a:cubicBezTo>
                  <a:pt x="18651" y="13096"/>
                  <a:pt x="18718" y="13059"/>
                  <a:pt x="18752" y="13047"/>
                </a:cubicBezTo>
                <a:cubicBezTo>
                  <a:pt x="18760" y="13047"/>
                  <a:pt x="18769" y="13047"/>
                  <a:pt x="18777" y="13047"/>
                </a:cubicBezTo>
                <a:cubicBezTo>
                  <a:pt x="18789" y="13012"/>
                  <a:pt x="18784" y="13022"/>
                  <a:pt x="18827" y="13022"/>
                </a:cubicBezTo>
                <a:cubicBezTo>
                  <a:pt x="18827" y="13047"/>
                  <a:pt x="18827" y="13072"/>
                  <a:pt x="18827" y="13097"/>
                </a:cubicBezTo>
                <a:cubicBezTo>
                  <a:pt x="18868" y="13097"/>
                  <a:pt x="18910" y="13097"/>
                  <a:pt x="18951" y="13097"/>
                </a:cubicBezTo>
              </a:path>
              <a:path w="7566" h="1762">
                <a:moveTo>
                  <a:pt x="19124" y="12874"/>
                </a:moveTo>
                <a:cubicBezTo>
                  <a:pt x="19116" y="12866"/>
                  <a:pt x="19108" y="12857"/>
                  <a:pt x="19100" y="12849"/>
                </a:cubicBezTo>
                <a:cubicBezTo>
                  <a:pt x="19071" y="12887"/>
                  <a:pt x="19075" y="12900"/>
                  <a:pt x="19075" y="12948"/>
                </a:cubicBezTo>
                <a:cubicBezTo>
                  <a:pt x="19075" y="13003"/>
                  <a:pt x="19118" y="13001"/>
                  <a:pt x="19149" y="13022"/>
                </a:cubicBezTo>
                <a:cubicBezTo>
                  <a:pt x="19186" y="13046"/>
                  <a:pt x="19174" y="13084"/>
                  <a:pt x="19174" y="13122"/>
                </a:cubicBezTo>
                <a:cubicBezTo>
                  <a:pt x="19174" y="13151"/>
                  <a:pt x="19132" y="13167"/>
                  <a:pt x="19100" y="13171"/>
                </a:cubicBezTo>
                <a:cubicBezTo>
                  <a:pt x="19071" y="13174"/>
                  <a:pt x="18959" y="13181"/>
                  <a:pt x="19075" y="13146"/>
                </a:cubicBezTo>
                <a:cubicBezTo>
                  <a:pt x="19083" y="13146"/>
                  <a:pt x="19092" y="13146"/>
                  <a:pt x="19100" y="13146"/>
                </a:cubicBezTo>
              </a:path>
              <a:path w="7566" h="1762">
                <a:moveTo>
                  <a:pt x="19397" y="12898"/>
                </a:moveTo>
                <a:cubicBezTo>
                  <a:pt x="19426" y="12936"/>
                  <a:pt x="19422" y="12949"/>
                  <a:pt x="19422" y="12998"/>
                </a:cubicBezTo>
                <a:cubicBezTo>
                  <a:pt x="19422" y="13023"/>
                  <a:pt x="19422" y="13047"/>
                  <a:pt x="19422" y="13072"/>
                </a:cubicBezTo>
                <a:cubicBezTo>
                  <a:pt x="19447" y="13072"/>
                  <a:pt x="19455" y="13072"/>
                  <a:pt x="19472" y="13072"/>
                </a:cubicBezTo>
              </a:path>
              <a:path w="7566" h="1762">
                <a:moveTo>
                  <a:pt x="19521" y="12774"/>
                </a:moveTo>
                <a:cubicBezTo>
                  <a:pt x="19529" y="12750"/>
                  <a:pt x="19555" y="12724"/>
                  <a:pt x="19521" y="12774"/>
                </a:cubicBezTo>
              </a:path>
              <a:path w="7566" h="1762">
                <a:moveTo>
                  <a:pt x="19670" y="13022"/>
                </a:moveTo>
                <a:cubicBezTo>
                  <a:pt x="19670" y="12958"/>
                  <a:pt x="19670" y="13061"/>
                  <a:pt x="19670" y="13072"/>
                </a:cubicBezTo>
                <a:cubicBezTo>
                  <a:pt x="19670" y="13123"/>
                  <a:pt x="19681" y="13130"/>
                  <a:pt x="19695" y="13171"/>
                </a:cubicBezTo>
                <a:cubicBezTo>
                  <a:pt x="19706" y="13203"/>
                  <a:pt x="19713" y="13210"/>
                  <a:pt x="19745" y="13221"/>
                </a:cubicBezTo>
                <a:cubicBezTo>
                  <a:pt x="19777" y="13177"/>
                  <a:pt x="19772" y="13141"/>
                  <a:pt x="19794" y="13097"/>
                </a:cubicBezTo>
                <a:cubicBezTo>
                  <a:pt x="19820" y="13046"/>
                  <a:pt x="19798" y="12999"/>
                  <a:pt x="19819" y="12948"/>
                </a:cubicBezTo>
                <a:cubicBezTo>
                  <a:pt x="19842" y="12893"/>
                  <a:pt x="19844" y="12893"/>
                  <a:pt x="19844" y="12948"/>
                </a:cubicBezTo>
                <a:cubicBezTo>
                  <a:pt x="19844" y="13000"/>
                  <a:pt x="19886" y="12994"/>
                  <a:pt x="19918" y="13022"/>
                </a:cubicBezTo>
                <a:cubicBezTo>
                  <a:pt x="19955" y="13055"/>
                  <a:pt x="20019" y="13068"/>
                  <a:pt x="20067" y="13072"/>
                </a:cubicBezTo>
                <a:cubicBezTo>
                  <a:pt x="20106" y="13075"/>
                  <a:pt x="20135" y="13039"/>
                  <a:pt x="20166" y="13022"/>
                </a:cubicBezTo>
                <a:cubicBezTo>
                  <a:pt x="20213" y="12996"/>
                  <a:pt x="20259" y="12979"/>
                  <a:pt x="20265" y="12923"/>
                </a:cubicBezTo>
                <a:cubicBezTo>
                  <a:pt x="20265" y="12915"/>
                  <a:pt x="20265" y="12906"/>
                  <a:pt x="20265" y="12898"/>
                </a:cubicBezTo>
                <a:cubicBezTo>
                  <a:pt x="20210" y="12898"/>
                  <a:pt x="20165" y="12890"/>
                  <a:pt x="20117" y="12923"/>
                </a:cubicBezTo>
                <a:cubicBezTo>
                  <a:pt x="20083" y="12946"/>
                  <a:pt x="20011" y="12980"/>
                  <a:pt x="19993" y="13022"/>
                </a:cubicBezTo>
                <a:cubicBezTo>
                  <a:pt x="19981" y="13049"/>
                  <a:pt x="19990" y="13108"/>
                  <a:pt x="20017" y="13122"/>
                </a:cubicBezTo>
                <a:cubicBezTo>
                  <a:pt x="20065" y="13146"/>
                  <a:pt x="20112" y="13131"/>
                  <a:pt x="20166" y="13146"/>
                </a:cubicBezTo>
                <a:cubicBezTo>
                  <a:pt x="20226" y="13163"/>
                  <a:pt x="20250" y="13171"/>
                  <a:pt x="20315" y="13171"/>
                </a:cubicBezTo>
                <a:cubicBezTo>
                  <a:pt x="20361" y="13171"/>
                  <a:pt x="20405" y="13147"/>
                  <a:pt x="20439" y="13122"/>
                </a:cubicBezTo>
              </a:path>
              <a:path w="7566" h="1762">
                <a:moveTo>
                  <a:pt x="20489" y="12551"/>
                </a:moveTo>
                <a:cubicBezTo>
                  <a:pt x="20489" y="12609"/>
                  <a:pt x="20489" y="12646"/>
                  <a:pt x="20513" y="12700"/>
                </a:cubicBezTo>
                <a:cubicBezTo>
                  <a:pt x="20546" y="12775"/>
                  <a:pt x="20543" y="12825"/>
                  <a:pt x="20563" y="12898"/>
                </a:cubicBezTo>
                <a:cubicBezTo>
                  <a:pt x="20583" y="12969"/>
                  <a:pt x="20588" y="13020"/>
                  <a:pt x="20588" y="13097"/>
                </a:cubicBezTo>
                <a:cubicBezTo>
                  <a:pt x="20588" y="13151"/>
                  <a:pt x="20598" y="13181"/>
                  <a:pt x="20563" y="13221"/>
                </a:cubicBezTo>
                <a:cubicBezTo>
                  <a:pt x="20535" y="13252"/>
                  <a:pt x="20472" y="13304"/>
                  <a:pt x="20464" y="13320"/>
                </a:cubicBezTo>
                <a:cubicBezTo>
                  <a:pt x="20464" y="13348"/>
                  <a:pt x="20462" y="13359"/>
                  <a:pt x="20439" y="13370"/>
                </a:cubicBezTo>
                <a:cubicBezTo>
                  <a:pt x="20483" y="13370"/>
                  <a:pt x="20478" y="13372"/>
                  <a:pt x="20513" y="13345"/>
                </a:cubicBezTo>
              </a:path>
              <a:path w="7566" h="1762">
                <a:moveTo>
                  <a:pt x="21183" y="13022"/>
                </a:moveTo>
                <a:cubicBezTo>
                  <a:pt x="21196" y="13060"/>
                  <a:pt x="21213" y="13047"/>
                  <a:pt x="21258" y="13047"/>
                </a:cubicBezTo>
                <a:cubicBezTo>
                  <a:pt x="21357" y="13047"/>
                  <a:pt x="21456" y="13047"/>
                  <a:pt x="21555" y="13047"/>
                </a:cubicBezTo>
                <a:cubicBezTo>
                  <a:pt x="21503" y="13060"/>
                  <a:pt x="21491" y="13088"/>
                  <a:pt x="21431" y="13097"/>
                </a:cubicBezTo>
              </a:path>
              <a:path w="7566" h="1762">
                <a:moveTo>
                  <a:pt x="21183" y="13246"/>
                </a:moveTo>
                <a:cubicBezTo>
                  <a:pt x="21183" y="13238"/>
                  <a:pt x="21183" y="13229"/>
                  <a:pt x="21183" y="13221"/>
                </a:cubicBezTo>
                <a:cubicBezTo>
                  <a:pt x="21324" y="13221"/>
                  <a:pt x="21481" y="13205"/>
                  <a:pt x="21605" y="13246"/>
                </a:cubicBezTo>
                <a:cubicBezTo>
                  <a:pt x="21630" y="13246"/>
                  <a:pt x="21638" y="13246"/>
                  <a:pt x="21630" y="13221"/>
                </a:cubicBezTo>
              </a:path>
              <a:path w="7566" h="1762">
                <a:moveTo>
                  <a:pt x="22399" y="12923"/>
                </a:moveTo>
                <a:cubicBezTo>
                  <a:pt x="22361" y="12847"/>
                  <a:pt x="22349" y="13038"/>
                  <a:pt x="22349" y="13047"/>
                </a:cubicBezTo>
                <a:cubicBezTo>
                  <a:pt x="22345" y="13146"/>
                  <a:pt x="22353" y="13234"/>
                  <a:pt x="22324" y="13320"/>
                </a:cubicBezTo>
                <a:cubicBezTo>
                  <a:pt x="22309" y="13364"/>
                  <a:pt x="22345" y="13355"/>
                  <a:pt x="22299" y="13370"/>
                </a:cubicBezTo>
              </a:path>
              <a:path w="7566" h="1762">
                <a:moveTo>
                  <a:pt x="22225" y="12973"/>
                </a:moveTo>
                <a:cubicBezTo>
                  <a:pt x="22263" y="12944"/>
                  <a:pt x="22276" y="12948"/>
                  <a:pt x="22324" y="12948"/>
                </a:cubicBezTo>
                <a:cubicBezTo>
                  <a:pt x="22407" y="12948"/>
                  <a:pt x="22422" y="13018"/>
                  <a:pt x="22498" y="13047"/>
                </a:cubicBezTo>
                <a:cubicBezTo>
                  <a:pt x="22525" y="13057"/>
                  <a:pt x="22570" y="13069"/>
                  <a:pt x="22597" y="13072"/>
                </a:cubicBezTo>
                <a:cubicBezTo>
                  <a:pt x="22622" y="13072"/>
                  <a:pt x="22630" y="13072"/>
                  <a:pt x="22622" y="13097"/>
                </a:cubicBezTo>
              </a:path>
              <a:path w="7566" h="1762">
                <a:moveTo>
                  <a:pt x="22101" y="13494"/>
                </a:moveTo>
                <a:cubicBezTo>
                  <a:pt x="22190" y="13494"/>
                  <a:pt x="22266" y="13483"/>
                  <a:pt x="22349" y="13469"/>
                </a:cubicBezTo>
                <a:cubicBezTo>
                  <a:pt x="22426" y="13456"/>
                  <a:pt x="22502" y="13467"/>
                  <a:pt x="22547" y="13444"/>
                </a:cubicBezTo>
                <a:cubicBezTo>
                  <a:pt x="22562" y="13437"/>
                  <a:pt x="22605" y="13444"/>
                  <a:pt x="22622" y="13444"/>
                </a:cubicBezTo>
              </a:path>
              <a:path w="7566" h="1762">
                <a:moveTo>
                  <a:pt x="22696" y="13395"/>
                </a:moveTo>
                <a:cubicBezTo>
                  <a:pt x="22696" y="13420"/>
                  <a:pt x="22696" y="13444"/>
                  <a:pt x="22696" y="13469"/>
                </a:cubicBezTo>
                <a:cubicBezTo>
                  <a:pt x="22735" y="13459"/>
                  <a:pt x="22785" y="13421"/>
                  <a:pt x="22820" y="13395"/>
                </a:cubicBezTo>
                <a:cubicBezTo>
                  <a:pt x="22851" y="13372"/>
                  <a:pt x="22881" y="13349"/>
                  <a:pt x="22920" y="13345"/>
                </a:cubicBezTo>
                <a:cubicBezTo>
                  <a:pt x="22928" y="13345"/>
                  <a:pt x="22936" y="13345"/>
                  <a:pt x="22944" y="13345"/>
                </a:cubicBezTo>
                <a:cubicBezTo>
                  <a:pt x="22944" y="13401"/>
                  <a:pt x="22935" y="13423"/>
                  <a:pt x="22920" y="13469"/>
                </a:cubicBezTo>
                <a:cubicBezTo>
                  <a:pt x="22920" y="13494"/>
                  <a:pt x="22920" y="13502"/>
                  <a:pt x="22920" y="13519"/>
                </a:cubicBezTo>
              </a:path>
              <a:path w="7566" h="1762">
                <a:moveTo>
                  <a:pt x="23118" y="13345"/>
                </a:moveTo>
                <a:cubicBezTo>
                  <a:pt x="23129" y="13390"/>
                  <a:pt x="23143" y="13415"/>
                  <a:pt x="23143" y="13469"/>
                </a:cubicBezTo>
                <a:cubicBezTo>
                  <a:pt x="23143" y="13571"/>
                  <a:pt x="23158" y="13674"/>
                  <a:pt x="23118" y="13767"/>
                </a:cubicBezTo>
                <a:cubicBezTo>
                  <a:pt x="23097" y="13816"/>
                  <a:pt x="23077" y="13878"/>
                  <a:pt x="23044" y="13915"/>
                </a:cubicBezTo>
                <a:cubicBezTo>
                  <a:pt x="23017" y="13945"/>
                  <a:pt x="22997" y="13987"/>
                  <a:pt x="22969" y="13990"/>
                </a:cubicBezTo>
                <a:cubicBezTo>
                  <a:pt x="22907" y="13998"/>
                  <a:pt x="22920" y="13931"/>
                  <a:pt x="22920" y="13891"/>
                </a:cubicBezTo>
                <a:cubicBezTo>
                  <a:pt x="22920" y="13783"/>
                  <a:pt x="22920" y="13676"/>
                  <a:pt x="22920" y="13568"/>
                </a:cubicBezTo>
              </a:path>
              <a:path w="7566" h="1762">
                <a:moveTo>
                  <a:pt x="23192" y="13072"/>
                </a:moveTo>
                <a:cubicBezTo>
                  <a:pt x="23202" y="13111"/>
                  <a:pt x="23217" y="13127"/>
                  <a:pt x="23217" y="13171"/>
                </a:cubicBezTo>
                <a:cubicBezTo>
                  <a:pt x="23217" y="13196"/>
                  <a:pt x="23217" y="13204"/>
                  <a:pt x="23217" y="13221"/>
                </a:cubicBezTo>
              </a:path>
              <a:path w="7566" h="1762">
                <a:moveTo>
                  <a:pt x="23391" y="13444"/>
                </a:moveTo>
                <a:cubicBezTo>
                  <a:pt x="23391" y="13477"/>
                  <a:pt x="23391" y="13477"/>
                  <a:pt x="23391" y="13419"/>
                </a:cubicBezTo>
                <a:cubicBezTo>
                  <a:pt x="23362" y="13457"/>
                  <a:pt x="23366" y="13470"/>
                  <a:pt x="23366" y="13519"/>
                </a:cubicBezTo>
                <a:cubicBezTo>
                  <a:pt x="23366" y="13581"/>
                  <a:pt x="23419" y="13568"/>
                  <a:pt x="23465" y="13568"/>
                </a:cubicBezTo>
                <a:cubicBezTo>
                  <a:pt x="23541" y="13568"/>
                  <a:pt x="23546" y="13541"/>
                  <a:pt x="23614" y="13519"/>
                </a:cubicBezTo>
                <a:cubicBezTo>
                  <a:pt x="23639" y="13511"/>
                  <a:pt x="23682" y="13481"/>
                  <a:pt x="23688" y="13469"/>
                </a:cubicBezTo>
                <a:cubicBezTo>
                  <a:pt x="23709" y="13426"/>
                  <a:pt x="23688" y="13489"/>
                  <a:pt x="23688" y="13519"/>
                </a:cubicBezTo>
                <a:cubicBezTo>
                  <a:pt x="23688" y="13560"/>
                  <a:pt x="23671" y="13613"/>
                  <a:pt x="23713" y="13618"/>
                </a:cubicBezTo>
                <a:cubicBezTo>
                  <a:pt x="23721" y="13618"/>
                  <a:pt x="23730" y="13618"/>
                  <a:pt x="23738" y="13618"/>
                </a:cubicBezTo>
              </a:path>
              <a:path w="7566" h="1762">
                <a:moveTo>
                  <a:pt x="23912" y="13469"/>
                </a:moveTo>
                <a:cubicBezTo>
                  <a:pt x="23912" y="13532"/>
                  <a:pt x="23900" y="13594"/>
                  <a:pt x="23937" y="13643"/>
                </a:cubicBezTo>
                <a:cubicBezTo>
                  <a:pt x="23951" y="13584"/>
                  <a:pt x="23982" y="13551"/>
                  <a:pt x="24036" y="13519"/>
                </a:cubicBezTo>
                <a:cubicBezTo>
                  <a:pt x="24075" y="13496"/>
                  <a:pt x="24118" y="13449"/>
                  <a:pt x="24160" y="13444"/>
                </a:cubicBezTo>
                <a:cubicBezTo>
                  <a:pt x="24185" y="13444"/>
                  <a:pt x="24193" y="13444"/>
                  <a:pt x="24185" y="13419"/>
                </a:cubicBezTo>
                <a:cubicBezTo>
                  <a:pt x="24185" y="13452"/>
                  <a:pt x="24185" y="13486"/>
                  <a:pt x="24185" y="13519"/>
                </a:cubicBezTo>
              </a:path>
              <a:path w="7566" h="1762">
                <a:moveTo>
                  <a:pt x="24284" y="13543"/>
                </a:moveTo>
                <a:cubicBezTo>
                  <a:pt x="24284" y="13515"/>
                  <a:pt x="24287" y="13505"/>
                  <a:pt x="24309" y="13494"/>
                </a:cubicBezTo>
                <a:cubicBezTo>
                  <a:pt x="24309" y="13551"/>
                  <a:pt x="24300" y="13593"/>
                  <a:pt x="24333" y="13618"/>
                </a:cubicBezTo>
                <a:cubicBezTo>
                  <a:pt x="24355" y="13635"/>
                  <a:pt x="24400" y="13662"/>
                  <a:pt x="24433" y="13643"/>
                </a:cubicBezTo>
                <a:cubicBezTo>
                  <a:pt x="24472" y="13621"/>
                  <a:pt x="24518" y="13598"/>
                  <a:pt x="24557" y="13568"/>
                </a:cubicBezTo>
                <a:cubicBezTo>
                  <a:pt x="24581" y="13543"/>
                  <a:pt x="24589" y="13535"/>
                  <a:pt x="24606" y="13519"/>
                </a:cubicBezTo>
                <a:cubicBezTo>
                  <a:pt x="24650" y="13575"/>
                  <a:pt x="24614" y="13587"/>
                  <a:pt x="24606" y="13643"/>
                </a:cubicBezTo>
                <a:cubicBezTo>
                  <a:pt x="24592" y="13739"/>
                  <a:pt x="24551" y="13823"/>
                  <a:pt x="24532" y="13915"/>
                </a:cubicBezTo>
                <a:cubicBezTo>
                  <a:pt x="24523" y="13957"/>
                  <a:pt x="24516" y="13997"/>
                  <a:pt x="24507" y="14039"/>
                </a:cubicBezTo>
                <a:cubicBezTo>
                  <a:pt x="24476" y="14029"/>
                  <a:pt x="24465" y="13998"/>
                  <a:pt x="24433" y="13965"/>
                </a:cubicBezTo>
                <a:cubicBezTo>
                  <a:pt x="24385" y="13916"/>
                  <a:pt x="24378" y="13915"/>
                  <a:pt x="24309" y="13915"/>
                </a:cubicBezTo>
              </a:path>
              <a:path w="7566" h="1762">
                <a:moveTo>
                  <a:pt x="22200" y="13866"/>
                </a:moveTo>
                <a:cubicBezTo>
                  <a:pt x="22245" y="13881"/>
                  <a:pt x="22275" y="13879"/>
                  <a:pt x="22324" y="13891"/>
                </a:cubicBezTo>
                <a:cubicBezTo>
                  <a:pt x="22381" y="13906"/>
                  <a:pt x="22459" y="13924"/>
                  <a:pt x="22523" y="13940"/>
                </a:cubicBezTo>
                <a:cubicBezTo>
                  <a:pt x="22631" y="13967"/>
                  <a:pt x="22733" y="13986"/>
                  <a:pt x="22845" y="13990"/>
                </a:cubicBezTo>
                <a:cubicBezTo>
                  <a:pt x="22957" y="13994"/>
                  <a:pt x="23079" y="14002"/>
                  <a:pt x="23192" y="14015"/>
                </a:cubicBezTo>
                <a:cubicBezTo>
                  <a:pt x="23372" y="14036"/>
                  <a:pt x="23557" y="14059"/>
                  <a:pt x="23738" y="14064"/>
                </a:cubicBezTo>
                <a:cubicBezTo>
                  <a:pt x="23842" y="14067"/>
                  <a:pt x="23935" y="14084"/>
                  <a:pt x="24036" y="14089"/>
                </a:cubicBezTo>
                <a:cubicBezTo>
                  <a:pt x="24099" y="14092"/>
                  <a:pt x="24151" y="14092"/>
                  <a:pt x="24209" y="14114"/>
                </a:cubicBezTo>
                <a:cubicBezTo>
                  <a:pt x="24232" y="14123"/>
                  <a:pt x="24291" y="14150"/>
                  <a:pt x="24309" y="14163"/>
                </a:cubicBezTo>
                <a:cubicBezTo>
                  <a:pt x="24333" y="14179"/>
                  <a:pt x="24333" y="14173"/>
                  <a:pt x="24358" y="14188"/>
                </a:cubicBezTo>
                <a:cubicBezTo>
                  <a:pt x="24363" y="14176"/>
                  <a:pt x="24420" y="14150"/>
                  <a:pt x="24358" y="14114"/>
                </a:cubicBezTo>
                <a:cubicBezTo>
                  <a:pt x="24345" y="14107"/>
                  <a:pt x="24266" y="14114"/>
                  <a:pt x="24259" y="1411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Ink 54"/>
          <p:cNvSpPr/>
          <p:nvPr/>
        </p:nvSpPr>
        <p:spPr>
          <a:xfrm>
            <a:off x="1285920" y="4973760"/>
            <a:ext cx="866880" cy="295200"/>
          </a:xfrm>
          <a:custGeom>
            <a:avLst/>
            <a:gdLst/>
            <a:ahLst/>
            <a:rect l="l" t="t" r="r" b="b"/>
            <a:pathLst>
              <a:path w="2407" h="820">
                <a:moveTo>
                  <a:pt x="3572" y="14064"/>
                </a:moveTo>
                <a:cubicBezTo>
                  <a:pt x="3572" y="14205"/>
                  <a:pt x="3572" y="14345"/>
                  <a:pt x="3572" y="14486"/>
                </a:cubicBezTo>
              </a:path>
              <a:path w="2407" h="820">
                <a:moveTo>
                  <a:pt x="3671" y="14015"/>
                </a:moveTo>
                <a:cubicBezTo>
                  <a:pt x="3671" y="13971"/>
                  <a:pt x="3677" y="13965"/>
                  <a:pt x="3696" y="13940"/>
                </a:cubicBezTo>
                <a:cubicBezTo>
                  <a:pt x="3723" y="13904"/>
                  <a:pt x="3756" y="13909"/>
                  <a:pt x="3770" y="13891"/>
                </a:cubicBezTo>
                <a:cubicBezTo>
                  <a:pt x="3793" y="13862"/>
                  <a:pt x="3792" y="13866"/>
                  <a:pt x="3845" y="13866"/>
                </a:cubicBezTo>
                <a:cubicBezTo>
                  <a:pt x="3891" y="13866"/>
                  <a:pt x="3852" y="13880"/>
                  <a:pt x="3919" y="13891"/>
                </a:cubicBezTo>
                <a:cubicBezTo>
                  <a:pt x="3919" y="13936"/>
                  <a:pt x="3940" y="13950"/>
                  <a:pt x="3944" y="13990"/>
                </a:cubicBezTo>
                <a:cubicBezTo>
                  <a:pt x="3948" y="14022"/>
                  <a:pt x="3914" y="14066"/>
                  <a:pt x="3894" y="14089"/>
                </a:cubicBezTo>
                <a:cubicBezTo>
                  <a:pt x="3849" y="14141"/>
                  <a:pt x="3803" y="14187"/>
                  <a:pt x="3770" y="14238"/>
                </a:cubicBezTo>
                <a:cubicBezTo>
                  <a:pt x="3739" y="14286"/>
                  <a:pt x="3736" y="14242"/>
                  <a:pt x="3721" y="14288"/>
                </a:cubicBezTo>
                <a:cubicBezTo>
                  <a:pt x="3772" y="14288"/>
                  <a:pt x="3804" y="14300"/>
                  <a:pt x="3845" y="14312"/>
                </a:cubicBezTo>
                <a:cubicBezTo>
                  <a:pt x="3883" y="14323"/>
                  <a:pt x="3900" y="14337"/>
                  <a:pt x="3944" y="14337"/>
                </a:cubicBezTo>
                <a:cubicBezTo>
                  <a:pt x="3984" y="14337"/>
                  <a:pt x="3998" y="14362"/>
                  <a:pt x="4043" y="14362"/>
                </a:cubicBezTo>
                <a:cubicBezTo>
                  <a:pt x="4051" y="14362"/>
                  <a:pt x="4060" y="14362"/>
                  <a:pt x="4068" y="14362"/>
                </a:cubicBezTo>
              </a:path>
              <a:path w="2407" h="820">
                <a:moveTo>
                  <a:pt x="4316" y="14213"/>
                </a:moveTo>
                <a:cubicBezTo>
                  <a:pt x="4348" y="14181"/>
                  <a:pt x="4385" y="14158"/>
                  <a:pt x="4390" y="14114"/>
                </a:cubicBezTo>
                <a:cubicBezTo>
                  <a:pt x="4390" y="14106"/>
                  <a:pt x="4390" y="14097"/>
                  <a:pt x="4390" y="14089"/>
                </a:cubicBezTo>
                <a:cubicBezTo>
                  <a:pt x="4354" y="14089"/>
                  <a:pt x="4263" y="14074"/>
                  <a:pt x="4242" y="14114"/>
                </a:cubicBezTo>
                <a:cubicBezTo>
                  <a:pt x="4216" y="14162"/>
                  <a:pt x="4192" y="14228"/>
                  <a:pt x="4192" y="14288"/>
                </a:cubicBezTo>
                <a:cubicBezTo>
                  <a:pt x="4192" y="14334"/>
                  <a:pt x="4191" y="14356"/>
                  <a:pt x="4242" y="14362"/>
                </a:cubicBezTo>
                <a:cubicBezTo>
                  <a:pt x="4306" y="14369"/>
                  <a:pt x="4392" y="14373"/>
                  <a:pt x="4440" y="14337"/>
                </a:cubicBezTo>
              </a:path>
              <a:path w="2407" h="820">
                <a:moveTo>
                  <a:pt x="4514" y="14337"/>
                </a:moveTo>
                <a:cubicBezTo>
                  <a:pt x="4514" y="14394"/>
                  <a:pt x="4530" y="14433"/>
                  <a:pt x="4539" y="14486"/>
                </a:cubicBezTo>
                <a:cubicBezTo>
                  <a:pt x="4547" y="14533"/>
                  <a:pt x="4539" y="14587"/>
                  <a:pt x="4539" y="14635"/>
                </a:cubicBezTo>
                <a:cubicBezTo>
                  <a:pt x="4582" y="14621"/>
                  <a:pt x="4564" y="14566"/>
                  <a:pt x="4564" y="14511"/>
                </a:cubicBezTo>
                <a:cubicBezTo>
                  <a:pt x="4564" y="14401"/>
                  <a:pt x="4573" y="14316"/>
                  <a:pt x="4614" y="14213"/>
                </a:cubicBezTo>
                <a:cubicBezTo>
                  <a:pt x="4646" y="14133"/>
                  <a:pt x="4697" y="14097"/>
                  <a:pt x="4738" y="14039"/>
                </a:cubicBezTo>
                <a:cubicBezTo>
                  <a:pt x="4738" y="14015"/>
                  <a:pt x="4738" y="14007"/>
                  <a:pt x="4762" y="14015"/>
                </a:cubicBezTo>
                <a:cubicBezTo>
                  <a:pt x="4785" y="14045"/>
                  <a:pt x="4809" y="14076"/>
                  <a:pt x="4812" y="14114"/>
                </a:cubicBezTo>
                <a:cubicBezTo>
                  <a:pt x="4818" y="14197"/>
                  <a:pt x="4822" y="14287"/>
                  <a:pt x="4787" y="14362"/>
                </a:cubicBezTo>
                <a:cubicBezTo>
                  <a:pt x="4765" y="14409"/>
                  <a:pt x="4735" y="14445"/>
                  <a:pt x="4688" y="14461"/>
                </a:cubicBezTo>
                <a:cubicBezTo>
                  <a:pt x="4655" y="14461"/>
                  <a:pt x="4639" y="14461"/>
                  <a:pt x="4614" y="14461"/>
                </a:cubicBezTo>
                <a:cubicBezTo>
                  <a:pt x="4614" y="14406"/>
                  <a:pt x="4608" y="14379"/>
                  <a:pt x="4638" y="14337"/>
                </a:cubicBezTo>
              </a:path>
              <a:path w="2407" h="820">
                <a:moveTo>
                  <a:pt x="4961" y="14288"/>
                </a:moveTo>
                <a:cubicBezTo>
                  <a:pt x="5018" y="14288"/>
                  <a:pt x="5033" y="14254"/>
                  <a:pt x="5060" y="14238"/>
                </a:cubicBezTo>
                <a:cubicBezTo>
                  <a:pt x="5103" y="14213"/>
                  <a:pt x="5110" y="14222"/>
                  <a:pt x="5110" y="14163"/>
                </a:cubicBezTo>
                <a:cubicBezTo>
                  <a:pt x="5059" y="14163"/>
                  <a:pt x="5026" y="14156"/>
                  <a:pt x="4986" y="14188"/>
                </a:cubicBezTo>
                <a:cubicBezTo>
                  <a:pt x="4946" y="14220"/>
                  <a:pt x="4961" y="14266"/>
                  <a:pt x="4961" y="14312"/>
                </a:cubicBezTo>
                <a:cubicBezTo>
                  <a:pt x="4961" y="14366"/>
                  <a:pt x="5004" y="14366"/>
                  <a:pt x="5035" y="14387"/>
                </a:cubicBezTo>
                <a:cubicBezTo>
                  <a:pt x="5091" y="14425"/>
                  <a:pt x="5128" y="14417"/>
                  <a:pt x="5184" y="14387"/>
                </a:cubicBezTo>
                <a:cubicBezTo>
                  <a:pt x="5228" y="14363"/>
                  <a:pt x="5309" y="14346"/>
                  <a:pt x="5358" y="14337"/>
                </a:cubicBezTo>
                <a:cubicBezTo>
                  <a:pt x="5374" y="14337"/>
                  <a:pt x="5391" y="14337"/>
                  <a:pt x="5407" y="14337"/>
                </a:cubicBezTo>
              </a:path>
              <a:path w="2407" h="820">
                <a:moveTo>
                  <a:pt x="5482" y="14238"/>
                </a:moveTo>
                <a:cubicBezTo>
                  <a:pt x="5444" y="14225"/>
                  <a:pt x="5461" y="14213"/>
                  <a:pt x="5407" y="14213"/>
                </a:cubicBezTo>
                <a:cubicBezTo>
                  <a:pt x="5317" y="14213"/>
                  <a:pt x="5333" y="14221"/>
                  <a:pt x="5283" y="14288"/>
                </a:cubicBezTo>
                <a:cubicBezTo>
                  <a:pt x="5242" y="14343"/>
                  <a:pt x="5269" y="14333"/>
                  <a:pt x="5283" y="14362"/>
                </a:cubicBezTo>
                <a:cubicBezTo>
                  <a:pt x="5283" y="14387"/>
                  <a:pt x="5283" y="14395"/>
                  <a:pt x="5308" y="14387"/>
                </a:cubicBezTo>
                <a:cubicBezTo>
                  <a:pt x="5348" y="14355"/>
                  <a:pt x="5414" y="14309"/>
                  <a:pt x="5457" y="14288"/>
                </a:cubicBezTo>
                <a:cubicBezTo>
                  <a:pt x="5489" y="14272"/>
                  <a:pt x="5478" y="14277"/>
                  <a:pt x="5507" y="14238"/>
                </a:cubicBezTo>
                <a:cubicBezTo>
                  <a:pt x="5507" y="14277"/>
                  <a:pt x="5489" y="14359"/>
                  <a:pt x="5531" y="14362"/>
                </a:cubicBezTo>
                <a:cubicBezTo>
                  <a:pt x="5576" y="14362"/>
                  <a:pt x="5589" y="14365"/>
                  <a:pt x="5606" y="14337"/>
                </a:cubicBezTo>
              </a:path>
              <a:path w="2407" h="820">
                <a:moveTo>
                  <a:pt x="5705" y="13816"/>
                </a:moveTo>
                <a:cubicBezTo>
                  <a:pt x="5705" y="13913"/>
                  <a:pt x="5716" y="13998"/>
                  <a:pt x="5730" y="14089"/>
                </a:cubicBezTo>
                <a:cubicBezTo>
                  <a:pt x="5741" y="14156"/>
                  <a:pt x="5744" y="14224"/>
                  <a:pt x="5755" y="14288"/>
                </a:cubicBezTo>
                <a:cubicBezTo>
                  <a:pt x="5761" y="14326"/>
                  <a:pt x="5755" y="14373"/>
                  <a:pt x="5755" y="14412"/>
                </a:cubicBezTo>
              </a:path>
              <a:path w="2407" h="820">
                <a:moveTo>
                  <a:pt x="5655" y="14163"/>
                </a:moveTo>
                <a:cubicBezTo>
                  <a:pt x="5694" y="14125"/>
                  <a:pt x="5725" y="14103"/>
                  <a:pt x="5779" y="14089"/>
                </a:cubicBezTo>
                <a:cubicBezTo>
                  <a:pt x="5835" y="14075"/>
                  <a:pt x="5896" y="14078"/>
                  <a:pt x="5953" y="14064"/>
                </a:cubicBezTo>
                <a:cubicBezTo>
                  <a:pt x="5978" y="14064"/>
                  <a:pt x="5986" y="14064"/>
                  <a:pt x="5978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Ink 55"/>
          <p:cNvSpPr/>
          <p:nvPr/>
        </p:nvSpPr>
        <p:spPr>
          <a:xfrm>
            <a:off x="2517840" y="5000760"/>
            <a:ext cx="411120" cy="2142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7094" y="13915"/>
                </a:moveTo>
                <a:cubicBezTo>
                  <a:pt x="7094" y="13970"/>
                  <a:pt x="7072" y="14009"/>
                  <a:pt x="7069" y="14064"/>
                </a:cubicBezTo>
                <a:cubicBezTo>
                  <a:pt x="7063" y="14163"/>
                  <a:pt x="7066" y="14244"/>
                  <a:pt x="7045" y="14337"/>
                </a:cubicBezTo>
                <a:cubicBezTo>
                  <a:pt x="7035" y="14381"/>
                  <a:pt x="7032" y="14422"/>
                  <a:pt x="7020" y="14461"/>
                </a:cubicBezTo>
                <a:cubicBezTo>
                  <a:pt x="7020" y="14469"/>
                  <a:pt x="7020" y="14478"/>
                  <a:pt x="7020" y="14486"/>
                </a:cubicBezTo>
              </a:path>
              <a:path w="1142" h="596">
                <a:moveTo>
                  <a:pt x="6995" y="14263"/>
                </a:moveTo>
                <a:cubicBezTo>
                  <a:pt x="7026" y="14222"/>
                  <a:pt x="7031" y="14214"/>
                  <a:pt x="7069" y="14188"/>
                </a:cubicBezTo>
                <a:cubicBezTo>
                  <a:pt x="7111" y="14160"/>
                  <a:pt x="7125" y="14114"/>
                  <a:pt x="7169" y="14089"/>
                </a:cubicBezTo>
                <a:cubicBezTo>
                  <a:pt x="7177" y="14089"/>
                  <a:pt x="7185" y="14089"/>
                  <a:pt x="7193" y="14089"/>
                </a:cubicBezTo>
              </a:path>
              <a:path w="1142" h="596">
                <a:moveTo>
                  <a:pt x="7342" y="13891"/>
                </a:moveTo>
                <a:cubicBezTo>
                  <a:pt x="7342" y="14013"/>
                  <a:pt x="7345" y="14124"/>
                  <a:pt x="7317" y="14238"/>
                </a:cubicBezTo>
                <a:cubicBezTo>
                  <a:pt x="7317" y="14263"/>
                  <a:pt x="7317" y="14271"/>
                  <a:pt x="7317" y="14288"/>
                </a:cubicBezTo>
                <a:cubicBezTo>
                  <a:pt x="7342" y="14300"/>
                  <a:pt x="7395" y="14308"/>
                  <a:pt x="7417" y="14263"/>
                </a:cubicBezTo>
                <a:cubicBezTo>
                  <a:pt x="7417" y="14235"/>
                  <a:pt x="7419" y="14224"/>
                  <a:pt x="7441" y="14213"/>
                </a:cubicBezTo>
                <a:cubicBezTo>
                  <a:pt x="7474" y="14221"/>
                  <a:pt x="7508" y="14251"/>
                  <a:pt x="7516" y="14288"/>
                </a:cubicBezTo>
                <a:cubicBezTo>
                  <a:pt x="7528" y="14343"/>
                  <a:pt x="7524" y="14368"/>
                  <a:pt x="7565" y="14387"/>
                </a:cubicBezTo>
                <a:cubicBezTo>
                  <a:pt x="7598" y="14403"/>
                  <a:pt x="7648" y="14427"/>
                  <a:pt x="7689" y="14412"/>
                </a:cubicBezTo>
                <a:cubicBezTo>
                  <a:pt x="7744" y="14392"/>
                  <a:pt x="7773" y="14351"/>
                  <a:pt x="7813" y="14312"/>
                </a:cubicBezTo>
                <a:cubicBezTo>
                  <a:pt x="7836" y="14289"/>
                  <a:pt x="7857" y="14222"/>
                  <a:pt x="7838" y="14188"/>
                </a:cubicBezTo>
                <a:cubicBezTo>
                  <a:pt x="7817" y="14150"/>
                  <a:pt x="7775" y="14163"/>
                  <a:pt x="7739" y="14163"/>
                </a:cubicBezTo>
                <a:cubicBezTo>
                  <a:pt x="7656" y="14163"/>
                  <a:pt x="7667" y="14197"/>
                  <a:pt x="7640" y="14263"/>
                </a:cubicBezTo>
                <a:cubicBezTo>
                  <a:pt x="7610" y="14338"/>
                  <a:pt x="7610" y="14331"/>
                  <a:pt x="7665" y="14387"/>
                </a:cubicBezTo>
                <a:cubicBezTo>
                  <a:pt x="7702" y="14424"/>
                  <a:pt x="7812" y="14424"/>
                  <a:pt x="7863" y="14412"/>
                </a:cubicBezTo>
                <a:cubicBezTo>
                  <a:pt x="7953" y="14390"/>
                  <a:pt x="8044" y="14368"/>
                  <a:pt x="8136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Ink 56"/>
          <p:cNvSpPr/>
          <p:nvPr/>
        </p:nvSpPr>
        <p:spPr>
          <a:xfrm>
            <a:off x="3224160" y="5010120"/>
            <a:ext cx="874800" cy="223920"/>
          </a:xfrm>
          <a:custGeom>
            <a:avLst/>
            <a:gdLst/>
            <a:ahLst/>
            <a:rect l="l" t="t" r="r" b="b"/>
            <a:pathLst>
              <a:path w="2432" h="622">
                <a:moveTo>
                  <a:pt x="8979" y="14238"/>
                </a:moveTo>
                <a:cubicBezTo>
                  <a:pt x="8979" y="14293"/>
                  <a:pt x="8964" y="14338"/>
                  <a:pt x="8954" y="14362"/>
                </a:cubicBezTo>
                <a:cubicBezTo>
                  <a:pt x="8954" y="14370"/>
                  <a:pt x="8954" y="14379"/>
                  <a:pt x="8954" y="14387"/>
                </a:cubicBezTo>
                <a:cubicBezTo>
                  <a:pt x="8983" y="14348"/>
                  <a:pt x="9004" y="14310"/>
                  <a:pt x="9029" y="14263"/>
                </a:cubicBezTo>
                <a:cubicBezTo>
                  <a:pt x="9062" y="14202"/>
                  <a:pt x="9104" y="14163"/>
                  <a:pt x="9153" y="14114"/>
                </a:cubicBezTo>
                <a:cubicBezTo>
                  <a:pt x="9191" y="14076"/>
                  <a:pt x="9199" y="14064"/>
                  <a:pt x="9252" y="14064"/>
                </a:cubicBezTo>
                <a:cubicBezTo>
                  <a:pt x="9287" y="14064"/>
                  <a:pt x="9305" y="14069"/>
                  <a:pt x="9327" y="14089"/>
                </a:cubicBezTo>
              </a:path>
              <a:path w="2432" h="622">
                <a:moveTo>
                  <a:pt x="9475" y="14238"/>
                </a:moveTo>
                <a:cubicBezTo>
                  <a:pt x="9422" y="14238"/>
                  <a:pt x="9390" y="14228"/>
                  <a:pt x="9351" y="14263"/>
                </a:cubicBezTo>
                <a:cubicBezTo>
                  <a:pt x="9331" y="14282"/>
                  <a:pt x="9263" y="14330"/>
                  <a:pt x="9277" y="14362"/>
                </a:cubicBezTo>
                <a:cubicBezTo>
                  <a:pt x="9309" y="14434"/>
                  <a:pt x="9321" y="14398"/>
                  <a:pt x="9376" y="14387"/>
                </a:cubicBezTo>
                <a:cubicBezTo>
                  <a:pt x="9440" y="14374"/>
                  <a:pt x="9517" y="14350"/>
                  <a:pt x="9575" y="14312"/>
                </a:cubicBezTo>
                <a:cubicBezTo>
                  <a:pt x="9597" y="14290"/>
                  <a:pt x="9602" y="14282"/>
                  <a:pt x="9624" y="14288"/>
                </a:cubicBezTo>
                <a:cubicBezTo>
                  <a:pt x="9620" y="14301"/>
                  <a:pt x="9610" y="14375"/>
                  <a:pt x="9599" y="14387"/>
                </a:cubicBezTo>
                <a:cubicBezTo>
                  <a:pt x="9583" y="14404"/>
                  <a:pt x="9577" y="14387"/>
                  <a:pt x="9624" y="14387"/>
                </a:cubicBezTo>
              </a:path>
              <a:path w="2432" h="622">
                <a:moveTo>
                  <a:pt x="9773" y="14337"/>
                </a:moveTo>
                <a:cubicBezTo>
                  <a:pt x="9773" y="14362"/>
                  <a:pt x="9773" y="14370"/>
                  <a:pt x="9773" y="14387"/>
                </a:cubicBezTo>
                <a:cubicBezTo>
                  <a:pt x="9817" y="14376"/>
                  <a:pt x="9837" y="14346"/>
                  <a:pt x="9872" y="14312"/>
                </a:cubicBezTo>
                <a:cubicBezTo>
                  <a:pt x="9903" y="14281"/>
                  <a:pt x="9928" y="14243"/>
                  <a:pt x="9971" y="14238"/>
                </a:cubicBezTo>
                <a:cubicBezTo>
                  <a:pt x="9979" y="14238"/>
                  <a:pt x="9988" y="14238"/>
                  <a:pt x="9996" y="14238"/>
                </a:cubicBezTo>
                <a:cubicBezTo>
                  <a:pt x="9996" y="14291"/>
                  <a:pt x="9972" y="14431"/>
                  <a:pt x="10021" y="14461"/>
                </a:cubicBezTo>
                <a:cubicBezTo>
                  <a:pt x="10029" y="14461"/>
                  <a:pt x="10038" y="14461"/>
                  <a:pt x="10046" y="14461"/>
                </a:cubicBezTo>
              </a:path>
              <a:path w="2432" h="622">
                <a:moveTo>
                  <a:pt x="10368" y="14288"/>
                </a:moveTo>
                <a:cubicBezTo>
                  <a:pt x="10329" y="14288"/>
                  <a:pt x="10273" y="14311"/>
                  <a:pt x="10269" y="14312"/>
                </a:cubicBezTo>
                <a:cubicBezTo>
                  <a:pt x="10226" y="14323"/>
                  <a:pt x="10176" y="14316"/>
                  <a:pt x="10170" y="14362"/>
                </a:cubicBezTo>
                <a:cubicBezTo>
                  <a:pt x="10170" y="14395"/>
                  <a:pt x="10170" y="14411"/>
                  <a:pt x="10170" y="14436"/>
                </a:cubicBezTo>
                <a:cubicBezTo>
                  <a:pt x="10229" y="14436"/>
                  <a:pt x="10266" y="14414"/>
                  <a:pt x="10319" y="14387"/>
                </a:cubicBezTo>
                <a:cubicBezTo>
                  <a:pt x="10386" y="14353"/>
                  <a:pt x="10457" y="14279"/>
                  <a:pt x="10492" y="14213"/>
                </a:cubicBezTo>
                <a:cubicBezTo>
                  <a:pt x="10531" y="14139"/>
                  <a:pt x="10561" y="14047"/>
                  <a:pt x="10567" y="13965"/>
                </a:cubicBezTo>
                <a:cubicBezTo>
                  <a:pt x="10567" y="13940"/>
                  <a:pt x="10567" y="13932"/>
                  <a:pt x="10567" y="13915"/>
                </a:cubicBezTo>
                <a:cubicBezTo>
                  <a:pt x="10505" y="13946"/>
                  <a:pt x="10476" y="14021"/>
                  <a:pt x="10443" y="14089"/>
                </a:cubicBezTo>
                <a:cubicBezTo>
                  <a:pt x="10408" y="14162"/>
                  <a:pt x="10418" y="14231"/>
                  <a:pt x="10418" y="14312"/>
                </a:cubicBezTo>
                <a:cubicBezTo>
                  <a:pt x="10418" y="14377"/>
                  <a:pt x="10459" y="14397"/>
                  <a:pt x="10517" y="14412"/>
                </a:cubicBezTo>
                <a:cubicBezTo>
                  <a:pt x="10525" y="14412"/>
                  <a:pt x="10534" y="14412"/>
                  <a:pt x="10542" y="14412"/>
                </a:cubicBezTo>
              </a:path>
              <a:path w="2432" h="622">
                <a:moveTo>
                  <a:pt x="10641" y="14387"/>
                </a:moveTo>
                <a:cubicBezTo>
                  <a:pt x="10641" y="14428"/>
                  <a:pt x="10641" y="14470"/>
                  <a:pt x="10641" y="14511"/>
                </a:cubicBezTo>
                <a:cubicBezTo>
                  <a:pt x="10690" y="14511"/>
                  <a:pt x="10733" y="14505"/>
                  <a:pt x="10765" y="14461"/>
                </a:cubicBezTo>
                <a:cubicBezTo>
                  <a:pt x="10797" y="14417"/>
                  <a:pt x="10815" y="14389"/>
                  <a:pt x="10815" y="14337"/>
                </a:cubicBezTo>
                <a:cubicBezTo>
                  <a:pt x="10815" y="14302"/>
                  <a:pt x="10793" y="14265"/>
                  <a:pt x="10765" y="14263"/>
                </a:cubicBezTo>
                <a:cubicBezTo>
                  <a:pt x="10725" y="14260"/>
                  <a:pt x="10678" y="14265"/>
                  <a:pt x="10666" y="14288"/>
                </a:cubicBezTo>
                <a:cubicBezTo>
                  <a:pt x="10653" y="14314"/>
                  <a:pt x="10665" y="14374"/>
                  <a:pt x="10691" y="14387"/>
                </a:cubicBezTo>
                <a:cubicBezTo>
                  <a:pt x="10699" y="14387"/>
                  <a:pt x="10708" y="14387"/>
                  <a:pt x="10716" y="14387"/>
                </a:cubicBezTo>
              </a:path>
              <a:path w="2432" h="622">
                <a:moveTo>
                  <a:pt x="10964" y="14387"/>
                </a:moveTo>
                <a:cubicBezTo>
                  <a:pt x="10938" y="14404"/>
                  <a:pt x="10925" y="14443"/>
                  <a:pt x="10914" y="14486"/>
                </a:cubicBezTo>
                <a:cubicBezTo>
                  <a:pt x="10974" y="14486"/>
                  <a:pt x="10951" y="14478"/>
                  <a:pt x="10988" y="14436"/>
                </a:cubicBezTo>
                <a:cubicBezTo>
                  <a:pt x="11019" y="14401"/>
                  <a:pt x="11046" y="14372"/>
                  <a:pt x="11088" y="14362"/>
                </a:cubicBezTo>
                <a:cubicBezTo>
                  <a:pt x="11095" y="14392"/>
                  <a:pt x="11118" y="14437"/>
                  <a:pt x="11162" y="14412"/>
                </a:cubicBezTo>
                <a:cubicBezTo>
                  <a:pt x="11207" y="14387"/>
                  <a:pt x="11245" y="14383"/>
                  <a:pt x="11286" y="14362"/>
                </a:cubicBezTo>
                <a:cubicBezTo>
                  <a:pt x="11294" y="14354"/>
                  <a:pt x="11303" y="14345"/>
                  <a:pt x="11311" y="14337"/>
                </a:cubicBezTo>
                <a:cubicBezTo>
                  <a:pt x="11362" y="14354"/>
                  <a:pt x="11337" y="14388"/>
                  <a:pt x="11361" y="14436"/>
                </a:cubicBezTo>
                <a:cubicBezTo>
                  <a:pt x="11381" y="14477"/>
                  <a:pt x="11385" y="14486"/>
                  <a:pt x="11385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Ink 57"/>
          <p:cNvSpPr/>
          <p:nvPr/>
        </p:nvSpPr>
        <p:spPr>
          <a:xfrm>
            <a:off x="4500720" y="5010120"/>
            <a:ext cx="1196640" cy="392040"/>
          </a:xfrm>
          <a:custGeom>
            <a:avLst/>
            <a:gdLst/>
            <a:ahLst/>
            <a:rect l="l" t="t" r="r" b="b"/>
            <a:pathLst>
              <a:path w="3324" h="1093">
                <a:moveTo>
                  <a:pt x="12874" y="14337"/>
                </a:moveTo>
                <a:cubicBezTo>
                  <a:pt x="12850" y="14314"/>
                  <a:pt x="12864" y="14299"/>
                  <a:pt x="12824" y="14288"/>
                </a:cubicBezTo>
                <a:cubicBezTo>
                  <a:pt x="12769" y="14273"/>
                  <a:pt x="12692" y="14290"/>
                  <a:pt x="12650" y="14312"/>
                </a:cubicBezTo>
                <a:cubicBezTo>
                  <a:pt x="12594" y="14341"/>
                  <a:pt x="12579" y="14405"/>
                  <a:pt x="12576" y="14461"/>
                </a:cubicBezTo>
                <a:cubicBezTo>
                  <a:pt x="12572" y="14527"/>
                  <a:pt x="12587" y="14529"/>
                  <a:pt x="12650" y="14536"/>
                </a:cubicBezTo>
                <a:cubicBezTo>
                  <a:pt x="12696" y="14541"/>
                  <a:pt x="12788" y="14510"/>
                  <a:pt x="12824" y="14486"/>
                </a:cubicBezTo>
                <a:cubicBezTo>
                  <a:pt x="12861" y="14461"/>
                  <a:pt x="12888" y="14425"/>
                  <a:pt x="12898" y="14387"/>
                </a:cubicBezTo>
                <a:cubicBezTo>
                  <a:pt x="12898" y="14362"/>
                  <a:pt x="12898" y="14354"/>
                  <a:pt x="12898" y="14337"/>
                </a:cubicBezTo>
                <a:cubicBezTo>
                  <a:pt x="12847" y="14374"/>
                  <a:pt x="12828" y="14381"/>
                  <a:pt x="12824" y="14461"/>
                </a:cubicBezTo>
                <a:cubicBezTo>
                  <a:pt x="12820" y="14538"/>
                  <a:pt x="12783" y="14610"/>
                  <a:pt x="12774" y="14684"/>
                </a:cubicBezTo>
                <a:cubicBezTo>
                  <a:pt x="12764" y="14763"/>
                  <a:pt x="12753" y="14840"/>
                  <a:pt x="12700" y="14908"/>
                </a:cubicBezTo>
                <a:cubicBezTo>
                  <a:pt x="12673" y="14943"/>
                  <a:pt x="12616" y="14994"/>
                  <a:pt x="12576" y="15007"/>
                </a:cubicBezTo>
                <a:cubicBezTo>
                  <a:pt x="12554" y="15014"/>
                  <a:pt x="12525" y="15004"/>
                  <a:pt x="12502" y="15007"/>
                </a:cubicBezTo>
                <a:cubicBezTo>
                  <a:pt x="12502" y="14942"/>
                  <a:pt x="12505" y="14934"/>
                  <a:pt x="12526" y="14883"/>
                </a:cubicBezTo>
                <a:cubicBezTo>
                  <a:pt x="12547" y="14832"/>
                  <a:pt x="12626" y="14762"/>
                  <a:pt x="12675" y="14734"/>
                </a:cubicBezTo>
                <a:cubicBezTo>
                  <a:pt x="12756" y="14688"/>
                  <a:pt x="12820" y="14637"/>
                  <a:pt x="12898" y="14585"/>
                </a:cubicBezTo>
                <a:cubicBezTo>
                  <a:pt x="12935" y="14560"/>
                  <a:pt x="13008" y="14501"/>
                  <a:pt x="13047" y="14486"/>
                </a:cubicBezTo>
                <a:cubicBezTo>
                  <a:pt x="13089" y="14470"/>
                  <a:pt x="13090" y="14478"/>
                  <a:pt x="13122" y="14461"/>
                </a:cubicBezTo>
                <a:cubicBezTo>
                  <a:pt x="13137" y="14453"/>
                  <a:pt x="13196" y="14413"/>
                  <a:pt x="13196" y="14412"/>
                </a:cubicBezTo>
                <a:cubicBezTo>
                  <a:pt x="13203" y="14391"/>
                  <a:pt x="13193" y="14359"/>
                  <a:pt x="13196" y="14337"/>
                </a:cubicBezTo>
                <a:cubicBezTo>
                  <a:pt x="13147" y="14349"/>
                  <a:pt x="13135" y="14340"/>
                  <a:pt x="13097" y="14387"/>
                </a:cubicBezTo>
                <a:cubicBezTo>
                  <a:pt x="13068" y="14423"/>
                  <a:pt x="13061" y="14492"/>
                  <a:pt x="13072" y="14536"/>
                </a:cubicBezTo>
                <a:cubicBezTo>
                  <a:pt x="13081" y="14572"/>
                  <a:pt x="13127" y="14576"/>
                  <a:pt x="13171" y="14585"/>
                </a:cubicBezTo>
                <a:cubicBezTo>
                  <a:pt x="13229" y="14597"/>
                  <a:pt x="13277" y="14544"/>
                  <a:pt x="13320" y="14511"/>
                </a:cubicBezTo>
                <a:cubicBezTo>
                  <a:pt x="13352" y="14486"/>
                  <a:pt x="13342" y="14489"/>
                  <a:pt x="13370" y="14461"/>
                </a:cubicBezTo>
                <a:cubicBezTo>
                  <a:pt x="13363" y="14513"/>
                  <a:pt x="13357" y="14497"/>
                  <a:pt x="13345" y="14536"/>
                </a:cubicBezTo>
                <a:cubicBezTo>
                  <a:pt x="13345" y="14544"/>
                  <a:pt x="13345" y="14552"/>
                  <a:pt x="13345" y="14560"/>
                </a:cubicBezTo>
                <a:cubicBezTo>
                  <a:pt x="13375" y="14568"/>
                  <a:pt x="13372" y="14582"/>
                  <a:pt x="13419" y="14511"/>
                </a:cubicBezTo>
                <a:cubicBezTo>
                  <a:pt x="13448" y="14468"/>
                  <a:pt x="13472" y="14422"/>
                  <a:pt x="13519" y="14387"/>
                </a:cubicBezTo>
                <a:cubicBezTo>
                  <a:pt x="13527" y="14387"/>
                  <a:pt x="13535" y="14387"/>
                  <a:pt x="13543" y="14387"/>
                </a:cubicBezTo>
                <a:cubicBezTo>
                  <a:pt x="13543" y="14444"/>
                  <a:pt x="13564" y="14517"/>
                  <a:pt x="13568" y="14536"/>
                </a:cubicBezTo>
                <a:cubicBezTo>
                  <a:pt x="13580" y="14600"/>
                  <a:pt x="13590" y="14594"/>
                  <a:pt x="13667" y="14585"/>
                </a:cubicBezTo>
                <a:cubicBezTo>
                  <a:pt x="13693" y="14582"/>
                  <a:pt x="13768" y="14574"/>
                  <a:pt x="13791" y="14560"/>
                </a:cubicBezTo>
                <a:cubicBezTo>
                  <a:pt x="13809" y="14549"/>
                  <a:pt x="13884" y="14494"/>
                  <a:pt x="13891" y="14486"/>
                </a:cubicBezTo>
                <a:cubicBezTo>
                  <a:pt x="13905" y="14470"/>
                  <a:pt x="13923" y="14414"/>
                  <a:pt x="13915" y="14387"/>
                </a:cubicBezTo>
                <a:cubicBezTo>
                  <a:pt x="13905" y="14355"/>
                  <a:pt x="13881" y="14346"/>
                  <a:pt x="13841" y="14337"/>
                </a:cubicBezTo>
                <a:cubicBezTo>
                  <a:pt x="13785" y="14324"/>
                  <a:pt x="13765" y="14360"/>
                  <a:pt x="13742" y="14387"/>
                </a:cubicBezTo>
                <a:cubicBezTo>
                  <a:pt x="13721" y="14411"/>
                  <a:pt x="13665" y="14472"/>
                  <a:pt x="13692" y="14511"/>
                </a:cubicBezTo>
                <a:cubicBezTo>
                  <a:pt x="13719" y="14549"/>
                  <a:pt x="13761" y="14543"/>
                  <a:pt x="13816" y="14560"/>
                </a:cubicBezTo>
                <a:cubicBezTo>
                  <a:pt x="13881" y="14581"/>
                  <a:pt x="13921" y="14585"/>
                  <a:pt x="13990" y="14585"/>
                </a:cubicBezTo>
                <a:cubicBezTo>
                  <a:pt x="14036" y="14585"/>
                  <a:pt x="14050" y="14573"/>
                  <a:pt x="14064" y="14610"/>
                </a:cubicBezTo>
                <a:cubicBezTo>
                  <a:pt x="14064" y="14635"/>
                  <a:pt x="14064" y="14643"/>
                  <a:pt x="14064" y="14660"/>
                </a:cubicBezTo>
                <a:cubicBezTo>
                  <a:pt x="14086" y="14616"/>
                  <a:pt x="14114" y="14561"/>
                  <a:pt x="14139" y="14511"/>
                </a:cubicBezTo>
                <a:cubicBezTo>
                  <a:pt x="14164" y="14461"/>
                  <a:pt x="14215" y="14419"/>
                  <a:pt x="14263" y="14387"/>
                </a:cubicBezTo>
                <a:cubicBezTo>
                  <a:pt x="14312" y="14354"/>
                  <a:pt x="14357" y="14362"/>
                  <a:pt x="14412" y="14362"/>
                </a:cubicBezTo>
                <a:cubicBezTo>
                  <a:pt x="14461" y="14362"/>
                  <a:pt x="14499" y="14380"/>
                  <a:pt x="14536" y="14387"/>
                </a:cubicBezTo>
                <a:cubicBezTo>
                  <a:pt x="14544" y="14387"/>
                  <a:pt x="14552" y="14387"/>
                  <a:pt x="14560" y="14387"/>
                </a:cubicBezTo>
              </a:path>
              <a:path w="3324" h="1093">
                <a:moveTo>
                  <a:pt x="14610" y="14337"/>
                </a:moveTo>
                <a:cubicBezTo>
                  <a:pt x="14559" y="14337"/>
                  <a:pt x="14526" y="14330"/>
                  <a:pt x="14486" y="14362"/>
                </a:cubicBezTo>
                <a:cubicBezTo>
                  <a:pt x="14453" y="14388"/>
                  <a:pt x="14416" y="14421"/>
                  <a:pt x="14412" y="14461"/>
                </a:cubicBezTo>
                <a:cubicBezTo>
                  <a:pt x="14409" y="14491"/>
                  <a:pt x="14476" y="14520"/>
                  <a:pt x="14511" y="14511"/>
                </a:cubicBezTo>
                <a:cubicBezTo>
                  <a:pt x="14559" y="14498"/>
                  <a:pt x="14590" y="14466"/>
                  <a:pt x="14635" y="14461"/>
                </a:cubicBezTo>
                <a:cubicBezTo>
                  <a:pt x="14643" y="14461"/>
                  <a:pt x="14652" y="14461"/>
                  <a:pt x="14660" y="14461"/>
                </a:cubicBezTo>
                <a:cubicBezTo>
                  <a:pt x="14650" y="14500"/>
                  <a:pt x="14635" y="14516"/>
                  <a:pt x="14635" y="14560"/>
                </a:cubicBezTo>
                <a:cubicBezTo>
                  <a:pt x="14635" y="14585"/>
                  <a:pt x="14635" y="14610"/>
                  <a:pt x="14635" y="14635"/>
                </a:cubicBezTo>
                <a:cubicBezTo>
                  <a:pt x="14676" y="14594"/>
                  <a:pt x="14707" y="14562"/>
                  <a:pt x="14734" y="14511"/>
                </a:cubicBezTo>
                <a:cubicBezTo>
                  <a:pt x="14742" y="14494"/>
                  <a:pt x="14751" y="14478"/>
                  <a:pt x="14759" y="14461"/>
                </a:cubicBezTo>
              </a:path>
              <a:path w="3324" h="1093">
                <a:moveTo>
                  <a:pt x="14908" y="13915"/>
                </a:moveTo>
                <a:cubicBezTo>
                  <a:pt x="14853" y="13933"/>
                  <a:pt x="14906" y="13961"/>
                  <a:pt x="14883" y="14015"/>
                </a:cubicBezTo>
                <a:cubicBezTo>
                  <a:pt x="14854" y="14084"/>
                  <a:pt x="14858" y="14155"/>
                  <a:pt x="14858" y="14238"/>
                </a:cubicBezTo>
                <a:cubicBezTo>
                  <a:pt x="14858" y="14336"/>
                  <a:pt x="14861" y="14428"/>
                  <a:pt x="14833" y="14511"/>
                </a:cubicBezTo>
                <a:cubicBezTo>
                  <a:pt x="14833" y="14519"/>
                  <a:pt x="14833" y="14528"/>
                  <a:pt x="14833" y="14536"/>
                </a:cubicBezTo>
              </a:path>
              <a:path w="3324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4" y="14387"/>
                  <a:pt x="14873" y="14381"/>
                  <a:pt x="14908" y="14412"/>
                </a:cubicBezTo>
                <a:cubicBezTo>
                  <a:pt x="14942" y="14442"/>
                  <a:pt x="14971" y="14450"/>
                  <a:pt x="15007" y="14486"/>
                </a:cubicBezTo>
              </a:path>
              <a:path w="3324" h="1093">
                <a:moveTo>
                  <a:pt x="15056" y="14511"/>
                </a:moveTo>
                <a:cubicBezTo>
                  <a:pt x="15044" y="14531"/>
                  <a:pt x="15016" y="14640"/>
                  <a:pt x="15032" y="14585"/>
                </a:cubicBezTo>
                <a:cubicBezTo>
                  <a:pt x="15040" y="14560"/>
                  <a:pt x="15048" y="14536"/>
                  <a:pt x="15056" y="14511"/>
                </a:cubicBezTo>
              </a:path>
              <a:path w="3324" h="1093">
                <a:moveTo>
                  <a:pt x="15056" y="14511"/>
                </a:moveTo>
                <a:cubicBezTo>
                  <a:pt x="15091" y="14370"/>
                  <a:pt x="15108" y="14244"/>
                  <a:pt x="15106" y="14337"/>
                </a:cubicBezTo>
                <a:cubicBezTo>
                  <a:pt x="15073" y="14381"/>
                  <a:pt x="15081" y="14403"/>
                  <a:pt x="15081" y="14461"/>
                </a:cubicBezTo>
                <a:cubicBezTo>
                  <a:pt x="15081" y="14498"/>
                  <a:pt x="15116" y="14492"/>
                  <a:pt x="15131" y="14536"/>
                </a:cubicBezTo>
                <a:cubicBezTo>
                  <a:pt x="15147" y="14583"/>
                  <a:pt x="15153" y="14585"/>
                  <a:pt x="15205" y="14585"/>
                </a:cubicBezTo>
                <a:cubicBezTo>
                  <a:pt x="15245" y="14585"/>
                  <a:pt x="15285" y="14580"/>
                  <a:pt x="15304" y="14536"/>
                </a:cubicBezTo>
                <a:cubicBezTo>
                  <a:pt x="15316" y="14509"/>
                  <a:pt x="15307" y="14450"/>
                  <a:pt x="15280" y="14436"/>
                </a:cubicBezTo>
                <a:cubicBezTo>
                  <a:pt x="15272" y="14436"/>
                  <a:pt x="15263" y="14436"/>
                  <a:pt x="15255" y="14436"/>
                </a:cubicBezTo>
                <a:cubicBezTo>
                  <a:pt x="15267" y="14473"/>
                  <a:pt x="15277" y="14465"/>
                  <a:pt x="15304" y="14486"/>
                </a:cubicBezTo>
                <a:cubicBezTo>
                  <a:pt x="15327" y="14509"/>
                  <a:pt x="15331" y="14517"/>
                  <a:pt x="15354" y="14511"/>
                </a:cubicBezTo>
              </a:path>
              <a:path w="3324" h="1093">
                <a:moveTo>
                  <a:pt x="15429" y="14511"/>
                </a:moveTo>
                <a:cubicBezTo>
                  <a:pt x="15453" y="14511"/>
                  <a:pt x="15462" y="14511"/>
                  <a:pt x="15478" y="14511"/>
                </a:cubicBezTo>
                <a:cubicBezTo>
                  <a:pt x="15478" y="14543"/>
                  <a:pt x="15480" y="14586"/>
                  <a:pt x="15528" y="14560"/>
                </a:cubicBezTo>
                <a:cubicBezTo>
                  <a:pt x="15566" y="14540"/>
                  <a:pt x="15615" y="14510"/>
                  <a:pt x="15652" y="14486"/>
                </a:cubicBezTo>
                <a:cubicBezTo>
                  <a:pt x="15678" y="14468"/>
                  <a:pt x="15739" y="14440"/>
                  <a:pt x="15776" y="14461"/>
                </a:cubicBezTo>
                <a:cubicBezTo>
                  <a:pt x="15802" y="14475"/>
                  <a:pt x="15822" y="14534"/>
                  <a:pt x="15825" y="14560"/>
                </a:cubicBezTo>
                <a:cubicBezTo>
                  <a:pt x="15828" y="14586"/>
                  <a:pt x="15782" y="14632"/>
                  <a:pt x="15776" y="14635"/>
                </a:cubicBezTo>
                <a:cubicBezTo>
                  <a:pt x="15751" y="14635"/>
                  <a:pt x="15743" y="14635"/>
                  <a:pt x="15751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Ink 58"/>
          <p:cNvSpPr/>
          <p:nvPr/>
        </p:nvSpPr>
        <p:spPr>
          <a:xfrm>
            <a:off x="6153120" y="5045040"/>
            <a:ext cx="392040" cy="250920"/>
          </a:xfrm>
          <a:custGeom>
            <a:avLst/>
            <a:gdLst/>
            <a:ahLst/>
            <a:rect l="l" t="t" r="r" b="b"/>
            <a:pathLst>
              <a:path w="1093" h="695">
                <a:moveTo>
                  <a:pt x="17214" y="14039"/>
                </a:moveTo>
                <a:cubicBezTo>
                  <a:pt x="17214" y="13973"/>
                  <a:pt x="17217" y="14080"/>
                  <a:pt x="17214" y="14089"/>
                </a:cubicBezTo>
                <a:cubicBezTo>
                  <a:pt x="17192" y="14152"/>
                  <a:pt x="17155" y="14223"/>
                  <a:pt x="17140" y="14288"/>
                </a:cubicBezTo>
                <a:cubicBezTo>
                  <a:pt x="17127" y="14344"/>
                  <a:pt x="17100" y="14412"/>
                  <a:pt x="17090" y="14461"/>
                </a:cubicBezTo>
                <a:cubicBezTo>
                  <a:pt x="17090" y="14503"/>
                  <a:pt x="17090" y="14511"/>
                  <a:pt x="17090" y="14536"/>
                </a:cubicBezTo>
                <a:cubicBezTo>
                  <a:pt x="17178" y="14536"/>
                  <a:pt x="17517" y="14572"/>
                  <a:pt x="17537" y="14511"/>
                </a:cubicBezTo>
              </a:path>
              <a:path w="1093" h="695">
                <a:moveTo>
                  <a:pt x="17363" y="14312"/>
                </a:moveTo>
                <a:cubicBezTo>
                  <a:pt x="17363" y="14386"/>
                  <a:pt x="17350" y="14450"/>
                  <a:pt x="17338" y="14511"/>
                </a:cubicBezTo>
                <a:cubicBezTo>
                  <a:pt x="17325" y="14577"/>
                  <a:pt x="17346" y="14633"/>
                  <a:pt x="17363" y="14684"/>
                </a:cubicBezTo>
                <a:cubicBezTo>
                  <a:pt x="17380" y="14736"/>
                  <a:pt x="17427" y="14711"/>
                  <a:pt x="17462" y="14684"/>
                </a:cubicBezTo>
              </a:path>
              <a:path w="1093" h="695">
                <a:moveTo>
                  <a:pt x="17934" y="14238"/>
                </a:moveTo>
                <a:cubicBezTo>
                  <a:pt x="17880" y="14253"/>
                  <a:pt x="17827" y="14291"/>
                  <a:pt x="17810" y="14362"/>
                </a:cubicBezTo>
                <a:cubicBezTo>
                  <a:pt x="17795" y="14428"/>
                  <a:pt x="17803" y="14557"/>
                  <a:pt x="17835" y="14585"/>
                </a:cubicBezTo>
                <a:cubicBezTo>
                  <a:pt x="17868" y="14615"/>
                  <a:pt x="17961" y="14628"/>
                  <a:pt x="18008" y="14610"/>
                </a:cubicBezTo>
                <a:cubicBezTo>
                  <a:pt x="18068" y="14587"/>
                  <a:pt x="18134" y="14522"/>
                  <a:pt x="18157" y="14461"/>
                </a:cubicBezTo>
                <a:cubicBezTo>
                  <a:pt x="18183" y="14393"/>
                  <a:pt x="18175" y="14371"/>
                  <a:pt x="18157" y="14312"/>
                </a:cubicBezTo>
                <a:cubicBezTo>
                  <a:pt x="18139" y="14254"/>
                  <a:pt x="18067" y="14243"/>
                  <a:pt x="18008" y="14238"/>
                </a:cubicBezTo>
                <a:cubicBezTo>
                  <a:pt x="17964" y="14235"/>
                  <a:pt x="17889" y="14220"/>
                  <a:pt x="17884" y="14263"/>
                </a:cubicBezTo>
                <a:cubicBezTo>
                  <a:pt x="17884" y="14303"/>
                  <a:pt x="17895" y="14301"/>
                  <a:pt x="17934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Ink 59"/>
          <p:cNvSpPr/>
          <p:nvPr/>
        </p:nvSpPr>
        <p:spPr>
          <a:xfrm>
            <a:off x="6867360" y="5133960"/>
            <a:ext cx="625680" cy="233280"/>
          </a:xfrm>
          <a:custGeom>
            <a:avLst/>
            <a:gdLst/>
            <a:ahLst/>
            <a:rect l="l" t="t" r="r" b="b"/>
            <a:pathLst>
              <a:path w="1737" h="646">
                <a:moveTo>
                  <a:pt x="19273" y="14263"/>
                </a:moveTo>
                <a:cubicBezTo>
                  <a:pt x="19273" y="14316"/>
                  <a:pt x="19257" y="14336"/>
                  <a:pt x="19248" y="14387"/>
                </a:cubicBezTo>
                <a:cubicBezTo>
                  <a:pt x="19233" y="14471"/>
                  <a:pt x="19248" y="14574"/>
                  <a:pt x="19248" y="14660"/>
                </a:cubicBezTo>
                <a:cubicBezTo>
                  <a:pt x="19215" y="14671"/>
                  <a:pt x="19217" y="14695"/>
                  <a:pt x="19174" y="14709"/>
                </a:cubicBezTo>
                <a:cubicBezTo>
                  <a:pt x="19166" y="14709"/>
                  <a:pt x="19157" y="14709"/>
                  <a:pt x="19149" y="14709"/>
                </a:cubicBezTo>
              </a:path>
              <a:path w="1737" h="646">
                <a:moveTo>
                  <a:pt x="19075" y="14486"/>
                </a:moveTo>
                <a:cubicBezTo>
                  <a:pt x="19105" y="14463"/>
                  <a:pt x="19156" y="14443"/>
                  <a:pt x="19199" y="14461"/>
                </a:cubicBezTo>
                <a:cubicBezTo>
                  <a:pt x="19239" y="14478"/>
                  <a:pt x="19283" y="14523"/>
                  <a:pt x="19323" y="14536"/>
                </a:cubicBezTo>
                <a:cubicBezTo>
                  <a:pt x="19344" y="14543"/>
                  <a:pt x="19404" y="14536"/>
                  <a:pt x="19422" y="14536"/>
                </a:cubicBezTo>
              </a:path>
              <a:path w="1737" h="646">
                <a:moveTo>
                  <a:pt x="19546" y="14585"/>
                </a:moveTo>
                <a:cubicBezTo>
                  <a:pt x="19524" y="14624"/>
                  <a:pt x="19484" y="14670"/>
                  <a:pt x="19472" y="14709"/>
                </a:cubicBezTo>
                <a:cubicBezTo>
                  <a:pt x="19458" y="14751"/>
                  <a:pt x="19488" y="14734"/>
                  <a:pt x="19496" y="14709"/>
                </a:cubicBezTo>
              </a:path>
              <a:path w="1737" h="646">
                <a:moveTo>
                  <a:pt x="19571" y="14461"/>
                </a:moveTo>
                <a:cubicBezTo>
                  <a:pt x="19596" y="14461"/>
                  <a:pt x="19604" y="14461"/>
                  <a:pt x="19571" y="14461"/>
                </a:cubicBezTo>
              </a:path>
              <a:path w="1737" h="646">
                <a:moveTo>
                  <a:pt x="19571" y="14461"/>
                </a:moveTo>
                <a:cubicBezTo>
                  <a:pt x="19588" y="14497"/>
                  <a:pt x="19652" y="14676"/>
                  <a:pt x="19695" y="14734"/>
                </a:cubicBezTo>
                <a:cubicBezTo>
                  <a:pt x="19729" y="14700"/>
                  <a:pt x="19792" y="14603"/>
                  <a:pt x="19819" y="14585"/>
                </a:cubicBezTo>
                <a:cubicBezTo>
                  <a:pt x="19827" y="14585"/>
                  <a:pt x="19836" y="14585"/>
                  <a:pt x="19844" y="14585"/>
                </a:cubicBezTo>
                <a:cubicBezTo>
                  <a:pt x="19868" y="14617"/>
                  <a:pt x="19860" y="14656"/>
                  <a:pt x="19893" y="14660"/>
                </a:cubicBezTo>
                <a:cubicBezTo>
                  <a:pt x="19927" y="14664"/>
                  <a:pt x="19969" y="14651"/>
                  <a:pt x="19993" y="14635"/>
                </a:cubicBezTo>
                <a:cubicBezTo>
                  <a:pt x="20021" y="14616"/>
                  <a:pt x="20066" y="14583"/>
                  <a:pt x="20092" y="14635"/>
                </a:cubicBezTo>
                <a:cubicBezTo>
                  <a:pt x="20105" y="14660"/>
                  <a:pt x="20115" y="14690"/>
                  <a:pt x="20117" y="14709"/>
                </a:cubicBezTo>
                <a:cubicBezTo>
                  <a:pt x="20120" y="14735"/>
                  <a:pt x="20184" y="14757"/>
                  <a:pt x="20216" y="14734"/>
                </a:cubicBezTo>
                <a:cubicBezTo>
                  <a:pt x="20216" y="14726"/>
                  <a:pt x="20216" y="14717"/>
                  <a:pt x="20216" y="14709"/>
                </a:cubicBezTo>
              </a:path>
              <a:path w="1737" h="646">
                <a:moveTo>
                  <a:pt x="20290" y="14610"/>
                </a:moveTo>
                <a:cubicBezTo>
                  <a:pt x="20357" y="14610"/>
                  <a:pt x="20367" y="14606"/>
                  <a:pt x="20414" y="14560"/>
                </a:cubicBezTo>
                <a:cubicBezTo>
                  <a:pt x="20465" y="14510"/>
                  <a:pt x="20464" y="14549"/>
                  <a:pt x="20464" y="14461"/>
                </a:cubicBezTo>
                <a:cubicBezTo>
                  <a:pt x="20411" y="14461"/>
                  <a:pt x="20403" y="14473"/>
                  <a:pt x="20365" y="14511"/>
                </a:cubicBezTo>
                <a:cubicBezTo>
                  <a:pt x="20339" y="14538"/>
                  <a:pt x="20284" y="14616"/>
                  <a:pt x="20315" y="14660"/>
                </a:cubicBezTo>
                <a:cubicBezTo>
                  <a:pt x="20337" y="14691"/>
                  <a:pt x="20427" y="14684"/>
                  <a:pt x="20464" y="14684"/>
                </a:cubicBezTo>
                <a:cubicBezTo>
                  <a:pt x="20530" y="14684"/>
                  <a:pt x="20601" y="14680"/>
                  <a:pt x="20662" y="14660"/>
                </a:cubicBezTo>
                <a:cubicBezTo>
                  <a:pt x="20698" y="14648"/>
                  <a:pt x="20769" y="14598"/>
                  <a:pt x="20786" y="14560"/>
                </a:cubicBezTo>
                <a:cubicBezTo>
                  <a:pt x="20786" y="14536"/>
                  <a:pt x="20786" y="14528"/>
                  <a:pt x="20811" y="14536"/>
                </a:cubicBezTo>
                <a:cubicBezTo>
                  <a:pt x="20783" y="14601"/>
                  <a:pt x="20804" y="14644"/>
                  <a:pt x="20786" y="14709"/>
                </a:cubicBezTo>
                <a:cubicBezTo>
                  <a:pt x="20772" y="14763"/>
                  <a:pt x="20750" y="14816"/>
                  <a:pt x="20712" y="14858"/>
                </a:cubicBezTo>
                <a:cubicBezTo>
                  <a:pt x="20686" y="14886"/>
                  <a:pt x="20647" y="14899"/>
                  <a:pt x="20613" y="14908"/>
                </a:cubicBezTo>
                <a:cubicBezTo>
                  <a:pt x="20585" y="14871"/>
                  <a:pt x="20574" y="14843"/>
                  <a:pt x="20538" y="14808"/>
                </a:cubicBezTo>
                <a:cubicBezTo>
                  <a:pt x="20530" y="14800"/>
                  <a:pt x="20521" y="14792"/>
                  <a:pt x="20513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Ink 60"/>
          <p:cNvSpPr/>
          <p:nvPr/>
        </p:nvSpPr>
        <p:spPr>
          <a:xfrm>
            <a:off x="1214280" y="5411880"/>
            <a:ext cx="911520" cy="249120"/>
          </a:xfrm>
          <a:custGeom>
            <a:avLst/>
            <a:gdLst/>
            <a:ahLst/>
            <a:rect l="l" t="t" r="r" b="b"/>
            <a:pathLst>
              <a:path w="2532" h="695">
                <a:moveTo>
                  <a:pt x="3373" y="15255"/>
                </a:moveTo>
                <a:cubicBezTo>
                  <a:pt x="3373" y="15396"/>
                  <a:pt x="3373" y="15536"/>
                  <a:pt x="3373" y="15677"/>
                </a:cubicBezTo>
                <a:cubicBezTo>
                  <a:pt x="3373" y="15603"/>
                  <a:pt x="3375" y="15548"/>
                  <a:pt x="3398" y="15478"/>
                </a:cubicBezTo>
                <a:cubicBezTo>
                  <a:pt x="3432" y="15377"/>
                  <a:pt x="3436" y="15274"/>
                  <a:pt x="3473" y="15180"/>
                </a:cubicBezTo>
                <a:cubicBezTo>
                  <a:pt x="3491" y="15135"/>
                  <a:pt x="3523" y="15053"/>
                  <a:pt x="3572" y="15032"/>
                </a:cubicBezTo>
                <a:cubicBezTo>
                  <a:pt x="3614" y="15014"/>
                  <a:pt x="3633" y="15040"/>
                  <a:pt x="3646" y="15056"/>
                </a:cubicBezTo>
                <a:cubicBezTo>
                  <a:pt x="3684" y="15106"/>
                  <a:pt x="3674" y="15121"/>
                  <a:pt x="3646" y="15180"/>
                </a:cubicBezTo>
                <a:cubicBezTo>
                  <a:pt x="3618" y="15240"/>
                  <a:pt x="3593" y="15283"/>
                  <a:pt x="3547" y="15329"/>
                </a:cubicBezTo>
                <a:cubicBezTo>
                  <a:pt x="3508" y="15368"/>
                  <a:pt x="3517" y="15370"/>
                  <a:pt x="3473" y="15404"/>
                </a:cubicBezTo>
                <a:cubicBezTo>
                  <a:pt x="3499" y="15411"/>
                  <a:pt x="3579" y="15455"/>
                  <a:pt x="3597" y="15478"/>
                </a:cubicBezTo>
                <a:cubicBezTo>
                  <a:pt x="3612" y="15497"/>
                  <a:pt x="3642" y="15515"/>
                  <a:pt x="3646" y="15553"/>
                </a:cubicBezTo>
                <a:cubicBezTo>
                  <a:pt x="3650" y="15592"/>
                  <a:pt x="3685" y="15580"/>
                  <a:pt x="3696" y="15602"/>
                </a:cubicBezTo>
                <a:cubicBezTo>
                  <a:pt x="3696" y="15627"/>
                  <a:pt x="3696" y="15635"/>
                  <a:pt x="3721" y="15627"/>
                </a:cubicBezTo>
              </a:path>
              <a:path w="2532" h="695">
                <a:moveTo>
                  <a:pt x="3870" y="15528"/>
                </a:moveTo>
                <a:cubicBezTo>
                  <a:pt x="3920" y="15541"/>
                  <a:pt x="3922" y="15570"/>
                  <a:pt x="3969" y="15528"/>
                </a:cubicBezTo>
                <a:cubicBezTo>
                  <a:pt x="4012" y="15490"/>
                  <a:pt x="4045" y="15497"/>
                  <a:pt x="4068" y="15429"/>
                </a:cubicBezTo>
                <a:cubicBezTo>
                  <a:pt x="4068" y="15404"/>
                  <a:pt x="4068" y="15396"/>
                  <a:pt x="4068" y="15379"/>
                </a:cubicBezTo>
                <a:cubicBezTo>
                  <a:pt x="4012" y="15379"/>
                  <a:pt x="3963" y="15369"/>
                  <a:pt x="3919" y="15404"/>
                </a:cubicBezTo>
                <a:cubicBezTo>
                  <a:pt x="3886" y="15431"/>
                  <a:pt x="3849" y="15489"/>
                  <a:pt x="3845" y="15528"/>
                </a:cubicBezTo>
                <a:cubicBezTo>
                  <a:pt x="3840" y="15576"/>
                  <a:pt x="3880" y="15614"/>
                  <a:pt x="3919" y="15627"/>
                </a:cubicBezTo>
                <a:cubicBezTo>
                  <a:pt x="3967" y="15643"/>
                  <a:pt x="4027" y="15620"/>
                  <a:pt x="4068" y="15602"/>
                </a:cubicBezTo>
                <a:cubicBezTo>
                  <a:pt x="4135" y="15572"/>
                  <a:pt x="4200" y="15536"/>
                  <a:pt x="4266" y="15503"/>
                </a:cubicBezTo>
              </a:path>
              <a:path w="2532" h="695">
                <a:moveTo>
                  <a:pt x="4440" y="15404"/>
                </a:moveTo>
                <a:cubicBezTo>
                  <a:pt x="4418" y="15426"/>
                  <a:pt x="4349" y="15473"/>
                  <a:pt x="4341" y="15503"/>
                </a:cubicBezTo>
                <a:cubicBezTo>
                  <a:pt x="4327" y="15552"/>
                  <a:pt x="4341" y="15625"/>
                  <a:pt x="4341" y="15677"/>
                </a:cubicBezTo>
                <a:cubicBezTo>
                  <a:pt x="4414" y="15677"/>
                  <a:pt x="4471" y="15664"/>
                  <a:pt x="4539" y="15652"/>
                </a:cubicBezTo>
                <a:cubicBezTo>
                  <a:pt x="4598" y="15642"/>
                  <a:pt x="4615" y="15641"/>
                  <a:pt x="4663" y="15602"/>
                </a:cubicBezTo>
              </a:path>
              <a:path w="2532" h="695">
                <a:moveTo>
                  <a:pt x="4837" y="15503"/>
                </a:moveTo>
                <a:cubicBezTo>
                  <a:pt x="4800" y="15512"/>
                  <a:pt x="4775" y="15540"/>
                  <a:pt x="4762" y="15577"/>
                </a:cubicBezTo>
                <a:cubicBezTo>
                  <a:pt x="4745" y="15628"/>
                  <a:pt x="4762" y="15683"/>
                  <a:pt x="4787" y="15701"/>
                </a:cubicBezTo>
                <a:cubicBezTo>
                  <a:pt x="4833" y="15736"/>
                  <a:pt x="4877" y="15726"/>
                  <a:pt x="4936" y="15726"/>
                </a:cubicBezTo>
                <a:cubicBezTo>
                  <a:pt x="4994" y="15726"/>
                  <a:pt x="4986" y="15669"/>
                  <a:pt x="5011" y="15652"/>
                </a:cubicBezTo>
                <a:cubicBezTo>
                  <a:pt x="5028" y="15640"/>
                  <a:pt x="5064" y="15604"/>
                  <a:pt x="5011" y="15577"/>
                </a:cubicBezTo>
                <a:cubicBezTo>
                  <a:pt x="4980" y="15561"/>
                  <a:pt x="4950" y="15553"/>
                  <a:pt x="4911" y="15553"/>
                </a:cubicBezTo>
                <a:cubicBezTo>
                  <a:pt x="4877" y="15553"/>
                  <a:pt x="4822" y="15569"/>
                  <a:pt x="4887" y="15602"/>
                </a:cubicBezTo>
                <a:cubicBezTo>
                  <a:pt x="4895" y="15602"/>
                  <a:pt x="4903" y="15602"/>
                  <a:pt x="4911" y="15602"/>
                </a:cubicBezTo>
              </a:path>
              <a:path w="2532" h="695">
                <a:moveTo>
                  <a:pt x="5135" y="15627"/>
                </a:moveTo>
                <a:cubicBezTo>
                  <a:pt x="5135" y="15652"/>
                  <a:pt x="5135" y="15660"/>
                  <a:pt x="5135" y="15677"/>
                </a:cubicBezTo>
                <a:cubicBezTo>
                  <a:pt x="5198" y="15661"/>
                  <a:pt x="5173" y="15630"/>
                  <a:pt x="5209" y="15577"/>
                </a:cubicBezTo>
                <a:cubicBezTo>
                  <a:pt x="5242" y="15529"/>
                  <a:pt x="5269" y="15472"/>
                  <a:pt x="5308" y="15429"/>
                </a:cubicBezTo>
                <a:cubicBezTo>
                  <a:pt x="5327" y="15408"/>
                  <a:pt x="5377" y="15387"/>
                  <a:pt x="5407" y="15404"/>
                </a:cubicBezTo>
                <a:cubicBezTo>
                  <a:pt x="5415" y="15412"/>
                  <a:pt x="5424" y="15421"/>
                  <a:pt x="5432" y="15429"/>
                </a:cubicBezTo>
              </a:path>
              <a:path w="2532" h="695">
                <a:moveTo>
                  <a:pt x="5680" y="15478"/>
                </a:moveTo>
                <a:cubicBezTo>
                  <a:pt x="5648" y="15453"/>
                  <a:pt x="5624" y="15414"/>
                  <a:pt x="5581" y="15429"/>
                </a:cubicBezTo>
                <a:cubicBezTo>
                  <a:pt x="5545" y="15442"/>
                  <a:pt x="5480" y="15493"/>
                  <a:pt x="5457" y="15528"/>
                </a:cubicBezTo>
                <a:cubicBezTo>
                  <a:pt x="5437" y="15568"/>
                  <a:pt x="5428" y="15574"/>
                  <a:pt x="5432" y="15602"/>
                </a:cubicBezTo>
                <a:cubicBezTo>
                  <a:pt x="5469" y="15630"/>
                  <a:pt x="5530" y="15644"/>
                  <a:pt x="5581" y="15627"/>
                </a:cubicBezTo>
                <a:cubicBezTo>
                  <a:pt x="5644" y="15606"/>
                  <a:pt x="5743" y="15542"/>
                  <a:pt x="5779" y="15478"/>
                </a:cubicBezTo>
                <a:cubicBezTo>
                  <a:pt x="5805" y="15432"/>
                  <a:pt x="5868" y="15325"/>
                  <a:pt x="5879" y="15280"/>
                </a:cubicBezTo>
                <a:cubicBezTo>
                  <a:pt x="5879" y="15263"/>
                  <a:pt x="5879" y="15247"/>
                  <a:pt x="5879" y="15230"/>
                </a:cubicBezTo>
                <a:cubicBezTo>
                  <a:pt x="5862" y="15195"/>
                  <a:pt x="5812" y="15258"/>
                  <a:pt x="5804" y="15304"/>
                </a:cubicBezTo>
                <a:cubicBezTo>
                  <a:pt x="5793" y="15363"/>
                  <a:pt x="5755" y="15492"/>
                  <a:pt x="5779" y="15553"/>
                </a:cubicBezTo>
                <a:cubicBezTo>
                  <a:pt x="5797" y="15599"/>
                  <a:pt x="5865" y="15619"/>
                  <a:pt x="5904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Ink 61"/>
          <p:cNvSpPr/>
          <p:nvPr/>
        </p:nvSpPr>
        <p:spPr>
          <a:xfrm>
            <a:off x="2608200" y="5419800"/>
            <a:ext cx="446040" cy="26028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7417" y="15131"/>
                </a:moveTo>
                <a:cubicBezTo>
                  <a:pt x="7406" y="15164"/>
                  <a:pt x="7374" y="15199"/>
                  <a:pt x="7367" y="15255"/>
                </a:cubicBezTo>
                <a:cubicBezTo>
                  <a:pt x="7350" y="15381"/>
                  <a:pt x="7314" y="15502"/>
                  <a:pt x="7293" y="15627"/>
                </a:cubicBezTo>
                <a:cubicBezTo>
                  <a:pt x="7289" y="15648"/>
                  <a:pt x="7262" y="15769"/>
                  <a:pt x="7268" y="15776"/>
                </a:cubicBezTo>
                <a:cubicBezTo>
                  <a:pt x="7293" y="15776"/>
                  <a:pt x="7301" y="15776"/>
                  <a:pt x="7293" y="15751"/>
                </a:cubicBezTo>
              </a:path>
              <a:path w="1241" h="721">
                <a:moveTo>
                  <a:pt x="7243" y="15553"/>
                </a:moveTo>
                <a:cubicBezTo>
                  <a:pt x="7274" y="15522"/>
                  <a:pt x="7318" y="15489"/>
                  <a:pt x="7342" y="15453"/>
                </a:cubicBezTo>
                <a:cubicBezTo>
                  <a:pt x="7375" y="15403"/>
                  <a:pt x="7409" y="15353"/>
                  <a:pt x="7441" y="15304"/>
                </a:cubicBezTo>
                <a:cubicBezTo>
                  <a:pt x="7463" y="15261"/>
                  <a:pt x="7467" y="15249"/>
                  <a:pt x="7491" y="15230"/>
                </a:cubicBezTo>
              </a:path>
              <a:path w="1241" h="721">
                <a:moveTo>
                  <a:pt x="7565" y="15056"/>
                </a:moveTo>
                <a:cubicBezTo>
                  <a:pt x="7565" y="15130"/>
                  <a:pt x="7587" y="15180"/>
                  <a:pt x="7590" y="15255"/>
                </a:cubicBezTo>
                <a:cubicBezTo>
                  <a:pt x="7593" y="15334"/>
                  <a:pt x="7595" y="15388"/>
                  <a:pt x="7615" y="15453"/>
                </a:cubicBezTo>
                <a:cubicBezTo>
                  <a:pt x="7627" y="15494"/>
                  <a:pt x="7687" y="15492"/>
                  <a:pt x="7714" y="15453"/>
                </a:cubicBezTo>
                <a:cubicBezTo>
                  <a:pt x="7728" y="15433"/>
                  <a:pt x="7775" y="15364"/>
                  <a:pt x="7789" y="15354"/>
                </a:cubicBezTo>
                <a:cubicBezTo>
                  <a:pt x="7797" y="15354"/>
                  <a:pt x="7805" y="15354"/>
                  <a:pt x="7813" y="15354"/>
                </a:cubicBezTo>
                <a:cubicBezTo>
                  <a:pt x="7852" y="15380"/>
                  <a:pt x="7838" y="15442"/>
                  <a:pt x="7838" y="15503"/>
                </a:cubicBezTo>
                <a:cubicBezTo>
                  <a:pt x="7838" y="15529"/>
                  <a:pt x="7845" y="15590"/>
                  <a:pt x="7863" y="15602"/>
                </a:cubicBezTo>
                <a:cubicBezTo>
                  <a:pt x="7901" y="15627"/>
                  <a:pt x="8010" y="15601"/>
                  <a:pt x="8037" y="15577"/>
                </a:cubicBezTo>
                <a:cubicBezTo>
                  <a:pt x="8071" y="15547"/>
                  <a:pt x="8105" y="15524"/>
                  <a:pt x="8136" y="15503"/>
                </a:cubicBezTo>
                <a:cubicBezTo>
                  <a:pt x="8162" y="15486"/>
                  <a:pt x="8183" y="15432"/>
                  <a:pt x="8186" y="15404"/>
                </a:cubicBezTo>
                <a:cubicBezTo>
                  <a:pt x="8192" y="15353"/>
                  <a:pt x="8126" y="15337"/>
                  <a:pt x="8086" y="15354"/>
                </a:cubicBezTo>
                <a:cubicBezTo>
                  <a:pt x="8049" y="15370"/>
                  <a:pt x="7991" y="15492"/>
                  <a:pt x="7987" y="15528"/>
                </a:cubicBezTo>
                <a:cubicBezTo>
                  <a:pt x="7981" y="15578"/>
                  <a:pt x="8094" y="15611"/>
                  <a:pt x="8136" y="15602"/>
                </a:cubicBezTo>
                <a:cubicBezTo>
                  <a:pt x="8212" y="15585"/>
                  <a:pt x="8311" y="15533"/>
                  <a:pt x="8384" y="15503"/>
                </a:cubicBezTo>
                <a:cubicBezTo>
                  <a:pt x="8434" y="15478"/>
                  <a:pt x="8450" y="15470"/>
                  <a:pt x="8483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Ink 62"/>
          <p:cNvSpPr/>
          <p:nvPr/>
        </p:nvSpPr>
        <p:spPr>
          <a:xfrm>
            <a:off x="3483000" y="5438880"/>
            <a:ext cx="866880" cy="187200"/>
          </a:xfrm>
          <a:custGeom>
            <a:avLst/>
            <a:gdLst/>
            <a:ahLst/>
            <a:rect l="l" t="t" r="r" b="b"/>
            <a:pathLst>
              <a:path w="2407" h="522">
                <a:moveTo>
                  <a:pt x="9723" y="15453"/>
                </a:moveTo>
                <a:cubicBezTo>
                  <a:pt x="9698" y="15488"/>
                  <a:pt x="9686" y="15539"/>
                  <a:pt x="9674" y="15577"/>
                </a:cubicBezTo>
                <a:cubicBezTo>
                  <a:pt x="9674" y="15602"/>
                  <a:pt x="9674" y="15610"/>
                  <a:pt x="9674" y="15627"/>
                </a:cubicBezTo>
                <a:cubicBezTo>
                  <a:pt x="9718" y="15572"/>
                  <a:pt x="9755" y="15530"/>
                  <a:pt x="9798" y="15478"/>
                </a:cubicBezTo>
                <a:cubicBezTo>
                  <a:pt x="9829" y="15441"/>
                  <a:pt x="9845" y="15415"/>
                  <a:pt x="9872" y="15379"/>
                </a:cubicBezTo>
                <a:cubicBezTo>
                  <a:pt x="9884" y="15415"/>
                  <a:pt x="9897" y="15419"/>
                  <a:pt x="9897" y="15478"/>
                </a:cubicBezTo>
                <a:cubicBezTo>
                  <a:pt x="9897" y="15508"/>
                  <a:pt x="9897" y="15585"/>
                  <a:pt x="9922" y="15602"/>
                </a:cubicBezTo>
                <a:cubicBezTo>
                  <a:pt x="9933" y="15609"/>
                  <a:pt x="9982" y="15602"/>
                  <a:pt x="9996" y="15602"/>
                </a:cubicBezTo>
              </a:path>
              <a:path w="2407" h="522">
                <a:moveTo>
                  <a:pt x="10120" y="15503"/>
                </a:moveTo>
                <a:cubicBezTo>
                  <a:pt x="10105" y="15524"/>
                  <a:pt x="10066" y="15585"/>
                  <a:pt x="10120" y="15602"/>
                </a:cubicBezTo>
                <a:cubicBezTo>
                  <a:pt x="10175" y="15619"/>
                  <a:pt x="10228" y="15583"/>
                  <a:pt x="10269" y="15553"/>
                </a:cubicBezTo>
                <a:cubicBezTo>
                  <a:pt x="10311" y="15522"/>
                  <a:pt x="10354" y="15507"/>
                  <a:pt x="10393" y="15478"/>
                </a:cubicBezTo>
                <a:cubicBezTo>
                  <a:pt x="10393" y="15519"/>
                  <a:pt x="10376" y="15572"/>
                  <a:pt x="10418" y="15577"/>
                </a:cubicBezTo>
                <a:cubicBezTo>
                  <a:pt x="10426" y="15577"/>
                  <a:pt x="10435" y="15577"/>
                  <a:pt x="10443" y="15577"/>
                </a:cubicBezTo>
              </a:path>
              <a:path w="2407" h="522">
                <a:moveTo>
                  <a:pt x="10616" y="15503"/>
                </a:moveTo>
                <a:cubicBezTo>
                  <a:pt x="10616" y="15528"/>
                  <a:pt x="10616" y="15536"/>
                  <a:pt x="10616" y="15553"/>
                </a:cubicBezTo>
                <a:cubicBezTo>
                  <a:pt x="10646" y="15543"/>
                  <a:pt x="10658" y="15511"/>
                  <a:pt x="10691" y="15478"/>
                </a:cubicBezTo>
                <a:cubicBezTo>
                  <a:pt x="10699" y="15470"/>
                  <a:pt x="10708" y="15461"/>
                  <a:pt x="10716" y="15453"/>
                </a:cubicBezTo>
                <a:cubicBezTo>
                  <a:pt x="10732" y="15475"/>
                  <a:pt x="10762" y="15522"/>
                  <a:pt x="10765" y="15528"/>
                </a:cubicBezTo>
                <a:cubicBezTo>
                  <a:pt x="10765" y="15553"/>
                  <a:pt x="10765" y="15561"/>
                  <a:pt x="10790" y="15553"/>
                </a:cubicBezTo>
                <a:cubicBezTo>
                  <a:pt x="10816" y="15518"/>
                  <a:pt x="10815" y="15483"/>
                  <a:pt x="10864" y="15478"/>
                </a:cubicBezTo>
                <a:cubicBezTo>
                  <a:pt x="10906" y="15473"/>
                  <a:pt x="10925" y="15487"/>
                  <a:pt x="10939" y="15528"/>
                </a:cubicBezTo>
                <a:cubicBezTo>
                  <a:pt x="10940" y="15532"/>
                  <a:pt x="10960" y="15599"/>
                  <a:pt x="10964" y="15602"/>
                </a:cubicBezTo>
                <a:cubicBezTo>
                  <a:pt x="10988" y="15602"/>
                  <a:pt x="10996" y="15602"/>
                  <a:pt x="10988" y="15577"/>
                </a:cubicBezTo>
              </a:path>
              <a:path w="2407" h="522">
                <a:moveTo>
                  <a:pt x="11112" y="15106"/>
                </a:moveTo>
                <a:cubicBezTo>
                  <a:pt x="11121" y="15170"/>
                  <a:pt x="11137" y="15208"/>
                  <a:pt x="11137" y="15280"/>
                </a:cubicBezTo>
                <a:cubicBezTo>
                  <a:pt x="11137" y="15336"/>
                  <a:pt x="11162" y="15350"/>
                  <a:pt x="11162" y="15404"/>
                </a:cubicBezTo>
                <a:cubicBezTo>
                  <a:pt x="11162" y="15412"/>
                  <a:pt x="11162" y="15421"/>
                  <a:pt x="11162" y="15429"/>
                </a:cubicBezTo>
                <a:cubicBezTo>
                  <a:pt x="11218" y="15429"/>
                  <a:pt x="11267" y="15439"/>
                  <a:pt x="11311" y="15404"/>
                </a:cubicBezTo>
                <a:cubicBezTo>
                  <a:pt x="11347" y="15375"/>
                  <a:pt x="11363" y="15334"/>
                  <a:pt x="11410" y="15329"/>
                </a:cubicBezTo>
                <a:cubicBezTo>
                  <a:pt x="11418" y="15329"/>
                  <a:pt x="11427" y="15329"/>
                  <a:pt x="11435" y="15329"/>
                </a:cubicBezTo>
                <a:cubicBezTo>
                  <a:pt x="11435" y="15376"/>
                  <a:pt x="11430" y="15439"/>
                  <a:pt x="11410" y="15478"/>
                </a:cubicBezTo>
                <a:cubicBezTo>
                  <a:pt x="11395" y="15508"/>
                  <a:pt x="11316" y="15589"/>
                  <a:pt x="11286" y="15602"/>
                </a:cubicBezTo>
                <a:cubicBezTo>
                  <a:pt x="11259" y="15614"/>
                  <a:pt x="11201" y="15604"/>
                  <a:pt x="11187" y="15577"/>
                </a:cubicBezTo>
                <a:cubicBezTo>
                  <a:pt x="11160" y="15525"/>
                  <a:pt x="11232" y="15505"/>
                  <a:pt x="11261" y="15478"/>
                </a:cubicBezTo>
                <a:cubicBezTo>
                  <a:pt x="11286" y="15453"/>
                  <a:pt x="11294" y="15445"/>
                  <a:pt x="11311" y="15429"/>
                </a:cubicBezTo>
              </a:path>
              <a:path w="2407" h="522">
                <a:moveTo>
                  <a:pt x="11509" y="15404"/>
                </a:moveTo>
                <a:cubicBezTo>
                  <a:pt x="11519" y="15433"/>
                  <a:pt x="11543" y="15449"/>
                  <a:pt x="11584" y="15453"/>
                </a:cubicBezTo>
                <a:cubicBezTo>
                  <a:pt x="11616" y="15456"/>
                  <a:pt x="11666" y="15463"/>
                  <a:pt x="11683" y="15429"/>
                </a:cubicBezTo>
                <a:cubicBezTo>
                  <a:pt x="11699" y="15397"/>
                  <a:pt x="11708" y="15369"/>
                  <a:pt x="11708" y="15329"/>
                </a:cubicBezTo>
                <a:cubicBezTo>
                  <a:pt x="11662" y="15329"/>
                  <a:pt x="11644" y="15323"/>
                  <a:pt x="11609" y="15354"/>
                </a:cubicBezTo>
                <a:cubicBezTo>
                  <a:pt x="11581" y="15379"/>
                  <a:pt x="11564" y="15430"/>
                  <a:pt x="11609" y="15453"/>
                </a:cubicBezTo>
                <a:cubicBezTo>
                  <a:pt x="11642" y="15469"/>
                  <a:pt x="11673" y="15513"/>
                  <a:pt x="11708" y="15528"/>
                </a:cubicBezTo>
                <a:cubicBezTo>
                  <a:pt x="11741" y="15542"/>
                  <a:pt x="11729" y="15539"/>
                  <a:pt x="11757" y="15577"/>
                </a:cubicBezTo>
                <a:cubicBezTo>
                  <a:pt x="11799" y="15505"/>
                  <a:pt x="11845" y="15455"/>
                  <a:pt x="11906" y="15404"/>
                </a:cubicBezTo>
                <a:cubicBezTo>
                  <a:pt x="11962" y="15357"/>
                  <a:pt x="11913" y="15354"/>
                  <a:pt x="12005" y="15354"/>
                </a:cubicBezTo>
                <a:cubicBezTo>
                  <a:pt x="12030" y="15354"/>
                  <a:pt x="12055" y="15354"/>
                  <a:pt x="12080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Ink 63"/>
          <p:cNvSpPr/>
          <p:nvPr/>
        </p:nvSpPr>
        <p:spPr>
          <a:xfrm>
            <a:off x="4660920" y="5419800"/>
            <a:ext cx="260280" cy="23328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13047" y="15404"/>
                </a:moveTo>
                <a:cubicBezTo>
                  <a:pt x="13022" y="15404"/>
                  <a:pt x="13014" y="15404"/>
                  <a:pt x="12998" y="15404"/>
                </a:cubicBezTo>
                <a:cubicBezTo>
                  <a:pt x="12987" y="15471"/>
                  <a:pt x="12962" y="15449"/>
                  <a:pt x="12948" y="15528"/>
                </a:cubicBezTo>
                <a:cubicBezTo>
                  <a:pt x="12939" y="15579"/>
                  <a:pt x="12942" y="15640"/>
                  <a:pt x="12973" y="15677"/>
                </a:cubicBezTo>
                <a:cubicBezTo>
                  <a:pt x="13000" y="15710"/>
                  <a:pt x="13081" y="15714"/>
                  <a:pt x="13122" y="15701"/>
                </a:cubicBezTo>
                <a:cubicBezTo>
                  <a:pt x="13169" y="15686"/>
                  <a:pt x="13247" y="15681"/>
                  <a:pt x="13271" y="15627"/>
                </a:cubicBezTo>
                <a:cubicBezTo>
                  <a:pt x="13287" y="15592"/>
                  <a:pt x="13267" y="15551"/>
                  <a:pt x="13246" y="15528"/>
                </a:cubicBezTo>
                <a:cubicBezTo>
                  <a:pt x="13218" y="15497"/>
                  <a:pt x="13163" y="15482"/>
                  <a:pt x="13122" y="15478"/>
                </a:cubicBezTo>
                <a:cubicBezTo>
                  <a:pt x="13097" y="15478"/>
                  <a:pt x="13089" y="15478"/>
                  <a:pt x="13072" y="15478"/>
                </a:cubicBezTo>
                <a:cubicBezTo>
                  <a:pt x="13087" y="15524"/>
                  <a:pt x="13139" y="15503"/>
                  <a:pt x="13196" y="15503"/>
                </a:cubicBezTo>
              </a:path>
              <a:path w="720" h="646">
                <a:moveTo>
                  <a:pt x="13568" y="15056"/>
                </a:moveTo>
                <a:cubicBezTo>
                  <a:pt x="13529" y="15056"/>
                  <a:pt x="13494" y="15045"/>
                  <a:pt x="13469" y="15081"/>
                </a:cubicBezTo>
                <a:cubicBezTo>
                  <a:pt x="13415" y="15159"/>
                  <a:pt x="13398" y="15263"/>
                  <a:pt x="13395" y="15354"/>
                </a:cubicBezTo>
                <a:cubicBezTo>
                  <a:pt x="13391" y="15459"/>
                  <a:pt x="13390" y="15562"/>
                  <a:pt x="13419" y="15652"/>
                </a:cubicBezTo>
                <a:cubicBezTo>
                  <a:pt x="13433" y="15695"/>
                  <a:pt x="13398" y="15686"/>
                  <a:pt x="13444" y="15701"/>
                </a:cubicBezTo>
              </a:path>
              <a:path w="720" h="646">
                <a:moveTo>
                  <a:pt x="13345" y="15577"/>
                </a:moveTo>
                <a:cubicBezTo>
                  <a:pt x="13375" y="15555"/>
                  <a:pt x="13406" y="15531"/>
                  <a:pt x="13444" y="15528"/>
                </a:cubicBezTo>
                <a:cubicBezTo>
                  <a:pt x="13517" y="15523"/>
                  <a:pt x="13594" y="15528"/>
                  <a:pt x="13667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Ink 64"/>
          <p:cNvSpPr/>
          <p:nvPr/>
        </p:nvSpPr>
        <p:spPr>
          <a:xfrm>
            <a:off x="5313240" y="5473800"/>
            <a:ext cx="857520" cy="277560"/>
          </a:xfrm>
          <a:custGeom>
            <a:avLst/>
            <a:gdLst/>
            <a:ahLst/>
            <a:rect l="l" t="t" r="r" b="b"/>
            <a:pathLst>
              <a:path w="2382" h="770">
                <a:moveTo>
                  <a:pt x="14808" y="15478"/>
                </a:moveTo>
                <a:cubicBezTo>
                  <a:pt x="14800" y="15478"/>
                  <a:pt x="14792" y="15478"/>
                  <a:pt x="14784" y="15478"/>
                </a:cubicBezTo>
                <a:cubicBezTo>
                  <a:pt x="14784" y="15528"/>
                  <a:pt x="14773" y="15537"/>
                  <a:pt x="14759" y="15577"/>
                </a:cubicBezTo>
                <a:cubicBezTo>
                  <a:pt x="14759" y="15602"/>
                  <a:pt x="14759" y="15610"/>
                  <a:pt x="14759" y="15627"/>
                </a:cubicBezTo>
              </a:path>
              <a:path w="2382" h="770">
                <a:moveTo>
                  <a:pt x="14858" y="15205"/>
                </a:moveTo>
                <a:cubicBezTo>
                  <a:pt x="14858" y="15230"/>
                  <a:pt x="14858" y="15255"/>
                  <a:pt x="14858" y="15280"/>
                </a:cubicBezTo>
              </a:path>
              <a:path w="2382" h="770">
                <a:moveTo>
                  <a:pt x="14932" y="15627"/>
                </a:moveTo>
                <a:cubicBezTo>
                  <a:pt x="14932" y="15652"/>
                  <a:pt x="14932" y="15660"/>
                  <a:pt x="14932" y="15677"/>
                </a:cubicBezTo>
                <a:cubicBezTo>
                  <a:pt x="14957" y="15643"/>
                  <a:pt x="14964" y="15616"/>
                  <a:pt x="15007" y="15602"/>
                </a:cubicBezTo>
                <a:cubicBezTo>
                  <a:pt x="15050" y="15588"/>
                  <a:pt x="15047" y="15557"/>
                  <a:pt x="15081" y="15553"/>
                </a:cubicBezTo>
                <a:cubicBezTo>
                  <a:pt x="15111" y="15549"/>
                  <a:pt x="15128" y="15570"/>
                  <a:pt x="15156" y="15577"/>
                </a:cubicBezTo>
                <a:cubicBezTo>
                  <a:pt x="15156" y="15617"/>
                  <a:pt x="15139" y="15672"/>
                  <a:pt x="15180" y="15677"/>
                </a:cubicBezTo>
                <a:cubicBezTo>
                  <a:pt x="15188" y="15677"/>
                  <a:pt x="15197" y="15677"/>
                  <a:pt x="15205" y="15677"/>
                </a:cubicBezTo>
              </a:path>
              <a:path w="2382" h="770">
                <a:moveTo>
                  <a:pt x="15354" y="15478"/>
                </a:moveTo>
                <a:cubicBezTo>
                  <a:pt x="15354" y="15529"/>
                  <a:pt x="15355" y="15536"/>
                  <a:pt x="15379" y="15577"/>
                </a:cubicBezTo>
                <a:cubicBezTo>
                  <a:pt x="15411" y="15632"/>
                  <a:pt x="15405" y="15698"/>
                  <a:pt x="15429" y="15751"/>
                </a:cubicBezTo>
                <a:cubicBezTo>
                  <a:pt x="15445" y="15787"/>
                  <a:pt x="15473" y="15826"/>
                  <a:pt x="15453" y="15875"/>
                </a:cubicBezTo>
                <a:cubicBezTo>
                  <a:pt x="15444" y="15898"/>
                  <a:pt x="15408" y="15966"/>
                  <a:pt x="15379" y="15974"/>
                </a:cubicBezTo>
                <a:cubicBezTo>
                  <a:pt x="15334" y="15987"/>
                  <a:pt x="15286" y="15976"/>
                  <a:pt x="15255" y="15949"/>
                </a:cubicBezTo>
                <a:cubicBezTo>
                  <a:pt x="15198" y="15899"/>
                  <a:pt x="15205" y="15846"/>
                  <a:pt x="15205" y="15776"/>
                </a:cubicBezTo>
                <a:cubicBezTo>
                  <a:pt x="15205" y="15759"/>
                  <a:pt x="15205" y="15743"/>
                  <a:pt x="15205" y="15726"/>
                </a:cubicBezTo>
              </a:path>
              <a:path w="2382" h="770">
                <a:moveTo>
                  <a:pt x="15329" y="15304"/>
                </a:moveTo>
                <a:cubicBezTo>
                  <a:pt x="15329" y="15350"/>
                  <a:pt x="15323" y="15369"/>
                  <a:pt x="15354" y="15404"/>
                </a:cubicBezTo>
                <a:cubicBezTo>
                  <a:pt x="15382" y="15432"/>
                  <a:pt x="15391" y="15445"/>
                  <a:pt x="15379" y="15478"/>
                </a:cubicBezTo>
              </a:path>
              <a:path w="2382" h="770">
                <a:moveTo>
                  <a:pt x="15577" y="15577"/>
                </a:moveTo>
                <a:cubicBezTo>
                  <a:pt x="15577" y="15611"/>
                  <a:pt x="15564" y="15658"/>
                  <a:pt x="15602" y="15677"/>
                </a:cubicBezTo>
                <a:cubicBezTo>
                  <a:pt x="15644" y="15698"/>
                  <a:pt x="15740" y="15676"/>
                  <a:pt x="15776" y="15652"/>
                </a:cubicBezTo>
                <a:cubicBezTo>
                  <a:pt x="15805" y="15633"/>
                  <a:pt x="15835" y="15563"/>
                  <a:pt x="15850" y="15553"/>
                </a:cubicBezTo>
                <a:cubicBezTo>
                  <a:pt x="15858" y="15553"/>
                  <a:pt x="15867" y="15553"/>
                  <a:pt x="15875" y="15553"/>
                </a:cubicBezTo>
                <a:cubicBezTo>
                  <a:pt x="15865" y="15592"/>
                  <a:pt x="15850" y="15607"/>
                  <a:pt x="15850" y="15652"/>
                </a:cubicBezTo>
                <a:cubicBezTo>
                  <a:pt x="15850" y="15694"/>
                  <a:pt x="15890" y="15677"/>
                  <a:pt x="15925" y="15677"/>
                </a:cubicBezTo>
              </a:path>
              <a:path w="2382" h="770">
                <a:moveTo>
                  <a:pt x="16049" y="15577"/>
                </a:moveTo>
                <a:cubicBezTo>
                  <a:pt x="16057" y="15577"/>
                  <a:pt x="16065" y="15577"/>
                  <a:pt x="16073" y="15577"/>
                </a:cubicBezTo>
                <a:cubicBezTo>
                  <a:pt x="16073" y="15620"/>
                  <a:pt x="16063" y="15615"/>
                  <a:pt x="16098" y="15627"/>
                </a:cubicBezTo>
                <a:cubicBezTo>
                  <a:pt x="16110" y="15662"/>
                  <a:pt x="16105" y="15652"/>
                  <a:pt x="16148" y="15652"/>
                </a:cubicBezTo>
                <a:cubicBezTo>
                  <a:pt x="16160" y="15605"/>
                  <a:pt x="16196" y="15571"/>
                  <a:pt x="16222" y="15528"/>
                </a:cubicBezTo>
                <a:cubicBezTo>
                  <a:pt x="16242" y="15487"/>
                  <a:pt x="16240" y="15471"/>
                  <a:pt x="16272" y="15478"/>
                </a:cubicBezTo>
                <a:cubicBezTo>
                  <a:pt x="16284" y="15443"/>
                  <a:pt x="16279" y="15453"/>
                  <a:pt x="16321" y="15453"/>
                </a:cubicBezTo>
                <a:cubicBezTo>
                  <a:pt x="16321" y="15481"/>
                  <a:pt x="16323" y="15492"/>
                  <a:pt x="16346" y="15503"/>
                </a:cubicBezTo>
              </a:path>
              <a:path w="2382" h="770">
                <a:moveTo>
                  <a:pt x="16346" y="15553"/>
                </a:moveTo>
                <a:cubicBezTo>
                  <a:pt x="16346" y="15578"/>
                  <a:pt x="16346" y="15602"/>
                  <a:pt x="16346" y="15627"/>
                </a:cubicBezTo>
                <a:cubicBezTo>
                  <a:pt x="16387" y="15617"/>
                  <a:pt x="16386" y="15618"/>
                  <a:pt x="16396" y="15577"/>
                </a:cubicBezTo>
              </a:path>
              <a:path w="2382" h="770">
                <a:moveTo>
                  <a:pt x="16669" y="15503"/>
                </a:moveTo>
                <a:cubicBezTo>
                  <a:pt x="16678" y="15530"/>
                  <a:pt x="16704" y="15542"/>
                  <a:pt x="16743" y="15528"/>
                </a:cubicBezTo>
                <a:cubicBezTo>
                  <a:pt x="16782" y="15514"/>
                  <a:pt x="16838" y="15483"/>
                  <a:pt x="16842" y="15453"/>
                </a:cubicBezTo>
                <a:cubicBezTo>
                  <a:pt x="16842" y="15445"/>
                  <a:pt x="16842" y="15437"/>
                  <a:pt x="16842" y="15429"/>
                </a:cubicBezTo>
                <a:cubicBezTo>
                  <a:pt x="16792" y="15429"/>
                  <a:pt x="16758" y="15421"/>
                  <a:pt x="16718" y="15453"/>
                </a:cubicBezTo>
                <a:cubicBezTo>
                  <a:pt x="16689" y="15477"/>
                  <a:pt x="16655" y="15521"/>
                  <a:pt x="16644" y="15553"/>
                </a:cubicBezTo>
                <a:cubicBezTo>
                  <a:pt x="16644" y="15561"/>
                  <a:pt x="16644" y="15569"/>
                  <a:pt x="16644" y="15577"/>
                </a:cubicBezTo>
                <a:cubicBezTo>
                  <a:pt x="16706" y="15593"/>
                  <a:pt x="16742" y="15602"/>
                  <a:pt x="16818" y="15602"/>
                </a:cubicBezTo>
                <a:cubicBezTo>
                  <a:pt x="16893" y="15602"/>
                  <a:pt x="16957" y="15572"/>
                  <a:pt x="17016" y="15528"/>
                </a:cubicBezTo>
                <a:cubicBezTo>
                  <a:pt x="17052" y="15501"/>
                  <a:pt x="17083" y="15461"/>
                  <a:pt x="17115" y="15429"/>
                </a:cubicBezTo>
                <a:cubicBezTo>
                  <a:pt x="17115" y="15364"/>
                  <a:pt x="17139" y="15489"/>
                  <a:pt x="17140" y="15503"/>
                </a:cubicBezTo>
                <a:cubicBezTo>
                  <a:pt x="17146" y="15587"/>
                  <a:pt x="17136" y="15656"/>
                  <a:pt x="17115" y="15726"/>
                </a:cubicBezTo>
                <a:cubicBezTo>
                  <a:pt x="17104" y="15764"/>
                  <a:pt x="17085" y="15751"/>
                  <a:pt x="17041" y="15751"/>
                </a:cubicBezTo>
                <a:cubicBezTo>
                  <a:pt x="16968" y="15751"/>
                  <a:pt x="17021" y="15729"/>
                  <a:pt x="16966" y="15701"/>
                </a:cubicBezTo>
                <a:cubicBezTo>
                  <a:pt x="16935" y="15685"/>
                  <a:pt x="16942" y="15697"/>
                  <a:pt x="16942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Ink 65"/>
          <p:cNvSpPr/>
          <p:nvPr/>
        </p:nvSpPr>
        <p:spPr>
          <a:xfrm>
            <a:off x="1268280" y="5902200"/>
            <a:ext cx="3402000" cy="652680"/>
          </a:xfrm>
          <a:custGeom>
            <a:avLst/>
            <a:gdLst/>
            <a:ahLst/>
            <a:rect l="l" t="t" r="r" b="b"/>
            <a:pathLst>
              <a:path w="9452" h="1812">
                <a:moveTo>
                  <a:pt x="3522" y="17537"/>
                </a:moveTo>
                <a:cubicBezTo>
                  <a:pt x="3522" y="17644"/>
                  <a:pt x="3522" y="17752"/>
                  <a:pt x="3522" y="17859"/>
                </a:cubicBezTo>
                <a:cubicBezTo>
                  <a:pt x="3522" y="17763"/>
                  <a:pt x="3517" y="17676"/>
                  <a:pt x="3547" y="17587"/>
                </a:cubicBezTo>
                <a:cubicBezTo>
                  <a:pt x="3576" y="17502"/>
                  <a:pt x="3588" y="17417"/>
                  <a:pt x="3621" y="17338"/>
                </a:cubicBezTo>
                <a:cubicBezTo>
                  <a:pt x="3634" y="17308"/>
                  <a:pt x="3648" y="17205"/>
                  <a:pt x="3671" y="17190"/>
                </a:cubicBezTo>
                <a:cubicBezTo>
                  <a:pt x="3709" y="17165"/>
                  <a:pt x="3681" y="17140"/>
                  <a:pt x="3746" y="17140"/>
                </a:cubicBezTo>
                <a:cubicBezTo>
                  <a:pt x="3784" y="17140"/>
                  <a:pt x="3801" y="17176"/>
                  <a:pt x="3820" y="17190"/>
                </a:cubicBezTo>
                <a:cubicBezTo>
                  <a:pt x="3847" y="17210"/>
                  <a:pt x="3888" y="17259"/>
                  <a:pt x="3894" y="17289"/>
                </a:cubicBezTo>
                <a:cubicBezTo>
                  <a:pt x="3907" y="17349"/>
                  <a:pt x="3858" y="17375"/>
                  <a:pt x="3820" y="17413"/>
                </a:cubicBezTo>
                <a:cubicBezTo>
                  <a:pt x="3793" y="17440"/>
                  <a:pt x="3710" y="17472"/>
                  <a:pt x="3671" y="17487"/>
                </a:cubicBezTo>
                <a:cubicBezTo>
                  <a:pt x="3641" y="17499"/>
                  <a:pt x="3567" y="17509"/>
                  <a:pt x="3597" y="17487"/>
                </a:cubicBezTo>
                <a:cubicBezTo>
                  <a:pt x="3605" y="17479"/>
                  <a:pt x="3613" y="17470"/>
                  <a:pt x="3621" y="17462"/>
                </a:cubicBezTo>
              </a:path>
              <a:path w="9452" h="1812">
                <a:moveTo>
                  <a:pt x="4465" y="16892"/>
                </a:moveTo>
                <a:cubicBezTo>
                  <a:pt x="4415" y="16942"/>
                  <a:pt x="4381" y="16965"/>
                  <a:pt x="4366" y="17041"/>
                </a:cubicBezTo>
                <a:cubicBezTo>
                  <a:pt x="4351" y="17119"/>
                  <a:pt x="4306" y="17185"/>
                  <a:pt x="4291" y="17264"/>
                </a:cubicBezTo>
                <a:cubicBezTo>
                  <a:pt x="4273" y="17356"/>
                  <a:pt x="4266" y="17442"/>
                  <a:pt x="4266" y="17537"/>
                </a:cubicBezTo>
                <a:cubicBezTo>
                  <a:pt x="4266" y="17610"/>
                  <a:pt x="4248" y="17697"/>
                  <a:pt x="4291" y="17760"/>
                </a:cubicBezTo>
                <a:cubicBezTo>
                  <a:pt x="4313" y="17793"/>
                  <a:pt x="4353" y="17831"/>
                  <a:pt x="4390" y="17835"/>
                </a:cubicBezTo>
                <a:cubicBezTo>
                  <a:pt x="4435" y="17840"/>
                  <a:pt x="4448" y="17884"/>
                  <a:pt x="4465" y="17835"/>
                </a:cubicBezTo>
              </a:path>
              <a:path w="9452" h="1812">
                <a:moveTo>
                  <a:pt x="4614" y="17487"/>
                </a:moveTo>
                <a:cubicBezTo>
                  <a:pt x="4614" y="17522"/>
                  <a:pt x="4614" y="17650"/>
                  <a:pt x="4614" y="17487"/>
                </a:cubicBezTo>
              </a:path>
              <a:path w="9452" h="1812">
                <a:moveTo>
                  <a:pt x="4614" y="17487"/>
                </a:moveTo>
                <a:cubicBezTo>
                  <a:pt x="4645" y="17144"/>
                  <a:pt x="4602" y="17163"/>
                  <a:pt x="4688" y="17314"/>
                </a:cubicBezTo>
              </a:path>
              <a:path w="9452" h="1812">
                <a:moveTo>
                  <a:pt x="4812" y="17636"/>
                </a:moveTo>
                <a:cubicBezTo>
                  <a:pt x="4812" y="17661"/>
                  <a:pt x="4812" y="17669"/>
                  <a:pt x="4812" y="17686"/>
                </a:cubicBezTo>
                <a:cubicBezTo>
                  <a:pt x="4848" y="17674"/>
                  <a:pt x="4845" y="17650"/>
                  <a:pt x="4862" y="17611"/>
                </a:cubicBezTo>
                <a:cubicBezTo>
                  <a:pt x="4891" y="17543"/>
                  <a:pt x="4911" y="17528"/>
                  <a:pt x="4961" y="17487"/>
                </a:cubicBezTo>
                <a:cubicBezTo>
                  <a:pt x="4992" y="17462"/>
                  <a:pt x="5002" y="17447"/>
                  <a:pt x="5011" y="17413"/>
                </a:cubicBezTo>
                <a:cubicBezTo>
                  <a:pt x="5051" y="17427"/>
                  <a:pt x="5055" y="17434"/>
                  <a:pt x="5060" y="17487"/>
                </a:cubicBezTo>
                <a:cubicBezTo>
                  <a:pt x="5064" y="17528"/>
                  <a:pt x="5085" y="17541"/>
                  <a:pt x="5085" y="17587"/>
                </a:cubicBezTo>
                <a:cubicBezTo>
                  <a:pt x="5085" y="17629"/>
                  <a:pt x="5075" y="17624"/>
                  <a:pt x="5110" y="17636"/>
                </a:cubicBezTo>
              </a:path>
              <a:path w="9452" h="1812">
                <a:moveTo>
                  <a:pt x="4589" y="17165"/>
                </a:moveTo>
                <a:lnTo>
                  <a:pt x="4589" y="17165"/>
                </a:lnTo>
                <a:lnTo>
                  <a:pt x="4589" y="17165"/>
                </a:lnTo>
                <a:lnTo>
                  <a:pt x="4589" y="17165"/>
                </a:lnTo>
                <a:lnTo>
                  <a:pt x="4589" y="17165"/>
                </a:lnTo>
              </a:path>
              <a:path w="9452" h="1812">
                <a:moveTo>
                  <a:pt x="5407" y="17413"/>
                </a:moveTo>
                <a:cubicBezTo>
                  <a:pt x="5407" y="17458"/>
                  <a:pt x="5386" y="17472"/>
                  <a:pt x="5383" y="17512"/>
                </a:cubicBezTo>
                <a:cubicBezTo>
                  <a:pt x="5372" y="17670"/>
                  <a:pt x="5401" y="17841"/>
                  <a:pt x="5358" y="17983"/>
                </a:cubicBezTo>
                <a:cubicBezTo>
                  <a:pt x="5329" y="18077"/>
                  <a:pt x="5328" y="18039"/>
                  <a:pt x="5283" y="18083"/>
                </a:cubicBezTo>
                <a:cubicBezTo>
                  <a:pt x="5255" y="18110"/>
                  <a:pt x="5228" y="18122"/>
                  <a:pt x="5184" y="18083"/>
                </a:cubicBezTo>
                <a:cubicBezTo>
                  <a:pt x="5138" y="18043"/>
                  <a:pt x="5096" y="17995"/>
                  <a:pt x="5085" y="17934"/>
                </a:cubicBezTo>
                <a:cubicBezTo>
                  <a:pt x="5077" y="17888"/>
                  <a:pt x="5085" y="17831"/>
                  <a:pt x="5085" y="17785"/>
                </a:cubicBezTo>
              </a:path>
              <a:path w="9452" h="1812">
                <a:moveTo>
                  <a:pt x="5283" y="17041"/>
                </a:moveTo>
                <a:cubicBezTo>
                  <a:pt x="5305" y="17058"/>
                  <a:pt x="5383" y="17101"/>
                  <a:pt x="5283" y="17041"/>
                </a:cubicBezTo>
              </a:path>
              <a:path w="9452" h="1812">
                <a:moveTo>
                  <a:pt x="5581" y="17438"/>
                </a:moveTo>
                <a:cubicBezTo>
                  <a:pt x="5558" y="17445"/>
                  <a:pt x="5542" y="17480"/>
                  <a:pt x="5531" y="17512"/>
                </a:cubicBezTo>
                <a:cubicBezTo>
                  <a:pt x="5516" y="17557"/>
                  <a:pt x="5541" y="17602"/>
                  <a:pt x="5581" y="17611"/>
                </a:cubicBezTo>
                <a:cubicBezTo>
                  <a:pt x="5605" y="17616"/>
                  <a:pt x="5617" y="17657"/>
                  <a:pt x="5655" y="17636"/>
                </a:cubicBezTo>
                <a:cubicBezTo>
                  <a:pt x="5684" y="17619"/>
                  <a:pt x="5721" y="17565"/>
                  <a:pt x="5730" y="17537"/>
                </a:cubicBezTo>
                <a:cubicBezTo>
                  <a:pt x="5741" y="17505"/>
                  <a:pt x="5755" y="17429"/>
                  <a:pt x="5755" y="17462"/>
                </a:cubicBezTo>
                <a:cubicBezTo>
                  <a:pt x="5755" y="17495"/>
                  <a:pt x="5753" y="17516"/>
                  <a:pt x="5779" y="17537"/>
                </a:cubicBezTo>
                <a:cubicBezTo>
                  <a:pt x="5803" y="17556"/>
                  <a:pt x="5818" y="17560"/>
                  <a:pt x="5854" y="17587"/>
                </a:cubicBezTo>
              </a:path>
              <a:path w="9452" h="1812">
                <a:moveTo>
                  <a:pt x="6003" y="17462"/>
                </a:moveTo>
                <a:cubicBezTo>
                  <a:pt x="6003" y="17520"/>
                  <a:pt x="5993" y="17566"/>
                  <a:pt x="6028" y="17611"/>
                </a:cubicBezTo>
                <a:cubicBezTo>
                  <a:pt x="6028" y="17569"/>
                  <a:pt x="6039" y="17525"/>
                  <a:pt x="6052" y="17487"/>
                </a:cubicBezTo>
                <a:cubicBezTo>
                  <a:pt x="6058" y="17471"/>
                  <a:pt x="6118" y="17369"/>
                  <a:pt x="6127" y="17363"/>
                </a:cubicBezTo>
                <a:cubicBezTo>
                  <a:pt x="6160" y="17363"/>
                  <a:pt x="6176" y="17363"/>
                  <a:pt x="6201" y="17363"/>
                </a:cubicBezTo>
              </a:path>
              <a:path w="9452" h="1812">
                <a:moveTo>
                  <a:pt x="6300" y="17413"/>
                </a:moveTo>
                <a:cubicBezTo>
                  <a:pt x="6318" y="17468"/>
                  <a:pt x="6311" y="17405"/>
                  <a:pt x="6325" y="17487"/>
                </a:cubicBezTo>
                <a:cubicBezTo>
                  <a:pt x="6387" y="17487"/>
                  <a:pt x="6420" y="17477"/>
                  <a:pt x="6449" y="17462"/>
                </a:cubicBezTo>
                <a:cubicBezTo>
                  <a:pt x="6474" y="17462"/>
                  <a:pt x="6482" y="17462"/>
                  <a:pt x="6474" y="17438"/>
                </a:cubicBezTo>
                <a:cubicBezTo>
                  <a:pt x="6474" y="17511"/>
                  <a:pt x="6496" y="17563"/>
                  <a:pt x="6499" y="17636"/>
                </a:cubicBezTo>
                <a:cubicBezTo>
                  <a:pt x="6503" y="17742"/>
                  <a:pt x="6485" y="17833"/>
                  <a:pt x="6474" y="17934"/>
                </a:cubicBezTo>
                <a:cubicBezTo>
                  <a:pt x="6469" y="17980"/>
                  <a:pt x="6461" y="18098"/>
                  <a:pt x="6424" y="18132"/>
                </a:cubicBezTo>
                <a:cubicBezTo>
                  <a:pt x="6400" y="18154"/>
                  <a:pt x="6329" y="18197"/>
                  <a:pt x="6300" y="18207"/>
                </a:cubicBezTo>
                <a:cubicBezTo>
                  <a:pt x="6247" y="18225"/>
                  <a:pt x="6203" y="18133"/>
                  <a:pt x="6201" y="18107"/>
                </a:cubicBezTo>
                <a:cubicBezTo>
                  <a:pt x="6196" y="18053"/>
                  <a:pt x="6195" y="18005"/>
                  <a:pt x="6226" y="17959"/>
                </a:cubicBezTo>
                <a:cubicBezTo>
                  <a:pt x="6234" y="17951"/>
                  <a:pt x="6243" y="17942"/>
                  <a:pt x="6251" y="17934"/>
                </a:cubicBezTo>
              </a:path>
              <a:path w="9452" h="1812">
                <a:moveTo>
                  <a:pt x="6995" y="17388"/>
                </a:moveTo>
                <a:cubicBezTo>
                  <a:pt x="7003" y="17388"/>
                  <a:pt x="7012" y="17388"/>
                  <a:pt x="7020" y="17388"/>
                </a:cubicBezTo>
                <a:cubicBezTo>
                  <a:pt x="7033" y="17426"/>
                  <a:pt x="7049" y="17413"/>
                  <a:pt x="7094" y="17413"/>
                </a:cubicBezTo>
                <a:cubicBezTo>
                  <a:pt x="7152" y="17413"/>
                  <a:pt x="7210" y="17413"/>
                  <a:pt x="7268" y="17413"/>
                </a:cubicBezTo>
                <a:cubicBezTo>
                  <a:pt x="7281" y="17451"/>
                  <a:pt x="7297" y="17438"/>
                  <a:pt x="7342" y="17438"/>
                </a:cubicBezTo>
                <a:cubicBezTo>
                  <a:pt x="7383" y="17438"/>
                  <a:pt x="7355" y="17425"/>
                  <a:pt x="7392" y="17413"/>
                </a:cubicBezTo>
                <a:cubicBezTo>
                  <a:pt x="7351" y="17413"/>
                  <a:pt x="7379" y="17426"/>
                  <a:pt x="7342" y="17438"/>
                </a:cubicBezTo>
              </a:path>
              <a:path w="9452" h="1812">
                <a:moveTo>
                  <a:pt x="7045" y="17636"/>
                </a:moveTo>
                <a:cubicBezTo>
                  <a:pt x="7100" y="17636"/>
                  <a:pt x="7116" y="17647"/>
                  <a:pt x="7169" y="17661"/>
                </a:cubicBezTo>
                <a:cubicBezTo>
                  <a:pt x="7244" y="17680"/>
                  <a:pt x="7322" y="17721"/>
                  <a:pt x="7392" y="17686"/>
                </a:cubicBezTo>
                <a:cubicBezTo>
                  <a:pt x="7392" y="17678"/>
                  <a:pt x="7392" y="17669"/>
                  <a:pt x="7392" y="17661"/>
                </a:cubicBezTo>
              </a:path>
              <a:path w="9452" h="1812">
                <a:moveTo>
                  <a:pt x="6573" y="16892"/>
                </a:moveTo>
                <a:cubicBezTo>
                  <a:pt x="6582" y="16928"/>
                  <a:pt x="6600" y="16981"/>
                  <a:pt x="6623" y="17016"/>
                </a:cubicBezTo>
                <a:cubicBezTo>
                  <a:pt x="6650" y="17056"/>
                  <a:pt x="6713" y="17138"/>
                  <a:pt x="6722" y="17190"/>
                </a:cubicBezTo>
                <a:cubicBezTo>
                  <a:pt x="6735" y="17262"/>
                  <a:pt x="6763" y="17342"/>
                  <a:pt x="6772" y="17413"/>
                </a:cubicBezTo>
                <a:cubicBezTo>
                  <a:pt x="6781" y="17479"/>
                  <a:pt x="6793" y="17547"/>
                  <a:pt x="6796" y="17611"/>
                </a:cubicBezTo>
                <a:cubicBezTo>
                  <a:pt x="6799" y="17670"/>
                  <a:pt x="6796" y="17759"/>
                  <a:pt x="6772" y="17810"/>
                </a:cubicBezTo>
                <a:cubicBezTo>
                  <a:pt x="6756" y="17845"/>
                  <a:pt x="6765" y="17902"/>
                  <a:pt x="6747" y="17934"/>
                </a:cubicBezTo>
                <a:cubicBezTo>
                  <a:pt x="6729" y="17966"/>
                  <a:pt x="6726" y="18004"/>
                  <a:pt x="6697" y="18008"/>
                </a:cubicBezTo>
                <a:cubicBezTo>
                  <a:pt x="6689" y="18008"/>
                  <a:pt x="6680" y="18008"/>
                  <a:pt x="6672" y="18008"/>
                </a:cubicBezTo>
              </a:path>
              <a:path w="9452" h="1812">
                <a:moveTo>
                  <a:pt x="4713" y="16991"/>
                </a:moveTo>
                <a:cubicBezTo>
                  <a:pt x="4713" y="17016"/>
                  <a:pt x="4713" y="17024"/>
                  <a:pt x="4713" y="17041"/>
                </a:cubicBezTo>
                <a:cubicBezTo>
                  <a:pt x="4728" y="17041"/>
                  <a:pt x="4827" y="17031"/>
                  <a:pt x="4787" y="16991"/>
                </a:cubicBezTo>
                <a:cubicBezTo>
                  <a:pt x="4762" y="16991"/>
                  <a:pt x="4754" y="16991"/>
                  <a:pt x="4787" y="16991"/>
                </a:cubicBezTo>
              </a:path>
              <a:path w="9452" h="1812">
                <a:moveTo>
                  <a:pt x="8384" y="16917"/>
                </a:moveTo>
                <a:cubicBezTo>
                  <a:pt x="8398" y="16875"/>
                  <a:pt x="8435" y="16900"/>
                  <a:pt x="8483" y="16867"/>
                </a:cubicBezTo>
                <a:cubicBezTo>
                  <a:pt x="8535" y="16832"/>
                  <a:pt x="8551" y="16865"/>
                  <a:pt x="8607" y="16842"/>
                </a:cubicBezTo>
                <a:cubicBezTo>
                  <a:pt x="8670" y="16817"/>
                  <a:pt x="8737" y="16791"/>
                  <a:pt x="8806" y="16768"/>
                </a:cubicBezTo>
                <a:cubicBezTo>
                  <a:pt x="8832" y="16759"/>
                  <a:pt x="8877" y="16768"/>
                  <a:pt x="8905" y="16768"/>
                </a:cubicBezTo>
                <a:cubicBezTo>
                  <a:pt x="8895" y="16799"/>
                  <a:pt x="8865" y="16825"/>
                  <a:pt x="8830" y="16842"/>
                </a:cubicBezTo>
              </a:path>
              <a:path w="9452" h="1812">
                <a:moveTo>
                  <a:pt x="8334" y="17214"/>
                </a:moveTo>
                <a:cubicBezTo>
                  <a:pt x="8423" y="17214"/>
                  <a:pt x="8498" y="17210"/>
                  <a:pt x="8582" y="17190"/>
                </a:cubicBezTo>
                <a:cubicBezTo>
                  <a:pt x="8653" y="17173"/>
                  <a:pt x="8757" y="17190"/>
                  <a:pt x="8830" y="17190"/>
                </a:cubicBezTo>
                <a:cubicBezTo>
                  <a:pt x="8830" y="17165"/>
                  <a:pt x="8830" y="17157"/>
                  <a:pt x="8855" y="17165"/>
                </a:cubicBezTo>
              </a:path>
              <a:path w="9452" h="1812">
                <a:moveTo>
                  <a:pt x="8582" y="16619"/>
                </a:moveTo>
                <a:cubicBezTo>
                  <a:pt x="8582" y="16664"/>
                  <a:pt x="8562" y="16678"/>
                  <a:pt x="8558" y="16718"/>
                </a:cubicBezTo>
                <a:cubicBezTo>
                  <a:pt x="8535" y="16928"/>
                  <a:pt x="8558" y="17151"/>
                  <a:pt x="8558" y="17363"/>
                </a:cubicBezTo>
                <a:cubicBezTo>
                  <a:pt x="8587" y="17333"/>
                  <a:pt x="8598" y="17319"/>
                  <a:pt x="8607" y="17289"/>
                </a:cubicBezTo>
              </a:path>
              <a:path w="9452" h="1812">
                <a:moveTo>
                  <a:pt x="8806" y="16619"/>
                </a:moveTo>
                <a:cubicBezTo>
                  <a:pt x="8806" y="16719"/>
                  <a:pt x="8744" y="17196"/>
                  <a:pt x="8830" y="17239"/>
                </a:cubicBezTo>
                <a:cubicBezTo>
                  <a:pt x="8882" y="17265"/>
                  <a:pt x="8919" y="17233"/>
                  <a:pt x="8930" y="17190"/>
                </a:cubicBezTo>
              </a:path>
              <a:path w="9452" h="1812">
                <a:moveTo>
                  <a:pt x="9897" y="16644"/>
                </a:moveTo>
                <a:cubicBezTo>
                  <a:pt x="9897" y="16711"/>
                  <a:pt x="9905" y="17198"/>
                  <a:pt x="9922" y="17190"/>
                </a:cubicBezTo>
                <a:cubicBezTo>
                  <a:pt x="9930" y="17182"/>
                  <a:pt x="9939" y="17173"/>
                  <a:pt x="9947" y="17165"/>
                </a:cubicBezTo>
              </a:path>
              <a:path w="9452" h="1812">
                <a:moveTo>
                  <a:pt x="9624" y="16718"/>
                </a:moveTo>
                <a:cubicBezTo>
                  <a:pt x="9668" y="16718"/>
                  <a:pt x="9684" y="16704"/>
                  <a:pt x="9723" y="16694"/>
                </a:cubicBezTo>
                <a:cubicBezTo>
                  <a:pt x="9735" y="16675"/>
                  <a:pt x="9787" y="16656"/>
                  <a:pt x="9823" y="16644"/>
                </a:cubicBezTo>
                <a:cubicBezTo>
                  <a:pt x="9883" y="16623"/>
                  <a:pt x="9981" y="16644"/>
                  <a:pt x="10046" y="16644"/>
                </a:cubicBezTo>
                <a:cubicBezTo>
                  <a:pt x="10046" y="16669"/>
                  <a:pt x="10046" y="16677"/>
                  <a:pt x="10046" y="16694"/>
                </a:cubicBezTo>
              </a:path>
              <a:path w="9452" h="1812">
                <a:moveTo>
                  <a:pt x="9674" y="17289"/>
                </a:moveTo>
                <a:cubicBezTo>
                  <a:pt x="9730" y="17289"/>
                  <a:pt x="9752" y="17279"/>
                  <a:pt x="9798" y="17264"/>
                </a:cubicBezTo>
                <a:cubicBezTo>
                  <a:pt x="9838" y="17251"/>
                  <a:pt x="9885" y="17251"/>
                  <a:pt x="9922" y="17239"/>
                </a:cubicBezTo>
                <a:cubicBezTo>
                  <a:pt x="9973" y="17222"/>
                  <a:pt x="10064" y="17239"/>
                  <a:pt x="10120" y="17239"/>
                </a:cubicBezTo>
              </a:path>
              <a:path w="9452" h="1812">
                <a:moveTo>
                  <a:pt x="10269" y="17115"/>
                </a:moveTo>
                <a:cubicBezTo>
                  <a:pt x="10269" y="17140"/>
                  <a:pt x="10269" y="17148"/>
                  <a:pt x="10269" y="17165"/>
                </a:cubicBezTo>
                <a:cubicBezTo>
                  <a:pt x="10307" y="17155"/>
                  <a:pt x="10338" y="17142"/>
                  <a:pt x="10368" y="17115"/>
                </a:cubicBezTo>
                <a:cubicBezTo>
                  <a:pt x="10396" y="17090"/>
                  <a:pt x="10431" y="17070"/>
                  <a:pt x="10468" y="17066"/>
                </a:cubicBezTo>
                <a:cubicBezTo>
                  <a:pt x="10492" y="17063"/>
                  <a:pt x="10518" y="17066"/>
                  <a:pt x="10542" y="17066"/>
                </a:cubicBezTo>
                <a:cubicBezTo>
                  <a:pt x="10552" y="17105"/>
                  <a:pt x="10567" y="17120"/>
                  <a:pt x="10567" y="17165"/>
                </a:cubicBezTo>
                <a:cubicBezTo>
                  <a:pt x="10567" y="17207"/>
                  <a:pt x="10557" y="17203"/>
                  <a:pt x="10592" y="17214"/>
                </a:cubicBezTo>
              </a:path>
              <a:path w="9452" h="1812">
                <a:moveTo>
                  <a:pt x="10765" y="16991"/>
                </a:moveTo>
                <a:cubicBezTo>
                  <a:pt x="10765" y="17038"/>
                  <a:pt x="10782" y="17054"/>
                  <a:pt x="10790" y="17090"/>
                </a:cubicBezTo>
                <a:cubicBezTo>
                  <a:pt x="10803" y="17152"/>
                  <a:pt x="10805" y="17229"/>
                  <a:pt x="10815" y="17289"/>
                </a:cubicBezTo>
                <a:cubicBezTo>
                  <a:pt x="10829" y="17371"/>
                  <a:pt x="10812" y="17446"/>
                  <a:pt x="10790" y="17512"/>
                </a:cubicBezTo>
                <a:cubicBezTo>
                  <a:pt x="10783" y="17534"/>
                  <a:pt x="10751" y="17557"/>
                  <a:pt x="10716" y="17537"/>
                </a:cubicBezTo>
                <a:cubicBezTo>
                  <a:pt x="10684" y="17519"/>
                  <a:pt x="10643" y="17472"/>
                  <a:pt x="10641" y="17438"/>
                </a:cubicBezTo>
                <a:cubicBezTo>
                  <a:pt x="10638" y="17397"/>
                  <a:pt x="10641" y="17355"/>
                  <a:pt x="10641" y="17314"/>
                </a:cubicBezTo>
              </a:path>
              <a:path w="9452" h="1812">
                <a:moveTo>
                  <a:pt x="10716" y="16768"/>
                </a:moveTo>
                <a:cubicBezTo>
                  <a:pt x="10724" y="16768"/>
                  <a:pt x="10732" y="16768"/>
                  <a:pt x="10740" y="16768"/>
                </a:cubicBezTo>
                <a:cubicBezTo>
                  <a:pt x="10751" y="16802"/>
                  <a:pt x="10775" y="16798"/>
                  <a:pt x="10790" y="16842"/>
                </a:cubicBezTo>
                <a:cubicBezTo>
                  <a:pt x="10802" y="16878"/>
                  <a:pt x="10818" y="16904"/>
                  <a:pt x="10840" y="16942"/>
                </a:cubicBezTo>
              </a:path>
              <a:path w="9452" h="1812">
                <a:moveTo>
                  <a:pt x="10939" y="17041"/>
                </a:moveTo>
                <a:cubicBezTo>
                  <a:pt x="10939" y="17099"/>
                  <a:pt x="10939" y="17156"/>
                  <a:pt x="10939" y="17214"/>
                </a:cubicBezTo>
                <a:cubicBezTo>
                  <a:pt x="11006" y="17214"/>
                  <a:pt x="11078" y="17226"/>
                  <a:pt x="11137" y="17190"/>
                </a:cubicBezTo>
                <a:cubicBezTo>
                  <a:pt x="11179" y="17164"/>
                  <a:pt x="11256" y="17086"/>
                  <a:pt x="11261" y="17041"/>
                </a:cubicBezTo>
                <a:cubicBezTo>
                  <a:pt x="11261" y="17033"/>
                  <a:pt x="11261" y="17024"/>
                  <a:pt x="11261" y="17016"/>
                </a:cubicBezTo>
                <a:cubicBezTo>
                  <a:pt x="11299" y="17029"/>
                  <a:pt x="11286" y="17045"/>
                  <a:pt x="11286" y="17090"/>
                </a:cubicBezTo>
                <a:cubicBezTo>
                  <a:pt x="11286" y="17143"/>
                  <a:pt x="11319" y="17140"/>
                  <a:pt x="11361" y="17140"/>
                </a:cubicBezTo>
              </a:path>
              <a:path w="9452" h="1812">
                <a:moveTo>
                  <a:pt x="11509" y="17041"/>
                </a:moveTo>
                <a:cubicBezTo>
                  <a:pt x="11519" y="17080"/>
                  <a:pt x="11534" y="17095"/>
                  <a:pt x="11534" y="17140"/>
                </a:cubicBezTo>
                <a:cubicBezTo>
                  <a:pt x="11534" y="17179"/>
                  <a:pt x="11559" y="17159"/>
                  <a:pt x="11559" y="17214"/>
                </a:cubicBezTo>
                <a:cubicBezTo>
                  <a:pt x="11585" y="17206"/>
                  <a:pt x="11618" y="17153"/>
                  <a:pt x="11633" y="17115"/>
                </a:cubicBezTo>
                <a:cubicBezTo>
                  <a:pt x="11659" y="17048"/>
                  <a:pt x="11695" y="17039"/>
                  <a:pt x="11733" y="16991"/>
                </a:cubicBezTo>
                <a:cubicBezTo>
                  <a:pt x="11754" y="16948"/>
                  <a:pt x="11758" y="16936"/>
                  <a:pt x="11782" y="16917"/>
                </a:cubicBezTo>
                <a:cubicBezTo>
                  <a:pt x="11819" y="16929"/>
                  <a:pt x="11811" y="16939"/>
                  <a:pt x="11832" y="16966"/>
                </a:cubicBezTo>
                <a:cubicBezTo>
                  <a:pt x="11855" y="16989"/>
                  <a:pt x="11863" y="16993"/>
                  <a:pt x="11857" y="17016"/>
                </a:cubicBezTo>
              </a:path>
              <a:path w="9452" h="1812">
                <a:moveTo>
                  <a:pt x="12105" y="16991"/>
                </a:moveTo>
                <a:cubicBezTo>
                  <a:pt x="12083" y="17043"/>
                  <a:pt x="12080" y="17061"/>
                  <a:pt x="12080" y="17115"/>
                </a:cubicBezTo>
                <a:cubicBezTo>
                  <a:pt x="12080" y="17179"/>
                  <a:pt x="12101" y="17105"/>
                  <a:pt x="12105" y="17090"/>
                </a:cubicBezTo>
              </a:path>
              <a:path w="9452" h="1812">
                <a:moveTo>
                  <a:pt x="12179" y="16743"/>
                </a:moveTo>
                <a:cubicBezTo>
                  <a:pt x="12179" y="16670"/>
                  <a:pt x="12182" y="16710"/>
                  <a:pt x="12204" y="16743"/>
                </a:cubicBezTo>
                <a:cubicBezTo>
                  <a:pt x="12234" y="16773"/>
                  <a:pt x="12236" y="16778"/>
                  <a:pt x="12179" y="16743"/>
                </a:cubicBezTo>
              </a:path>
              <a:path w="9452" h="1812">
                <a:moveTo>
                  <a:pt x="12179" y="16743"/>
                </a:moveTo>
                <a:cubicBezTo>
                  <a:pt x="12200" y="16803"/>
                  <a:pt x="12230" y="17033"/>
                  <a:pt x="12328" y="17066"/>
                </a:cubicBezTo>
                <a:cubicBezTo>
                  <a:pt x="12374" y="17081"/>
                  <a:pt x="12394" y="17052"/>
                  <a:pt x="12427" y="17041"/>
                </a:cubicBezTo>
                <a:cubicBezTo>
                  <a:pt x="12477" y="17024"/>
                  <a:pt x="12477" y="16993"/>
                  <a:pt x="12477" y="16942"/>
                </a:cubicBezTo>
                <a:cubicBezTo>
                  <a:pt x="12477" y="16934"/>
                  <a:pt x="12477" y="16925"/>
                  <a:pt x="12477" y="16917"/>
                </a:cubicBezTo>
                <a:cubicBezTo>
                  <a:pt x="12430" y="16917"/>
                  <a:pt x="12413" y="16911"/>
                  <a:pt x="12378" y="16942"/>
                </a:cubicBezTo>
                <a:cubicBezTo>
                  <a:pt x="12328" y="16986"/>
                  <a:pt x="12328" y="17028"/>
                  <a:pt x="12328" y="17090"/>
                </a:cubicBezTo>
                <a:cubicBezTo>
                  <a:pt x="12328" y="17126"/>
                  <a:pt x="12335" y="17164"/>
                  <a:pt x="12353" y="17190"/>
                </a:cubicBezTo>
                <a:cubicBezTo>
                  <a:pt x="12377" y="17225"/>
                  <a:pt x="12415" y="17214"/>
                  <a:pt x="12452" y="17214"/>
                </a:cubicBezTo>
                <a:cubicBezTo>
                  <a:pt x="12512" y="17214"/>
                  <a:pt x="12502" y="17187"/>
                  <a:pt x="12551" y="17165"/>
                </a:cubicBezTo>
                <a:cubicBezTo>
                  <a:pt x="12581" y="17152"/>
                  <a:pt x="12585" y="17129"/>
                  <a:pt x="12626" y="17115"/>
                </a:cubicBezTo>
                <a:cubicBezTo>
                  <a:pt x="12633" y="17113"/>
                  <a:pt x="12695" y="17073"/>
                  <a:pt x="12700" y="17066"/>
                </a:cubicBezTo>
                <a:cubicBezTo>
                  <a:pt x="12706" y="17057"/>
                  <a:pt x="12717" y="16997"/>
                  <a:pt x="12725" y="16991"/>
                </a:cubicBezTo>
                <a:cubicBezTo>
                  <a:pt x="12739" y="16980"/>
                  <a:pt x="12779" y="16971"/>
                  <a:pt x="12799" y="16966"/>
                </a:cubicBezTo>
                <a:cubicBezTo>
                  <a:pt x="12799" y="17012"/>
                  <a:pt x="12821" y="17025"/>
                  <a:pt x="12824" y="17066"/>
                </a:cubicBezTo>
                <a:cubicBezTo>
                  <a:pt x="12828" y="17121"/>
                  <a:pt x="12844" y="17162"/>
                  <a:pt x="12849" y="17214"/>
                </a:cubicBezTo>
                <a:cubicBezTo>
                  <a:pt x="12854" y="17265"/>
                  <a:pt x="12838" y="17274"/>
                  <a:pt x="12824" y="17314"/>
                </a:cubicBezTo>
                <a:cubicBezTo>
                  <a:pt x="12816" y="17338"/>
                  <a:pt x="12785" y="17382"/>
                  <a:pt x="12774" y="17388"/>
                </a:cubicBezTo>
                <a:cubicBezTo>
                  <a:pt x="12746" y="17403"/>
                  <a:pt x="12664" y="17391"/>
                  <a:pt x="12650" y="17363"/>
                </a:cubicBezTo>
                <a:cubicBezTo>
                  <a:pt x="12632" y="17327"/>
                  <a:pt x="12668" y="17272"/>
                  <a:pt x="12675" y="17239"/>
                </a:cubicBezTo>
              </a:path>
              <a:path w="9452" h="1812">
                <a:moveTo>
                  <a:pt x="12973" y="16470"/>
                </a:moveTo>
                <a:cubicBezTo>
                  <a:pt x="12947" y="16505"/>
                  <a:pt x="12948" y="16501"/>
                  <a:pt x="12948" y="16545"/>
                </a:cubicBezTo>
                <a:cubicBezTo>
                  <a:pt x="12915" y="16556"/>
                  <a:pt x="12926" y="16558"/>
                  <a:pt x="12898" y="16594"/>
                </a:cubicBezTo>
              </a:path>
              <a:path w="9452" h="1812">
                <a:moveTo>
                  <a:pt x="9475" y="16396"/>
                </a:moveTo>
                <a:cubicBezTo>
                  <a:pt x="9475" y="16404"/>
                  <a:pt x="9475" y="16413"/>
                  <a:pt x="9475" y="16421"/>
                </a:cubicBezTo>
                <a:cubicBezTo>
                  <a:pt x="9547" y="16421"/>
                  <a:pt x="9495" y="16443"/>
                  <a:pt x="9550" y="16470"/>
                </a:cubicBezTo>
                <a:cubicBezTo>
                  <a:pt x="9577" y="16483"/>
                  <a:pt x="9618" y="16489"/>
                  <a:pt x="9649" y="1649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Ink 66"/>
          <p:cNvSpPr/>
          <p:nvPr/>
        </p:nvSpPr>
        <p:spPr>
          <a:xfrm>
            <a:off x="5241960" y="5715000"/>
            <a:ext cx="3125880" cy="1089000"/>
          </a:xfrm>
          <a:custGeom>
            <a:avLst/>
            <a:gdLst/>
            <a:ahLst/>
            <a:rect l="l" t="t" r="r" b="b"/>
            <a:pathLst>
              <a:path w="8683" h="3027">
                <a:moveTo>
                  <a:pt x="14784" y="16446"/>
                </a:moveTo>
                <a:cubicBezTo>
                  <a:pt x="14784" y="16529"/>
                  <a:pt x="14784" y="16611"/>
                  <a:pt x="14784" y="16694"/>
                </a:cubicBezTo>
                <a:cubicBezTo>
                  <a:pt x="14784" y="16640"/>
                  <a:pt x="14795" y="16622"/>
                  <a:pt x="14808" y="16570"/>
                </a:cubicBezTo>
                <a:cubicBezTo>
                  <a:pt x="14818" y="16528"/>
                  <a:pt x="14837" y="16490"/>
                  <a:pt x="14858" y="16446"/>
                </a:cubicBezTo>
                <a:cubicBezTo>
                  <a:pt x="14878" y="16403"/>
                  <a:pt x="14872" y="16351"/>
                  <a:pt x="14908" y="16321"/>
                </a:cubicBezTo>
                <a:cubicBezTo>
                  <a:pt x="14926" y="16306"/>
                  <a:pt x="14932" y="16305"/>
                  <a:pt x="14957" y="16297"/>
                </a:cubicBezTo>
                <a:cubicBezTo>
                  <a:pt x="14957" y="16368"/>
                  <a:pt x="14978" y="16467"/>
                  <a:pt x="14932" y="16520"/>
                </a:cubicBezTo>
                <a:cubicBezTo>
                  <a:pt x="14912" y="16543"/>
                  <a:pt x="14895" y="16588"/>
                  <a:pt x="14883" y="16594"/>
                </a:cubicBezTo>
                <a:cubicBezTo>
                  <a:pt x="14858" y="16594"/>
                  <a:pt x="14850" y="16594"/>
                  <a:pt x="14858" y="16619"/>
                </a:cubicBezTo>
                <a:cubicBezTo>
                  <a:pt x="14921" y="16619"/>
                  <a:pt x="14955" y="16627"/>
                  <a:pt x="15007" y="16644"/>
                </a:cubicBezTo>
                <a:cubicBezTo>
                  <a:pt x="15049" y="16658"/>
                  <a:pt x="15073" y="16660"/>
                  <a:pt x="15081" y="16644"/>
                </a:cubicBezTo>
              </a:path>
              <a:path w="8683" h="3027">
                <a:moveTo>
                  <a:pt x="15180" y="16619"/>
                </a:moveTo>
                <a:cubicBezTo>
                  <a:pt x="15180" y="16549"/>
                  <a:pt x="15195" y="16585"/>
                  <a:pt x="15255" y="16545"/>
                </a:cubicBezTo>
                <a:cubicBezTo>
                  <a:pt x="15291" y="16521"/>
                  <a:pt x="15320" y="16483"/>
                  <a:pt x="15329" y="16446"/>
                </a:cubicBezTo>
                <a:cubicBezTo>
                  <a:pt x="15275" y="16446"/>
                  <a:pt x="15221" y="16434"/>
                  <a:pt x="15180" y="16470"/>
                </a:cubicBezTo>
                <a:cubicBezTo>
                  <a:pt x="15147" y="16499"/>
                  <a:pt x="15121" y="16500"/>
                  <a:pt x="15106" y="16545"/>
                </a:cubicBezTo>
                <a:cubicBezTo>
                  <a:pt x="15106" y="16553"/>
                  <a:pt x="15106" y="16562"/>
                  <a:pt x="15106" y="16570"/>
                </a:cubicBezTo>
                <a:cubicBezTo>
                  <a:pt x="15138" y="16593"/>
                  <a:pt x="15192" y="16615"/>
                  <a:pt x="15230" y="16619"/>
                </a:cubicBezTo>
                <a:cubicBezTo>
                  <a:pt x="15308" y="16628"/>
                  <a:pt x="15388" y="16615"/>
                  <a:pt x="15429" y="16594"/>
                </a:cubicBezTo>
                <a:cubicBezTo>
                  <a:pt x="15453" y="16594"/>
                  <a:pt x="15462" y="16594"/>
                  <a:pt x="15478" y="16594"/>
                </a:cubicBezTo>
              </a:path>
              <a:path w="8683" h="3027">
                <a:moveTo>
                  <a:pt x="15503" y="16520"/>
                </a:moveTo>
                <a:cubicBezTo>
                  <a:pt x="15503" y="16567"/>
                  <a:pt x="15520" y="16583"/>
                  <a:pt x="15528" y="16619"/>
                </a:cubicBezTo>
                <a:cubicBezTo>
                  <a:pt x="15538" y="16664"/>
                  <a:pt x="15528" y="16857"/>
                  <a:pt x="15528" y="16818"/>
                </a:cubicBezTo>
                <a:cubicBezTo>
                  <a:pt x="15528" y="16770"/>
                  <a:pt x="15548" y="16728"/>
                  <a:pt x="15553" y="16694"/>
                </a:cubicBezTo>
                <a:cubicBezTo>
                  <a:pt x="15563" y="16625"/>
                  <a:pt x="15560" y="16580"/>
                  <a:pt x="15577" y="16520"/>
                </a:cubicBezTo>
                <a:cubicBezTo>
                  <a:pt x="15590" y="16474"/>
                  <a:pt x="15595" y="16431"/>
                  <a:pt x="15627" y="16396"/>
                </a:cubicBezTo>
                <a:cubicBezTo>
                  <a:pt x="15650" y="16373"/>
                  <a:pt x="15654" y="16365"/>
                  <a:pt x="15677" y="16371"/>
                </a:cubicBezTo>
                <a:cubicBezTo>
                  <a:pt x="15688" y="16416"/>
                  <a:pt x="15701" y="16442"/>
                  <a:pt x="15701" y="16495"/>
                </a:cubicBezTo>
                <a:cubicBezTo>
                  <a:pt x="15701" y="16548"/>
                  <a:pt x="15690" y="16556"/>
                  <a:pt x="15652" y="16594"/>
                </a:cubicBezTo>
                <a:cubicBezTo>
                  <a:pt x="15624" y="16622"/>
                  <a:pt x="15589" y="16635"/>
                  <a:pt x="15553" y="16644"/>
                </a:cubicBezTo>
                <a:cubicBezTo>
                  <a:pt x="15524" y="16605"/>
                  <a:pt x="15524" y="16569"/>
                  <a:pt x="15503" y="16520"/>
                </a:cubicBezTo>
              </a:path>
              <a:path w="8683" h="3027">
                <a:moveTo>
                  <a:pt x="15850" y="16520"/>
                </a:moveTo>
                <a:cubicBezTo>
                  <a:pt x="15896" y="16520"/>
                  <a:pt x="15914" y="16526"/>
                  <a:pt x="15949" y="16495"/>
                </a:cubicBezTo>
                <a:cubicBezTo>
                  <a:pt x="15971" y="16473"/>
                  <a:pt x="15980" y="16468"/>
                  <a:pt x="15974" y="16446"/>
                </a:cubicBezTo>
                <a:cubicBezTo>
                  <a:pt x="15918" y="16446"/>
                  <a:pt x="15941" y="16426"/>
                  <a:pt x="15900" y="16421"/>
                </a:cubicBezTo>
                <a:cubicBezTo>
                  <a:pt x="15869" y="16417"/>
                  <a:pt x="15813" y="16466"/>
                  <a:pt x="15801" y="16495"/>
                </a:cubicBezTo>
                <a:cubicBezTo>
                  <a:pt x="15789" y="16522"/>
                  <a:pt x="15817" y="16566"/>
                  <a:pt x="15825" y="16570"/>
                </a:cubicBezTo>
                <a:cubicBezTo>
                  <a:pt x="15895" y="16605"/>
                  <a:pt x="16037" y="16563"/>
                  <a:pt x="16098" y="16545"/>
                </a:cubicBezTo>
                <a:cubicBezTo>
                  <a:pt x="16140" y="16532"/>
                  <a:pt x="16192" y="16536"/>
                  <a:pt x="16197" y="16495"/>
                </a:cubicBezTo>
                <a:cubicBezTo>
                  <a:pt x="16197" y="16487"/>
                  <a:pt x="16197" y="16478"/>
                  <a:pt x="16197" y="16470"/>
                </a:cubicBezTo>
                <a:cubicBezTo>
                  <a:pt x="16151" y="16470"/>
                  <a:pt x="16133" y="16464"/>
                  <a:pt x="16098" y="16495"/>
                </a:cubicBezTo>
                <a:cubicBezTo>
                  <a:pt x="16090" y="16503"/>
                  <a:pt x="16081" y="16512"/>
                  <a:pt x="16073" y="16520"/>
                </a:cubicBezTo>
                <a:cubicBezTo>
                  <a:pt x="16111" y="16549"/>
                  <a:pt x="16124" y="16545"/>
                  <a:pt x="16173" y="16545"/>
                </a:cubicBezTo>
                <a:cubicBezTo>
                  <a:pt x="16209" y="16545"/>
                  <a:pt x="16231" y="16462"/>
                  <a:pt x="16247" y="16495"/>
                </a:cubicBezTo>
                <a:cubicBezTo>
                  <a:pt x="16254" y="16510"/>
                  <a:pt x="16247" y="16553"/>
                  <a:pt x="16247" y="16570"/>
                </a:cubicBezTo>
                <a:cubicBezTo>
                  <a:pt x="16300" y="16570"/>
                  <a:pt x="16308" y="16558"/>
                  <a:pt x="16346" y="16520"/>
                </a:cubicBezTo>
                <a:cubicBezTo>
                  <a:pt x="16354" y="16512"/>
                  <a:pt x="16363" y="16503"/>
                  <a:pt x="16371" y="16495"/>
                </a:cubicBezTo>
              </a:path>
              <a:path w="8683" h="3027">
                <a:moveTo>
                  <a:pt x="16421" y="16148"/>
                </a:moveTo>
                <a:cubicBezTo>
                  <a:pt x="16421" y="16072"/>
                  <a:pt x="16421" y="16208"/>
                  <a:pt x="16421" y="16222"/>
                </a:cubicBezTo>
                <a:cubicBezTo>
                  <a:pt x="16421" y="16285"/>
                  <a:pt x="16446" y="16331"/>
                  <a:pt x="16446" y="16396"/>
                </a:cubicBezTo>
                <a:cubicBezTo>
                  <a:pt x="16446" y="16460"/>
                  <a:pt x="16454" y="16469"/>
                  <a:pt x="16470" y="16520"/>
                </a:cubicBezTo>
                <a:cubicBezTo>
                  <a:pt x="16484" y="16565"/>
                  <a:pt x="16479" y="16568"/>
                  <a:pt x="16446" y="16545"/>
                </a:cubicBezTo>
              </a:path>
              <a:path w="8683" h="3027">
                <a:moveTo>
                  <a:pt x="16371" y="16396"/>
                </a:moveTo>
                <a:cubicBezTo>
                  <a:pt x="16371" y="16388"/>
                  <a:pt x="16371" y="16379"/>
                  <a:pt x="16371" y="16371"/>
                </a:cubicBezTo>
                <a:cubicBezTo>
                  <a:pt x="16427" y="16371"/>
                  <a:pt x="16454" y="16355"/>
                  <a:pt x="16495" y="16346"/>
                </a:cubicBezTo>
                <a:cubicBezTo>
                  <a:pt x="16558" y="16333"/>
                  <a:pt x="16569" y="16365"/>
                  <a:pt x="16619" y="16371"/>
                </a:cubicBezTo>
                <a:cubicBezTo>
                  <a:pt x="16627" y="16371"/>
                  <a:pt x="16636" y="16371"/>
                  <a:pt x="16644" y="16371"/>
                </a:cubicBezTo>
                <a:cubicBezTo>
                  <a:pt x="16657" y="16409"/>
                  <a:pt x="16673" y="16396"/>
                  <a:pt x="16718" y="16396"/>
                </a:cubicBezTo>
              </a:path>
              <a:path w="8683" h="3027">
                <a:moveTo>
                  <a:pt x="17165" y="16098"/>
                </a:moveTo>
                <a:cubicBezTo>
                  <a:pt x="17151" y="16134"/>
                  <a:pt x="17142" y="16155"/>
                  <a:pt x="17140" y="16197"/>
                </a:cubicBezTo>
                <a:cubicBezTo>
                  <a:pt x="17134" y="16295"/>
                  <a:pt x="17150" y="16379"/>
                  <a:pt x="17165" y="16470"/>
                </a:cubicBezTo>
                <a:cubicBezTo>
                  <a:pt x="17175" y="16528"/>
                  <a:pt x="17181" y="16589"/>
                  <a:pt x="17190" y="16644"/>
                </a:cubicBezTo>
                <a:cubicBezTo>
                  <a:pt x="17241" y="16951"/>
                  <a:pt x="17215" y="17393"/>
                  <a:pt x="17165" y="17686"/>
                </a:cubicBezTo>
                <a:cubicBezTo>
                  <a:pt x="17137" y="17854"/>
                  <a:pt x="17167" y="18048"/>
                  <a:pt x="17140" y="18207"/>
                </a:cubicBezTo>
                <a:cubicBezTo>
                  <a:pt x="17116" y="18351"/>
                  <a:pt x="17137" y="18519"/>
                  <a:pt x="17115" y="18653"/>
                </a:cubicBezTo>
                <a:cubicBezTo>
                  <a:pt x="17104" y="18718"/>
                  <a:pt x="17115" y="18736"/>
                  <a:pt x="17115" y="18802"/>
                </a:cubicBezTo>
              </a:path>
              <a:path w="8683" h="3027">
                <a:moveTo>
                  <a:pt x="18157" y="16247"/>
                </a:moveTo>
                <a:cubicBezTo>
                  <a:pt x="18118" y="16247"/>
                  <a:pt x="18083" y="16236"/>
                  <a:pt x="18058" y="16272"/>
                </a:cubicBezTo>
                <a:cubicBezTo>
                  <a:pt x="18035" y="16304"/>
                  <a:pt x="17974" y="16361"/>
                  <a:pt x="17959" y="16396"/>
                </a:cubicBezTo>
                <a:cubicBezTo>
                  <a:pt x="17944" y="16430"/>
                  <a:pt x="17934" y="16454"/>
                  <a:pt x="17934" y="16495"/>
                </a:cubicBezTo>
                <a:cubicBezTo>
                  <a:pt x="17934" y="16551"/>
                  <a:pt x="17946" y="16569"/>
                  <a:pt x="17959" y="16594"/>
                </a:cubicBezTo>
                <a:cubicBezTo>
                  <a:pt x="17969" y="16614"/>
                  <a:pt x="18024" y="16633"/>
                  <a:pt x="18058" y="16644"/>
                </a:cubicBezTo>
                <a:cubicBezTo>
                  <a:pt x="18090" y="16655"/>
                  <a:pt x="18189" y="16656"/>
                  <a:pt x="18207" y="16619"/>
                </a:cubicBezTo>
                <a:cubicBezTo>
                  <a:pt x="18229" y="16574"/>
                  <a:pt x="18239" y="16577"/>
                  <a:pt x="18281" y="16545"/>
                </a:cubicBezTo>
              </a:path>
              <a:path w="8683" h="3027">
                <a:moveTo>
                  <a:pt x="18380" y="16421"/>
                </a:moveTo>
                <a:cubicBezTo>
                  <a:pt x="18380" y="16471"/>
                  <a:pt x="18391" y="16479"/>
                  <a:pt x="18405" y="16520"/>
                </a:cubicBezTo>
                <a:cubicBezTo>
                  <a:pt x="18405" y="16528"/>
                  <a:pt x="18405" y="16537"/>
                  <a:pt x="18405" y="16545"/>
                </a:cubicBezTo>
                <a:cubicBezTo>
                  <a:pt x="18444" y="16532"/>
                  <a:pt x="18447" y="16489"/>
                  <a:pt x="18479" y="16446"/>
                </a:cubicBezTo>
                <a:cubicBezTo>
                  <a:pt x="18505" y="16411"/>
                  <a:pt x="18535" y="16340"/>
                  <a:pt x="18579" y="16321"/>
                </a:cubicBezTo>
                <a:cubicBezTo>
                  <a:pt x="18612" y="16307"/>
                  <a:pt x="18632" y="16330"/>
                  <a:pt x="18653" y="16346"/>
                </a:cubicBezTo>
              </a:path>
              <a:path w="8683" h="3027">
                <a:moveTo>
                  <a:pt x="18876" y="16346"/>
                </a:moveTo>
                <a:cubicBezTo>
                  <a:pt x="18850" y="16346"/>
                  <a:pt x="18789" y="16354"/>
                  <a:pt x="18777" y="16371"/>
                </a:cubicBezTo>
                <a:cubicBezTo>
                  <a:pt x="18753" y="16407"/>
                  <a:pt x="18728" y="16447"/>
                  <a:pt x="18728" y="16495"/>
                </a:cubicBezTo>
                <a:cubicBezTo>
                  <a:pt x="18779" y="16495"/>
                  <a:pt x="18811" y="16502"/>
                  <a:pt x="18852" y="16470"/>
                </a:cubicBezTo>
                <a:cubicBezTo>
                  <a:pt x="18885" y="16444"/>
                  <a:pt x="18917" y="16422"/>
                  <a:pt x="18926" y="16396"/>
                </a:cubicBezTo>
                <a:cubicBezTo>
                  <a:pt x="18926" y="16437"/>
                  <a:pt x="18926" y="16479"/>
                  <a:pt x="18926" y="16520"/>
                </a:cubicBezTo>
                <a:cubicBezTo>
                  <a:pt x="18970" y="16520"/>
                  <a:pt x="18965" y="16522"/>
                  <a:pt x="19000" y="16495"/>
                </a:cubicBezTo>
              </a:path>
              <a:path w="8683" h="3027">
                <a:moveTo>
                  <a:pt x="19100" y="16321"/>
                </a:moveTo>
                <a:cubicBezTo>
                  <a:pt x="19100" y="16354"/>
                  <a:pt x="19087" y="16402"/>
                  <a:pt x="19124" y="16421"/>
                </a:cubicBezTo>
                <a:cubicBezTo>
                  <a:pt x="19140" y="16429"/>
                  <a:pt x="19216" y="16458"/>
                  <a:pt x="19224" y="16470"/>
                </a:cubicBezTo>
                <a:cubicBezTo>
                  <a:pt x="19258" y="16520"/>
                  <a:pt x="19182" y="16533"/>
                  <a:pt x="19174" y="16545"/>
                </a:cubicBezTo>
                <a:cubicBezTo>
                  <a:pt x="19153" y="16576"/>
                  <a:pt x="19151" y="16570"/>
                  <a:pt x="19100" y="16570"/>
                </a:cubicBezTo>
                <a:cubicBezTo>
                  <a:pt x="19044" y="16570"/>
                  <a:pt x="19106" y="16523"/>
                  <a:pt x="19124" y="16495"/>
                </a:cubicBezTo>
              </a:path>
              <a:path w="8683" h="3027">
                <a:moveTo>
                  <a:pt x="19348" y="16024"/>
                </a:moveTo>
                <a:cubicBezTo>
                  <a:pt x="19348" y="16130"/>
                  <a:pt x="19348" y="16222"/>
                  <a:pt x="19372" y="16321"/>
                </a:cubicBezTo>
                <a:cubicBezTo>
                  <a:pt x="19383" y="16366"/>
                  <a:pt x="19415" y="16349"/>
                  <a:pt x="19447" y="16321"/>
                </a:cubicBezTo>
                <a:cubicBezTo>
                  <a:pt x="19481" y="16291"/>
                  <a:pt x="19515" y="16268"/>
                  <a:pt x="19546" y="16247"/>
                </a:cubicBezTo>
                <a:cubicBezTo>
                  <a:pt x="19569" y="16224"/>
                  <a:pt x="19573" y="16216"/>
                  <a:pt x="19596" y="16222"/>
                </a:cubicBezTo>
                <a:cubicBezTo>
                  <a:pt x="19596" y="16313"/>
                  <a:pt x="19596" y="16404"/>
                  <a:pt x="19596" y="16495"/>
                </a:cubicBezTo>
              </a:path>
              <a:path w="8683" h="3027">
                <a:moveTo>
                  <a:pt x="17835" y="16966"/>
                </a:moveTo>
                <a:cubicBezTo>
                  <a:pt x="17835" y="17082"/>
                  <a:pt x="17835" y="17198"/>
                  <a:pt x="17835" y="17314"/>
                </a:cubicBezTo>
                <a:cubicBezTo>
                  <a:pt x="17835" y="17210"/>
                  <a:pt x="17830" y="17107"/>
                  <a:pt x="17859" y="17016"/>
                </a:cubicBezTo>
                <a:cubicBezTo>
                  <a:pt x="17867" y="16990"/>
                  <a:pt x="17859" y="16945"/>
                  <a:pt x="17859" y="16917"/>
                </a:cubicBezTo>
                <a:cubicBezTo>
                  <a:pt x="17896" y="16926"/>
                  <a:pt x="17921" y="16953"/>
                  <a:pt x="17934" y="16991"/>
                </a:cubicBezTo>
                <a:cubicBezTo>
                  <a:pt x="17946" y="17028"/>
                  <a:pt x="17956" y="17059"/>
                  <a:pt x="17983" y="17090"/>
                </a:cubicBezTo>
                <a:cubicBezTo>
                  <a:pt x="18010" y="17120"/>
                  <a:pt x="18030" y="17162"/>
                  <a:pt x="18058" y="17165"/>
                </a:cubicBezTo>
                <a:cubicBezTo>
                  <a:pt x="18085" y="17168"/>
                  <a:pt x="18091" y="17213"/>
                  <a:pt x="18132" y="17190"/>
                </a:cubicBezTo>
                <a:cubicBezTo>
                  <a:pt x="18157" y="17176"/>
                  <a:pt x="18179" y="17090"/>
                  <a:pt x="18182" y="17066"/>
                </a:cubicBezTo>
                <a:cubicBezTo>
                  <a:pt x="18187" y="17025"/>
                  <a:pt x="18207" y="17047"/>
                  <a:pt x="18207" y="16991"/>
                </a:cubicBezTo>
                <a:cubicBezTo>
                  <a:pt x="18207" y="16933"/>
                  <a:pt x="18192" y="16953"/>
                  <a:pt x="18231" y="16966"/>
                </a:cubicBezTo>
              </a:path>
              <a:path w="8683" h="3027">
                <a:moveTo>
                  <a:pt x="18951" y="16892"/>
                </a:moveTo>
                <a:cubicBezTo>
                  <a:pt x="18959" y="16892"/>
                  <a:pt x="18968" y="16892"/>
                  <a:pt x="18976" y="16892"/>
                </a:cubicBezTo>
                <a:cubicBezTo>
                  <a:pt x="18992" y="16943"/>
                  <a:pt x="19026" y="16918"/>
                  <a:pt x="19075" y="16942"/>
                </a:cubicBezTo>
                <a:cubicBezTo>
                  <a:pt x="19103" y="16956"/>
                  <a:pt x="19151" y="16975"/>
                  <a:pt x="19174" y="16991"/>
                </a:cubicBezTo>
                <a:cubicBezTo>
                  <a:pt x="19207" y="17013"/>
                  <a:pt x="19233" y="17037"/>
                  <a:pt x="19273" y="17041"/>
                </a:cubicBezTo>
                <a:cubicBezTo>
                  <a:pt x="19298" y="17041"/>
                  <a:pt x="19306" y="17041"/>
                  <a:pt x="19298" y="17066"/>
                </a:cubicBezTo>
                <a:cubicBezTo>
                  <a:pt x="19298" y="17023"/>
                  <a:pt x="19288" y="17028"/>
                  <a:pt x="19323" y="17016"/>
                </a:cubicBezTo>
              </a:path>
              <a:path w="8683" h="3027">
                <a:moveTo>
                  <a:pt x="19348" y="16743"/>
                </a:moveTo>
                <a:cubicBezTo>
                  <a:pt x="19348" y="16805"/>
                  <a:pt x="19338" y="16833"/>
                  <a:pt x="19323" y="16892"/>
                </a:cubicBezTo>
                <a:cubicBezTo>
                  <a:pt x="19313" y="16934"/>
                  <a:pt x="19314" y="17000"/>
                  <a:pt x="19298" y="17041"/>
                </a:cubicBezTo>
                <a:cubicBezTo>
                  <a:pt x="19283" y="17079"/>
                  <a:pt x="19251" y="17096"/>
                  <a:pt x="19248" y="17140"/>
                </a:cubicBezTo>
                <a:cubicBezTo>
                  <a:pt x="19244" y="17191"/>
                  <a:pt x="19234" y="17196"/>
                  <a:pt x="19224" y="17239"/>
                </a:cubicBezTo>
                <a:cubicBezTo>
                  <a:pt x="19248" y="17239"/>
                  <a:pt x="19257" y="17239"/>
                  <a:pt x="19273" y="17239"/>
                </a:cubicBezTo>
              </a:path>
              <a:path w="8683" h="3027">
                <a:moveTo>
                  <a:pt x="20117" y="16049"/>
                </a:moveTo>
                <a:cubicBezTo>
                  <a:pt x="20122" y="16090"/>
                  <a:pt x="20135" y="16110"/>
                  <a:pt x="20141" y="16148"/>
                </a:cubicBezTo>
                <a:cubicBezTo>
                  <a:pt x="20151" y="16212"/>
                  <a:pt x="20158" y="16286"/>
                  <a:pt x="20166" y="16346"/>
                </a:cubicBezTo>
                <a:cubicBezTo>
                  <a:pt x="20208" y="16683"/>
                  <a:pt x="20195" y="17119"/>
                  <a:pt x="20141" y="17438"/>
                </a:cubicBezTo>
                <a:cubicBezTo>
                  <a:pt x="20133" y="17486"/>
                  <a:pt x="20123" y="17548"/>
                  <a:pt x="20117" y="17587"/>
                </a:cubicBezTo>
                <a:cubicBezTo>
                  <a:pt x="20103" y="17674"/>
                  <a:pt x="20103" y="17783"/>
                  <a:pt x="20092" y="17859"/>
                </a:cubicBezTo>
                <a:cubicBezTo>
                  <a:pt x="20085" y="17907"/>
                  <a:pt x="20072" y="17970"/>
                  <a:pt x="20067" y="18008"/>
                </a:cubicBezTo>
                <a:cubicBezTo>
                  <a:pt x="20064" y="18032"/>
                  <a:pt x="20041" y="18146"/>
                  <a:pt x="20042" y="18157"/>
                </a:cubicBezTo>
                <a:cubicBezTo>
                  <a:pt x="20046" y="18199"/>
                  <a:pt x="20065" y="18234"/>
                  <a:pt x="20067" y="18281"/>
                </a:cubicBezTo>
                <a:cubicBezTo>
                  <a:pt x="20070" y="18340"/>
                  <a:pt x="20048" y="18385"/>
                  <a:pt x="20042" y="18430"/>
                </a:cubicBezTo>
                <a:cubicBezTo>
                  <a:pt x="20024" y="18569"/>
                  <a:pt x="20089" y="18948"/>
                  <a:pt x="20017" y="18827"/>
                </a:cubicBezTo>
                <a:cubicBezTo>
                  <a:pt x="20017" y="18802"/>
                  <a:pt x="20017" y="18794"/>
                  <a:pt x="20017" y="18777"/>
                </a:cubicBezTo>
              </a:path>
              <a:path w="8683" h="3027">
                <a:moveTo>
                  <a:pt x="20861" y="16173"/>
                </a:moveTo>
                <a:cubicBezTo>
                  <a:pt x="20861" y="16321"/>
                  <a:pt x="20861" y="16718"/>
                  <a:pt x="20861" y="16570"/>
                </a:cubicBezTo>
              </a:path>
              <a:path w="8683" h="3027">
                <a:moveTo>
                  <a:pt x="20662" y="16197"/>
                </a:moveTo>
                <a:cubicBezTo>
                  <a:pt x="20712" y="16161"/>
                  <a:pt x="20724" y="16134"/>
                  <a:pt x="20786" y="16123"/>
                </a:cubicBezTo>
                <a:cubicBezTo>
                  <a:pt x="20856" y="16111"/>
                  <a:pt x="20939" y="16123"/>
                  <a:pt x="21010" y="16123"/>
                </a:cubicBezTo>
                <a:cubicBezTo>
                  <a:pt x="21010" y="16178"/>
                  <a:pt x="21029" y="16158"/>
                  <a:pt x="21034" y="16197"/>
                </a:cubicBezTo>
                <a:cubicBezTo>
                  <a:pt x="21034" y="16232"/>
                  <a:pt x="21030" y="16250"/>
                  <a:pt x="21010" y="16272"/>
                </a:cubicBezTo>
              </a:path>
              <a:path w="8683" h="3027">
                <a:moveTo>
                  <a:pt x="20662" y="16570"/>
                </a:moveTo>
                <a:cubicBezTo>
                  <a:pt x="20662" y="16578"/>
                  <a:pt x="20662" y="16586"/>
                  <a:pt x="20662" y="16594"/>
                </a:cubicBezTo>
                <a:cubicBezTo>
                  <a:pt x="20708" y="16609"/>
                  <a:pt x="20686" y="16619"/>
                  <a:pt x="20762" y="16619"/>
                </a:cubicBezTo>
                <a:cubicBezTo>
                  <a:pt x="20832" y="16619"/>
                  <a:pt x="20877" y="16612"/>
                  <a:pt x="20935" y="16594"/>
                </a:cubicBezTo>
                <a:cubicBezTo>
                  <a:pt x="20972" y="16583"/>
                  <a:pt x="21024" y="16574"/>
                  <a:pt x="21059" y="16570"/>
                </a:cubicBezTo>
                <a:cubicBezTo>
                  <a:pt x="21084" y="16570"/>
                  <a:pt x="21092" y="16570"/>
                  <a:pt x="21109" y="16570"/>
                </a:cubicBezTo>
              </a:path>
              <a:path w="8683" h="3027">
                <a:moveTo>
                  <a:pt x="21258" y="16421"/>
                </a:moveTo>
                <a:cubicBezTo>
                  <a:pt x="21258" y="16466"/>
                  <a:pt x="21239" y="16548"/>
                  <a:pt x="21258" y="16520"/>
                </a:cubicBezTo>
                <a:cubicBezTo>
                  <a:pt x="21280" y="16489"/>
                  <a:pt x="21326" y="16477"/>
                  <a:pt x="21357" y="16446"/>
                </a:cubicBezTo>
                <a:cubicBezTo>
                  <a:pt x="21387" y="16416"/>
                  <a:pt x="21403" y="16405"/>
                  <a:pt x="21431" y="16396"/>
                </a:cubicBezTo>
                <a:cubicBezTo>
                  <a:pt x="21473" y="16410"/>
                  <a:pt x="21456" y="16444"/>
                  <a:pt x="21456" y="16495"/>
                </a:cubicBezTo>
                <a:cubicBezTo>
                  <a:pt x="21456" y="16526"/>
                  <a:pt x="21464" y="16562"/>
                  <a:pt x="21481" y="16570"/>
                </a:cubicBezTo>
                <a:cubicBezTo>
                  <a:pt x="21509" y="16570"/>
                  <a:pt x="21520" y="16568"/>
                  <a:pt x="21530" y="16545"/>
                </a:cubicBezTo>
              </a:path>
              <a:path w="8683" h="3027">
                <a:moveTo>
                  <a:pt x="21679" y="16321"/>
                </a:moveTo>
                <a:cubicBezTo>
                  <a:pt x="21709" y="16361"/>
                  <a:pt x="21684" y="16384"/>
                  <a:pt x="21704" y="16421"/>
                </a:cubicBezTo>
                <a:cubicBezTo>
                  <a:pt x="21733" y="16473"/>
                  <a:pt x="21729" y="16504"/>
                  <a:pt x="21729" y="16570"/>
                </a:cubicBezTo>
                <a:cubicBezTo>
                  <a:pt x="21729" y="16667"/>
                  <a:pt x="21721" y="16759"/>
                  <a:pt x="21704" y="16842"/>
                </a:cubicBezTo>
                <a:cubicBezTo>
                  <a:pt x="21693" y="16897"/>
                  <a:pt x="21687" y="16923"/>
                  <a:pt x="21630" y="16942"/>
                </a:cubicBezTo>
                <a:cubicBezTo>
                  <a:pt x="21589" y="16956"/>
                  <a:pt x="21551" y="16925"/>
                  <a:pt x="21530" y="16892"/>
                </a:cubicBezTo>
                <a:cubicBezTo>
                  <a:pt x="21493" y="16833"/>
                  <a:pt x="21506" y="16761"/>
                  <a:pt x="21506" y="16694"/>
                </a:cubicBezTo>
                <a:cubicBezTo>
                  <a:pt x="21506" y="16659"/>
                  <a:pt x="21510" y="16641"/>
                  <a:pt x="21530" y="16619"/>
                </a:cubicBezTo>
              </a:path>
              <a:path w="8683" h="3027">
                <a:moveTo>
                  <a:pt x="21605" y="16148"/>
                </a:moveTo>
                <a:cubicBezTo>
                  <a:pt x="21605" y="16156"/>
                  <a:pt x="21605" y="16165"/>
                  <a:pt x="21605" y="16173"/>
                </a:cubicBezTo>
                <a:cubicBezTo>
                  <a:pt x="21629" y="16181"/>
                  <a:pt x="21652" y="16204"/>
                  <a:pt x="21679" y="16222"/>
                </a:cubicBezTo>
                <a:cubicBezTo>
                  <a:pt x="21702" y="16245"/>
                  <a:pt x="21710" y="16249"/>
                  <a:pt x="21704" y="16272"/>
                </a:cubicBezTo>
              </a:path>
              <a:path w="8683" h="3027">
                <a:moveTo>
                  <a:pt x="21853" y="16396"/>
                </a:moveTo>
                <a:cubicBezTo>
                  <a:pt x="21853" y="16433"/>
                  <a:pt x="21837" y="16500"/>
                  <a:pt x="21878" y="16520"/>
                </a:cubicBezTo>
                <a:cubicBezTo>
                  <a:pt x="21915" y="16538"/>
                  <a:pt x="21999" y="16514"/>
                  <a:pt x="22027" y="16495"/>
                </a:cubicBezTo>
                <a:cubicBezTo>
                  <a:pt x="22057" y="16474"/>
                  <a:pt x="22071" y="16426"/>
                  <a:pt x="22101" y="16396"/>
                </a:cubicBezTo>
                <a:cubicBezTo>
                  <a:pt x="22101" y="16437"/>
                  <a:pt x="22080" y="16547"/>
                  <a:pt x="22126" y="16570"/>
                </a:cubicBezTo>
                <a:cubicBezTo>
                  <a:pt x="22165" y="16590"/>
                  <a:pt x="22170" y="16540"/>
                  <a:pt x="22175" y="16520"/>
                </a:cubicBezTo>
              </a:path>
              <a:path w="8683" h="3027">
                <a:moveTo>
                  <a:pt x="22275" y="16421"/>
                </a:moveTo>
                <a:cubicBezTo>
                  <a:pt x="22275" y="16466"/>
                  <a:pt x="22269" y="16485"/>
                  <a:pt x="22299" y="16520"/>
                </a:cubicBezTo>
                <a:cubicBezTo>
                  <a:pt x="22322" y="16543"/>
                  <a:pt x="22326" y="16551"/>
                  <a:pt x="22349" y="16545"/>
                </a:cubicBezTo>
                <a:cubicBezTo>
                  <a:pt x="22349" y="16490"/>
                  <a:pt x="22362" y="16463"/>
                  <a:pt x="22399" y="16421"/>
                </a:cubicBezTo>
                <a:cubicBezTo>
                  <a:pt x="22421" y="16398"/>
                  <a:pt x="22426" y="16390"/>
                  <a:pt x="22448" y="16396"/>
                </a:cubicBezTo>
                <a:cubicBezTo>
                  <a:pt x="22464" y="16332"/>
                  <a:pt x="22472" y="16358"/>
                  <a:pt x="22523" y="16371"/>
                </a:cubicBezTo>
              </a:path>
              <a:path w="8683" h="3027">
                <a:moveTo>
                  <a:pt x="22572" y="16421"/>
                </a:moveTo>
                <a:cubicBezTo>
                  <a:pt x="22581" y="16448"/>
                  <a:pt x="22590" y="16466"/>
                  <a:pt x="22622" y="16470"/>
                </a:cubicBezTo>
                <a:cubicBezTo>
                  <a:pt x="22656" y="16474"/>
                  <a:pt x="22720" y="16442"/>
                  <a:pt x="22746" y="16421"/>
                </a:cubicBezTo>
                <a:cubicBezTo>
                  <a:pt x="22769" y="16398"/>
                  <a:pt x="22773" y="16390"/>
                  <a:pt x="22796" y="16396"/>
                </a:cubicBezTo>
                <a:cubicBezTo>
                  <a:pt x="22796" y="16502"/>
                  <a:pt x="22794" y="16595"/>
                  <a:pt x="22771" y="16694"/>
                </a:cubicBezTo>
                <a:cubicBezTo>
                  <a:pt x="22761" y="16735"/>
                  <a:pt x="22725" y="16783"/>
                  <a:pt x="22696" y="16793"/>
                </a:cubicBezTo>
                <a:cubicBezTo>
                  <a:pt x="22655" y="16738"/>
                  <a:pt x="22679" y="16725"/>
                  <a:pt x="22696" y="16669"/>
                </a:cubicBezTo>
                <a:cubicBezTo>
                  <a:pt x="22696" y="16644"/>
                  <a:pt x="22696" y="16636"/>
                  <a:pt x="22721" y="16644"/>
                </a:cubicBezTo>
              </a:path>
              <a:path w="8683" h="3027">
                <a:moveTo>
                  <a:pt x="14560" y="16049"/>
                </a:moveTo>
                <a:cubicBezTo>
                  <a:pt x="14882" y="16049"/>
                  <a:pt x="15222" y="16041"/>
                  <a:pt x="15528" y="16024"/>
                </a:cubicBezTo>
                <a:cubicBezTo>
                  <a:pt x="15614" y="16019"/>
                  <a:pt x="15703" y="16004"/>
                  <a:pt x="15776" y="15999"/>
                </a:cubicBezTo>
                <a:cubicBezTo>
                  <a:pt x="15938" y="15987"/>
                  <a:pt x="16150" y="16006"/>
                  <a:pt x="16272" y="16024"/>
                </a:cubicBezTo>
                <a:cubicBezTo>
                  <a:pt x="16297" y="15999"/>
                  <a:pt x="16305" y="15991"/>
                  <a:pt x="16321" y="16024"/>
                </a:cubicBezTo>
                <a:cubicBezTo>
                  <a:pt x="16357" y="16018"/>
                  <a:pt x="16400" y="16005"/>
                  <a:pt x="16446" y="15999"/>
                </a:cubicBezTo>
                <a:cubicBezTo>
                  <a:pt x="16470" y="15999"/>
                  <a:pt x="16479" y="15999"/>
                  <a:pt x="16495" y="15999"/>
                </a:cubicBezTo>
                <a:cubicBezTo>
                  <a:pt x="16532" y="16001"/>
                  <a:pt x="16533" y="15996"/>
                  <a:pt x="16570" y="15999"/>
                </a:cubicBezTo>
                <a:cubicBezTo>
                  <a:pt x="16608" y="16003"/>
                  <a:pt x="16669" y="16023"/>
                  <a:pt x="16694" y="16024"/>
                </a:cubicBezTo>
                <a:cubicBezTo>
                  <a:pt x="16729" y="16020"/>
                  <a:pt x="16769" y="16000"/>
                  <a:pt x="16818" y="15999"/>
                </a:cubicBezTo>
                <a:cubicBezTo>
                  <a:pt x="16966" y="15995"/>
                  <a:pt x="17115" y="15999"/>
                  <a:pt x="17264" y="15999"/>
                </a:cubicBezTo>
                <a:cubicBezTo>
                  <a:pt x="17296" y="15993"/>
                  <a:pt x="17305" y="15979"/>
                  <a:pt x="17338" y="15974"/>
                </a:cubicBezTo>
                <a:cubicBezTo>
                  <a:pt x="17381" y="15967"/>
                  <a:pt x="17456" y="15951"/>
                  <a:pt x="17487" y="15949"/>
                </a:cubicBezTo>
                <a:cubicBezTo>
                  <a:pt x="17623" y="15938"/>
                  <a:pt x="17814" y="15921"/>
                  <a:pt x="17934" y="15925"/>
                </a:cubicBezTo>
                <a:cubicBezTo>
                  <a:pt x="17982" y="15927"/>
                  <a:pt x="18049" y="15948"/>
                  <a:pt x="18083" y="15949"/>
                </a:cubicBezTo>
                <a:cubicBezTo>
                  <a:pt x="18256" y="15955"/>
                  <a:pt x="18417" y="15933"/>
                  <a:pt x="18579" y="15925"/>
                </a:cubicBezTo>
                <a:cubicBezTo>
                  <a:pt x="18695" y="15919"/>
                  <a:pt x="18824" y="15906"/>
                  <a:pt x="18926" y="15900"/>
                </a:cubicBezTo>
                <a:cubicBezTo>
                  <a:pt x="19283" y="15880"/>
                  <a:pt x="19640" y="15889"/>
                  <a:pt x="19993" y="15875"/>
                </a:cubicBezTo>
                <a:cubicBezTo>
                  <a:pt x="20026" y="15880"/>
                  <a:pt x="20034" y="15899"/>
                  <a:pt x="20067" y="15900"/>
                </a:cubicBezTo>
                <a:cubicBezTo>
                  <a:pt x="20209" y="15904"/>
                  <a:pt x="20333" y="15882"/>
                  <a:pt x="20464" y="15875"/>
                </a:cubicBezTo>
                <a:cubicBezTo>
                  <a:pt x="20607" y="15867"/>
                  <a:pt x="20760" y="15893"/>
                  <a:pt x="20886" y="15900"/>
                </a:cubicBezTo>
                <a:cubicBezTo>
                  <a:pt x="21087" y="15911"/>
                  <a:pt x="21285" y="15915"/>
                  <a:pt x="21481" y="15925"/>
                </a:cubicBezTo>
                <a:cubicBezTo>
                  <a:pt x="21710" y="15937"/>
                  <a:pt x="21961" y="15937"/>
                  <a:pt x="22175" y="15949"/>
                </a:cubicBezTo>
                <a:cubicBezTo>
                  <a:pt x="22241" y="15953"/>
                  <a:pt x="22308" y="15946"/>
                  <a:pt x="22374" y="15949"/>
                </a:cubicBezTo>
                <a:cubicBezTo>
                  <a:pt x="22375" y="15949"/>
                  <a:pt x="22413" y="15973"/>
                  <a:pt x="22448" y="15974"/>
                </a:cubicBezTo>
                <a:cubicBezTo>
                  <a:pt x="22541" y="15977"/>
                  <a:pt x="22613" y="15984"/>
                  <a:pt x="22696" y="15999"/>
                </a:cubicBezTo>
                <a:cubicBezTo>
                  <a:pt x="22733" y="16006"/>
                  <a:pt x="22756" y="16016"/>
                  <a:pt x="22796" y="16024"/>
                </a:cubicBezTo>
                <a:cubicBezTo>
                  <a:pt x="22821" y="16039"/>
                  <a:pt x="22819" y="16042"/>
                  <a:pt x="22870" y="16049"/>
                </a:cubicBezTo>
                <a:cubicBezTo>
                  <a:pt x="22902" y="16053"/>
                  <a:pt x="22911" y="16072"/>
                  <a:pt x="22944" y="16073"/>
                </a:cubicBezTo>
                <a:cubicBezTo>
                  <a:pt x="23034" y="16075"/>
                  <a:pt x="23165" y="16092"/>
                  <a:pt x="23217" y="16098"/>
                </a:cubicBezTo>
                <a:cubicBezTo>
                  <a:pt x="23225" y="16098"/>
                  <a:pt x="23234" y="16098"/>
                  <a:pt x="23242" y="16098"/>
                </a:cubicBezTo>
                <a:cubicBezTo>
                  <a:pt x="23219" y="16121"/>
                  <a:pt x="23211" y="16125"/>
                  <a:pt x="23217" y="16148"/>
                </a:cubicBezTo>
                <a:cubicBezTo>
                  <a:pt x="23139" y="16153"/>
                  <a:pt x="23134" y="16146"/>
                  <a:pt x="23044" y="16173"/>
                </a:cubicBezTo>
              </a:path>
              <a:path w="8683" h="3027">
                <a:moveTo>
                  <a:pt x="20117" y="15949"/>
                </a:moveTo>
                <a:cubicBezTo>
                  <a:pt x="20117" y="15925"/>
                  <a:pt x="20117" y="15916"/>
                  <a:pt x="20117" y="15900"/>
                </a:cubicBezTo>
                <a:cubicBezTo>
                  <a:pt x="20117" y="15976"/>
                  <a:pt x="20120" y="16034"/>
                  <a:pt x="20141" y="16098"/>
                </a:cubicBezTo>
                <a:cubicBezTo>
                  <a:pt x="20141" y="16123"/>
                  <a:pt x="20141" y="16131"/>
                  <a:pt x="20141" y="16148"/>
                </a:cubicBezTo>
              </a:path>
              <a:path w="8683" h="3027">
                <a:moveTo>
                  <a:pt x="18628" y="16942"/>
                </a:moveTo>
                <a:cubicBezTo>
                  <a:pt x="18628" y="17033"/>
                  <a:pt x="18628" y="17123"/>
                  <a:pt x="18628" y="17214"/>
                </a:cubicBezTo>
                <a:cubicBezTo>
                  <a:pt x="18615" y="17237"/>
                  <a:pt x="18607" y="17238"/>
                  <a:pt x="18604" y="17289"/>
                </a:cubicBezTo>
                <a:cubicBezTo>
                  <a:pt x="18602" y="17330"/>
                  <a:pt x="18604" y="17372"/>
                  <a:pt x="18604" y="17413"/>
                </a:cubicBezTo>
                <a:cubicBezTo>
                  <a:pt x="18617" y="17436"/>
                  <a:pt x="18625" y="17437"/>
                  <a:pt x="18628" y="17487"/>
                </a:cubicBezTo>
                <a:cubicBezTo>
                  <a:pt x="18628" y="17512"/>
                  <a:pt x="18628" y="17520"/>
                  <a:pt x="18628" y="17537"/>
                </a:cubicBezTo>
                <a:cubicBezTo>
                  <a:pt x="18615" y="17560"/>
                  <a:pt x="18611" y="17563"/>
                  <a:pt x="18604" y="17611"/>
                </a:cubicBezTo>
                <a:cubicBezTo>
                  <a:pt x="18609" y="17620"/>
                  <a:pt x="18651" y="17645"/>
                  <a:pt x="18628" y="17686"/>
                </a:cubicBezTo>
                <a:cubicBezTo>
                  <a:pt x="18620" y="17686"/>
                  <a:pt x="18612" y="17686"/>
                  <a:pt x="18604" y="17686"/>
                </a:cubicBezTo>
                <a:cubicBezTo>
                  <a:pt x="18605" y="17690"/>
                  <a:pt x="18627" y="17707"/>
                  <a:pt x="18628" y="17711"/>
                </a:cubicBezTo>
                <a:cubicBezTo>
                  <a:pt x="18626" y="17716"/>
                  <a:pt x="18606" y="17730"/>
                  <a:pt x="18604" y="17735"/>
                </a:cubicBezTo>
                <a:cubicBezTo>
                  <a:pt x="18628" y="17735"/>
                  <a:pt x="18636" y="17735"/>
                  <a:pt x="18628" y="17760"/>
                </a:cubicBezTo>
                <a:cubicBezTo>
                  <a:pt x="18612" y="17800"/>
                  <a:pt x="18616" y="17772"/>
                  <a:pt x="18628" y="17835"/>
                </a:cubicBezTo>
                <a:cubicBezTo>
                  <a:pt x="18641" y="17900"/>
                  <a:pt x="18642" y="17977"/>
                  <a:pt x="18653" y="18033"/>
                </a:cubicBezTo>
                <a:cubicBezTo>
                  <a:pt x="18671" y="18124"/>
                  <a:pt x="18653" y="18238"/>
                  <a:pt x="18653" y="18331"/>
                </a:cubicBezTo>
                <a:cubicBezTo>
                  <a:pt x="18638" y="18356"/>
                  <a:pt x="18631" y="18352"/>
                  <a:pt x="18628" y="18405"/>
                </a:cubicBezTo>
                <a:cubicBezTo>
                  <a:pt x="18623" y="18485"/>
                  <a:pt x="18617" y="18559"/>
                  <a:pt x="18604" y="18628"/>
                </a:cubicBezTo>
                <a:cubicBezTo>
                  <a:pt x="18588" y="18712"/>
                  <a:pt x="18604" y="18815"/>
                  <a:pt x="18604" y="18901"/>
                </a:cubicBezTo>
                <a:cubicBezTo>
                  <a:pt x="18604" y="18876"/>
                  <a:pt x="18604" y="18868"/>
                  <a:pt x="18628" y="188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Ink 67"/>
          <p:cNvSpPr/>
          <p:nvPr/>
        </p:nvSpPr>
        <p:spPr>
          <a:xfrm>
            <a:off x="2982960" y="5796000"/>
            <a:ext cx="5402160" cy="990720"/>
          </a:xfrm>
          <a:custGeom>
            <a:avLst/>
            <a:gdLst/>
            <a:ahLst/>
            <a:rect l="l" t="t" r="r" b="b"/>
            <a:pathLst>
              <a:path w="15008" h="2755">
                <a:moveTo>
                  <a:pt x="14660" y="17487"/>
                </a:moveTo>
                <a:cubicBezTo>
                  <a:pt x="14742" y="17483"/>
                  <a:pt x="14840" y="17466"/>
                  <a:pt x="14908" y="17462"/>
                </a:cubicBezTo>
                <a:cubicBezTo>
                  <a:pt x="15236" y="17442"/>
                  <a:pt x="15589" y="17469"/>
                  <a:pt x="15900" y="17487"/>
                </a:cubicBezTo>
                <a:cubicBezTo>
                  <a:pt x="16050" y="17496"/>
                  <a:pt x="16209" y="17504"/>
                  <a:pt x="16346" y="17512"/>
                </a:cubicBezTo>
                <a:cubicBezTo>
                  <a:pt x="16466" y="17519"/>
                  <a:pt x="16579" y="17531"/>
                  <a:pt x="16694" y="17537"/>
                </a:cubicBezTo>
                <a:cubicBezTo>
                  <a:pt x="16906" y="17549"/>
                  <a:pt x="17142" y="17551"/>
                  <a:pt x="17338" y="17562"/>
                </a:cubicBezTo>
                <a:cubicBezTo>
                  <a:pt x="17441" y="17568"/>
                  <a:pt x="17549" y="17542"/>
                  <a:pt x="17636" y="17537"/>
                </a:cubicBezTo>
                <a:cubicBezTo>
                  <a:pt x="17806" y="17527"/>
                  <a:pt x="18001" y="17521"/>
                  <a:pt x="18157" y="17512"/>
                </a:cubicBezTo>
                <a:cubicBezTo>
                  <a:pt x="18558" y="17488"/>
                  <a:pt x="18986" y="17510"/>
                  <a:pt x="19372" y="17487"/>
                </a:cubicBezTo>
                <a:cubicBezTo>
                  <a:pt x="19569" y="17475"/>
                  <a:pt x="19771" y="17487"/>
                  <a:pt x="19968" y="17487"/>
                </a:cubicBezTo>
                <a:cubicBezTo>
                  <a:pt x="20001" y="17492"/>
                  <a:pt x="20009" y="17511"/>
                  <a:pt x="20042" y="17512"/>
                </a:cubicBezTo>
                <a:cubicBezTo>
                  <a:pt x="20125" y="17514"/>
                  <a:pt x="20222" y="17533"/>
                  <a:pt x="20290" y="17537"/>
                </a:cubicBezTo>
                <a:cubicBezTo>
                  <a:pt x="20376" y="17542"/>
                  <a:pt x="20465" y="17556"/>
                  <a:pt x="20538" y="17562"/>
                </a:cubicBezTo>
                <a:cubicBezTo>
                  <a:pt x="20587" y="17566"/>
                  <a:pt x="20638" y="17560"/>
                  <a:pt x="20687" y="17562"/>
                </a:cubicBezTo>
                <a:cubicBezTo>
                  <a:pt x="20720" y="17569"/>
                  <a:pt x="20729" y="17581"/>
                  <a:pt x="20762" y="17587"/>
                </a:cubicBezTo>
                <a:cubicBezTo>
                  <a:pt x="20799" y="17594"/>
                  <a:pt x="20826" y="17608"/>
                  <a:pt x="20861" y="17611"/>
                </a:cubicBezTo>
                <a:cubicBezTo>
                  <a:pt x="20987" y="17621"/>
                  <a:pt x="21111" y="17629"/>
                  <a:pt x="21233" y="17636"/>
                </a:cubicBezTo>
                <a:cubicBezTo>
                  <a:pt x="21418" y="17646"/>
                  <a:pt x="21609" y="17621"/>
                  <a:pt x="21779" y="17611"/>
                </a:cubicBezTo>
                <a:cubicBezTo>
                  <a:pt x="21845" y="17607"/>
                  <a:pt x="21924" y="17591"/>
                  <a:pt x="21977" y="17587"/>
                </a:cubicBezTo>
                <a:cubicBezTo>
                  <a:pt x="22139" y="17575"/>
                  <a:pt x="22295" y="17570"/>
                  <a:pt x="22448" y="17562"/>
                </a:cubicBezTo>
                <a:cubicBezTo>
                  <a:pt x="22569" y="17555"/>
                  <a:pt x="22691" y="17581"/>
                  <a:pt x="22796" y="17587"/>
                </a:cubicBezTo>
                <a:cubicBezTo>
                  <a:pt x="22959" y="17597"/>
                  <a:pt x="23166" y="17594"/>
                  <a:pt x="23292" y="17611"/>
                </a:cubicBezTo>
                <a:cubicBezTo>
                  <a:pt x="23266" y="17612"/>
                  <a:pt x="23172" y="17638"/>
                  <a:pt x="23143" y="17636"/>
                </a:cubicBezTo>
                <a:cubicBezTo>
                  <a:pt x="23008" y="17636"/>
                  <a:pt x="22956" y="17633"/>
                  <a:pt x="22870" y="17587"/>
                </a:cubicBezTo>
              </a:path>
              <a:path w="15008" h="2755">
                <a:moveTo>
                  <a:pt x="14560" y="16098"/>
                </a:moveTo>
                <a:cubicBezTo>
                  <a:pt x="14574" y="16134"/>
                  <a:pt x="14583" y="16155"/>
                  <a:pt x="14585" y="16197"/>
                </a:cubicBezTo>
                <a:cubicBezTo>
                  <a:pt x="14586" y="16222"/>
                  <a:pt x="14585" y="16247"/>
                  <a:pt x="14585" y="16272"/>
                </a:cubicBezTo>
                <a:cubicBezTo>
                  <a:pt x="14598" y="16293"/>
                  <a:pt x="14596" y="16306"/>
                  <a:pt x="14610" y="16346"/>
                </a:cubicBezTo>
                <a:cubicBezTo>
                  <a:pt x="14633" y="16369"/>
                  <a:pt x="14641" y="16373"/>
                  <a:pt x="14635" y="16396"/>
                </a:cubicBezTo>
                <a:cubicBezTo>
                  <a:pt x="14649" y="16420"/>
                  <a:pt x="14657" y="16418"/>
                  <a:pt x="14660" y="16470"/>
                </a:cubicBezTo>
                <a:cubicBezTo>
                  <a:pt x="14662" y="16503"/>
                  <a:pt x="14660" y="16537"/>
                  <a:pt x="14660" y="16570"/>
                </a:cubicBezTo>
                <a:cubicBezTo>
                  <a:pt x="14674" y="16593"/>
                  <a:pt x="14681" y="16593"/>
                  <a:pt x="14684" y="16644"/>
                </a:cubicBezTo>
                <a:cubicBezTo>
                  <a:pt x="14687" y="16689"/>
                  <a:pt x="14702" y="16703"/>
                  <a:pt x="14709" y="16743"/>
                </a:cubicBezTo>
                <a:cubicBezTo>
                  <a:pt x="14723" y="16824"/>
                  <a:pt x="14722" y="16920"/>
                  <a:pt x="14734" y="16991"/>
                </a:cubicBezTo>
                <a:cubicBezTo>
                  <a:pt x="14763" y="17162"/>
                  <a:pt x="14734" y="17363"/>
                  <a:pt x="14734" y="17537"/>
                </a:cubicBezTo>
                <a:cubicBezTo>
                  <a:pt x="14719" y="17563"/>
                  <a:pt x="14712" y="17576"/>
                  <a:pt x="14709" y="17636"/>
                </a:cubicBezTo>
                <a:cubicBezTo>
                  <a:pt x="14706" y="17689"/>
                  <a:pt x="14727" y="17720"/>
                  <a:pt x="14734" y="17760"/>
                </a:cubicBezTo>
                <a:cubicBezTo>
                  <a:pt x="14757" y="17897"/>
                  <a:pt x="14738" y="18055"/>
                  <a:pt x="14759" y="18182"/>
                </a:cubicBezTo>
                <a:cubicBezTo>
                  <a:pt x="14768" y="18236"/>
                  <a:pt x="14759" y="18301"/>
                  <a:pt x="14759" y="18355"/>
                </a:cubicBezTo>
                <a:cubicBezTo>
                  <a:pt x="14771" y="18376"/>
                  <a:pt x="14770" y="18390"/>
                  <a:pt x="14784" y="18430"/>
                </a:cubicBezTo>
                <a:cubicBezTo>
                  <a:pt x="14797" y="18467"/>
                  <a:pt x="14806" y="18487"/>
                  <a:pt x="14808" y="18529"/>
                </a:cubicBezTo>
                <a:cubicBezTo>
                  <a:pt x="14808" y="18546"/>
                  <a:pt x="14808" y="18562"/>
                  <a:pt x="14808" y="18579"/>
                </a:cubicBezTo>
                <a:cubicBezTo>
                  <a:pt x="14810" y="18583"/>
                  <a:pt x="14854" y="18652"/>
                  <a:pt x="14858" y="18678"/>
                </a:cubicBezTo>
                <a:cubicBezTo>
                  <a:pt x="14867" y="18732"/>
                  <a:pt x="14858" y="18797"/>
                  <a:pt x="14858" y="18852"/>
                </a:cubicBezTo>
                <a:cubicBezTo>
                  <a:pt x="14858" y="18819"/>
                  <a:pt x="14858" y="18785"/>
                  <a:pt x="14858" y="18752"/>
                </a:cubicBezTo>
              </a:path>
              <a:path w="15008" h="2755">
                <a:moveTo>
                  <a:pt x="8285" y="17686"/>
                </a:moveTo>
                <a:cubicBezTo>
                  <a:pt x="8293" y="17686"/>
                  <a:pt x="8302" y="17686"/>
                  <a:pt x="8310" y="17686"/>
                </a:cubicBezTo>
                <a:cubicBezTo>
                  <a:pt x="8323" y="17682"/>
                  <a:pt x="8340" y="17663"/>
                  <a:pt x="8384" y="17661"/>
                </a:cubicBezTo>
                <a:cubicBezTo>
                  <a:pt x="8524" y="17655"/>
                  <a:pt x="8666" y="17661"/>
                  <a:pt x="8806" y="17661"/>
                </a:cubicBezTo>
                <a:cubicBezTo>
                  <a:pt x="8810" y="17659"/>
                  <a:pt x="8855" y="17615"/>
                  <a:pt x="8880" y="17611"/>
                </a:cubicBezTo>
                <a:cubicBezTo>
                  <a:pt x="9159" y="17564"/>
                  <a:pt x="9489" y="17611"/>
                  <a:pt x="9773" y="17611"/>
                </a:cubicBezTo>
                <a:cubicBezTo>
                  <a:pt x="9785" y="17615"/>
                  <a:pt x="9803" y="17634"/>
                  <a:pt x="9847" y="17636"/>
                </a:cubicBezTo>
                <a:cubicBezTo>
                  <a:pt x="9893" y="17638"/>
                  <a:pt x="9938" y="17657"/>
                  <a:pt x="9971" y="17661"/>
                </a:cubicBezTo>
                <a:cubicBezTo>
                  <a:pt x="10043" y="17669"/>
                  <a:pt x="10135" y="17680"/>
                  <a:pt x="10195" y="17686"/>
                </a:cubicBezTo>
                <a:cubicBezTo>
                  <a:pt x="10301" y="17696"/>
                  <a:pt x="10424" y="17701"/>
                  <a:pt x="10517" y="17711"/>
                </a:cubicBezTo>
                <a:cubicBezTo>
                  <a:pt x="10559" y="17716"/>
                  <a:pt x="10664" y="17737"/>
                  <a:pt x="10691" y="17735"/>
                </a:cubicBezTo>
                <a:cubicBezTo>
                  <a:pt x="10732" y="17732"/>
                  <a:pt x="10743" y="17706"/>
                  <a:pt x="10790" y="17711"/>
                </a:cubicBezTo>
                <a:cubicBezTo>
                  <a:pt x="10832" y="17716"/>
                  <a:pt x="10851" y="17724"/>
                  <a:pt x="10889" y="17735"/>
                </a:cubicBezTo>
                <a:cubicBezTo>
                  <a:pt x="10927" y="17746"/>
                  <a:pt x="10947" y="17754"/>
                  <a:pt x="10988" y="17760"/>
                </a:cubicBezTo>
                <a:cubicBezTo>
                  <a:pt x="11091" y="17775"/>
                  <a:pt x="11198" y="17745"/>
                  <a:pt x="11286" y="17735"/>
                </a:cubicBezTo>
                <a:cubicBezTo>
                  <a:pt x="11660" y="17693"/>
                  <a:pt x="12065" y="17750"/>
                  <a:pt x="12427" y="17711"/>
                </a:cubicBezTo>
                <a:cubicBezTo>
                  <a:pt x="12518" y="17701"/>
                  <a:pt x="12614" y="17695"/>
                  <a:pt x="12700" y="17686"/>
                </a:cubicBezTo>
                <a:cubicBezTo>
                  <a:pt x="12737" y="17682"/>
                  <a:pt x="12772" y="17665"/>
                  <a:pt x="12799" y="17661"/>
                </a:cubicBezTo>
                <a:cubicBezTo>
                  <a:pt x="12853" y="17653"/>
                  <a:pt x="12887" y="17684"/>
                  <a:pt x="12923" y="17686"/>
                </a:cubicBezTo>
                <a:cubicBezTo>
                  <a:pt x="12964" y="17689"/>
                  <a:pt x="13006" y="17683"/>
                  <a:pt x="13047" y="17686"/>
                </a:cubicBezTo>
                <a:cubicBezTo>
                  <a:pt x="13022" y="17714"/>
                  <a:pt x="12983" y="17735"/>
                  <a:pt x="12948" y="177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Ink 68"/>
          <p:cNvSpPr/>
          <p:nvPr/>
        </p:nvSpPr>
        <p:spPr>
          <a:xfrm>
            <a:off x="7562880" y="5803920"/>
            <a:ext cx="787320" cy="1027080"/>
          </a:xfrm>
          <a:custGeom>
            <a:avLst/>
            <a:gdLst/>
            <a:ahLst/>
            <a:rect l="l" t="t" r="r" b="b"/>
            <a:pathLst>
              <a:path w="2183" h="2854">
                <a:moveTo>
                  <a:pt x="21034" y="17016"/>
                </a:moveTo>
                <a:cubicBezTo>
                  <a:pt x="20998" y="17029"/>
                  <a:pt x="21010" y="17046"/>
                  <a:pt x="21010" y="17090"/>
                </a:cubicBezTo>
                <a:cubicBezTo>
                  <a:pt x="21010" y="17150"/>
                  <a:pt x="21010" y="17334"/>
                  <a:pt x="21010" y="17314"/>
                </a:cubicBezTo>
                <a:cubicBezTo>
                  <a:pt x="21010" y="17224"/>
                  <a:pt x="21009" y="17143"/>
                  <a:pt x="21034" y="17066"/>
                </a:cubicBezTo>
                <a:cubicBezTo>
                  <a:pt x="21040" y="17047"/>
                  <a:pt x="21034" y="17011"/>
                  <a:pt x="21034" y="16991"/>
                </a:cubicBezTo>
                <a:cubicBezTo>
                  <a:pt x="21087" y="17004"/>
                  <a:pt x="21075" y="17028"/>
                  <a:pt x="21109" y="17066"/>
                </a:cubicBezTo>
                <a:cubicBezTo>
                  <a:pt x="21146" y="17106"/>
                  <a:pt x="21142" y="17103"/>
                  <a:pt x="21183" y="17140"/>
                </a:cubicBezTo>
                <a:cubicBezTo>
                  <a:pt x="21196" y="17152"/>
                  <a:pt x="21255" y="17210"/>
                  <a:pt x="21258" y="17214"/>
                </a:cubicBezTo>
                <a:cubicBezTo>
                  <a:pt x="21284" y="17253"/>
                  <a:pt x="21302" y="17292"/>
                  <a:pt x="21332" y="17314"/>
                </a:cubicBezTo>
                <a:cubicBezTo>
                  <a:pt x="21359" y="17334"/>
                  <a:pt x="21377" y="17330"/>
                  <a:pt x="21382" y="17289"/>
                </a:cubicBezTo>
                <a:cubicBezTo>
                  <a:pt x="21387" y="17249"/>
                  <a:pt x="21406" y="17235"/>
                  <a:pt x="21406" y="17190"/>
                </a:cubicBezTo>
                <a:cubicBezTo>
                  <a:pt x="21406" y="17133"/>
                  <a:pt x="21416" y="17112"/>
                  <a:pt x="21431" y="17066"/>
                </a:cubicBezTo>
                <a:cubicBezTo>
                  <a:pt x="21442" y="17032"/>
                  <a:pt x="21436" y="16995"/>
                  <a:pt x="21456" y="16966"/>
                </a:cubicBezTo>
                <a:cubicBezTo>
                  <a:pt x="21479" y="16944"/>
                  <a:pt x="21484" y="16936"/>
                  <a:pt x="21506" y="16942"/>
                </a:cubicBezTo>
                <a:cubicBezTo>
                  <a:pt x="21506" y="16975"/>
                  <a:pt x="21506" y="17008"/>
                  <a:pt x="21506" y="17041"/>
                </a:cubicBezTo>
              </a:path>
              <a:path w="2183" h="2854">
                <a:moveTo>
                  <a:pt x="22200" y="16966"/>
                </a:moveTo>
                <a:cubicBezTo>
                  <a:pt x="22209" y="17003"/>
                  <a:pt x="22237" y="17028"/>
                  <a:pt x="22275" y="17041"/>
                </a:cubicBezTo>
                <a:cubicBezTo>
                  <a:pt x="22306" y="17051"/>
                  <a:pt x="22344" y="17084"/>
                  <a:pt x="22374" y="17090"/>
                </a:cubicBezTo>
                <a:cubicBezTo>
                  <a:pt x="22430" y="17102"/>
                  <a:pt x="22450" y="17124"/>
                  <a:pt x="22498" y="17140"/>
                </a:cubicBezTo>
                <a:cubicBezTo>
                  <a:pt x="22523" y="17140"/>
                  <a:pt x="22531" y="17140"/>
                  <a:pt x="22523" y="17115"/>
                </a:cubicBezTo>
              </a:path>
              <a:path w="2183" h="2854">
                <a:moveTo>
                  <a:pt x="22622" y="16892"/>
                </a:moveTo>
                <a:cubicBezTo>
                  <a:pt x="22622" y="16943"/>
                  <a:pt x="22631" y="16978"/>
                  <a:pt x="22597" y="17016"/>
                </a:cubicBezTo>
                <a:cubicBezTo>
                  <a:pt x="22553" y="17065"/>
                  <a:pt x="22557" y="17113"/>
                  <a:pt x="22523" y="17165"/>
                </a:cubicBezTo>
                <a:cubicBezTo>
                  <a:pt x="22491" y="17214"/>
                  <a:pt x="22453" y="17238"/>
                  <a:pt x="22423" y="17289"/>
                </a:cubicBezTo>
                <a:cubicBezTo>
                  <a:pt x="22401" y="17326"/>
                  <a:pt x="22362" y="17348"/>
                  <a:pt x="22349" y="17388"/>
                </a:cubicBezTo>
                <a:cubicBezTo>
                  <a:pt x="22349" y="17396"/>
                  <a:pt x="22349" y="17405"/>
                  <a:pt x="22349" y="17413"/>
                </a:cubicBezTo>
                <a:cubicBezTo>
                  <a:pt x="22361" y="17377"/>
                  <a:pt x="22386" y="17392"/>
                  <a:pt x="22423" y="17363"/>
                </a:cubicBezTo>
              </a:path>
              <a:path w="2183" h="2854">
                <a:moveTo>
                  <a:pt x="23143" y="16148"/>
                </a:moveTo>
                <a:cubicBezTo>
                  <a:pt x="23143" y="16140"/>
                  <a:pt x="23143" y="16131"/>
                  <a:pt x="23143" y="16123"/>
                </a:cubicBezTo>
                <a:cubicBezTo>
                  <a:pt x="23143" y="16316"/>
                  <a:pt x="23137" y="16510"/>
                  <a:pt x="23168" y="16694"/>
                </a:cubicBezTo>
                <a:cubicBezTo>
                  <a:pt x="23175" y="16733"/>
                  <a:pt x="23187" y="16757"/>
                  <a:pt x="23192" y="16793"/>
                </a:cubicBezTo>
                <a:cubicBezTo>
                  <a:pt x="23214" y="16968"/>
                  <a:pt x="23194" y="17178"/>
                  <a:pt x="23168" y="17338"/>
                </a:cubicBezTo>
                <a:cubicBezTo>
                  <a:pt x="23155" y="17419"/>
                  <a:pt x="23155" y="17515"/>
                  <a:pt x="23143" y="17587"/>
                </a:cubicBezTo>
                <a:cubicBezTo>
                  <a:pt x="23121" y="17715"/>
                  <a:pt x="23138" y="17866"/>
                  <a:pt x="23118" y="17983"/>
                </a:cubicBezTo>
                <a:cubicBezTo>
                  <a:pt x="23110" y="18032"/>
                  <a:pt x="23100" y="18092"/>
                  <a:pt x="23093" y="18132"/>
                </a:cubicBezTo>
                <a:cubicBezTo>
                  <a:pt x="23086" y="18171"/>
                  <a:pt x="23093" y="18217"/>
                  <a:pt x="23093" y="18256"/>
                </a:cubicBezTo>
                <a:cubicBezTo>
                  <a:pt x="23079" y="18280"/>
                  <a:pt x="23071" y="18278"/>
                  <a:pt x="23068" y="18331"/>
                </a:cubicBezTo>
                <a:cubicBezTo>
                  <a:pt x="23064" y="18394"/>
                  <a:pt x="23052" y="18452"/>
                  <a:pt x="23044" y="18504"/>
                </a:cubicBezTo>
                <a:cubicBezTo>
                  <a:pt x="23035" y="18562"/>
                  <a:pt x="23027" y="18630"/>
                  <a:pt x="23019" y="18678"/>
                </a:cubicBezTo>
                <a:cubicBezTo>
                  <a:pt x="23004" y="18771"/>
                  <a:pt x="23013" y="18868"/>
                  <a:pt x="22994" y="18951"/>
                </a:cubicBezTo>
                <a:cubicBezTo>
                  <a:pt x="22980" y="19013"/>
                  <a:pt x="22956" y="18957"/>
                  <a:pt x="22944" y="18951"/>
                </a:cubicBezTo>
              </a:path>
              <a:path w="2183" h="2854">
                <a:moveTo>
                  <a:pt x="21803" y="17041"/>
                </a:moveTo>
                <a:cubicBezTo>
                  <a:pt x="21795" y="17041"/>
                  <a:pt x="21787" y="17041"/>
                  <a:pt x="21779" y="17041"/>
                </a:cubicBezTo>
                <a:cubicBezTo>
                  <a:pt x="21779" y="17115"/>
                  <a:pt x="21779" y="17190"/>
                  <a:pt x="21779" y="17264"/>
                </a:cubicBezTo>
                <a:cubicBezTo>
                  <a:pt x="21792" y="17287"/>
                  <a:pt x="21800" y="17288"/>
                  <a:pt x="21803" y="17338"/>
                </a:cubicBezTo>
                <a:cubicBezTo>
                  <a:pt x="21807" y="17412"/>
                  <a:pt x="21803" y="17488"/>
                  <a:pt x="21803" y="17562"/>
                </a:cubicBezTo>
                <a:cubicBezTo>
                  <a:pt x="21790" y="17585"/>
                  <a:pt x="21782" y="17586"/>
                  <a:pt x="21779" y="17636"/>
                </a:cubicBezTo>
                <a:cubicBezTo>
                  <a:pt x="21774" y="17727"/>
                  <a:pt x="21787" y="17829"/>
                  <a:pt x="21754" y="17884"/>
                </a:cubicBezTo>
                <a:cubicBezTo>
                  <a:pt x="21777" y="17907"/>
                  <a:pt x="21788" y="17915"/>
                  <a:pt x="21754" y="17909"/>
                </a:cubicBezTo>
                <a:cubicBezTo>
                  <a:pt x="21754" y="17967"/>
                  <a:pt x="21745" y="17981"/>
                  <a:pt x="21729" y="18008"/>
                </a:cubicBezTo>
                <a:cubicBezTo>
                  <a:pt x="21752" y="18031"/>
                  <a:pt x="21763" y="18039"/>
                  <a:pt x="21729" y="18033"/>
                </a:cubicBezTo>
                <a:cubicBezTo>
                  <a:pt x="21752" y="18078"/>
                  <a:pt x="21751" y="18040"/>
                  <a:pt x="21729" y="18083"/>
                </a:cubicBezTo>
                <a:cubicBezTo>
                  <a:pt x="21744" y="18108"/>
                  <a:pt x="21751" y="18104"/>
                  <a:pt x="21754" y="18157"/>
                </a:cubicBezTo>
                <a:cubicBezTo>
                  <a:pt x="21754" y="18182"/>
                  <a:pt x="21754" y="18190"/>
                  <a:pt x="21754" y="18207"/>
                </a:cubicBezTo>
                <a:cubicBezTo>
                  <a:pt x="21739" y="18232"/>
                  <a:pt x="21732" y="18228"/>
                  <a:pt x="21729" y="18281"/>
                </a:cubicBezTo>
                <a:cubicBezTo>
                  <a:pt x="21726" y="18336"/>
                  <a:pt x="21746" y="18363"/>
                  <a:pt x="21754" y="18405"/>
                </a:cubicBezTo>
                <a:cubicBezTo>
                  <a:pt x="21785" y="18562"/>
                  <a:pt x="21757" y="18784"/>
                  <a:pt x="21729" y="18926"/>
                </a:cubicBezTo>
                <a:cubicBezTo>
                  <a:pt x="21729" y="18951"/>
                  <a:pt x="21729" y="18959"/>
                  <a:pt x="21729" y="18976"/>
                </a:cubicBezTo>
                <a:cubicBezTo>
                  <a:pt x="21678" y="18969"/>
                  <a:pt x="21678" y="18966"/>
                  <a:pt x="21654" y="18951"/>
                </a:cubicBezTo>
              </a:path>
              <a:path w="2183" h="2854">
                <a:moveTo>
                  <a:pt x="22151" y="17438"/>
                </a:moveTo>
                <a:cubicBezTo>
                  <a:pt x="22201" y="17445"/>
                  <a:pt x="22187" y="17455"/>
                  <a:pt x="22225" y="17462"/>
                </a:cubicBezTo>
                <a:cubicBezTo>
                  <a:pt x="22259" y="17469"/>
                  <a:pt x="22298" y="17482"/>
                  <a:pt x="22324" y="17487"/>
                </a:cubicBezTo>
                <a:cubicBezTo>
                  <a:pt x="22357" y="17494"/>
                  <a:pt x="22366" y="17505"/>
                  <a:pt x="22399" y="17512"/>
                </a:cubicBezTo>
                <a:cubicBezTo>
                  <a:pt x="22496" y="17532"/>
                  <a:pt x="22638" y="17499"/>
                  <a:pt x="22696" y="17487"/>
                </a:cubicBezTo>
                <a:cubicBezTo>
                  <a:pt x="22740" y="17478"/>
                  <a:pt x="22743" y="17484"/>
                  <a:pt x="22771" y="17462"/>
                </a:cubicBezTo>
                <a:cubicBezTo>
                  <a:pt x="22798" y="17441"/>
                  <a:pt x="22810" y="17423"/>
                  <a:pt x="22845" y="17388"/>
                </a:cubicBezTo>
                <a:cubicBezTo>
                  <a:pt x="22875" y="17358"/>
                  <a:pt x="22874" y="17319"/>
                  <a:pt x="22895" y="17289"/>
                </a:cubicBezTo>
                <a:cubicBezTo>
                  <a:pt x="22910" y="17268"/>
                  <a:pt x="22903" y="17249"/>
                  <a:pt x="22920" y="17214"/>
                </a:cubicBezTo>
                <a:cubicBezTo>
                  <a:pt x="22930" y="17194"/>
                  <a:pt x="22963" y="17171"/>
                  <a:pt x="22969" y="17140"/>
                </a:cubicBezTo>
                <a:cubicBezTo>
                  <a:pt x="22981" y="17080"/>
                  <a:pt x="22948" y="17012"/>
                  <a:pt x="22944" y="16991"/>
                </a:cubicBezTo>
                <a:cubicBezTo>
                  <a:pt x="22937" y="16955"/>
                  <a:pt x="22938" y="16922"/>
                  <a:pt x="22920" y="16892"/>
                </a:cubicBezTo>
                <a:cubicBezTo>
                  <a:pt x="22914" y="16881"/>
                  <a:pt x="22889" y="16842"/>
                  <a:pt x="22870" y="16818"/>
                </a:cubicBezTo>
                <a:cubicBezTo>
                  <a:pt x="22842" y="16784"/>
                  <a:pt x="22817" y="16787"/>
                  <a:pt x="22796" y="16768"/>
                </a:cubicBezTo>
                <a:cubicBezTo>
                  <a:pt x="22761" y="16736"/>
                  <a:pt x="22712" y="16736"/>
                  <a:pt x="22671" y="16718"/>
                </a:cubicBezTo>
                <a:cubicBezTo>
                  <a:pt x="22637" y="16703"/>
                  <a:pt x="22613" y="16696"/>
                  <a:pt x="22572" y="16694"/>
                </a:cubicBezTo>
                <a:cubicBezTo>
                  <a:pt x="22497" y="16690"/>
                  <a:pt x="22436" y="16706"/>
                  <a:pt x="22374" y="16718"/>
                </a:cubicBezTo>
                <a:cubicBezTo>
                  <a:pt x="22337" y="16725"/>
                  <a:pt x="22306" y="16724"/>
                  <a:pt x="22275" y="16743"/>
                </a:cubicBezTo>
                <a:cubicBezTo>
                  <a:pt x="22241" y="16764"/>
                  <a:pt x="22219" y="16776"/>
                  <a:pt x="22200" y="16793"/>
                </a:cubicBezTo>
                <a:cubicBezTo>
                  <a:pt x="22174" y="16817"/>
                  <a:pt x="22162" y="16831"/>
                  <a:pt x="22126" y="16867"/>
                </a:cubicBezTo>
                <a:cubicBezTo>
                  <a:pt x="22099" y="16894"/>
                  <a:pt x="22084" y="16931"/>
                  <a:pt x="22076" y="16966"/>
                </a:cubicBezTo>
                <a:cubicBezTo>
                  <a:pt x="22057" y="17050"/>
                  <a:pt x="22092" y="17169"/>
                  <a:pt x="22101" y="17214"/>
                </a:cubicBezTo>
                <a:cubicBezTo>
                  <a:pt x="22108" y="17251"/>
                  <a:pt x="22107" y="17283"/>
                  <a:pt x="22126" y="17314"/>
                </a:cubicBezTo>
                <a:cubicBezTo>
                  <a:pt x="22129" y="17319"/>
                  <a:pt x="22163" y="17372"/>
                  <a:pt x="22175" y="17388"/>
                </a:cubicBezTo>
                <a:cubicBezTo>
                  <a:pt x="22213" y="17439"/>
                  <a:pt x="22233" y="17417"/>
                  <a:pt x="22275" y="17438"/>
                </a:cubicBezTo>
                <a:cubicBezTo>
                  <a:pt x="22295" y="17448"/>
                  <a:pt x="22318" y="17481"/>
                  <a:pt x="22349" y="17487"/>
                </a:cubicBezTo>
                <a:cubicBezTo>
                  <a:pt x="22395" y="17496"/>
                  <a:pt x="22377" y="17499"/>
                  <a:pt x="22399" y="17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Ink 69"/>
          <p:cNvSpPr/>
          <p:nvPr/>
        </p:nvSpPr>
        <p:spPr>
          <a:xfrm>
            <a:off x="3633840" y="6527880"/>
            <a:ext cx="457200" cy="23184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10244" y="18132"/>
                </a:moveTo>
                <a:cubicBezTo>
                  <a:pt x="10244" y="18186"/>
                  <a:pt x="10252" y="18233"/>
                  <a:pt x="10220" y="18281"/>
                </a:cubicBezTo>
                <a:cubicBezTo>
                  <a:pt x="10186" y="18333"/>
                  <a:pt x="10171" y="18374"/>
                  <a:pt x="10145" y="18430"/>
                </a:cubicBezTo>
                <a:cubicBezTo>
                  <a:pt x="10123" y="18476"/>
                  <a:pt x="10101" y="18533"/>
                  <a:pt x="10096" y="18579"/>
                </a:cubicBezTo>
                <a:cubicBezTo>
                  <a:pt x="10096" y="18587"/>
                  <a:pt x="10096" y="18596"/>
                  <a:pt x="10096" y="18604"/>
                </a:cubicBezTo>
                <a:cubicBezTo>
                  <a:pt x="10170" y="18604"/>
                  <a:pt x="10226" y="18591"/>
                  <a:pt x="10294" y="18579"/>
                </a:cubicBezTo>
                <a:cubicBezTo>
                  <a:pt x="10351" y="18569"/>
                  <a:pt x="10411" y="18557"/>
                  <a:pt x="10468" y="18554"/>
                </a:cubicBezTo>
                <a:cubicBezTo>
                  <a:pt x="10523" y="18551"/>
                  <a:pt x="10709" y="18581"/>
                  <a:pt x="10716" y="18529"/>
                </a:cubicBezTo>
                <a:cubicBezTo>
                  <a:pt x="10716" y="18504"/>
                  <a:pt x="10716" y="18496"/>
                  <a:pt x="10691" y="18504"/>
                </a:cubicBezTo>
              </a:path>
              <a:path w="1266" h="646">
                <a:moveTo>
                  <a:pt x="10492" y="18306"/>
                </a:moveTo>
                <a:cubicBezTo>
                  <a:pt x="10492" y="18446"/>
                  <a:pt x="10475" y="18605"/>
                  <a:pt x="10517" y="18728"/>
                </a:cubicBezTo>
                <a:cubicBezTo>
                  <a:pt x="10517" y="18752"/>
                  <a:pt x="10517" y="18761"/>
                  <a:pt x="10517" y="18777"/>
                </a:cubicBezTo>
                <a:cubicBezTo>
                  <a:pt x="10574" y="18766"/>
                  <a:pt x="10600" y="18744"/>
                  <a:pt x="10641" y="18703"/>
                </a:cubicBezTo>
              </a:path>
              <a:path w="1266" h="646">
                <a:moveTo>
                  <a:pt x="10988" y="18231"/>
                </a:moveTo>
                <a:cubicBezTo>
                  <a:pt x="10939" y="18244"/>
                  <a:pt x="10939" y="18256"/>
                  <a:pt x="10939" y="18306"/>
                </a:cubicBezTo>
                <a:cubicBezTo>
                  <a:pt x="10939" y="18348"/>
                  <a:pt x="10914" y="18378"/>
                  <a:pt x="10914" y="18430"/>
                </a:cubicBezTo>
                <a:cubicBezTo>
                  <a:pt x="10914" y="18472"/>
                  <a:pt x="10891" y="18605"/>
                  <a:pt x="10939" y="18628"/>
                </a:cubicBezTo>
                <a:cubicBezTo>
                  <a:pt x="10979" y="18647"/>
                  <a:pt x="11013" y="18653"/>
                  <a:pt x="11063" y="18653"/>
                </a:cubicBezTo>
                <a:cubicBezTo>
                  <a:pt x="11120" y="18653"/>
                  <a:pt x="11140" y="18632"/>
                  <a:pt x="11187" y="18604"/>
                </a:cubicBezTo>
                <a:cubicBezTo>
                  <a:pt x="11230" y="18579"/>
                  <a:pt x="11315" y="18528"/>
                  <a:pt x="11336" y="18479"/>
                </a:cubicBezTo>
                <a:cubicBezTo>
                  <a:pt x="11355" y="18434"/>
                  <a:pt x="11361" y="18414"/>
                  <a:pt x="11361" y="18355"/>
                </a:cubicBezTo>
                <a:cubicBezTo>
                  <a:pt x="11361" y="18311"/>
                  <a:pt x="11360" y="18273"/>
                  <a:pt x="11336" y="18256"/>
                </a:cubicBezTo>
                <a:cubicBezTo>
                  <a:pt x="11311" y="18238"/>
                  <a:pt x="11213" y="18182"/>
                  <a:pt x="11212" y="18182"/>
                </a:cubicBezTo>
                <a:cubicBezTo>
                  <a:pt x="11168" y="18171"/>
                  <a:pt x="11073" y="18191"/>
                  <a:pt x="11038" y="18207"/>
                </a:cubicBezTo>
                <a:cubicBezTo>
                  <a:pt x="11010" y="18219"/>
                  <a:pt x="10953" y="18248"/>
                  <a:pt x="10939" y="18281"/>
                </a:cubicBezTo>
                <a:cubicBezTo>
                  <a:pt x="10939" y="18306"/>
                  <a:pt x="10939" y="18314"/>
                  <a:pt x="10939" y="1833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1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2760" y="2421000"/>
            <a:ext cx="44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Bo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700360" y="692280"/>
          <a:ext cx="4608360" cy="1512720"/>
        </p:xfrm>
        <a:graphic>
          <a:graphicData uri="http://schemas.openxmlformats.org/drawingml/2006/table">
            <a:tbl>
              <a:tblPr/>
              <a:tblGrid>
                <a:gridCol w="1152360"/>
                <a:gridCol w="1152720"/>
                <a:gridCol w="1152360"/>
                <a:gridCol w="115092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37"/>
          <p:cNvSpPr/>
          <p:nvPr/>
        </p:nvSpPr>
        <p:spPr>
          <a:xfrm>
            <a:off x="468360" y="69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avourite p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389880" y="323856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og being favourite p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386640" y="4876920"/>
            <a:ext cx="69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that a Boy has a Cat as favourite 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386280" y="5695920"/>
            <a:ext cx="84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girl, given that a dog is a favourite 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387000" y="4057560"/>
            <a:ext cx="84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Boy and having a Cat as favourite p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6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50"/>
          <p:cNvSpPr/>
          <p:nvPr/>
        </p:nvSpPr>
        <p:spPr>
          <a:xfrm>
            <a:off x="1170000" y="6170760"/>
            <a:ext cx="608040" cy="411120"/>
          </a:xfrm>
          <a:custGeom>
            <a:avLst/>
            <a:gdLst/>
            <a:ahLst/>
            <a:rect l="l" t="t" r="r" b="b"/>
            <a:pathLst>
              <a:path w="1688" h="1142">
                <a:moveTo>
                  <a:pt x="3448" y="17140"/>
                </a:moveTo>
                <a:cubicBezTo>
                  <a:pt x="3408" y="17150"/>
                  <a:pt x="3389" y="17182"/>
                  <a:pt x="3373" y="17190"/>
                </a:cubicBezTo>
                <a:cubicBezTo>
                  <a:pt x="3327" y="17214"/>
                  <a:pt x="3334" y="17224"/>
                  <a:pt x="3299" y="17264"/>
                </a:cubicBezTo>
                <a:cubicBezTo>
                  <a:pt x="3263" y="17304"/>
                  <a:pt x="3249" y="17309"/>
                  <a:pt x="3249" y="17363"/>
                </a:cubicBezTo>
                <a:cubicBezTo>
                  <a:pt x="3249" y="17414"/>
                  <a:pt x="3242" y="17447"/>
                  <a:pt x="3274" y="17487"/>
                </a:cubicBezTo>
                <a:cubicBezTo>
                  <a:pt x="3295" y="17513"/>
                  <a:pt x="3344" y="17556"/>
                  <a:pt x="3373" y="17562"/>
                </a:cubicBezTo>
                <a:cubicBezTo>
                  <a:pt x="3437" y="17576"/>
                  <a:pt x="3575" y="17574"/>
                  <a:pt x="3621" y="17537"/>
                </a:cubicBezTo>
                <a:cubicBezTo>
                  <a:pt x="3675" y="17493"/>
                  <a:pt x="3707" y="17441"/>
                  <a:pt x="3746" y="17388"/>
                </a:cubicBezTo>
                <a:cubicBezTo>
                  <a:pt x="3774" y="17350"/>
                  <a:pt x="3770" y="17336"/>
                  <a:pt x="3770" y="17289"/>
                </a:cubicBezTo>
                <a:cubicBezTo>
                  <a:pt x="3770" y="17252"/>
                  <a:pt x="3721" y="17193"/>
                  <a:pt x="3696" y="17190"/>
                </a:cubicBezTo>
                <a:cubicBezTo>
                  <a:pt x="3642" y="17184"/>
                  <a:pt x="3536" y="17173"/>
                  <a:pt x="3522" y="17214"/>
                </a:cubicBezTo>
              </a:path>
              <a:path w="1688" h="1142">
                <a:moveTo>
                  <a:pt x="3845" y="17487"/>
                </a:moveTo>
                <a:cubicBezTo>
                  <a:pt x="3845" y="17538"/>
                  <a:pt x="3856" y="17546"/>
                  <a:pt x="3870" y="17587"/>
                </a:cubicBezTo>
                <a:cubicBezTo>
                  <a:pt x="3870" y="17611"/>
                  <a:pt x="3870" y="17620"/>
                  <a:pt x="3870" y="17636"/>
                </a:cubicBezTo>
                <a:cubicBezTo>
                  <a:pt x="3906" y="17590"/>
                  <a:pt x="3928" y="17564"/>
                  <a:pt x="3969" y="17537"/>
                </a:cubicBezTo>
                <a:cubicBezTo>
                  <a:pt x="4028" y="17498"/>
                  <a:pt x="4015" y="17439"/>
                  <a:pt x="4093" y="17413"/>
                </a:cubicBezTo>
                <a:cubicBezTo>
                  <a:pt x="4121" y="17404"/>
                  <a:pt x="4138" y="17395"/>
                  <a:pt x="4167" y="17388"/>
                </a:cubicBezTo>
                <a:cubicBezTo>
                  <a:pt x="4167" y="17453"/>
                  <a:pt x="4142" y="17619"/>
                  <a:pt x="4192" y="17636"/>
                </a:cubicBezTo>
              </a:path>
              <a:path w="1688" h="1142">
                <a:moveTo>
                  <a:pt x="4465" y="17140"/>
                </a:moveTo>
                <a:cubicBezTo>
                  <a:pt x="4457" y="17172"/>
                  <a:pt x="4451" y="17207"/>
                  <a:pt x="4440" y="17239"/>
                </a:cubicBezTo>
                <a:cubicBezTo>
                  <a:pt x="4419" y="17299"/>
                  <a:pt x="4415" y="17323"/>
                  <a:pt x="4415" y="17388"/>
                </a:cubicBezTo>
                <a:cubicBezTo>
                  <a:pt x="4415" y="17430"/>
                  <a:pt x="4390" y="17460"/>
                  <a:pt x="4390" y="17512"/>
                </a:cubicBezTo>
                <a:cubicBezTo>
                  <a:pt x="4390" y="17553"/>
                  <a:pt x="4390" y="17595"/>
                  <a:pt x="4390" y="17636"/>
                </a:cubicBezTo>
                <a:cubicBezTo>
                  <a:pt x="4415" y="17636"/>
                  <a:pt x="4440" y="17636"/>
                  <a:pt x="4465" y="17636"/>
                </a:cubicBezTo>
              </a:path>
              <a:path w="1688" h="1142">
                <a:moveTo>
                  <a:pt x="4564" y="17562"/>
                </a:moveTo>
                <a:cubicBezTo>
                  <a:pt x="4564" y="17590"/>
                  <a:pt x="4575" y="17632"/>
                  <a:pt x="4589" y="17636"/>
                </a:cubicBezTo>
                <a:cubicBezTo>
                  <a:pt x="4659" y="17656"/>
                  <a:pt x="4782" y="17642"/>
                  <a:pt x="4837" y="17611"/>
                </a:cubicBezTo>
                <a:cubicBezTo>
                  <a:pt x="4902" y="17575"/>
                  <a:pt x="4882" y="17551"/>
                  <a:pt x="4911" y="17512"/>
                </a:cubicBezTo>
                <a:cubicBezTo>
                  <a:pt x="4934" y="17489"/>
                  <a:pt x="4942" y="17485"/>
                  <a:pt x="4936" y="17462"/>
                </a:cubicBezTo>
                <a:cubicBezTo>
                  <a:pt x="4903" y="17506"/>
                  <a:pt x="4911" y="17529"/>
                  <a:pt x="4911" y="17587"/>
                </a:cubicBezTo>
                <a:cubicBezTo>
                  <a:pt x="4911" y="17672"/>
                  <a:pt x="4885" y="17776"/>
                  <a:pt x="4862" y="17859"/>
                </a:cubicBezTo>
                <a:cubicBezTo>
                  <a:pt x="4838" y="17946"/>
                  <a:pt x="4811" y="18055"/>
                  <a:pt x="4762" y="18132"/>
                </a:cubicBezTo>
                <a:cubicBezTo>
                  <a:pt x="4725" y="18190"/>
                  <a:pt x="4661" y="18213"/>
                  <a:pt x="4614" y="18256"/>
                </a:cubicBezTo>
                <a:cubicBezTo>
                  <a:pt x="4581" y="18286"/>
                  <a:pt x="4530" y="18288"/>
                  <a:pt x="4514" y="18231"/>
                </a:cubicBezTo>
                <a:cubicBezTo>
                  <a:pt x="4501" y="18187"/>
                  <a:pt x="4503" y="18066"/>
                  <a:pt x="4539" y="18033"/>
                </a:cubicBezTo>
                <a:cubicBezTo>
                  <a:pt x="4556" y="18025"/>
                  <a:pt x="4572" y="18016"/>
                  <a:pt x="4589" y="180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51"/>
          <p:cNvSpPr/>
          <p:nvPr/>
        </p:nvSpPr>
        <p:spPr>
          <a:xfrm>
            <a:off x="2081160" y="6116760"/>
            <a:ext cx="473040" cy="277560"/>
          </a:xfrm>
          <a:custGeom>
            <a:avLst/>
            <a:gdLst/>
            <a:ahLst/>
            <a:rect l="l" t="t" r="r" b="b"/>
            <a:pathLst>
              <a:path w="1316" h="770">
                <a:moveTo>
                  <a:pt x="5928" y="16991"/>
                </a:moveTo>
                <a:cubicBezTo>
                  <a:pt x="5917" y="17036"/>
                  <a:pt x="5896" y="17073"/>
                  <a:pt x="5879" y="17115"/>
                </a:cubicBezTo>
                <a:cubicBezTo>
                  <a:pt x="5851" y="17185"/>
                  <a:pt x="5816" y="17267"/>
                  <a:pt x="5804" y="17338"/>
                </a:cubicBezTo>
                <a:cubicBezTo>
                  <a:pt x="5795" y="17395"/>
                  <a:pt x="5779" y="17426"/>
                  <a:pt x="5779" y="17487"/>
                </a:cubicBezTo>
                <a:cubicBezTo>
                  <a:pt x="5779" y="17567"/>
                  <a:pt x="5774" y="17562"/>
                  <a:pt x="5854" y="17562"/>
                </a:cubicBezTo>
              </a:path>
              <a:path w="1316" h="770">
                <a:moveTo>
                  <a:pt x="6052" y="17438"/>
                </a:moveTo>
                <a:cubicBezTo>
                  <a:pt x="6052" y="17487"/>
                  <a:pt x="6025" y="17635"/>
                  <a:pt x="6077" y="17661"/>
                </a:cubicBezTo>
                <a:cubicBezTo>
                  <a:pt x="6123" y="17684"/>
                  <a:pt x="6154" y="17698"/>
                  <a:pt x="6201" y="17661"/>
                </a:cubicBezTo>
                <a:cubicBezTo>
                  <a:pt x="6229" y="17633"/>
                  <a:pt x="6243" y="17624"/>
                  <a:pt x="6276" y="17636"/>
                </a:cubicBezTo>
                <a:cubicBezTo>
                  <a:pt x="6276" y="17574"/>
                  <a:pt x="6295" y="17545"/>
                  <a:pt x="6300" y="17487"/>
                </a:cubicBezTo>
                <a:cubicBezTo>
                  <a:pt x="6303" y="17446"/>
                  <a:pt x="6253" y="17456"/>
                  <a:pt x="6226" y="17438"/>
                </a:cubicBezTo>
                <a:cubicBezTo>
                  <a:pt x="6203" y="17423"/>
                  <a:pt x="6161" y="17394"/>
                  <a:pt x="6127" y="17413"/>
                </a:cubicBezTo>
                <a:cubicBezTo>
                  <a:pt x="6082" y="17438"/>
                  <a:pt x="6097" y="17477"/>
                  <a:pt x="6127" y="17487"/>
                </a:cubicBezTo>
              </a:path>
              <a:path w="1316" h="770">
                <a:moveTo>
                  <a:pt x="6400" y="17462"/>
                </a:moveTo>
                <a:cubicBezTo>
                  <a:pt x="6339" y="17477"/>
                  <a:pt x="6350" y="17501"/>
                  <a:pt x="6350" y="17562"/>
                </a:cubicBezTo>
                <a:cubicBezTo>
                  <a:pt x="6350" y="17594"/>
                  <a:pt x="6350" y="17669"/>
                  <a:pt x="6375" y="17686"/>
                </a:cubicBezTo>
                <a:cubicBezTo>
                  <a:pt x="6397" y="17701"/>
                  <a:pt x="6474" y="17709"/>
                  <a:pt x="6499" y="17711"/>
                </a:cubicBezTo>
                <a:cubicBezTo>
                  <a:pt x="6518" y="17713"/>
                  <a:pt x="6591" y="17683"/>
                  <a:pt x="6598" y="17661"/>
                </a:cubicBezTo>
                <a:cubicBezTo>
                  <a:pt x="6617" y="17599"/>
                  <a:pt x="6589" y="17535"/>
                  <a:pt x="6573" y="17487"/>
                </a:cubicBezTo>
                <a:cubicBezTo>
                  <a:pt x="6560" y="17449"/>
                  <a:pt x="6544" y="17462"/>
                  <a:pt x="6499" y="17462"/>
                </a:cubicBezTo>
                <a:cubicBezTo>
                  <a:pt x="6461" y="17462"/>
                  <a:pt x="6419" y="17469"/>
                  <a:pt x="6474" y="17487"/>
                </a:cubicBezTo>
              </a:path>
              <a:path w="1316" h="770">
                <a:moveTo>
                  <a:pt x="6871" y="17090"/>
                </a:moveTo>
                <a:cubicBezTo>
                  <a:pt x="6862" y="17134"/>
                  <a:pt x="6859" y="17196"/>
                  <a:pt x="6846" y="17239"/>
                </a:cubicBezTo>
                <a:cubicBezTo>
                  <a:pt x="6825" y="17310"/>
                  <a:pt x="6808" y="17390"/>
                  <a:pt x="6796" y="17462"/>
                </a:cubicBezTo>
                <a:cubicBezTo>
                  <a:pt x="6784" y="17531"/>
                  <a:pt x="6763" y="17601"/>
                  <a:pt x="6747" y="17661"/>
                </a:cubicBezTo>
                <a:cubicBezTo>
                  <a:pt x="6736" y="17702"/>
                  <a:pt x="6743" y="17726"/>
                  <a:pt x="6772" y="17735"/>
                </a:cubicBezTo>
              </a:path>
              <a:path w="1316" h="770">
                <a:moveTo>
                  <a:pt x="6896" y="17487"/>
                </a:moveTo>
                <a:cubicBezTo>
                  <a:pt x="6909" y="17435"/>
                  <a:pt x="6933" y="17446"/>
                  <a:pt x="6970" y="17413"/>
                </a:cubicBezTo>
                <a:cubicBezTo>
                  <a:pt x="7003" y="17384"/>
                  <a:pt x="7015" y="17373"/>
                  <a:pt x="7045" y="17363"/>
                </a:cubicBezTo>
              </a:path>
              <a:path w="1316" h="770">
                <a:moveTo>
                  <a:pt x="6945" y="17487"/>
                </a:moveTo>
                <a:cubicBezTo>
                  <a:pt x="6945" y="17534"/>
                  <a:pt x="6962" y="17550"/>
                  <a:pt x="6970" y="17587"/>
                </a:cubicBezTo>
                <a:cubicBezTo>
                  <a:pt x="6980" y="17635"/>
                  <a:pt x="6968" y="17672"/>
                  <a:pt x="6995" y="17711"/>
                </a:cubicBezTo>
                <a:cubicBezTo>
                  <a:pt x="7019" y="17746"/>
                  <a:pt x="7057" y="17753"/>
                  <a:pt x="7094" y="1776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52"/>
          <p:cNvSpPr/>
          <p:nvPr/>
        </p:nvSpPr>
        <p:spPr>
          <a:xfrm>
            <a:off x="2820960" y="6153120"/>
            <a:ext cx="287280" cy="204840"/>
          </a:xfrm>
          <a:custGeom>
            <a:avLst/>
            <a:gdLst/>
            <a:ahLst/>
            <a:rect l="l" t="t" r="r" b="b"/>
            <a:pathLst>
              <a:path w="795" h="572">
                <a:moveTo>
                  <a:pt x="8086" y="17338"/>
                </a:moveTo>
                <a:cubicBezTo>
                  <a:pt x="8039" y="17338"/>
                  <a:pt x="7977" y="17343"/>
                  <a:pt x="7938" y="17363"/>
                </a:cubicBezTo>
                <a:cubicBezTo>
                  <a:pt x="7921" y="17371"/>
                  <a:pt x="7845" y="17424"/>
                  <a:pt x="7838" y="17438"/>
                </a:cubicBezTo>
                <a:cubicBezTo>
                  <a:pt x="7824" y="17466"/>
                  <a:pt x="7835" y="17548"/>
                  <a:pt x="7863" y="17562"/>
                </a:cubicBezTo>
                <a:cubicBezTo>
                  <a:pt x="7908" y="17584"/>
                  <a:pt x="7974" y="17546"/>
                  <a:pt x="8012" y="17537"/>
                </a:cubicBezTo>
                <a:cubicBezTo>
                  <a:pt x="8044" y="17529"/>
                  <a:pt x="8095" y="17498"/>
                  <a:pt x="8111" y="17462"/>
                </a:cubicBezTo>
                <a:cubicBezTo>
                  <a:pt x="8134" y="17411"/>
                  <a:pt x="8131" y="17427"/>
                  <a:pt x="8111" y="17462"/>
                </a:cubicBezTo>
                <a:cubicBezTo>
                  <a:pt x="8088" y="17503"/>
                  <a:pt x="8086" y="17511"/>
                  <a:pt x="8086" y="17562"/>
                </a:cubicBezTo>
                <a:cubicBezTo>
                  <a:pt x="8086" y="17598"/>
                  <a:pt x="8109" y="17633"/>
                  <a:pt x="8136" y="17636"/>
                </a:cubicBezTo>
                <a:cubicBezTo>
                  <a:pt x="8144" y="17636"/>
                  <a:pt x="8153" y="17636"/>
                  <a:pt x="8161" y="17636"/>
                </a:cubicBezTo>
              </a:path>
              <a:path w="795" h="572">
                <a:moveTo>
                  <a:pt x="8359" y="17090"/>
                </a:moveTo>
                <a:cubicBezTo>
                  <a:pt x="8324" y="17137"/>
                  <a:pt x="8334" y="17177"/>
                  <a:pt x="8334" y="17239"/>
                </a:cubicBezTo>
                <a:cubicBezTo>
                  <a:pt x="8334" y="17309"/>
                  <a:pt x="8310" y="17365"/>
                  <a:pt x="8310" y="17438"/>
                </a:cubicBezTo>
                <a:cubicBezTo>
                  <a:pt x="8310" y="17516"/>
                  <a:pt x="8305" y="17571"/>
                  <a:pt x="8285" y="17636"/>
                </a:cubicBezTo>
                <a:cubicBezTo>
                  <a:pt x="8285" y="17644"/>
                  <a:pt x="8285" y="17653"/>
                  <a:pt x="8285" y="17661"/>
                </a:cubicBezTo>
              </a:path>
              <a:path w="795" h="572">
                <a:moveTo>
                  <a:pt x="8235" y="17438"/>
                </a:moveTo>
                <a:cubicBezTo>
                  <a:pt x="8294" y="17438"/>
                  <a:pt x="8338" y="17422"/>
                  <a:pt x="8384" y="17413"/>
                </a:cubicBezTo>
                <a:cubicBezTo>
                  <a:pt x="8460" y="17398"/>
                  <a:pt x="8554" y="17413"/>
                  <a:pt x="8632" y="1741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53"/>
          <p:cNvSpPr/>
          <p:nvPr/>
        </p:nvSpPr>
        <p:spPr>
          <a:xfrm>
            <a:off x="3411360" y="6134040"/>
            <a:ext cx="1428840" cy="465120"/>
          </a:xfrm>
          <a:custGeom>
            <a:avLst/>
            <a:gdLst/>
            <a:ahLst/>
            <a:rect l="l" t="t" r="r" b="b"/>
            <a:pathLst>
              <a:path w="3970" h="1291">
                <a:moveTo>
                  <a:pt x="9798" y="17413"/>
                </a:moveTo>
                <a:cubicBezTo>
                  <a:pt x="9750" y="17413"/>
                  <a:pt x="9710" y="17414"/>
                  <a:pt x="9674" y="17438"/>
                </a:cubicBezTo>
                <a:cubicBezTo>
                  <a:pt x="9635" y="17463"/>
                  <a:pt x="9603" y="17513"/>
                  <a:pt x="9624" y="17562"/>
                </a:cubicBezTo>
                <a:cubicBezTo>
                  <a:pt x="9637" y="17593"/>
                  <a:pt x="9680" y="17641"/>
                  <a:pt x="9723" y="17636"/>
                </a:cubicBezTo>
                <a:cubicBezTo>
                  <a:pt x="9787" y="17628"/>
                  <a:pt x="9840" y="17592"/>
                  <a:pt x="9897" y="17562"/>
                </a:cubicBezTo>
                <a:cubicBezTo>
                  <a:pt x="9969" y="17524"/>
                  <a:pt x="10012" y="17487"/>
                  <a:pt x="10071" y="17438"/>
                </a:cubicBezTo>
                <a:cubicBezTo>
                  <a:pt x="10119" y="17398"/>
                  <a:pt x="10142" y="17319"/>
                  <a:pt x="10170" y="17264"/>
                </a:cubicBezTo>
                <a:cubicBezTo>
                  <a:pt x="10198" y="17207"/>
                  <a:pt x="10209" y="17184"/>
                  <a:pt x="10220" y="17140"/>
                </a:cubicBezTo>
              </a:path>
              <a:path w="3970" h="1291">
                <a:moveTo>
                  <a:pt x="10220" y="17041"/>
                </a:moveTo>
                <a:cubicBezTo>
                  <a:pt x="10193" y="17086"/>
                  <a:pt x="10157" y="17156"/>
                  <a:pt x="10145" y="17214"/>
                </a:cubicBezTo>
                <a:cubicBezTo>
                  <a:pt x="10130" y="17290"/>
                  <a:pt x="10085" y="17370"/>
                  <a:pt x="10071" y="17438"/>
                </a:cubicBezTo>
                <a:cubicBezTo>
                  <a:pt x="10061" y="17486"/>
                  <a:pt x="10061" y="17575"/>
                  <a:pt x="10096" y="17587"/>
                </a:cubicBezTo>
              </a:path>
              <a:path w="3970" h="1291">
                <a:moveTo>
                  <a:pt x="10170" y="17562"/>
                </a:moveTo>
                <a:cubicBezTo>
                  <a:pt x="10165" y="17575"/>
                  <a:pt x="10121" y="17664"/>
                  <a:pt x="10145" y="17686"/>
                </a:cubicBezTo>
                <a:cubicBezTo>
                  <a:pt x="10186" y="17723"/>
                  <a:pt x="10244" y="17711"/>
                  <a:pt x="10294" y="17711"/>
                </a:cubicBezTo>
                <a:cubicBezTo>
                  <a:pt x="10360" y="17711"/>
                  <a:pt x="10393" y="17706"/>
                  <a:pt x="10443" y="17661"/>
                </a:cubicBezTo>
                <a:cubicBezTo>
                  <a:pt x="10474" y="17633"/>
                  <a:pt x="10488" y="17579"/>
                  <a:pt x="10492" y="17537"/>
                </a:cubicBezTo>
                <a:cubicBezTo>
                  <a:pt x="10498" y="17472"/>
                  <a:pt x="10447" y="17451"/>
                  <a:pt x="10393" y="17438"/>
                </a:cubicBezTo>
                <a:cubicBezTo>
                  <a:pt x="10295" y="17414"/>
                  <a:pt x="10258" y="17455"/>
                  <a:pt x="10220" y="17487"/>
                </a:cubicBezTo>
                <a:cubicBezTo>
                  <a:pt x="10212" y="17487"/>
                  <a:pt x="10203" y="17487"/>
                  <a:pt x="10195" y="17487"/>
                </a:cubicBezTo>
              </a:path>
              <a:path w="3970" h="1291">
                <a:moveTo>
                  <a:pt x="10046" y="17487"/>
                </a:moveTo>
                <a:cubicBezTo>
                  <a:pt x="10046" y="17479"/>
                  <a:pt x="10046" y="17470"/>
                  <a:pt x="10046" y="17462"/>
                </a:cubicBezTo>
                <a:cubicBezTo>
                  <a:pt x="10084" y="17450"/>
                  <a:pt x="10071" y="17433"/>
                  <a:pt x="10071" y="17388"/>
                </a:cubicBezTo>
                <a:cubicBezTo>
                  <a:pt x="10020" y="17388"/>
                  <a:pt x="10012" y="17377"/>
                  <a:pt x="9971" y="17363"/>
                </a:cubicBezTo>
                <a:cubicBezTo>
                  <a:pt x="9941" y="17353"/>
                  <a:pt x="9876" y="17363"/>
                  <a:pt x="9847" y="17363"/>
                </a:cubicBezTo>
                <a:cubicBezTo>
                  <a:pt x="9836" y="17397"/>
                  <a:pt x="9834" y="17386"/>
                  <a:pt x="9798" y="17413"/>
                </a:cubicBezTo>
              </a:path>
              <a:path w="3970" h="1291">
                <a:moveTo>
                  <a:pt x="10740" y="17438"/>
                </a:moveTo>
                <a:cubicBezTo>
                  <a:pt x="10698" y="17446"/>
                  <a:pt x="10637" y="17466"/>
                  <a:pt x="10616" y="17512"/>
                </a:cubicBezTo>
                <a:cubicBezTo>
                  <a:pt x="10601" y="17546"/>
                  <a:pt x="10592" y="17537"/>
                  <a:pt x="10592" y="17587"/>
                </a:cubicBezTo>
                <a:cubicBezTo>
                  <a:pt x="10592" y="17595"/>
                  <a:pt x="10592" y="17603"/>
                  <a:pt x="10592" y="17611"/>
                </a:cubicBezTo>
                <a:cubicBezTo>
                  <a:pt x="10657" y="17611"/>
                  <a:pt x="10712" y="17598"/>
                  <a:pt x="10765" y="17587"/>
                </a:cubicBezTo>
                <a:cubicBezTo>
                  <a:pt x="10809" y="17578"/>
                  <a:pt x="10859" y="17582"/>
                  <a:pt x="10864" y="17537"/>
                </a:cubicBezTo>
                <a:cubicBezTo>
                  <a:pt x="10864" y="17512"/>
                  <a:pt x="10864" y="17504"/>
                  <a:pt x="10864" y="17487"/>
                </a:cubicBezTo>
                <a:cubicBezTo>
                  <a:pt x="10807" y="17561"/>
                  <a:pt x="10833" y="17574"/>
                  <a:pt x="10815" y="17661"/>
                </a:cubicBezTo>
                <a:cubicBezTo>
                  <a:pt x="10796" y="17755"/>
                  <a:pt x="10747" y="17844"/>
                  <a:pt x="10716" y="17934"/>
                </a:cubicBezTo>
                <a:cubicBezTo>
                  <a:pt x="10681" y="18036"/>
                  <a:pt x="10662" y="18126"/>
                  <a:pt x="10592" y="18207"/>
                </a:cubicBezTo>
                <a:cubicBezTo>
                  <a:pt x="10559" y="18246"/>
                  <a:pt x="10518" y="18300"/>
                  <a:pt x="10468" y="18306"/>
                </a:cubicBezTo>
                <a:cubicBezTo>
                  <a:pt x="10429" y="18310"/>
                  <a:pt x="10402" y="18297"/>
                  <a:pt x="10393" y="18256"/>
                </a:cubicBezTo>
                <a:cubicBezTo>
                  <a:pt x="10374" y="18168"/>
                  <a:pt x="10392" y="18097"/>
                  <a:pt x="10443" y="18033"/>
                </a:cubicBezTo>
                <a:cubicBezTo>
                  <a:pt x="10473" y="18003"/>
                  <a:pt x="10484" y="17989"/>
                  <a:pt x="10492" y="17959"/>
                </a:cubicBezTo>
              </a:path>
              <a:path w="3970" h="1291">
                <a:moveTo>
                  <a:pt x="11162" y="17140"/>
                </a:moveTo>
                <a:cubicBezTo>
                  <a:pt x="11140" y="17179"/>
                  <a:pt x="11100" y="17225"/>
                  <a:pt x="11088" y="17264"/>
                </a:cubicBezTo>
                <a:cubicBezTo>
                  <a:pt x="11073" y="17312"/>
                  <a:pt x="11066" y="17296"/>
                  <a:pt x="11088" y="17338"/>
                </a:cubicBezTo>
              </a:path>
              <a:path w="3970" h="1291">
                <a:moveTo>
                  <a:pt x="9475" y="17041"/>
                </a:moveTo>
                <a:cubicBezTo>
                  <a:pt x="9483" y="17041"/>
                  <a:pt x="9492" y="17041"/>
                  <a:pt x="9500" y="17041"/>
                </a:cubicBezTo>
                <a:cubicBezTo>
                  <a:pt x="9500" y="17091"/>
                  <a:pt x="9511" y="17099"/>
                  <a:pt x="9525" y="17140"/>
                </a:cubicBezTo>
                <a:cubicBezTo>
                  <a:pt x="9540" y="17184"/>
                  <a:pt x="9567" y="17224"/>
                  <a:pt x="9599" y="17264"/>
                </a:cubicBezTo>
              </a:path>
              <a:path w="3970" h="1291">
                <a:moveTo>
                  <a:pt x="10889" y="17438"/>
                </a:moveTo>
                <a:cubicBezTo>
                  <a:pt x="10848" y="17438"/>
                  <a:pt x="10806" y="17438"/>
                  <a:pt x="10765" y="17438"/>
                </a:cubicBezTo>
              </a:path>
              <a:path w="3970" h="1291">
                <a:moveTo>
                  <a:pt x="11981" y="17462"/>
                </a:moveTo>
                <a:cubicBezTo>
                  <a:pt x="11919" y="17462"/>
                  <a:pt x="11861" y="17451"/>
                  <a:pt x="11807" y="17487"/>
                </a:cubicBezTo>
                <a:cubicBezTo>
                  <a:pt x="11758" y="17520"/>
                  <a:pt x="11736" y="17556"/>
                  <a:pt x="11733" y="17611"/>
                </a:cubicBezTo>
                <a:cubicBezTo>
                  <a:pt x="11733" y="17653"/>
                  <a:pt x="11733" y="17661"/>
                  <a:pt x="11733" y="17686"/>
                </a:cubicBezTo>
                <a:cubicBezTo>
                  <a:pt x="11816" y="17686"/>
                  <a:pt x="11888" y="17676"/>
                  <a:pt x="11956" y="17661"/>
                </a:cubicBezTo>
                <a:cubicBezTo>
                  <a:pt x="11998" y="17652"/>
                  <a:pt x="12041" y="17638"/>
                  <a:pt x="12055" y="17611"/>
                </a:cubicBezTo>
                <a:cubicBezTo>
                  <a:pt x="12070" y="17582"/>
                  <a:pt x="12095" y="17507"/>
                  <a:pt x="12080" y="17537"/>
                </a:cubicBezTo>
                <a:cubicBezTo>
                  <a:pt x="12053" y="17591"/>
                  <a:pt x="11992" y="17646"/>
                  <a:pt x="11981" y="17711"/>
                </a:cubicBezTo>
                <a:cubicBezTo>
                  <a:pt x="11962" y="17821"/>
                  <a:pt x="11926" y="17880"/>
                  <a:pt x="11881" y="17983"/>
                </a:cubicBezTo>
                <a:cubicBezTo>
                  <a:pt x="11838" y="18081"/>
                  <a:pt x="11816" y="18124"/>
                  <a:pt x="11757" y="18207"/>
                </a:cubicBezTo>
                <a:cubicBezTo>
                  <a:pt x="11722" y="18257"/>
                  <a:pt x="11694" y="18306"/>
                  <a:pt x="11633" y="18331"/>
                </a:cubicBezTo>
                <a:cubicBezTo>
                  <a:pt x="11625" y="18331"/>
                  <a:pt x="11617" y="18331"/>
                  <a:pt x="11609" y="18331"/>
                </a:cubicBezTo>
                <a:cubicBezTo>
                  <a:pt x="11580" y="18293"/>
                  <a:pt x="11584" y="18280"/>
                  <a:pt x="11584" y="18231"/>
                </a:cubicBezTo>
                <a:cubicBezTo>
                  <a:pt x="11584" y="18147"/>
                  <a:pt x="11572" y="18133"/>
                  <a:pt x="11633" y="18083"/>
                </a:cubicBezTo>
                <a:cubicBezTo>
                  <a:pt x="11677" y="18047"/>
                  <a:pt x="11709" y="18013"/>
                  <a:pt x="11757" y="17983"/>
                </a:cubicBezTo>
              </a:path>
              <a:path w="3970" h="1291">
                <a:moveTo>
                  <a:pt x="12278" y="17686"/>
                </a:moveTo>
                <a:cubicBezTo>
                  <a:pt x="12301" y="17733"/>
                  <a:pt x="12327" y="17645"/>
                  <a:pt x="12353" y="17611"/>
                </a:cubicBezTo>
                <a:cubicBezTo>
                  <a:pt x="12374" y="17583"/>
                  <a:pt x="12456" y="17476"/>
                  <a:pt x="12477" y="17462"/>
                </a:cubicBezTo>
                <a:cubicBezTo>
                  <a:pt x="12502" y="17462"/>
                  <a:pt x="12510" y="17462"/>
                  <a:pt x="12502" y="17438"/>
                </a:cubicBezTo>
                <a:cubicBezTo>
                  <a:pt x="12502" y="17483"/>
                  <a:pt x="12496" y="17502"/>
                  <a:pt x="12526" y="17537"/>
                </a:cubicBezTo>
                <a:cubicBezTo>
                  <a:pt x="12549" y="17560"/>
                  <a:pt x="12553" y="17568"/>
                  <a:pt x="12576" y="17562"/>
                </a:cubicBezTo>
                <a:cubicBezTo>
                  <a:pt x="12547" y="17584"/>
                  <a:pt x="12494" y="17597"/>
                  <a:pt x="12477" y="17636"/>
                </a:cubicBezTo>
                <a:cubicBezTo>
                  <a:pt x="12459" y="17677"/>
                  <a:pt x="12446" y="17716"/>
                  <a:pt x="12452" y="17760"/>
                </a:cubicBezTo>
                <a:cubicBezTo>
                  <a:pt x="12463" y="17838"/>
                  <a:pt x="12517" y="17835"/>
                  <a:pt x="12576" y="17835"/>
                </a:cubicBezTo>
                <a:cubicBezTo>
                  <a:pt x="12638" y="17835"/>
                  <a:pt x="12704" y="17852"/>
                  <a:pt x="12750" y="17810"/>
                </a:cubicBezTo>
                <a:cubicBezTo>
                  <a:pt x="12780" y="17782"/>
                  <a:pt x="12795" y="17726"/>
                  <a:pt x="12799" y="17686"/>
                </a:cubicBezTo>
                <a:cubicBezTo>
                  <a:pt x="12805" y="17623"/>
                  <a:pt x="12770" y="17641"/>
                  <a:pt x="12750" y="17611"/>
                </a:cubicBezTo>
                <a:cubicBezTo>
                  <a:pt x="12740" y="17595"/>
                  <a:pt x="12708" y="17551"/>
                  <a:pt x="12675" y="17537"/>
                </a:cubicBezTo>
                <a:cubicBezTo>
                  <a:pt x="12637" y="17520"/>
                  <a:pt x="12577" y="17539"/>
                  <a:pt x="12551" y="17562"/>
                </a:cubicBezTo>
                <a:cubicBezTo>
                  <a:pt x="12510" y="17599"/>
                  <a:pt x="12502" y="17578"/>
                  <a:pt x="12502" y="17636"/>
                </a:cubicBezTo>
                <a:cubicBezTo>
                  <a:pt x="12513" y="17670"/>
                  <a:pt x="12555" y="17666"/>
                  <a:pt x="12601" y="17686"/>
                </a:cubicBezTo>
              </a:path>
              <a:path w="3970" h="1291">
                <a:moveTo>
                  <a:pt x="12874" y="17636"/>
                </a:moveTo>
                <a:cubicBezTo>
                  <a:pt x="12874" y="17676"/>
                  <a:pt x="12856" y="17764"/>
                  <a:pt x="12898" y="17785"/>
                </a:cubicBezTo>
                <a:cubicBezTo>
                  <a:pt x="12946" y="17809"/>
                  <a:pt x="13012" y="17772"/>
                  <a:pt x="13047" y="17760"/>
                </a:cubicBezTo>
                <a:cubicBezTo>
                  <a:pt x="13085" y="17747"/>
                  <a:pt x="13086" y="17753"/>
                  <a:pt x="13097" y="17711"/>
                </a:cubicBezTo>
                <a:cubicBezTo>
                  <a:pt x="13097" y="17744"/>
                  <a:pt x="13097" y="17777"/>
                  <a:pt x="13097" y="17810"/>
                </a:cubicBezTo>
                <a:cubicBezTo>
                  <a:pt x="13125" y="17810"/>
                  <a:pt x="13136" y="17812"/>
                  <a:pt x="13146" y="17835"/>
                </a:cubicBezTo>
              </a:path>
              <a:path w="3970" h="1291">
                <a:moveTo>
                  <a:pt x="13171" y="17934"/>
                </a:moveTo>
                <a:cubicBezTo>
                  <a:pt x="13171" y="18001"/>
                  <a:pt x="13163" y="18052"/>
                  <a:pt x="13146" y="18107"/>
                </a:cubicBezTo>
                <a:cubicBezTo>
                  <a:pt x="13138" y="18134"/>
                  <a:pt x="13146" y="18178"/>
                  <a:pt x="13146" y="18207"/>
                </a:cubicBezTo>
                <a:cubicBezTo>
                  <a:pt x="13156" y="18166"/>
                  <a:pt x="13183" y="18127"/>
                  <a:pt x="13196" y="18083"/>
                </a:cubicBezTo>
                <a:cubicBezTo>
                  <a:pt x="13224" y="17989"/>
                  <a:pt x="13270" y="17842"/>
                  <a:pt x="13320" y="17760"/>
                </a:cubicBezTo>
                <a:cubicBezTo>
                  <a:pt x="13356" y="17701"/>
                  <a:pt x="13398" y="17688"/>
                  <a:pt x="13419" y="17661"/>
                </a:cubicBezTo>
                <a:cubicBezTo>
                  <a:pt x="13419" y="17636"/>
                  <a:pt x="13419" y="17628"/>
                  <a:pt x="13444" y="17636"/>
                </a:cubicBezTo>
                <a:cubicBezTo>
                  <a:pt x="13444" y="17712"/>
                  <a:pt x="13468" y="17827"/>
                  <a:pt x="13419" y="17884"/>
                </a:cubicBezTo>
                <a:cubicBezTo>
                  <a:pt x="13389" y="17918"/>
                  <a:pt x="13363" y="17909"/>
                  <a:pt x="13320" y="17909"/>
                </a:cubicBezTo>
                <a:cubicBezTo>
                  <a:pt x="13260" y="17909"/>
                  <a:pt x="13273" y="17899"/>
                  <a:pt x="13246" y="17859"/>
                </a:cubicBezTo>
                <a:cubicBezTo>
                  <a:pt x="13215" y="17813"/>
                  <a:pt x="13196" y="17819"/>
                  <a:pt x="13196" y="17760"/>
                </a:cubicBezTo>
                <a:cubicBezTo>
                  <a:pt x="13196" y="17752"/>
                  <a:pt x="13196" y="17743"/>
                  <a:pt x="13196" y="1773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54"/>
          <p:cNvSpPr/>
          <p:nvPr/>
        </p:nvSpPr>
        <p:spPr>
          <a:xfrm>
            <a:off x="5232240" y="6303960"/>
            <a:ext cx="162000" cy="63360"/>
          </a:xfrm>
          <a:custGeom>
            <a:avLst/>
            <a:gdLst/>
            <a:ahLst/>
            <a:rect l="l" t="t" r="r" b="b"/>
            <a:pathLst>
              <a:path w="447" h="175">
                <a:moveTo>
                  <a:pt x="14536" y="17537"/>
                </a:moveTo>
                <a:cubicBezTo>
                  <a:pt x="14536" y="17529"/>
                  <a:pt x="14536" y="17520"/>
                  <a:pt x="14536" y="17512"/>
                </a:cubicBezTo>
                <a:cubicBezTo>
                  <a:pt x="14641" y="17512"/>
                  <a:pt x="14742" y="17507"/>
                  <a:pt x="14833" y="17537"/>
                </a:cubicBezTo>
                <a:cubicBezTo>
                  <a:pt x="14875" y="17551"/>
                  <a:pt x="14861" y="17550"/>
                  <a:pt x="14833" y="17587"/>
                </a:cubicBezTo>
              </a:path>
              <a:path w="447" h="175">
                <a:moveTo>
                  <a:pt x="14585" y="17686"/>
                </a:moveTo>
                <a:cubicBezTo>
                  <a:pt x="14717" y="17686"/>
                  <a:pt x="14850" y="17686"/>
                  <a:pt x="14982" y="1768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58"/>
          <p:cNvSpPr/>
          <p:nvPr/>
        </p:nvSpPr>
        <p:spPr>
          <a:xfrm>
            <a:off x="4194000" y="1793880"/>
            <a:ext cx="490680" cy="411120"/>
          </a:xfrm>
          <a:custGeom>
            <a:avLst/>
            <a:gdLst/>
            <a:ahLst/>
            <a:rect l="l" t="t" r="r" b="b"/>
            <a:pathLst>
              <a:path w="1363" h="1141">
                <a:moveTo>
                  <a:pt x="12043" y="5104"/>
                </a:moveTo>
                <a:cubicBezTo>
                  <a:pt x="12001" y="5090"/>
                  <a:pt x="12032" y="5061"/>
                  <a:pt x="11974" y="5090"/>
                </a:cubicBezTo>
                <a:cubicBezTo>
                  <a:pt x="11944" y="5105"/>
                  <a:pt x="11913" y="5143"/>
                  <a:pt x="11890" y="5166"/>
                </a:cubicBezTo>
                <a:cubicBezTo>
                  <a:pt x="11776" y="5280"/>
                  <a:pt x="11686" y="5437"/>
                  <a:pt x="11659" y="5596"/>
                </a:cubicBezTo>
                <a:cubicBezTo>
                  <a:pt x="11636" y="5736"/>
                  <a:pt x="11661" y="5916"/>
                  <a:pt x="11778" y="6013"/>
                </a:cubicBezTo>
                <a:cubicBezTo>
                  <a:pt x="11844" y="6067"/>
                  <a:pt x="11920" y="6103"/>
                  <a:pt x="12004" y="6118"/>
                </a:cubicBezTo>
                <a:cubicBezTo>
                  <a:pt x="12091" y="6134"/>
                  <a:pt x="12186" y="6122"/>
                  <a:pt x="12273" y="6107"/>
                </a:cubicBezTo>
                <a:cubicBezTo>
                  <a:pt x="12419" y="6081"/>
                  <a:pt x="12571" y="6025"/>
                  <a:pt x="12703" y="5959"/>
                </a:cubicBezTo>
                <a:cubicBezTo>
                  <a:pt x="12801" y="5910"/>
                  <a:pt x="12883" y="5854"/>
                  <a:pt x="12940" y="5759"/>
                </a:cubicBezTo>
                <a:cubicBezTo>
                  <a:pt x="12976" y="5699"/>
                  <a:pt x="12996" y="5626"/>
                  <a:pt x="13007" y="5557"/>
                </a:cubicBezTo>
                <a:cubicBezTo>
                  <a:pt x="13023" y="5452"/>
                  <a:pt x="12997" y="5337"/>
                  <a:pt x="12955" y="5241"/>
                </a:cubicBezTo>
                <a:cubicBezTo>
                  <a:pt x="12924" y="5170"/>
                  <a:pt x="12883" y="5098"/>
                  <a:pt x="12820" y="5050"/>
                </a:cubicBezTo>
                <a:cubicBezTo>
                  <a:pt x="12749" y="4995"/>
                  <a:pt x="12668" y="4981"/>
                  <a:pt x="12580" y="4985"/>
                </a:cubicBezTo>
                <a:cubicBezTo>
                  <a:pt x="12445" y="4991"/>
                  <a:pt x="12319" y="5046"/>
                  <a:pt x="12198" y="5102"/>
                </a:cubicBezTo>
                <a:cubicBezTo>
                  <a:pt x="12084" y="5157"/>
                  <a:pt x="12046" y="5176"/>
                  <a:pt x="11974" y="5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59"/>
          <p:cNvSpPr/>
          <p:nvPr/>
        </p:nvSpPr>
        <p:spPr>
          <a:xfrm>
            <a:off x="4692600" y="2568600"/>
            <a:ext cx="693720" cy="668160"/>
          </a:xfrm>
          <a:custGeom>
            <a:avLst/>
            <a:gdLst/>
            <a:ahLst/>
            <a:rect l="l" t="t" r="r" b="b"/>
            <a:pathLst>
              <a:path w="1925" h="1857">
                <a:moveTo>
                  <a:pt x="13501" y="7355"/>
                </a:moveTo>
                <a:cubicBezTo>
                  <a:pt x="13525" y="7316"/>
                  <a:pt x="13534" y="7300"/>
                  <a:pt x="13571" y="7286"/>
                </a:cubicBezTo>
                <a:cubicBezTo>
                  <a:pt x="13605" y="7273"/>
                  <a:pt x="13645" y="7270"/>
                  <a:pt x="13679" y="7286"/>
                </a:cubicBezTo>
                <a:cubicBezTo>
                  <a:pt x="13721" y="7306"/>
                  <a:pt x="13732" y="7344"/>
                  <a:pt x="13724" y="7388"/>
                </a:cubicBezTo>
                <a:cubicBezTo>
                  <a:pt x="13714" y="7443"/>
                  <a:pt x="13676" y="7499"/>
                  <a:pt x="13645" y="7545"/>
                </a:cubicBezTo>
                <a:cubicBezTo>
                  <a:pt x="13620" y="7582"/>
                  <a:pt x="13562" y="7630"/>
                  <a:pt x="13558" y="7678"/>
                </a:cubicBezTo>
                <a:cubicBezTo>
                  <a:pt x="13559" y="7682"/>
                  <a:pt x="13560" y="7686"/>
                  <a:pt x="13561" y="7690"/>
                </a:cubicBezTo>
                <a:cubicBezTo>
                  <a:pt x="13604" y="7707"/>
                  <a:pt x="13630" y="7702"/>
                  <a:pt x="13676" y="7691"/>
                </a:cubicBezTo>
                <a:cubicBezTo>
                  <a:pt x="13735" y="7677"/>
                  <a:pt x="13789" y="7655"/>
                  <a:pt x="13846" y="7634"/>
                </a:cubicBezTo>
                <a:cubicBezTo>
                  <a:pt x="13905" y="7612"/>
                  <a:pt x="13957" y="7581"/>
                  <a:pt x="14012" y="7551"/>
                </a:cubicBezTo>
              </a:path>
              <a:path w="1925" h="1857">
                <a:moveTo>
                  <a:pt x="14337" y="7187"/>
                </a:moveTo>
                <a:cubicBezTo>
                  <a:pt x="14294" y="7175"/>
                  <a:pt x="14248" y="7175"/>
                  <a:pt x="14205" y="7193"/>
                </a:cubicBezTo>
                <a:cubicBezTo>
                  <a:pt x="14165" y="7210"/>
                  <a:pt x="14105" y="7245"/>
                  <a:pt x="14085" y="7286"/>
                </a:cubicBezTo>
                <a:cubicBezTo>
                  <a:pt x="14063" y="7330"/>
                  <a:pt x="14102" y="7367"/>
                  <a:pt x="14135" y="7391"/>
                </a:cubicBezTo>
                <a:cubicBezTo>
                  <a:pt x="14204" y="7441"/>
                  <a:pt x="14307" y="7475"/>
                  <a:pt x="14349" y="7554"/>
                </a:cubicBezTo>
                <a:cubicBezTo>
                  <a:pt x="14374" y="7601"/>
                  <a:pt x="14354" y="7644"/>
                  <a:pt x="14319" y="7679"/>
                </a:cubicBezTo>
                <a:cubicBezTo>
                  <a:pt x="14278" y="7719"/>
                  <a:pt x="14220" y="7746"/>
                  <a:pt x="14163" y="7751"/>
                </a:cubicBezTo>
                <a:cubicBezTo>
                  <a:pt x="14129" y="7750"/>
                  <a:pt x="14119" y="7751"/>
                  <a:pt x="14100" y="7738"/>
                </a:cubicBezTo>
                <a:cubicBezTo>
                  <a:pt x="14071" y="7687"/>
                  <a:pt x="14087" y="7654"/>
                  <a:pt x="14124" y="7605"/>
                </a:cubicBezTo>
                <a:cubicBezTo>
                  <a:pt x="14186" y="7522"/>
                  <a:pt x="14273" y="7458"/>
                  <a:pt x="14352" y="7392"/>
                </a:cubicBezTo>
                <a:cubicBezTo>
                  <a:pt x="14420" y="7336"/>
                  <a:pt x="14489" y="7284"/>
                  <a:pt x="14547" y="7217"/>
                </a:cubicBezTo>
                <a:cubicBezTo>
                  <a:pt x="14573" y="7187"/>
                  <a:pt x="14575" y="7183"/>
                  <a:pt x="14568" y="7148"/>
                </a:cubicBezTo>
                <a:cubicBezTo>
                  <a:pt x="14526" y="7133"/>
                  <a:pt x="14478" y="7131"/>
                  <a:pt x="14435" y="7150"/>
                </a:cubicBezTo>
                <a:cubicBezTo>
                  <a:pt x="14375" y="7176"/>
                  <a:pt x="14307" y="7222"/>
                  <a:pt x="14261" y="7269"/>
                </a:cubicBezTo>
                <a:cubicBezTo>
                  <a:pt x="14250" y="7283"/>
                  <a:pt x="14239" y="7296"/>
                  <a:pt x="14228" y="7310"/>
                </a:cubicBezTo>
              </a:path>
              <a:path w="1925" h="1857">
                <a:moveTo>
                  <a:pt x="13036" y="8453"/>
                </a:moveTo>
                <a:cubicBezTo>
                  <a:pt x="13134" y="8396"/>
                  <a:pt x="13235" y="8345"/>
                  <a:pt x="13333" y="8290"/>
                </a:cubicBezTo>
                <a:cubicBezTo>
                  <a:pt x="13535" y="8176"/>
                  <a:pt x="13744" y="8081"/>
                  <a:pt x="13960" y="7995"/>
                </a:cubicBezTo>
                <a:cubicBezTo>
                  <a:pt x="14204" y="7898"/>
                  <a:pt x="14449" y="7830"/>
                  <a:pt x="14706" y="7777"/>
                </a:cubicBezTo>
                <a:cubicBezTo>
                  <a:pt x="14748" y="7768"/>
                  <a:pt x="14917" y="7720"/>
                  <a:pt x="14958" y="7763"/>
                </a:cubicBezTo>
                <a:cubicBezTo>
                  <a:pt x="14980" y="7786"/>
                  <a:pt x="14913" y="7832"/>
                  <a:pt x="14907" y="7838"/>
                </a:cubicBezTo>
              </a:path>
              <a:path w="1925" h="1857">
                <a:moveTo>
                  <a:pt x="13745" y="8560"/>
                </a:moveTo>
                <a:cubicBezTo>
                  <a:pt x="13724" y="8540"/>
                  <a:pt x="13716" y="8531"/>
                  <a:pt x="13745" y="8516"/>
                </a:cubicBezTo>
                <a:cubicBezTo>
                  <a:pt x="13761" y="8508"/>
                  <a:pt x="13766" y="8505"/>
                  <a:pt x="13778" y="8507"/>
                </a:cubicBezTo>
                <a:cubicBezTo>
                  <a:pt x="13771" y="8533"/>
                  <a:pt x="13753" y="8551"/>
                  <a:pt x="13744" y="8577"/>
                </a:cubicBezTo>
                <a:cubicBezTo>
                  <a:pt x="13728" y="8620"/>
                  <a:pt x="13758" y="8640"/>
                  <a:pt x="13793" y="8658"/>
                </a:cubicBezTo>
                <a:cubicBezTo>
                  <a:pt x="13841" y="8682"/>
                  <a:pt x="13895" y="8692"/>
                  <a:pt x="13946" y="8710"/>
                </a:cubicBezTo>
                <a:cubicBezTo>
                  <a:pt x="13980" y="8722"/>
                  <a:pt x="14028" y="8737"/>
                  <a:pt x="14031" y="8780"/>
                </a:cubicBezTo>
                <a:cubicBezTo>
                  <a:pt x="14034" y="8826"/>
                  <a:pt x="13984" y="8868"/>
                  <a:pt x="13952" y="8892"/>
                </a:cubicBezTo>
                <a:cubicBezTo>
                  <a:pt x="13906" y="8926"/>
                  <a:pt x="13844" y="8970"/>
                  <a:pt x="13790" y="8988"/>
                </a:cubicBezTo>
                <a:cubicBezTo>
                  <a:pt x="13743" y="9004"/>
                  <a:pt x="13732" y="8977"/>
                  <a:pt x="13727" y="8940"/>
                </a:cubicBezTo>
              </a:path>
              <a:path w="1925" h="1857">
                <a:moveTo>
                  <a:pt x="13900" y="8595"/>
                </a:moveTo>
                <a:cubicBezTo>
                  <a:pt x="13942" y="8553"/>
                  <a:pt x="13969" y="8526"/>
                  <a:pt x="14027" y="8513"/>
                </a:cubicBezTo>
                <a:cubicBezTo>
                  <a:pt x="14078" y="8501"/>
                  <a:pt x="14116" y="8500"/>
                  <a:pt x="14168" y="8507"/>
                </a:cubicBezTo>
                <a:cubicBezTo>
                  <a:pt x="14215" y="8513"/>
                  <a:pt x="14232" y="8516"/>
                  <a:pt x="14264" y="8520"/>
                </a:cubicBezTo>
              </a:path>
              <a:path w="1925" h="1857">
                <a:moveTo>
                  <a:pt x="14690" y="8480"/>
                </a:moveTo>
                <a:cubicBezTo>
                  <a:pt x="14624" y="8499"/>
                  <a:pt x="14587" y="8518"/>
                  <a:pt x="14537" y="8566"/>
                </a:cubicBezTo>
                <a:cubicBezTo>
                  <a:pt x="14503" y="8599"/>
                  <a:pt x="14453" y="8661"/>
                  <a:pt x="14487" y="8713"/>
                </a:cubicBezTo>
                <a:cubicBezTo>
                  <a:pt x="14526" y="8772"/>
                  <a:pt x="14617" y="8776"/>
                  <a:pt x="14678" y="8774"/>
                </a:cubicBezTo>
                <a:cubicBezTo>
                  <a:pt x="14749" y="8772"/>
                  <a:pt x="14840" y="8757"/>
                  <a:pt x="14901" y="8719"/>
                </a:cubicBezTo>
                <a:cubicBezTo>
                  <a:pt x="14937" y="8697"/>
                  <a:pt x="14967" y="8658"/>
                  <a:pt x="14942" y="8617"/>
                </a:cubicBezTo>
                <a:cubicBezTo>
                  <a:pt x="14917" y="8577"/>
                  <a:pt x="14869" y="8565"/>
                  <a:pt x="14828" y="8550"/>
                </a:cubicBezTo>
                <a:cubicBezTo>
                  <a:pt x="14800" y="8540"/>
                  <a:pt x="14772" y="8530"/>
                  <a:pt x="14745" y="8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60"/>
          <p:cNvSpPr/>
          <p:nvPr/>
        </p:nvSpPr>
        <p:spPr>
          <a:xfrm>
            <a:off x="3254400" y="3286080"/>
            <a:ext cx="3840120" cy="1192320"/>
          </a:xfrm>
          <a:custGeom>
            <a:avLst/>
            <a:gdLst/>
            <a:ahLst/>
            <a:rect l="l" t="t" r="r" b="b"/>
            <a:pathLst>
              <a:path w="10667" h="3313">
                <a:moveTo>
                  <a:pt x="9464" y="10113"/>
                </a:moveTo>
                <a:cubicBezTo>
                  <a:pt x="9447" y="10109"/>
                  <a:pt x="9345" y="10096"/>
                  <a:pt x="9431" y="10073"/>
                </a:cubicBezTo>
                <a:cubicBezTo>
                  <a:pt x="9499" y="10055"/>
                  <a:pt x="9594" y="10060"/>
                  <a:pt x="9664" y="10058"/>
                </a:cubicBezTo>
                <a:cubicBezTo>
                  <a:pt x="9804" y="10054"/>
                  <a:pt x="9945" y="10051"/>
                  <a:pt x="10085" y="10040"/>
                </a:cubicBezTo>
                <a:cubicBezTo>
                  <a:pt x="10280" y="10025"/>
                  <a:pt x="10474" y="10008"/>
                  <a:pt x="10667" y="9978"/>
                </a:cubicBezTo>
                <a:cubicBezTo>
                  <a:pt x="10735" y="9967"/>
                  <a:pt x="10804" y="9957"/>
                  <a:pt x="10872" y="9947"/>
                </a:cubicBezTo>
                <a:cubicBezTo>
                  <a:pt x="10965" y="9943"/>
                  <a:pt x="10761" y="9967"/>
                  <a:pt x="10751" y="9968"/>
                </a:cubicBezTo>
                <a:cubicBezTo>
                  <a:pt x="10607" y="9988"/>
                  <a:pt x="10463" y="10004"/>
                  <a:pt x="10319" y="10023"/>
                </a:cubicBezTo>
                <a:cubicBezTo>
                  <a:pt x="10120" y="10049"/>
                  <a:pt x="9852" y="10045"/>
                  <a:pt x="9671" y="10144"/>
                </a:cubicBezTo>
                <a:cubicBezTo>
                  <a:pt x="9646" y="10164"/>
                  <a:pt x="9639" y="10168"/>
                  <a:pt x="9634" y="10188"/>
                </a:cubicBezTo>
                <a:cubicBezTo>
                  <a:pt x="9688" y="10224"/>
                  <a:pt x="9719" y="10239"/>
                  <a:pt x="9797" y="10239"/>
                </a:cubicBezTo>
                <a:cubicBezTo>
                  <a:pt x="9942" y="10239"/>
                  <a:pt x="10090" y="10221"/>
                  <a:pt x="10233" y="10195"/>
                </a:cubicBezTo>
                <a:cubicBezTo>
                  <a:pt x="10406" y="10164"/>
                  <a:pt x="10579" y="10127"/>
                  <a:pt x="10749" y="10083"/>
                </a:cubicBezTo>
                <a:cubicBezTo>
                  <a:pt x="10844" y="10059"/>
                  <a:pt x="10844" y="10063"/>
                  <a:pt x="10755" y="10052"/>
                </a:cubicBezTo>
                <a:cubicBezTo>
                  <a:pt x="10743" y="10050"/>
                  <a:pt x="10730" y="10048"/>
                  <a:pt x="10718" y="10046"/>
                </a:cubicBezTo>
              </a:path>
              <a:path w="10667" h="3313">
                <a:moveTo>
                  <a:pt x="18533" y="9235"/>
                </a:moveTo>
                <a:cubicBezTo>
                  <a:pt x="18502" y="9208"/>
                  <a:pt x="18546" y="9198"/>
                  <a:pt x="18572" y="9183"/>
                </a:cubicBezTo>
                <a:cubicBezTo>
                  <a:pt x="18625" y="9154"/>
                  <a:pt x="18683" y="9134"/>
                  <a:pt x="18744" y="9129"/>
                </a:cubicBezTo>
                <a:cubicBezTo>
                  <a:pt x="18776" y="9126"/>
                  <a:pt x="18840" y="9126"/>
                  <a:pt x="18843" y="9172"/>
                </a:cubicBezTo>
                <a:cubicBezTo>
                  <a:pt x="18846" y="9222"/>
                  <a:pt x="18792" y="9275"/>
                  <a:pt x="18762" y="9308"/>
                </a:cubicBezTo>
                <a:cubicBezTo>
                  <a:pt x="18722" y="9352"/>
                  <a:pt x="18671" y="9389"/>
                  <a:pt x="18639" y="9440"/>
                </a:cubicBezTo>
                <a:cubicBezTo>
                  <a:pt x="18616" y="9475"/>
                  <a:pt x="18627" y="9501"/>
                  <a:pt x="18662" y="9521"/>
                </a:cubicBezTo>
                <a:cubicBezTo>
                  <a:pt x="18701" y="9543"/>
                  <a:pt x="18745" y="9556"/>
                  <a:pt x="18785" y="9575"/>
                </a:cubicBezTo>
                <a:cubicBezTo>
                  <a:pt x="18814" y="9589"/>
                  <a:pt x="18843" y="9607"/>
                  <a:pt x="18825" y="9643"/>
                </a:cubicBezTo>
                <a:cubicBezTo>
                  <a:pt x="18806" y="9681"/>
                  <a:pt x="18752" y="9705"/>
                  <a:pt x="18716" y="9723"/>
                </a:cubicBezTo>
                <a:cubicBezTo>
                  <a:pt x="18708" y="9727"/>
                  <a:pt x="18609" y="9771"/>
                  <a:pt x="18603" y="9760"/>
                </a:cubicBezTo>
                <a:cubicBezTo>
                  <a:pt x="18611" y="9737"/>
                  <a:pt x="18616" y="9728"/>
                  <a:pt x="18635" y="9720"/>
                </a:cubicBezTo>
              </a:path>
              <a:path w="10667" h="3313">
                <a:moveTo>
                  <a:pt x="19357" y="9302"/>
                </a:moveTo>
                <a:cubicBezTo>
                  <a:pt x="19324" y="9337"/>
                  <a:pt x="19293" y="9372"/>
                  <a:pt x="19266" y="9412"/>
                </a:cubicBezTo>
                <a:cubicBezTo>
                  <a:pt x="19242" y="9447"/>
                  <a:pt x="19244" y="9456"/>
                  <a:pt x="19252" y="9495"/>
                </a:cubicBezTo>
                <a:cubicBezTo>
                  <a:pt x="19314" y="9517"/>
                  <a:pt x="19365" y="9508"/>
                  <a:pt x="19429" y="9488"/>
                </a:cubicBezTo>
                <a:cubicBezTo>
                  <a:pt x="19493" y="9468"/>
                  <a:pt x="19575" y="9433"/>
                  <a:pt x="19612" y="9373"/>
                </a:cubicBezTo>
                <a:cubicBezTo>
                  <a:pt x="19648" y="9315"/>
                  <a:pt x="19582" y="9290"/>
                  <a:pt x="19536" y="9284"/>
                </a:cubicBezTo>
                <a:cubicBezTo>
                  <a:pt x="19444" y="9271"/>
                  <a:pt x="19345" y="9314"/>
                  <a:pt x="19264" y="9353"/>
                </a:cubicBezTo>
                <a:cubicBezTo>
                  <a:pt x="19193" y="9392"/>
                  <a:pt x="19169" y="9404"/>
                  <a:pt x="19129" y="9440"/>
                </a:cubicBezTo>
              </a:path>
              <a:path w="10667" h="3313">
                <a:moveTo>
                  <a:pt x="18360" y="10272"/>
                </a:moveTo>
                <a:cubicBezTo>
                  <a:pt x="18374" y="10223"/>
                  <a:pt x="18382" y="10188"/>
                  <a:pt x="18429" y="10152"/>
                </a:cubicBezTo>
                <a:cubicBezTo>
                  <a:pt x="18512" y="10088"/>
                  <a:pt x="18620" y="10047"/>
                  <a:pt x="18716" y="10010"/>
                </a:cubicBezTo>
                <a:cubicBezTo>
                  <a:pt x="18856" y="9957"/>
                  <a:pt x="19002" y="9914"/>
                  <a:pt x="19147" y="9875"/>
                </a:cubicBezTo>
                <a:cubicBezTo>
                  <a:pt x="19271" y="9842"/>
                  <a:pt x="19391" y="9811"/>
                  <a:pt x="19518" y="9799"/>
                </a:cubicBezTo>
                <a:cubicBezTo>
                  <a:pt x="19582" y="9793"/>
                  <a:pt x="19595" y="9795"/>
                  <a:pt x="19627" y="9823"/>
                </a:cubicBezTo>
              </a:path>
              <a:path w="10667" h="3313">
                <a:moveTo>
                  <a:pt x="18839" y="10249"/>
                </a:moveTo>
                <a:cubicBezTo>
                  <a:pt x="18810" y="10268"/>
                  <a:pt x="18776" y="10291"/>
                  <a:pt x="18746" y="10305"/>
                </a:cubicBezTo>
                <a:cubicBezTo>
                  <a:pt x="18717" y="10319"/>
                  <a:pt x="18697" y="10328"/>
                  <a:pt x="18678" y="10355"/>
                </a:cubicBezTo>
                <a:cubicBezTo>
                  <a:pt x="18706" y="10382"/>
                  <a:pt x="18736" y="10378"/>
                  <a:pt x="18776" y="10382"/>
                </a:cubicBezTo>
                <a:cubicBezTo>
                  <a:pt x="18823" y="10387"/>
                  <a:pt x="18878" y="10388"/>
                  <a:pt x="18921" y="10411"/>
                </a:cubicBezTo>
                <a:cubicBezTo>
                  <a:pt x="18965" y="10435"/>
                  <a:pt x="18958" y="10475"/>
                  <a:pt x="18938" y="10514"/>
                </a:cubicBezTo>
                <a:cubicBezTo>
                  <a:pt x="18908" y="10572"/>
                  <a:pt x="18853" y="10622"/>
                  <a:pt x="18807" y="10667"/>
                </a:cubicBezTo>
                <a:cubicBezTo>
                  <a:pt x="18764" y="10709"/>
                  <a:pt x="18720" y="10754"/>
                  <a:pt x="18674" y="10791"/>
                </a:cubicBezTo>
                <a:cubicBezTo>
                  <a:pt x="18645" y="10814"/>
                  <a:pt x="18644" y="10795"/>
                  <a:pt x="18641" y="10774"/>
                </a:cubicBezTo>
              </a:path>
              <a:path w="10667" h="3313">
                <a:moveTo>
                  <a:pt x="18720" y="10251"/>
                </a:moveTo>
                <a:cubicBezTo>
                  <a:pt x="18748" y="10217"/>
                  <a:pt x="18766" y="10209"/>
                  <a:pt x="18812" y="10209"/>
                </a:cubicBezTo>
                <a:cubicBezTo>
                  <a:pt x="18880" y="10208"/>
                  <a:pt x="18947" y="10228"/>
                  <a:pt x="19013" y="10245"/>
                </a:cubicBezTo>
                <a:cubicBezTo>
                  <a:pt x="19093" y="10266"/>
                  <a:pt x="19174" y="10282"/>
                  <a:pt x="19255" y="10302"/>
                </a:cubicBezTo>
              </a:path>
              <a:path w="10667" h="3313">
                <a:moveTo>
                  <a:pt x="19399" y="10375"/>
                </a:moveTo>
                <a:cubicBezTo>
                  <a:pt x="19362" y="10410"/>
                  <a:pt x="19331" y="10437"/>
                  <a:pt x="19306" y="10483"/>
                </a:cubicBezTo>
                <a:cubicBezTo>
                  <a:pt x="19283" y="10526"/>
                  <a:pt x="19261" y="10592"/>
                  <a:pt x="19297" y="10635"/>
                </a:cubicBezTo>
                <a:cubicBezTo>
                  <a:pt x="19342" y="10689"/>
                  <a:pt x="19438" y="10674"/>
                  <a:pt x="19495" y="10658"/>
                </a:cubicBezTo>
                <a:cubicBezTo>
                  <a:pt x="19560" y="10640"/>
                  <a:pt x="19653" y="10601"/>
                  <a:pt x="19692" y="10542"/>
                </a:cubicBezTo>
                <a:cubicBezTo>
                  <a:pt x="19726" y="10491"/>
                  <a:pt x="19691" y="10451"/>
                  <a:pt x="19645" y="10430"/>
                </a:cubicBezTo>
                <a:cubicBezTo>
                  <a:pt x="19578" y="10399"/>
                  <a:pt x="19505" y="10387"/>
                  <a:pt x="19434" y="10373"/>
                </a:cubicBezTo>
                <a:cubicBezTo>
                  <a:pt x="19391" y="10364"/>
                  <a:pt x="19378" y="10362"/>
                  <a:pt x="19351" y="10354"/>
                </a:cubicBezTo>
              </a:path>
              <a:path w="10667" h="3313">
                <a:moveTo>
                  <a:pt x="17296" y="10327"/>
                </a:moveTo>
                <a:cubicBezTo>
                  <a:pt x="17289" y="10330"/>
                  <a:pt x="17282" y="10334"/>
                  <a:pt x="17275" y="10337"/>
                </a:cubicBezTo>
                <a:cubicBezTo>
                  <a:pt x="17291" y="10310"/>
                  <a:pt x="17321" y="10304"/>
                  <a:pt x="17356" y="10294"/>
                </a:cubicBezTo>
                <a:cubicBezTo>
                  <a:pt x="17400" y="10281"/>
                  <a:pt x="17435" y="10261"/>
                  <a:pt x="17483" y="10269"/>
                </a:cubicBezTo>
                <a:cubicBezTo>
                  <a:pt x="17504" y="10276"/>
                  <a:pt x="17511" y="10277"/>
                  <a:pt x="17518" y="10291"/>
                </a:cubicBezTo>
              </a:path>
              <a:path w="10667" h="3313">
                <a:moveTo>
                  <a:pt x="17290" y="10592"/>
                </a:moveTo>
                <a:cubicBezTo>
                  <a:pt x="17350" y="10601"/>
                  <a:pt x="17403" y="10584"/>
                  <a:pt x="17464" y="10571"/>
                </a:cubicBezTo>
                <a:cubicBezTo>
                  <a:pt x="17539" y="10554"/>
                  <a:pt x="17614" y="10536"/>
                  <a:pt x="17689" y="10517"/>
                </a:cubicBezTo>
              </a:path>
              <a:path w="10667" h="3313">
                <a:moveTo>
                  <a:pt x="9046" y="12318"/>
                </a:moveTo>
                <a:cubicBezTo>
                  <a:pt x="9060" y="12301"/>
                  <a:pt x="9039" y="12288"/>
                  <a:pt x="9083" y="12275"/>
                </a:cubicBezTo>
                <a:cubicBezTo>
                  <a:pt x="9163" y="12252"/>
                  <a:pt x="9279" y="12272"/>
                  <a:pt x="9362" y="12269"/>
                </a:cubicBezTo>
                <a:cubicBezTo>
                  <a:pt x="9471" y="12265"/>
                  <a:pt x="9579" y="12261"/>
                  <a:pt x="9688" y="12255"/>
                </a:cubicBezTo>
                <a:cubicBezTo>
                  <a:pt x="9726" y="12253"/>
                  <a:pt x="9764" y="12250"/>
                  <a:pt x="9802" y="12249"/>
                </a:cubicBezTo>
                <a:cubicBezTo>
                  <a:pt x="9861" y="12247"/>
                  <a:pt x="9919" y="12245"/>
                  <a:pt x="9977" y="12243"/>
                </a:cubicBezTo>
                <a:cubicBezTo>
                  <a:pt x="10137" y="12238"/>
                  <a:pt x="10301" y="12235"/>
                  <a:pt x="10461" y="12240"/>
                </a:cubicBezTo>
                <a:cubicBezTo>
                  <a:pt x="10650" y="12246"/>
                  <a:pt x="10847" y="12267"/>
                  <a:pt x="11034" y="12298"/>
                </a:cubicBezTo>
                <a:cubicBezTo>
                  <a:pt x="11096" y="12308"/>
                  <a:pt x="11158" y="12321"/>
                  <a:pt x="11220" y="12333"/>
                </a:cubicBezTo>
                <a:cubicBezTo>
                  <a:pt x="11332" y="12355"/>
                  <a:pt x="11445" y="12363"/>
                  <a:pt x="11559" y="12372"/>
                </a:cubicBezTo>
                <a:cubicBezTo>
                  <a:pt x="11611" y="12376"/>
                  <a:pt x="11663" y="12378"/>
                  <a:pt x="11716" y="12379"/>
                </a:cubicBezTo>
                <a:cubicBezTo>
                  <a:pt x="11799" y="12381"/>
                  <a:pt x="11890" y="12390"/>
                  <a:pt x="11971" y="12373"/>
                </a:cubicBezTo>
                <a:cubicBezTo>
                  <a:pt x="11982" y="12369"/>
                  <a:pt x="11992" y="12365"/>
                  <a:pt x="12003" y="12361"/>
                </a:cubicBezTo>
              </a:path>
              <a:path w="10667" h="3313">
                <a:moveTo>
                  <a:pt x="12817" y="12345"/>
                </a:moveTo>
                <a:cubicBezTo>
                  <a:pt x="12846" y="12347"/>
                  <a:pt x="12872" y="12352"/>
                  <a:pt x="12901" y="12354"/>
                </a:cubicBezTo>
                <a:cubicBezTo>
                  <a:pt x="12948" y="12358"/>
                  <a:pt x="12996" y="12362"/>
                  <a:pt x="13043" y="12364"/>
                </a:cubicBezTo>
                <a:cubicBezTo>
                  <a:pt x="13429" y="12384"/>
                  <a:pt x="13824" y="12311"/>
                  <a:pt x="14207" y="12351"/>
                </a:cubicBezTo>
                <a:cubicBezTo>
                  <a:pt x="14435" y="12375"/>
                  <a:pt x="14652" y="12395"/>
                  <a:pt x="14882" y="12396"/>
                </a:cubicBezTo>
                <a:cubicBezTo>
                  <a:pt x="15190" y="12397"/>
                  <a:pt x="15501" y="12410"/>
                  <a:pt x="15808" y="12427"/>
                </a:cubicBezTo>
                <a:cubicBezTo>
                  <a:pt x="15889" y="12431"/>
                  <a:pt x="15969" y="12438"/>
                  <a:pt x="16050" y="12439"/>
                </a:cubicBezTo>
                <a:cubicBezTo>
                  <a:pt x="16356" y="12442"/>
                  <a:pt x="16666" y="12391"/>
                  <a:pt x="16972" y="12372"/>
                </a:cubicBezTo>
                <a:cubicBezTo>
                  <a:pt x="17324" y="12350"/>
                  <a:pt x="17665" y="12333"/>
                  <a:pt x="18018" y="12333"/>
                </a:cubicBezTo>
                <a:cubicBezTo>
                  <a:pt x="18128" y="12333"/>
                  <a:pt x="18238" y="12326"/>
                  <a:pt x="18347" y="12316"/>
                </a:cubicBezTo>
                <a:cubicBezTo>
                  <a:pt x="18364" y="12315"/>
                  <a:pt x="18369" y="12315"/>
                  <a:pt x="18380" y="1231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61"/>
          <p:cNvSpPr/>
          <p:nvPr/>
        </p:nvSpPr>
        <p:spPr>
          <a:xfrm>
            <a:off x="6946920" y="4454640"/>
            <a:ext cx="771480" cy="434880"/>
          </a:xfrm>
          <a:custGeom>
            <a:avLst/>
            <a:gdLst/>
            <a:ahLst/>
            <a:rect l="l" t="t" r="r" b="b"/>
            <a:pathLst>
              <a:path w="2142" h="1211">
                <a:moveTo>
                  <a:pt x="19332" y="12445"/>
                </a:moveTo>
                <a:cubicBezTo>
                  <a:pt x="19330" y="12414"/>
                  <a:pt x="19333" y="12399"/>
                  <a:pt x="19350" y="12373"/>
                </a:cubicBezTo>
                <a:cubicBezTo>
                  <a:pt x="19360" y="12409"/>
                  <a:pt x="19353" y="12437"/>
                  <a:pt x="19348" y="12475"/>
                </a:cubicBezTo>
                <a:cubicBezTo>
                  <a:pt x="19341" y="12529"/>
                  <a:pt x="19335" y="12584"/>
                  <a:pt x="19326" y="12638"/>
                </a:cubicBezTo>
                <a:cubicBezTo>
                  <a:pt x="19318" y="12688"/>
                  <a:pt x="19312" y="12737"/>
                  <a:pt x="19305" y="12786"/>
                </a:cubicBezTo>
                <a:cubicBezTo>
                  <a:pt x="19300" y="12819"/>
                  <a:pt x="19298" y="12818"/>
                  <a:pt x="19315" y="12846"/>
                </a:cubicBezTo>
              </a:path>
              <a:path w="2142" h="1211">
                <a:moveTo>
                  <a:pt x="19548" y="12533"/>
                </a:moveTo>
                <a:cubicBezTo>
                  <a:pt x="19562" y="12511"/>
                  <a:pt x="19579" y="12487"/>
                  <a:pt x="19606" y="12478"/>
                </a:cubicBezTo>
                <a:cubicBezTo>
                  <a:pt x="19634" y="12468"/>
                  <a:pt x="19665" y="12470"/>
                  <a:pt x="19693" y="12481"/>
                </a:cubicBezTo>
                <a:cubicBezTo>
                  <a:pt x="19725" y="12493"/>
                  <a:pt x="19744" y="12519"/>
                  <a:pt x="19744" y="12554"/>
                </a:cubicBezTo>
                <a:cubicBezTo>
                  <a:pt x="19745" y="12622"/>
                  <a:pt x="19693" y="12688"/>
                  <a:pt x="19656" y="12740"/>
                </a:cubicBezTo>
                <a:cubicBezTo>
                  <a:pt x="19621" y="12789"/>
                  <a:pt x="19580" y="12833"/>
                  <a:pt x="19542" y="12880"/>
                </a:cubicBezTo>
                <a:cubicBezTo>
                  <a:pt x="19529" y="12896"/>
                  <a:pt x="19498" y="12936"/>
                  <a:pt x="19522" y="12958"/>
                </a:cubicBezTo>
                <a:cubicBezTo>
                  <a:pt x="19544" y="12978"/>
                  <a:pt x="19609" y="12968"/>
                  <a:pt x="19636" y="12967"/>
                </a:cubicBezTo>
                <a:cubicBezTo>
                  <a:pt x="19699" y="12964"/>
                  <a:pt x="19762" y="12952"/>
                  <a:pt x="19822" y="12936"/>
                </a:cubicBezTo>
                <a:cubicBezTo>
                  <a:pt x="19873" y="12923"/>
                  <a:pt x="19922" y="12907"/>
                  <a:pt x="19972" y="12891"/>
                </a:cubicBezTo>
              </a:path>
              <a:path w="2142" h="1211">
                <a:moveTo>
                  <a:pt x="20414" y="12571"/>
                </a:moveTo>
                <a:cubicBezTo>
                  <a:pt x="20378" y="12623"/>
                  <a:pt x="20335" y="12667"/>
                  <a:pt x="20293" y="12714"/>
                </a:cubicBezTo>
                <a:cubicBezTo>
                  <a:pt x="20206" y="12810"/>
                  <a:pt x="20124" y="12909"/>
                  <a:pt x="20038" y="13006"/>
                </a:cubicBezTo>
                <a:cubicBezTo>
                  <a:pt x="19947" y="13108"/>
                  <a:pt x="19854" y="13209"/>
                  <a:pt x="19768" y="13316"/>
                </a:cubicBezTo>
                <a:cubicBezTo>
                  <a:pt x="19721" y="13375"/>
                  <a:pt x="19655" y="13434"/>
                  <a:pt x="19623" y="13504"/>
                </a:cubicBezTo>
                <a:cubicBezTo>
                  <a:pt x="19621" y="13511"/>
                  <a:pt x="19620" y="13518"/>
                  <a:pt x="19618" y="13525"/>
                </a:cubicBezTo>
              </a:path>
              <a:path w="2142" h="1211">
                <a:moveTo>
                  <a:pt x="20386" y="12979"/>
                </a:moveTo>
                <a:cubicBezTo>
                  <a:pt x="20397" y="12969"/>
                  <a:pt x="20407" y="12958"/>
                  <a:pt x="20432" y="12949"/>
                </a:cubicBezTo>
                <a:cubicBezTo>
                  <a:pt x="20468" y="12936"/>
                  <a:pt x="20501" y="12920"/>
                  <a:pt x="20536" y="12903"/>
                </a:cubicBezTo>
                <a:cubicBezTo>
                  <a:pt x="20569" y="12887"/>
                  <a:pt x="20594" y="12869"/>
                  <a:pt x="20620" y="12843"/>
                </a:cubicBezTo>
                <a:cubicBezTo>
                  <a:pt x="20531" y="12871"/>
                  <a:pt x="20393" y="12937"/>
                  <a:pt x="20368" y="13037"/>
                </a:cubicBezTo>
                <a:cubicBezTo>
                  <a:pt x="20356" y="13086"/>
                  <a:pt x="20385" y="13134"/>
                  <a:pt x="20411" y="13172"/>
                </a:cubicBezTo>
                <a:cubicBezTo>
                  <a:pt x="20444" y="13220"/>
                  <a:pt x="20488" y="13264"/>
                  <a:pt x="20512" y="13317"/>
                </a:cubicBezTo>
                <a:cubicBezTo>
                  <a:pt x="20535" y="13367"/>
                  <a:pt x="20544" y="13417"/>
                  <a:pt x="20521" y="13468"/>
                </a:cubicBezTo>
                <a:cubicBezTo>
                  <a:pt x="20499" y="13516"/>
                  <a:pt x="20444" y="13570"/>
                  <a:pt x="20392" y="13583"/>
                </a:cubicBezTo>
                <a:cubicBezTo>
                  <a:pt x="20344" y="13595"/>
                  <a:pt x="20330" y="13568"/>
                  <a:pt x="20315" y="13532"/>
                </a:cubicBezTo>
              </a:path>
              <a:path w="2142" h="1211">
                <a:moveTo>
                  <a:pt x="20410" y="13159"/>
                </a:moveTo>
                <a:cubicBezTo>
                  <a:pt x="20453" y="13114"/>
                  <a:pt x="20497" y="13079"/>
                  <a:pt x="20555" y="13052"/>
                </a:cubicBezTo>
                <a:cubicBezTo>
                  <a:pt x="20618" y="13023"/>
                  <a:pt x="20686" y="13010"/>
                  <a:pt x="20755" y="13003"/>
                </a:cubicBezTo>
                <a:cubicBezTo>
                  <a:pt x="20774" y="13002"/>
                  <a:pt x="20793" y="13001"/>
                  <a:pt x="20812" y="13000"/>
                </a:cubicBezTo>
              </a:path>
              <a:path w="2142" h="1211">
                <a:moveTo>
                  <a:pt x="21155" y="12955"/>
                </a:moveTo>
                <a:cubicBezTo>
                  <a:pt x="21116" y="12988"/>
                  <a:pt x="21073" y="13015"/>
                  <a:pt x="21046" y="13061"/>
                </a:cubicBezTo>
                <a:cubicBezTo>
                  <a:pt x="21019" y="13107"/>
                  <a:pt x="20993" y="13170"/>
                  <a:pt x="21010" y="13224"/>
                </a:cubicBezTo>
                <a:cubicBezTo>
                  <a:pt x="21029" y="13284"/>
                  <a:pt x="21095" y="13303"/>
                  <a:pt x="21151" y="13307"/>
                </a:cubicBezTo>
                <a:cubicBezTo>
                  <a:pt x="21224" y="13313"/>
                  <a:pt x="21296" y="13293"/>
                  <a:pt x="21358" y="13257"/>
                </a:cubicBezTo>
                <a:cubicBezTo>
                  <a:pt x="21401" y="13232"/>
                  <a:pt x="21442" y="13189"/>
                  <a:pt x="21440" y="13136"/>
                </a:cubicBezTo>
                <a:cubicBezTo>
                  <a:pt x="21438" y="13086"/>
                  <a:pt x="21390" y="13057"/>
                  <a:pt x="21349" y="13043"/>
                </a:cubicBezTo>
                <a:cubicBezTo>
                  <a:pt x="21295" y="13025"/>
                  <a:pt x="21240" y="13028"/>
                  <a:pt x="21184" y="13033"/>
                </a:cubicBezTo>
              </a:path>
            </a:pathLst>
          </a:custGeom>
          <a:noFill/>
          <a:ln cap="rnd"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62"/>
          <p:cNvSpPr/>
          <p:nvPr/>
        </p:nvSpPr>
        <p:spPr>
          <a:xfrm>
            <a:off x="4146480" y="1052640"/>
            <a:ext cx="511200" cy="312480"/>
          </a:xfrm>
          <a:custGeom>
            <a:avLst/>
            <a:gdLst/>
            <a:ahLst/>
            <a:rect l="l" t="t" r="r" b="b"/>
            <a:pathLst>
              <a:path w="1421" h="868">
                <a:moveTo>
                  <a:pt x="12451" y="2963"/>
                </a:moveTo>
                <a:cubicBezTo>
                  <a:pt x="12392" y="2950"/>
                  <a:pt x="12335" y="2941"/>
                  <a:pt x="12276" y="2933"/>
                </a:cubicBezTo>
                <a:cubicBezTo>
                  <a:pt x="12220" y="2925"/>
                  <a:pt x="12165" y="2925"/>
                  <a:pt x="12109" y="2926"/>
                </a:cubicBezTo>
                <a:cubicBezTo>
                  <a:pt x="12009" y="2928"/>
                  <a:pt x="11914" y="2950"/>
                  <a:pt x="11824" y="2993"/>
                </a:cubicBezTo>
                <a:cubicBezTo>
                  <a:pt x="11712" y="3046"/>
                  <a:pt x="11625" y="3133"/>
                  <a:pt x="11571" y="3244"/>
                </a:cubicBezTo>
                <a:cubicBezTo>
                  <a:pt x="11534" y="3319"/>
                  <a:pt x="11513" y="3398"/>
                  <a:pt x="11518" y="3482"/>
                </a:cubicBezTo>
                <a:cubicBezTo>
                  <a:pt x="11524" y="3583"/>
                  <a:pt x="11575" y="3657"/>
                  <a:pt x="11661" y="3708"/>
                </a:cubicBezTo>
                <a:cubicBezTo>
                  <a:pt x="11746" y="3758"/>
                  <a:pt x="11850" y="3779"/>
                  <a:pt x="11947" y="3787"/>
                </a:cubicBezTo>
                <a:cubicBezTo>
                  <a:pt x="12114" y="3801"/>
                  <a:pt x="12288" y="3784"/>
                  <a:pt x="12450" y="3744"/>
                </a:cubicBezTo>
                <a:cubicBezTo>
                  <a:pt x="12565" y="3716"/>
                  <a:pt x="12676" y="3678"/>
                  <a:pt x="12778" y="3617"/>
                </a:cubicBezTo>
                <a:cubicBezTo>
                  <a:pt x="12866" y="3565"/>
                  <a:pt x="12938" y="3492"/>
                  <a:pt x="12938" y="3385"/>
                </a:cubicBezTo>
                <a:cubicBezTo>
                  <a:pt x="12938" y="3268"/>
                  <a:pt x="12862" y="3162"/>
                  <a:pt x="12767" y="3102"/>
                </a:cubicBezTo>
                <a:cubicBezTo>
                  <a:pt x="12688" y="3052"/>
                  <a:pt x="12589" y="3030"/>
                  <a:pt x="12496" y="3021"/>
                </a:cubicBezTo>
                <a:cubicBezTo>
                  <a:pt x="12406" y="3013"/>
                  <a:pt x="12318" y="3022"/>
                  <a:pt x="12228" y="3029"/>
                </a:cubicBezTo>
              </a:path>
            </a:pathLst>
          </a:custGeom>
          <a:noFill/>
          <a:ln cap="rnd"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63"/>
          <p:cNvSpPr/>
          <p:nvPr/>
        </p:nvSpPr>
        <p:spPr>
          <a:xfrm>
            <a:off x="3016080" y="5227560"/>
            <a:ext cx="1063800" cy="130320"/>
          </a:xfrm>
          <a:custGeom>
            <a:avLst/>
            <a:gdLst/>
            <a:ahLst/>
            <a:rect l="l" t="t" r="r" b="b"/>
            <a:pathLst>
              <a:path w="2956" h="362">
                <a:moveTo>
                  <a:pt x="8379" y="14659"/>
                </a:moveTo>
                <a:cubicBezTo>
                  <a:pt x="8407" y="14654"/>
                  <a:pt x="8434" y="14647"/>
                  <a:pt x="8463" y="14641"/>
                </a:cubicBezTo>
                <a:cubicBezTo>
                  <a:pt x="8526" y="14629"/>
                  <a:pt x="8590" y="14617"/>
                  <a:pt x="8653" y="14609"/>
                </a:cubicBezTo>
                <a:cubicBezTo>
                  <a:pt x="8836" y="14584"/>
                  <a:pt x="9022" y="14560"/>
                  <a:pt x="9206" y="14547"/>
                </a:cubicBezTo>
                <a:cubicBezTo>
                  <a:pt x="9383" y="14534"/>
                  <a:pt x="9561" y="14527"/>
                  <a:pt x="9739" y="14523"/>
                </a:cubicBezTo>
                <a:cubicBezTo>
                  <a:pt x="10165" y="14514"/>
                  <a:pt x="10603" y="14527"/>
                  <a:pt x="11025" y="14593"/>
                </a:cubicBezTo>
                <a:cubicBezTo>
                  <a:pt x="11139" y="14611"/>
                  <a:pt x="11240" y="14633"/>
                  <a:pt x="11334" y="14686"/>
                </a:cubicBezTo>
                <a:cubicBezTo>
                  <a:pt x="11287" y="14708"/>
                  <a:pt x="11251" y="14728"/>
                  <a:pt x="11193" y="14740"/>
                </a:cubicBezTo>
                <a:cubicBezTo>
                  <a:pt x="10944" y="14789"/>
                  <a:pt x="10676" y="14782"/>
                  <a:pt x="10424" y="14774"/>
                </a:cubicBezTo>
                <a:cubicBezTo>
                  <a:pt x="9842" y="14756"/>
                  <a:pt x="9265" y="14678"/>
                  <a:pt x="8682" y="14678"/>
                </a:cubicBezTo>
                <a:cubicBezTo>
                  <a:pt x="8637" y="14678"/>
                  <a:pt x="8593" y="14679"/>
                  <a:pt x="8548" y="14680"/>
                </a:cubicBezTo>
                <a:cubicBezTo>
                  <a:pt x="8680" y="14683"/>
                  <a:pt x="8812" y="14685"/>
                  <a:pt x="8944" y="14686"/>
                </a:cubicBezTo>
                <a:cubicBezTo>
                  <a:pt x="9545" y="14692"/>
                  <a:pt x="10140" y="14785"/>
                  <a:pt x="10740" y="14795"/>
                </a:cubicBezTo>
                <a:cubicBezTo>
                  <a:pt x="10777" y="14796"/>
                  <a:pt x="10952" y="14765"/>
                  <a:pt x="10983" y="14786"/>
                </a:cubicBezTo>
                <a:cubicBezTo>
                  <a:pt x="11036" y="14823"/>
                  <a:pt x="10923" y="14865"/>
                  <a:pt x="10898" y="14882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64"/>
          <p:cNvSpPr/>
          <p:nvPr/>
        </p:nvSpPr>
        <p:spPr>
          <a:xfrm>
            <a:off x="757080" y="5310360"/>
            <a:ext cx="735120" cy="260280"/>
          </a:xfrm>
          <a:custGeom>
            <a:avLst/>
            <a:gdLst/>
            <a:ahLst/>
            <a:rect l="l" t="t" r="r" b="b"/>
            <a:pathLst>
              <a:path w="2040" h="726">
                <a:moveTo>
                  <a:pt x="2224" y="14779"/>
                </a:moveTo>
                <a:cubicBezTo>
                  <a:pt x="2209" y="14769"/>
                  <a:pt x="2209" y="14830"/>
                  <a:pt x="2204" y="14862"/>
                </a:cubicBezTo>
                <a:cubicBezTo>
                  <a:pt x="2194" y="14936"/>
                  <a:pt x="2184" y="15010"/>
                  <a:pt x="2173" y="15084"/>
                </a:cubicBezTo>
                <a:cubicBezTo>
                  <a:pt x="2160" y="15177"/>
                  <a:pt x="2138" y="15266"/>
                  <a:pt x="2117" y="15357"/>
                </a:cubicBezTo>
                <a:cubicBezTo>
                  <a:pt x="2111" y="15384"/>
                  <a:pt x="2107" y="15410"/>
                  <a:pt x="2105" y="15437"/>
                </a:cubicBezTo>
                <a:cubicBezTo>
                  <a:pt x="2131" y="15438"/>
                  <a:pt x="2165" y="15414"/>
                  <a:pt x="2185" y="15395"/>
                </a:cubicBezTo>
                <a:cubicBezTo>
                  <a:pt x="2221" y="15360"/>
                  <a:pt x="2254" y="15325"/>
                  <a:pt x="2294" y="15293"/>
                </a:cubicBezTo>
              </a:path>
              <a:path w="2040" h="726">
                <a:moveTo>
                  <a:pt x="2480" y="15277"/>
                </a:moveTo>
                <a:cubicBezTo>
                  <a:pt x="2482" y="15305"/>
                  <a:pt x="2484" y="15346"/>
                  <a:pt x="2498" y="15371"/>
                </a:cubicBezTo>
                <a:cubicBezTo>
                  <a:pt x="2521" y="15413"/>
                  <a:pt x="2567" y="15415"/>
                  <a:pt x="2609" y="15416"/>
                </a:cubicBezTo>
                <a:cubicBezTo>
                  <a:pt x="2679" y="15418"/>
                  <a:pt x="2735" y="15387"/>
                  <a:pt x="2796" y="15357"/>
                </a:cubicBezTo>
                <a:cubicBezTo>
                  <a:pt x="2842" y="15334"/>
                  <a:pt x="2888" y="15305"/>
                  <a:pt x="2910" y="15257"/>
                </a:cubicBezTo>
                <a:cubicBezTo>
                  <a:pt x="2924" y="15225"/>
                  <a:pt x="2896" y="15203"/>
                  <a:pt x="2868" y="15194"/>
                </a:cubicBezTo>
                <a:cubicBezTo>
                  <a:pt x="2816" y="15178"/>
                  <a:pt x="2753" y="15199"/>
                  <a:pt x="2709" y="15227"/>
                </a:cubicBezTo>
                <a:cubicBezTo>
                  <a:pt x="2679" y="15246"/>
                  <a:pt x="2638" y="15289"/>
                  <a:pt x="2649" y="15330"/>
                </a:cubicBezTo>
                <a:cubicBezTo>
                  <a:pt x="2658" y="15363"/>
                  <a:pt x="2698" y="15370"/>
                  <a:pt x="2724" y="15380"/>
                </a:cubicBezTo>
              </a:path>
              <a:path w="2040" h="726">
                <a:moveTo>
                  <a:pt x="3186" y="15257"/>
                </a:moveTo>
                <a:cubicBezTo>
                  <a:pt x="3148" y="15287"/>
                  <a:pt x="3116" y="15309"/>
                  <a:pt x="3098" y="15356"/>
                </a:cubicBezTo>
                <a:cubicBezTo>
                  <a:pt x="3083" y="15395"/>
                  <a:pt x="3086" y="15431"/>
                  <a:pt x="3125" y="15453"/>
                </a:cubicBezTo>
                <a:cubicBezTo>
                  <a:pt x="3175" y="15482"/>
                  <a:pt x="3239" y="15459"/>
                  <a:pt x="3288" y="15440"/>
                </a:cubicBezTo>
                <a:cubicBezTo>
                  <a:pt x="3342" y="15419"/>
                  <a:pt x="3394" y="15388"/>
                  <a:pt x="3429" y="15342"/>
                </a:cubicBezTo>
                <a:cubicBezTo>
                  <a:pt x="3442" y="15322"/>
                  <a:pt x="3447" y="15318"/>
                  <a:pt x="3441" y="15302"/>
                </a:cubicBezTo>
                <a:cubicBezTo>
                  <a:pt x="3394" y="15280"/>
                  <a:pt x="3369" y="15282"/>
                  <a:pt x="3318" y="15298"/>
                </a:cubicBezTo>
                <a:cubicBezTo>
                  <a:pt x="3309" y="15301"/>
                  <a:pt x="3300" y="15305"/>
                  <a:pt x="3291" y="15308"/>
                </a:cubicBezTo>
                <a:cubicBezTo>
                  <a:pt x="3228" y="15339"/>
                  <a:pt x="3360" y="15276"/>
                  <a:pt x="3362" y="15275"/>
                </a:cubicBezTo>
              </a:path>
              <a:path w="2040" h="726">
                <a:moveTo>
                  <a:pt x="3840" y="14764"/>
                </a:moveTo>
                <a:cubicBezTo>
                  <a:pt x="3814" y="14774"/>
                  <a:pt x="3792" y="14785"/>
                  <a:pt x="3768" y="14846"/>
                </a:cubicBezTo>
                <a:cubicBezTo>
                  <a:pt x="3735" y="14930"/>
                  <a:pt x="3717" y="15019"/>
                  <a:pt x="3708" y="15108"/>
                </a:cubicBezTo>
                <a:cubicBezTo>
                  <a:pt x="3700" y="15187"/>
                  <a:pt x="3700" y="15279"/>
                  <a:pt x="3717" y="15357"/>
                </a:cubicBezTo>
                <a:cubicBezTo>
                  <a:pt x="3726" y="15400"/>
                  <a:pt x="3742" y="15439"/>
                  <a:pt x="3768" y="15474"/>
                </a:cubicBezTo>
                <a:cubicBezTo>
                  <a:pt x="3811" y="15452"/>
                  <a:pt x="3814" y="15425"/>
                  <a:pt x="3835" y="15381"/>
                </a:cubicBezTo>
                <a:cubicBezTo>
                  <a:pt x="3872" y="15304"/>
                  <a:pt x="3907" y="15225"/>
                  <a:pt x="3951" y="15152"/>
                </a:cubicBezTo>
                <a:cubicBezTo>
                  <a:pt x="3980" y="15104"/>
                  <a:pt x="4022" y="15054"/>
                  <a:pt x="4045" y="15004"/>
                </a:cubicBezTo>
                <a:cubicBezTo>
                  <a:pt x="4048" y="14997"/>
                  <a:pt x="4088" y="14913"/>
                  <a:pt x="4059" y="14957"/>
                </a:cubicBezTo>
                <a:cubicBezTo>
                  <a:pt x="4037" y="15001"/>
                  <a:pt x="4016" y="15048"/>
                  <a:pt x="4006" y="15096"/>
                </a:cubicBezTo>
                <a:cubicBezTo>
                  <a:pt x="3993" y="15160"/>
                  <a:pt x="3979" y="15231"/>
                  <a:pt x="3981" y="15296"/>
                </a:cubicBezTo>
                <a:cubicBezTo>
                  <a:pt x="3984" y="15402"/>
                  <a:pt x="4054" y="15443"/>
                  <a:pt x="4144" y="15473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67"/>
          <p:cNvSpPr/>
          <p:nvPr/>
        </p:nvSpPr>
        <p:spPr>
          <a:xfrm>
            <a:off x="1805040" y="5294160"/>
            <a:ext cx="322200" cy="274680"/>
          </a:xfrm>
          <a:custGeom>
            <a:avLst/>
            <a:gdLst/>
            <a:ahLst/>
            <a:rect l="l" t="t" r="r" b="b"/>
            <a:pathLst>
              <a:path w="896" h="762">
                <a:moveTo>
                  <a:pt x="5353" y="15214"/>
                </a:moveTo>
                <a:cubicBezTo>
                  <a:pt x="5368" y="15189"/>
                  <a:pt x="5396" y="15141"/>
                  <a:pt x="5377" y="15108"/>
                </a:cubicBezTo>
                <a:cubicBezTo>
                  <a:pt x="5359" y="15077"/>
                  <a:pt x="5312" y="15086"/>
                  <a:pt x="5285" y="15096"/>
                </a:cubicBezTo>
                <a:cubicBezTo>
                  <a:pt x="5225" y="15118"/>
                  <a:pt x="5173" y="15157"/>
                  <a:pt x="5126" y="15199"/>
                </a:cubicBezTo>
                <a:cubicBezTo>
                  <a:pt x="5078" y="15242"/>
                  <a:pt x="5035" y="15293"/>
                  <a:pt x="5016" y="15356"/>
                </a:cubicBezTo>
                <a:cubicBezTo>
                  <a:pt x="5015" y="15363"/>
                  <a:pt x="5014" y="15371"/>
                  <a:pt x="5013" y="15378"/>
                </a:cubicBezTo>
                <a:cubicBezTo>
                  <a:pt x="5090" y="15389"/>
                  <a:pt x="5131" y="15361"/>
                  <a:pt x="5198" y="15316"/>
                </a:cubicBezTo>
                <a:cubicBezTo>
                  <a:pt x="5271" y="15267"/>
                  <a:pt x="5338" y="15207"/>
                  <a:pt x="5413" y="15160"/>
                </a:cubicBezTo>
                <a:cubicBezTo>
                  <a:pt x="5443" y="15144"/>
                  <a:pt x="5449" y="15140"/>
                  <a:pt x="5470" y="15136"/>
                </a:cubicBezTo>
                <a:cubicBezTo>
                  <a:pt x="5475" y="15196"/>
                  <a:pt x="5460" y="15243"/>
                  <a:pt x="5441" y="15301"/>
                </a:cubicBezTo>
                <a:cubicBezTo>
                  <a:pt x="5429" y="15337"/>
                  <a:pt x="5395" y="15414"/>
                  <a:pt x="5428" y="15447"/>
                </a:cubicBezTo>
                <a:cubicBezTo>
                  <a:pt x="5448" y="15467"/>
                  <a:pt x="5492" y="15422"/>
                  <a:pt x="5501" y="15416"/>
                </a:cubicBezTo>
              </a:path>
              <a:path w="896" h="762">
                <a:moveTo>
                  <a:pt x="5764" y="14728"/>
                </a:moveTo>
                <a:cubicBezTo>
                  <a:pt x="5719" y="14680"/>
                  <a:pt x="5714" y="14772"/>
                  <a:pt x="5704" y="14810"/>
                </a:cubicBezTo>
                <a:cubicBezTo>
                  <a:pt x="5675" y="14916"/>
                  <a:pt x="5657" y="15022"/>
                  <a:pt x="5653" y="15132"/>
                </a:cubicBezTo>
                <a:cubicBezTo>
                  <a:pt x="5650" y="15217"/>
                  <a:pt x="5641" y="15326"/>
                  <a:pt x="5671" y="15408"/>
                </a:cubicBezTo>
                <a:cubicBezTo>
                  <a:pt x="5682" y="15438"/>
                  <a:pt x="5698" y="15456"/>
                  <a:pt x="5723" y="15468"/>
                </a:cubicBezTo>
              </a:path>
              <a:path w="896" h="762">
                <a:moveTo>
                  <a:pt x="5620" y="15241"/>
                </a:moveTo>
                <a:cubicBezTo>
                  <a:pt x="5601" y="15220"/>
                  <a:pt x="5597" y="15215"/>
                  <a:pt x="5582" y="15205"/>
                </a:cubicBezTo>
                <a:cubicBezTo>
                  <a:pt x="5632" y="15193"/>
                  <a:pt x="5691" y="15204"/>
                  <a:pt x="5746" y="15205"/>
                </a:cubicBezTo>
                <a:cubicBezTo>
                  <a:pt x="5824" y="15205"/>
                  <a:pt x="5854" y="15205"/>
                  <a:pt x="5908" y="15205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68"/>
          <p:cNvSpPr/>
          <p:nvPr/>
        </p:nvSpPr>
        <p:spPr>
          <a:xfrm>
            <a:off x="2446200" y="5321160"/>
            <a:ext cx="538200" cy="446400"/>
          </a:xfrm>
          <a:custGeom>
            <a:avLst/>
            <a:gdLst/>
            <a:ahLst/>
            <a:rect l="l" t="t" r="r" b="b"/>
            <a:pathLst>
              <a:path w="1494" h="1241">
                <a:moveTo>
                  <a:pt x="6881" y="14780"/>
                </a:moveTo>
                <a:cubicBezTo>
                  <a:pt x="6872" y="14831"/>
                  <a:pt x="6867" y="14877"/>
                  <a:pt x="6863" y="14928"/>
                </a:cubicBezTo>
                <a:cubicBezTo>
                  <a:pt x="6856" y="15011"/>
                  <a:pt x="6850" y="15093"/>
                  <a:pt x="6849" y="15176"/>
                </a:cubicBezTo>
                <a:cubicBezTo>
                  <a:pt x="6848" y="15218"/>
                  <a:pt x="6839" y="15304"/>
                  <a:pt x="6876" y="15336"/>
                </a:cubicBezTo>
                <a:cubicBezTo>
                  <a:pt x="6910" y="15365"/>
                  <a:pt x="6958" y="15328"/>
                  <a:pt x="6986" y="15310"/>
                </a:cubicBezTo>
                <a:cubicBezTo>
                  <a:pt x="7046" y="15271"/>
                  <a:pt x="7097" y="15212"/>
                  <a:pt x="7170" y="15202"/>
                </a:cubicBezTo>
                <a:cubicBezTo>
                  <a:pt x="7202" y="15226"/>
                  <a:pt x="7203" y="15254"/>
                  <a:pt x="7190" y="15295"/>
                </a:cubicBezTo>
                <a:cubicBezTo>
                  <a:pt x="7171" y="15354"/>
                  <a:pt x="7126" y="15412"/>
                  <a:pt x="7077" y="15449"/>
                </a:cubicBezTo>
                <a:cubicBezTo>
                  <a:pt x="7024" y="15489"/>
                  <a:pt x="6927" y="15543"/>
                  <a:pt x="6857" y="15526"/>
                </a:cubicBezTo>
                <a:cubicBezTo>
                  <a:pt x="6811" y="15515"/>
                  <a:pt x="6785" y="15474"/>
                  <a:pt x="6803" y="15429"/>
                </a:cubicBezTo>
                <a:cubicBezTo>
                  <a:pt x="6810" y="15418"/>
                  <a:pt x="6817" y="15406"/>
                  <a:pt x="6824" y="15395"/>
                </a:cubicBezTo>
              </a:path>
              <a:path w="1494" h="1241">
                <a:moveTo>
                  <a:pt x="7452" y="15197"/>
                </a:moveTo>
                <a:cubicBezTo>
                  <a:pt x="7418" y="15248"/>
                  <a:pt x="7364" y="15300"/>
                  <a:pt x="7344" y="15359"/>
                </a:cubicBezTo>
                <a:cubicBezTo>
                  <a:pt x="7326" y="15413"/>
                  <a:pt x="7357" y="15432"/>
                  <a:pt x="7406" y="15432"/>
                </a:cubicBezTo>
                <a:cubicBezTo>
                  <a:pt x="7486" y="15432"/>
                  <a:pt x="7555" y="15391"/>
                  <a:pt x="7621" y="15353"/>
                </a:cubicBezTo>
                <a:cubicBezTo>
                  <a:pt x="7668" y="15326"/>
                  <a:pt x="7735" y="15288"/>
                  <a:pt x="7755" y="15232"/>
                </a:cubicBezTo>
                <a:cubicBezTo>
                  <a:pt x="7755" y="15225"/>
                  <a:pt x="7756" y="15218"/>
                  <a:pt x="7756" y="15211"/>
                </a:cubicBezTo>
                <a:cubicBezTo>
                  <a:pt x="7727" y="15183"/>
                  <a:pt x="7700" y="15182"/>
                  <a:pt x="7659" y="15184"/>
                </a:cubicBezTo>
                <a:cubicBezTo>
                  <a:pt x="7586" y="15188"/>
                  <a:pt x="7503" y="15200"/>
                  <a:pt x="7434" y="15227"/>
                </a:cubicBezTo>
                <a:cubicBezTo>
                  <a:pt x="7421" y="15232"/>
                  <a:pt x="7352" y="15253"/>
                  <a:pt x="7394" y="15269"/>
                </a:cubicBezTo>
                <a:cubicBezTo>
                  <a:pt x="7401" y="15270"/>
                  <a:pt x="7409" y="15271"/>
                  <a:pt x="7416" y="15272"/>
                </a:cubicBezTo>
              </a:path>
              <a:path w="1494" h="1241">
                <a:moveTo>
                  <a:pt x="7974" y="15230"/>
                </a:moveTo>
                <a:cubicBezTo>
                  <a:pt x="7956" y="15256"/>
                  <a:pt x="7929" y="15278"/>
                  <a:pt x="7906" y="15301"/>
                </a:cubicBezTo>
                <a:cubicBezTo>
                  <a:pt x="7884" y="15323"/>
                  <a:pt x="7856" y="15357"/>
                  <a:pt x="7884" y="15389"/>
                </a:cubicBezTo>
                <a:cubicBezTo>
                  <a:pt x="7914" y="15423"/>
                  <a:pt x="7996" y="15417"/>
                  <a:pt x="8034" y="15413"/>
                </a:cubicBezTo>
                <a:cubicBezTo>
                  <a:pt x="8118" y="15405"/>
                  <a:pt x="8194" y="15367"/>
                  <a:pt x="8274" y="15344"/>
                </a:cubicBezTo>
                <a:cubicBezTo>
                  <a:pt x="8300" y="15374"/>
                  <a:pt x="8284" y="15407"/>
                  <a:pt x="8277" y="15449"/>
                </a:cubicBezTo>
                <a:cubicBezTo>
                  <a:pt x="8255" y="15577"/>
                  <a:pt x="8236" y="15712"/>
                  <a:pt x="8185" y="15833"/>
                </a:cubicBezTo>
                <a:cubicBezTo>
                  <a:pt x="8149" y="15918"/>
                  <a:pt x="8096" y="16010"/>
                  <a:pt x="7996" y="16020"/>
                </a:cubicBezTo>
                <a:cubicBezTo>
                  <a:pt x="7940" y="16026"/>
                  <a:pt x="7925" y="15988"/>
                  <a:pt x="7896" y="15951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69"/>
          <p:cNvSpPr/>
          <p:nvPr/>
        </p:nvSpPr>
        <p:spPr>
          <a:xfrm>
            <a:off x="3281400" y="5479920"/>
            <a:ext cx="922320" cy="365400"/>
          </a:xfrm>
          <a:custGeom>
            <a:avLst/>
            <a:gdLst/>
            <a:ahLst/>
            <a:rect l="l" t="t" r="r" b="b"/>
            <a:pathLst>
              <a:path w="2564" h="1017">
                <a:moveTo>
                  <a:pt x="9485" y="15310"/>
                </a:moveTo>
                <a:cubicBezTo>
                  <a:pt x="9517" y="15292"/>
                  <a:pt x="9513" y="15289"/>
                  <a:pt x="9532" y="15263"/>
                </a:cubicBezTo>
                <a:cubicBezTo>
                  <a:pt x="9492" y="15225"/>
                  <a:pt x="9483" y="15212"/>
                  <a:pt x="9418" y="15230"/>
                </a:cubicBezTo>
                <a:cubicBezTo>
                  <a:pt x="9350" y="15249"/>
                  <a:pt x="9278" y="15292"/>
                  <a:pt x="9230" y="15344"/>
                </a:cubicBezTo>
                <a:cubicBezTo>
                  <a:pt x="9191" y="15386"/>
                  <a:pt x="9174" y="15424"/>
                  <a:pt x="9193" y="15474"/>
                </a:cubicBezTo>
                <a:cubicBezTo>
                  <a:pt x="9255" y="15488"/>
                  <a:pt x="9310" y="15474"/>
                  <a:pt x="9370" y="15447"/>
                </a:cubicBezTo>
                <a:cubicBezTo>
                  <a:pt x="9434" y="15419"/>
                  <a:pt x="9497" y="15378"/>
                  <a:pt x="9550" y="15332"/>
                </a:cubicBezTo>
                <a:cubicBezTo>
                  <a:pt x="9570" y="15312"/>
                  <a:pt x="9574" y="15308"/>
                  <a:pt x="9586" y="15295"/>
                </a:cubicBezTo>
                <a:cubicBezTo>
                  <a:pt x="9577" y="15343"/>
                  <a:pt x="9565" y="15392"/>
                  <a:pt x="9556" y="15441"/>
                </a:cubicBezTo>
                <a:cubicBezTo>
                  <a:pt x="9529" y="15591"/>
                  <a:pt x="9509" y="15746"/>
                  <a:pt x="9469" y="15893"/>
                </a:cubicBezTo>
                <a:cubicBezTo>
                  <a:pt x="9441" y="15994"/>
                  <a:pt x="9402" y="16104"/>
                  <a:pt x="9332" y="16185"/>
                </a:cubicBezTo>
                <a:cubicBezTo>
                  <a:pt x="9292" y="16230"/>
                  <a:pt x="9228" y="16261"/>
                  <a:pt x="9179" y="16209"/>
                </a:cubicBezTo>
                <a:cubicBezTo>
                  <a:pt x="9123" y="16149"/>
                  <a:pt x="9111" y="16043"/>
                  <a:pt x="9113" y="15965"/>
                </a:cubicBezTo>
                <a:cubicBezTo>
                  <a:pt x="9115" y="15875"/>
                  <a:pt x="9144" y="15808"/>
                  <a:pt x="9178" y="15728"/>
                </a:cubicBezTo>
              </a:path>
              <a:path w="2564" h="1017">
                <a:moveTo>
                  <a:pt x="9760" y="15455"/>
                </a:moveTo>
                <a:cubicBezTo>
                  <a:pt x="9777" y="15482"/>
                  <a:pt x="9790" y="15507"/>
                  <a:pt x="9787" y="15541"/>
                </a:cubicBezTo>
                <a:cubicBezTo>
                  <a:pt x="9785" y="15549"/>
                  <a:pt x="9784" y="15556"/>
                  <a:pt x="9782" y="15564"/>
                </a:cubicBezTo>
                <a:cubicBezTo>
                  <a:pt x="9797" y="15526"/>
                  <a:pt x="9815" y="15494"/>
                  <a:pt x="9835" y="15458"/>
                </a:cubicBezTo>
                <a:cubicBezTo>
                  <a:pt x="9868" y="15398"/>
                  <a:pt x="9904" y="15342"/>
                  <a:pt x="9952" y="15293"/>
                </a:cubicBezTo>
                <a:cubicBezTo>
                  <a:pt x="9994" y="15250"/>
                  <a:pt x="10037" y="15241"/>
                  <a:pt x="10094" y="15239"/>
                </a:cubicBezTo>
                <a:cubicBezTo>
                  <a:pt x="10149" y="15238"/>
                  <a:pt x="10197" y="15260"/>
                  <a:pt x="10245" y="15284"/>
                </a:cubicBezTo>
                <a:cubicBezTo>
                  <a:pt x="10278" y="15300"/>
                  <a:pt x="10302" y="15311"/>
                  <a:pt x="10308" y="15347"/>
                </a:cubicBezTo>
                <a:cubicBezTo>
                  <a:pt x="10314" y="15382"/>
                  <a:pt x="10256" y="15412"/>
                  <a:pt x="10236" y="15431"/>
                </a:cubicBezTo>
                <a:cubicBezTo>
                  <a:pt x="10213" y="15453"/>
                  <a:pt x="10174" y="15485"/>
                  <a:pt x="10172" y="15520"/>
                </a:cubicBezTo>
                <a:cubicBezTo>
                  <a:pt x="10173" y="15525"/>
                  <a:pt x="10175" y="15530"/>
                  <a:pt x="10176" y="15535"/>
                </a:cubicBezTo>
                <a:cubicBezTo>
                  <a:pt x="10218" y="15554"/>
                  <a:pt x="10262" y="15551"/>
                  <a:pt x="10308" y="15538"/>
                </a:cubicBezTo>
                <a:cubicBezTo>
                  <a:pt x="10367" y="15521"/>
                  <a:pt x="10456" y="15482"/>
                  <a:pt x="10481" y="15422"/>
                </a:cubicBezTo>
                <a:cubicBezTo>
                  <a:pt x="10497" y="15384"/>
                  <a:pt x="10463" y="15362"/>
                  <a:pt x="10430" y="15356"/>
                </a:cubicBezTo>
                <a:cubicBezTo>
                  <a:pt x="10386" y="15348"/>
                  <a:pt x="10359" y="15361"/>
                  <a:pt x="10325" y="15381"/>
                </a:cubicBezTo>
                <a:cubicBezTo>
                  <a:pt x="10320" y="15383"/>
                  <a:pt x="10316" y="15385"/>
                  <a:pt x="10311" y="15387"/>
                </a:cubicBezTo>
                <a:cubicBezTo>
                  <a:pt x="10332" y="15429"/>
                  <a:pt x="10359" y="15435"/>
                  <a:pt x="10403" y="15452"/>
                </a:cubicBezTo>
              </a:path>
              <a:path w="2564" h="1017">
                <a:moveTo>
                  <a:pt x="10722" y="15540"/>
                </a:moveTo>
                <a:cubicBezTo>
                  <a:pt x="10718" y="15563"/>
                  <a:pt x="10706" y="15586"/>
                  <a:pt x="10707" y="15609"/>
                </a:cubicBezTo>
                <a:cubicBezTo>
                  <a:pt x="10709" y="15655"/>
                  <a:pt x="10752" y="15636"/>
                  <a:pt x="10778" y="15618"/>
                </a:cubicBezTo>
                <a:cubicBezTo>
                  <a:pt x="10815" y="15593"/>
                  <a:pt x="10850" y="15559"/>
                  <a:pt x="10881" y="15528"/>
                </a:cubicBezTo>
                <a:cubicBezTo>
                  <a:pt x="10906" y="15503"/>
                  <a:pt x="10930" y="15465"/>
                  <a:pt x="10961" y="15447"/>
                </a:cubicBezTo>
                <a:cubicBezTo>
                  <a:pt x="10992" y="15429"/>
                  <a:pt x="11018" y="15440"/>
                  <a:pt x="11039" y="15468"/>
                </a:cubicBezTo>
                <a:cubicBezTo>
                  <a:pt x="11058" y="15494"/>
                  <a:pt x="11066" y="15533"/>
                  <a:pt x="11076" y="15564"/>
                </a:cubicBezTo>
                <a:cubicBezTo>
                  <a:pt x="11078" y="15570"/>
                  <a:pt x="11080" y="15577"/>
                  <a:pt x="11082" y="15583"/>
                </a:cubicBezTo>
              </a:path>
              <a:path w="2564" h="1017">
                <a:moveTo>
                  <a:pt x="11387" y="15658"/>
                </a:moveTo>
                <a:cubicBezTo>
                  <a:pt x="11362" y="15707"/>
                  <a:pt x="11357" y="15752"/>
                  <a:pt x="11345" y="15806"/>
                </a:cubicBezTo>
                <a:cubicBezTo>
                  <a:pt x="11329" y="15877"/>
                  <a:pt x="11306" y="15947"/>
                  <a:pt x="11286" y="16017"/>
                </a:cubicBezTo>
                <a:cubicBezTo>
                  <a:pt x="11277" y="16051"/>
                  <a:pt x="11275" y="16060"/>
                  <a:pt x="11267" y="16081"/>
                </a:cubicBezTo>
                <a:cubicBezTo>
                  <a:pt x="11286" y="16007"/>
                  <a:pt x="11310" y="15933"/>
                  <a:pt x="11333" y="15860"/>
                </a:cubicBezTo>
                <a:cubicBezTo>
                  <a:pt x="11367" y="15754"/>
                  <a:pt x="11405" y="15650"/>
                  <a:pt x="11451" y="15549"/>
                </a:cubicBezTo>
                <a:cubicBezTo>
                  <a:pt x="11483" y="15479"/>
                  <a:pt x="11514" y="15406"/>
                  <a:pt x="11578" y="15359"/>
                </a:cubicBezTo>
                <a:cubicBezTo>
                  <a:pt x="11603" y="15345"/>
                  <a:pt x="11610" y="15340"/>
                  <a:pt x="11629" y="15344"/>
                </a:cubicBezTo>
                <a:cubicBezTo>
                  <a:pt x="11664" y="15371"/>
                  <a:pt x="11677" y="15396"/>
                  <a:pt x="11676" y="15443"/>
                </a:cubicBezTo>
                <a:cubicBezTo>
                  <a:pt x="11674" y="15511"/>
                  <a:pt x="11630" y="15585"/>
                  <a:pt x="11569" y="15616"/>
                </a:cubicBezTo>
                <a:cubicBezTo>
                  <a:pt x="11531" y="15636"/>
                  <a:pt x="11471" y="15655"/>
                  <a:pt x="11437" y="15616"/>
                </a:cubicBezTo>
                <a:cubicBezTo>
                  <a:pt x="11419" y="15579"/>
                  <a:pt x="11413" y="15565"/>
                  <a:pt x="11414" y="15535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70"/>
          <p:cNvSpPr/>
          <p:nvPr/>
        </p:nvSpPr>
        <p:spPr>
          <a:xfrm>
            <a:off x="4848120" y="5278320"/>
            <a:ext cx="1273320" cy="392400"/>
          </a:xfrm>
          <a:custGeom>
            <a:avLst/>
            <a:gdLst/>
            <a:ahLst/>
            <a:rect l="l" t="t" r="r" b="b"/>
            <a:pathLst>
              <a:path w="3538" h="1090">
                <a:moveTo>
                  <a:pt x="13520" y="15365"/>
                </a:moveTo>
                <a:cubicBezTo>
                  <a:pt x="13515" y="15395"/>
                  <a:pt x="13505" y="15428"/>
                  <a:pt x="13502" y="15458"/>
                </a:cubicBezTo>
                <a:cubicBezTo>
                  <a:pt x="13497" y="15505"/>
                  <a:pt x="13488" y="15549"/>
                  <a:pt x="13477" y="15595"/>
                </a:cubicBezTo>
                <a:cubicBezTo>
                  <a:pt x="13473" y="15616"/>
                  <a:pt x="13472" y="15621"/>
                  <a:pt x="13468" y="15633"/>
                </a:cubicBezTo>
                <a:cubicBezTo>
                  <a:pt x="13493" y="15565"/>
                  <a:pt x="13517" y="15497"/>
                  <a:pt x="13547" y="15431"/>
                </a:cubicBezTo>
                <a:cubicBezTo>
                  <a:pt x="13606" y="15301"/>
                  <a:pt x="13667" y="15170"/>
                  <a:pt x="13741" y="15048"/>
                </a:cubicBezTo>
                <a:cubicBezTo>
                  <a:pt x="13777" y="14989"/>
                  <a:pt x="13811" y="14939"/>
                  <a:pt x="13871" y="14906"/>
                </a:cubicBezTo>
                <a:cubicBezTo>
                  <a:pt x="13909" y="14934"/>
                  <a:pt x="13922" y="14971"/>
                  <a:pt x="13924" y="15021"/>
                </a:cubicBezTo>
                <a:cubicBezTo>
                  <a:pt x="13926" y="15082"/>
                  <a:pt x="13910" y="15150"/>
                  <a:pt x="13879" y="15202"/>
                </a:cubicBezTo>
                <a:cubicBezTo>
                  <a:pt x="13849" y="15253"/>
                  <a:pt x="13799" y="15282"/>
                  <a:pt x="13745" y="15301"/>
                </a:cubicBezTo>
                <a:cubicBezTo>
                  <a:pt x="13731" y="15306"/>
                  <a:pt x="13649" y="15328"/>
                  <a:pt x="13642" y="15299"/>
                </a:cubicBezTo>
                <a:cubicBezTo>
                  <a:pt x="13634" y="15266"/>
                  <a:pt x="13648" y="15261"/>
                  <a:pt x="13670" y="15232"/>
                </a:cubicBezTo>
              </a:path>
              <a:path w="3538" h="1090">
                <a:moveTo>
                  <a:pt x="14480" y="14744"/>
                </a:moveTo>
                <a:cubicBezTo>
                  <a:pt x="14442" y="14792"/>
                  <a:pt x="14426" y="14808"/>
                  <a:pt x="14387" y="14855"/>
                </a:cubicBezTo>
                <a:cubicBezTo>
                  <a:pt x="14308" y="14951"/>
                  <a:pt x="14235" y="15054"/>
                  <a:pt x="14175" y="15163"/>
                </a:cubicBezTo>
                <a:cubicBezTo>
                  <a:pt x="14117" y="15269"/>
                  <a:pt x="14066" y="15384"/>
                  <a:pt x="14055" y="15505"/>
                </a:cubicBezTo>
                <a:cubicBezTo>
                  <a:pt x="14047" y="15589"/>
                  <a:pt x="14070" y="15670"/>
                  <a:pt x="14142" y="15716"/>
                </a:cubicBezTo>
                <a:cubicBezTo>
                  <a:pt x="14196" y="15740"/>
                  <a:pt x="14215" y="15748"/>
                  <a:pt x="14256" y="15752"/>
                </a:cubicBezTo>
              </a:path>
              <a:path w="3538" h="1090">
                <a:moveTo>
                  <a:pt x="15053" y="15212"/>
                </a:moveTo>
                <a:cubicBezTo>
                  <a:pt x="15015" y="15211"/>
                  <a:pt x="14999" y="15228"/>
                  <a:pt x="14966" y="15244"/>
                </a:cubicBezTo>
                <a:cubicBezTo>
                  <a:pt x="14903" y="15274"/>
                  <a:pt x="14851" y="15313"/>
                  <a:pt x="14798" y="15359"/>
                </a:cubicBezTo>
                <a:cubicBezTo>
                  <a:pt x="14744" y="15406"/>
                  <a:pt x="14689" y="15461"/>
                  <a:pt x="14658" y="15526"/>
                </a:cubicBezTo>
                <a:cubicBezTo>
                  <a:pt x="14638" y="15568"/>
                  <a:pt x="14635" y="15609"/>
                  <a:pt x="14685" y="15625"/>
                </a:cubicBezTo>
                <a:cubicBezTo>
                  <a:pt x="14757" y="15648"/>
                  <a:pt x="14844" y="15621"/>
                  <a:pt x="14915" y="15607"/>
                </a:cubicBezTo>
                <a:cubicBezTo>
                  <a:pt x="14997" y="15591"/>
                  <a:pt x="15075" y="15568"/>
                  <a:pt x="15156" y="15546"/>
                </a:cubicBezTo>
              </a:path>
              <a:path w="3538" h="1090">
                <a:moveTo>
                  <a:pt x="15351" y="15464"/>
                </a:moveTo>
                <a:cubicBezTo>
                  <a:pt x="15378" y="15442"/>
                  <a:pt x="15447" y="15407"/>
                  <a:pt x="15441" y="15362"/>
                </a:cubicBezTo>
                <a:cubicBezTo>
                  <a:pt x="15434" y="15309"/>
                  <a:pt x="15356" y="15326"/>
                  <a:pt x="15324" y="15338"/>
                </a:cubicBezTo>
                <a:cubicBezTo>
                  <a:pt x="15278" y="15356"/>
                  <a:pt x="15230" y="15385"/>
                  <a:pt x="15197" y="15422"/>
                </a:cubicBezTo>
                <a:cubicBezTo>
                  <a:pt x="15192" y="15429"/>
                  <a:pt x="15187" y="15436"/>
                  <a:pt x="15182" y="15443"/>
                </a:cubicBezTo>
                <a:cubicBezTo>
                  <a:pt x="15200" y="15489"/>
                  <a:pt x="15234" y="15481"/>
                  <a:pt x="15283" y="15480"/>
                </a:cubicBezTo>
                <a:cubicBezTo>
                  <a:pt x="15333" y="15479"/>
                  <a:pt x="15388" y="15473"/>
                  <a:pt x="15438" y="15483"/>
                </a:cubicBezTo>
                <a:cubicBezTo>
                  <a:pt x="15471" y="15490"/>
                  <a:pt x="15495" y="15533"/>
                  <a:pt x="15525" y="15525"/>
                </a:cubicBezTo>
                <a:cubicBezTo>
                  <a:pt x="15546" y="15509"/>
                  <a:pt x="15554" y="15501"/>
                  <a:pt x="15564" y="15485"/>
                </a:cubicBezTo>
              </a:path>
              <a:path w="3538" h="1090">
                <a:moveTo>
                  <a:pt x="15873" y="14761"/>
                </a:moveTo>
                <a:cubicBezTo>
                  <a:pt x="15855" y="14841"/>
                  <a:pt x="15832" y="14919"/>
                  <a:pt x="15816" y="15000"/>
                </a:cubicBezTo>
                <a:cubicBezTo>
                  <a:pt x="15793" y="15118"/>
                  <a:pt x="15775" y="15235"/>
                  <a:pt x="15763" y="15354"/>
                </a:cubicBezTo>
                <a:cubicBezTo>
                  <a:pt x="15757" y="15409"/>
                  <a:pt x="15745" y="15512"/>
                  <a:pt x="15777" y="15564"/>
                </a:cubicBezTo>
                <a:cubicBezTo>
                  <a:pt x="15782" y="15567"/>
                  <a:pt x="15788" y="15570"/>
                  <a:pt x="15793" y="15573"/>
                </a:cubicBezTo>
              </a:path>
              <a:path w="3538" h="1090">
                <a:moveTo>
                  <a:pt x="15760" y="15269"/>
                </a:moveTo>
                <a:cubicBezTo>
                  <a:pt x="15757" y="15264"/>
                  <a:pt x="15754" y="15259"/>
                  <a:pt x="15751" y="15254"/>
                </a:cubicBezTo>
                <a:cubicBezTo>
                  <a:pt x="15783" y="15280"/>
                  <a:pt x="15811" y="15304"/>
                  <a:pt x="15850" y="15321"/>
                </a:cubicBezTo>
                <a:cubicBezTo>
                  <a:pt x="15864" y="15326"/>
                  <a:pt x="15877" y="15331"/>
                  <a:pt x="15891" y="15336"/>
                </a:cubicBezTo>
              </a:path>
              <a:path w="3538" h="1090">
                <a:moveTo>
                  <a:pt x="16266" y="14663"/>
                </a:moveTo>
                <a:cubicBezTo>
                  <a:pt x="16296" y="14695"/>
                  <a:pt x="16315" y="14722"/>
                  <a:pt x="16333" y="14770"/>
                </a:cubicBezTo>
                <a:cubicBezTo>
                  <a:pt x="16367" y="14863"/>
                  <a:pt x="16389" y="14963"/>
                  <a:pt x="16402" y="15061"/>
                </a:cubicBezTo>
                <a:cubicBezTo>
                  <a:pt x="16420" y="15200"/>
                  <a:pt x="16415" y="15346"/>
                  <a:pt x="16359" y="15476"/>
                </a:cubicBezTo>
                <a:cubicBezTo>
                  <a:pt x="16328" y="15547"/>
                  <a:pt x="16272" y="15632"/>
                  <a:pt x="16203" y="15672"/>
                </a:cubicBezTo>
                <a:cubicBezTo>
                  <a:pt x="16149" y="15704"/>
                  <a:pt x="16137" y="15678"/>
                  <a:pt x="16143" y="15633"/>
                </a:cubicBezTo>
              </a:path>
              <a:path w="3538" h="1090">
                <a:moveTo>
                  <a:pt x="16733" y="15063"/>
                </a:moveTo>
                <a:cubicBezTo>
                  <a:pt x="16753" y="15083"/>
                  <a:pt x="16776" y="15076"/>
                  <a:pt x="16807" y="15078"/>
                </a:cubicBezTo>
                <a:cubicBezTo>
                  <a:pt x="16851" y="15081"/>
                  <a:pt x="16908" y="15086"/>
                  <a:pt x="16948" y="15105"/>
                </a:cubicBezTo>
                <a:cubicBezTo>
                  <a:pt x="16977" y="15119"/>
                  <a:pt x="16980" y="15137"/>
                  <a:pt x="16987" y="15164"/>
                </a:cubicBezTo>
              </a:path>
              <a:path w="3538" h="1090">
                <a:moveTo>
                  <a:pt x="16703" y="15354"/>
                </a:moveTo>
                <a:cubicBezTo>
                  <a:pt x="16711" y="15384"/>
                  <a:pt x="16743" y="15374"/>
                  <a:pt x="16781" y="15380"/>
                </a:cubicBezTo>
                <a:cubicBezTo>
                  <a:pt x="16839" y="15389"/>
                  <a:pt x="16895" y="15397"/>
                  <a:pt x="16954" y="15393"/>
                </a:cubicBezTo>
                <a:cubicBezTo>
                  <a:pt x="16971" y="15391"/>
                  <a:pt x="16988" y="15389"/>
                  <a:pt x="17005" y="15387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71"/>
          <p:cNvSpPr/>
          <p:nvPr/>
        </p:nvSpPr>
        <p:spPr>
          <a:xfrm>
            <a:off x="6667560" y="5292720"/>
            <a:ext cx="788760" cy="387360"/>
          </a:xfrm>
          <a:custGeom>
            <a:avLst/>
            <a:gdLst/>
            <a:ahLst/>
            <a:rect l="l" t="t" r="r" b="b"/>
            <a:pathLst>
              <a:path w="2191" h="1078">
                <a:moveTo>
                  <a:pt x="18521" y="14820"/>
                </a:moveTo>
                <a:cubicBezTo>
                  <a:pt x="18527" y="14791"/>
                  <a:pt x="18535" y="14767"/>
                  <a:pt x="18543" y="14741"/>
                </a:cubicBezTo>
                <a:cubicBezTo>
                  <a:pt x="18546" y="14734"/>
                  <a:pt x="18549" y="14726"/>
                  <a:pt x="18552" y="14719"/>
                </a:cubicBezTo>
                <a:cubicBezTo>
                  <a:pt x="18559" y="14767"/>
                  <a:pt x="18553" y="14809"/>
                  <a:pt x="18551" y="14858"/>
                </a:cubicBezTo>
                <a:cubicBezTo>
                  <a:pt x="18549" y="14921"/>
                  <a:pt x="18545" y="14985"/>
                  <a:pt x="18542" y="15048"/>
                </a:cubicBezTo>
                <a:cubicBezTo>
                  <a:pt x="18540" y="15090"/>
                  <a:pt x="18541" y="15131"/>
                  <a:pt x="18543" y="15173"/>
                </a:cubicBezTo>
                <a:cubicBezTo>
                  <a:pt x="18545" y="15215"/>
                  <a:pt x="18569" y="15173"/>
                  <a:pt x="18579" y="15161"/>
                </a:cubicBezTo>
              </a:path>
              <a:path w="2191" h="1078">
                <a:moveTo>
                  <a:pt x="18806" y="14740"/>
                </a:moveTo>
                <a:cubicBezTo>
                  <a:pt x="18810" y="14713"/>
                  <a:pt x="18829" y="14706"/>
                  <a:pt x="18864" y="14711"/>
                </a:cubicBezTo>
                <a:cubicBezTo>
                  <a:pt x="18902" y="14716"/>
                  <a:pt x="18938" y="14743"/>
                  <a:pt x="18953" y="14779"/>
                </a:cubicBezTo>
                <a:cubicBezTo>
                  <a:pt x="18971" y="14823"/>
                  <a:pt x="18961" y="14879"/>
                  <a:pt x="18947" y="14922"/>
                </a:cubicBezTo>
                <a:cubicBezTo>
                  <a:pt x="18931" y="14973"/>
                  <a:pt x="18907" y="15025"/>
                  <a:pt x="18881" y="15073"/>
                </a:cubicBezTo>
                <a:cubicBezTo>
                  <a:pt x="18864" y="15105"/>
                  <a:pt x="18845" y="15122"/>
                  <a:pt x="18846" y="15157"/>
                </a:cubicBezTo>
                <a:cubicBezTo>
                  <a:pt x="18890" y="15161"/>
                  <a:pt x="18928" y="15158"/>
                  <a:pt x="18972" y="15152"/>
                </a:cubicBezTo>
                <a:cubicBezTo>
                  <a:pt x="19028" y="15144"/>
                  <a:pt x="19085" y="15124"/>
                  <a:pt x="19140" y="15117"/>
                </a:cubicBezTo>
                <a:cubicBezTo>
                  <a:pt x="19194" y="15110"/>
                  <a:pt x="19241" y="15107"/>
                  <a:pt x="19294" y="15088"/>
                </a:cubicBezTo>
                <a:cubicBezTo>
                  <a:pt x="19305" y="15084"/>
                  <a:pt x="19315" y="15079"/>
                  <a:pt x="19326" y="15075"/>
                </a:cubicBezTo>
              </a:path>
              <a:path w="2191" h="1078">
                <a:moveTo>
                  <a:pt x="19791" y="14717"/>
                </a:moveTo>
                <a:cubicBezTo>
                  <a:pt x="19794" y="14712"/>
                  <a:pt x="19798" y="14707"/>
                  <a:pt x="19801" y="14702"/>
                </a:cubicBezTo>
                <a:cubicBezTo>
                  <a:pt x="19769" y="14726"/>
                  <a:pt x="19741" y="14753"/>
                  <a:pt x="19711" y="14784"/>
                </a:cubicBezTo>
                <a:cubicBezTo>
                  <a:pt x="19637" y="14861"/>
                  <a:pt x="19571" y="14945"/>
                  <a:pt x="19497" y="15022"/>
                </a:cubicBezTo>
                <a:cubicBezTo>
                  <a:pt x="19394" y="15130"/>
                  <a:pt x="19287" y="15236"/>
                  <a:pt x="19176" y="15336"/>
                </a:cubicBezTo>
                <a:cubicBezTo>
                  <a:pt x="19051" y="15447"/>
                  <a:pt x="18923" y="15555"/>
                  <a:pt x="18794" y="15661"/>
                </a:cubicBezTo>
                <a:cubicBezTo>
                  <a:pt x="18748" y="15699"/>
                  <a:pt x="18616" y="15820"/>
                  <a:pt x="18660" y="15779"/>
                </a:cubicBezTo>
                <a:cubicBezTo>
                  <a:pt x="18674" y="15760"/>
                  <a:pt x="18681" y="15752"/>
                  <a:pt x="18696" y="15743"/>
                </a:cubicBezTo>
              </a:path>
              <a:path w="2191" h="1078">
                <a:moveTo>
                  <a:pt x="19552" y="15274"/>
                </a:moveTo>
                <a:cubicBezTo>
                  <a:pt x="19579" y="15257"/>
                  <a:pt x="19600" y="15244"/>
                  <a:pt x="19633" y="15241"/>
                </a:cubicBezTo>
                <a:cubicBezTo>
                  <a:pt x="19668" y="15238"/>
                  <a:pt x="19709" y="15238"/>
                  <a:pt x="19737" y="15260"/>
                </a:cubicBezTo>
                <a:cubicBezTo>
                  <a:pt x="19772" y="15288"/>
                  <a:pt x="19760" y="15340"/>
                  <a:pt x="19746" y="15375"/>
                </a:cubicBezTo>
                <a:cubicBezTo>
                  <a:pt x="19722" y="15438"/>
                  <a:pt x="19684" y="15490"/>
                  <a:pt x="19641" y="15541"/>
                </a:cubicBezTo>
                <a:cubicBezTo>
                  <a:pt x="19608" y="15580"/>
                  <a:pt x="19568" y="15614"/>
                  <a:pt x="19534" y="15652"/>
                </a:cubicBezTo>
                <a:cubicBezTo>
                  <a:pt x="19526" y="15665"/>
                  <a:pt x="19522" y="15669"/>
                  <a:pt x="19528" y="15679"/>
                </a:cubicBezTo>
                <a:cubicBezTo>
                  <a:pt x="19580" y="15672"/>
                  <a:pt x="19628" y="15657"/>
                  <a:pt x="19678" y="15639"/>
                </a:cubicBezTo>
                <a:cubicBezTo>
                  <a:pt x="19751" y="15613"/>
                  <a:pt x="19825" y="15587"/>
                  <a:pt x="19897" y="15559"/>
                </a:cubicBezTo>
                <a:cubicBezTo>
                  <a:pt x="19969" y="15531"/>
                  <a:pt x="20036" y="15495"/>
                  <a:pt x="20104" y="15459"/>
                </a:cubicBezTo>
              </a:path>
              <a:path w="2191" h="1078">
                <a:moveTo>
                  <a:pt x="20227" y="15313"/>
                </a:moveTo>
                <a:cubicBezTo>
                  <a:pt x="20195" y="15349"/>
                  <a:pt x="20167" y="15370"/>
                  <a:pt x="20148" y="15413"/>
                </a:cubicBezTo>
                <a:cubicBezTo>
                  <a:pt x="20128" y="15459"/>
                  <a:pt x="20118" y="15520"/>
                  <a:pt x="20149" y="15565"/>
                </a:cubicBezTo>
                <a:cubicBezTo>
                  <a:pt x="20185" y="15616"/>
                  <a:pt x="20280" y="15623"/>
                  <a:pt x="20335" y="15619"/>
                </a:cubicBezTo>
                <a:cubicBezTo>
                  <a:pt x="20421" y="15613"/>
                  <a:pt x="20519" y="15583"/>
                  <a:pt x="20594" y="15540"/>
                </a:cubicBezTo>
                <a:cubicBezTo>
                  <a:pt x="20647" y="15510"/>
                  <a:pt x="20713" y="15462"/>
                  <a:pt x="20711" y="15393"/>
                </a:cubicBezTo>
                <a:cubicBezTo>
                  <a:pt x="20709" y="15328"/>
                  <a:pt x="20619" y="15317"/>
                  <a:pt x="20572" y="15311"/>
                </a:cubicBezTo>
                <a:cubicBezTo>
                  <a:pt x="20480" y="15300"/>
                  <a:pt x="20388" y="15311"/>
                  <a:pt x="20298" y="15330"/>
                </a:cubicBezTo>
                <a:cubicBezTo>
                  <a:pt x="20245" y="15344"/>
                  <a:pt x="20229" y="15348"/>
                  <a:pt x="20194" y="15353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72"/>
          <p:cNvSpPr/>
          <p:nvPr/>
        </p:nvSpPr>
        <p:spPr>
          <a:xfrm>
            <a:off x="5827680" y="6086520"/>
            <a:ext cx="1017720" cy="380880"/>
          </a:xfrm>
          <a:custGeom>
            <a:avLst/>
            <a:gdLst/>
            <a:ahLst/>
            <a:rect l="l" t="t" r="r" b="b"/>
            <a:pathLst>
              <a:path w="2826" h="1058">
                <a:moveTo>
                  <a:pt x="16258" y="17320"/>
                </a:moveTo>
                <a:cubicBezTo>
                  <a:pt x="16267" y="17364"/>
                  <a:pt x="16257" y="17395"/>
                  <a:pt x="16249" y="17440"/>
                </a:cubicBezTo>
                <a:cubicBezTo>
                  <a:pt x="16237" y="17505"/>
                  <a:pt x="16230" y="17571"/>
                  <a:pt x="16218" y="17636"/>
                </a:cubicBezTo>
                <a:cubicBezTo>
                  <a:pt x="16209" y="17684"/>
                  <a:pt x="16198" y="17730"/>
                  <a:pt x="16191" y="17778"/>
                </a:cubicBezTo>
                <a:cubicBezTo>
                  <a:pt x="16190" y="17784"/>
                  <a:pt x="16189" y="17790"/>
                  <a:pt x="16188" y="17796"/>
                </a:cubicBezTo>
                <a:cubicBezTo>
                  <a:pt x="16203" y="17748"/>
                  <a:pt x="16215" y="17700"/>
                  <a:pt x="16231" y="17653"/>
                </a:cubicBezTo>
                <a:cubicBezTo>
                  <a:pt x="16261" y="17564"/>
                  <a:pt x="16296" y="17477"/>
                  <a:pt x="16335" y="17392"/>
                </a:cubicBezTo>
                <a:cubicBezTo>
                  <a:pt x="16370" y="17316"/>
                  <a:pt x="16410" y="17236"/>
                  <a:pt x="16470" y="17175"/>
                </a:cubicBezTo>
                <a:cubicBezTo>
                  <a:pt x="16500" y="17144"/>
                  <a:pt x="16546" y="17112"/>
                  <a:pt x="16591" y="17130"/>
                </a:cubicBezTo>
                <a:cubicBezTo>
                  <a:pt x="16660" y="17157"/>
                  <a:pt x="16660" y="17241"/>
                  <a:pt x="16639" y="17299"/>
                </a:cubicBezTo>
                <a:cubicBezTo>
                  <a:pt x="16621" y="17347"/>
                  <a:pt x="16583" y="17382"/>
                  <a:pt x="16538" y="17405"/>
                </a:cubicBezTo>
                <a:cubicBezTo>
                  <a:pt x="16495" y="17427"/>
                  <a:pt x="16443" y="17437"/>
                  <a:pt x="16395" y="17426"/>
                </a:cubicBezTo>
                <a:cubicBezTo>
                  <a:pt x="16364" y="17419"/>
                  <a:pt x="16315" y="17404"/>
                  <a:pt x="16299" y="17372"/>
                </a:cubicBezTo>
                <a:cubicBezTo>
                  <a:pt x="16296" y="17355"/>
                  <a:pt x="16295" y="17349"/>
                  <a:pt x="16305" y="17341"/>
                </a:cubicBezTo>
              </a:path>
              <a:path w="2826" h="1058">
                <a:moveTo>
                  <a:pt x="17228" y="17004"/>
                </a:moveTo>
                <a:cubicBezTo>
                  <a:pt x="17187" y="16982"/>
                  <a:pt x="17171" y="16991"/>
                  <a:pt x="17138" y="17028"/>
                </a:cubicBezTo>
                <a:cubicBezTo>
                  <a:pt x="17088" y="17084"/>
                  <a:pt x="17045" y="17147"/>
                  <a:pt x="17006" y="17211"/>
                </a:cubicBezTo>
                <a:cubicBezTo>
                  <a:pt x="16948" y="17304"/>
                  <a:pt x="16902" y="17403"/>
                  <a:pt x="16868" y="17507"/>
                </a:cubicBezTo>
                <a:cubicBezTo>
                  <a:pt x="16839" y="17598"/>
                  <a:pt x="16818" y="17695"/>
                  <a:pt x="16826" y="17791"/>
                </a:cubicBezTo>
                <a:cubicBezTo>
                  <a:pt x="16831" y="17851"/>
                  <a:pt x="16856" y="17916"/>
                  <a:pt x="16910" y="17948"/>
                </a:cubicBezTo>
                <a:cubicBezTo>
                  <a:pt x="16948" y="17963"/>
                  <a:pt x="16961" y="17968"/>
                  <a:pt x="16990" y="17966"/>
                </a:cubicBezTo>
              </a:path>
              <a:path w="2826" h="1058">
                <a:moveTo>
                  <a:pt x="17617" y="17257"/>
                </a:moveTo>
                <a:cubicBezTo>
                  <a:pt x="17598" y="17223"/>
                  <a:pt x="17598" y="17209"/>
                  <a:pt x="17551" y="17208"/>
                </a:cubicBezTo>
                <a:cubicBezTo>
                  <a:pt x="17513" y="17207"/>
                  <a:pt x="17475" y="17229"/>
                  <a:pt x="17447" y="17253"/>
                </a:cubicBezTo>
                <a:cubicBezTo>
                  <a:pt x="17399" y="17295"/>
                  <a:pt x="17361" y="17351"/>
                  <a:pt x="17332" y="17407"/>
                </a:cubicBezTo>
                <a:cubicBezTo>
                  <a:pt x="17287" y="17492"/>
                  <a:pt x="17243" y="17612"/>
                  <a:pt x="17284" y="17706"/>
                </a:cubicBezTo>
                <a:cubicBezTo>
                  <a:pt x="17304" y="17753"/>
                  <a:pt x="17352" y="17781"/>
                  <a:pt x="17402" y="17781"/>
                </a:cubicBezTo>
                <a:cubicBezTo>
                  <a:pt x="17456" y="17781"/>
                  <a:pt x="17507" y="17754"/>
                  <a:pt x="17548" y="17722"/>
                </a:cubicBezTo>
                <a:cubicBezTo>
                  <a:pt x="17584" y="17694"/>
                  <a:pt x="17614" y="17659"/>
                  <a:pt x="17630" y="17616"/>
                </a:cubicBezTo>
                <a:cubicBezTo>
                  <a:pt x="17637" y="17597"/>
                  <a:pt x="17638" y="17578"/>
                  <a:pt x="17641" y="17558"/>
                </a:cubicBezTo>
                <a:cubicBezTo>
                  <a:pt x="17621" y="17588"/>
                  <a:pt x="17614" y="17626"/>
                  <a:pt x="17609" y="17664"/>
                </a:cubicBezTo>
                <a:cubicBezTo>
                  <a:pt x="17601" y="17720"/>
                  <a:pt x="17601" y="17778"/>
                  <a:pt x="17602" y="17834"/>
                </a:cubicBezTo>
                <a:cubicBezTo>
                  <a:pt x="17603" y="17855"/>
                  <a:pt x="17601" y="17863"/>
                  <a:pt x="17618" y="17852"/>
                </a:cubicBezTo>
              </a:path>
              <a:path w="2826" h="1058">
                <a:moveTo>
                  <a:pt x="17423" y="17498"/>
                </a:moveTo>
                <a:cubicBezTo>
                  <a:pt x="17455" y="17520"/>
                  <a:pt x="17480" y="17527"/>
                  <a:pt x="17521" y="17531"/>
                </a:cubicBezTo>
                <a:cubicBezTo>
                  <a:pt x="17568" y="17535"/>
                  <a:pt x="17613" y="17539"/>
                  <a:pt x="17660" y="17544"/>
                </a:cubicBezTo>
                <a:cubicBezTo>
                  <a:pt x="17696" y="17547"/>
                  <a:pt x="17731" y="17552"/>
                  <a:pt x="17767" y="17556"/>
                </a:cubicBezTo>
              </a:path>
              <a:path w="2826" h="1058">
                <a:moveTo>
                  <a:pt x="17901" y="17525"/>
                </a:moveTo>
                <a:cubicBezTo>
                  <a:pt x="17895" y="17560"/>
                  <a:pt x="17885" y="17592"/>
                  <a:pt x="17874" y="17625"/>
                </a:cubicBezTo>
                <a:cubicBezTo>
                  <a:pt x="17864" y="17656"/>
                  <a:pt x="17848" y="17683"/>
                  <a:pt x="17841" y="17715"/>
                </a:cubicBezTo>
              </a:path>
              <a:path w="2826" h="1058">
                <a:moveTo>
                  <a:pt x="17991" y="17351"/>
                </a:moveTo>
                <a:cubicBezTo>
                  <a:pt x="17992" y="17325"/>
                  <a:pt x="17995" y="17303"/>
                  <a:pt x="17997" y="17278"/>
                </a:cubicBezTo>
                <a:cubicBezTo>
                  <a:pt x="18013" y="17293"/>
                  <a:pt x="18023" y="17305"/>
                  <a:pt x="18036" y="17324"/>
                </a:cubicBezTo>
              </a:path>
              <a:path w="2826" h="1058">
                <a:moveTo>
                  <a:pt x="18204" y="17650"/>
                </a:moveTo>
                <a:cubicBezTo>
                  <a:pt x="18196" y="17687"/>
                  <a:pt x="18222" y="17597"/>
                  <a:pt x="18227" y="17586"/>
                </a:cubicBezTo>
                <a:cubicBezTo>
                  <a:pt x="18252" y="17533"/>
                  <a:pt x="18284" y="17481"/>
                  <a:pt x="18324" y="17438"/>
                </a:cubicBezTo>
                <a:cubicBezTo>
                  <a:pt x="18365" y="17394"/>
                  <a:pt x="18405" y="17371"/>
                  <a:pt x="18456" y="17341"/>
                </a:cubicBezTo>
                <a:cubicBezTo>
                  <a:pt x="18489" y="17321"/>
                  <a:pt x="18520" y="17300"/>
                  <a:pt x="18551" y="17278"/>
                </a:cubicBezTo>
              </a:path>
              <a:path w="2826" h="1058">
                <a:moveTo>
                  <a:pt x="18690" y="17037"/>
                </a:moveTo>
                <a:cubicBezTo>
                  <a:pt x="18679" y="17090"/>
                  <a:pt x="18667" y="17141"/>
                  <a:pt x="18654" y="17193"/>
                </a:cubicBezTo>
                <a:cubicBezTo>
                  <a:pt x="18634" y="17274"/>
                  <a:pt x="18607" y="17355"/>
                  <a:pt x="18594" y="17438"/>
                </a:cubicBezTo>
                <a:cubicBezTo>
                  <a:pt x="18585" y="17495"/>
                  <a:pt x="18563" y="17579"/>
                  <a:pt x="18582" y="17636"/>
                </a:cubicBezTo>
                <a:cubicBezTo>
                  <a:pt x="18587" y="17643"/>
                  <a:pt x="18591" y="17649"/>
                  <a:pt x="18596" y="17656"/>
                </a:cubicBezTo>
              </a:path>
              <a:path w="2826" h="1058">
                <a:moveTo>
                  <a:pt x="18926" y="16909"/>
                </a:moveTo>
                <a:cubicBezTo>
                  <a:pt x="18940" y="16940"/>
                  <a:pt x="18950" y="16971"/>
                  <a:pt x="18962" y="17003"/>
                </a:cubicBezTo>
                <a:cubicBezTo>
                  <a:pt x="18982" y="17058"/>
                  <a:pt x="18996" y="17112"/>
                  <a:pt x="19005" y="17170"/>
                </a:cubicBezTo>
                <a:cubicBezTo>
                  <a:pt x="19017" y="17249"/>
                  <a:pt x="19018" y="17329"/>
                  <a:pt x="19004" y="17408"/>
                </a:cubicBezTo>
                <a:cubicBezTo>
                  <a:pt x="18990" y="17488"/>
                  <a:pt x="18955" y="17564"/>
                  <a:pt x="18908" y="17631"/>
                </a:cubicBezTo>
                <a:cubicBezTo>
                  <a:pt x="18873" y="17680"/>
                  <a:pt x="18833" y="17725"/>
                  <a:pt x="18774" y="17745"/>
                </a:cubicBezTo>
                <a:cubicBezTo>
                  <a:pt x="18743" y="17756"/>
                  <a:pt x="18734" y="17745"/>
                  <a:pt x="18713" y="1772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73"/>
          <p:cNvSpPr/>
          <p:nvPr/>
        </p:nvSpPr>
        <p:spPr>
          <a:xfrm>
            <a:off x="7145280" y="6226200"/>
            <a:ext cx="142920" cy="95400"/>
          </a:xfrm>
          <a:custGeom>
            <a:avLst/>
            <a:gdLst/>
            <a:ahLst/>
            <a:rect l="l" t="t" r="r" b="b"/>
            <a:pathLst>
              <a:path w="397" h="266">
                <a:moveTo>
                  <a:pt x="19855" y="17375"/>
                </a:moveTo>
                <a:cubicBezTo>
                  <a:pt x="19845" y="17345"/>
                  <a:pt x="19843" y="17326"/>
                  <a:pt x="19875" y="17308"/>
                </a:cubicBezTo>
                <a:cubicBezTo>
                  <a:pt x="19902" y="17293"/>
                  <a:pt x="19957" y="17293"/>
                  <a:pt x="19986" y="17294"/>
                </a:cubicBezTo>
                <a:cubicBezTo>
                  <a:pt x="20015" y="17295"/>
                  <a:pt x="20043" y="17302"/>
                  <a:pt x="20071" y="17309"/>
                </a:cubicBezTo>
              </a:path>
              <a:path w="397" h="266">
                <a:moveTo>
                  <a:pt x="19882" y="17492"/>
                </a:moveTo>
                <a:cubicBezTo>
                  <a:pt x="19901" y="17541"/>
                  <a:pt x="19924" y="17529"/>
                  <a:pt x="19972" y="17538"/>
                </a:cubicBezTo>
                <a:cubicBezTo>
                  <a:pt x="20043" y="17551"/>
                  <a:pt x="20113" y="17557"/>
                  <a:pt x="20185" y="17559"/>
                </a:cubicBezTo>
                <a:cubicBezTo>
                  <a:pt x="20204" y="17559"/>
                  <a:pt x="20223" y="17559"/>
                  <a:pt x="20242" y="1755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74"/>
          <p:cNvSpPr/>
          <p:nvPr/>
        </p:nvSpPr>
        <p:spPr>
          <a:xfrm>
            <a:off x="7543800" y="6181560"/>
            <a:ext cx="654120" cy="362160"/>
          </a:xfrm>
          <a:custGeom>
            <a:avLst/>
            <a:gdLst/>
            <a:ahLst/>
            <a:rect l="l" t="t" r="r" b="b"/>
            <a:pathLst>
              <a:path w="1816" h="1007">
                <a:moveTo>
                  <a:pt x="21281" y="17235"/>
                </a:moveTo>
                <a:cubicBezTo>
                  <a:pt x="21287" y="17220"/>
                  <a:pt x="21289" y="17215"/>
                  <a:pt x="21287" y="17203"/>
                </a:cubicBezTo>
                <a:cubicBezTo>
                  <a:pt x="21308" y="17227"/>
                  <a:pt x="21313" y="17250"/>
                  <a:pt x="21313" y="17284"/>
                </a:cubicBezTo>
                <a:cubicBezTo>
                  <a:pt x="21313" y="17333"/>
                  <a:pt x="21310" y="17383"/>
                  <a:pt x="21302" y="17431"/>
                </a:cubicBezTo>
                <a:cubicBezTo>
                  <a:pt x="21293" y="17481"/>
                  <a:pt x="21274" y="17530"/>
                  <a:pt x="21263" y="17579"/>
                </a:cubicBezTo>
                <a:cubicBezTo>
                  <a:pt x="21258" y="17601"/>
                  <a:pt x="21255" y="17620"/>
                  <a:pt x="21248" y="17642"/>
                </a:cubicBezTo>
              </a:path>
              <a:path w="1816" h="1007">
                <a:moveTo>
                  <a:pt x="21585" y="17199"/>
                </a:moveTo>
                <a:cubicBezTo>
                  <a:pt x="21593" y="17185"/>
                  <a:pt x="21595" y="17181"/>
                  <a:pt x="21593" y="17170"/>
                </a:cubicBezTo>
                <a:cubicBezTo>
                  <a:pt x="21614" y="17191"/>
                  <a:pt x="21613" y="17209"/>
                  <a:pt x="21609" y="17241"/>
                </a:cubicBezTo>
                <a:cubicBezTo>
                  <a:pt x="21601" y="17305"/>
                  <a:pt x="21580" y="17367"/>
                  <a:pt x="21559" y="17428"/>
                </a:cubicBezTo>
                <a:cubicBezTo>
                  <a:pt x="21548" y="17461"/>
                  <a:pt x="21535" y="17493"/>
                  <a:pt x="21523" y="17526"/>
                </a:cubicBezTo>
                <a:cubicBezTo>
                  <a:pt x="21518" y="17541"/>
                  <a:pt x="21516" y="17545"/>
                  <a:pt x="21517" y="17556"/>
                </a:cubicBezTo>
                <a:cubicBezTo>
                  <a:pt x="21548" y="17544"/>
                  <a:pt x="21572" y="17521"/>
                  <a:pt x="21603" y="17508"/>
                </a:cubicBezTo>
                <a:cubicBezTo>
                  <a:pt x="21659" y="17484"/>
                  <a:pt x="21717" y="17460"/>
                  <a:pt x="21779" y="17456"/>
                </a:cubicBezTo>
                <a:cubicBezTo>
                  <a:pt x="21807" y="17454"/>
                  <a:pt x="21830" y="17456"/>
                  <a:pt x="21858" y="17458"/>
                </a:cubicBezTo>
              </a:path>
              <a:path w="1816" h="1007">
                <a:moveTo>
                  <a:pt x="21770" y="17254"/>
                </a:moveTo>
                <a:cubicBezTo>
                  <a:pt x="21750" y="17288"/>
                  <a:pt x="21747" y="17318"/>
                  <a:pt x="21741" y="17357"/>
                </a:cubicBezTo>
                <a:cubicBezTo>
                  <a:pt x="21731" y="17416"/>
                  <a:pt x="21727" y="17477"/>
                  <a:pt x="21728" y="17537"/>
                </a:cubicBezTo>
                <a:cubicBezTo>
                  <a:pt x="21729" y="17589"/>
                  <a:pt x="21722" y="17649"/>
                  <a:pt x="21737" y="17700"/>
                </a:cubicBezTo>
                <a:cubicBezTo>
                  <a:pt x="21749" y="17728"/>
                  <a:pt x="21753" y="17736"/>
                  <a:pt x="21762" y="17754"/>
                </a:cubicBezTo>
              </a:path>
              <a:path w="1816" h="1007">
                <a:moveTo>
                  <a:pt x="20995" y="18174"/>
                </a:moveTo>
                <a:cubicBezTo>
                  <a:pt x="20939" y="18154"/>
                  <a:pt x="20975" y="18163"/>
                  <a:pt x="21026" y="18140"/>
                </a:cubicBezTo>
                <a:cubicBezTo>
                  <a:pt x="21117" y="18099"/>
                  <a:pt x="21212" y="18068"/>
                  <a:pt x="21308" y="18039"/>
                </a:cubicBezTo>
                <a:cubicBezTo>
                  <a:pt x="21618" y="17944"/>
                  <a:pt x="21940" y="17878"/>
                  <a:pt x="22260" y="17831"/>
                </a:cubicBezTo>
                <a:cubicBezTo>
                  <a:pt x="22381" y="17813"/>
                  <a:pt x="22502" y="17798"/>
                  <a:pt x="22623" y="17784"/>
                </a:cubicBezTo>
                <a:cubicBezTo>
                  <a:pt x="22640" y="17782"/>
                  <a:pt x="22791" y="17769"/>
                  <a:pt x="22755" y="17776"/>
                </a:cubicBezTo>
                <a:cubicBezTo>
                  <a:pt x="22736" y="17778"/>
                  <a:pt x="22729" y="17779"/>
                  <a:pt x="22716" y="177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75"/>
          <p:cNvSpPr/>
          <p:nvPr/>
        </p:nvSpPr>
        <p:spPr>
          <a:xfrm>
            <a:off x="7832880" y="6545160"/>
            <a:ext cx="377640" cy="196920"/>
          </a:xfrm>
          <a:custGeom>
            <a:avLst/>
            <a:gdLst/>
            <a:ahLst/>
            <a:rect l="l" t="t" r="r" b="b"/>
            <a:pathLst>
              <a:path w="1051" h="546">
                <a:moveTo>
                  <a:pt x="21771" y="18226"/>
                </a:moveTo>
                <a:cubicBezTo>
                  <a:pt x="21737" y="18198"/>
                  <a:pt x="21774" y="18198"/>
                  <a:pt x="21809" y="18190"/>
                </a:cubicBezTo>
                <a:cubicBezTo>
                  <a:pt x="21858" y="18179"/>
                  <a:pt x="21913" y="18180"/>
                  <a:pt x="21963" y="18183"/>
                </a:cubicBezTo>
                <a:cubicBezTo>
                  <a:pt x="22005" y="18185"/>
                  <a:pt x="22065" y="18187"/>
                  <a:pt x="22098" y="18219"/>
                </a:cubicBezTo>
                <a:cubicBezTo>
                  <a:pt x="22130" y="18250"/>
                  <a:pt x="22105" y="18297"/>
                  <a:pt x="22085" y="18327"/>
                </a:cubicBezTo>
                <a:cubicBezTo>
                  <a:pt x="22055" y="18371"/>
                  <a:pt x="22014" y="18404"/>
                  <a:pt x="21972" y="18436"/>
                </a:cubicBezTo>
                <a:cubicBezTo>
                  <a:pt x="21953" y="18450"/>
                  <a:pt x="21939" y="18461"/>
                  <a:pt x="21924" y="18479"/>
                </a:cubicBezTo>
                <a:cubicBezTo>
                  <a:pt x="21958" y="18493"/>
                  <a:pt x="21994" y="18503"/>
                  <a:pt x="22028" y="18517"/>
                </a:cubicBezTo>
                <a:cubicBezTo>
                  <a:pt x="22064" y="18532"/>
                  <a:pt x="22101" y="18553"/>
                  <a:pt x="22116" y="18591"/>
                </a:cubicBezTo>
                <a:cubicBezTo>
                  <a:pt x="22131" y="18629"/>
                  <a:pt x="22108" y="18662"/>
                  <a:pt x="22079" y="18684"/>
                </a:cubicBezTo>
                <a:cubicBezTo>
                  <a:pt x="22042" y="18712"/>
                  <a:pt x="21982" y="18732"/>
                  <a:pt x="21935" y="18727"/>
                </a:cubicBezTo>
                <a:cubicBezTo>
                  <a:pt x="21897" y="18723"/>
                  <a:pt x="21845" y="18709"/>
                  <a:pt x="21836" y="18666"/>
                </a:cubicBezTo>
                <a:cubicBezTo>
                  <a:pt x="21836" y="18631"/>
                  <a:pt x="21837" y="18619"/>
                  <a:pt x="21854" y="18600"/>
                </a:cubicBezTo>
              </a:path>
              <a:path w="1051" h="546">
                <a:moveTo>
                  <a:pt x="22388" y="18333"/>
                </a:moveTo>
                <a:cubicBezTo>
                  <a:pt x="22432" y="18364"/>
                  <a:pt x="22411" y="18385"/>
                  <a:pt x="22404" y="18433"/>
                </a:cubicBezTo>
                <a:cubicBezTo>
                  <a:pt x="22396" y="18485"/>
                  <a:pt x="22392" y="18547"/>
                  <a:pt x="22415" y="18596"/>
                </a:cubicBezTo>
                <a:cubicBezTo>
                  <a:pt x="22442" y="18652"/>
                  <a:pt x="22506" y="18664"/>
                  <a:pt x="22562" y="18660"/>
                </a:cubicBezTo>
                <a:cubicBezTo>
                  <a:pt x="22635" y="18654"/>
                  <a:pt x="22703" y="18619"/>
                  <a:pt x="22758" y="18573"/>
                </a:cubicBezTo>
                <a:cubicBezTo>
                  <a:pt x="22797" y="18541"/>
                  <a:pt x="22829" y="18489"/>
                  <a:pt x="22788" y="18443"/>
                </a:cubicBezTo>
                <a:cubicBezTo>
                  <a:pt x="22738" y="18387"/>
                  <a:pt x="22638" y="18386"/>
                  <a:pt x="22571" y="18377"/>
                </a:cubicBezTo>
                <a:cubicBezTo>
                  <a:pt x="22474" y="18365"/>
                  <a:pt x="22384" y="18376"/>
                  <a:pt x="22287" y="18377"/>
                </a:cubicBezTo>
                <a:cubicBezTo>
                  <a:pt x="22269" y="18376"/>
                  <a:pt x="22251" y="18375"/>
                  <a:pt x="22233" y="1837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76"/>
          <p:cNvSpPr/>
          <p:nvPr/>
        </p:nvSpPr>
        <p:spPr>
          <a:xfrm>
            <a:off x="4941720" y="6515280"/>
            <a:ext cx="2575080" cy="280800"/>
          </a:xfrm>
          <a:custGeom>
            <a:avLst/>
            <a:gdLst/>
            <a:ahLst/>
            <a:rect l="l" t="t" r="r" b="b"/>
            <a:pathLst>
              <a:path w="7156" h="781">
                <a:moveTo>
                  <a:pt x="13726" y="18150"/>
                </a:moveTo>
                <a:cubicBezTo>
                  <a:pt x="13872" y="18109"/>
                  <a:pt x="13920" y="18114"/>
                  <a:pt x="14082" y="18150"/>
                </a:cubicBezTo>
                <a:cubicBezTo>
                  <a:pt x="14381" y="18217"/>
                  <a:pt x="14684" y="18276"/>
                  <a:pt x="14985" y="18333"/>
                </a:cubicBezTo>
                <a:cubicBezTo>
                  <a:pt x="15588" y="18448"/>
                  <a:pt x="16231" y="18459"/>
                  <a:pt x="16844" y="18481"/>
                </a:cubicBezTo>
                <a:cubicBezTo>
                  <a:pt x="17446" y="18502"/>
                  <a:pt x="18033" y="18436"/>
                  <a:pt x="18632" y="18401"/>
                </a:cubicBezTo>
                <a:cubicBezTo>
                  <a:pt x="19214" y="18367"/>
                  <a:pt x="19800" y="18392"/>
                  <a:pt x="20371" y="18511"/>
                </a:cubicBezTo>
                <a:cubicBezTo>
                  <a:pt x="20512" y="18540"/>
                  <a:pt x="20657" y="18620"/>
                  <a:pt x="20798" y="18635"/>
                </a:cubicBezTo>
                <a:cubicBezTo>
                  <a:pt x="20827" y="18638"/>
                  <a:pt x="20857" y="18621"/>
                  <a:pt x="20881" y="18623"/>
                </a:cubicBezTo>
                <a:cubicBezTo>
                  <a:pt x="20860" y="18611"/>
                  <a:pt x="20835" y="18580"/>
                  <a:pt x="20804" y="18566"/>
                </a:cubicBezTo>
                <a:cubicBezTo>
                  <a:pt x="20724" y="18529"/>
                  <a:pt x="20639" y="18499"/>
                  <a:pt x="20558" y="18466"/>
                </a:cubicBezTo>
                <a:cubicBezTo>
                  <a:pt x="20625" y="18509"/>
                  <a:pt x="20844" y="18598"/>
                  <a:pt x="20860" y="18677"/>
                </a:cubicBezTo>
                <a:cubicBezTo>
                  <a:pt x="20876" y="18754"/>
                  <a:pt x="20815" y="18778"/>
                  <a:pt x="20762" y="18822"/>
                </a:cubicBezTo>
                <a:cubicBezTo>
                  <a:pt x="20709" y="18866"/>
                  <a:pt x="20648" y="18858"/>
                  <a:pt x="20588" y="188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78"/>
          <p:cNvSpPr/>
          <p:nvPr/>
        </p:nvSpPr>
        <p:spPr>
          <a:xfrm>
            <a:off x="7272360" y="5342040"/>
            <a:ext cx="201600" cy="203040"/>
          </a:xfrm>
          <a:custGeom>
            <a:avLst/>
            <a:gdLst/>
            <a:ahLst/>
            <a:rect l="l" t="t" r="r" b="b"/>
            <a:pathLst>
              <a:path w="559" h="565">
                <a:moveTo>
                  <a:pt x="20393" y="14887"/>
                </a:moveTo>
                <a:cubicBezTo>
                  <a:pt x="20365" y="14878"/>
                  <a:pt x="20362" y="14877"/>
                  <a:pt x="20335" y="14901"/>
                </a:cubicBezTo>
                <a:cubicBezTo>
                  <a:pt x="20313" y="14920"/>
                  <a:pt x="20298" y="14940"/>
                  <a:pt x="20283" y="14965"/>
                </a:cubicBezTo>
                <a:cubicBezTo>
                  <a:pt x="20260" y="15003"/>
                  <a:pt x="20240" y="15043"/>
                  <a:pt x="20227" y="15086"/>
                </a:cubicBezTo>
                <a:cubicBezTo>
                  <a:pt x="20215" y="15124"/>
                  <a:pt x="20205" y="15165"/>
                  <a:pt x="20203" y="15205"/>
                </a:cubicBezTo>
                <a:cubicBezTo>
                  <a:pt x="20201" y="15241"/>
                  <a:pt x="20206" y="15278"/>
                  <a:pt x="20216" y="15313"/>
                </a:cubicBezTo>
                <a:cubicBezTo>
                  <a:pt x="20223" y="15339"/>
                  <a:pt x="20233" y="15366"/>
                  <a:pt x="20256" y="15383"/>
                </a:cubicBezTo>
                <a:cubicBezTo>
                  <a:pt x="20279" y="15400"/>
                  <a:pt x="20308" y="15403"/>
                  <a:pt x="20336" y="15403"/>
                </a:cubicBezTo>
                <a:cubicBezTo>
                  <a:pt x="20402" y="15403"/>
                  <a:pt x="20471" y="15381"/>
                  <a:pt x="20531" y="15355"/>
                </a:cubicBezTo>
                <a:cubicBezTo>
                  <a:pt x="20566" y="15340"/>
                  <a:pt x="20599" y="15322"/>
                  <a:pt x="20629" y="15297"/>
                </a:cubicBezTo>
                <a:cubicBezTo>
                  <a:pt x="20666" y="15266"/>
                  <a:pt x="20699" y="15219"/>
                  <a:pt x="20721" y="15177"/>
                </a:cubicBezTo>
                <a:cubicBezTo>
                  <a:pt x="20738" y="15143"/>
                  <a:pt x="20757" y="15099"/>
                  <a:pt x="20761" y="15061"/>
                </a:cubicBezTo>
                <a:cubicBezTo>
                  <a:pt x="20765" y="15024"/>
                  <a:pt x="20757" y="14984"/>
                  <a:pt x="20739" y="14952"/>
                </a:cubicBezTo>
                <a:cubicBezTo>
                  <a:pt x="20718" y="14914"/>
                  <a:pt x="20681" y="14879"/>
                  <a:pt x="20641" y="14861"/>
                </a:cubicBezTo>
                <a:cubicBezTo>
                  <a:pt x="20598" y="14841"/>
                  <a:pt x="20537" y="14829"/>
                  <a:pt x="20490" y="14839"/>
                </a:cubicBezTo>
                <a:cubicBezTo>
                  <a:pt x="20418" y="14854"/>
                  <a:pt x="20367" y="14915"/>
                  <a:pt x="20322" y="14967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79"/>
          <p:cNvSpPr/>
          <p:nvPr/>
        </p:nvSpPr>
        <p:spPr>
          <a:xfrm>
            <a:off x="3956040" y="588960"/>
            <a:ext cx="963720" cy="1854360"/>
          </a:xfrm>
          <a:custGeom>
            <a:avLst/>
            <a:gdLst/>
            <a:ahLst/>
            <a:rect l="l" t="t" r="r" b="b"/>
            <a:pathLst>
              <a:path w="2679" h="5148">
                <a:moveTo>
                  <a:pt x="11182" y="1905"/>
                </a:moveTo>
                <a:cubicBezTo>
                  <a:pt x="11149" y="1869"/>
                  <a:pt x="11113" y="1835"/>
                  <a:pt x="11080" y="1802"/>
                </a:cubicBezTo>
                <a:cubicBezTo>
                  <a:pt x="11071" y="1826"/>
                  <a:pt x="11035" y="1855"/>
                  <a:pt x="11026" y="1894"/>
                </a:cubicBezTo>
                <a:cubicBezTo>
                  <a:pt x="10940" y="2277"/>
                  <a:pt x="10988" y="2709"/>
                  <a:pt x="10988" y="3098"/>
                </a:cubicBezTo>
                <a:cubicBezTo>
                  <a:pt x="10988" y="3967"/>
                  <a:pt x="11000" y="4844"/>
                  <a:pt x="11023" y="5713"/>
                </a:cubicBezTo>
                <a:cubicBezTo>
                  <a:pt x="11030" y="5988"/>
                  <a:pt x="11062" y="6284"/>
                  <a:pt x="11314" y="6443"/>
                </a:cubicBezTo>
                <a:cubicBezTo>
                  <a:pt x="11536" y="6583"/>
                  <a:pt x="11787" y="6663"/>
                  <a:pt x="12040" y="6721"/>
                </a:cubicBezTo>
                <a:cubicBezTo>
                  <a:pt x="12364" y="6796"/>
                  <a:pt x="12730" y="6831"/>
                  <a:pt x="13039" y="6680"/>
                </a:cubicBezTo>
                <a:cubicBezTo>
                  <a:pt x="13192" y="6605"/>
                  <a:pt x="13366" y="6485"/>
                  <a:pt x="13442" y="6331"/>
                </a:cubicBezTo>
                <a:cubicBezTo>
                  <a:pt x="13613" y="5983"/>
                  <a:pt x="13595" y="5469"/>
                  <a:pt x="13625" y="5093"/>
                </a:cubicBezTo>
                <a:cubicBezTo>
                  <a:pt x="13672" y="4503"/>
                  <a:pt x="13641" y="3942"/>
                  <a:pt x="13602" y="3354"/>
                </a:cubicBezTo>
                <a:cubicBezTo>
                  <a:pt x="13582" y="3059"/>
                  <a:pt x="13633" y="2767"/>
                  <a:pt x="13619" y="2474"/>
                </a:cubicBezTo>
                <a:cubicBezTo>
                  <a:pt x="13609" y="2266"/>
                  <a:pt x="13556" y="1950"/>
                  <a:pt x="13396" y="1799"/>
                </a:cubicBezTo>
                <a:cubicBezTo>
                  <a:pt x="13246" y="1657"/>
                  <a:pt x="12995" y="1653"/>
                  <a:pt x="12801" y="1642"/>
                </a:cubicBezTo>
                <a:cubicBezTo>
                  <a:pt x="12453" y="1622"/>
                  <a:pt x="12027" y="1643"/>
                  <a:pt x="11689" y="1728"/>
                </a:cubicBezTo>
                <a:cubicBezTo>
                  <a:pt x="11521" y="1770"/>
                  <a:pt x="11387" y="1876"/>
                  <a:pt x="11248" y="1973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91320" y="2384280"/>
            <a:ext cx="56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‘A’ on both spi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468360" y="692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simple lottery wheels is spun 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8"/>
          <p:cNvSpPr/>
          <p:nvPr/>
        </p:nvSpPr>
        <p:spPr>
          <a:xfrm>
            <a:off x="392040" y="3238560"/>
            <a:ext cx="52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spinning a ‘B’ or a ‘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387720" y="4876920"/>
            <a:ext cx="78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being in alphabetical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391680" y="5695920"/>
            <a:ext cx="57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spelling CAB in 3 sp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390960" y="4057560"/>
            <a:ext cx="59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spinning a pair the s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5"/>
          <p:cNvGrpSpPr/>
          <p:nvPr/>
        </p:nvGrpSpPr>
        <p:grpSpPr>
          <a:xfrm>
            <a:off x="5938920" y="620640"/>
            <a:ext cx="2305080" cy="2305080"/>
            <a:chOff x="5938920" y="620640"/>
            <a:chExt cx="2305080" cy="2305080"/>
          </a:xfrm>
        </p:grpSpPr>
        <p:grpSp>
          <p:nvGrpSpPr>
            <p:cNvPr id="123" name="Group 49"/>
            <p:cNvGrpSpPr/>
            <p:nvPr/>
          </p:nvGrpSpPr>
          <p:grpSpPr>
            <a:xfrm>
              <a:off x="5938920" y="620640"/>
              <a:ext cx="2305080" cy="2305080"/>
              <a:chOff x="5938920" y="620640"/>
              <a:chExt cx="2305080" cy="2305080"/>
            </a:xfrm>
          </p:grpSpPr>
          <p:sp>
            <p:nvSpPr>
              <p:cNvPr id="124" name="Oval 43"/>
              <p:cNvSpPr/>
              <p:nvPr/>
            </p:nvSpPr>
            <p:spPr>
              <a:xfrm>
                <a:off x="5938920" y="620640"/>
                <a:ext cx="2305080" cy="23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4"/>
              <p:cNvSpPr/>
              <p:nvPr/>
            </p:nvSpPr>
            <p:spPr>
              <a:xfrm>
                <a:off x="7091280" y="620640"/>
                <a:ext cx="0" cy="230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5"/>
              <p:cNvSpPr/>
              <p:nvPr/>
            </p:nvSpPr>
            <p:spPr>
              <a:xfrm>
                <a:off x="5938920" y="1773000"/>
                <a:ext cx="11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46"/>
              <p:cNvSpPr/>
              <p:nvPr/>
            </p:nvSpPr>
            <p:spPr>
              <a:xfrm>
                <a:off x="6299280" y="83628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47"/>
              <p:cNvSpPr/>
              <p:nvPr/>
            </p:nvSpPr>
            <p:spPr>
              <a:xfrm>
                <a:off x="7378920" y="148428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6299280" y="193500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50"/>
            <p:cNvSpPr/>
            <p:nvPr/>
          </p:nvSpPr>
          <p:spPr>
            <a:xfrm rot="19804200">
              <a:off x="6687720" y="1599840"/>
              <a:ext cx="968400" cy="260280"/>
            </a:xfrm>
            <a:custGeom>
              <a:avLst/>
              <a:gdLst>
                <a:gd name="textAreaLeft" fmla="*/ 120960 w 968400"/>
                <a:gd name="textAreaRight" fmla="*/ 847440 w 968400"/>
                <a:gd name="textAreaTop" fmla="*/ 65160 h 260280"/>
                <a:gd name="textAreaBottom" fmla="*/ 19548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>
              <a:off x="7020000" y="1700280"/>
              <a:ext cx="142920" cy="142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56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2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1320" y="2384280"/>
            <a:ext cx="56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‘A’ on both spi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68360" y="692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simple lottery wheels is spun 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92040" y="3238560"/>
            <a:ext cx="52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spinning a ‘B’ or a ‘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87720" y="4876920"/>
            <a:ext cx="78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being in alphabetical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91680" y="5695920"/>
            <a:ext cx="57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spelling CAB in 3 sp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90960" y="4057560"/>
            <a:ext cx="59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spinning a pair the s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5938920" y="620640"/>
            <a:ext cx="2305080" cy="2305080"/>
            <a:chOff x="5938920" y="620640"/>
            <a:chExt cx="2305080" cy="2305080"/>
          </a:xfrm>
        </p:grpSpPr>
        <p:grpSp>
          <p:nvGrpSpPr>
            <p:cNvPr id="146" name="Group 16"/>
            <p:cNvGrpSpPr/>
            <p:nvPr/>
          </p:nvGrpSpPr>
          <p:grpSpPr>
            <a:xfrm>
              <a:off x="5938920" y="620640"/>
              <a:ext cx="2305080" cy="2305080"/>
              <a:chOff x="5938920" y="620640"/>
              <a:chExt cx="2305080" cy="2305080"/>
            </a:xfrm>
          </p:grpSpPr>
          <p:sp>
            <p:nvSpPr>
              <p:cNvPr id="147" name="Oval 17"/>
              <p:cNvSpPr/>
              <p:nvPr/>
            </p:nvSpPr>
            <p:spPr>
              <a:xfrm>
                <a:off x="5938920" y="620640"/>
                <a:ext cx="2305080" cy="23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7091280" y="620640"/>
                <a:ext cx="0" cy="230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5938920" y="1773000"/>
                <a:ext cx="11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20"/>
              <p:cNvSpPr/>
              <p:nvPr/>
            </p:nvSpPr>
            <p:spPr>
              <a:xfrm>
                <a:off x="6299280" y="83628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21"/>
              <p:cNvSpPr/>
              <p:nvPr/>
            </p:nvSpPr>
            <p:spPr>
              <a:xfrm>
                <a:off x="7378920" y="148428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22"/>
              <p:cNvSpPr/>
              <p:nvPr/>
            </p:nvSpPr>
            <p:spPr>
              <a:xfrm>
                <a:off x="6299280" y="193500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3"/>
            <p:cNvSpPr/>
            <p:nvPr/>
          </p:nvSpPr>
          <p:spPr>
            <a:xfrm rot="19804200">
              <a:off x="6687720" y="1599840"/>
              <a:ext cx="968400" cy="260280"/>
            </a:xfrm>
            <a:custGeom>
              <a:avLst/>
              <a:gdLst>
                <a:gd name="textAreaLeft" fmla="*/ 120960 w 968400"/>
                <a:gd name="textAreaRight" fmla="*/ 847440 w 968400"/>
                <a:gd name="textAreaTop" fmla="*/ 65160 h 260280"/>
                <a:gd name="textAreaBottom" fmla="*/ 19548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7020000" y="1700280"/>
              <a:ext cx="142920" cy="142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7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25"/>
          <p:cNvSpPr/>
          <p:nvPr/>
        </p:nvSpPr>
        <p:spPr>
          <a:xfrm>
            <a:off x="1062000" y="2759040"/>
            <a:ext cx="662040" cy="376200"/>
          </a:xfrm>
          <a:custGeom>
            <a:avLst/>
            <a:gdLst/>
            <a:ahLst/>
            <a:rect l="l" t="t" r="r" b="b"/>
            <a:pathLst>
              <a:path w="1836" h="1042">
                <a:moveTo>
                  <a:pt x="3125" y="7938"/>
                </a:moveTo>
                <a:cubicBezTo>
                  <a:pt x="3097" y="7975"/>
                  <a:pt x="3101" y="7990"/>
                  <a:pt x="3101" y="8037"/>
                </a:cubicBezTo>
                <a:cubicBezTo>
                  <a:pt x="3101" y="8082"/>
                  <a:pt x="3056" y="8110"/>
                  <a:pt x="3051" y="8161"/>
                </a:cubicBezTo>
                <a:cubicBezTo>
                  <a:pt x="3045" y="8221"/>
                  <a:pt x="3011" y="8276"/>
                  <a:pt x="3001" y="8334"/>
                </a:cubicBezTo>
                <a:cubicBezTo>
                  <a:pt x="2993" y="8383"/>
                  <a:pt x="2982" y="8436"/>
                  <a:pt x="2977" y="8483"/>
                </a:cubicBezTo>
                <a:cubicBezTo>
                  <a:pt x="2973" y="8528"/>
                  <a:pt x="2981" y="8520"/>
                  <a:pt x="2952" y="8558"/>
                </a:cubicBezTo>
                <a:cubicBezTo>
                  <a:pt x="3004" y="8541"/>
                  <a:pt x="2976" y="8507"/>
                  <a:pt x="3001" y="8458"/>
                </a:cubicBezTo>
                <a:cubicBezTo>
                  <a:pt x="3032" y="8396"/>
                  <a:pt x="3068" y="8326"/>
                  <a:pt x="3101" y="8260"/>
                </a:cubicBezTo>
                <a:cubicBezTo>
                  <a:pt x="3136" y="8189"/>
                  <a:pt x="3149" y="8108"/>
                  <a:pt x="3175" y="8037"/>
                </a:cubicBezTo>
                <a:cubicBezTo>
                  <a:pt x="3195" y="7984"/>
                  <a:pt x="3242" y="7910"/>
                  <a:pt x="3274" y="7863"/>
                </a:cubicBezTo>
                <a:cubicBezTo>
                  <a:pt x="3302" y="7822"/>
                  <a:pt x="3355" y="7775"/>
                  <a:pt x="3398" y="7764"/>
                </a:cubicBezTo>
                <a:cubicBezTo>
                  <a:pt x="3409" y="7798"/>
                  <a:pt x="3438" y="7792"/>
                  <a:pt x="3448" y="7813"/>
                </a:cubicBezTo>
                <a:cubicBezTo>
                  <a:pt x="3457" y="7832"/>
                  <a:pt x="3467" y="7894"/>
                  <a:pt x="3473" y="7913"/>
                </a:cubicBezTo>
                <a:cubicBezTo>
                  <a:pt x="3484" y="7946"/>
                  <a:pt x="3462" y="8014"/>
                  <a:pt x="3448" y="8037"/>
                </a:cubicBezTo>
                <a:cubicBezTo>
                  <a:pt x="3420" y="8083"/>
                  <a:pt x="3362" y="8102"/>
                  <a:pt x="3324" y="8136"/>
                </a:cubicBezTo>
                <a:cubicBezTo>
                  <a:pt x="3289" y="8167"/>
                  <a:pt x="3271" y="8161"/>
                  <a:pt x="3225" y="8161"/>
                </a:cubicBezTo>
                <a:cubicBezTo>
                  <a:pt x="3200" y="8161"/>
                  <a:pt x="3081" y="8177"/>
                  <a:pt x="3101" y="8136"/>
                </a:cubicBezTo>
                <a:cubicBezTo>
                  <a:pt x="3125" y="8111"/>
                  <a:pt x="3133" y="8102"/>
                  <a:pt x="3150" y="8086"/>
                </a:cubicBezTo>
              </a:path>
              <a:path w="1836" h="1042">
                <a:moveTo>
                  <a:pt x="4043" y="7689"/>
                </a:moveTo>
                <a:cubicBezTo>
                  <a:pt x="4027" y="7642"/>
                  <a:pt x="4006" y="7668"/>
                  <a:pt x="3969" y="7689"/>
                </a:cubicBezTo>
                <a:cubicBezTo>
                  <a:pt x="3899" y="7728"/>
                  <a:pt x="3891" y="7752"/>
                  <a:pt x="3845" y="7813"/>
                </a:cubicBezTo>
                <a:cubicBezTo>
                  <a:pt x="3798" y="7875"/>
                  <a:pt x="3779" y="7942"/>
                  <a:pt x="3746" y="8012"/>
                </a:cubicBezTo>
                <a:cubicBezTo>
                  <a:pt x="3715" y="8077"/>
                  <a:pt x="3699" y="8163"/>
                  <a:pt x="3696" y="8235"/>
                </a:cubicBezTo>
                <a:cubicBezTo>
                  <a:pt x="3691" y="8347"/>
                  <a:pt x="3691" y="8461"/>
                  <a:pt x="3721" y="8558"/>
                </a:cubicBezTo>
                <a:cubicBezTo>
                  <a:pt x="3739" y="8616"/>
                  <a:pt x="3766" y="8604"/>
                  <a:pt x="3795" y="8657"/>
                </a:cubicBezTo>
                <a:cubicBezTo>
                  <a:pt x="3815" y="8693"/>
                  <a:pt x="3831" y="8667"/>
                  <a:pt x="3845" y="8706"/>
                </a:cubicBezTo>
                <a:cubicBezTo>
                  <a:pt x="3854" y="8671"/>
                  <a:pt x="3866" y="8661"/>
                  <a:pt x="3894" y="8632"/>
                </a:cubicBezTo>
              </a:path>
              <a:path w="1836" h="1042">
                <a:moveTo>
                  <a:pt x="4242" y="8508"/>
                </a:moveTo>
                <a:cubicBezTo>
                  <a:pt x="4242" y="8467"/>
                  <a:pt x="4252" y="8443"/>
                  <a:pt x="4266" y="8409"/>
                </a:cubicBezTo>
                <a:cubicBezTo>
                  <a:pt x="4292" y="8348"/>
                  <a:pt x="4336" y="8296"/>
                  <a:pt x="4366" y="8235"/>
                </a:cubicBezTo>
                <a:cubicBezTo>
                  <a:pt x="4396" y="8175"/>
                  <a:pt x="4434" y="8123"/>
                  <a:pt x="4465" y="8062"/>
                </a:cubicBezTo>
                <a:cubicBezTo>
                  <a:pt x="4499" y="7994"/>
                  <a:pt x="4534" y="7919"/>
                  <a:pt x="4564" y="7863"/>
                </a:cubicBezTo>
                <a:cubicBezTo>
                  <a:pt x="4583" y="7828"/>
                  <a:pt x="4583" y="7789"/>
                  <a:pt x="4614" y="7764"/>
                </a:cubicBezTo>
                <a:cubicBezTo>
                  <a:pt x="4633" y="7748"/>
                  <a:pt x="4637" y="7748"/>
                  <a:pt x="4663" y="7739"/>
                </a:cubicBezTo>
                <a:cubicBezTo>
                  <a:pt x="4663" y="7836"/>
                  <a:pt x="4667" y="7920"/>
                  <a:pt x="4688" y="8012"/>
                </a:cubicBezTo>
                <a:cubicBezTo>
                  <a:pt x="4724" y="8167"/>
                  <a:pt x="4688" y="8372"/>
                  <a:pt x="4688" y="8533"/>
                </a:cubicBezTo>
              </a:path>
              <a:path w="1836" h="1042">
                <a:moveTo>
                  <a:pt x="4440" y="8186"/>
                </a:moveTo>
                <a:cubicBezTo>
                  <a:pt x="4514" y="8186"/>
                  <a:pt x="4589" y="8186"/>
                  <a:pt x="4663" y="8186"/>
                </a:cubicBezTo>
                <a:cubicBezTo>
                  <a:pt x="4677" y="8207"/>
                  <a:pt x="4722" y="8230"/>
                  <a:pt x="4762" y="8235"/>
                </a:cubicBezTo>
                <a:cubicBezTo>
                  <a:pt x="4770" y="8235"/>
                  <a:pt x="4779" y="8235"/>
                  <a:pt x="4787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26"/>
          <p:cNvSpPr/>
          <p:nvPr/>
        </p:nvSpPr>
        <p:spPr>
          <a:xfrm>
            <a:off x="1938240" y="2874960"/>
            <a:ext cx="455760" cy="169920"/>
          </a:xfrm>
          <a:custGeom>
            <a:avLst/>
            <a:gdLst/>
            <a:ahLst/>
            <a:rect l="l" t="t" r="r" b="b"/>
            <a:pathLst>
              <a:path w="1266" h="472">
                <a:moveTo>
                  <a:pt x="5705" y="8235"/>
                </a:moveTo>
                <a:cubicBezTo>
                  <a:pt x="5620" y="8235"/>
                  <a:pt x="5560" y="8240"/>
                  <a:pt x="5482" y="8260"/>
                </a:cubicBezTo>
                <a:cubicBezTo>
                  <a:pt x="5450" y="8268"/>
                  <a:pt x="5399" y="8298"/>
                  <a:pt x="5383" y="8334"/>
                </a:cubicBezTo>
                <a:cubicBezTo>
                  <a:pt x="5376" y="8350"/>
                  <a:pt x="5383" y="8391"/>
                  <a:pt x="5383" y="8409"/>
                </a:cubicBezTo>
                <a:cubicBezTo>
                  <a:pt x="5459" y="8409"/>
                  <a:pt x="5517" y="8397"/>
                  <a:pt x="5581" y="8384"/>
                </a:cubicBezTo>
                <a:cubicBezTo>
                  <a:pt x="5660" y="8368"/>
                  <a:pt x="5634" y="8340"/>
                  <a:pt x="5680" y="8310"/>
                </a:cubicBezTo>
                <a:cubicBezTo>
                  <a:pt x="5688" y="8310"/>
                  <a:pt x="5697" y="8310"/>
                  <a:pt x="5705" y="8310"/>
                </a:cubicBezTo>
                <a:cubicBezTo>
                  <a:pt x="5667" y="8322"/>
                  <a:pt x="5680" y="8339"/>
                  <a:pt x="5680" y="8384"/>
                </a:cubicBezTo>
                <a:cubicBezTo>
                  <a:pt x="5680" y="8423"/>
                  <a:pt x="5697" y="8409"/>
                  <a:pt x="5730" y="8409"/>
                </a:cubicBezTo>
              </a:path>
              <a:path w="1266" h="472">
                <a:moveTo>
                  <a:pt x="5879" y="8310"/>
                </a:moveTo>
                <a:cubicBezTo>
                  <a:pt x="5879" y="8351"/>
                  <a:pt x="5879" y="8393"/>
                  <a:pt x="5879" y="8434"/>
                </a:cubicBezTo>
                <a:cubicBezTo>
                  <a:pt x="5912" y="8401"/>
                  <a:pt x="5944" y="8367"/>
                  <a:pt x="5978" y="8334"/>
                </a:cubicBezTo>
                <a:cubicBezTo>
                  <a:pt x="5997" y="8315"/>
                  <a:pt x="6046" y="8263"/>
                  <a:pt x="6052" y="8260"/>
                </a:cubicBezTo>
                <a:cubicBezTo>
                  <a:pt x="6060" y="8260"/>
                  <a:pt x="6069" y="8260"/>
                  <a:pt x="6077" y="8260"/>
                </a:cubicBezTo>
                <a:cubicBezTo>
                  <a:pt x="6115" y="8273"/>
                  <a:pt x="6102" y="8289"/>
                  <a:pt x="6102" y="8334"/>
                </a:cubicBezTo>
                <a:cubicBezTo>
                  <a:pt x="6102" y="8375"/>
                  <a:pt x="6102" y="8417"/>
                  <a:pt x="6102" y="8458"/>
                </a:cubicBezTo>
              </a:path>
              <a:path w="1266" h="472">
                <a:moveTo>
                  <a:pt x="6499" y="8285"/>
                </a:moveTo>
                <a:cubicBezTo>
                  <a:pt x="6490" y="8258"/>
                  <a:pt x="6481" y="8239"/>
                  <a:pt x="6449" y="8235"/>
                </a:cubicBezTo>
                <a:cubicBezTo>
                  <a:pt x="6412" y="8230"/>
                  <a:pt x="6364" y="8275"/>
                  <a:pt x="6325" y="8285"/>
                </a:cubicBezTo>
                <a:cubicBezTo>
                  <a:pt x="6273" y="8298"/>
                  <a:pt x="6276" y="8322"/>
                  <a:pt x="6251" y="8359"/>
                </a:cubicBezTo>
                <a:cubicBezTo>
                  <a:pt x="6228" y="8382"/>
                  <a:pt x="6220" y="8386"/>
                  <a:pt x="6226" y="8409"/>
                </a:cubicBezTo>
                <a:cubicBezTo>
                  <a:pt x="6270" y="8442"/>
                  <a:pt x="6292" y="8434"/>
                  <a:pt x="6350" y="8434"/>
                </a:cubicBezTo>
                <a:cubicBezTo>
                  <a:pt x="6379" y="8434"/>
                  <a:pt x="6477" y="8407"/>
                  <a:pt x="6499" y="8384"/>
                </a:cubicBezTo>
                <a:cubicBezTo>
                  <a:pt x="6544" y="8335"/>
                  <a:pt x="6575" y="8267"/>
                  <a:pt x="6598" y="8210"/>
                </a:cubicBezTo>
                <a:cubicBezTo>
                  <a:pt x="6623" y="8149"/>
                  <a:pt x="6643" y="8099"/>
                  <a:pt x="6648" y="8037"/>
                </a:cubicBezTo>
                <a:cubicBezTo>
                  <a:pt x="6648" y="8012"/>
                  <a:pt x="6648" y="8004"/>
                  <a:pt x="6648" y="7987"/>
                </a:cubicBezTo>
                <a:cubicBezTo>
                  <a:pt x="6648" y="8044"/>
                  <a:pt x="6632" y="8083"/>
                  <a:pt x="6623" y="8136"/>
                </a:cubicBezTo>
                <a:cubicBezTo>
                  <a:pt x="6613" y="8199"/>
                  <a:pt x="6603" y="8251"/>
                  <a:pt x="6598" y="8310"/>
                </a:cubicBezTo>
                <a:cubicBezTo>
                  <a:pt x="6594" y="8359"/>
                  <a:pt x="6598" y="8409"/>
                  <a:pt x="6598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27"/>
          <p:cNvSpPr/>
          <p:nvPr/>
        </p:nvSpPr>
        <p:spPr>
          <a:xfrm>
            <a:off x="2589120" y="2813040"/>
            <a:ext cx="366840" cy="357120"/>
          </a:xfrm>
          <a:custGeom>
            <a:avLst/>
            <a:gdLst/>
            <a:ahLst/>
            <a:rect l="l" t="t" r="r" b="b"/>
            <a:pathLst>
              <a:path w="1018" h="994">
                <a:moveTo>
                  <a:pt x="7193" y="8582"/>
                </a:moveTo>
                <a:cubicBezTo>
                  <a:pt x="7259" y="8518"/>
                  <a:pt x="7311" y="8452"/>
                  <a:pt x="7367" y="8384"/>
                </a:cubicBezTo>
                <a:cubicBezTo>
                  <a:pt x="7419" y="8321"/>
                  <a:pt x="7476" y="8282"/>
                  <a:pt x="7516" y="8210"/>
                </a:cubicBezTo>
                <a:cubicBezTo>
                  <a:pt x="7545" y="8159"/>
                  <a:pt x="7573" y="8127"/>
                  <a:pt x="7615" y="8086"/>
                </a:cubicBezTo>
                <a:cubicBezTo>
                  <a:pt x="7636" y="8065"/>
                  <a:pt x="7649" y="7998"/>
                  <a:pt x="7665" y="7987"/>
                </a:cubicBezTo>
                <a:cubicBezTo>
                  <a:pt x="7684" y="7974"/>
                  <a:pt x="7706" y="7949"/>
                  <a:pt x="7739" y="7938"/>
                </a:cubicBezTo>
                <a:cubicBezTo>
                  <a:pt x="7747" y="7938"/>
                  <a:pt x="7756" y="7938"/>
                  <a:pt x="7764" y="7938"/>
                </a:cubicBezTo>
                <a:cubicBezTo>
                  <a:pt x="7764" y="8036"/>
                  <a:pt x="7755" y="8120"/>
                  <a:pt x="7739" y="8210"/>
                </a:cubicBezTo>
                <a:cubicBezTo>
                  <a:pt x="7725" y="8287"/>
                  <a:pt x="7712" y="8333"/>
                  <a:pt x="7689" y="8409"/>
                </a:cubicBezTo>
                <a:cubicBezTo>
                  <a:pt x="7680" y="8438"/>
                  <a:pt x="7689" y="8630"/>
                  <a:pt x="7689" y="8582"/>
                </a:cubicBezTo>
              </a:path>
              <a:path w="1018" h="994">
                <a:moveTo>
                  <a:pt x="7516" y="8384"/>
                </a:moveTo>
                <a:cubicBezTo>
                  <a:pt x="7607" y="8384"/>
                  <a:pt x="7698" y="8384"/>
                  <a:pt x="7789" y="8384"/>
                </a:cubicBezTo>
              </a:path>
              <a:path w="1018" h="994">
                <a:moveTo>
                  <a:pt x="7987" y="7813"/>
                </a:moveTo>
                <a:cubicBezTo>
                  <a:pt x="7987" y="7882"/>
                  <a:pt x="8002" y="7838"/>
                  <a:pt x="8037" y="7888"/>
                </a:cubicBezTo>
                <a:cubicBezTo>
                  <a:pt x="8069" y="7935"/>
                  <a:pt x="8123" y="8006"/>
                  <a:pt x="8136" y="8062"/>
                </a:cubicBezTo>
                <a:cubicBezTo>
                  <a:pt x="8152" y="8135"/>
                  <a:pt x="8160" y="8242"/>
                  <a:pt x="8186" y="8310"/>
                </a:cubicBezTo>
                <a:cubicBezTo>
                  <a:pt x="8211" y="8378"/>
                  <a:pt x="8219" y="8413"/>
                  <a:pt x="8186" y="8483"/>
                </a:cubicBezTo>
                <a:cubicBezTo>
                  <a:pt x="8160" y="8539"/>
                  <a:pt x="8161" y="8614"/>
                  <a:pt x="8111" y="8657"/>
                </a:cubicBezTo>
                <a:cubicBezTo>
                  <a:pt x="8074" y="8689"/>
                  <a:pt x="8035" y="8730"/>
                  <a:pt x="8012" y="8781"/>
                </a:cubicBezTo>
                <a:cubicBezTo>
                  <a:pt x="7986" y="8841"/>
                  <a:pt x="8078" y="8739"/>
                  <a:pt x="8086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28"/>
          <p:cNvSpPr/>
          <p:nvPr/>
        </p:nvSpPr>
        <p:spPr>
          <a:xfrm>
            <a:off x="3143160" y="294624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8756" y="8186"/>
                </a:moveTo>
                <a:cubicBezTo>
                  <a:pt x="8838" y="8186"/>
                  <a:pt x="8908" y="8187"/>
                  <a:pt x="8979" y="8210"/>
                </a:cubicBezTo>
                <a:cubicBezTo>
                  <a:pt x="9007" y="8219"/>
                  <a:pt x="9068" y="8214"/>
                  <a:pt x="9004" y="8235"/>
                </a:cubicBezTo>
              </a:path>
              <a:path w="398" h="224">
                <a:moveTo>
                  <a:pt x="8731" y="8384"/>
                </a:moveTo>
                <a:cubicBezTo>
                  <a:pt x="8731" y="8392"/>
                  <a:pt x="8731" y="8401"/>
                  <a:pt x="8731" y="8409"/>
                </a:cubicBezTo>
                <a:cubicBezTo>
                  <a:pt x="8805" y="8409"/>
                  <a:pt x="9109" y="8441"/>
                  <a:pt x="9128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29"/>
          <p:cNvSpPr/>
          <p:nvPr/>
        </p:nvSpPr>
        <p:spPr>
          <a:xfrm>
            <a:off x="3705120" y="2813040"/>
            <a:ext cx="179640" cy="428760"/>
          </a:xfrm>
          <a:custGeom>
            <a:avLst/>
            <a:gdLst/>
            <a:ahLst/>
            <a:rect l="l" t="t" r="r" b="b"/>
            <a:pathLst>
              <a:path w="497" h="1192">
                <a:moveTo>
                  <a:pt x="10616" y="7838"/>
                </a:moveTo>
                <a:cubicBezTo>
                  <a:pt x="10592" y="7838"/>
                  <a:pt x="10584" y="7838"/>
                  <a:pt x="10592" y="7813"/>
                </a:cubicBezTo>
                <a:cubicBezTo>
                  <a:pt x="10592" y="7932"/>
                  <a:pt x="10602" y="8057"/>
                  <a:pt x="10567" y="8161"/>
                </a:cubicBezTo>
                <a:cubicBezTo>
                  <a:pt x="10561" y="8180"/>
                  <a:pt x="10567" y="8215"/>
                  <a:pt x="10567" y="8235"/>
                </a:cubicBezTo>
              </a:path>
              <a:path w="497" h="1192">
                <a:moveTo>
                  <a:pt x="10294" y="8260"/>
                </a:moveTo>
                <a:cubicBezTo>
                  <a:pt x="10459" y="8260"/>
                  <a:pt x="10625" y="8260"/>
                  <a:pt x="10790" y="8260"/>
                </a:cubicBezTo>
              </a:path>
              <a:path w="497" h="1192">
                <a:moveTo>
                  <a:pt x="10567" y="8483"/>
                </a:moveTo>
                <a:cubicBezTo>
                  <a:pt x="10556" y="8516"/>
                  <a:pt x="10527" y="8513"/>
                  <a:pt x="10517" y="8533"/>
                </a:cubicBezTo>
                <a:cubicBezTo>
                  <a:pt x="10507" y="8553"/>
                  <a:pt x="10477" y="8647"/>
                  <a:pt x="10468" y="8657"/>
                </a:cubicBezTo>
                <a:cubicBezTo>
                  <a:pt x="10424" y="8705"/>
                  <a:pt x="10381" y="8744"/>
                  <a:pt x="10344" y="8806"/>
                </a:cubicBezTo>
                <a:cubicBezTo>
                  <a:pt x="10324" y="8839"/>
                  <a:pt x="10298" y="8895"/>
                  <a:pt x="10294" y="8930"/>
                </a:cubicBezTo>
                <a:cubicBezTo>
                  <a:pt x="10294" y="8938"/>
                  <a:pt x="10294" y="8946"/>
                  <a:pt x="10294" y="8954"/>
                </a:cubicBezTo>
                <a:cubicBezTo>
                  <a:pt x="10354" y="8954"/>
                  <a:pt x="10387" y="8940"/>
                  <a:pt x="10443" y="8930"/>
                </a:cubicBezTo>
                <a:cubicBezTo>
                  <a:pt x="10510" y="8918"/>
                  <a:pt x="10547" y="8876"/>
                  <a:pt x="10616" y="8855"/>
                </a:cubicBezTo>
                <a:cubicBezTo>
                  <a:pt x="10658" y="8842"/>
                  <a:pt x="10702" y="8843"/>
                  <a:pt x="10740" y="8830"/>
                </a:cubicBezTo>
                <a:cubicBezTo>
                  <a:pt x="10765" y="8830"/>
                  <a:pt x="10773" y="8830"/>
                  <a:pt x="10790" y="8830"/>
                </a:cubicBezTo>
              </a:path>
              <a:path w="497" h="1192">
                <a:moveTo>
                  <a:pt x="10666" y="8657"/>
                </a:moveTo>
                <a:cubicBezTo>
                  <a:pt x="10666" y="8721"/>
                  <a:pt x="10646" y="8768"/>
                  <a:pt x="10641" y="8830"/>
                </a:cubicBezTo>
                <a:cubicBezTo>
                  <a:pt x="10637" y="8887"/>
                  <a:pt x="10641" y="8946"/>
                  <a:pt x="10641" y="9004"/>
                </a:cubicBezTo>
                <a:cubicBezTo>
                  <a:pt x="10671" y="8997"/>
                  <a:pt x="10686" y="8986"/>
                  <a:pt x="10716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30"/>
          <p:cNvSpPr/>
          <p:nvPr/>
        </p:nvSpPr>
        <p:spPr>
          <a:xfrm>
            <a:off x="4062240" y="2946240"/>
            <a:ext cx="144720" cy="12564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1658" y="8186"/>
                </a:moveTo>
                <a:cubicBezTo>
                  <a:pt x="11638" y="8226"/>
                  <a:pt x="11640" y="8242"/>
                  <a:pt x="11609" y="8235"/>
                </a:cubicBezTo>
                <a:cubicBezTo>
                  <a:pt x="11602" y="8263"/>
                  <a:pt x="11570" y="8324"/>
                  <a:pt x="11534" y="8334"/>
                </a:cubicBezTo>
                <a:cubicBezTo>
                  <a:pt x="11470" y="8352"/>
                  <a:pt x="11466" y="8377"/>
                  <a:pt x="11410" y="8409"/>
                </a:cubicBezTo>
                <a:cubicBezTo>
                  <a:pt x="11365" y="8435"/>
                  <a:pt x="11349" y="8457"/>
                  <a:pt x="11311" y="8483"/>
                </a:cubicBezTo>
                <a:cubicBezTo>
                  <a:pt x="11288" y="8506"/>
                  <a:pt x="11280" y="8510"/>
                  <a:pt x="11286" y="8533"/>
                </a:cubicBezTo>
              </a:path>
              <a:path w="398" h="348">
                <a:moveTo>
                  <a:pt x="11435" y="8210"/>
                </a:moveTo>
                <a:cubicBezTo>
                  <a:pt x="11446" y="8267"/>
                  <a:pt x="11468" y="8293"/>
                  <a:pt x="11509" y="8334"/>
                </a:cubicBezTo>
                <a:cubicBezTo>
                  <a:pt x="11532" y="8357"/>
                  <a:pt x="11540" y="8361"/>
                  <a:pt x="11534" y="8384"/>
                </a:cubicBezTo>
                <a:cubicBezTo>
                  <a:pt x="11574" y="8394"/>
                  <a:pt x="11593" y="8424"/>
                  <a:pt x="11633" y="8434"/>
                </a:cubicBezTo>
                <a:cubicBezTo>
                  <a:pt x="11633" y="8487"/>
                  <a:pt x="11645" y="8495"/>
                  <a:pt x="11683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31"/>
          <p:cNvSpPr/>
          <p:nvPr/>
        </p:nvSpPr>
        <p:spPr>
          <a:xfrm>
            <a:off x="4402080" y="2813040"/>
            <a:ext cx="189000" cy="419040"/>
          </a:xfrm>
          <a:custGeom>
            <a:avLst/>
            <a:gdLst/>
            <a:ahLst/>
            <a:rect l="l" t="t" r="r" b="b"/>
            <a:pathLst>
              <a:path w="522" h="1167">
                <a:moveTo>
                  <a:pt x="12526" y="7813"/>
                </a:moveTo>
                <a:cubicBezTo>
                  <a:pt x="12526" y="7821"/>
                  <a:pt x="12526" y="7830"/>
                  <a:pt x="12526" y="7838"/>
                </a:cubicBezTo>
                <a:cubicBezTo>
                  <a:pt x="12487" y="7852"/>
                  <a:pt x="12502" y="7888"/>
                  <a:pt x="12502" y="7938"/>
                </a:cubicBezTo>
                <a:cubicBezTo>
                  <a:pt x="12502" y="8013"/>
                  <a:pt x="12490" y="8074"/>
                  <a:pt x="12477" y="8136"/>
                </a:cubicBezTo>
                <a:cubicBezTo>
                  <a:pt x="12477" y="8186"/>
                  <a:pt x="12477" y="8202"/>
                  <a:pt x="12477" y="8235"/>
                </a:cubicBezTo>
              </a:path>
              <a:path w="522" h="1167">
                <a:moveTo>
                  <a:pt x="12229" y="8310"/>
                </a:moveTo>
                <a:cubicBezTo>
                  <a:pt x="12303" y="8310"/>
                  <a:pt x="12355" y="8296"/>
                  <a:pt x="12427" y="8285"/>
                </a:cubicBezTo>
                <a:cubicBezTo>
                  <a:pt x="12490" y="8276"/>
                  <a:pt x="12562" y="8285"/>
                  <a:pt x="12626" y="8285"/>
                </a:cubicBezTo>
              </a:path>
              <a:path w="522" h="1167">
                <a:moveTo>
                  <a:pt x="12452" y="8483"/>
                </a:moveTo>
                <a:cubicBezTo>
                  <a:pt x="12452" y="8556"/>
                  <a:pt x="12430" y="8503"/>
                  <a:pt x="12402" y="8558"/>
                </a:cubicBezTo>
                <a:cubicBezTo>
                  <a:pt x="12383" y="8596"/>
                  <a:pt x="12342" y="8642"/>
                  <a:pt x="12328" y="8682"/>
                </a:cubicBezTo>
                <a:cubicBezTo>
                  <a:pt x="12315" y="8719"/>
                  <a:pt x="12303" y="8738"/>
                  <a:pt x="12303" y="8781"/>
                </a:cubicBezTo>
                <a:cubicBezTo>
                  <a:pt x="12303" y="8789"/>
                  <a:pt x="12303" y="8798"/>
                  <a:pt x="12303" y="8806"/>
                </a:cubicBezTo>
                <a:cubicBezTo>
                  <a:pt x="12365" y="8806"/>
                  <a:pt x="12393" y="8796"/>
                  <a:pt x="12452" y="8781"/>
                </a:cubicBezTo>
                <a:cubicBezTo>
                  <a:pt x="12504" y="8768"/>
                  <a:pt x="12548" y="8747"/>
                  <a:pt x="12601" y="8731"/>
                </a:cubicBezTo>
                <a:cubicBezTo>
                  <a:pt x="12645" y="8717"/>
                  <a:pt x="12671" y="8706"/>
                  <a:pt x="12725" y="8706"/>
                </a:cubicBezTo>
                <a:cubicBezTo>
                  <a:pt x="12750" y="8706"/>
                  <a:pt x="12758" y="8706"/>
                  <a:pt x="12725" y="8706"/>
                </a:cubicBezTo>
              </a:path>
              <a:path w="522" h="1167">
                <a:moveTo>
                  <a:pt x="12601" y="8582"/>
                </a:moveTo>
                <a:cubicBezTo>
                  <a:pt x="12589" y="8617"/>
                  <a:pt x="12555" y="8606"/>
                  <a:pt x="12551" y="8657"/>
                </a:cubicBezTo>
                <a:cubicBezTo>
                  <a:pt x="12546" y="8730"/>
                  <a:pt x="12539" y="8795"/>
                  <a:pt x="12526" y="8855"/>
                </a:cubicBezTo>
                <a:cubicBezTo>
                  <a:pt x="12519" y="8887"/>
                  <a:pt x="12516" y="8961"/>
                  <a:pt x="12551" y="8979"/>
                </a:cubicBezTo>
                <a:cubicBezTo>
                  <a:pt x="12582" y="8994"/>
                  <a:pt x="12628" y="8964"/>
                  <a:pt x="12650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32"/>
          <p:cNvSpPr/>
          <p:nvPr/>
        </p:nvSpPr>
        <p:spPr>
          <a:xfrm>
            <a:off x="4813200" y="2982960"/>
            <a:ext cx="179640" cy="98280"/>
          </a:xfrm>
          <a:custGeom>
            <a:avLst/>
            <a:gdLst/>
            <a:ahLst/>
            <a:rect l="l" t="t" r="r" b="b"/>
            <a:pathLst>
              <a:path w="497" h="274">
                <a:moveTo>
                  <a:pt x="13419" y="8310"/>
                </a:moveTo>
                <a:cubicBezTo>
                  <a:pt x="13474" y="8310"/>
                  <a:pt x="13526" y="8293"/>
                  <a:pt x="13568" y="8285"/>
                </a:cubicBezTo>
                <a:cubicBezTo>
                  <a:pt x="13630" y="8273"/>
                  <a:pt x="13704" y="8285"/>
                  <a:pt x="13767" y="8285"/>
                </a:cubicBezTo>
              </a:path>
              <a:path w="497" h="274">
                <a:moveTo>
                  <a:pt x="13370" y="8533"/>
                </a:moveTo>
                <a:cubicBezTo>
                  <a:pt x="13420" y="8533"/>
                  <a:pt x="13428" y="8544"/>
                  <a:pt x="13469" y="8558"/>
                </a:cubicBezTo>
                <a:cubicBezTo>
                  <a:pt x="13557" y="8587"/>
                  <a:pt x="13685" y="8554"/>
                  <a:pt x="13767" y="8533"/>
                </a:cubicBezTo>
                <a:cubicBezTo>
                  <a:pt x="13809" y="8522"/>
                  <a:pt x="13832" y="8510"/>
                  <a:pt x="13866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33"/>
          <p:cNvSpPr/>
          <p:nvPr/>
        </p:nvSpPr>
        <p:spPr>
          <a:xfrm>
            <a:off x="5402160" y="2786040"/>
            <a:ext cx="366840" cy="455760"/>
          </a:xfrm>
          <a:custGeom>
            <a:avLst/>
            <a:gdLst/>
            <a:ahLst/>
            <a:rect l="l" t="t" r="r" b="b"/>
            <a:pathLst>
              <a:path w="1018" h="1266">
                <a:moveTo>
                  <a:pt x="15528" y="7764"/>
                </a:moveTo>
                <a:cubicBezTo>
                  <a:pt x="15528" y="7756"/>
                  <a:pt x="15528" y="7747"/>
                  <a:pt x="15528" y="7739"/>
                </a:cubicBezTo>
                <a:cubicBezTo>
                  <a:pt x="15518" y="7778"/>
                  <a:pt x="15503" y="7794"/>
                  <a:pt x="15503" y="7838"/>
                </a:cubicBezTo>
                <a:cubicBezTo>
                  <a:pt x="15503" y="7954"/>
                  <a:pt x="15503" y="8070"/>
                  <a:pt x="15503" y="8186"/>
                </a:cubicBezTo>
                <a:cubicBezTo>
                  <a:pt x="15478" y="8186"/>
                  <a:pt x="15470" y="8186"/>
                  <a:pt x="15478" y="8210"/>
                </a:cubicBezTo>
              </a:path>
              <a:path w="1018" h="1266">
                <a:moveTo>
                  <a:pt x="15007" y="8235"/>
                </a:moveTo>
                <a:cubicBezTo>
                  <a:pt x="15127" y="8235"/>
                  <a:pt x="15238" y="8247"/>
                  <a:pt x="15354" y="8260"/>
                </a:cubicBezTo>
                <a:cubicBezTo>
                  <a:pt x="15561" y="8283"/>
                  <a:pt x="15774" y="8238"/>
                  <a:pt x="15974" y="8285"/>
                </a:cubicBezTo>
                <a:cubicBezTo>
                  <a:pt x="16023" y="8296"/>
                  <a:pt x="16034" y="8285"/>
                  <a:pt x="15974" y="8285"/>
                </a:cubicBezTo>
              </a:path>
              <a:path w="1018" h="1266">
                <a:moveTo>
                  <a:pt x="15280" y="8458"/>
                </a:moveTo>
                <a:cubicBezTo>
                  <a:pt x="15261" y="8514"/>
                  <a:pt x="15269" y="8449"/>
                  <a:pt x="15255" y="8533"/>
                </a:cubicBezTo>
                <a:cubicBezTo>
                  <a:pt x="15237" y="8497"/>
                  <a:pt x="15225" y="8547"/>
                  <a:pt x="15205" y="8582"/>
                </a:cubicBezTo>
                <a:cubicBezTo>
                  <a:pt x="15178" y="8629"/>
                  <a:pt x="15147" y="8704"/>
                  <a:pt x="15131" y="8756"/>
                </a:cubicBezTo>
                <a:cubicBezTo>
                  <a:pt x="15125" y="8776"/>
                  <a:pt x="15115" y="8871"/>
                  <a:pt x="15106" y="8880"/>
                </a:cubicBezTo>
                <a:cubicBezTo>
                  <a:pt x="15081" y="8880"/>
                  <a:pt x="15073" y="8880"/>
                  <a:pt x="15081" y="8905"/>
                </a:cubicBezTo>
                <a:cubicBezTo>
                  <a:pt x="15088" y="8912"/>
                  <a:pt x="15122" y="8880"/>
                  <a:pt x="15180" y="8855"/>
                </a:cubicBezTo>
              </a:path>
              <a:path w="1018" h="1266">
                <a:moveTo>
                  <a:pt x="15726" y="8483"/>
                </a:moveTo>
                <a:cubicBezTo>
                  <a:pt x="15726" y="8511"/>
                  <a:pt x="15724" y="8522"/>
                  <a:pt x="15701" y="8533"/>
                </a:cubicBezTo>
                <a:cubicBezTo>
                  <a:pt x="15684" y="8426"/>
                  <a:pt x="15697" y="8511"/>
                  <a:pt x="15652" y="8533"/>
                </a:cubicBezTo>
                <a:cubicBezTo>
                  <a:pt x="15644" y="8537"/>
                  <a:pt x="15583" y="8573"/>
                  <a:pt x="15577" y="8582"/>
                </a:cubicBezTo>
                <a:cubicBezTo>
                  <a:pt x="15562" y="8604"/>
                  <a:pt x="15531" y="8677"/>
                  <a:pt x="15528" y="8706"/>
                </a:cubicBezTo>
                <a:cubicBezTo>
                  <a:pt x="15523" y="8751"/>
                  <a:pt x="15503" y="8776"/>
                  <a:pt x="15503" y="8830"/>
                </a:cubicBezTo>
                <a:cubicBezTo>
                  <a:pt x="15503" y="8887"/>
                  <a:pt x="15513" y="8908"/>
                  <a:pt x="15528" y="8954"/>
                </a:cubicBezTo>
                <a:cubicBezTo>
                  <a:pt x="15535" y="8976"/>
                  <a:pt x="15579" y="9002"/>
                  <a:pt x="15602" y="9004"/>
                </a:cubicBezTo>
                <a:cubicBezTo>
                  <a:pt x="15670" y="9009"/>
                  <a:pt x="15697" y="8997"/>
                  <a:pt x="15751" y="8979"/>
                </a:cubicBezTo>
                <a:cubicBezTo>
                  <a:pt x="15787" y="8967"/>
                  <a:pt x="15812" y="8945"/>
                  <a:pt x="15825" y="8905"/>
                </a:cubicBezTo>
                <a:cubicBezTo>
                  <a:pt x="15842" y="8854"/>
                  <a:pt x="15825" y="8774"/>
                  <a:pt x="15801" y="8756"/>
                </a:cubicBezTo>
                <a:cubicBezTo>
                  <a:pt x="15757" y="8723"/>
                  <a:pt x="15758" y="8706"/>
                  <a:pt x="15701" y="8706"/>
                </a:cubicBezTo>
                <a:cubicBezTo>
                  <a:pt x="15649" y="8706"/>
                  <a:pt x="15619" y="8718"/>
                  <a:pt x="15577" y="8731"/>
                </a:cubicBezTo>
                <a:cubicBezTo>
                  <a:pt x="15540" y="8742"/>
                  <a:pt x="15501" y="8709"/>
                  <a:pt x="15478" y="8756"/>
                </a:cubicBezTo>
                <a:cubicBezTo>
                  <a:pt x="15461" y="8791"/>
                  <a:pt x="15438" y="8802"/>
                  <a:pt x="15429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34"/>
          <p:cNvSpPr/>
          <p:nvPr/>
        </p:nvSpPr>
        <p:spPr>
          <a:xfrm>
            <a:off x="4249800" y="3643200"/>
            <a:ext cx="179280" cy="349200"/>
          </a:xfrm>
          <a:custGeom>
            <a:avLst/>
            <a:gdLst/>
            <a:ahLst/>
            <a:rect l="l" t="t" r="r" b="b"/>
            <a:pathLst>
              <a:path w="497" h="969">
                <a:moveTo>
                  <a:pt x="12129" y="10120"/>
                </a:moveTo>
                <a:cubicBezTo>
                  <a:pt x="12129" y="10128"/>
                  <a:pt x="12129" y="10137"/>
                  <a:pt x="12129" y="10145"/>
                </a:cubicBezTo>
                <a:cubicBezTo>
                  <a:pt x="12129" y="10078"/>
                  <a:pt x="12129" y="10162"/>
                  <a:pt x="12129" y="10170"/>
                </a:cubicBezTo>
                <a:cubicBezTo>
                  <a:pt x="12077" y="10188"/>
                  <a:pt x="12129" y="10202"/>
                  <a:pt x="12105" y="10244"/>
                </a:cubicBezTo>
                <a:cubicBezTo>
                  <a:pt x="12087" y="10277"/>
                  <a:pt x="12096" y="10316"/>
                  <a:pt x="12080" y="10344"/>
                </a:cubicBezTo>
                <a:cubicBezTo>
                  <a:pt x="12057" y="10385"/>
                  <a:pt x="12055" y="10392"/>
                  <a:pt x="12055" y="10443"/>
                </a:cubicBezTo>
              </a:path>
              <a:path w="497" h="969">
                <a:moveTo>
                  <a:pt x="11807" y="10492"/>
                </a:moveTo>
                <a:cubicBezTo>
                  <a:pt x="11852" y="10492"/>
                  <a:pt x="11866" y="10472"/>
                  <a:pt x="11906" y="10468"/>
                </a:cubicBezTo>
                <a:cubicBezTo>
                  <a:pt x="11959" y="10462"/>
                  <a:pt x="11980" y="10480"/>
                  <a:pt x="12030" y="10492"/>
                </a:cubicBezTo>
                <a:cubicBezTo>
                  <a:pt x="12066" y="10501"/>
                  <a:pt x="12116" y="10492"/>
                  <a:pt x="12154" y="10492"/>
                </a:cubicBezTo>
                <a:cubicBezTo>
                  <a:pt x="12167" y="10532"/>
                  <a:pt x="12166" y="10502"/>
                  <a:pt x="12179" y="10542"/>
                </a:cubicBezTo>
              </a:path>
              <a:path w="497" h="969">
                <a:moveTo>
                  <a:pt x="11881" y="10740"/>
                </a:moveTo>
                <a:cubicBezTo>
                  <a:pt x="11891" y="10712"/>
                  <a:pt x="11916" y="10695"/>
                  <a:pt x="11956" y="10691"/>
                </a:cubicBezTo>
                <a:cubicBezTo>
                  <a:pt x="12008" y="10685"/>
                  <a:pt x="12011" y="10706"/>
                  <a:pt x="12030" y="10716"/>
                </a:cubicBezTo>
                <a:cubicBezTo>
                  <a:pt x="12052" y="10727"/>
                  <a:pt x="12112" y="10707"/>
                  <a:pt x="12080" y="10765"/>
                </a:cubicBezTo>
                <a:cubicBezTo>
                  <a:pt x="12059" y="10803"/>
                  <a:pt x="11961" y="10915"/>
                  <a:pt x="11931" y="10939"/>
                </a:cubicBezTo>
                <a:cubicBezTo>
                  <a:pt x="11897" y="10965"/>
                  <a:pt x="11882" y="10976"/>
                  <a:pt x="11857" y="11013"/>
                </a:cubicBezTo>
                <a:cubicBezTo>
                  <a:pt x="11825" y="11061"/>
                  <a:pt x="11822" y="11017"/>
                  <a:pt x="11807" y="11063"/>
                </a:cubicBezTo>
                <a:cubicBezTo>
                  <a:pt x="11820" y="11103"/>
                  <a:pt x="11855" y="11088"/>
                  <a:pt x="11906" y="11088"/>
                </a:cubicBezTo>
                <a:cubicBezTo>
                  <a:pt x="11971" y="11088"/>
                  <a:pt x="11995" y="11078"/>
                  <a:pt x="12055" y="11063"/>
                </a:cubicBezTo>
                <a:cubicBezTo>
                  <a:pt x="12101" y="11051"/>
                  <a:pt x="12139" y="11051"/>
                  <a:pt x="12179" y="11038"/>
                </a:cubicBezTo>
                <a:cubicBezTo>
                  <a:pt x="12212" y="11027"/>
                  <a:pt x="12268" y="11038"/>
                  <a:pt x="12303" y="1103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35"/>
          <p:cNvSpPr/>
          <p:nvPr/>
        </p:nvSpPr>
        <p:spPr>
          <a:xfrm>
            <a:off x="4670280" y="3741840"/>
            <a:ext cx="152640" cy="160200"/>
          </a:xfrm>
          <a:custGeom>
            <a:avLst/>
            <a:gdLst/>
            <a:ahLst/>
            <a:rect l="l" t="t" r="r" b="b"/>
            <a:pathLst>
              <a:path w="423" h="448">
                <a:moveTo>
                  <a:pt x="12973" y="10616"/>
                </a:moveTo>
                <a:cubicBezTo>
                  <a:pt x="13052" y="10616"/>
                  <a:pt x="13347" y="10569"/>
                  <a:pt x="13395" y="10592"/>
                </a:cubicBezTo>
                <a:cubicBezTo>
                  <a:pt x="13395" y="10600"/>
                  <a:pt x="13395" y="10608"/>
                  <a:pt x="13395" y="10616"/>
                </a:cubicBezTo>
              </a:path>
              <a:path w="423" h="448">
                <a:moveTo>
                  <a:pt x="13246" y="10393"/>
                </a:moveTo>
                <a:cubicBezTo>
                  <a:pt x="13235" y="10449"/>
                  <a:pt x="13221" y="10483"/>
                  <a:pt x="13221" y="10542"/>
                </a:cubicBezTo>
                <a:cubicBezTo>
                  <a:pt x="13221" y="10597"/>
                  <a:pt x="13209" y="10612"/>
                  <a:pt x="13196" y="10666"/>
                </a:cubicBezTo>
                <a:cubicBezTo>
                  <a:pt x="13183" y="10717"/>
                  <a:pt x="13196" y="10788"/>
                  <a:pt x="13196" y="10840"/>
                </a:cubicBezTo>
                <a:cubicBezTo>
                  <a:pt x="13221" y="10840"/>
                  <a:pt x="13229" y="10840"/>
                  <a:pt x="13246" y="108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36"/>
          <p:cNvSpPr/>
          <p:nvPr/>
        </p:nvSpPr>
        <p:spPr>
          <a:xfrm>
            <a:off x="5099040" y="3687840"/>
            <a:ext cx="152280" cy="330120"/>
          </a:xfrm>
          <a:custGeom>
            <a:avLst/>
            <a:gdLst/>
            <a:ahLst/>
            <a:rect l="l" t="t" r="r" b="b"/>
            <a:pathLst>
              <a:path w="423" h="919">
                <a:moveTo>
                  <a:pt x="14486" y="10244"/>
                </a:moveTo>
                <a:cubicBezTo>
                  <a:pt x="14478" y="10244"/>
                  <a:pt x="14469" y="10244"/>
                  <a:pt x="14461" y="10244"/>
                </a:cubicBezTo>
                <a:cubicBezTo>
                  <a:pt x="14448" y="10282"/>
                  <a:pt x="14436" y="10265"/>
                  <a:pt x="14436" y="10319"/>
                </a:cubicBezTo>
                <a:cubicBezTo>
                  <a:pt x="14436" y="10369"/>
                  <a:pt x="14436" y="10418"/>
                  <a:pt x="14436" y="10468"/>
                </a:cubicBezTo>
              </a:path>
              <a:path w="423" h="919">
                <a:moveTo>
                  <a:pt x="14163" y="10517"/>
                </a:moveTo>
                <a:cubicBezTo>
                  <a:pt x="14211" y="10517"/>
                  <a:pt x="14242" y="10497"/>
                  <a:pt x="14288" y="10492"/>
                </a:cubicBezTo>
                <a:cubicBezTo>
                  <a:pt x="14383" y="10482"/>
                  <a:pt x="14458" y="10477"/>
                  <a:pt x="14511" y="10542"/>
                </a:cubicBezTo>
                <a:cubicBezTo>
                  <a:pt x="14546" y="10585"/>
                  <a:pt x="14546" y="10548"/>
                  <a:pt x="14560" y="10592"/>
                </a:cubicBezTo>
              </a:path>
              <a:path w="423" h="919">
                <a:moveTo>
                  <a:pt x="14362" y="10740"/>
                </a:moveTo>
                <a:cubicBezTo>
                  <a:pt x="14326" y="10752"/>
                  <a:pt x="14329" y="10776"/>
                  <a:pt x="14312" y="10815"/>
                </a:cubicBezTo>
                <a:cubicBezTo>
                  <a:pt x="14295" y="10856"/>
                  <a:pt x="14267" y="10899"/>
                  <a:pt x="14263" y="10939"/>
                </a:cubicBezTo>
                <a:cubicBezTo>
                  <a:pt x="14258" y="10980"/>
                  <a:pt x="14238" y="10992"/>
                  <a:pt x="14238" y="11038"/>
                </a:cubicBezTo>
                <a:cubicBezTo>
                  <a:pt x="14380" y="11038"/>
                  <a:pt x="14408" y="11041"/>
                  <a:pt x="14511" y="10964"/>
                </a:cubicBezTo>
                <a:cubicBezTo>
                  <a:pt x="14538" y="10944"/>
                  <a:pt x="14570" y="10909"/>
                  <a:pt x="14585" y="10939"/>
                </a:cubicBezTo>
                <a:cubicBezTo>
                  <a:pt x="14585" y="10947"/>
                  <a:pt x="14585" y="10956"/>
                  <a:pt x="14585" y="10964"/>
                </a:cubicBezTo>
              </a:path>
              <a:path w="423" h="919">
                <a:moveTo>
                  <a:pt x="14461" y="10815"/>
                </a:moveTo>
                <a:cubicBezTo>
                  <a:pt x="14461" y="10880"/>
                  <a:pt x="14451" y="10905"/>
                  <a:pt x="14436" y="10964"/>
                </a:cubicBezTo>
                <a:cubicBezTo>
                  <a:pt x="14427" y="11000"/>
                  <a:pt x="14436" y="11051"/>
                  <a:pt x="14436" y="11088"/>
                </a:cubicBezTo>
                <a:cubicBezTo>
                  <a:pt x="14423" y="11092"/>
                  <a:pt x="14384" y="11138"/>
                  <a:pt x="14412" y="11162"/>
                </a:cubicBezTo>
                <a:cubicBezTo>
                  <a:pt x="14420" y="11162"/>
                  <a:pt x="14428" y="11162"/>
                  <a:pt x="14436" y="1116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37"/>
          <p:cNvSpPr/>
          <p:nvPr/>
        </p:nvSpPr>
        <p:spPr>
          <a:xfrm>
            <a:off x="5491080" y="3768840"/>
            <a:ext cx="144720" cy="11592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15478" y="10567"/>
                </a:moveTo>
                <a:cubicBezTo>
                  <a:pt x="15509" y="10544"/>
                  <a:pt x="15539" y="10521"/>
                  <a:pt x="15577" y="10517"/>
                </a:cubicBezTo>
                <a:cubicBezTo>
                  <a:pt x="15602" y="10517"/>
                  <a:pt x="15610" y="10517"/>
                  <a:pt x="15627" y="10517"/>
                </a:cubicBezTo>
                <a:cubicBezTo>
                  <a:pt x="15618" y="10554"/>
                  <a:pt x="15606" y="10563"/>
                  <a:pt x="15577" y="10592"/>
                </a:cubicBezTo>
              </a:path>
              <a:path w="398" h="323">
                <a:moveTo>
                  <a:pt x="15255" y="10790"/>
                </a:moveTo>
                <a:cubicBezTo>
                  <a:pt x="15338" y="10790"/>
                  <a:pt x="15420" y="10790"/>
                  <a:pt x="15503" y="10790"/>
                </a:cubicBezTo>
                <a:cubicBezTo>
                  <a:pt x="15523" y="10759"/>
                  <a:pt x="15528" y="10765"/>
                  <a:pt x="15577" y="10765"/>
                </a:cubicBezTo>
              </a:path>
              <a:path w="398" h="323">
                <a:moveTo>
                  <a:pt x="15280" y="10468"/>
                </a:moveTo>
                <a:cubicBezTo>
                  <a:pt x="15280" y="10484"/>
                  <a:pt x="15280" y="10501"/>
                  <a:pt x="15280" y="10517"/>
                </a:cubicBezTo>
                <a:cubicBezTo>
                  <a:pt x="15325" y="10517"/>
                  <a:pt x="15339" y="10538"/>
                  <a:pt x="15379" y="10542"/>
                </a:cubicBezTo>
                <a:cubicBezTo>
                  <a:pt x="15440" y="10549"/>
                  <a:pt x="15476" y="10550"/>
                  <a:pt x="15528" y="10567"/>
                </a:cubicBezTo>
                <a:cubicBezTo>
                  <a:pt x="15553" y="10567"/>
                  <a:pt x="15561" y="10567"/>
                  <a:pt x="15577" y="10567"/>
                </a:cubicBezTo>
                <a:cubicBezTo>
                  <a:pt x="15591" y="10610"/>
                  <a:pt x="15598" y="10607"/>
                  <a:pt x="15652" y="1061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38"/>
          <p:cNvSpPr/>
          <p:nvPr/>
        </p:nvSpPr>
        <p:spPr>
          <a:xfrm>
            <a:off x="5956200" y="3606840"/>
            <a:ext cx="384120" cy="536400"/>
          </a:xfrm>
          <a:custGeom>
            <a:avLst/>
            <a:gdLst/>
            <a:ahLst/>
            <a:rect l="l" t="t" r="r" b="b"/>
            <a:pathLst>
              <a:path w="1067" h="1489">
                <a:moveTo>
                  <a:pt x="16991" y="10120"/>
                </a:moveTo>
                <a:cubicBezTo>
                  <a:pt x="17030" y="10101"/>
                  <a:pt x="17038" y="10052"/>
                  <a:pt x="17090" y="10046"/>
                </a:cubicBezTo>
                <a:cubicBezTo>
                  <a:pt x="17151" y="10039"/>
                  <a:pt x="17187" y="10038"/>
                  <a:pt x="17239" y="10021"/>
                </a:cubicBezTo>
                <a:cubicBezTo>
                  <a:pt x="17258" y="10015"/>
                  <a:pt x="17294" y="10021"/>
                  <a:pt x="17314" y="10021"/>
                </a:cubicBezTo>
                <a:cubicBezTo>
                  <a:pt x="17314" y="10058"/>
                  <a:pt x="17330" y="10125"/>
                  <a:pt x="17289" y="10145"/>
                </a:cubicBezTo>
                <a:cubicBezTo>
                  <a:pt x="17278" y="10150"/>
                  <a:pt x="17194" y="10165"/>
                  <a:pt x="17190" y="10170"/>
                </a:cubicBezTo>
                <a:cubicBezTo>
                  <a:pt x="17170" y="10195"/>
                  <a:pt x="17161" y="10208"/>
                  <a:pt x="17115" y="10220"/>
                </a:cubicBezTo>
                <a:cubicBezTo>
                  <a:pt x="17127" y="10255"/>
                  <a:pt x="17173" y="10244"/>
                  <a:pt x="17190" y="10269"/>
                </a:cubicBezTo>
                <a:cubicBezTo>
                  <a:pt x="17205" y="10292"/>
                  <a:pt x="17234" y="10304"/>
                  <a:pt x="17239" y="10344"/>
                </a:cubicBezTo>
                <a:cubicBezTo>
                  <a:pt x="17245" y="10397"/>
                  <a:pt x="17242" y="10422"/>
                  <a:pt x="17214" y="10443"/>
                </a:cubicBezTo>
                <a:cubicBezTo>
                  <a:pt x="17169" y="10477"/>
                  <a:pt x="17140" y="10488"/>
                  <a:pt x="17090" y="10492"/>
                </a:cubicBezTo>
                <a:cubicBezTo>
                  <a:pt x="17054" y="10495"/>
                  <a:pt x="16879" y="10508"/>
                  <a:pt x="16892" y="10468"/>
                </a:cubicBezTo>
                <a:cubicBezTo>
                  <a:pt x="16912" y="10427"/>
                  <a:pt x="16910" y="10411"/>
                  <a:pt x="16942" y="10418"/>
                </a:cubicBezTo>
              </a:path>
              <a:path w="1067" h="1489">
                <a:moveTo>
                  <a:pt x="16545" y="10666"/>
                </a:moveTo>
                <a:cubicBezTo>
                  <a:pt x="16603" y="10666"/>
                  <a:pt x="16648" y="10650"/>
                  <a:pt x="16694" y="10641"/>
                </a:cubicBezTo>
                <a:cubicBezTo>
                  <a:pt x="16801" y="10619"/>
                  <a:pt x="16914" y="10655"/>
                  <a:pt x="17016" y="10666"/>
                </a:cubicBezTo>
                <a:cubicBezTo>
                  <a:pt x="17209" y="10688"/>
                  <a:pt x="17416" y="10666"/>
                  <a:pt x="17611" y="10666"/>
                </a:cubicBezTo>
                <a:cubicBezTo>
                  <a:pt x="17598" y="10706"/>
                  <a:pt x="17593" y="10691"/>
                  <a:pt x="17537" y="10691"/>
                </a:cubicBezTo>
              </a:path>
              <a:path w="1067" h="1489">
                <a:moveTo>
                  <a:pt x="16966" y="10864"/>
                </a:moveTo>
                <a:cubicBezTo>
                  <a:pt x="16952" y="10920"/>
                  <a:pt x="16906" y="10895"/>
                  <a:pt x="16892" y="10939"/>
                </a:cubicBezTo>
                <a:cubicBezTo>
                  <a:pt x="16869" y="11011"/>
                  <a:pt x="16876" y="10999"/>
                  <a:pt x="16818" y="11038"/>
                </a:cubicBezTo>
                <a:cubicBezTo>
                  <a:pt x="16791" y="11056"/>
                  <a:pt x="16757" y="11103"/>
                  <a:pt x="16743" y="11112"/>
                </a:cubicBezTo>
                <a:cubicBezTo>
                  <a:pt x="16718" y="11112"/>
                  <a:pt x="16710" y="11112"/>
                  <a:pt x="16718" y="11137"/>
                </a:cubicBezTo>
                <a:cubicBezTo>
                  <a:pt x="16731" y="11175"/>
                  <a:pt x="16748" y="11162"/>
                  <a:pt x="16793" y="11162"/>
                </a:cubicBezTo>
                <a:cubicBezTo>
                  <a:pt x="16933" y="11162"/>
                  <a:pt x="17074" y="11162"/>
                  <a:pt x="17214" y="11162"/>
                </a:cubicBezTo>
              </a:path>
              <a:path w="1067" h="1489">
                <a:moveTo>
                  <a:pt x="17115" y="10889"/>
                </a:moveTo>
                <a:cubicBezTo>
                  <a:pt x="17092" y="10912"/>
                  <a:pt x="17084" y="10923"/>
                  <a:pt x="17090" y="10889"/>
                </a:cubicBezTo>
                <a:cubicBezTo>
                  <a:pt x="17067" y="10921"/>
                  <a:pt x="17045" y="10975"/>
                  <a:pt x="17041" y="11013"/>
                </a:cubicBezTo>
                <a:cubicBezTo>
                  <a:pt x="17038" y="11037"/>
                  <a:pt x="17041" y="11064"/>
                  <a:pt x="17041" y="11088"/>
                </a:cubicBezTo>
                <a:cubicBezTo>
                  <a:pt x="17007" y="11110"/>
                  <a:pt x="17016" y="11136"/>
                  <a:pt x="17016" y="11187"/>
                </a:cubicBezTo>
                <a:cubicBezTo>
                  <a:pt x="17016" y="11233"/>
                  <a:pt x="16996" y="11245"/>
                  <a:pt x="16991" y="11286"/>
                </a:cubicBezTo>
                <a:cubicBezTo>
                  <a:pt x="16984" y="11347"/>
                  <a:pt x="16983" y="11383"/>
                  <a:pt x="16966" y="11435"/>
                </a:cubicBezTo>
                <a:cubicBezTo>
                  <a:pt x="16960" y="11454"/>
                  <a:pt x="16966" y="11489"/>
                  <a:pt x="16966" y="11509"/>
                </a:cubicBezTo>
                <a:cubicBezTo>
                  <a:pt x="16944" y="11502"/>
                  <a:pt x="16923" y="11470"/>
                  <a:pt x="16942" y="11435"/>
                </a:cubicBezTo>
                <a:cubicBezTo>
                  <a:pt x="16950" y="11427"/>
                  <a:pt x="16958" y="11418"/>
                  <a:pt x="16966" y="11410"/>
                </a:cubicBezTo>
              </a:path>
              <a:path w="1067" h="1489">
                <a:moveTo>
                  <a:pt x="17140" y="10864"/>
                </a:moveTo>
                <a:cubicBezTo>
                  <a:pt x="17140" y="10856"/>
                  <a:pt x="17140" y="10848"/>
                  <a:pt x="17140" y="10840"/>
                </a:cubicBezTo>
                <a:cubicBezTo>
                  <a:pt x="17091" y="10840"/>
                  <a:pt x="17030" y="10824"/>
                  <a:pt x="17016" y="108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39"/>
          <p:cNvSpPr/>
          <p:nvPr/>
        </p:nvSpPr>
        <p:spPr>
          <a:xfrm>
            <a:off x="677880" y="4438800"/>
            <a:ext cx="1073160" cy="312480"/>
          </a:xfrm>
          <a:custGeom>
            <a:avLst/>
            <a:gdLst/>
            <a:ahLst/>
            <a:rect l="l" t="t" r="r" b="b"/>
            <a:pathLst>
              <a:path w="2978" h="869">
                <a:moveTo>
                  <a:pt x="1910" y="12675"/>
                </a:moveTo>
                <a:cubicBezTo>
                  <a:pt x="1870" y="12688"/>
                  <a:pt x="1885" y="12723"/>
                  <a:pt x="1885" y="12774"/>
                </a:cubicBezTo>
                <a:cubicBezTo>
                  <a:pt x="1885" y="12833"/>
                  <a:pt x="1906" y="12868"/>
                  <a:pt x="1910" y="12923"/>
                </a:cubicBezTo>
                <a:cubicBezTo>
                  <a:pt x="1915" y="13000"/>
                  <a:pt x="1906" y="13059"/>
                  <a:pt x="1885" y="13122"/>
                </a:cubicBezTo>
                <a:cubicBezTo>
                  <a:pt x="1885" y="13130"/>
                  <a:pt x="1885" y="13138"/>
                  <a:pt x="1885" y="13146"/>
                </a:cubicBezTo>
                <a:cubicBezTo>
                  <a:pt x="1897" y="13099"/>
                  <a:pt x="1921" y="13072"/>
                  <a:pt x="1935" y="13022"/>
                </a:cubicBezTo>
                <a:cubicBezTo>
                  <a:pt x="1962" y="12925"/>
                  <a:pt x="2006" y="12834"/>
                  <a:pt x="2059" y="12750"/>
                </a:cubicBezTo>
                <a:cubicBezTo>
                  <a:pt x="2111" y="12666"/>
                  <a:pt x="2161" y="12587"/>
                  <a:pt x="2208" y="12502"/>
                </a:cubicBezTo>
                <a:cubicBezTo>
                  <a:pt x="2231" y="12459"/>
                  <a:pt x="2272" y="12447"/>
                  <a:pt x="2282" y="12427"/>
                </a:cubicBezTo>
                <a:cubicBezTo>
                  <a:pt x="2282" y="12419"/>
                  <a:pt x="2282" y="12410"/>
                  <a:pt x="2282" y="12402"/>
                </a:cubicBezTo>
                <a:cubicBezTo>
                  <a:pt x="2305" y="12410"/>
                  <a:pt x="2321" y="12445"/>
                  <a:pt x="2332" y="12477"/>
                </a:cubicBezTo>
                <a:cubicBezTo>
                  <a:pt x="2352" y="12537"/>
                  <a:pt x="2320" y="12597"/>
                  <a:pt x="2307" y="12650"/>
                </a:cubicBezTo>
                <a:cubicBezTo>
                  <a:pt x="2298" y="12686"/>
                  <a:pt x="2280" y="12761"/>
                  <a:pt x="2232" y="12774"/>
                </a:cubicBezTo>
                <a:cubicBezTo>
                  <a:pt x="2186" y="12787"/>
                  <a:pt x="2133" y="12799"/>
                  <a:pt x="2084" y="12799"/>
                </a:cubicBezTo>
                <a:cubicBezTo>
                  <a:pt x="2062" y="12799"/>
                  <a:pt x="1957" y="12811"/>
                  <a:pt x="1984" y="12750"/>
                </a:cubicBezTo>
                <a:cubicBezTo>
                  <a:pt x="2009" y="12725"/>
                  <a:pt x="2017" y="12717"/>
                  <a:pt x="2034" y="12700"/>
                </a:cubicBezTo>
              </a:path>
              <a:path w="2978" h="869">
                <a:moveTo>
                  <a:pt x="2803" y="12328"/>
                </a:moveTo>
                <a:cubicBezTo>
                  <a:pt x="2766" y="12393"/>
                  <a:pt x="2752" y="12435"/>
                  <a:pt x="2729" y="12502"/>
                </a:cubicBezTo>
                <a:cubicBezTo>
                  <a:pt x="2698" y="12595"/>
                  <a:pt x="2697" y="12654"/>
                  <a:pt x="2679" y="12750"/>
                </a:cubicBezTo>
                <a:cubicBezTo>
                  <a:pt x="2661" y="12844"/>
                  <a:pt x="2654" y="12924"/>
                  <a:pt x="2654" y="13022"/>
                </a:cubicBezTo>
                <a:cubicBezTo>
                  <a:pt x="2654" y="13063"/>
                  <a:pt x="2632" y="13172"/>
                  <a:pt x="2679" y="13196"/>
                </a:cubicBezTo>
                <a:cubicBezTo>
                  <a:pt x="2714" y="13214"/>
                  <a:pt x="2755" y="13189"/>
                  <a:pt x="2778" y="13171"/>
                </a:cubicBezTo>
              </a:path>
              <a:path w="2978" h="869">
                <a:moveTo>
                  <a:pt x="3076" y="13022"/>
                </a:moveTo>
                <a:cubicBezTo>
                  <a:pt x="3123" y="13011"/>
                  <a:pt x="3170" y="12967"/>
                  <a:pt x="3200" y="12923"/>
                </a:cubicBezTo>
                <a:cubicBezTo>
                  <a:pt x="3246" y="12854"/>
                  <a:pt x="3300" y="12794"/>
                  <a:pt x="3349" y="12725"/>
                </a:cubicBezTo>
                <a:cubicBezTo>
                  <a:pt x="3381" y="12681"/>
                  <a:pt x="3458" y="12631"/>
                  <a:pt x="3473" y="12576"/>
                </a:cubicBezTo>
                <a:cubicBezTo>
                  <a:pt x="3489" y="12517"/>
                  <a:pt x="3522" y="12521"/>
                  <a:pt x="3547" y="12477"/>
                </a:cubicBezTo>
                <a:cubicBezTo>
                  <a:pt x="3547" y="12452"/>
                  <a:pt x="3547" y="12444"/>
                  <a:pt x="3572" y="12452"/>
                </a:cubicBezTo>
                <a:cubicBezTo>
                  <a:pt x="3605" y="12496"/>
                  <a:pt x="3597" y="12518"/>
                  <a:pt x="3597" y="12576"/>
                </a:cubicBezTo>
                <a:cubicBezTo>
                  <a:pt x="3597" y="12702"/>
                  <a:pt x="3609" y="12838"/>
                  <a:pt x="3572" y="12948"/>
                </a:cubicBezTo>
                <a:cubicBezTo>
                  <a:pt x="3566" y="12967"/>
                  <a:pt x="3572" y="13002"/>
                  <a:pt x="3572" y="13022"/>
                </a:cubicBezTo>
              </a:path>
              <a:path w="2978" h="869">
                <a:moveTo>
                  <a:pt x="3349" y="12799"/>
                </a:moveTo>
                <a:cubicBezTo>
                  <a:pt x="3456" y="12799"/>
                  <a:pt x="3564" y="12799"/>
                  <a:pt x="3671" y="12799"/>
                </a:cubicBezTo>
              </a:path>
              <a:path w="2978" h="869">
                <a:moveTo>
                  <a:pt x="3820" y="12998"/>
                </a:moveTo>
                <a:cubicBezTo>
                  <a:pt x="3820" y="13054"/>
                  <a:pt x="3799" y="13181"/>
                  <a:pt x="3845" y="13196"/>
                </a:cubicBezTo>
              </a:path>
              <a:path w="2978" h="869">
                <a:moveTo>
                  <a:pt x="4093" y="13047"/>
                </a:moveTo>
                <a:cubicBezTo>
                  <a:pt x="4120" y="13102"/>
                  <a:pt x="4113" y="13000"/>
                  <a:pt x="4142" y="12973"/>
                </a:cubicBezTo>
                <a:cubicBezTo>
                  <a:pt x="4194" y="12925"/>
                  <a:pt x="4255" y="12844"/>
                  <a:pt x="4291" y="12774"/>
                </a:cubicBezTo>
                <a:cubicBezTo>
                  <a:pt x="4319" y="12720"/>
                  <a:pt x="4339" y="12616"/>
                  <a:pt x="4390" y="12576"/>
                </a:cubicBezTo>
                <a:cubicBezTo>
                  <a:pt x="4410" y="12560"/>
                  <a:pt x="4416" y="12493"/>
                  <a:pt x="4440" y="12477"/>
                </a:cubicBezTo>
                <a:cubicBezTo>
                  <a:pt x="4448" y="12477"/>
                  <a:pt x="4457" y="12477"/>
                  <a:pt x="4465" y="12477"/>
                </a:cubicBezTo>
                <a:cubicBezTo>
                  <a:pt x="4487" y="12514"/>
                  <a:pt x="4509" y="12558"/>
                  <a:pt x="4514" y="12601"/>
                </a:cubicBezTo>
                <a:cubicBezTo>
                  <a:pt x="4528" y="12735"/>
                  <a:pt x="4525" y="12904"/>
                  <a:pt x="4490" y="13022"/>
                </a:cubicBezTo>
                <a:cubicBezTo>
                  <a:pt x="4482" y="13051"/>
                  <a:pt x="4486" y="13110"/>
                  <a:pt x="4465" y="13047"/>
                </a:cubicBezTo>
              </a:path>
              <a:path w="2978" h="869">
                <a:moveTo>
                  <a:pt x="4242" y="12898"/>
                </a:moveTo>
                <a:cubicBezTo>
                  <a:pt x="4294" y="12888"/>
                  <a:pt x="4334" y="12874"/>
                  <a:pt x="4390" y="12874"/>
                </a:cubicBezTo>
                <a:cubicBezTo>
                  <a:pt x="4449" y="12874"/>
                  <a:pt x="4465" y="12893"/>
                  <a:pt x="4514" y="12898"/>
                </a:cubicBezTo>
                <a:cubicBezTo>
                  <a:pt x="4539" y="12898"/>
                  <a:pt x="4547" y="12898"/>
                  <a:pt x="4564" y="12898"/>
                </a:cubicBezTo>
              </a:path>
              <a:path w="2978" h="869">
                <a:moveTo>
                  <a:pt x="4663" y="12378"/>
                </a:moveTo>
                <a:cubicBezTo>
                  <a:pt x="4732" y="12432"/>
                  <a:pt x="4736" y="12427"/>
                  <a:pt x="4762" y="12502"/>
                </a:cubicBezTo>
                <a:cubicBezTo>
                  <a:pt x="4785" y="12568"/>
                  <a:pt x="4819" y="12607"/>
                  <a:pt x="4837" y="12675"/>
                </a:cubicBezTo>
                <a:cubicBezTo>
                  <a:pt x="4854" y="12740"/>
                  <a:pt x="4884" y="12828"/>
                  <a:pt x="4862" y="12898"/>
                </a:cubicBezTo>
                <a:cubicBezTo>
                  <a:pt x="4841" y="12965"/>
                  <a:pt x="4809" y="13007"/>
                  <a:pt x="4787" y="13072"/>
                </a:cubicBezTo>
                <a:cubicBezTo>
                  <a:pt x="4784" y="13082"/>
                  <a:pt x="4710" y="13134"/>
                  <a:pt x="4713" y="13146"/>
                </a:cubicBezTo>
                <a:cubicBezTo>
                  <a:pt x="4721" y="13146"/>
                  <a:pt x="4730" y="13146"/>
                  <a:pt x="4738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40"/>
          <p:cNvSpPr/>
          <p:nvPr/>
        </p:nvSpPr>
        <p:spPr>
          <a:xfrm>
            <a:off x="2027160" y="4554360"/>
            <a:ext cx="303120" cy="152640"/>
          </a:xfrm>
          <a:custGeom>
            <a:avLst/>
            <a:gdLst/>
            <a:ahLst/>
            <a:rect l="l" t="t" r="r" b="b"/>
            <a:pathLst>
              <a:path w="844" h="423">
                <a:moveTo>
                  <a:pt x="5755" y="12750"/>
                </a:moveTo>
                <a:cubicBezTo>
                  <a:pt x="5683" y="12767"/>
                  <a:pt x="5684" y="12798"/>
                  <a:pt x="5655" y="12849"/>
                </a:cubicBezTo>
                <a:cubicBezTo>
                  <a:pt x="5629" y="12894"/>
                  <a:pt x="5631" y="12915"/>
                  <a:pt x="5631" y="12973"/>
                </a:cubicBezTo>
                <a:cubicBezTo>
                  <a:pt x="5631" y="13036"/>
                  <a:pt x="5682" y="13022"/>
                  <a:pt x="5730" y="13022"/>
                </a:cubicBezTo>
                <a:cubicBezTo>
                  <a:pt x="5787" y="13022"/>
                  <a:pt x="5835" y="13033"/>
                  <a:pt x="5879" y="12998"/>
                </a:cubicBezTo>
                <a:cubicBezTo>
                  <a:pt x="5922" y="12964"/>
                  <a:pt x="5904" y="12899"/>
                  <a:pt x="5904" y="12849"/>
                </a:cubicBezTo>
                <a:cubicBezTo>
                  <a:pt x="5904" y="12803"/>
                  <a:pt x="5875" y="12789"/>
                  <a:pt x="5854" y="12774"/>
                </a:cubicBezTo>
                <a:cubicBezTo>
                  <a:pt x="5837" y="12762"/>
                  <a:pt x="5746" y="12750"/>
                  <a:pt x="5779" y="12774"/>
                </a:cubicBezTo>
                <a:cubicBezTo>
                  <a:pt x="5804" y="12774"/>
                  <a:pt x="5812" y="12774"/>
                  <a:pt x="5804" y="12799"/>
                </a:cubicBezTo>
              </a:path>
              <a:path w="844" h="423">
                <a:moveTo>
                  <a:pt x="6028" y="12774"/>
                </a:moveTo>
                <a:cubicBezTo>
                  <a:pt x="6053" y="12817"/>
                  <a:pt x="6052" y="12846"/>
                  <a:pt x="6052" y="12898"/>
                </a:cubicBezTo>
                <a:cubicBezTo>
                  <a:pt x="6052" y="12952"/>
                  <a:pt x="6072" y="12978"/>
                  <a:pt x="6077" y="13022"/>
                </a:cubicBezTo>
                <a:cubicBezTo>
                  <a:pt x="6077" y="13047"/>
                  <a:pt x="6077" y="13055"/>
                  <a:pt x="6077" y="13072"/>
                </a:cubicBezTo>
                <a:cubicBezTo>
                  <a:pt x="6096" y="13066"/>
                  <a:pt x="6121" y="13027"/>
                  <a:pt x="6127" y="12998"/>
                </a:cubicBezTo>
                <a:cubicBezTo>
                  <a:pt x="6143" y="12923"/>
                  <a:pt x="6162" y="12910"/>
                  <a:pt x="6201" y="12849"/>
                </a:cubicBezTo>
                <a:cubicBezTo>
                  <a:pt x="6233" y="12800"/>
                  <a:pt x="6258" y="12767"/>
                  <a:pt x="6300" y="12725"/>
                </a:cubicBezTo>
                <a:cubicBezTo>
                  <a:pt x="6334" y="12691"/>
                  <a:pt x="6356" y="12661"/>
                  <a:pt x="6400" y="12650"/>
                </a:cubicBezTo>
                <a:cubicBezTo>
                  <a:pt x="6400" y="12694"/>
                  <a:pt x="6391" y="12735"/>
                  <a:pt x="6375" y="12774"/>
                </a:cubicBezTo>
                <a:cubicBezTo>
                  <a:pt x="6353" y="12828"/>
                  <a:pt x="6316" y="12858"/>
                  <a:pt x="6276" y="12898"/>
                </a:cubicBezTo>
                <a:cubicBezTo>
                  <a:pt x="6248" y="12926"/>
                  <a:pt x="6235" y="12962"/>
                  <a:pt x="6226" y="12998"/>
                </a:cubicBezTo>
                <a:cubicBezTo>
                  <a:pt x="6307" y="12998"/>
                  <a:pt x="6403" y="13000"/>
                  <a:pt x="6449" y="13022"/>
                </a:cubicBezTo>
                <a:cubicBezTo>
                  <a:pt x="6474" y="13022"/>
                  <a:pt x="6482" y="13022"/>
                  <a:pt x="6449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41"/>
          <p:cNvSpPr/>
          <p:nvPr/>
        </p:nvSpPr>
        <p:spPr>
          <a:xfrm>
            <a:off x="2509920" y="4446720"/>
            <a:ext cx="606240" cy="349200"/>
          </a:xfrm>
          <a:custGeom>
            <a:avLst/>
            <a:gdLst/>
            <a:ahLst/>
            <a:rect l="l" t="t" r="r" b="b"/>
            <a:pathLst>
              <a:path w="1688" h="968">
                <a:moveTo>
                  <a:pt x="7516" y="12601"/>
                </a:moveTo>
                <a:cubicBezTo>
                  <a:pt x="7508" y="12632"/>
                  <a:pt x="7504" y="12695"/>
                  <a:pt x="7491" y="12725"/>
                </a:cubicBezTo>
                <a:cubicBezTo>
                  <a:pt x="7469" y="12778"/>
                  <a:pt x="7466" y="12810"/>
                  <a:pt x="7466" y="12874"/>
                </a:cubicBezTo>
                <a:cubicBezTo>
                  <a:pt x="7466" y="12919"/>
                  <a:pt x="7445" y="12933"/>
                  <a:pt x="7441" y="12973"/>
                </a:cubicBezTo>
                <a:cubicBezTo>
                  <a:pt x="7441" y="12981"/>
                  <a:pt x="7441" y="12990"/>
                  <a:pt x="7441" y="12998"/>
                </a:cubicBezTo>
                <a:cubicBezTo>
                  <a:pt x="7441" y="12947"/>
                  <a:pt x="7452" y="12939"/>
                  <a:pt x="7466" y="12898"/>
                </a:cubicBezTo>
                <a:cubicBezTo>
                  <a:pt x="7480" y="12856"/>
                  <a:pt x="7500" y="12812"/>
                  <a:pt x="7516" y="12774"/>
                </a:cubicBezTo>
                <a:cubicBezTo>
                  <a:pt x="7539" y="12722"/>
                  <a:pt x="7594" y="12697"/>
                  <a:pt x="7615" y="12650"/>
                </a:cubicBezTo>
                <a:cubicBezTo>
                  <a:pt x="7629" y="12620"/>
                  <a:pt x="7677" y="12588"/>
                  <a:pt x="7714" y="12576"/>
                </a:cubicBezTo>
                <a:cubicBezTo>
                  <a:pt x="7739" y="12576"/>
                  <a:pt x="7747" y="12576"/>
                  <a:pt x="7764" y="12576"/>
                </a:cubicBezTo>
                <a:cubicBezTo>
                  <a:pt x="7764" y="12635"/>
                  <a:pt x="7744" y="12628"/>
                  <a:pt x="7714" y="12675"/>
                </a:cubicBezTo>
                <a:cubicBezTo>
                  <a:pt x="7691" y="12710"/>
                  <a:pt x="7654" y="12754"/>
                  <a:pt x="7640" y="12774"/>
                </a:cubicBezTo>
                <a:cubicBezTo>
                  <a:pt x="7640" y="12782"/>
                  <a:pt x="7640" y="12791"/>
                  <a:pt x="7640" y="12799"/>
                </a:cubicBezTo>
                <a:cubicBezTo>
                  <a:pt x="7656" y="12811"/>
                  <a:pt x="7735" y="12819"/>
                  <a:pt x="7739" y="12824"/>
                </a:cubicBezTo>
                <a:cubicBezTo>
                  <a:pt x="7757" y="12847"/>
                  <a:pt x="7764" y="12889"/>
                  <a:pt x="7764" y="12923"/>
                </a:cubicBezTo>
                <a:cubicBezTo>
                  <a:pt x="7764" y="12976"/>
                  <a:pt x="7752" y="12984"/>
                  <a:pt x="7714" y="13022"/>
                </a:cubicBezTo>
                <a:cubicBezTo>
                  <a:pt x="7669" y="13067"/>
                  <a:pt x="7692" y="13072"/>
                  <a:pt x="7615" y="13072"/>
                </a:cubicBezTo>
                <a:cubicBezTo>
                  <a:pt x="7582" y="13072"/>
                  <a:pt x="7549" y="13072"/>
                  <a:pt x="7516" y="13072"/>
                </a:cubicBezTo>
                <a:cubicBezTo>
                  <a:pt x="7516" y="13027"/>
                  <a:pt x="7514" y="13004"/>
                  <a:pt x="7565" y="12998"/>
                </a:cubicBezTo>
                <a:cubicBezTo>
                  <a:pt x="7600" y="12998"/>
                  <a:pt x="7618" y="12993"/>
                  <a:pt x="7640" y="12973"/>
                </a:cubicBezTo>
              </a:path>
              <a:path w="1688" h="968">
                <a:moveTo>
                  <a:pt x="8111" y="12675"/>
                </a:moveTo>
                <a:cubicBezTo>
                  <a:pt x="8098" y="12725"/>
                  <a:pt x="8086" y="12739"/>
                  <a:pt x="8086" y="12799"/>
                </a:cubicBezTo>
                <a:cubicBezTo>
                  <a:pt x="8086" y="12857"/>
                  <a:pt x="8062" y="12918"/>
                  <a:pt x="8037" y="12973"/>
                </a:cubicBezTo>
                <a:cubicBezTo>
                  <a:pt x="8019" y="13013"/>
                  <a:pt x="7999" y="13060"/>
                  <a:pt x="7987" y="13097"/>
                </a:cubicBezTo>
                <a:cubicBezTo>
                  <a:pt x="7968" y="13155"/>
                  <a:pt x="7997" y="13143"/>
                  <a:pt x="8012" y="13097"/>
                </a:cubicBezTo>
                <a:cubicBezTo>
                  <a:pt x="8012" y="13089"/>
                  <a:pt x="8012" y="13080"/>
                  <a:pt x="8012" y="13072"/>
                </a:cubicBezTo>
              </a:path>
              <a:path w="1688" h="968">
                <a:moveTo>
                  <a:pt x="8062" y="12725"/>
                </a:moveTo>
                <a:cubicBezTo>
                  <a:pt x="8085" y="12717"/>
                  <a:pt x="8109" y="12693"/>
                  <a:pt x="8136" y="12675"/>
                </a:cubicBezTo>
                <a:cubicBezTo>
                  <a:pt x="8172" y="12651"/>
                  <a:pt x="8217" y="12631"/>
                  <a:pt x="8260" y="12626"/>
                </a:cubicBezTo>
                <a:cubicBezTo>
                  <a:pt x="8285" y="12626"/>
                  <a:pt x="8293" y="12626"/>
                  <a:pt x="8310" y="12626"/>
                </a:cubicBezTo>
                <a:cubicBezTo>
                  <a:pt x="8310" y="12683"/>
                  <a:pt x="8301" y="12704"/>
                  <a:pt x="8285" y="12750"/>
                </a:cubicBezTo>
                <a:cubicBezTo>
                  <a:pt x="8269" y="12798"/>
                  <a:pt x="8303" y="12810"/>
                  <a:pt x="8310" y="12824"/>
                </a:cubicBezTo>
                <a:cubicBezTo>
                  <a:pt x="8324" y="12852"/>
                  <a:pt x="8366" y="12858"/>
                  <a:pt x="8384" y="12898"/>
                </a:cubicBezTo>
                <a:cubicBezTo>
                  <a:pt x="8400" y="12933"/>
                  <a:pt x="8389" y="13026"/>
                  <a:pt x="8359" y="13047"/>
                </a:cubicBezTo>
                <a:cubicBezTo>
                  <a:pt x="8315" y="13078"/>
                  <a:pt x="8262" y="13109"/>
                  <a:pt x="8210" y="13122"/>
                </a:cubicBezTo>
                <a:cubicBezTo>
                  <a:pt x="8167" y="13133"/>
                  <a:pt x="8121" y="13128"/>
                  <a:pt x="8111" y="13097"/>
                </a:cubicBezTo>
                <a:cubicBezTo>
                  <a:pt x="8131" y="13068"/>
                  <a:pt x="8141" y="13076"/>
                  <a:pt x="8161" y="13047"/>
                </a:cubicBezTo>
              </a:path>
              <a:path w="1688" h="968">
                <a:moveTo>
                  <a:pt x="7020" y="12626"/>
                </a:moveTo>
                <a:cubicBezTo>
                  <a:pt x="7020" y="12669"/>
                  <a:pt x="7020" y="12601"/>
                  <a:pt x="7020" y="12675"/>
                </a:cubicBezTo>
                <a:cubicBezTo>
                  <a:pt x="7020" y="12733"/>
                  <a:pt x="7008" y="12769"/>
                  <a:pt x="6995" y="12824"/>
                </a:cubicBezTo>
                <a:cubicBezTo>
                  <a:pt x="6981" y="12883"/>
                  <a:pt x="6985" y="12939"/>
                  <a:pt x="6970" y="12998"/>
                </a:cubicBezTo>
                <a:cubicBezTo>
                  <a:pt x="6958" y="13045"/>
                  <a:pt x="6954" y="13074"/>
                  <a:pt x="6995" y="13047"/>
                </a:cubicBezTo>
              </a:path>
              <a:path w="1688" h="968">
                <a:moveTo>
                  <a:pt x="7069" y="12675"/>
                </a:moveTo>
                <a:cubicBezTo>
                  <a:pt x="7069" y="12644"/>
                  <a:pt x="7077" y="12609"/>
                  <a:pt x="7094" y="12601"/>
                </a:cubicBezTo>
                <a:cubicBezTo>
                  <a:pt x="7141" y="12577"/>
                  <a:pt x="7134" y="12556"/>
                  <a:pt x="7169" y="12526"/>
                </a:cubicBezTo>
                <a:cubicBezTo>
                  <a:pt x="7203" y="12497"/>
                  <a:pt x="7242" y="12550"/>
                  <a:pt x="7243" y="12551"/>
                </a:cubicBezTo>
                <a:cubicBezTo>
                  <a:pt x="7278" y="12568"/>
                  <a:pt x="7268" y="12577"/>
                  <a:pt x="7268" y="12626"/>
                </a:cubicBezTo>
                <a:cubicBezTo>
                  <a:pt x="7268" y="12690"/>
                  <a:pt x="7216" y="12655"/>
                  <a:pt x="7193" y="12700"/>
                </a:cubicBezTo>
                <a:cubicBezTo>
                  <a:pt x="7185" y="12716"/>
                  <a:pt x="7130" y="12744"/>
                  <a:pt x="7119" y="12750"/>
                </a:cubicBezTo>
                <a:cubicBezTo>
                  <a:pt x="7023" y="12798"/>
                  <a:pt x="7038" y="12732"/>
                  <a:pt x="7069" y="12675"/>
                </a:cubicBezTo>
              </a:path>
              <a:path w="1688" h="968">
                <a:moveTo>
                  <a:pt x="7491" y="12353"/>
                </a:moveTo>
                <a:cubicBezTo>
                  <a:pt x="7481" y="12392"/>
                  <a:pt x="7453" y="12415"/>
                  <a:pt x="7441" y="12452"/>
                </a:cubicBezTo>
                <a:cubicBezTo>
                  <a:pt x="7427" y="12494"/>
                  <a:pt x="7413" y="12531"/>
                  <a:pt x="7392" y="12576"/>
                </a:cubicBezTo>
                <a:cubicBezTo>
                  <a:pt x="7370" y="12622"/>
                  <a:pt x="7347" y="12675"/>
                  <a:pt x="7342" y="12725"/>
                </a:cubicBezTo>
                <a:cubicBezTo>
                  <a:pt x="7329" y="12857"/>
                  <a:pt x="7328" y="13031"/>
                  <a:pt x="7367" y="13146"/>
                </a:cubicBezTo>
                <a:cubicBezTo>
                  <a:pt x="7378" y="13180"/>
                  <a:pt x="7372" y="13216"/>
                  <a:pt x="7392" y="13246"/>
                </a:cubicBezTo>
                <a:cubicBezTo>
                  <a:pt x="7415" y="13281"/>
                  <a:pt x="7420" y="13315"/>
                  <a:pt x="7466" y="13320"/>
                </a:cubicBezTo>
                <a:cubicBezTo>
                  <a:pt x="7491" y="13320"/>
                  <a:pt x="7499" y="13320"/>
                  <a:pt x="7516" y="13320"/>
                </a:cubicBezTo>
              </a:path>
              <a:path w="1688" h="968">
                <a:moveTo>
                  <a:pt x="8458" y="12402"/>
                </a:moveTo>
                <a:cubicBezTo>
                  <a:pt x="8466" y="12405"/>
                  <a:pt x="8528" y="12444"/>
                  <a:pt x="8533" y="12452"/>
                </a:cubicBezTo>
                <a:cubicBezTo>
                  <a:pt x="8549" y="12476"/>
                  <a:pt x="8574" y="12544"/>
                  <a:pt x="8582" y="12576"/>
                </a:cubicBezTo>
                <a:cubicBezTo>
                  <a:pt x="8596" y="12632"/>
                  <a:pt x="8622" y="12693"/>
                  <a:pt x="8632" y="12750"/>
                </a:cubicBezTo>
                <a:cubicBezTo>
                  <a:pt x="8643" y="12818"/>
                  <a:pt x="8653" y="12885"/>
                  <a:pt x="8657" y="12948"/>
                </a:cubicBezTo>
                <a:cubicBezTo>
                  <a:pt x="8662" y="13032"/>
                  <a:pt x="8635" y="13053"/>
                  <a:pt x="8607" y="13122"/>
                </a:cubicBezTo>
                <a:cubicBezTo>
                  <a:pt x="8589" y="13165"/>
                  <a:pt x="8577" y="13203"/>
                  <a:pt x="8558" y="13246"/>
                </a:cubicBezTo>
                <a:cubicBezTo>
                  <a:pt x="8543" y="13282"/>
                  <a:pt x="8546" y="13259"/>
                  <a:pt x="8533" y="13295"/>
                </a:cubicBezTo>
                <a:cubicBezTo>
                  <a:pt x="8548" y="13324"/>
                  <a:pt x="8570" y="13298"/>
                  <a:pt x="8607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42"/>
          <p:cNvSpPr/>
          <p:nvPr/>
        </p:nvSpPr>
        <p:spPr>
          <a:xfrm>
            <a:off x="3517920" y="4554360"/>
            <a:ext cx="312840" cy="160560"/>
          </a:xfrm>
          <a:custGeom>
            <a:avLst/>
            <a:gdLst/>
            <a:ahLst/>
            <a:rect l="l" t="t" r="r" b="b"/>
            <a:pathLst>
              <a:path w="869" h="448">
                <a:moveTo>
                  <a:pt x="9897" y="12750"/>
                </a:moveTo>
                <a:cubicBezTo>
                  <a:pt x="9854" y="12760"/>
                  <a:pt x="9837" y="12768"/>
                  <a:pt x="9823" y="12799"/>
                </a:cubicBezTo>
                <a:cubicBezTo>
                  <a:pt x="9805" y="12839"/>
                  <a:pt x="9777" y="12884"/>
                  <a:pt x="9773" y="12923"/>
                </a:cubicBezTo>
                <a:cubicBezTo>
                  <a:pt x="9767" y="12976"/>
                  <a:pt x="9819" y="12980"/>
                  <a:pt x="9847" y="12998"/>
                </a:cubicBezTo>
                <a:cubicBezTo>
                  <a:pt x="9893" y="13028"/>
                  <a:pt x="9912" y="13022"/>
                  <a:pt x="9971" y="13022"/>
                </a:cubicBezTo>
                <a:cubicBezTo>
                  <a:pt x="10031" y="13022"/>
                  <a:pt x="10019" y="13013"/>
                  <a:pt x="10046" y="12973"/>
                </a:cubicBezTo>
                <a:cubicBezTo>
                  <a:pt x="10083" y="12918"/>
                  <a:pt x="10075" y="12900"/>
                  <a:pt x="10046" y="12849"/>
                </a:cubicBezTo>
                <a:cubicBezTo>
                  <a:pt x="10028" y="12817"/>
                  <a:pt x="10014" y="12759"/>
                  <a:pt x="9996" y="12750"/>
                </a:cubicBezTo>
                <a:cubicBezTo>
                  <a:pt x="9970" y="12738"/>
                  <a:pt x="9910" y="12748"/>
                  <a:pt x="9897" y="12774"/>
                </a:cubicBezTo>
                <a:cubicBezTo>
                  <a:pt x="9876" y="12816"/>
                  <a:pt x="9923" y="12850"/>
                  <a:pt x="9947" y="12874"/>
                </a:cubicBezTo>
              </a:path>
              <a:path w="869" h="448">
                <a:moveTo>
                  <a:pt x="10269" y="12799"/>
                </a:moveTo>
                <a:cubicBezTo>
                  <a:pt x="10269" y="12857"/>
                  <a:pt x="10253" y="12902"/>
                  <a:pt x="10244" y="12948"/>
                </a:cubicBezTo>
                <a:cubicBezTo>
                  <a:pt x="10235" y="12992"/>
                  <a:pt x="10244" y="13051"/>
                  <a:pt x="10244" y="13097"/>
                </a:cubicBezTo>
                <a:cubicBezTo>
                  <a:pt x="10235" y="13093"/>
                  <a:pt x="10231" y="13043"/>
                  <a:pt x="10244" y="12998"/>
                </a:cubicBezTo>
                <a:cubicBezTo>
                  <a:pt x="10263" y="12933"/>
                  <a:pt x="10312" y="12879"/>
                  <a:pt x="10344" y="12824"/>
                </a:cubicBezTo>
                <a:cubicBezTo>
                  <a:pt x="10382" y="12759"/>
                  <a:pt x="10414" y="12750"/>
                  <a:pt x="10468" y="12700"/>
                </a:cubicBezTo>
                <a:cubicBezTo>
                  <a:pt x="10520" y="12653"/>
                  <a:pt x="10519" y="12650"/>
                  <a:pt x="10592" y="12650"/>
                </a:cubicBezTo>
                <a:cubicBezTo>
                  <a:pt x="10592" y="12704"/>
                  <a:pt x="10602" y="12735"/>
                  <a:pt x="10567" y="12774"/>
                </a:cubicBezTo>
                <a:cubicBezTo>
                  <a:pt x="10521" y="12826"/>
                  <a:pt x="10468" y="12865"/>
                  <a:pt x="10418" y="12898"/>
                </a:cubicBezTo>
                <a:cubicBezTo>
                  <a:pt x="10410" y="12906"/>
                  <a:pt x="10401" y="12915"/>
                  <a:pt x="10393" y="12923"/>
                </a:cubicBezTo>
                <a:cubicBezTo>
                  <a:pt x="10399" y="12945"/>
                  <a:pt x="10436" y="12996"/>
                  <a:pt x="10443" y="12998"/>
                </a:cubicBezTo>
                <a:cubicBezTo>
                  <a:pt x="10495" y="13012"/>
                  <a:pt x="10544" y="13006"/>
                  <a:pt x="10592" y="13022"/>
                </a:cubicBezTo>
                <a:cubicBezTo>
                  <a:pt x="10616" y="13022"/>
                  <a:pt x="10625" y="13022"/>
                  <a:pt x="10641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43"/>
          <p:cNvSpPr/>
          <p:nvPr/>
        </p:nvSpPr>
        <p:spPr>
          <a:xfrm>
            <a:off x="4179960" y="4500720"/>
            <a:ext cx="803160" cy="312480"/>
          </a:xfrm>
          <a:custGeom>
            <a:avLst/>
            <a:gdLst/>
            <a:ahLst/>
            <a:rect l="l" t="t" r="r" b="b"/>
            <a:pathLst>
              <a:path w="2233" h="869">
                <a:moveTo>
                  <a:pt x="11782" y="12750"/>
                </a:moveTo>
                <a:cubicBezTo>
                  <a:pt x="11716" y="12766"/>
                  <a:pt x="11735" y="12808"/>
                  <a:pt x="11708" y="12874"/>
                </a:cubicBezTo>
                <a:cubicBezTo>
                  <a:pt x="11680" y="12942"/>
                  <a:pt x="11649" y="13001"/>
                  <a:pt x="11633" y="13072"/>
                </a:cubicBezTo>
                <a:cubicBezTo>
                  <a:pt x="11628" y="13094"/>
                  <a:pt x="11633" y="13124"/>
                  <a:pt x="11633" y="13146"/>
                </a:cubicBezTo>
                <a:cubicBezTo>
                  <a:pt x="11599" y="13111"/>
                  <a:pt x="11654" y="13103"/>
                  <a:pt x="11658" y="13047"/>
                </a:cubicBezTo>
                <a:cubicBezTo>
                  <a:pt x="11665" y="12956"/>
                  <a:pt x="11700" y="12893"/>
                  <a:pt x="11757" y="12824"/>
                </a:cubicBezTo>
                <a:cubicBezTo>
                  <a:pt x="11815" y="12754"/>
                  <a:pt x="11860" y="12704"/>
                  <a:pt x="11931" y="12650"/>
                </a:cubicBezTo>
                <a:cubicBezTo>
                  <a:pt x="11958" y="12629"/>
                  <a:pt x="12035" y="12552"/>
                  <a:pt x="12055" y="12526"/>
                </a:cubicBezTo>
                <a:cubicBezTo>
                  <a:pt x="12076" y="12500"/>
                  <a:pt x="12056" y="12502"/>
                  <a:pt x="12105" y="12502"/>
                </a:cubicBezTo>
                <a:cubicBezTo>
                  <a:pt x="12114" y="12546"/>
                  <a:pt x="12129" y="12580"/>
                  <a:pt x="12129" y="12626"/>
                </a:cubicBezTo>
                <a:cubicBezTo>
                  <a:pt x="12129" y="12676"/>
                  <a:pt x="12137" y="12710"/>
                  <a:pt x="12105" y="12750"/>
                </a:cubicBezTo>
                <a:cubicBezTo>
                  <a:pt x="12068" y="12796"/>
                  <a:pt x="12046" y="12859"/>
                  <a:pt x="11981" y="12874"/>
                </a:cubicBezTo>
                <a:cubicBezTo>
                  <a:pt x="11933" y="12885"/>
                  <a:pt x="11883" y="12898"/>
                  <a:pt x="11832" y="12898"/>
                </a:cubicBezTo>
                <a:cubicBezTo>
                  <a:pt x="11777" y="12898"/>
                  <a:pt x="11739" y="12882"/>
                  <a:pt x="11733" y="12824"/>
                </a:cubicBezTo>
                <a:cubicBezTo>
                  <a:pt x="11727" y="12771"/>
                  <a:pt x="11794" y="12766"/>
                  <a:pt x="11832" y="12750"/>
                </a:cubicBezTo>
              </a:path>
              <a:path w="2233" h="869">
                <a:moveTo>
                  <a:pt x="12402" y="12551"/>
                </a:moveTo>
                <a:cubicBezTo>
                  <a:pt x="12342" y="12566"/>
                  <a:pt x="12331" y="12620"/>
                  <a:pt x="12303" y="12675"/>
                </a:cubicBezTo>
                <a:cubicBezTo>
                  <a:pt x="12264" y="12752"/>
                  <a:pt x="12255" y="12819"/>
                  <a:pt x="12229" y="12898"/>
                </a:cubicBezTo>
                <a:cubicBezTo>
                  <a:pt x="12202" y="12977"/>
                  <a:pt x="12185" y="13063"/>
                  <a:pt x="12179" y="13146"/>
                </a:cubicBezTo>
                <a:cubicBezTo>
                  <a:pt x="12173" y="13225"/>
                  <a:pt x="12204" y="13209"/>
                  <a:pt x="12229" y="13246"/>
                </a:cubicBezTo>
                <a:cubicBezTo>
                  <a:pt x="12255" y="13286"/>
                  <a:pt x="12243" y="13295"/>
                  <a:pt x="12303" y="13295"/>
                </a:cubicBezTo>
                <a:cubicBezTo>
                  <a:pt x="12328" y="13295"/>
                  <a:pt x="12336" y="13295"/>
                  <a:pt x="12353" y="13295"/>
                </a:cubicBezTo>
              </a:path>
              <a:path w="2233" h="869">
                <a:moveTo>
                  <a:pt x="12799" y="12750"/>
                </a:moveTo>
                <a:cubicBezTo>
                  <a:pt x="12786" y="12712"/>
                  <a:pt x="12770" y="12725"/>
                  <a:pt x="12725" y="12725"/>
                </a:cubicBezTo>
                <a:cubicBezTo>
                  <a:pt x="12678" y="12725"/>
                  <a:pt x="12661" y="12719"/>
                  <a:pt x="12626" y="12750"/>
                </a:cubicBezTo>
                <a:cubicBezTo>
                  <a:pt x="12582" y="12789"/>
                  <a:pt x="12553" y="12832"/>
                  <a:pt x="12526" y="12874"/>
                </a:cubicBezTo>
                <a:cubicBezTo>
                  <a:pt x="12497" y="12917"/>
                  <a:pt x="12502" y="12941"/>
                  <a:pt x="12502" y="12998"/>
                </a:cubicBezTo>
                <a:cubicBezTo>
                  <a:pt x="12502" y="13035"/>
                  <a:pt x="12538" y="13054"/>
                  <a:pt x="12551" y="13072"/>
                </a:cubicBezTo>
                <a:cubicBezTo>
                  <a:pt x="12573" y="13101"/>
                  <a:pt x="12593" y="13105"/>
                  <a:pt x="12626" y="13122"/>
                </a:cubicBezTo>
                <a:cubicBezTo>
                  <a:pt x="12692" y="13156"/>
                  <a:pt x="12827" y="13191"/>
                  <a:pt x="12799" y="13122"/>
                </a:cubicBezTo>
                <a:cubicBezTo>
                  <a:pt x="12799" y="13114"/>
                  <a:pt x="12799" y="13105"/>
                  <a:pt x="12799" y="13097"/>
                </a:cubicBezTo>
              </a:path>
              <a:path w="2233" h="869">
                <a:moveTo>
                  <a:pt x="12998" y="13146"/>
                </a:moveTo>
                <a:cubicBezTo>
                  <a:pt x="12998" y="13192"/>
                  <a:pt x="12978" y="13205"/>
                  <a:pt x="12973" y="13246"/>
                </a:cubicBezTo>
                <a:cubicBezTo>
                  <a:pt x="12973" y="13271"/>
                  <a:pt x="12973" y="13279"/>
                  <a:pt x="12998" y="13271"/>
                </a:cubicBezTo>
              </a:path>
              <a:path w="2233" h="869">
                <a:moveTo>
                  <a:pt x="13469" y="12799"/>
                </a:moveTo>
                <a:cubicBezTo>
                  <a:pt x="13456" y="12761"/>
                  <a:pt x="13440" y="12774"/>
                  <a:pt x="13395" y="12774"/>
                </a:cubicBezTo>
                <a:cubicBezTo>
                  <a:pt x="13319" y="12774"/>
                  <a:pt x="13287" y="12840"/>
                  <a:pt x="13221" y="12874"/>
                </a:cubicBezTo>
                <a:cubicBezTo>
                  <a:pt x="13169" y="12901"/>
                  <a:pt x="13139" y="12946"/>
                  <a:pt x="13122" y="12998"/>
                </a:cubicBezTo>
                <a:cubicBezTo>
                  <a:pt x="13107" y="13042"/>
                  <a:pt x="13135" y="13064"/>
                  <a:pt x="13146" y="13097"/>
                </a:cubicBezTo>
                <a:cubicBezTo>
                  <a:pt x="13159" y="13137"/>
                  <a:pt x="13173" y="13166"/>
                  <a:pt x="13221" y="13171"/>
                </a:cubicBezTo>
                <a:cubicBezTo>
                  <a:pt x="13262" y="13176"/>
                  <a:pt x="13275" y="13196"/>
                  <a:pt x="13320" y="13196"/>
                </a:cubicBezTo>
                <a:cubicBezTo>
                  <a:pt x="13367" y="13196"/>
                  <a:pt x="13406" y="13211"/>
                  <a:pt x="13419" y="13171"/>
                </a:cubicBezTo>
              </a:path>
              <a:path w="2233" h="869">
                <a:moveTo>
                  <a:pt x="13692" y="12551"/>
                </a:moveTo>
                <a:cubicBezTo>
                  <a:pt x="13692" y="12597"/>
                  <a:pt x="13686" y="12615"/>
                  <a:pt x="13717" y="12650"/>
                </a:cubicBezTo>
                <a:cubicBezTo>
                  <a:pt x="13751" y="12687"/>
                  <a:pt x="13773" y="12708"/>
                  <a:pt x="13791" y="12750"/>
                </a:cubicBezTo>
                <a:cubicBezTo>
                  <a:pt x="13822" y="12822"/>
                  <a:pt x="13837" y="12920"/>
                  <a:pt x="13841" y="12998"/>
                </a:cubicBezTo>
                <a:cubicBezTo>
                  <a:pt x="13844" y="13058"/>
                  <a:pt x="13849" y="13118"/>
                  <a:pt x="13816" y="13171"/>
                </a:cubicBezTo>
                <a:cubicBezTo>
                  <a:pt x="13788" y="13216"/>
                  <a:pt x="13753" y="13256"/>
                  <a:pt x="13717" y="13295"/>
                </a:cubicBezTo>
                <a:cubicBezTo>
                  <a:pt x="13681" y="13334"/>
                  <a:pt x="13669" y="13345"/>
                  <a:pt x="13618" y="13345"/>
                </a:cubicBezTo>
                <a:cubicBezTo>
                  <a:pt x="13588" y="13345"/>
                  <a:pt x="13575" y="13404"/>
                  <a:pt x="13568" y="13345"/>
                </a:cubicBezTo>
                <a:cubicBezTo>
                  <a:pt x="13568" y="13337"/>
                  <a:pt x="13568" y="13328"/>
                  <a:pt x="13568" y="13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44"/>
          <p:cNvSpPr/>
          <p:nvPr/>
        </p:nvSpPr>
        <p:spPr>
          <a:xfrm>
            <a:off x="5330880" y="4626000"/>
            <a:ext cx="11736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14833" y="12849"/>
                </a:moveTo>
                <a:cubicBezTo>
                  <a:pt x="14879" y="12849"/>
                  <a:pt x="14892" y="12869"/>
                  <a:pt x="14932" y="12874"/>
                </a:cubicBezTo>
                <a:cubicBezTo>
                  <a:pt x="14980" y="12879"/>
                  <a:pt x="15032" y="12874"/>
                  <a:pt x="15081" y="12874"/>
                </a:cubicBezTo>
                <a:cubicBezTo>
                  <a:pt x="15056" y="12898"/>
                  <a:pt x="15048" y="12906"/>
                  <a:pt x="15032" y="12923"/>
                </a:cubicBezTo>
              </a:path>
              <a:path w="324" h="224">
                <a:moveTo>
                  <a:pt x="14808" y="13047"/>
                </a:moveTo>
                <a:cubicBezTo>
                  <a:pt x="14833" y="13047"/>
                  <a:pt x="14858" y="13047"/>
                  <a:pt x="14883" y="13047"/>
                </a:cubicBezTo>
                <a:cubicBezTo>
                  <a:pt x="14896" y="13085"/>
                  <a:pt x="14912" y="13072"/>
                  <a:pt x="14957" y="13072"/>
                </a:cubicBezTo>
                <a:cubicBezTo>
                  <a:pt x="15015" y="13072"/>
                  <a:pt x="15073" y="13072"/>
                  <a:pt x="15131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45"/>
          <p:cNvSpPr/>
          <p:nvPr/>
        </p:nvSpPr>
        <p:spPr>
          <a:xfrm>
            <a:off x="5653080" y="4500720"/>
            <a:ext cx="606600" cy="312480"/>
          </a:xfrm>
          <a:custGeom>
            <a:avLst/>
            <a:gdLst/>
            <a:ahLst/>
            <a:rect l="l" t="t" r="r" b="b"/>
            <a:pathLst>
              <a:path w="1688" h="869">
                <a:moveTo>
                  <a:pt x="16024" y="12502"/>
                </a:moveTo>
                <a:cubicBezTo>
                  <a:pt x="16024" y="12556"/>
                  <a:pt x="16004" y="12581"/>
                  <a:pt x="15999" y="12626"/>
                </a:cubicBezTo>
                <a:cubicBezTo>
                  <a:pt x="15993" y="12676"/>
                  <a:pt x="15978" y="12731"/>
                  <a:pt x="16024" y="12700"/>
                </a:cubicBezTo>
              </a:path>
              <a:path w="1688" h="869">
                <a:moveTo>
                  <a:pt x="15701" y="12799"/>
                </a:moveTo>
                <a:cubicBezTo>
                  <a:pt x="15776" y="12799"/>
                  <a:pt x="15837" y="12787"/>
                  <a:pt x="15900" y="12774"/>
                </a:cubicBezTo>
                <a:cubicBezTo>
                  <a:pt x="16053" y="12743"/>
                  <a:pt x="16219" y="12784"/>
                  <a:pt x="16371" y="12750"/>
                </a:cubicBezTo>
                <a:cubicBezTo>
                  <a:pt x="16430" y="12737"/>
                  <a:pt x="16470" y="12763"/>
                  <a:pt x="16520" y="12725"/>
                </a:cubicBezTo>
                <a:cubicBezTo>
                  <a:pt x="16487" y="12736"/>
                  <a:pt x="16498" y="12738"/>
                  <a:pt x="16470" y="12774"/>
                </a:cubicBezTo>
              </a:path>
              <a:path w="1688" h="869">
                <a:moveTo>
                  <a:pt x="15900" y="12948"/>
                </a:moveTo>
                <a:cubicBezTo>
                  <a:pt x="15892" y="12948"/>
                  <a:pt x="15883" y="12948"/>
                  <a:pt x="15875" y="12948"/>
                </a:cubicBezTo>
                <a:cubicBezTo>
                  <a:pt x="15875" y="12990"/>
                  <a:pt x="15865" y="13013"/>
                  <a:pt x="15850" y="13047"/>
                </a:cubicBezTo>
                <a:cubicBezTo>
                  <a:pt x="15829" y="13095"/>
                  <a:pt x="15806" y="13149"/>
                  <a:pt x="15801" y="13196"/>
                </a:cubicBezTo>
                <a:cubicBezTo>
                  <a:pt x="15797" y="13236"/>
                  <a:pt x="15776" y="13250"/>
                  <a:pt x="15776" y="13295"/>
                </a:cubicBezTo>
                <a:cubicBezTo>
                  <a:pt x="15801" y="13295"/>
                  <a:pt x="15809" y="13295"/>
                  <a:pt x="15825" y="13295"/>
                </a:cubicBezTo>
              </a:path>
              <a:path w="1688" h="869">
                <a:moveTo>
                  <a:pt x="16297" y="12874"/>
                </a:moveTo>
                <a:cubicBezTo>
                  <a:pt x="16287" y="12902"/>
                  <a:pt x="16254" y="12938"/>
                  <a:pt x="16222" y="12973"/>
                </a:cubicBezTo>
                <a:cubicBezTo>
                  <a:pt x="16202" y="12995"/>
                  <a:pt x="16160" y="13044"/>
                  <a:pt x="16148" y="13072"/>
                </a:cubicBezTo>
                <a:cubicBezTo>
                  <a:pt x="16132" y="13109"/>
                  <a:pt x="16090" y="13134"/>
                  <a:pt x="16073" y="13171"/>
                </a:cubicBezTo>
                <a:cubicBezTo>
                  <a:pt x="16057" y="13207"/>
                  <a:pt x="16062" y="13327"/>
                  <a:pt x="16098" y="13345"/>
                </a:cubicBezTo>
                <a:cubicBezTo>
                  <a:pt x="16130" y="13361"/>
                  <a:pt x="16158" y="13370"/>
                  <a:pt x="16197" y="13370"/>
                </a:cubicBezTo>
                <a:cubicBezTo>
                  <a:pt x="16249" y="13370"/>
                  <a:pt x="16280" y="13358"/>
                  <a:pt x="16321" y="13345"/>
                </a:cubicBezTo>
                <a:cubicBezTo>
                  <a:pt x="16348" y="13337"/>
                  <a:pt x="16367" y="13326"/>
                  <a:pt x="16371" y="13295"/>
                </a:cubicBezTo>
                <a:cubicBezTo>
                  <a:pt x="16377" y="13249"/>
                  <a:pt x="16368" y="13226"/>
                  <a:pt x="16321" y="13221"/>
                </a:cubicBezTo>
                <a:cubicBezTo>
                  <a:pt x="16277" y="13216"/>
                  <a:pt x="16251" y="13196"/>
                  <a:pt x="16197" y="13196"/>
                </a:cubicBezTo>
                <a:cubicBezTo>
                  <a:pt x="16188" y="13196"/>
                  <a:pt x="16107" y="13196"/>
                  <a:pt x="16173" y="13196"/>
                </a:cubicBezTo>
              </a:path>
              <a:path w="1688" h="869">
                <a:moveTo>
                  <a:pt x="16942" y="12849"/>
                </a:moveTo>
                <a:cubicBezTo>
                  <a:pt x="16985" y="12882"/>
                  <a:pt x="17008" y="12874"/>
                  <a:pt x="17066" y="12874"/>
                </a:cubicBezTo>
                <a:cubicBezTo>
                  <a:pt x="17138" y="12874"/>
                  <a:pt x="17391" y="12892"/>
                  <a:pt x="17363" y="12849"/>
                </a:cubicBezTo>
              </a:path>
              <a:path w="1688" h="869">
                <a:moveTo>
                  <a:pt x="17239" y="12675"/>
                </a:moveTo>
                <a:cubicBezTo>
                  <a:pt x="17239" y="12807"/>
                  <a:pt x="17239" y="12940"/>
                  <a:pt x="17239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46"/>
          <p:cNvSpPr/>
          <p:nvPr/>
        </p:nvSpPr>
        <p:spPr>
          <a:xfrm>
            <a:off x="6429240" y="4456080"/>
            <a:ext cx="285840" cy="36684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18256" y="12378"/>
                </a:moveTo>
                <a:cubicBezTo>
                  <a:pt x="18256" y="12386"/>
                  <a:pt x="18256" y="12394"/>
                  <a:pt x="18256" y="12402"/>
                </a:cubicBezTo>
                <a:cubicBezTo>
                  <a:pt x="18227" y="12412"/>
                  <a:pt x="18211" y="12436"/>
                  <a:pt x="18207" y="12477"/>
                </a:cubicBezTo>
                <a:cubicBezTo>
                  <a:pt x="18203" y="12510"/>
                  <a:pt x="18194" y="12566"/>
                  <a:pt x="18182" y="12601"/>
                </a:cubicBezTo>
                <a:cubicBezTo>
                  <a:pt x="18162" y="12661"/>
                  <a:pt x="18157" y="12685"/>
                  <a:pt x="18157" y="12750"/>
                </a:cubicBezTo>
                <a:cubicBezTo>
                  <a:pt x="18157" y="12804"/>
                  <a:pt x="18137" y="12829"/>
                  <a:pt x="18132" y="12874"/>
                </a:cubicBezTo>
                <a:cubicBezTo>
                  <a:pt x="18127" y="12915"/>
                  <a:pt x="18120" y="12884"/>
                  <a:pt x="18107" y="12923"/>
                </a:cubicBezTo>
              </a:path>
              <a:path w="795" h="1018">
                <a:moveTo>
                  <a:pt x="17859" y="12799"/>
                </a:moveTo>
                <a:cubicBezTo>
                  <a:pt x="17922" y="12799"/>
                  <a:pt x="17951" y="12797"/>
                  <a:pt x="18008" y="12824"/>
                </a:cubicBezTo>
                <a:cubicBezTo>
                  <a:pt x="18055" y="12846"/>
                  <a:pt x="18139" y="12867"/>
                  <a:pt x="18182" y="12874"/>
                </a:cubicBezTo>
                <a:cubicBezTo>
                  <a:pt x="18254" y="12885"/>
                  <a:pt x="18334" y="12894"/>
                  <a:pt x="18405" y="12898"/>
                </a:cubicBezTo>
                <a:cubicBezTo>
                  <a:pt x="18487" y="12902"/>
                  <a:pt x="18559" y="12894"/>
                  <a:pt x="18628" y="12874"/>
                </a:cubicBezTo>
                <a:cubicBezTo>
                  <a:pt x="18675" y="12860"/>
                  <a:pt x="18649" y="12863"/>
                  <a:pt x="18628" y="12874"/>
                </a:cubicBezTo>
                <a:cubicBezTo>
                  <a:pt x="18620" y="12874"/>
                  <a:pt x="18612" y="12874"/>
                  <a:pt x="18604" y="12874"/>
                </a:cubicBezTo>
              </a:path>
              <a:path w="795" h="1018">
                <a:moveTo>
                  <a:pt x="18132" y="12973"/>
                </a:moveTo>
                <a:cubicBezTo>
                  <a:pt x="18098" y="12984"/>
                  <a:pt x="18088" y="13024"/>
                  <a:pt x="18083" y="13072"/>
                </a:cubicBezTo>
                <a:cubicBezTo>
                  <a:pt x="18078" y="13125"/>
                  <a:pt x="18028" y="13127"/>
                  <a:pt x="18008" y="13171"/>
                </a:cubicBezTo>
                <a:cubicBezTo>
                  <a:pt x="17995" y="13201"/>
                  <a:pt x="17969" y="13240"/>
                  <a:pt x="17959" y="13271"/>
                </a:cubicBezTo>
                <a:cubicBezTo>
                  <a:pt x="17959" y="13295"/>
                  <a:pt x="17959" y="13304"/>
                  <a:pt x="17959" y="13320"/>
                </a:cubicBezTo>
                <a:cubicBezTo>
                  <a:pt x="18025" y="13320"/>
                  <a:pt x="18070" y="13309"/>
                  <a:pt x="18132" y="13295"/>
                </a:cubicBezTo>
                <a:cubicBezTo>
                  <a:pt x="18205" y="13278"/>
                  <a:pt x="18253" y="13246"/>
                  <a:pt x="18331" y="13246"/>
                </a:cubicBezTo>
                <a:cubicBezTo>
                  <a:pt x="18344" y="13246"/>
                  <a:pt x="18490" y="13247"/>
                  <a:pt x="18455" y="13221"/>
                </a:cubicBezTo>
                <a:cubicBezTo>
                  <a:pt x="18447" y="13221"/>
                  <a:pt x="18438" y="13221"/>
                  <a:pt x="18430" y="13221"/>
                </a:cubicBezTo>
              </a:path>
              <a:path w="795" h="1018">
                <a:moveTo>
                  <a:pt x="18331" y="13047"/>
                </a:moveTo>
                <a:cubicBezTo>
                  <a:pt x="18323" y="13047"/>
                  <a:pt x="18314" y="13047"/>
                  <a:pt x="18306" y="13047"/>
                </a:cubicBezTo>
                <a:cubicBezTo>
                  <a:pt x="18306" y="13105"/>
                  <a:pt x="18294" y="13141"/>
                  <a:pt x="18281" y="13196"/>
                </a:cubicBezTo>
                <a:cubicBezTo>
                  <a:pt x="18272" y="13235"/>
                  <a:pt x="18256" y="13250"/>
                  <a:pt x="18256" y="13295"/>
                </a:cubicBezTo>
                <a:cubicBezTo>
                  <a:pt x="18256" y="13320"/>
                  <a:pt x="18256" y="13345"/>
                  <a:pt x="18256" y="13370"/>
                </a:cubicBezTo>
                <a:cubicBezTo>
                  <a:pt x="18322" y="13387"/>
                  <a:pt x="18305" y="13403"/>
                  <a:pt x="18380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47"/>
          <p:cNvSpPr/>
          <p:nvPr/>
        </p:nvSpPr>
        <p:spPr>
          <a:xfrm>
            <a:off x="6885000" y="4419720"/>
            <a:ext cx="527040" cy="430200"/>
          </a:xfrm>
          <a:custGeom>
            <a:avLst/>
            <a:gdLst/>
            <a:ahLst/>
            <a:rect l="l" t="t" r="r" b="b"/>
            <a:pathLst>
              <a:path w="1465" h="1192">
                <a:moveTo>
                  <a:pt x="19124" y="12849"/>
                </a:moveTo>
                <a:cubicBezTo>
                  <a:pt x="19174" y="12836"/>
                  <a:pt x="19178" y="12807"/>
                  <a:pt x="19224" y="12849"/>
                </a:cubicBezTo>
                <a:cubicBezTo>
                  <a:pt x="19254" y="12876"/>
                  <a:pt x="19329" y="12887"/>
                  <a:pt x="19372" y="12898"/>
                </a:cubicBezTo>
                <a:cubicBezTo>
                  <a:pt x="19420" y="12910"/>
                  <a:pt x="19559" y="12909"/>
                  <a:pt x="19571" y="12874"/>
                </a:cubicBezTo>
              </a:path>
              <a:path w="1465" h="1192">
                <a:moveTo>
                  <a:pt x="19447" y="12700"/>
                </a:moveTo>
                <a:cubicBezTo>
                  <a:pt x="19447" y="12708"/>
                  <a:pt x="19447" y="12717"/>
                  <a:pt x="19447" y="12725"/>
                </a:cubicBezTo>
                <a:cubicBezTo>
                  <a:pt x="19410" y="12749"/>
                  <a:pt x="19422" y="12792"/>
                  <a:pt x="19422" y="12849"/>
                </a:cubicBezTo>
                <a:cubicBezTo>
                  <a:pt x="19422" y="12915"/>
                  <a:pt x="19422" y="12981"/>
                  <a:pt x="19422" y="13047"/>
                </a:cubicBezTo>
                <a:cubicBezTo>
                  <a:pt x="19467" y="13047"/>
                  <a:pt x="19480" y="13051"/>
                  <a:pt x="19496" y="13022"/>
                </a:cubicBezTo>
              </a:path>
              <a:path w="1465" h="1192">
                <a:moveTo>
                  <a:pt x="20389" y="12278"/>
                </a:moveTo>
                <a:cubicBezTo>
                  <a:pt x="20389" y="12350"/>
                  <a:pt x="20381" y="12385"/>
                  <a:pt x="20365" y="12452"/>
                </a:cubicBezTo>
                <a:cubicBezTo>
                  <a:pt x="20351" y="12510"/>
                  <a:pt x="20382" y="12553"/>
                  <a:pt x="20340" y="12601"/>
                </a:cubicBezTo>
                <a:cubicBezTo>
                  <a:pt x="20317" y="12627"/>
                  <a:pt x="20279" y="12693"/>
                  <a:pt x="20265" y="12725"/>
                </a:cubicBezTo>
                <a:cubicBezTo>
                  <a:pt x="20265" y="12750"/>
                  <a:pt x="20265" y="12758"/>
                  <a:pt x="20241" y="12750"/>
                </a:cubicBezTo>
              </a:path>
              <a:path w="1465" h="1192">
                <a:moveTo>
                  <a:pt x="19844" y="12774"/>
                </a:moveTo>
                <a:cubicBezTo>
                  <a:pt x="20012" y="12774"/>
                  <a:pt x="20180" y="12772"/>
                  <a:pt x="20340" y="12799"/>
                </a:cubicBezTo>
                <a:cubicBezTo>
                  <a:pt x="20387" y="12807"/>
                  <a:pt x="20423" y="12819"/>
                  <a:pt x="20464" y="12824"/>
                </a:cubicBezTo>
                <a:cubicBezTo>
                  <a:pt x="20505" y="12829"/>
                  <a:pt x="20517" y="12849"/>
                  <a:pt x="20563" y="12849"/>
                </a:cubicBezTo>
                <a:cubicBezTo>
                  <a:pt x="20571" y="12849"/>
                  <a:pt x="20580" y="12849"/>
                  <a:pt x="20588" y="12849"/>
                </a:cubicBezTo>
              </a:path>
              <a:path w="1465" h="1192">
                <a:moveTo>
                  <a:pt x="20017" y="12923"/>
                </a:moveTo>
                <a:cubicBezTo>
                  <a:pt x="19993" y="12923"/>
                  <a:pt x="19984" y="12923"/>
                  <a:pt x="19968" y="12923"/>
                </a:cubicBezTo>
                <a:cubicBezTo>
                  <a:pt x="19968" y="12995"/>
                  <a:pt x="19947" y="13032"/>
                  <a:pt x="19943" y="13097"/>
                </a:cubicBezTo>
                <a:cubicBezTo>
                  <a:pt x="19942" y="13121"/>
                  <a:pt x="19932" y="13252"/>
                  <a:pt x="19918" y="13271"/>
                </a:cubicBezTo>
                <a:cubicBezTo>
                  <a:pt x="19909" y="13283"/>
                  <a:pt x="19888" y="13314"/>
                  <a:pt x="19869" y="13320"/>
                </a:cubicBezTo>
                <a:cubicBezTo>
                  <a:pt x="19917" y="13320"/>
                  <a:pt x="19930" y="13318"/>
                  <a:pt x="19968" y="13295"/>
                </a:cubicBezTo>
              </a:path>
              <a:path w="1465" h="1192">
                <a:moveTo>
                  <a:pt x="20389" y="12948"/>
                </a:moveTo>
                <a:cubicBezTo>
                  <a:pt x="20365" y="12956"/>
                  <a:pt x="20329" y="13011"/>
                  <a:pt x="20315" y="13047"/>
                </a:cubicBezTo>
                <a:cubicBezTo>
                  <a:pt x="20299" y="13088"/>
                  <a:pt x="20271" y="13136"/>
                  <a:pt x="20241" y="13171"/>
                </a:cubicBezTo>
                <a:cubicBezTo>
                  <a:pt x="20206" y="13211"/>
                  <a:pt x="20216" y="13241"/>
                  <a:pt x="20216" y="13295"/>
                </a:cubicBezTo>
                <a:cubicBezTo>
                  <a:pt x="20216" y="13345"/>
                  <a:pt x="20216" y="13394"/>
                  <a:pt x="20216" y="13444"/>
                </a:cubicBezTo>
                <a:cubicBezTo>
                  <a:pt x="20261" y="13444"/>
                  <a:pt x="20275" y="13466"/>
                  <a:pt x="20315" y="13469"/>
                </a:cubicBezTo>
                <a:cubicBezTo>
                  <a:pt x="20372" y="13473"/>
                  <a:pt x="20384" y="13444"/>
                  <a:pt x="20439" y="13444"/>
                </a:cubicBezTo>
                <a:cubicBezTo>
                  <a:pt x="20439" y="13396"/>
                  <a:pt x="20480" y="13367"/>
                  <a:pt x="20464" y="13320"/>
                </a:cubicBezTo>
                <a:cubicBezTo>
                  <a:pt x="20453" y="13288"/>
                  <a:pt x="20367" y="13274"/>
                  <a:pt x="20340" y="13271"/>
                </a:cubicBezTo>
                <a:cubicBezTo>
                  <a:pt x="20334" y="13270"/>
                  <a:pt x="20227" y="13268"/>
                  <a:pt x="20265" y="13295"/>
                </a:cubicBezTo>
                <a:cubicBezTo>
                  <a:pt x="20290" y="13295"/>
                  <a:pt x="20298" y="13295"/>
                  <a:pt x="20315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48"/>
          <p:cNvSpPr/>
          <p:nvPr/>
        </p:nvSpPr>
        <p:spPr>
          <a:xfrm>
            <a:off x="7599240" y="4616280"/>
            <a:ext cx="152640" cy="81000"/>
          </a:xfrm>
          <a:custGeom>
            <a:avLst/>
            <a:gdLst/>
            <a:ahLst/>
            <a:rect l="l" t="t" r="r" b="b"/>
            <a:pathLst>
              <a:path w="422" h="224">
                <a:moveTo>
                  <a:pt x="21109" y="12824"/>
                </a:moveTo>
                <a:cubicBezTo>
                  <a:pt x="21125" y="12873"/>
                  <a:pt x="21138" y="12833"/>
                  <a:pt x="21183" y="12849"/>
                </a:cubicBezTo>
                <a:cubicBezTo>
                  <a:pt x="21243" y="12870"/>
                  <a:pt x="21267" y="12874"/>
                  <a:pt x="21332" y="12874"/>
                </a:cubicBezTo>
                <a:cubicBezTo>
                  <a:pt x="21373" y="12874"/>
                  <a:pt x="21415" y="12874"/>
                  <a:pt x="21456" y="12874"/>
                </a:cubicBezTo>
                <a:cubicBezTo>
                  <a:pt x="21428" y="12846"/>
                  <a:pt x="21415" y="12837"/>
                  <a:pt x="21382" y="12849"/>
                </a:cubicBezTo>
              </a:path>
              <a:path w="422" h="224">
                <a:moveTo>
                  <a:pt x="21109" y="12948"/>
                </a:moveTo>
                <a:cubicBezTo>
                  <a:pt x="21122" y="13014"/>
                  <a:pt x="21149" y="13029"/>
                  <a:pt x="21208" y="13047"/>
                </a:cubicBezTo>
                <a:cubicBezTo>
                  <a:pt x="21278" y="13068"/>
                  <a:pt x="21492" y="13003"/>
                  <a:pt x="21530" y="13022"/>
                </a:cubicBezTo>
                <a:cubicBezTo>
                  <a:pt x="21530" y="13030"/>
                  <a:pt x="21530" y="13039"/>
                  <a:pt x="21530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49"/>
          <p:cNvSpPr/>
          <p:nvPr/>
        </p:nvSpPr>
        <p:spPr>
          <a:xfrm>
            <a:off x="7939080" y="4394160"/>
            <a:ext cx="1125720" cy="500040"/>
          </a:xfrm>
          <a:custGeom>
            <a:avLst/>
            <a:gdLst/>
            <a:ahLst/>
            <a:rect l="l" t="t" r="r" b="b"/>
            <a:pathLst>
              <a:path w="3127" h="1390">
                <a:moveTo>
                  <a:pt x="22696" y="12229"/>
                </a:moveTo>
                <a:cubicBezTo>
                  <a:pt x="22696" y="12155"/>
                  <a:pt x="22699" y="12276"/>
                  <a:pt x="22696" y="12278"/>
                </a:cubicBezTo>
                <a:cubicBezTo>
                  <a:pt x="22671" y="12298"/>
                  <a:pt x="22657" y="12297"/>
                  <a:pt x="22622" y="12328"/>
                </a:cubicBezTo>
                <a:cubicBezTo>
                  <a:pt x="22586" y="12360"/>
                  <a:pt x="22568" y="12394"/>
                  <a:pt x="22547" y="12427"/>
                </a:cubicBezTo>
                <a:cubicBezTo>
                  <a:pt x="22526" y="12459"/>
                  <a:pt x="22501" y="12487"/>
                  <a:pt x="22498" y="12526"/>
                </a:cubicBezTo>
                <a:cubicBezTo>
                  <a:pt x="22496" y="12556"/>
                  <a:pt x="22499" y="12634"/>
                  <a:pt x="22523" y="12650"/>
                </a:cubicBezTo>
                <a:cubicBezTo>
                  <a:pt x="22554" y="12671"/>
                  <a:pt x="22590" y="12718"/>
                  <a:pt x="22622" y="12725"/>
                </a:cubicBezTo>
                <a:cubicBezTo>
                  <a:pt x="22661" y="12734"/>
                  <a:pt x="22689" y="12686"/>
                  <a:pt x="22721" y="12675"/>
                </a:cubicBezTo>
                <a:cubicBezTo>
                  <a:pt x="22769" y="12659"/>
                  <a:pt x="22771" y="12654"/>
                  <a:pt x="22771" y="12601"/>
                </a:cubicBezTo>
                <a:cubicBezTo>
                  <a:pt x="22771" y="12556"/>
                  <a:pt x="22773" y="12530"/>
                  <a:pt x="22721" y="12526"/>
                </a:cubicBezTo>
                <a:cubicBezTo>
                  <a:pt x="22644" y="12521"/>
                  <a:pt x="22585" y="12530"/>
                  <a:pt x="22523" y="12551"/>
                </a:cubicBezTo>
                <a:cubicBezTo>
                  <a:pt x="22487" y="12563"/>
                  <a:pt x="22495" y="12574"/>
                  <a:pt x="22473" y="12626"/>
                </a:cubicBezTo>
              </a:path>
              <a:path w="3127" h="1390">
                <a:moveTo>
                  <a:pt x="22051" y="12774"/>
                </a:moveTo>
                <a:cubicBezTo>
                  <a:pt x="22110" y="12774"/>
                  <a:pt x="22104" y="12810"/>
                  <a:pt x="22151" y="12824"/>
                </a:cubicBezTo>
                <a:cubicBezTo>
                  <a:pt x="22206" y="12840"/>
                  <a:pt x="22318" y="12842"/>
                  <a:pt x="22374" y="12849"/>
                </a:cubicBezTo>
                <a:cubicBezTo>
                  <a:pt x="22534" y="12868"/>
                  <a:pt x="22691" y="12838"/>
                  <a:pt x="22845" y="12874"/>
                </a:cubicBezTo>
                <a:cubicBezTo>
                  <a:pt x="22882" y="12883"/>
                  <a:pt x="23010" y="12857"/>
                  <a:pt x="22969" y="12874"/>
                </a:cubicBezTo>
                <a:cubicBezTo>
                  <a:pt x="22926" y="12895"/>
                  <a:pt x="22914" y="12908"/>
                  <a:pt x="22895" y="12874"/>
                </a:cubicBezTo>
              </a:path>
              <a:path w="3127" h="1390">
                <a:moveTo>
                  <a:pt x="22299" y="12923"/>
                </a:moveTo>
                <a:cubicBezTo>
                  <a:pt x="22268" y="12966"/>
                  <a:pt x="22274" y="13028"/>
                  <a:pt x="22250" y="13072"/>
                </a:cubicBezTo>
                <a:cubicBezTo>
                  <a:pt x="22228" y="13111"/>
                  <a:pt x="22244" y="13161"/>
                  <a:pt x="22225" y="13196"/>
                </a:cubicBezTo>
                <a:cubicBezTo>
                  <a:pt x="22202" y="13237"/>
                  <a:pt x="22200" y="13244"/>
                  <a:pt x="22200" y="13295"/>
                </a:cubicBezTo>
                <a:cubicBezTo>
                  <a:pt x="22225" y="13295"/>
                  <a:pt x="22233" y="13295"/>
                  <a:pt x="22250" y="13295"/>
                </a:cubicBezTo>
              </a:path>
              <a:path w="3127" h="1390">
                <a:moveTo>
                  <a:pt x="22696" y="12998"/>
                </a:moveTo>
                <a:cubicBezTo>
                  <a:pt x="22669" y="13016"/>
                  <a:pt x="22675" y="13078"/>
                  <a:pt x="22647" y="13097"/>
                </a:cubicBezTo>
                <a:cubicBezTo>
                  <a:pt x="22631" y="13108"/>
                  <a:pt x="22587" y="13137"/>
                  <a:pt x="22572" y="13171"/>
                </a:cubicBezTo>
                <a:cubicBezTo>
                  <a:pt x="22560" y="13198"/>
                  <a:pt x="22561" y="13246"/>
                  <a:pt x="22547" y="13271"/>
                </a:cubicBezTo>
                <a:cubicBezTo>
                  <a:pt x="22514" y="13331"/>
                  <a:pt x="22528" y="13311"/>
                  <a:pt x="22547" y="13370"/>
                </a:cubicBezTo>
                <a:cubicBezTo>
                  <a:pt x="22560" y="13410"/>
                  <a:pt x="22595" y="13415"/>
                  <a:pt x="22647" y="13419"/>
                </a:cubicBezTo>
                <a:cubicBezTo>
                  <a:pt x="22700" y="13423"/>
                  <a:pt x="22682" y="13439"/>
                  <a:pt x="22721" y="13444"/>
                </a:cubicBezTo>
                <a:cubicBezTo>
                  <a:pt x="22746" y="13447"/>
                  <a:pt x="22793" y="13401"/>
                  <a:pt x="22796" y="13395"/>
                </a:cubicBezTo>
                <a:cubicBezTo>
                  <a:pt x="22803" y="13380"/>
                  <a:pt x="22796" y="13337"/>
                  <a:pt x="22796" y="13320"/>
                </a:cubicBezTo>
                <a:cubicBezTo>
                  <a:pt x="22730" y="13320"/>
                  <a:pt x="22766" y="13301"/>
                  <a:pt x="22696" y="13295"/>
                </a:cubicBezTo>
                <a:cubicBezTo>
                  <a:pt x="22630" y="13289"/>
                  <a:pt x="22570" y="13290"/>
                  <a:pt x="22572" y="13295"/>
                </a:cubicBezTo>
                <a:cubicBezTo>
                  <a:pt x="22572" y="13303"/>
                  <a:pt x="22572" y="13312"/>
                  <a:pt x="22572" y="13320"/>
                </a:cubicBezTo>
              </a:path>
              <a:path w="3127" h="1390">
                <a:moveTo>
                  <a:pt x="23465" y="12898"/>
                </a:moveTo>
                <a:cubicBezTo>
                  <a:pt x="23424" y="12908"/>
                  <a:pt x="23396" y="12927"/>
                  <a:pt x="23391" y="12973"/>
                </a:cubicBezTo>
                <a:cubicBezTo>
                  <a:pt x="23384" y="13034"/>
                  <a:pt x="23400" y="13074"/>
                  <a:pt x="23416" y="13122"/>
                </a:cubicBezTo>
                <a:cubicBezTo>
                  <a:pt x="23426" y="13150"/>
                  <a:pt x="23450" y="13167"/>
                  <a:pt x="23490" y="13171"/>
                </a:cubicBezTo>
                <a:cubicBezTo>
                  <a:pt x="23534" y="13176"/>
                  <a:pt x="23557" y="13174"/>
                  <a:pt x="23589" y="13146"/>
                </a:cubicBezTo>
                <a:cubicBezTo>
                  <a:pt x="23623" y="13116"/>
                  <a:pt x="23614" y="13090"/>
                  <a:pt x="23614" y="13047"/>
                </a:cubicBezTo>
                <a:cubicBezTo>
                  <a:pt x="23614" y="12995"/>
                  <a:pt x="23582" y="12998"/>
                  <a:pt x="23540" y="12998"/>
                </a:cubicBezTo>
                <a:cubicBezTo>
                  <a:pt x="23495" y="12998"/>
                  <a:pt x="23478" y="13011"/>
                  <a:pt x="23465" y="12973"/>
                </a:cubicBezTo>
              </a:path>
              <a:path w="3127" h="1390">
                <a:moveTo>
                  <a:pt x="23763" y="12973"/>
                </a:moveTo>
                <a:cubicBezTo>
                  <a:pt x="23763" y="13063"/>
                  <a:pt x="23790" y="13201"/>
                  <a:pt x="23738" y="13271"/>
                </a:cubicBezTo>
                <a:cubicBezTo>
                  <a:pt x="23748" y="13231"/>
                  <a:pt x="23776" y="13208"/>
                  <a:pt x="23788" y="13171"/>
                </a:cubicBezTo>
                <a:cubicBezTo>
                  <a:pt x="23803" y="13126"/>
                  <a:pt x="23786" y="13065"/>
                  <a:pt x="23812" y="13022"/>
                </a:cubicBezTo>
                <a:cubicBezTo>
                  <a:pt x="23837" y="12982"/>
                  <a:pt x="23893" y="12940"/>
                  <a:pt x="23912" y="12898"/>
                </a:cubicBezTo>
                <a:cubicBezTo>
                  <a:pt x="23927" y="12865"/>
                  <a:pt x="23959" y="12869"/>
                  <a:pt x="23986" y="12849"/>
                </a:cubicBezTo>
                <a:cubicBezTo>
                  <a:pt x="24021" y="12823"/>
                  <a:pt x="24017" y="12824"/>
                  <a:pt x="24061" y="12824"/>
                </a:cubicBezTo>
                <a:cubicBezTo>
                  <a:pt x="24061" y="12865"/>
                  <a:pt x="24055" y="12904"/>
                  <a:pt x="24011" y="12923"/>
                </a:cubicBezTo>
                <a:cubicBezTo>
                  <a:pt x="23981" y="12936"/>
                  <a:pt x="23943" y="12963"/>
                  <a:pt x="23912" y="12973"/>
                </a:cubicBezTo>
                <a:cubicBezTo>
                  <a:pt x="23870" y="12987"/>
                  <a:pt x="23881" y="13012"/>
                  <a:pt x="23912" y="13047"/>
                </a:cubicBezTo>
                <a:cubicBezTo>
                  <a:pt x="23927" y="13064"/>
                  <a:pt x="23979" y="13141"/>
                  <a:pt x="23986" y="13146"/>
                </a:cubicBezTo>
                <a:cubicBezTo>
                  <a:pt x="24018" y="13167"/>
                  <a:pt x="24014" y="13166"/>
                  <a:pt x="24036" y="13196"/>
                </a:cubicBezTo>
                <a:cubicBezTo>
                  <a:pt x="24060" y="13228"/>
                  <a:pt x="24052" y="13267"/>
                  <a:pt x="24085" y="13271"/>
                </a:cubicBezTo>
                <a:cubicBezTo>
                  <a:pt x="24093" y="13271"/>
                  <a:pt x="24102" y="13271"/>
                  <a:pt x="24110" y="13271"/>
                </a:cubicBezTo>
              </a:path>
              <a:path w="3127" h="1390">
                <a:moveTo>
                  <a:pt x="24606" y="12278"/>
                </a:moveTo>
                <a:cubicBezTo>
                  <a:pt x="24614" y="12256"/>
                  <a:pt x="24658" y="12232"/>
                  <a:pt x="24681" y="12229"/>
                </a:cubicBezTo>
                <a:cubicBezTo>
                  <a:pt x="24725" y="12223"/>
                  <a:pt x="24748" y="12226"/>
                  <a:pt x="24780" y="12254"/>
                </a:cubicBezTo>
                <a:cubicBezTo>
                  <a:pt x="24822" y="12290"/>
                  <a:pt x="24829" y="12269"/>
                  <a:pt x="24829" y="12328"/>
                </a:cubicBezTo>
                <a:cubicBezTo>
                  <a:pt x="24829" y="12364"/>
                  <a:pt x="24845" y="12432"/>
                  <a:pt x="24805" y="12452"/>
                </a:cubicBezTo>
                <a:cubicBezTo>
                  <a:pt x="24788" y="12461"/>
                  <a:pt x="24744" y="12494"/>
                  <a:pt x="24730" y="12526"/>
                </a:cubicBezTo>
                <a:cubicBezTo>
                  <a:pt x="24710" y="12571"/>
                  <a:pt x="24712" y="12576"/>
                  <a:pt x="24656" y="12576"/>
                </a:cubicBezTo>
                <a:cubicBezTo>
                  <a:pt x="24600" y="12576"/>
                  <a:pt x="24686" y="12599"/>
                  <a:pt x="24705" y="12601"/>
                </a:cubicBezTo>
                <a:cubicBezTo>
                  <a:pt x="24722" y="12603"/>
                  <a:pt x="24788" y="12623"/>
                  <a:pt x="24805" y="12650"/>
                </a:cubicBezTo>
                <a:cubicBezTo>
                  <a:pt x="24814" y="12664"/>
                  <a:pt x="24846" y="12694"/>
                  <a:pt x="24829" y="12725"/>
                </a:cubicBezTo>
                <a:cubicBezTo>
                  <a:pt x="24815" y="12751"/>
                  <a:pt x="24730" y="12771"/>
                  <a:pt x="24705" y="12774"/>
                </a:cubicBezTo>
                <a:cubicBezTo>
                  <a:pt x="24673" y="12777"/>
                  <a:pt x="24623" y="12784"/>
                  <a:pt x="24606" y="12750"/>
                </a:cubicBezTo>
                <a:cubicBezTo>
                  <a:pt x="24591" y="12720"/>
                  <a:pt x="24554" y="12695"/>
                  <a:pt x="24581" y="12675"/>
                </a:cubicBezTo>
                <a:cubicBezTo>
                  <a:pt x="24606" y="12675"/>
                  <a:pt x="24614" y="12675"/>
                  <a:pt x="24606" y="12700"/>
                </a:cubicBezTo>
              </a:path>
              <a:path w="3127" h="1390">
                <a:moveTo>
                  <a:pt x="24333" y="12874"/>
                </a:moveTo>
                <a:cubicBezTo>
                  <a:pt x="24366" y="12874"/>
                  <a:pt x="24374" y="12882"/>
                  <a:pt x="24358" y="12923"/>
                </a:cubicBezTo>
                <a:cubicBezTo>
                  <a:pt x="24583" y="12923"/>
                  <a:pt x="24875" y="12879"/>
                  <a:pt x="25078" y="12948"/>
                </a:cubicBezTo>
                <a:cubicBezTo>
                  <a:pt x="25126" y="12965"/>
                  <a:pt x="25160" y="12922"/>
                  <a:pt x="25177" y="12973"/>
                </a:cubicBezTo>
                <a:cubicBezTo>
                  <a:pt x="25177" y="13001"/>
                  <a:pt x="25175" y="13007"/>
                  <a:pt x="25152" y="12973"/>
                </a:cubicBezTo>
              </a:path>
              <a:path w="3127" h="1390">
                <a:moveTo>
                  <a:pt x="24532" y="13146"/>
                </a:moveTo>
                <a:cubicBezTo>
                  <a:pt x="24522" y="13186"/>
                  <a:pt x="24494" y="13209"/>
                  <a:pt x="24482" y="13246"/>
                </a:cubicBezTo>
                <a:cubicBezTo>
                  <a:pt x="24473" y="13272"/>
                  <a:pt x="24470" y="13321"/>
                  <a:pt x="24457" y="13345"/>
                </a:cubicBezTo>
                <a:cubicBezTo>
                  <a:pt x="24440" y="13378"/>
                  <a:pt x="24423" y="13416"/>
                  <a:pt x="24408" y="13444"/>
                </a:cubicBezTo>
                <a:cubicBezTo>
                  <a:pt x="24385" y="13467"/>
                  <a:pt x="24374" y="13475"/>
                  <a:pt x="24408" y="13469"/>
                </a:cubicBezTo>
              </a:path>
              <a:path w="3127" h="1390">
                <a:moveTo>
                  <a:pt x="24631" y="13271"/>
                </a:moveTo>
                <a:cubicBezTo>
                  <a:pt x="24639" y="13248"/>
                  <a:pt x="24682" y="13224"/>
                  <a:pt x="24705" y="13221"/>
                </a:cubicBezTo>
                <a:cubicBezTo>
                  <a:pt x="24758" y="13214"/>
                  <a:pt x="24784" y="13211"/>
                  <a:pt x="24829" y="13196"/>
                </a:cubicBezTo>
                <a:cubicBezTo>
                  <a:pt x="24854" y="13196"/>
                  <a:pt x="24862" y="13196"/>
                  <a:pt x="24879" y="13196"/>
                </a:cubicBezTo>
                <a:cubicBezTo>
                  <a:pt x="24879" y="13252"/>
                  <a:pt x="24891" y="13303"/>
                  <a:pt x="24854" y="13345"/>
                </a:cubicBezTo>
                <a:cubicBezTo>
                  <a:pt x="24824" y="13379"/>
                  <a:pt x="24805" y="13377"/>
                  <a:pt x="24780" y="13395"/>
                </a:cubicBezTo>
                <a:cubicBezTo>
                  <a:pt x="24743" y="13422"/>
                  <a:pt x="24741" y="13410"/>
                  <a:pt x="24730" y="13444"/>
                </a:cubicBezTo>
                <a:cubicBezTo>
                  <a:pt x="24748" y="13498"/>
                  <a:pt x="24762" y="13444"/>
                  <a:pt x="24805" y="13469"/>
                </a:cubicBezTo>
                <a:cubicBezTo>
                  <a:pt x="24841" y="13489"/>
                  <a:pt x="24869" y="13489"/>
                  <a:pt x="24879" y="13519"/>
                </a:cubicBezTo>
                <a:cubicBezTo>
                  <a:pt x="24866" y="13556"/>
                  <a:pt x="24856" y="13547"/>
                  <a:pt x="24829" y="13568"/>
                </a:cubicBezTo>
                <a:cubicBezTo>
                  <a:pt x="24788" y="13599"/>
                  <a:pt x="24756" y="13593"/>
                  <a:pt x="24705" y="13593"/>
                </a:cubicBezTo>
                <a:cubicBezTo>
                  <a:pt x="24642" y="13593"/>
                  <a:pt x="24662" y="13564"/>
                  <a:pt x="24631" y="13543"/>
                </a:cubicBezTo>
                <a:cubicBezTo>
                  <a:pt x="24606" y="13543"/>
                  <a:pt x="24598" y="13543"/>
                  <a:pt x="24606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50"/>
          <p:cNvSpPr/>
          <p:nvPr/>
        </p:nvSpPr>
        <p:spPr>
          <a:xfrm>
            <a:off x="1098720" y="5224320"/>
            <a:ext cx="357120" cy="160560"/>
          </a:xfrm>
          <a:custGeom>
            <a:avLst/>
            <a:gdLst/>
            <a:ahLst/>
            <a:rect l="l" t="t" r="r" b="b"/>
            <a:pathLst>
              <a:path w="993" h="447">
                <a:moveTo>
                  <a:pt x="3051" y="14908"/>
                </a:moveTo>
                <a:cubicBezTo>
                  <a:pt x="3067" y="14876"/>
                  <a:pt x="3103" y="14840"/>
                  <a:pt x="3125" y="14808"/>
                </a:cubicBezTo>
                <a:cubicBezTo>
                  <a:pt x="3150" y="14771"/>
                  <a:pt x="3197" y="14779"/>
                  <a:pt x="3225" y="14734"/>
                </a:cubicBezTo>
                <a:cubicBezTo>
                  <a:pt x="3248" y="14697"/>
                  <a:pt x="3307" y="14648"/>
                  <a:pt x="3324" y="14610"/>
                </a:cubicBezTo>
                <a:cubicBezTo>
                  <a:pt x="3337" y="14581"/>
                  <a:pt x="3360" y="14577"/>
                  <a:pt x="3373" y="14536"/>
                </a:cubicBezTo>
                <a:cubicBezTo>
                  <a:pt x="3373" y="14528"/>
                  <a:pt x="3373" y="14519"/>
                  <a:pt x="3373" y="14511"/>
                </a:cubicBezTo>
                <a:cubicBezTo>
                  <a:pt x="3399" y="14520"/>
                  <a:pt x="3419" y="14529"/>
                  <a:pt x="3423" y="14560"/>
                </a:cubicBezTo>
                <a:cubicBezTo>
                  <a:pt x="3435" y="14652"/>
                  <a:pt x="3419" y="14749"/>
                  <a:pt x="3448" y="14808"/>
                </a:cubicBezTo>
                <a:cubicBezTo>
                  <a:pt x="3458" y="14829"/>
                  <a:pt x="3448" y="14884"/>
                  <a:pt x="3448" y="14908"/>
                </a:cubicBezTo>
              </a:path>
              <a:path w="993" h="447">
                <a:moveTo>
                  <a:pt x="3175" y="14784"/>
                </a:moveTo>
                <a:cubicBezTo>
                  <a:pt x="3183" y="14784"/>
                  <a:pt x="3192" y="14784"/>
                  <a:pt x="3200" y="14784"/>
                </a:cubicBezTo>
                <a:cubicBezTo>
                  <a:pt x="3213" y="14746"/>
                  <a:pt x="3229" y="14759"/>
                  <a:pt x="3274" y="14759"/>
                </a:cubicBezTo>
                <a:cubicBezTo>
                  <a:pt x="3324" y="14759"/>
                  <a:pt x="3373" y="14759"/>
                  <a:pt x="3423" y="14759"/>
                </a:cubicBezTo>
              </a:path>
              <a:path w="993" h="447">
                <a:moveTo>
                  <a:pt x="3770" y="14610"/>
                </a:moveTo>
                <a:cubicBezTo>
                  <a:pt x="3770" y="14659"/>
                  <a:pt x="3759" y="14669"/>
                  <a:pt x="3746" y="14709"/>
                </a:cubicBezTo>
                <a:cubicBezTo>
                  <a:pt x="3734" y="14746"/>
                  <a:pt x="3730" y="14767"/>
                  <a:pt x="3721" y="14784"/>
                </a:cubicBezTo>
                <a:cubicBezTo>
                  <a:pt x="3697" y="14831"/>
                  <a:pt x="3734" y="14831"/>
                  <a:pt x="3746" y="14808"/>
                </a:cubicBezTo>
                <a:cubicBezTo>
                  <a:pt x="3760" y="14781"/>
                  <a:pt x="3756" y="14734"/>
                  <a:pt x="3770" y="14709"/>
                </a:cubicBezTo>
                <a:cubicBezTo>
                  <a:pt x="3792" y="14669"/>
                  <a:pt x="3816" y="14670"/>
                  <a:pt x="3820" y="14635"/>
                </a:cubicBezTo>
                <a:cubicBezTo>
                  <a:pt x="3824" y="14603"/>
                  <a:pt x="3826" y="14570"/>
                  <a:pt x="3845" y="14560"/>
                </a:cubicBezTo>
                <a:cubicBezTo>
                  <a:pt x="3866" y="14550"/>
                  <a:pt x="3922" y="14538"/>
                  <a:pt x="3944" y="14536"/>
                </a:cubicBezTo>
                <a:cubicBezTo>
                  <a:pt x="3969" y="14536"/>
                  <a:pt x="3977" y="14536"/>
                  <a:pt x="3994" y="14536"/>
                </a:cubicBezTo>
                <a:cubicBezTo>
                  <a:pt x="3994" y="14591"/>
                  <a:pt x="4013" y="14570"/>
                  <a:pt x="4018" y="14610"/>
                </a:cubicBezTo>
                <a:cubicBezTo>
                  <a:pt x="4022" y="14640"/>
                  <a:pt x="4008" y="14677"/>
                  <a:pt x="3994" y="14684"/>
                </a:cubicBezTo>
                <a:cubicBezTo>
                  <a:pt x="3951" y="14705"/>
                  <a:pt x="3822" y="14734"/>
                  <a:pt x="3870" y="14734"/>
                </a:cubicBezTo>
                <a:cubicBezTo>
                  <a:pt x="3932" y="14734"/>
                  <a:pt x="3964" y="14744"/>
                  <a:pt x="3994" y="14759"/>
                </a:cubicBezTo>
                <a:cubicBezTo>
                  <a:pt x="4014" y="14769"/>
                  <a:pt x="4032" y="14800"/>
                  <a:pt x="4043" y="14833"/>
                </a:cubicBezTo>
                <a:cubicBezTo>
                  <a:pt x="4051" y="14857"/>
                  <a:pt x="4031" y="14923"/>
                  <a:pt x="4018" y="14932"/>
                </a:cubicBezTo>
                <a:cubicBezTo>
                  <a:pt x="4010" y="14937"/>
                  <a:pt x="3928" y="14954"/>
                  <a:pt x="3919" y="14957"/>
                </a:cubicBezTo>
                <a:cubicBezTo>
                  <a:pt x="3905" y="14962"/>
                  <a:pt x="3784" y="14964"/>
                  <a:pt x="3795" y="14932"/>
                </a:cubicBezTo>
                <a:cubicBezTo>
                  <a:pt x="3823" y="14932"/>
                  <a:pt x="3834" y="14930"/>
                  <a:pt x="3845" y="149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51"/>
          <p:cNvSpPr/>
          <p:nvPr/>
        </p:nvSpPr>
        <p:spPr>
          <a:xfrm>
            <a:off x="1795320" y="5286240"/>
            <a:ext cx="293760" cy="142920"/>
          </a:xfrm>
          <a:custGeom>
            <a:avLst/>
            <a:gdLst/>
            <a:ahLst/>
            <a:rect l="l" t="t" r="r" b="b"/>
            <a:pathLst>
              <a:path w="819" h="398">
                <a:moveTo>
                  <a:pt x="5110" y="14784"/>
                </a:moveTo>
                <a:cubicBezTo>
                  <a:pt x="5060" y="14784"/>
                  <a:pt x="5055" y="14798"/>
                  <a:pt x="5035" y="14808"/>
                </a:cubicBezTo>
                <a:cubicBezTo>
                  <a:pt x="4996" y="14828"/>
                  <a:pt x="4991" y="14824"/>
                  <a:pt x="4986" y="14883"/>
                </a:cubicBezTo>
                <a:cubicBezTo>
                  <a:pt x="4983" y="14911"/>
                  <a:pt x="4998" y="14954"/>
                  <a:pt x="5011" y="14957"/>
                </a:cubicBezTo>
                <a:cubicBezTo>
                  <a:pt x="5055" y="14969"/>
                  <a:pt x="5088" y="14982"/>
                  <a:pt x="5135" y="14982"/>
                </a:cubicBezTo>
                <a:cubicBezTo>
                  <a:pt x="5171" y="14982"/>
                  <a:pt x="5208" y="14975"/>
                  <a:pt x="5234" y="14957"/>
                </a:cubicBezTo>
                <a:cubicBezTo>
                  <a:pt x="5276" y="14929"/>
                  <a:pt x="5283" y="14904"/>
                  <a:pt x="5283" y="14858"/>
                </a:cubicBezTo>
                <a:cubicBezTo>
                  <a:pt x="5283" y="14831"/>
                  <a:pt x="5259" y="14811"/>
                  <a:pt x="5234" y="14808"/>
                </a:cubicBezTo>
                <a:cubicBezTo>
                  <a:pt x="5192" y="14803"/>
                  <a:pt x="5115" y="14794"/>
                  <a:pt x="5110" y="14833"/>
                </a:cubicBezTo>
                <a:cubicBezTo>
                  <a:pt x="5110" y="14841"/>
                  <a:pt x="5110" y="14850"/>
                  <a:pt x="5110" y="14858"/>
                </a:cubicBezTo>
              </a:path>
              <a:path w="819" h="398">
                <a:moveTo>
                  <a:pt x="5432" y="14808"/>
                </a:moveTo>
                <a:cubicBezTo>
                  <a:pt x="5432" y="14899"/>
                  <a:pt x="5432" y="14990"/>
                  <a:pt x="5432" y="15081"/>
                </a:cubicBezTo>
                <a:cubicBezTo>
                  <a:pt x="5453" y="15020"/>
                  <a:pt x="5450" y="14937"/>
                  <a:pt x="5482" y="14883"/>
                </a:cubicBezTo>
                <a:cubicBezTo>
                  <a:pt x="5505" y="14845"/>
                  <a:pt x="5522" y="14818"/>
                  <a:pt x="5556" y="14784"/>
                </a:cubicBezTo>
                <a:cubicBezTo>
                  <a:pt x="5574" y="14766"/>
                  <a:pt x="5649" y="14718"/>
                  <a:pt x="5655" y="14709"/>
                </a:cubicBezTo>
                <a:cubicBezTo>
                  <a:pt x="5655" y="14701"/>
                  <a:pt x="5655" y="14692"/>
                  <a:pt x="5655" y="14684"/>
                </a:cubicBezTo>
                <a:cubicBezTo>
                  <a:pt x="5682" y="14693"/>
                  <a:pt x="5701" y="14702"/>
                  <a:pt x="5705" y="14734"/>
                </a:cubicBezTo>
                <a:cubicBezTo>
                  <a:pt x="5710" y="14774"/>
                  <a:pt x="5695" y="14815"/>
                  <a:pt x="5655" y="14833"/>
                </a:cubicBezTo>
                <a:cubicBezTo>
                  <a:pt x="5647" y="14836"/>
                  <a:pt x="5586" y="14875"/>
                  <a:pt x="5581" y="14883"/>
                </a:cubicBezTo>
                <a:cubicBezTo>
                  <a:pt x="5581" y="14891"/>
                  <a:pt x="5581" y="14900"/>
                  <a:pt x="5581" y="14908"/>
                </a:cubicBezTo>
                <a:cubicBezTo>
                  <a:pt x="5630" y="14908"/>
                  <a:pt x="5640" y="14919"/>
                  <a:pt x="5680" y="14932"/>
                </a:cubicBezTo>
                <a:cubicBezTo>
                  <a:pt x="5711" y="14942"/>
                  <a:pt x="5750" y="14954"/>
                  <a:pt x="5779" y="14957"/>
                </a:cubicBezTo>
                <a:cubicBezTo>
                  <a:pt x="5787" y="14957"/>
                  <a:pt x="5796" y="14957"/>
                  <a:pt x="5804" y="1495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52"/>
          <p:cNvSpPr/>
          <p:nvPr/>
        </p:nvSpPr>
        <p:spPr>
          <a:xfrm>
            <a:off x="2367000" y="5241960"/>
            <a:ext cx="303120" cy="152280"/>
          </a:xfrm>
          <a:custGeom>
            <a:avLst/>
            <a:gdLst/>
            <a:ahLst/>
            <a:rect l="l" t="t" r="r" b="b"/>
            <a:pathLst>
              <a:path w="845" h="423">
                <a:moveTo>
                  <a:pt x="6573" y="14932"/>
                </a:moveTo>
                <a:cubicBezTo>
                  <a:pt x="6610" y="14905"/>
                  <a:pt x="6636" y="14894"/>
                  <a:pt x="6672" y="14858"/>
                </a:cubicBezTo>
                <a:cubicBezTo>
                  <a:pt x="6705" y="14825"/>
                  <a:pt x="6739" y="14792"/>
                  <a:pt x="6772" y="14759"/>
                </a:cubicBezTo>
                <a:cubicBezTo>
                  <a:pt x="6802" y="14728"/>
                  <a:pt x="6824" y="14688"/>
                  <a:pt x="6846" y="14660"/>
                </a:cubicBezTo>
                <a:cubicBezTo>
                  <a:pt x="6873" y="14625"/>
                  <a:pt x="6906" y="14628"/>
                  <a:pt x="6921" y="14610"/>
                </a:cubicBezTo>
                <a:cubicBezTo>
                  <a:pt x="6921" y="14602"/>
                  <a:pt x="6921" y="14593"/>
                  <a:pt x="6921" y="14585"/>
                </a:cubicBezTo>
                <a:cubicBezTo>
                  <a:pt x="6921" y="14683"/>
                  <a:pt x="6924" y="14774"/>
                  <a:pt x="6896" y="14858"/>
                </a:cubicBezTo>
                <a:cubicBezTo>
                  <a:pt x="6885" y="14891"/>
                  <a:pt x="6896" y="14947"/>
                  <a:pt x="6896" y="14982"/>
                </a:cubicBezTo>
              </a:path>
              <a:path w="845" h="423">
                <a:moveTo>
                  <a:pt x="6722" y="14808"/>
                </a:moveTo>
                <a:cubicBezTo>
                  <a:pt x="6788" y="14808"/>
                  <a:pt x="6855" y="14808"/>
                  <a:pt x="6921" y="14808"/>
                </a:cubicBezTo>
              </a:path>
              <a:path w="845" h="423">
                <a:moveTo>
                  <a:pt x="7293" y="14560"/>
                </a:moveTo>
                <a:cubicBezTo>
                  <a:pt x="7234" y="14560"/>
                  <a:pt x="7239" y="14580"/>
                  <a:pt x="7193" y="14610"/>
                </a:cubicBezTo>
                <a:cubicBezTo>
                  <a:pt x="7112" y="14663"/>
                  <a:pt x="7131" y="14661"/>
                  <a:pt x="7094" y="14734"/>
                </a:cubicBezTo>
                <a:cubicBezTo>
                  <a:pt x="7076" y="14770"/>
                  <a:pt x="7050" y="14790"/>
                  <a:pt x="7045" y="14833"/>
                </a:cubicBezTo>
                <a:cubicBezTo>
                  <a:pt x="7041" y="14875"/>
                  <a:pt x="7053" y="14894"/>
                  <a:pt x="7094" y="14908"/>
                </a:cubicBezTo>
                <a:cubicBezTo>
                  <a:pt x="7134" y="14921"/>
                  <a:pt x="7174" y="14932"/>
                  <a:pt x="7218" y="14932"/>
                </a:cubicBezTo>
                <a:cubicBezTo>
                  <a:pt x="7284" y="14932"/>
                  <a:pt x="7351" y="14932"/>
                  <a:pt x="7417" y="1493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53"/>
          <p:cNvSpPr/>
          <p:nvPr/>
        </p:nvSpPr>
        <p:spPr>
          <a:xfrm>
            <a:off x="3044880" y="5286240"/>
            <a:ext cx="260280" cy="125640"/>
          </a:xfrm>
          <a:custGeom>
            <a:avLst/>
            <a:gdLst/>
            <a:ahLst/>
            <a:rect l="l" t="t" r="r" b="b"/>
            <a:pathLst>
              <a:path w="721" h="349">
                <a:moveTo>
                  <a:pt x="8558" y="14784"/>
                </a:moveTo>
                <a:cubicBezTo>
                  <a:pt x="8504" y="14797"/>
                  <a:pt x="8508" y="14821"/>
                  <a:pt x="8483" y="14858"/>
                </a:cubicBezTo>
                <a:cubicBezTo>
                  <a:pt x="8464" y="14886"/>
                  <a:pt x="8447" y="14933"/>
                  <a:pt x="8483" y="14957"/>
                </a:cubicBezTo>
                <a:cubicBezTo>
                  <a:pt x="8499" y="14968"/>
                  <a:pt x="8578" y="14980"/>
                  <a:pt x="8582" y="14982"/>
                </a:cubicBezTo>
                <a:cubicBezTo>
                  <a:pt x="8612" y="14997"/>
                  <a:pt x="8678" y="14939"/>
                  <a:pt x="8682" y="14932"/>
                </a:cubicBezTo>
                <a:cubicBezTo>
                  <a:pt x="8706" y="14887"/>
                  <a:pt x="8663" y="14844"/>
                  <a:pt x="8657" y="14833"/>
                </a:cubicBezTo>
                <a:cubicBezTo>
                  <a:pt x="8646" y="14810"/>
                  <a:pt x="8609" y="14787"/>
                  <a:pt x="8582" y="14784"/>
                </a:cubicBezTo>
                <a:cubicBezTo>
                  <a:pt x="8519" y="14776"/>
                  <a:pt x="8533" y="14841"/>
                  <a:pt x="8533" y="14883"/>
                </a:cubicBezTo>
              </a:path>
              <a:path w="721" h="349">
                <a:moveTo>
                  <a:pt x="8806" y="14883"/>
                </a:moveTo>
                <a:cubicBezTo>
                  <a:pt x="8806" y="14943"/>
                  <a:pt x="8816" y="14979"/>
                  <a:pt x="8830" y="15007"/>
                </a:cubicBezTo>
                <a:cubicBezTo>
                  <a:pt x="8839" y="15027"/>
                  <a:pt x="8840" y="15002"/>
                  <a:pt x="8855" y="14957"/>
                </a:cubicBezTo>
                <a:cubicBezTo>
                  <a:pt x="8868" y="14917"/>
                  <a:pt x="8900" y="14865"/>
                  <a:pt x="8930" y="14833"/>
                </a:cubicBezTo>
                <a:cubicBezTo>
                  <a:pt x="8975" y="14784"/>
                  <a:pt x="9041" y="14700"/>
                  <a:pt x="9103" y="14684"/>
                </a:cubicBezTo>
                <a:cubicBezTo>
                  <a:pt x="9103" y="14719"/>
                  <a:pt x="9097" y="14758"/>
                  <a:pt x="9079" y="14784"/>
                </a:cubicBezTo>
                <a:cubicBezTo>
                  <a:pt x="9055" y="14819"/>
                  <a:pt x="9020" y="14837"/>
                  <a:pt x="9004" y="14858"/>
                </a:cubicBezTo>
                <a:cubicBezTo>
                  <a:pt x="8970" y="14903"/>
                  <a:pt x="8969" y="14863"/>
                  <a:pt x="8954" y="14908"/>
                </a:cubicBezTo>
                <a:cubicBezTo>
                  <a:pt x="8986" y="14931"/>
                  <a:pt x="9041" y="14953"/>
                  <a:pt x="9079" y="14957"/>
                </a:cubicBezTo>
                <a:cubicBezTo>
                  <a:pt x="9128" y="14963"/>
                  <a:pt x="9137" y="14951"/>
                  <a:pt x="9178" y="149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54"/>
          <p:cNvSpPr/>
          <p:nvPr/>
        </p:nvSpPr>
        <p:spPr>
          <a:xfrm>
            <a:off x="3714840" y="5241960"/>
            <a:ext cx="303120" cy="169920"/>
          </a:xfrm>
          <a:custGeom>
            <a:avLst/>
            <a:gdLst/>
            <a:ahLst/>
            <a:rect l="l" t="t" r="r" b="b"/>
            <a:pathLst>
              <a:path w="844" h="473">
                <a:moveTo>
                  <a:pt x="10368" y="14684"/>
                </a:moveTo>
                <a:cubicBezTo>
                  <a:pt x="10368" y="14739"/>
                  <a:pt x="10356" y="14760"/>
                  <a:pt x="10344" y="14784"/>
                </a:cubicBezTo>
                <a:cubicBezTo>
                  <a:pt x="10334" y="14803"/>
                  <a:pt x="10325" y="14864"/>
                  <a:pt x="10319" y="14883"/>
                </a:cubicBezTo>
                <a:cubicBezTo>
                  <a:pt x="10319" y="14891"/>
                  <a:pt x="10319" y="14900"/>
                  <a:pt x="10319" y="14908"/>
                </a:cubicBezTo>
                <a:cubicBezTo>
                  <a:pt x="10348" y="14898"/>
                  <a:pt x="10364" y="14874"/>
                  <a:pt x="10368" y="14833"/>
                </a:cubicBezTo>
                <a:cubicBezTo>
                  <a:pt x="10372" y="14792"/>
                  <a:pt x="10422" y="14806"/>
                  <a:pt x="10443" y="14759"/>
                </a:cubicBezTo>
                <a:cubicBezTo>
                  <a:pt x="10454" y="14735"/>
                  <a:pt x="10445" y="14675"/>
                  <a:pt x="10468" y="14660"/>
                </a:cubicBezTo>
                <a:cubicBezTo>
                  <a:pt x="10499" y="14639"/>
                  <a:pt x="10536" y="14638"/>
                  <a:pt x="10567" y="14610"/>
                </a:cubicBezTo>
                <a:cubicBezTo>
                  <a:pt x="10595" y="14585"/>
                  <a:pt x="10629" y="14564"/>
                  <a:pt x="10666" y="14560"/>
                </a:cubicBezTo>
                <a:cubicBezTo>
                  <a:pt x="10674" y="14560"/>
                  <a:pt x="10683" y="14560"/>
                  <a:pt x="10691" y="14560"/>
                </a:cubicBezTo>
                <a:cubicBezTo>
                  <a:pt x="10691" y="14612"/>
                  <a:pt x="10696" y="14613"/>
                  <a:pt x="10666" y="14635"/>
                </a:cubicBezTo>
                <a:cubicBezTo>
                  <a:pt x="10645" y="14651"/>
                  <a:pt x="10596" y="14675"/>
                  <a:pt x="10592" y="14684"/>
                </a:cubicBezTo>
                <a:cubicBezTo>
                  <a:pt x="10565" y="14740"/>
                  <a:pt x="10629" y="14741"/>
                  <a:pt x="10641" y="14759"/>
                </a:cubicBezTo>
                <a:cubicBezTo>
                  <a:pt x="10665" y="14795"/>
                  <a:pt x="10666" y="14835"/>
                  <a:pt x="10666" y="14883"/>
                </a:cubicBezTo>
                <a:cubicBezTo>
                  <a:pt x="10666" y="14909"/>
                  <a:pt x="10624" y="14953"/>
                  <a:pt x="10616" y="14957"/>
                </a:cubicBezTo>
                <a:cubicBezTo>
                  <a:pt x="10584" y="14973"/>
                  <a:pt x="10557" y="14982"/>
                  <a:pt x="10517" y="14982"/>
                </a:cubicBezTo>
                <a:cubicBezTo>
                  <a:pt x="10476" y="14982"/>
                  <a:pt x="10438" y="14976"/>
                  <a:pt x="10418" y="14932"/>
                </a:cubicBezTo>
                <a:cubicBezTo>
                  <a:pt x="10418" y="14908"/>
                  <a:pt x="10418" y="14900"/>
                  <a:pt x="10393" y="14908"/>
                </a:cubicBezTo>
                <a:cubicBezTo>
                  <a:pt x="10431" y="14895"/>
                  <a:pt x="10414" y="14883"/>
                  <a:pt x="10468" y="14883"/>
                </a:cubicBezTo>
                <a:cubicBezTo>
                  <a:pt x="10484" y="14883"/>
                  <a:pt x="10501" y="14883"/>
                  <a:pt x="10517" y="14883"/>
                </a:cubicBezTo>
              </a:path>
              <a:path w="844" h="473">
                <a:moveTo>
                  <a:pt x="11063" y="14635"/>
                </a:moveTo>
                <a:cubicBezTo>
                  <a:pt x="11063" y="14627"/>
                  <a:pt x="11063" y="14618"/>
                  <a:pt x="11063" y="14610"/>
                </a:cubicBezTo>
                <a:cubicBezTo>
                  <a:pt x="11002" y="14625"/>
                  <a:pt x="11003" y="14637"/>
                  <a:pt x="10964" y="14684"/>
                </a:cubicBezTo>
                <a:cubicBezTo>
                  <a:pt x="10929" y="14727"/>
                  <a:pt x="10891" y="14767"/>
                  <a:pt x="10864" y="14808"/>
                </a:cubicBezTo>
                <a:cubicBezTo>
                  <a:pt x="10838" y="14847"/>
                  <a:pt x="10840" y="14859"/>
                  <a:pt x="10840" y="14908"/>
                </a:cubicBezTo>
                <a:cubicBezTo>
                  <a:pt x="10840" y="14944"/>
                  <a:pt x="10868" y="14941"/>
                  <a:pt x="10889" y="14957"/>
                </a:cubicBezTo>
                <a:cubicBezTo>
                  <a:pt x="10926" y="14985"/>
                  <a:pt x="10940" y="15027"/>
                  <a:pt x="10988" y="15032"/>
                </a:cubicBezTo>
                <a:cubicBezTo>
                  <a:pt x="11015" y="15035"/>
                  <a:pt x="11235" y="15032"/>
                  <a:pt x="11112" y="1503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55"/>
          <p:cNvSpPr/>
          <p:nvPr/>
        </p:nvSpPr>
        <p:spPr>
          <a:xfrm>
            <a:off x="785880" y="5438880"/>
            <a:ext cx="571320" cy="285480"/>
          </a:xfrm>
          <a:custGeom>
            <a:avLst/>
            <a:gdLst/>
            <a:ahLst/>
            <a:rect l="l" t="t" r="r" b="b"/>
            <a:pathLst>
              <a:path w="1588" h="795">
                <a:moveTo>
                  <a:pt x="2332" y="15131"/>
                </a:moveTo>
                <a:cubicBezTo>
                  <a:pt x="2332" y="15123"/>
                  <a:pt x="2332" y="15114"/>
                  <a:pt x="2332" y="15106"/>
                </a:cubicBezTo>
                <a:cubicBezTo>
                  <a:pt x="2332" y="15180"/>
                  <a:pt x="2332" y="15255"/>
                  <a:pt x="2332" y="15329"/>
                </a:cubicBezTo>
              </a:path>
              <a:path w="1588" h="795">
                <a:moveTo>
                  <a:pt x="2183" y="15354"/>
                </a:moveTo>
                <a:cubicBezTo>
                  <a:pt x="2282" y="15354"/>
                  <a:pt x="2381" y="15354"/>
                  <a:pt x="2480" y="15354"/>
                </a:cubicBezTo>
              </a:path>
              <a:path w="1588" h="795">
                <a:moveTo>
                  <a:pt x="2282" y="15478"/>
                </a:moveTo>
                <a:cubicBezTo>
                  <a:pt x="2282" y="15513"/>
                  <a:pt x="2298" y="15582"/>
                  <a:pt x="2257" y="15602"/>
                </a:cubicBezTo>
                <a:cubicBezTo>
                  <a:pt x="2249" y="15602"/>
                  <a:pt x="2240" y="15602"/>
                  <a:pt x="2232" y="15602"/>
                </a:cubicBezTo>
                <a:cubicBezTo>
                  <a:pt x="2232" y="15644"/>
                  <a:pt x="2242" y="15640"/>
                  <a:pt x="2208" y="15652"/>
                </a:cubicBezTo>
                <a:cubicBezTo>
                  <a:pt x="2221" y="15692"/>
                  <a:pt x="2219" y="15662"/>
                  <a:pt x="2232" y="15701"/>
                </a:cubicBezTo>
                <a:cubicBezTo>
                  <a:pt x="2307" y="15701"/>
                  <a:pt x="2381" y="15701"/>
                  <a:pt x="2456" y="15701"/>
                </a:cubicBezTo>
                <a:cubicBezTo>
                  <a:pt x="2456" y="15677"/>
                  <a:pt x="2456" y="15669"/>
                  <a:pt x="2480" y="15677"/>
                </a:cubicBezTo>
              </a:path>
              <a:path w="1588" h="795">
                <a:moveTo>
                  <a:pt x="2431" y="15553"/>
                </a:moveTo>
                <a:cubicBezTo>
                  <a:pt x="2431" y="15615"/>
                  <a:pt x="2408" y="15785"/>
                  <a:pt x="2456" y="15801"/>
                </a:cubicBezTo>
              </a:path>
              <a:path w="1588" h="795">
                <a:moveTo>
                  <a:pt x="3001" y="15404"/>
                </a:moveTo>
                <a:cubicBezTo>
                  <a:pt x="2991" y="15445"/>
                  <a:pt x="2993" y="15443"/>
                  <a:pt x="2952" y="15453"/>
                </a:cubicBezTo>
                <a:cubicBezTo>
                  <a:pt x="2939" y="15491"/>
                  <a:pt x="2927" y="15474"/>
                  <a:pt x="2927" y="15528"/>
                </a:cubicBezTo>
                <a:cubicBezTo>
                  <a:pt x="2843" y="15542"/>
                  <a:pt x="2907" y="15534"/>
                  <a:pt x="2853" y="15553"/>
                </a:cubicBezTo>
                <a:cubicBezTo>
                  <a:pt x="2853" y="15606"/>
                  <a:pt x="2841" y="15589"/>
                  <a:pt x="2828" y="15627"/>
                </a:cubicBezTo>
              </a:path>
              <a:path w="1588" h="795">
                <a:moveTo>
                  <a:pt x="2803" y="15453"/>
                </a:moveTo>
                <a:cubicBezTo>
                  <a:pt x="2832" y="15482"/>
                  <a:pt x="2865" y="15516"/>
                  <a:pt x="2877" y="15553"/>
                </a:cubicBezTo>
                <a:cubicBezTo>
                  <a:pt x="2877" y="15561"/>
                  <a:pt x="2877" y="15569"/>
                  <a:pt x="2877" y="15577"/>
                </a:cubicBezTo>
                <a:cubicBezTo>
                  <a:pt x="2909" y="15588"/>
                  <a:pt x="2915" y="15599"/>
                  <a:pt x="2952" y="15627"/>
                </a:cubicBezTo>
              </a:path>
              <a:path w="1588" h="795">
                <a:moveTo>
                  <a:pt x="3572" y="15180"/>
                </a:moveTo>
                <a:cubicBezTo>
                  <a:pt x="3572" y="15243"/>
                  <a:pt x="3564" y="15277"/>
                  <a:pt x="3547" y="15329"/>
                </a:cubicBezTo>
                <a:cubicBezTo>
                  <a:pt x="3529" y="15384"/>
                  <a:pt x="3547" y="15470"/>
                  <a:pt x="3547" y="15528"/>
                </a:cubicBezTo>
              </a:path>
              <a:path w="1588" h="795">
                <a:moveTo>
                  <a:pt x="3423" y="15553"/>
                </a:moveTo>
                <a:cubicBezTo>
                  <a:pt x="3469" y="15553"/>
                  <a:pt x="3481" y="15533"/>
                  <a:pt x="3522" y="15528"/>
                </a:cubicBezTo>
                <a:cubicBezTo>
                  <a:pt x="3571" y="15522"/>
                  <a:pt x="3604" y="15508"/>
                  <a:pt x="3646" y="15503"/>
                </a:cubicBezTo>
                <a:cubicBezTo>
                  <a:pt x="3671" y="15503"/>
                  <a:pt x="3679" y="15503"/>
                  <a:pt x="3671" y="15528"/>
                </a:cubicBezTo>
              </a:path>
              <a:path w="1588" h="795">
                <a:moveTo>
                  <a:pt x="3473" y="15677"/>
                </a:moveTo>
                <a:cubicBezTo>
                  <a:pt x="3497" y="15677"/>
                  <a:pt x="3506" y="15677"/>
                  <a:pt x="3522" y="15677"/>
                </a:cubicBezTo>
                <a:cubicBezTo>
                  <a:pt x="3522" y="15702"/>
                  <a:pt x="3522" y="15726"/>
                  <a:pt x="3522" y="15751"/>
                </a:cubicBezTo>
                <a:cubicBezTo>
                  <a:pt x="3487" y="15763"/>
                  <a:pt x="3496" y="15789"/>
                  <a:pt x="3448" y="15801"/>
                </a:cubicBezTo>
                <a:cubicBezTo>
                  <a:pt x="3435" y="15838"/>
                  <a:pt x="3423" y="15822"/>
                  <a:pt x="3423" y="15875"/>
                </a:cubicBezTo>
                <a:cubicBezTo>
                  <a:pt x="3473" y="15875"/>
                  <a:pt x="3522" y="15875"/>
                  <a:pt x="3572" y="15875"/>
                </a:cubicBezTo>
                <a:cubicBezTo>
                  <a:pt x="3585" y="15913"/>
                  <a:pt x="3601" y="15900"/>
                  <a:pt x="3646" y="15900"/>
                </a:cubicBezTo>
                <a:cubicBezTo>
                  <a:pt x="3687" y="15900"/>
                  <a:pt x="3729" y="15900"/>
                  <a:pt x="3770" y="1590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56"/>
          <p:cNvSpPr/>
          <p:nvPr/>
        </p:nvSpPr>
        <p:spPr>
          <a:xfrm>
            <a:off x="1803240" y="5562720"/>
            <a:ext cx="152640" cy="161640"/>
          </a:xfrm>
          <a:custGeom>
            <a:avLst/>
            <a:gdLst/>
            <a:ahLst/>
            <a:rect l="l" t="t" r="r" b="b"/>
            <a:pathLst>
              <a:path w="422" h="448">
                <a:moveTo>
                  <a:pt x="5011" y="15677"/>
                </a:moveTo>
                <a:cubicBezTo>
                  <a:pt x="5151" y="15677"/>
                  <a:pt x="5292" y="15677"/>
                  <a:pt x="5432" y="15677"/>
                </a:cubicBezTo>
              </a:path>
              <a:path w="422" h="448">
                <a:moveTo>
                  <a:pt x="5209" y="15453"/>
                </a:moveTo>
                <a:cubicBezTo>
                  <a:pt x="5209" y="15602"/>
                  <a:pt x="5209" y="15751"/>
                  <a:pt x="5209" y="15900"/>
                </a:cubicBezTo>
                <a:cubicBezTo>
                  <a:pt x="5184" y="15900"/>
                  <a:pt x="5176" y="15900"/>
                  <a:pt x="5184" y="158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57"/>
          <p:cNvSpPr/>
          <p:nvPr/>
        </p:nvSpPr>
        <p:spPr>
          <a:xfrm>
            <a:off x="2367000" y="5483160"/>
            <a:ext cx="507960" cy="357120"/>
          </a:xfrm>
          <a:custGeom>
            <a:avLst/>
            <a:gdLst/>
            <a:ahLst/>
            <a:rect l="l" t="t" r="r" b="b"/>
            <a:pathLst>
              <a:path w="1415" h="993">
                <a:moveTo>
                  <a:pt x="6772" y="15304"/>
                </a:moveTo>
                <a:cubicBezTo>
                  <a:pt x="6772" y="15381"/>
                  <a:pt x="6769" y="15438"/>
                  <a:pt x="6747" y="15503"/>
                </a:cubicBezTo>
                <a:cubicBezTo>
                  <a:pt x="6747" y="15528"/>
                  <a:pt x="6747" y="15536"/>
                  <a:pt x="6747" y="15553"/>
                </a:cubicBezTo>
              </a:path>
              <a:path w="1415" h="993">
                <a:moveTo>
                  <a:pt x="6573" y="15577"/>
                </a:moveTo>
                <a:cubicBezTo>
                  <a:pt x="6612" y="15568"/>
                  <a:pt x="6628" y="15553"/>
                  <a:pt x="6672" y="15553"/>
                </a:cubicBezTo>
                <a:cubicBezTo>
                  <a:pt x="6730" y="15553"/>
                  <a:pt x="6788" y="15553"/>
                  <a:pt x="6846" y="15553"/>
                </a:cubicBezTo>
              </a:path>
              <a:path w="1415" h="993">
                <a:moveTo>
                  <a:pt x="6697" y="15701"/>
                </a:moveTo>
                <a:cubicBezTo>
                  <a:pt x="6697" y="15726"/>
                  <a:pt x="6697" y="15734"/>
                  <a:pt x="6697" y="15751"/>
                </a:cubicBezTo>
                <a:cubicBezTo>
                  <a:pt x="6662" y="15763"/>
                  <a:pt x="6672" y="15758"/>
                  <a:pt x="6672" y="15801"/>
                </a:cubicBezTo>
                <a:cubicBezTo>
                  <a:pt x="6636" y="15813"/>
                  <a:pt x="6648" y="15831"/>
                  <a:pt x="6648" y="15875"/>
                </a:cubicBezTo>
                <a:cubicBezTo>
                  <a:pt x="6705" y="15875"/>
                  <a:pt x="6726" y="15866"/>
                  <a:pt x="6772" y="15850"/>
                </a:cubicBezTo>
                <a:cubicBezTo>
                  <a:pt x="6798" y="15841"/>
                  <a:pt x="6844" y="15850"/>
                  <a:pt x="6871" y="15850"/>
                </a:cubicBezTo>
                <a:cubicBezTo>
                  <a:pt x="6883" y="15815"/>
                  <a:pt x="6878" y="15825"/>
                  <a:pt x="6921" y="15825"/>
                </a:cubicBezTo>
              </a:path>
              <a:path w="1415" h="993">
                <a:moveTo>
                  <a:pt x="6796" y="15726"/>
                </a:moveTo>
                <a:cubicBezTo>
                  <a:pt x="6787" y="15765"/>
                  <a:pt x="6772" y="15781"/>
                  <a:pt x="6772" y="15825"/>
                </a:cubicBezTo>
                <a:cubicBezTo>
                  <a:pt x="6772" y="15866"/>
                  <a:pt x="6772" y="15908"/>
                  <a:pt x="6772" y="15949"/>
                </a:cubicBezTo>
              </a:path>
              <a:path w="1415" h="993">
                <a:moveTo>
                  <a:pt x="7342" y="15577"/>
                </a:moveTo>
                <a:cubicBezTo>
                  <a:pt x="7282" y="15592"/>
                  <a:pt x="7315" y="15628"/>
                  <a:pt x="7268" y="15652"/>
                </a:cubicBezTo>
                <a:cubicBezTo>
                  <a:pt x="7260" y="15652"/>
                  <a:pt x="7251" y="15652"/>
                  <a:pt x="7243" y="15652"/>
                </a:cubicBezTo>
                <a:cubicBezTo>
                  <a:pt x="7230" y="15691"/>
                  <a:pt x="7231" y="15662"/>
                  <a:pt x="7218" y="15701"/>
                </a:cubicBezTo>
                <a:cubicBezTo>
                  <a:pt x="7188" y="15709"/>
                  <a:pt x="7174" y="15718"/>
                  <a:pt x="7144" y="15726"/>
                </a:cubicBezTo>
                <a:cubicBezTo>
                  <a:pt x="7144" y="15751"/>
                  <a:pt x="7144" y="15759"/>
                  <a:pt x="7119" y="15751"/>
                </a:cubicBezTo>
              </a:path>
              <a:path w="1415" h="993">
                <a:moveTo>
                  <a:pt x="7169" y="15577"/>
                </a:moveTo>
                <a:cubicBezTo>
                  <a:pt x="7194" y="15577"/>
                  <a:pt x="7218" y="15577"/>
                  <a:pt x="7243" y="15577"/>
                </a:cubicBezTo>
                <a:cubicBezTo>
                  <a:pt x="7256" y="15617"/>
                  <a:pt x="7255" y="15587"/>
                  <a:pt x="7268" y="15627"/>
                </a:cubicBezTo>
                <a:cubicBezTo>
                  <a:pt x="7302" y="15638"/>
                  <a:pt x="7298" y="15662"/>
                  <a:pt x="7342" y="15677"/>
                </a:cubicBezTo>
                <a:cubicBezTo>
                  <a:pt x="7367" y="15677"/>
                  <a:pt x="7375" y="15677"/>
                  <a:pt x="7392" y="15677"/>
                </a:cubicBezTo>
              </a:path>
              <a:path w="1415" h="993">
                <a:moveTo>
                  <a:pt x="7863" y="15230"/>
                </a:moveTo>
                <a:cubicBezTo>
                  <a:pt x="7863" y="15238"/>
                  <a:pt x="7863" y="15247"/>
                  <a:pt x="7863" y="15255"/>
                </a:cubicBezTo>
                <a:cubicBezTo>
                  <a:pt x="7825" y="15268"/>
                  <a:pt x="7838" y="15284"/>
                  <a:pt x="7838" y="15329"/>
                </a:cubicBezTo>
                <a:cubicBezTo>
                  <a:pt x="7838" y="15420"/>
                  <a:pt x="7838" y="15511"/>
                  <a:pt x="7838" y="15602"/>
                </a:cubicBezTo>
              </a:path>
              <a:path w="1415" h="993">
                <a:moveTo>
                  <a:pt x="7640" y="15627"/>
                </a:moveTo>
                <a:cubicBezTo>
                  <a:pt x="7724" y="15627"/>
                  <a:pt x="7792" y="15628"/>
                  <a:pt x="7863" y="15652"/>
                </a:cubicBezTo>
                <a:cubicBezTo>
                  <a:pt x="7888" y="15652"/>
                  <a:pt x="7896" y="15652"/>
                  <a:pt x="7913" y="15652"/>
                </a:cubicBezTo>
              </a:path>
              <a:path w="1415" h="993">
                <a:moveTo>
                  <a:pt x="7789" y="15776"/>
                </a:moveTo>
                <a:cubicBezTo>
                  <a:pt x="7789" y="15804"/>
                  <a:pt x="7787" y="15810"/>
                  <a:pt x="7764" y="15776"/>
                </a:cubicBezTo>
                <a:cubicBezTo>
                  <a:pt x="7722" y="15818"/>
                  <a:pt x="7736" y="15835"/>
                  <a:pt x="7714" y="15875"/>
                </a:cubicBezTo>
                <a:cubicBezTo>
                  <a:pt x="7688" y="15922"/>
                  <a:pt x="7665" y="15915"/>
                  <a:pt x="7665" y="15974"/>
                </a:cubicBezTo>
                <a:cubicBezTo>
                  <a:pt x="7762" y="15974"/>
                  <a:pt x="7854" y="15978"/>
                  <a:pt x="7938" y="15949"/>
                </a:cubicBezTo>
                <a:cubicBezTo>
                  <a:pt x="7962" y="15949"/>
                  <a:pt x="7971" y="15949"/>
                  <a:pt x="7987" y="15949"/>
                </a:cubicBezTo>
              </a:path>
              <a:path w="1415" h="993">
                <a:moveTo>
                  <a:pt x="7863" y="15875"/>
                </a:moveTo>
                <a:cubicBezTo>
                  <a:pt x="7863" y="15900"/>
                  <a:pt x="7863" y="15924"/>
                  <a:pt x="7863" y="15949"/>
                </a:cubicBezTo>
                <a:cubicBezTo>
                  <a:pt x="7829" y="15971"/>
                  <a:pt x="7838" y="15998"/>
                  <a:pt x="7838" y="16049"/>
                </a:cubicBezTo>
                <a:cubicBezTo>
                  <a:pt x="7838" y="16107"/>
                  <a:pt x="7814" y="16230"/>
                  <a:pt x="7863" y="1619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58"/>
          <p:cNvSpPr/>
          <p:nvPr/>
        </p:nvSpPr>
        <p:spPr>
          <a:xfrm>
            <a:off x="3313080" y="5527800"/>
            <a:ext cx="160200" cy="16956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9203" y="15652"/>
                </a:moveTo>
                <a:cubicBezTo>
                  <a:pt x="9352" y="15652"/>
                  <a:pt x="9500" y="15652"/>
                  <a:pt x="9649" y="15652"/>
                </a:cubicBezTo>
                <a:cubicBezTo>
                  <a:pt x="9624" y="15652"/>
                  <a:pt x="9616" y="15652"/>
                  <a:pt x="9649" y="15652"/>
                </a:cubicBezTo>
              </a:path>
              <a:path w="447" h="472">
                <a:moveTo>
                  <a:pt x="9475" y="15354"/>
                </a:moveTo>
                <a:cubicBezTo>
                  <a:pt x="9475" y="15409"/>
                  <a:pt x="9455" y="15448"/>
                  <a:pt x="9451" y="15503"/>
                </a:cubicBezTo>
                <a:cubicBezTo>
                  <a:pt x="9443" y="15609"/>
                  <a:pt x="9451" y="15719"/>
                  <a:pt x="9451" y="158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59"/>
          <p:cNvSpPr/>
          <p:nvPr/>
        </p:nvSpPr>
        <p:spPr>
          <a:xfrm>
            <a:off x="3857760" y="5483160"/>
            <a:ext cx="554040" cy="276120"/>
          </a:xfrm>
          <a:custGeom>
            <a:avLst/>
            <a:gdLst/>
            <a:ahLst/>
            <a:rect l="l" t="t" r="r" b="b"/>
            <a:pathLst>
              <a:path w="1539" h="770">
                <a:moveTo>
                  <a:pt x="10889" y="15329"/>
                </a:moveTo>
                <a:cubicBezTo>
                  <a:pt x="10889" y="15413"/>
                  <a:pt x="10888" y="15482"/>
                  <a:pt x="10864" y="15553"/>
                </a:cubicBezTo>
                <a:cubicBezTo>
                  <a:pt x="10864" y="15561"/>
                  <a:pt x="10864" y="15569"/>
                  <a:pt x="10864" y="15577"/>
                </a:cubicBezTo>
              </a:path>
              <a:path w="1539" h="770">
                <a:moveTo>
                  <a:pt x="10716" y="15602"/>
                </a:moveTo>
                <a:cubicBezTo>
                  <a:pt x="10757" y="15602"/>
                  <a:pt x="10799" y="15602"/>
                  <a:pt x="10840" y="15602"/>
                </a:cubicBezTo>
                <a:cubicBezTo>
                  <a:pt x="10852" y="15564"/>
                  <a:pt x="10869" y="15577"/>
                  <a:pt x="10914" y="15577"/>
                </a:cubicBezTo>
                <a:cubicBezTo>
                  <a:pt x="10939" y="15577"/>
                  <a:pt x="10947" y="15577"/>
                  <a:pt x="10964" y="15577"/>
                </a:cubicBezTo>
              </a:path>
              <a:path w="1539" h="770">
                <a:moveTo>
                  <a:pt x="10790" y="15677"/>
                </a:moveTo>
                <a:cubicBezTo>
                  <a:pt x="10840" y="15677"/>
                  <a:pt x="10844" y="15691"/>
                  <a:pt x="10864" y="15701"/>
                </a:cubicBezTo>
                <a:cubicBezTo>
                  <a:pt x="10889" y="15701"/>
                  <a:pt x="10897" y="15701"/>
                  <a:pt x="10889" y="15726"/>
                </a:cubicBezTo>
                <a:cubicBezTo>
                  <a:pt x="10878" y="15760"/>
                  <a:pt x="10855" y="15757"/>
                  <a:pt x="10840" y="15801"/>
                </a:cubicBezTo>
                <a:cubicBezTo>
                  <a:pt x="10833" y="15823"/>
                  <a:pt x="10808" y="15849"/>
                  <a:pt x="10790" y="15875"/>
                </a:cubicBezTo>
                <a:cubicBezTo>
                  <a:pt x="10767" y="15898"/>
                  <a:pt x="10759" y="15902"/>
                  <a:pt x="10765" y="15925"/>
                </a:cubicBezTo>
                <a:cubicBezTo>
                  <a:pt x="10856" y="15925"/>
                  <a:pt x="10958" y="15927"/>
                  <a:pt x="11013" y="15900"/>
                </a:cubicBezTo>
                <a:cubicBezTo>
                  <a:pt x="11021" y="15900"/>
                  <a:pt x="11030" y="15900"/>
                  <a:pt x="11038" y="15900"/>
                </a:cubicBezTo>
              </a:path>
              <a:path w="1539" h="770">
                <a:moveTo>
                  <a:pt x="11559" y="15602"/>
                </a:moveTo>
                <a:cubicBezTo>
                  <a:pt x="11551" y="15602"/>
                  <a:pt x="11542" y="15602"/>
                  <a:pt x="11534" y="15602"/>
                </a:cubicBezTo>
                <a:cubicBezTo>
                  <a:pt x="11523" y="15634"/>
                  <a:pt x="11500" y="15642"/>
                  <a:pt x="11460" y="15652"/>
                </a:cubicBezTo>
                <a:cubicBezTo>
                  <a:pt x="11447" y="15692"/>
                  <a:pt x="11420" y="15677"/>
                  <a:pt x="11385" y="15701"/>
                </a:cubicBezTo>
                <a:cubicBezTo>
                  <a:pt x="11353" y="15723"/>
                  <a:pt x="11319" y="15753"/>
                  <a:pt x="11311" y="15776"/>
                </a:cubicBezTo>
              </a:path>
              <a:path w="1539" h="770">
                <a:moveTo>
                  <a:pt x="11336" y="15577"/>
                </a:moveTo>
                <a:cubicBezTo>
                  <a:pt x="11369" y="15602"/>
                  <a:pt x="11395" y="15617"/>
                  <a:pt x="11435" y="15627"/>
                </a:cubicBezTo>
                <a:cubicBezTo>
                  <a:pt x="11448" y="15667"/>
                  <a:pt x="11447" y="15637"/>
                  <a:pt x="11460" y="15677"/>
                </a:cubicBezTo>
                <a:cubicBezTo>
                  <a:pt x="11492" y="15687"/>
                  <a:pt x="11497" y="15698"/>
                  <a:pt x="11534" y="15726"/>
                </a:cubicBezTo>
              </a:path>
              <a:path w="1539" h="770">
                <a:moveTo>
                  <a:pt x="12105" y="15230"/>
                </a:moveTo>
                <a:cubicBezTo>
                  <a:pt x="12105" y="15284"/>
                  <a:pt x="12085" y="15309"/>
                  <a:pt x="12080" y="15354"/>
                </a:cubicBezTo>
                <a:cubicBezTo>
                  <a:pt x="12073" y="15420"/>
                  <a:pt x="12095" y="15475"/>
                  <a:pt x="12055" y="15528"/>
                </a:cubicBezTo>
              </a:path>
              <a:path w="1539" h="770">
                <a:moveTo>
                  <a:pt x="11881" y="15602"/>
                </a:moveTo>
                <a:cubicBezTo>
                  <a:pt x="11980" y="15602"/>
                  <a:pt x="12080" y="15602"/>
                  <a:pt x="12179" y="15602"/>
                </a:cubicBezTo>
              </a:path>
              <a:path w="1539" h="770">
                <a:moveTo>
                  <a:pt x="12030" y="15776"/>
                </a:moveTo>
                <a:cubicBezTo>
                  <a:pt x="12005" y="15776"/>
                  <a:pt x="11997" y="15776"/>
                  <a:pt x="11981" y="15776"/>
                </a:cubicBezTo>
                <a:cubicBezTo>
                  <a:pt x="11981" y="15818"/>
                  <a:pt x="11991" y="15814"/>
                  <a:pt x="11956" y="15825"/>
                </a:cubicBezTo>
                <a:cubicBezTo>
                  <a:pt x="11945" y="15870"/>
                  <a:pt x="11914" y="15892"/>
                  <a:pt x="11981" y="15900"/>
                </a:cubicBezTo>
                <a:cubicBezTo>
                  <a:pt x="12031" y="15906"/>
                  <a:pt x="12041" y="15888"/>
                  <a:pt x="12080" y="15875"/>
                </a:cubicBezTo>
                <a:cubicBezTo>
                  <a:pt x="12120" y="15862"/>
                  <a:pt x="12187" y="15875"/>
                  <a:pt x="12229" y="15875"/>
                </a:cubicBezTo>
                <a:cubicBezTo>
                  <a:pt x="12229" y="15850"/>
                  <a:pt x="12229" y="15842"/>
                  <a:pt x="12254" y="15850"/>
                </a:cubicBezTo>
              </a:path>
              <a:path w="1539" h="770">
                <a:moveTo>
                  <a:pt x="12129" y="15776"/>
                </a:moveTo>
                <a:cubicBezTo>
                  <a:pt x="12129" y="15827"/>
                  <a:pt x="12102" y="15973"/>
                  <a:pt x="12154" y="15999"/>
                </a:cubicBezTo>
                <a:cubicBezTo>
                  <a:pt x="12162" y="15999"/>
                  <a:pt x="12171" y="15999"/>
                  <a:pt x="12179" y="1599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60"/>
          <p:cNvSpPr/>
          <p:nvPr/>
        </p:nvSpPr>
        <p:spPr>
          <a:xfrm>
            <a:off x="4867200" y="5510160"/>
            <a:ext cx="241200" cy="88920"/>
          </a:xfrm>
          <a:custGeom>
            <a:avLst/>
            <a:gdLst/>
            <a:ahLst/>
            <a:rect l="l" t="t" r="r" b="b"/>
            <a:pathLst>
              <a:path w="670" h="250">
                <a:moveTo>
                  <a:pt x="13543" y="15304"/>
                </a:moveTo>
                <a:cubicBezTo>
                  <a:pt x="13598" y="15304"/>
                  <a:pt x="13637" y="15326"/>
                  <a:pt x="13692" y="15329"/>
                </a:cubicBezTo>
                <a:cubicBezTo>
                  <a:pt x="13848" y="15338"/>
                  <a:pt x="14007" y="15329"/>
                  <a:pt x="14163" y="15329"/>
                </a:cubicBezTo>
                <a:cubicBezTo>
                  <a:pt x="14128" y="15356"/>
                  <a:pt x="14133" y="15354"/>
                  <a:pt x="14089" y="15354"/>
                </a:cubicBezTo>
              </a:path>
              <a:path w="670" h="250">
                <a:moveTo>
                  <a:pt x="13519" y="15478"/>
                </a:moveTo>
                <a:cubicBezTo>
                  <a:pt x="13582" y="15478"/>
                  <a:pt x="13616" y="15486"/>
                  <a:pt x="13667" y="15503"/>
                </a:cubicBezTo>
                <a:cubicBezTo>
                  <a:pt x="13721" y="15521"/>
                  <a:pt x="13790" y="15511"/>
                  <a:pt x="13841" y="15528"/>
                </a:cubicBezTo>
                <a:cubicBezTo>
                  <a:pt x="13921" y="15555"/>
                  <a:pt x="14053" y="15528"/>
                  <a:pt x="14139" y="15528"/>
                </a:cubicBezTo>
                <a:cubicBezTo>
                  <a:pt x="14150" y="15563"/>
                  <a:pt x="14202" y="15553"/>
                  <a:pt x="14163" y="1555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61"/>
          <p:cNvSpPr/>
          <p:nvPr/>
        </p:nvSpPr>
        <p:spPr>
          <a:xfrm>
            <a:off x="5384880" y="5367240"/>
            <a:ext cx="206280" cy="312840"/>
          </a:xfrm>
          <a:custGeom>
            <a:avLst/>
            <a:gdLst/>
            <a:ahLst/>
            <a:rect l="l" t="t" r="r" b="b"/>
            <a:pathLst>
              <a:path w="572" h="869">
                <a:moveTo>
                  <a:pt x="15180" y="14908"/>
                </a:moveTo>
                <a:cubicBezTo>
                  <a:pt x="15180" y="14949"/>
                  <a:pt x="15180" y="14991"/>
                  <a:pt x="15180" y="15032"/>
                </a:cubicBezTo>
                <a:cubicBezTo>
                  <a:pt x="15180" y="14965"/>
                  <a:pt x="15180" y="15070"/>
                  <a:pt x="15180" y="15081"/>
                </a:cubicBezTo>
                <a:cubicBezTo>
                  <a:pt x="15180" y="15114"/>
                  <a:pt x="15180" y="15147"/>
                  <a:pt x="15180" y="15180"/>
                </a:cubicBezTo>
                <a:cubicBezTo>
                  <a:pt x="15156" y="15180"/>
                  <a:pt x="15148" y="15180"/>
                  <a:pt x="15156" y="15205"/>
                </a:cubicBezTo>
              </a:path>
              <a:path w="572" h="869">
                <a:moveTo>
                  <a:pt x="14957" y="15205"/>
                </a:moveTo>
                <a:cubicBezTo>
                  <a:pt x="15020" y="15205"/>
                  <a:pt x="15049" y="15190"/>
                  <a:pt x="15106" y="15180"/>
                </a:cubicBezTo>
                <a:cubicBezTo>
                  <a:pt x="15229" y="15158"/>
                  <a:pt x="15377" y="15180"/>
                  <a:pt x="15503" y="15180"/>
                </a:cubicBezTo>
                <a:cubicBezTo>
                  <a:pt x="15503" y="15205"/>
                  <a:pt x="15503" y="15213"/>
                  <a:pt x="15528" y="15205"/>
                </a:cubicBezTo>
              </a:path>
              <a:path w="572" h="869">
                <a:moveTo>
                  <a:pt x="15180" y="15329"/>
                </a:moveTo>
                <a:cubicBezTo>
                  <a:pt x="15132" y="15329"/>
                  <a:pt x="15122" y="15319"/>
                  <a:pt x="15106" y="15354"/>
                </a:cubicBezTo>
                <a:cubicBezTo>
                  <a:pt x="15081" y="15409"/>
                  <a:pt x="15081" y="15445"/>
                  <a:pt x="15081" y="15503"/>
                </a:cubicBezTo>
                <a:cubicBezTo>
                  <a:pt x="15137" y="15503"/>
                  <a:pt x="15115" y="15523"/>
                  <a:pt x="15156" y="15528"/>
                </a:cubicBezTo>
                <a:cubicBezTo>
                  <a:pt x="15215" y="15536"/>
                  <a:pt x="15280" y="15535"/>
                  <a:pt x="15304" y="15503"/>
                </a:cubicBezTo>
                <a:cubicBezTo>
                  <a:pt x="15313" y="15491"/>
                  <a:pt x="15355" y="15424"/>
                  <a:pt x="15329" y="15404"/>
                </a:cubicBezTo>
                <a:cubicBezTo>
                  <a:pt x="15305" y="15385"/>
                  <a:pt x="15298" y="15379"/>
                  <a:pt x="15255" y="15379"/>
                </a:cubicBezTo>
                <a:cubicBezTo>
                  <a:pt x="15195" y="15379"/>
                  <a:pt x="15218" y="15387"/>
                  <a:pt x="15180" y="15329"/>
                </a:cubicBezTo>
              </a:path>
              <a:path w="572" h="869">
                <a:moveTo>
                  <a:pt x="15205" y="15577"/>
                </a:moveTo>
                <a:cubicBezTo>
                  <a:pt x="15154" y="15577"/>
                  <a:pt x="15152" y="15592"/>
                  <a:pt x="15131" y="15602"/>
                </a:cubicBezTo>
                <a:cubicBezTo>
                  <a:pt x="15106" y="15614"/>
                  <a:pt x="15096" y="15644"/>
                  <a:pt x="15081" y="15652"/>
                </a:cubicBezTo>
                <a:cubicBezTo>
                  <a:pt x="15056" y="15652"/>
                  <a:pt x="15048" y="15652"/>
                  <a:pt x="15056" y="15677"/>
                </a:cubicBezTo>
                <a:cubicBezTo>
                  <a:pt x="15057" y="15680"/>
                  <a:pt x="15078" y="15748"/>
                  <a:pt x="15081" y="15751"/>
                </a:cubicBezTo>
                <a:cubicBezTo>
                  <a:pt x="15090" y="15758"/>
                  <a:pt x="15168" y="15775"/>
                  <a:pt x="15180" y="15776"/>
                </a:cubicBezTo>
                <a:cubicBezTo>
                  <a:pt x="15241" y="15783"/>
                  <a:pt x="15277" y="15765"/>
                  <a:pt x="15304" y="15751"/>
                </a:cubicBezTo>
                <a:cubicBezTo>
                  <a:pt x="15333" y="15736"/>
                  <a:pt x="15386" y="15716"/>
                  <a:pt x="15404" y="15677"/>
                </a:cubicBezTo>
                <a:cubicBezTo>
                  <a:pt x="15416" y="15650"/>
                  <a:pt x="15406" y="15591"/>
                  <a:pt x="15379" y="15577"/>
                </a:cubicBezTo>
                <a:cubicBezTo>
                  <a:pt x="15348" y="15561"/>
                  <a:pt x="15319" y="15553"/>
                  <a:pt x="15280" y="15553"/>
                </a:cubicBezTo>
                <a:cubicBezTo>
                  <a:pt x="15271" y="15553"/>
                  <a:pt x="15144" y="15551"/>
                  <a:pt x="15180" y="15577"/>
                </a:cubicBezTo>
                <a:cubicBezTo>
                  <a:pt x="15188" y="15577"/>
                  <a:pt x="15197" y="15577"/>
                  <a:pt x="15205" y="1557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62"/>
          <p:cNvSpPr/>
          <p:nvPr/>
        </p:nvSpPr>
        <p:spPr>
          <a:xfrm>
            <a:off x="5840280" y="5438880"/>
            <a:ext cx="177840" cy="160200"/>
          </a:xfrm>
          <a:custGeom>
            <a:avLst/>
            <a:gdLst/>
            <a:ahLst/>
            <a:rect l="l" t="t" r="r" b="b"/>
            <a:pathLst>
              <a:path w="497" h="448">
                <a:moveTo>
                  <a:pt x="16222" y="15304"/>
                </a:moveTo>
                <a:cubicBezTo>
                  <a:pt x="16222" y="15312"/>
                  <a:pt x="16222" y="15321"/>
                  <a:pt x="16222" y="15329"/>
                </a:cubicBezTo>
                <a:cubicBezTo>
                  <a:pt x="16355" y="15329"/>
                  <a:pt x="16502" y="15315"/>
                  <a:pt x="16619" y="15354"/>
                </a:cubicBezTo>
                <a:cubicBezTo>
                  <a:pt x="16638" y="15360"/>
                  <a:pt x="16674" y="15354"/>
                  <a:pt x="16694" y="15354"/>
                </a:cubicBezTo>
                <a:cubicBezTo>
                  <a:pt x="16694" y="15313"/>
                  <a:pt x="16685" y="15296"/>
                  <a:pt x="16718" y="15304"/>
                </a:cubicBezTo>
              </a:path>
              <a:path w="497" h="448">
                <a:moveTo>
                  <a:pt x="16520" y="15131"/>
                </a:moveTo>
                <a:cubicBezTo>
                  <a:pt x="16495" y="15131"/>
                  <a:pt x="16487" y="15131"/>
                  <a:pt x="16495" y="15106"/>
                </a:cubicBezTo>
                <a:cubicBezTo>
                  <a:pt x="16466" y="15144"/>
                  <a:pt x="16470" y="15157"/>
                  <a:pt x="16470" y="15205"/>
                </a:cubicBezTo>
                <a:cubicBezTo>
                  <a:pt x="16470" y="15296"/>
                  <a:pt x="16471" y="15376"/>
                  <a:pt x="16446" y="15453"/>
                </a:cubicBezTo>
                <a:cubicBezTo>
                  <a:pt x="16437" y="15480"/>
                  <a:pt x="16446" y="15525"/>
                  <a:pt x="16446" y="1555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63"/>
          <p:cNvSpPr/>
          <p:nvPr/>
        </p:nvSpPr>
        <p:spPr>
          <a:xfrm>
            <a:off x="6259680" y="5303880"/>
            <a:ext cx="322200" cy="376200"/>
          </a:xfrm>
          <a:custGeom>
            <a:avLst/>
            <a:gdLst/>
            <a:ahLst/>
            <a:rect l="l" t="t" r="r" b="b"/>
            <a:pathLst>
              <a:path w="894" h="1043">
                <a:moveTo>
                  <a:pt x="17884" y="14734"/>
                </a:moveTo>
                <a:cubicBezTo>
                  <a:pt x="17884" y="14785"/>
                  <a:pt x="17873" y="14792"/>
                  <a:pt x="17859" y="14833"/>
                </a:cubicBezTo>
                <a:cubicBezTo>
                  <a:pt x="17841" y="14886"/>
                  <a:pt x="17859" y="14976"/>
                  <a:pt x="17859" y="15032"/>
                </a:cubicBezTo>
              </a:path>
              <a:path w="894" h="1043">
                <a:moveTo>
                  <a:pt x="17388" y="15180"/>
                </a:moveTo>
                <a:cubicBezTo>
                  <a:pt x="17540" y="15180"/>
                  <a:pt x="17687" y="15173"/>
                  <a:pt x="17835" y="15156"/>
                </a:cubicBezTo>
                <a:cubicBezTo>
                  <a:pt x="17948" y="15143"/>
                  <a:pt x="18083" y="15148"/>
                  <a:pt x="18182" y="15180"/>
                </a:cubicBezTo>
                <a:cubicBezTo>
                  <a:pt x="18221" y="15192"/>
                  <a:pt x="18262" y="15120"/>
                  <a:pt x="18281" y="15156"/>
                </a:cubicBezTo>
                <a:cubicBezTo>
                  <a:pt x="18281" y="15164"/>
                  <a:pt x="18281" y="15172"/>
                  <a:pt x="18281" y="15180"/>
                </a:cubicBezTo>
              </a:path>
              <a:path w="894" h="1043">
                <a:moveTo>
                  <a:pt x="17636" y="15280"/>
                </a:moveTo>
                <a:cubicBezTo>
                  <a:pt x="17636" y="15348"/>
                  <a:pt x="17630" y="15374"/>
                  <a:pt x="17611" y="15429"/>
                </a:cubicBezTo>
                <a:cubicBezTo>
                  <a:pt x="17600" y="15462"/>
                  <a:pt x="17570" y="15499"/>
                  <a:pt x="17562" y="15528"/>
                </a:cubicBezTo>
                <a:cubicBezTo>
                  <a:pt x="17549" y="15573"/>
                  <a:pt x="17550" y="15612"/>
                  <a:pt x="17537" y="15652"/>
                </a:cubicBezTo>
                <a:cubicBezTo>
                  <a:pt x="17520" y="15703"/>
                  <a:pt x="17548" y="15701"/>
                  <a:pt x="17587" y="15701"/>
                </a:cubicBezTo>
              </a:path>
              <a:path w="894" h="1043">
                <a:moveTo>
                  <a:pt x="17983" y="15354"/>
                </a:moveTo>
                <a:cubicBezTo>
                  <a:pt x="17951" y="15365"/>
                  <a:pt x="17953" y="15394"/>
                  <a:pt x="17934" y="15404"/>
                </a:cubicBezTo>
                <a:cubicBezTo>
                  <a:pt x="17912" y="15415"/>
                  <a:pt x="17865" y="15441"/>
                  <a:pt x="17859" y="15453"/>
                </a:cubicBezTo>
                <a:cubicBezTo>
                  <a:pt x="17846" y="15479"/>
                  <a:pt x="17823" y="15490"/>
                  <a:pt x="17810" y="15528"/>
                </a:cubicBezTo>
                <a:cubicBezTo>
                  <a:pt x="17800" y="15558"/>
                  <a:pt x="17788" y="15598"/>
                  <a:pt x="17785" y="15627"/>
                </a:cubicBezTo>
                <a:cubicBezTo>
                  <a:pt x="17781" y="15663"/>
                  <a:pt x="17772" y="15732"/>
                  <a:pt x="17810" y="15751"/>
                </a:cubicBezTo>
                <a:cubicBezTo>
                  <a:pt x="17842" y="15767"/>
                  <a:pt x="17869" y="15776"/>
                  <a:pt x="17909" y="15776"/>
                </a:cubicBezTo>
                <a:cubicBezTo>
                  <a:pt x="17943" y="15776"/>
                  <a:pt x="17989" y="15789"/>
                  <a:pt x="18008" y="15751"/>
                </a:cubicBezTo>
                <a:cubicBezTo>
                  <a:pt x="18024" y="15719"/>
                  <a:pt x="18033" y="15692"/>
                  <a:pt x="18033" y="15652"/>
                </a:cubicBezTo>
                <a:cubicBezTo>
                  <a:pt x="18033" y="15615"/>
                  <a:pt x="18004" y="15618"/>
                  <a:pt x="17983" y="15602"/>
                </a:cubicBezTo>
                <a:cubicBezTo>
                  <a:pt x="17941" y="15570"/>
                  <a:pt x="17915" y="15577"/>
                  <a:pt x="17859" y="15577"/>
                </a:cubicBezTo>
                <a:cubicBezTo>
                  <a:pt x="17824" y="15577"/>
                  <a:pt x="17770" y="15594"/>
                  <a:pt x="17835" y="15627"/>
                </a:cubicBezTo>
                <a:cubicBezTo>
                  <a:pt x="17843" y="15627"/>
                  <a:pt x="17851" y="15627"/>
                  <a:pt x="17859" y="1562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64"/>
          <p:cNvSpPr/>
          <p:nvPr/>
        </p:nvSpPr>
        <p:spPr>
          <a:xfrm>
            <a:off x="6823080" y="5322960"/>
            <a:ext cx="554040" cy="411120"/>
          </a:xfrm>
          <a:custGeom>
            <a:avLst/>
            <a:gdLst/>
            <a:ahLst/>
            <a:rect l="l" t="t" r="r" b="b"/>
            <a:pathLst>
              <a:path w="1539" h="1142">
                <a:moveTo>
                  <a:pt x="18951" y="15304"/>
                </a:moveTo>
                <a:cubicBezTo>
                  <a:pt x="18951" y="15329"/>
                  <a:pt x="18951" y="15337"/>
                  <a:pt x="18951" y="15354"/>
                </a:cubicBezTo>
                <a:cubicBezTo>
                  <a:pt x="19034" y="15354"/>
                  <a:pt x="19401" y="15392"/>
                  <a:pt x="19422" y="15329"/>
                </a:cubicBezTo>
              </a:path>
              <a:path w="1539" h="1142">
                <a:moveTo>
                  <a:pt x="19298" y="15156"/>
                </a:moveTo>
                <a:cubicBezTo>
                  <a:pt x="19275" y="15178"/>
                  <a:pt x="19270" y="15186"/>
                  <a:pt x="19248" y="15180"/>
                </a:cubicBezTo>
                <a:cubicBezTo>
                  <a:pt x="19248" y="15256"/>
                  <a:pt x="19245" y="15314"/>
                  <a:pt x="19224" y="15379"/>
                </a:cubicBezTo>
                <a:cubicBezTo>
                  <a:pt x="19211" y="15420"/>
                  <a:pt x="19212" y="15465"/>
                  <a:pt x="19199" y="15503"/>
                </a:cubicBezTo>
                <a:cubicBezTo>
                  <a:pt x="19182" y="15554"/>
                  <a:pt x="19227" y="15609"/>
                  <a:pt x="19174" y="15627"/>
                </a:cubicBezTo>
              </a:path>
              <a:path w="1539" h="1142">
                <a:moveTo>
                  <a:pt x="20241" y="14808"/>
                </a:moveTo>
                <a:cubicBezTo>
                  <a:pt x="20241" y="14800"/>
                  <a:pt x="20241" y="14792"/>
                  <a:pt x="20241" y="14784"/>
                </a:cubicBezTo>
                <a:cubicBezTo>
                  <a:pt x="20241" y="14834"/>
                  <a:pt x="20230" y="14842"/>
                  <a:pt x="20216" y="14883"/>
                </a:cubicBezTo>
                <a:cubicBezTo>
                  <a:pt x="20192" y="14956"/>
                  <a:pt x="20216" y="15079"/>
                  <a:pt x="20216" y="15156"/>
                </a:cubicBezTo>
              </a:path>
              <a:path w="1539" h="1142">
                <a:moveTo>
                  <a:pt x="19819" y="15180"/>
                </a:moveTo>
                <a:cubicBezTo>
                  <a:pt x="19960" y="15180"/>
                  <a:pt x="20116" y="15167"/>
                  <a:pt x="20241" y="15205"/>
                </a:cubicBezTo>
                <a:cubicBezTo>
                  <a:pt x="20310" y="15226"/>
                  <a:pt x="20415" y="15205"/>
                  <a:pt x="20489" y="15205"/>
                </a:cubicBezTo>
              </a:path>
              <a:path w="1539" h="1142">
                <a:moveTo>
                  <a:pt x="20092" y="15354"/>
                </a:moveTo>
                <a:cubicBezTo>
                  <a:pt x="20056" y="15354"/>
                  <a:pt x="20020" y="15361"/>
                  <a:pt x="19993" y="15379"/>
                </a:cubicBezTo>
                <a:cubicBezTo>
                  <a:pt x="19967" y="15397"/>
                  <a:pt x="19946" y="15450"/>
                  <a:pt x="19943" y="15478"/>
                </a:cubicBezTo>
                <a:cubicBezTo>
                  <a:pt x="19938" y="15526"/>
                  <a:pt x="19937" y="15567"/>
                  <a:pt x="19968" y="15602"/>
                </a:cubicBezTo>
                <a:cubicBezTo>
                  <a:pt x="19991" y="15628"/>
                  <a:pt x="20059" y="15644"/>
                  <a:pt x="20092" y="15652"/>
                </a:cubicBezTo>
                <a:cubicBezTo>
                  <a:pt x="20137" y="15663"/>
                  <a:pt x="20169" y="15673"/>
                  <a:pt x="20216" y="15677"/>
                </a:cubicBezTo>
                <a:cubicBezTo>
                  <a:pt x="20246" y="15680"/>
                  <a:pt x="20281" y="15683"/>
                  <a:pt x="20290" y="15701"/>
                </a:cubicBezTo>
                <a:cubicBezTo>
                  <a:pt x="20304" y="15730"/>
                  <a:pt x="20294" y="15811"/>
                  <a:pt x="20265" y="15825"/>
                </a:cubicBezTo>
                <a:cubicBezTo>
                  <a:pt x="20224" y="15845"/>
                  <a:pt x="20179" y="15865"/>
                  <a:pt x="20141" y="15900"/>
                </a:cubicBezTo>
                <a:cubicBezTo>
                  <a:pt x="20107" y="15932"/>
                  <a:pt x="20088" y="15925"/>
                  <a:pt x="20042" y="15925"/>
                </a:cubicBezTo>
                <a:cubicBezTo>
                  <a:pt x="20017" y="15925"/>
                  <a:pt x="20009" y="15925"/>
                  <a:pt x="19993" y="15925"/>
                </a:cubicBezTo>
                <a:cubicBezTo>
                  <a:pt x="19993" y="15847"/>
                  <a:pt x="19984" y="15849"/>
                  <a:pt x="20042" y="15801"/>
                </a:cubicBezTo>
                <a:cubicBezTo>
                  <a:pt x="20088" y="15764"/>
                  <a:pt x="20112" y="15729"/>
                  <a:pt x="20166" y="15701"/>
                </a:cubicBezTo>
                <a:cubicBezTo>
                  <a:pt x="20213" y="15677"/>
                  <a:pt x="20277" y="15652"/>
                  <a:pt x="20315" y="15627"/>
                </a:cubicBezTo>
                <a:cubicBezTo>
                  <a:pt x="20354" y="15601"/>
                  <a:pt x="20390" y="15519"/>
                  <a:pt x="20414" y="15503"/>
                </a:cubicBezTo>
                <a:cubicBezTo>
                  <a:pt x="20436" y="15489"/>
                  <a:pt x="20460" y="15453"/>
                  <a:pt x="20439" y="15404"/>
                </a:cubicBezTo>
                <a:cubicBezTo>
                  <a:pt x="20425" y="15371"/>
                  <a:pt x="20371" y="15332"/>
                  <a:pt x="20340" y="15329"/>
                </a:cubicBezTo>
                <a:cubicBezTo>
                  <a:pt x="20307" y="15325"/>
                  <a:pt x="20258" y="15319"/>
                  <a:pt x="20241" y="15354"/>
                </a:cubicBezTo>
                <a:cubicBezTo>
                  <a:pt x="20241" y="15362"/>
                  <a:pt x="20241" y="15371"/>
                  <a:pt x="20241" y="153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65"/>
          <p:cNvSpPr/>
          <p:nvPr/>
        </p:nvSpPr>
        <p:spPr>
          <a:xfrm>
            <a:off x="7653240" y="5500800"/>
            <a:ext cx="169920" cy="9828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21282" y="15304"/>
                </a:moveTo>
                <a:cubicBezTo>
                  <a:pt x="21282" y="15262"/>
                  <a:pt x="21268" y="15324"/>
                  <a:pt x="21307" y="15329"/>
                </a:cubicBezTo>
                <a:cubicBezTo>
                  <a:pt x="21435" y="15345"/>
                  <a:pt x="21564" y="15316"/>
                  <a:pt x="21679" y="15354"/>
                </a:cubicBezTo>
                <a:cubicBezTo>
                  <a:pt x="21704" y="15354"/>
                  <a:pt x="21712" y="15354"/>
                  <a:pt x="21729" y="15354"/>
                </a:cubicBezTo>
                <a:cubicBezTo>
                  <a:pt x="21684" y="15376"/>
                  <a:pt x="21693" y="15363"/>
                  <a:pt x="21630" y="15354"/>
                </a:cubicBezTo>
              </a:path>
              <a:path w="472" h="274">
                <a:moveTo>
                  <a:pt x="21258" y="15478"/>
                </a:moveTo>
                <a:cubicBezTo>
                  <a:pt x="21303" y="15478"/>
                  <a:pt x="21317" y="15499"/>
                  <a:pt x="21357" y="15503"/>
                </a:cubicBezTo>
                <a:cubicBezTo>
                  <a:pt x="21399" y="15508"/>
                  <a:pt x="21418" y="15524"/>
                  <a:pt x="21456" y="15528"/>
                </a:cubicBezTo>
                <a:cubicBezTo>
                  <a:pt x="21534" y="15537"/>
                  <a:pt x="21588" y="15531"/>
                  <a:pt x="21654" y="15553"/>
                </a:cubicBezTo>
                <a:cubicBezTo>
                  <a:pt x="21663" y="15556"/>
                  <a:pt x="21773" y="15553"/>
                  <a:pt x="21704" y="1555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66"/>
          <p:cNvSpPr/>
          <p:nvPr/>
        </p:nvSpPr>
        <p:spPr>
          <a:xfrm>
            <a:off x="8001000" y="5330880"/>
            <a:ext cx="285840" cy="411120"/>
          </a:xfrm>
          <a:custGeom>
            <a:avLst/>
            <a:gdLst/>
            <a:ahLst/>
            <a:rect l="l" t="t" r="r" b="b"/>
            <a:pathLst>
              <a:path w="795" h="1142">
                <a:moveTo>
                  <a:pt x="22647" y="14808"/>
                </a:moveTo>
                <a:cubicBezTo>
                  <a:pt x="22647" y="14816"/>
                  <a:pt x="22647" y="14825"/>
                  <a:pt x="22647" y="14833"/>
                </a:cubicBezTo>
                <a:cubicBezTo>
                  <a:pt x="22612" y="14845"/>
                  <a:pt x="22620" y="14871"/>
                  <a:pt x="22572" y="14883"/>
                </a:cubicBezTo>
                <a:cubicBezTo>
                  <a:pt x="22562" y="14921"/>
                  <a:pt x="22524" y="14972"/>
                  <a:pt x="22498" y="15007"/>
                </a:cubicBezTo>
                <a:cubicBezTo>
                  <a:pt x="22472" y="15042"/>
                  <a:pt x="22436" y="15067"/>
                  <a:pt x="22423" y="15106"/>
                </a:cubicBezTo>
                <a:cubicBezTo>
                  <a:pt x="22423" y="15131"/>
                  <a:pt x="22423" y="15139"/>
                  <a:pt x="22423" y="15156"/>
                </a:cubicBezTo>
                <a:cubicBezTo>
                  <a:pt x="22520" y="15156"/>
                  <a:pt x="22612" y="15156"/>
                  <a:pt x="22696" y="15131"/>
                </a:cubicBezTo>
                <a:cubicBezTo>
                  <a:pt x="22751" y="15114"/>
                  <a:pt x="22837" y="15131"/>
                  <a:pt x="22895" y="15131"/>
                </a:cubicBezTo>
              </a:path>
              <a:path w="795" h="1142">
                <a:moveTo>
                  <a:pt x="22796" y="15032"/>
                </a:moveTo>
                <a:cubicBezTo>
                  <a:pt x="22796" y="15056"/>
                  <a:pt x="22796" y="15065"/>
                  <a:pt x="22796" y="15081"/>
                </a:cubicBezTo>
                <a:cubicBezTo>
                  <a:pt x="22773" y="15089"/>
                  <a:pt x="22757" y="15124"/>
                  <a:pt x="22746" y="15156"/>
                </a:cubicBezTo>
                <a:cubicBezTo>
                  <a:pt x="22731" y="15200"/>
                  <a:pt x="22745" y="15213"/>
                  <a:pt x="22721" y="15255"/>
                </a:cubicBezTo>
                <a:cubicBezTo>
                  <a:pt x="22695" y="15299"/>
                  <a:pt x="22696" y="15309"/>
                  <a:pt x="22696" y="15354"/>
                </a:cubicBezTo>
                <a:cubicBezTo>
                  <a:pt x="22661" y="15366"/>
                  <a:pt x="22671" y="15361"/>
                  <a:pt x="22671" y="15404"/>
                </a:cubicBezTo>
              </a:path>
              <a:path w="795" h="1142">
                <a:moveTo>
                  <a:pt x="22225" y="15255"/>
                </a:moveTo>
                <a:cubicBezTo>
                  <a:pt x="22225" y="15247"/>
                  <a:pt x="22225" y="15238"/>
                  <a:pt x="22225" y="15230"/>
                </a:cubicBezTo>
                <a:cubicBezTo>
                  <a:pt x="22276" y="15243"/>
                  <a:pt x="22288" y="15255"/>
                  <a:pt x="22349" y="15255"/>
                </a:cubicBezTo>
                <a:cubicBezTo>
                  <a:pt x="22481" y="15255"/>
                  <a:pt x="22446" y="15268"/>
                  <a:pt x="22547" y="15329"/>
                </a:cubicBezTo>
                <a:cubicBezTo>
                  <a:pt x="22596" y="15359"/>
                  <a:pt x="22675" y="15351"/>
                  <a:pt x="22721" y="15379"/>
                </a:cubicBezTo>
                <a:cubicBezTo>
                  <a:pt x="22762" y="15403"/>
                  <a:pt x="22770" y="15404"/>
                  <a:pt x="22820" y="15404"/>
                </a:cubicBezTo>
                <a:cubicBezTo>
                  <a:pt x="22890" y="15404"/>
                  <a:pt x="22957" y="15460"/>
                  <a:pt x="23019" y="15429"/>
                </a:cubicBezTo>
                <a:cubicBezTo>
                  <a:pt x="23019" y="15421"/>
                  <a:pt x="23019" y="15412"/>
                  <a:pt x="23019" y="15404"/>
                </a:cubicBezTo>
              </a:path>
              <a:path w="795" h="1142">
                <a:moveTo>
                  <a:pt x="22448" y="15429"/>
                </a:moveTo>
                <a:cubicBezTo>
                  <a:pt x="22440" y="15429"/>
                  <a:pt x="22431" y="15429"/>
                  <a:pt x="22423" y="15429"/>
                </a:cubicBezTo>
                <a:cubicBezTo>
                  <a:pt x="22423" y="15482"/>
                  <a:pt x="22402" y="15499"/>
                  <a:pt x="22399" y="15553"/>
                </a:cubicBezTo>
                <a:cubicBezTo>
                  <a:pt x="22395" y="15616"/>
                  <a:pt x="22355" y="15622"/>
                  <a:pt x="22349" y="15677"/>
                </a:cubicBezTo>
                <a:cubicBezTo>
                  <a:pt x="22344" y="15719"/>
                  <a:pt x="22334" y="15738"/>
                  <a:pt x="22324" y="15776"/>
                </a:cubicBezTo>
                <a:cubicBezTo>
                  <a:pt x="22286" y="15789"/>
                  <a:pt x="22302" y="15832"/>
                  <a:pt x="22275" y="15850"/>
                </a:cubicBezTo>
                <a:cubicBezTo>
                  <a:pt x="22259" y="15861"/>
                  <a:pt x="22273" y="15874"/>
                  <a:pt x="22324" y="15900"/>
                </a:cubicBezTo>
              </a:path>
              <a:path w="795" h="1142">
                <a:moveTo>
                  <a:pt x="22771" y="15577"/>
                </a:moveTo>
                <a:cubicBezTo>
                  <a:pt x="22763" y="15579"/>
                  <a:pt x="22673" y="15599"/>
                  <a:pt x="22671" y="15602"/>
                </a:cubicBezTo>
                <a:cubicBezTo>
                  <a:pt x="22663" y="15612"/>
                  <a:pt x="22624" y="15648"/>
                  <a:pt x="22622" y="15652"/>
                </a:cubicBezTo>
                <a:cubicBezTo>
                  <a:pt x="22607" y="15681"/>
                  <a:pt x="22577" y="15680"/>
                  <a:pt x="22572" y="15726"/>
                </a:cubicBezTo>
                <a:cubicBezTo>
                  <a:pt x="22567" y="15766"/>
                  <a:pt x="22547" y="15780"/>
                  <a:pt x="22547" y="15825"/>
                </a:cubicBezTo>
                <a:cubicBezTo>
                  <a:pt x="22547" y="15877"/>
                  <a:pt x="22542" y="15878"/>
                  <a:pt x="22572" y="15900"/>
                </a:cubicBezTo>
                <a:cubicBezTo>
                  <a:pt x="22603" y="15923"/>
                  <a:pt x="22632" y="15945"/>
                  <a:pt x="22671" y="15949"/>
                </a:cubicBezTo>
                <a:cubicBezTo>
                  <a:pt x="22725" y="15955"/>
                  <a:pt x="22749" y="15936"/>
                  <a:pt x="22771" y="15925"/>
                </a:cubicBezTo>
                <a:cubicBezTo>
                  <a:pt x="22797" y="15912"/>
                  <a:pt x="22816" y="15909"/>
                  <a:pt x="22820" y="15875"/>
                </a:cubicBezTo>
                <a:cubicBezTo>
                  <a:pt x="22825" y="15833"/>
                  <a:pt x="22812" y="15814"/>
                  <a:pt x="22771" y="15801"/>
                </a:cubicBezTo>
                <a:cubicBezTo>
                  <a:pt x="22735" y="15790"/>
                  <a:pt x="22534" y="15816"/>
                  <a:pt x="22547" y="15825"/>
                </a:cubicBezTo>
                <a:cubicBezTo>
                  <a:pt x="22555" y="15825"/>
                  <a:pt x="22564" y="15825"/>
                  <a:pt x="22572" y="158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67"/>
          <p:cNvSpPr/>
          <p:nvPr/>
        </p:nvSpPr>
        <p:spPr>
          <a:xfrm>
            <a:off x="8447040" y="5527800"/>
            <a:ext cx="162000" cy="108000"/>
          </a:xfrm>
          <a:custGeom>
            <a:avLst/>
            <a:gdLst/>
            <a:ahLst/>
            <a:rect l="l" t="t" r="r" b="b"/>
            <a:pathLst>
              <a:path w="448" h="299">
                <a:moveTo>
                  <a:pt x="23564" y="15354"/>
                </a:moveTo>
                <a:cubicBezTo>
                  <a:pt x="23601" y="15373"/>
                  <a:pt x="23619" y="15414"/>
                  <a:pt x="23664" y="15429"/>
                </a:cubicBezTo>
                <a:cubicBezTo>
                  <a:pt x="23704" y="15443"/>
                  <a:pt x="23770" y="15446"/>
                  <a:pt x="23788" y="15453"/>
                </a:cubicBezTo>
                <a:cubicBezTo>
                  <a:pt x="23827" y="15469"/>
                  <a:pt x="23822" y="15448"/>
                  <a:pt x="23862" y="15478"/>
                </a:cubicBezTo>
                <a:cubicBezTo>
                  <a:pt x="23862" y="15434"/>
                  <a:pt x="23865" y="15414"/>
                  <a:pt x="23837" y="15453"/>
                </a:cubicBezTo>
              </a:path>
              <a:path w="448" h="299">
                <a:moveTo>
                  <a:pt x="23465" y="15602"/>
                </a:moveTo>
                <a:cubicBezTo>
                  <a:pt x="23519" y="15602"/>
                  <a:pt x="23535" y="15624"/>
                  <a:pt x="23589" y="15627"/>
                </a:cubicBezTo>
                <a:cubicBezTo>
                  <a:pt x="23654" y="15631"/>
                  <a:pt x="23691" y="15652"/>
                  <a:pt x="23763" y="15652"/>
                </a:cubicBezTo>
                <a:cubicBezTo>
                  <a:pt x="23813" y="15652"/>
                  <a:pt x="23862" y="15652"/>
                  <a:pt x="23912" y="1565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nk 68"/>
          <p:cNvSpPr/>
          <p:nvPr/>
        </p:nvSpPr>
        <p:spPr>
          <a:xfrm>
            <a:off x="8796240" y="5402160"/>
            <a:ext cx="204840" cy="447840"/>
          </a:xfrm>
          <a:custGeom>
            <a:avLst/>
            <a:gdLst/>
            <a:ahLst/>
            <a:rect l="l" t="t" r="r" b="b"/>
            <a:pathLst>
              <a:path w="571" h="1241">
                <a:moveTo>
                  <a:pt x="24854" y="15007"/>
                </a:moveTo>
                <a:cubicBezTo>
                  <a:pt x="24846" y="15007"/>
                  <a:pt x="24837" y="15007"/>
                  <a:pt x="24829" y="15007"/>
                </a:cubicBezTo>
                <a:cubicBezTo>
                  <a:pt x="24817" y="15045"/>
                  <a:pt x="24805" y="15028"/>
                  <a:pt x="24805" y="15081"/>
                </a:cubicBezTo>
                <a:cubicBezTo>
                  <a:pt x="24805" y="15145"/>
                  <a:pt x="24767" y="15128"/>
                  <a:pt x="24755" y="15180"/>
                </a:cubicBezTo>
                <a:cubicBezTo>
                  <a:pt x="24747" y="15217"/>
                  <a:pt x="24755" y="15266"/>
                  <a:pt x="24755" y="15304"/>
                </a:cubicBezTo>
              </a:path>
              <a:path w="571" h="1241">
                <a:moveTo>
                  <a:pt x="24507" y="15304"/>
                </a:moveTo>
                <a:cubicBezTo>
                  <a:pt x="24564" y="15304"/>
                  <a:pt x="24603" y="15325"/>
                  <a:pt x="24656" y="15329"/>
                </a:cubicBezTo>
                <a:cubicBezTo>
                  <a:pt x="24720" y="15333"/>
                  <a:pt x="24728" y="15362"/>
                  <a:pt x="24780" y="15379"/>
                </a:cubicBezTo>
                <a:cubicBezTo>
                  <a:pt x="24817" y="15391"/>
                  <a:pt x="24855" y="15357"/>
                  <a:pt x="24879" y="15404"/>
                </a:cubicBezTo>
                <a:cubicBezTo>
                  <a:pt x="24879" y="15412"/>
                  <a:pt x="24879" y="15421"/>
                  <a:pt x="24879" y="15429"/>
                </a:cubicBezTo>
                <a:cubicBezTo>
                  <a:pt x="24925" y="15429"/>
                  <a:pt x="24938" y="15409"/>
                  <a:pt x="24978" y="15404"/>
                </a:cubicBezTo>
                <a:cubicBezTo>
                  <a:pt x="24986" y="15404"/>
                  <a:pt x="24995" y="15404"/>
                  <a:pt x="25003" y="15404"/>
                </a:cubicBezTo>
              </a:path>
              <a:path w="571" h="1241">
                <a:moveTo>
                  <a:pt x="24705" y="15577"/>
                </a:moveTo>
                <a:cubicBezTo>
                  <a:pt x="24684" y="15584"/>
                  <a:pt x="24666" y="15621"/>
                  <a:pt x="24656" y="15652"/>
                </a:cubicBezTo>
                <a:cubicBezTo>
                  <a:pt x="24646" y="15683"/>
                  <a:pt x="24614" y="15693"/>
                  <a:pt x="24581" y="15726"/>
                </a:cubicBezTo>
                <a:cubicBezTo>
                  <a:pt x="24556" y="15752"/>
                  <a:pt x="24490" y="15812"/>
                  <a:pt x="24482" y="15825"/>
                </a:cubicBezTo>
                <a:cubicBezTo>
                  <a:pt x="24460" y="15864"/>
                  <a:pt x="24433" y="15898"/>
                  <a:pt x="24433" y="15949"/>
                </a:cubicBezTo>
                <a:cubicBezTo>
                  <a:pt x="24495" y="15949"/>
                  <a:pt x="24523" y="15959"/>
                  <a:pt x="24581" y="15974"/>
                </a:cubicBezTo>
                <a:cubicBezTo>
                  <a:pt x="24638" y="15988"/>
                  <a:pt x="24865" y="15991"/>
                  <a:pt x="24879" y="15949"/>
                </a:cubicBezTo>
              </a:path>
              <a:path w="571" h="1241">
                <a:moveTo>
                  <a:pt x="24780" y="15577"/>
                </a:moveTo>
                <a:cubicBezTo>
                  <a:pt x="24780" y="15569"/>
                  <a:pt x="24780" y="15561"/>
                  <a:pt x="24780" y="15553"/>
                </a:cubicBezTo>
                <a:cubicBezTo>
                  <a:pt x="24740" y="15566"/>
                  <a:pt x="24770" y="15564"/>
                  <a:pt x="24730" y="15577"/>
                </a:cubicBezTo>
                <a:cubicBezTo>
                  <a:pt x="24730" y="15633"/>
                  <a:pt x="24737" y="15677"/>
                  <a:pt x="24705" y="15726"/>
                </a:cubicBezTo>
                <a:cubicBezTo>
                  <a:pt x="24677" y="15769"/>
                  <a:pt x="24687" y="15803"/>
                  <a:pt x="24656" y="15850"/>
                </a:cubicBezTo>
                <a:cubicBezTo>
                  <a:pt x="24629" y="15890"/>
                  <a:pt x="24631" y="15937"/>
                  <a:pt x="24606" y="15974"/>
                </a:cubicBezTo>
                <a:cubicBezTo>
                  <a:pt x="24576" y="16019"/>
                  <a:pt x="24557" y="16016"/>
                  <a:pt x="24557" y="16073"/>
                </a:cubicBezTo>
                <a:cubicBezTo>
                  <a:pt x="24557" y="16081"/>
                  <a:pt x="24557" y="16090"/>
                  <a:pt x="24557" y="16098"/>
                </a:cubicBezTo>
                <a:cubicBezTo>
                  <a:pt x="24527" y="16108"/>
                  <a:pt x="24518" y="16160"/>
                  <a:pt x="24507" y="16197"/>
                </a:cubicBezTo>
                <a:cubicBezTo>
                  <a:pt x="24494" y="16241"/>
                  <a:pt x="24517" y="16284"/>
                  <a:pt x="24532" y="1619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Ink 69"/>
          <p:cNvSpPr/>
          <p:nvPr/>
        </p:nvSpPr>
        <p:spPr>
          <a:xfrm>
            <a:off x="4125960" y="6089760"/>
            <a:ext cx="465120" cy="384120"/>
          </a:xfrm>
          <a:custGeom>
            <a:avLst/>
            <a:gdLst/>
            <a:ahLst/>
            <a:rect l="l" t="t" r="r" b="b"/>
            <a:pathLst>
              <a:path w="1291" h="1067">
                <a:moveTo>
                  <a:pt x="11807" y="16942"/>
                </a:moveTo>
                <a:cubicBezTo>
                  <a:pt x="11832" y="16942"/>
                  <a:pt x="11840" y="16942"/>
                  <a:pt x="11832" y="16917"/>
                </a:cubicBezTo>
                <a:cubicBezTo>
                  <a:pt x="11832" y="16962"/>
                  <a:pt x="11810" y="16976"/>
                  <a:pt x="11807" y="17016"/>
                </a:cubicBezTo>
                <a:cubicBezTo>
                  <a:pt x="11805" y="17049"/>
                  <a:pt x="11795" y="17133"/>
                  <a:pt x="11782" y="17165"/>
                </a:cubicBezTo>
                <a:cubicBezTo>
                  <a:pt x="11764" y="17207"/>
                  <a:pt x="11757" y="17212"/>
                  <a:pt x="11757" y="17264"/>
                </a:cubicBezTo>
                <a:cubicBezTo>
                  <a:pt x="11782" y="17264"/>
                  <a:pt x="11790" y="17264"/>
                  <a:pt x="11807" y="17264"/>
                </a:cubicBezTo>
              </a:path>
              <a:path w="1291" h="1067">
                <a:moveTo>
                  <a:pt x="11460" y="17363"/>
                </a:moveTo>
                <a:cubicBezTo>
                  <a:pt x="11675" y="17363"/>
                  <a:pt x="12270" y="17363"/>
                  <a:pt x="12055" y="17363"/>
                </a:cubicBezTo>
                <a:cubicBezTo>
                  <a:pt x="12027" y="17363"/>
                  <a:pt x="12016" y="17365"/>
                  <a:pt x="12005" y="17388"/>
                </a:cubicBezTo>
              </a:path>
              <a:path w="1291" h="1067">
                <a:moveTo>
                  <a:pt x="11708" y="17487"/>
                </a:moveTo>
                <a:cubicBezTo>
                  <a:pt x="11679" y="17526"/>
                  <a:pt x="11676" y="17568"/>
                  <a:pt x="11658" y="17611"/>
                </a:cubicBezTo>
                <a:cubicBezTo>
                  <a:pt x="11633" y="17670"/>
                  <a:pt x="11600" y="17732"/>
                  <a:pt x="11584" y="17785"/>
                </a:cubicBezTo>
                <a:cubicBezTo>
                  <a:pt x="11574" y="17817"/>
                  <a:pt x="11562" y="17853"/>
                  <a:pt x="11559" y="17884"/>
                </a:cubicBezTo>
                <a:cubicBezTo>
                  <a:pt x="11559" y="17909"/>
                  <a:pt x="11559" y="17917"/>
                  <a:pt x="11559" y="17934"/>
                </a:cubicBezTo>
                <a:cubicBezTo>
                  <a:pt x="11613" y="17934"/>
                  <a:pt x="11641" y="17918"/>
                  <a:pt x="11683" y="17909"/>
                </a:cubicBezTo>
                <a:cubicBezTo>
                  <a:pt x="11739" y="17897"/>
                  <a:pt x="11758" y="17875"/>
                  <a:pt x="11807" y="17859"/>
                </a:cubicBezTo>
                <a:cubicBezTo>
                  <a:pt x="11837" y="17849"/>
                  <a:pt x="11877" y="17838"/>
                  <a:pt x="11906" y="17835"/>
                </a:cubicBezTo>
                <a:cubicBezTo>
                  <a:pt x="11931" y="17835"/>
                  <a:pt x="11939" y="17835"/>
                  <a:pt x="11956" y="17835"/>
                </a:cubicBezTo>
              </a:path>
              <a:path w="1291" h="1067">
                <a:moveTo>
                  <a:pt x="11832" y="17611"/>
                </a:moveTo>
                <a:cubicBezTo>
                  <a:pt x="11832" y="17662"/>
                  <a:pt x="11821" y="17670"/>
                  <a:pt x="11807" y="17711"/>
                </a:cubicBezTo>
                <a:cubicBezTo>
                  <a:pt x="11793" y="17751"/>
                  <a:pt x="11795" y="17798"/>
                  <a:pt x="11782" y="17835"/>
                </a:cubicBezTo>
                <a:cubicBezTo>
                  <a:pt x="11765" y="17886"/>
                  <a:pt x="11766" y="17986"/>
                  <a:pt x="11807" y="17959"/>
                </a:cubicBezTo>
              </a:path>
              <a:path w="1291" h="1067">
                <a:moveTo>
                  <a:pt x="12626" y="17413"/>
                </a:moveTo>
                <a:cubicBezTo>
                  <a:pt x="12567" y="17428"/>
                  <a:pt x="12559" y="17459"/>
                  <a:pt x="12502" y="17487"/>
                </a:cubicBezTo>
                <a:cubicBezTo>
                  <a:pt x="12469" y="17503"/>
                  <a:pt x="12437" y="17546"/>
                  <a:pt x="12402" y="17562"/>
                </a:cubicBezTo>
                <a:cubicBezTo>
                  <a:pt x="12394" y="17562"/>
                  <a:pt x="12386" y="17562"/>
                  <a:pt x="12378" y="17562"/>
                </a:cubicBezTo>
                <a:cubicBezTo>
                  <a:pt x="12371" y="17590"/>
                  <a:pt x="12297" y="17667"/>
                  <a:pt x="12353" y="17611"/>
                </a:cubicBezTo>
              </a:path>
              <a:path w="1291" h="1067">
                <a:moveTo>
                  <a:pt x="12402" y="17338"/>
                </a:moveTo>
                <a:cubicBezTo>
                  <a:pt x="12438" y="17338"/>
                  <a:pt x="12476" y="17345"/>
                  <a:pt x="12502" y="17363"/>
                </a:cubicBezTo>
                <a:cubicBezTo>
                  <a:pt x="12537" y="17387"/>
                  <a:pt x="12571" y="17412"/>
                  <a:pt x="12601" y="17438"/>
                </a:cubicBezTo>
                <a:cubicBezTo>
                  <a:pt x="12624" y="17460"/>
                  <a:pt x="12632" y="17465"/>
                  <a:pt x="12626" y="17487"/>
                </a:cubicBezTo>
                <a:cubicBezTo>
                  <a:pt x="12659" y="17498"/>
                  <a:pt x="12657" y="17523"/>
                  <a:pt x="12700" y="17537"/>
                </a:cubicBezTo>
                <a:cubicBezTo>
                  <a:pt x="12725" y="17537"/>
                  <a:pt x="12733" y="17537"/>
                  <a:pt x="12750" y="17537"/>
                </a:cubicBezTo>
              </a:path>
              <a:path w="1291" h="1067">
                <a:moveTo>
                  <a:pt x="12725" y="17338"/>
                </a:moveTo>
                <a:cubicBezTo>
                  <a:pt x="12679" y="17338"/>
                  <a:pt x="12661" y="17332"/>
                  <a:pt x="12626" y="17363"/>
                </a:cubicBezTo>
                <a:cubicBezTo>
                  <a:pt x="12603" y="17386"/>
                  <a:pt x="12599" y="17394"/>
                  <a:pt x="12576" y="17388"/>
                </a:cubicBezTo>
                <a:cubicBezTo>
                  <a:pt x="12563" y="17428"/>
                  <a:pt x="12564" y="17398"/>
                  <a:pt x="12551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Ink 70"/>
          <p:cNvSpPr/>
          <p:nvPr/>
        </p:nvSpPr>
        <p:spPr>
          <a:xfrm>
            <a:off x="4776840" y="6099120"/>
            <a:ext cx="814320" cy="384120"/>
          </a:xfrm>
          <a:custGeom>
            <a:avLst/>
            <a:gdLst/>
            <a:ahLst/>
            <a:rect l="l" t="t" r="r" b="b"/>
            <a:pathLst>
              <a:path w="2258" h="1067">
                <a:moveTo>
                  <a:pt x="13568" y="16942"/>
                </a:moveTo>
                <a:cubicBezTo>
                  <a:pt x="13560" y="16942"/>
                  <a:pt x="13551" y="16942"/>
                  <a:pt x="13543" y="16942"/>
                </a:cubicBezTo>
                <a:cubicBezTo>
                  <a:pt x="13543" y="17039"/>
                  <a:pt x="13537" y="17002"/>
                  <a:pt x="13494" y="17066"/>
                </a:cubicBezTo>
                <a:cubicBezTo>
                  <a:pt x="13485" y="17080"/>
                  <a:pt x="13476" y="17168"/>
                  <a:pt x="13469" y="17190"/>
                </a:cubicBezTo>
                <a:cubicBezTo>
                  <a:pt x="13451" y="17244"/>
                  <a:pt x="13500" y="17320"/>
                  <a:pt x="13444" y="17338"/>
                </a:cubicBezTo>
              </a:path>
              <a:path w="2258" h="1067">
                <a:moveTo>
                  <a:pt x="13271" y="17338"/>
                </a:moveTo>
                <a:cubicBezTo>
                  <a:pt x="13391" y="17338"/>
                  <a:pt x="13830" y="17324"/>
                  <a:pt x="13767" y="17363"/>
                </a:cubicBezTo>
              </a:path>
              <a:path w="2258" h="1067">
                <a:moveTo>
                  <a:pt x="13419" y="17562"/>
                </a:moveTo>
                <a:cubicBezTo>
                  <a:pt x="13419" y="17611"/>
                  <a:pt x="13408" y="17621"/>
                  <a:pt x="13395" y="17661"/>
                </a:cubicBezTo>
                <a:cubicBezTo>
                  <a:pt x="13375" y="17722"/>
                  <a:pt x="13380" y="17730"/>
                  <a:pt x="13345" y="17785"/>
                </a:cubicBezTo>
                <a:cubicBezTo>
                  <a:pt x="13325" y="17816"/>
                  <a:pt x="13299" y="17876"/>
                  <a:pt x="13295" y="17909"/>
                </a:cubicBezTo>
                <a:cubicBezTo>
                  <a:pt x="13292" y="17933"/>
                  <a:pt x="13295" y="17959"/>
                  <a:pt x="13295" y="17983"/>
                </a:cubicBezTo>
                <a:cubicBezTo>
                  <a:pt x="13344" y="17983"/>
                  <a:pt x="13355" y="17972"/>
                  <a:pt x="13395" y="17959"/>
                </a:cubicBezTo>
                <a:cubicBezTo>
                  <a:pt x="13441" y="17944"/>
                  <a:pt x="13496" y="17921"/>
                  <a:pt x="13543" y="17909"/>
                </a:cubicBezTo>
                <a:cubicBezTo>
                  <a:pt x="13593" y="17896"/>
                  <a:pt x="13642" y="17888"/>
                  <a:pt x="13692" y="17884"/>
                </a:cubicBezTo>
                <a:cubicBezTo>
                  <a:pt x="13711" y="17882"/>
                  <a:pt x="13761" y="17859"/>
                  <a:pt x="13717" y="17859"/>
                </a:cubicBezTo>
              </a:path>
              <a:path w="2258" h="1067">
                <a:moveTo>
                  <a:pt x="13568" y="17686"/>
                </a:moveTo>
                <a:cubicBezTo>
                  <a:pt x="13556" y="17735"/>
                  <a:pt x="13512" y="17757"/>
                  <a:pt x="13494" y="17810"/>
                </a:cubicBezTo>
                <a:cubicBezTo>
                  <a:pt x="13476" y="17864"/>
                  <a:pt x="13494" y="17950"/>
                  <a:pt x="13494" y="18008"/>
                </a:cubicBezTo>
                <a:cubicBezTo>
                  <a:pt x="13527" y="18008"/>
                  <a:pt x="13543" y="18008"/>
                  <a:pt x="13568" y="18008"/>
                </a:cubicBezTo>
              </a:path>
              <a:path w="2258" h="1067">
                <a:moveTo>
                  <a:pt x="14536" y="17438"/>
                </a:moveTo>
                <a:cubicBezTo>
                  <a:pt x="14492" y="17449"/>
                  <a:pt x="14470" y="17478"/>
                  <a:pt x="14436" y="17512"/>
                </a:cubicBezTo>
                <a:cubicBezTo>
                  <a:pt x="14400" y="17549"/>
                  <a:pt x="14376" y="17532"/>
                  <a:pt x="14362" y="17587"/>
                </a:cubicBezTo>
                <a:cubicBezTo>
                  <a:pt x="14321" y="17597"/>
                  <a:pt x="14303" y="17626"/>
                  <a:pt x="14263" y="17636"/>
                </a:cubicBezTo>
              </a:path>
              <a:path w="2258" h="1067">
                <a:moveTo>
                  <a:pt x="14362" y="17413"/>
                </a:moveTo>
                <a:cubicBezTo>
                  <a:pt x="14391" y="17420"/>
                  <a:pt x="14407" y="17430"/>
                  <a:pt x="14436" y="17438"/>
                </a:cubicBezTo>
                <a:cubicBezTo>
                  <a:pt x="14446" y="17467"/>
                  <a:pt x="14457" y="17480"/>
                  <a:pt x="14486" y="17512"/>
                </a:cubicBezTo>
                <a:cubicBezTo>
                  <a:pt x="14509" y="17535"/>
                  <a:pt x="14517" y="17539"/>
                  <a:pt x="14511" y="17562"/>
                </a:cubicBezTo>
                <a:cubicBezTo>
                  <a:pt x="14542" y="17572"/>
                  <a:pt x="14550" y="17580"/>
                  <a:pt x="14560" y="17611"/>
                </a:cubicBezTo>
              </a:path>
              <a:path w="2258" h="1067">
                <a:moveTo>
                  <a:pt x="15379" y="16966"/>
                </a:moveTo>
                <a:cubicBezTo>
                  <a:pt x="15379" y="16958"/>
                  <a:pt x="15379" y="16950"/>
                  <a:pt x="15379" y="16942"/>
                </a:cubicBezTo>
                <a:cubicBezTo>
                  <a:pt x="15370" y="16975"/>
                  <a:pt x="15346" y="17038"/>
                  <a:pt x="15329" y="17066"/>
                </a:cubicBezTo>
                <a:cubicBezTo>
                  <a:pt x="15304" y="17107"/>
                  <a:pt x="15285" y="17161"/>
                  <a:pt x="15280" y="17214"/>
                </a:cubicBezTo>
                <a:cubicBezTo>
                  <a:pt x="15280" y="17239"/>
                  <a:pt x="15280" y="17247"/>
                  <a:pt x="15280" y="17264"/>
                </a:cubicBezTo>
              </a:path>
              <a:path w="2258" h="1067">
                <a:moveTo>
                  <a:pt x="14982" y="17314"/>
                </a:moveTo>
                <a:cubicBezTo>
                  <a:pt x="15094" y="17314"/>
                  <a:pt x="15198" y="17314"/>
                  <a:pt x="15304" y="17289"/>
                </a:cubicBezTo>
                <a:cubicBezTo>
                  <a:pt x="15356" y="17277"/>
                  <a:pt x="15425" y="17289"/>
                  <a:pt x="15478" y="17289"/>
                </a:cubicBezTo>
                <a:cubicBezTo>
                  <a:pt x="15438" y="17299"/>
                  <a:pt x="15439" y="17298"/>
                  <a:pt x="15429" y="17338"/>
                </a:cubicBezTo>
              </a:path>
              <a:path w="2258" h="1067">
                <a:moveTo>
                  <a:pt x="15106" y="17512"/>
                </a:moveTo>
                <a:cubicBezTo>
                  <a:pt x="15162" y="17512"/>
                  <a:pt x="15180" y="17525"/>
                  <a:pt x="15205" y="17537"/>
                </a:cubicBezTo>
                <a:cubicBezTo>
                  <a:pt x="15250" y="17560"/>
                  <a:pt x="15255" y="17517"/>
                  <a:pt x="15255" y="17587"/>
                </a:cubicBezTo>
                <a:cubicBezTo>
                  <a:pt x="15255" y="17638"/>
                  <a:pt x="15264" y="17673"/>
                  <a:pt x="15230" y="17711"/>
                </a:cubicBezTo>
                <a:cubicBezTo>
                  <a:pt x="15195" y="17750"/>
                  <a:pt x="15102" y="17805"/>
                  <a:pt x="15081" y="17835"/>
                </a:cubicBezTo>
                <a:cubicBezTo>
                  <a:pt x="15069" y="17852"/>
                  <a:pt x="15041" y="17952"/>
                  <a:pt x="15032" y="17959"/>
                </a:cubicBezTo>
                <a:cubicBezTo>
                  <a:pt x="15008" y="17978"/>
                  <a:pt x="15055" y="17959"/>
                  <a:pt x="15106" y="17959"/>
                </a:cubicBezTo>
                <a:cubicBezTo>
                  <a:pt x="15172" y="17959"/>
                  <a:pt x="15226" y="17946"/>
                  <a:pt x="15280" y="17934"/>
                </a:cubicBezTo>
                <a:cubicBezTo>
                  <a:pt x="15355" y="17918"/>
                  <a:pt x="15451" y="17934"/>
                  <a:pt x="15528" y="179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nk 71"/>
          <p:cNvSpPr/>
          <p:nvPr/>
        </p:nvSpPr>
        <p:spPr>
          <a:xfrm>
            <a:off x="5919840" y="6242040"/>
            <a:ext cx="162000" cy="61920"/>
          </a:xfrm>
          <a:custGeom>
            <a:avLst/>
            <a:gdLst/>
            <a:ahLst/>
            <a:rect l="l" t="t" r="r" b="b"/>
            <a:pathLst>
              <a:path w="447" h="175">
                <a:moveTo>
                  <a:pt x="16495" y="17338"/>
                </a:moveTo>
                <a:cubicBezTo>
                  <a:pt x="16619" y="17338"/>
                  <a:pt x="16942" y="17338"/>
                  <a:pt x="16818" y="17338"/>
                </a:cubicBezTo>
                <a:cubicBezTo>
                  <a:pt x="16784" y="17338"/>
                  <a:pt x="16749" y="17371"/>
                  <a:pt x="16718" y="17388"/>
                </a:cubicBezTo>
              </a:path>
              <a:path w="447" h="175">
                <a:moveTo>
                  <a:pt x="16446" y="17487"/>
                </a:moveTo>
                <a:cubicBezTo>
                  <a:pt x="16527" y="17487"/>
                  <a:pt x="16873" y="17455"/>
                  <a:pt x="16892" y="17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nk 72"/>
          <p:cNvSpPr/>
          <p:nvPr/>
        </p:nvSpPr>
        <p:spPr>
          <a:xfrm>
            <a:off x="6340320" y="6054840"/>
            <a:ext cx="366840" cy="490320"/>
          </a:xfrm>
          <a:custGeom>
            <a:avLst/>
            <a:gdLst/>
            <a:ahLst/>
            <a:rect l="l" t="t" r="r" b="b"/>
            <a:pathLst>
              <a:path w="1018" h="1365">
                <a:moveTo>
                  <a:pt x="18331" y="16818"/>
                </a:moveTo>
                <a:cubicBezTo>
                  <a:pt x="18331" y="16892"/>
                  <a:pt x="18326" y="16931"/>
                  <a:pt x="18306" y="16991"/>
                </a:cubicBezTo>
                <a:cubicBezTo>
                  <a:pt x="18297" y="17016"/>
                  <a:pt x="18294" y="17067"/>
                  <a:pt x="18281" y="17090"/>
                </a:cubicBezTo>
                <a:cubicBezTo>
                  <a:pt x="18258" y="17131"/>
                  <a:pt x="18256" y="17139"/>
                  <a:pt x="18256" y="17190"/>
                </a:cubicBezTo>
              </a:path>
              <a:path w="1018" h="1365">
                <a:moveTo>
                  <a:pt x="17810" y="17289"/>
                </a:moveTo>
                <a:cubicBezTo>
                  <a:pt x="17855" y="17278"/>
                  <a:pt x="17880" y="17264"/>
                  <a:pt x="17934" y="17264"/>
                </a:cubicBezTo>
                <a:cubicBezTo>
                  <a:pt x="18035" y="17264"/>
                  <a:pt x="18122" y="17270"/>
                  <a:pt x="18207" y="17289"/>
                </a:cubicBezTo>
                <a:cubicBezTo>
                  <a:pt x="18293" y="17308"/>
                  <a:pt x="18580" y="17288"/>
                  <a:pt x="18579" y="17289"/>
                </a:cubicBezTo>
                <a:cubicBezTo>
                  <a:pt x="18545" y="17313"/>
                  <a:pt x="18543" y="17329"/>
                  <a:pt x="18504" y="17338"/>
                </a:cubicBezTo>
              </a:path>
              <a:path w="1018" h="1365">
                <a:moveTo>
                  <a:pt x="17785" y="17562"/>
                </a:moveTo>
                <a:cubicBezTo>
                  <a:pt x="17837" y="17562"/>
                  <a:pt x="17838" y="17548"/>
                  <a:pt x="17859" y="17537"/>
                </a:cubicBezTo>
                <a:cubicBezTo>
                  <a:pt x="17896" y="17519"/>
                  <a:pt x="17991" y="17537"/>
                  <a:pt x="18033" y="17537"/>
                </a:cubicBezTo>
                <a:cubicBezTo>
                  <a:pt x="18033" y="17598"/>
                  <a:pt x="18023" y="17632"/>
                  <a:pt x="18008" y="17661"/>
                </a:cubicBezTo>
                <a:cubicBezTo>
                  <a:pt x="17984" y="17709"/>
                  <a:pt x="17953" y="17720"/>
                  <a:pt x="17909" y="17760"/>
                </a:cubicBezTo>
                <a:cubicBezTo>
                  <a:pt x="17881" y="17785"/>
                  <a:pt x="17802" y="17785"/>
                  <a:pt x="17785" y="17810"/>
                </a:cubicBezTo>
                <a:cubicBezTo>
                  <a:pt x="17785" y="17818"/>
                  <a:pt x="17785" y="17827"/>
                  <a:pt x="17785" y="17835"/>
                </a:cubicBezTo>
                <a:cubicBezTo>
                  <a:pt x="17835" y="17835"/>
                  <a:pt x="17839" y="17849"/>
                  <a:pt x="17859" y="17859"/>
                </a:cubicBezTo>
                <a:cubicBezTo>
                  <a:pt x="17909" y="17883"/>
                  <a:pt x="17859" y="17888"/>
                  <a:pt x="17884" y="17934"/>
                </a:cubicBezTo>
                <a:cubicBezTo>
                  <a:pt x="17918" y="17996"/>
                  <a:pt x="17902" y="17972"/>
                  <a:pt x="17884" y="18008"/>
                </a:cubicBezTo>
                <a:cubicBezTo>
                  <a:pt x="17865" y="18045"/>
                  <a:pt x="17862" y="18077"/>
                  <a:pt x="17810" y="18083"/>
                </a:cubicBezTo>
                <a:cubicBezTo>
                  <a:pt x="17769" y="18088"/>
                  <a:pt x="17748" y="18104"/>
                  <a:pt x="17711" y="18107"/>
                </a:cubicBezTo>
                <a:cubicBezTo>
                  <a:pt x="17663" y="18110"/>
                  <a:pt x="17624" y="18120"/>
                  <a:pt x="17611" y="18083"/>
                </a:cubicBezTo>
                <a:cubicBezTo>
                  <a:pt x="17617" y="18065"/>
                  <a:pt x="17655" y="18022"/>
                  <a:pt x="17686" y="18008"/>
                </a:cubicBezTo>
                <a:cubicBezTo>
                  <a:pt x="17694" y="18008"/>
                  <a:pt x="17703" y="18008"/>
                  <a:pt x="17711" y="18008"/>
                </a:cubicBezTo>
              </a:path>
              <a:path w="1018" h="1365">
                <a:moveTo>
                  <a:pt x="18306" y="17636"/>
                </a:moveTo>
                <a:cubicBezTo>
                  <a:pt x="18319" y="17598"/>
                  <a:pt x="18335" y="17611"/>
                  <a:pt x="18380" y="17611"/>
                </a:cubicBezTo>
                <a:cubicBezTo>
                  <a:pt x="18414" y="17611"/>
                  <a:pt x="18460" y="17598"/>
                  <a:pt x="18479" y="17636"/>
                </a:cubicBezTo>
                <a:cubicBezTo>
                  <a:pt x="18493" y="17665"/>
                  <a:pt x="18523" y="17723"/>
                  <a:pt x="18504" y="17760"/>
                </a:cubicBezTo>
                <a:cubicBezTo>
                  <a:pt x="18479" y="17811"/>
                  <a:pt x="18411" y="17823"/>
                  <a:pt x="18380" y="17859"/>
                </a:cubicBezTo>
                <a:cubicBezTo>
                  <a:pt x="18348" y="17896"/>
                  <a:pt x="18311" y="17961"/>
                  <a:pt x="18281" y="17983"/>
                </a:cubicBezTo>
                <a:cubicBezTo>
                  <a:pt x="18256" y="18002"/>
                  <a:pt x="18196" y="18049"/>
                  <a:pt x="18182" y="18058"/>
                </a:cubicBezTo>
                <a:cubicBezTo>
                  <a:pt x="18174" y="18058"/>
                  <a:pt x="18165" y="18058"/>
                  <a:pt x="18157" y="18058"/>
                </a:cubicBezTo>
                <a:cubicBezTo>
                  <a:pt x="18212" y="18058"/>
                  <a:pt x="18227" y="18070"/>
                  <a:pt x="18281" y="18083"/>
                </a:cubicBezTo>
                <a:cubicBezTo>
                  <a:pt x="18311" y="18090"/>
                  <a:pt x="18356" y="18102"/>
                  <a:pt x="18380" y="18107"/>
                </a:cubicBezTo>
                <a:cubicBezTo>
                  <a:pt x="18426" y="18116"/>
                  <a:pt x="18515" y="18153"/>
                  <a:pt x="18529" y="18157"/>
                </a:cubicBezTo>
                <a:cubicBezTo>
                  <a:pt x="18555" y="18163"/>
                  <a:pt x="18600" y="18157"/>
                  <a:pt x="18628" y="18157"/>
                </a:cubicBezTo>
                <a:cubicBezTo>
                  <a:pt x="18614" y="18202"/>
                  <a:pt x="18590" y="18184"/>
                  <a:pt x="18554" y="181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88080" y="2384280"/>
            <a:ext cx="557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a ‘star’ card fir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92280"/>
            <a:ext cx="41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shop runs a promotion with one of 5 cards given with each purchase </a:t>
            </a:r>
            <a:br>
              <a:rPr sz="2000"/>
            </a:b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(there are a very large number of card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88080" y="321156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yellow card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87360" y="5695920"/>
            <a:ext cx="70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you select a blue card, what's the chance it is a mo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86280" y="4040280"/>
            <a:ext cx="76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blue card first, then a red c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88080" y="48672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two stars in a r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1"/>
          <p:cNvSpPr/>
          <p:nvPr/>
        </p:nvSpPr>
        <p:spPr>
          <a:xfrm>
            <a:off x="442764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536400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3"/>
          <p:cNvSpPr/>
          <p:nvPr/>
        </p:nvSpPr>
        <p:spPr>
          <a:xfrm>
            <a:off x="629928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4"/>
          <p:cNvSpPr/>
          <p:nvPr/>
        </p:nvSpPr>
        <p:spPr>
          <a:xfrm>
            <a:off x="723600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5"/>
          <p:cNvSpPr/>
          <p:nvPr/>
        </p:nvSpPr>
        <p:spPr>
          <a:xfrm>
            <a:off x="817236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4572000" y="100980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509" y="2407"/>
                  <a:pt x="13417" y="5080"/>
                  <a:pt x="13417" y="10800"/>
                </a:cubicBezTo>
                <a:cubicBezTo>
                  <a:pt x="13417" y="16520"/>
                  <a:pt x="17509" y="1919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7"/>
          <p:cNvSpPr/>
          <p:nvPr/>
        </p:nvSpPr>
        <p:spPr>
          <a:xfrm>
            <a:off x="5479920" y="1068480"/>
            <a:ext cx="503280" cy="503280"/>
          </a:xfrm>
          <a:prstGeom prst="plus">
            <a:avLst>
              <a:gd name="adj" fmla="val 25000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6372360" y="1052640"/>
            <a:ext cx="57600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337520" y="1125360"/>
            <a:ext cx="504720" cy="503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0"/>
          <p:cNvSpPr/>
          <p:nvPr/>
        </p:nvSpPr>
        <p:spPr>
          <a:xfrm>
            <a:off x="8244000" y="982800"/>
            <a:ext cx="576000" cy="647640"/>
          </a:xfrm>
          <a:prstGeom prst="pi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3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88080" y="2384280"/>
            <a:ext cx="557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a ‘star’ card fir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50920" y="692280"/>
            <a:ext cx="41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shop runs a promotion with one of 5 cards given with each purchase </a:t>
            </a:r>
            <a:br>
              <a:rPr sz="2000"/>
            </a:b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(there are a very large number of card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88080" y="321156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yellow card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387360" y="5695920"/>
            <a:ext cx="70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you select a blue card, what's the chance it is a mo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386280" y="4040280"/>
            <a:ext cx="76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blue card first, then a red c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388080" y="48672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two stars in a r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442764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6"/>
          <p:cNvSpPr/>
          <p:nvPr/>
        </p:nvSpPr>
        <p:spPr>
          <a:xfrm>
            <a:off x="536400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629928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723600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817236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/>
          <p:cNvSpPr/>
          <p:nvPr/>
        </p:nvSpPr>
        <p:spPr>
          <a:xfrm>
            <a:off x="4572000" y="100980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509" y="2407"/>
                  <a:pt x="13417" y="5080"/>
                  <a:pt x="13417" y="10800"/>
                </a:cubicBezTo>
                <a:cubicBezTo>
                  <a:pt x="13417" y="16520"/>
                  <a:pt x="17509" y="1919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1"/>
          <p:cNvSpPr/>
          <p:nvPr/>
        </p:nvSpPr>
        <p:spPr>
          <a:xfrm>
            <a:off x="5479920" y="1068480"/>
            <a:ext cx="503280" cy="503280"/>
          </a:xfrm>
          <a:prstGeom prst="plus">
            <a:avLst>
              <a:gd name="adj" fmla="val 25000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6372360" y="1052640"/>
            <a:ext cx="57600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3"/>
          <p:cNvSpPr/>
          <p:nvPr/>
        </p:nvSpPr>
        <p:spPr>
          <a:xfrm>
            <a:off x="7337520" y="1125360"/>
            <a:ext cx="504720" cy="503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4"/>
          <p:cNvSpPr/>
          <p:nvPr/>
        </p:nvSpPr>
        <p:spPr>
          <a:xfrm>
            <a:off x="8244000" y="982800"/>
            <a:ext cx="576000" cy="647640"/>
          </a:xfrm>
          <a:prstGeom prst="pi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7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nk 25"/>
          <p:cNvSpPr/>
          <p:nvPr/>
        </p:nvSpPr>
        <p:spPr>
          <a:xfrm>
            <a:off x="6143760" y="2295360"/>
            <a:ext cx="822240" cy="606600"/>
          </a:xfrm>
          <a:custGeom>
            <a:avLst/>
            <a:gdLst/>
            <a:ahLst/>
            <a:rect l="l" t="t" r="r" b="b"/>
            <a:pathLst>
              <a:path w="2283" h="1688">
                <a:moveTo>
                  <a:pt x="17190" y="7144"/>
                </a:moveTo>
                <a:cubicBezTo>
                  <a:pt x="17190" y="7169"/>
                  <a:pt x="17190" y="7177"/>
                  <a:pt x="17190" y="7193"/>
                </a:cubicBezTo>
                <a:cubicBezTo>
                  <a:pt x="17227" y="7206"/>
                  <a:pt x="17211" y="7218"/>
                  <a:pt x="17264" y="7218"/>
                </a:cubicBezTo>
                <a:cubicBezTo>
                  <a:pt x="17304" y="7218"/>
                  <a:pt x="17318" y="7243"/>
                  <a:pt x="17363" y="7243"/>
                </a:cubicBezTo>
                <a:cubicBezTo>
                  <a:pt x="17422" y="7243"/>
                  <a:pt x="17441" y="7253"/>
                  <a:pt x="17487" y="7268"/>
                </a:cubicBezTo>
                <a:cubicBezTo>
                  <a:pt x="17520" y="7279"/>
                  <a:pt x="17576" y="7268"/>
                  <a:pt x="17611" y="7268"/>
                </a:cubicBezTo>
                <a:cubicBezTo>
                  <a:pt x="17589" y="7245"/>
                  <a:pt x="17584" y="7237"/>
                  <a:pt x="17562" y="7243"/>
                </a:cubicBezTo>
              </a:path>
              <a:path w="2283" h="1688">
                <a:moveTo>
                  <a:pt x="17066" y="7466"/>
                </a:moveTo>
                <a:cubicBezTo>
                  <a:pt x="17240" y="7466"/>
                  <a:pt x="17413" y="7466"/>
                  <a:pt x="17587" y="7466"/>
                </a:cubicBezTo>
              </a:path>
              <a:path w="2283" h="1688">
                <a:moveTo>
                  <a:pt x="18951" y="6400"/>
                </a:moveTo>
                <a:cubicBezTo>
                  <a:pt x="18951" y="6324"/>
                  <a:pt x="18951" y="6460"/>
                  <a:pt x="18951" y="6474"/>
                </a:cubicBezTo>
                <a:cubicBezTo>
                  <a:pt x="18951" y="6532"/>
                  <a:pt x="18926" y="6593"/>
                  <a:pt x="18901" y="6648"/>
                </a:cubicBezTo>
                <a:cubicBezTo>
                  <a:pt x="18872" y="6712"/>
                  <a:pt x="18855" y="6758"/>
                  <a:pt x="18827" y="6821"/>
                </a:cubicBezTo>
                <a:cubicBezTo>
                  <a:pt x="18803" y="6876"/>
                  <a:pt x="18767" y="6919"/>
                  <a:pt x="18752" y="6970"/>
                </a:cubicBezTo>
                <a:cubicBezTo>
                  <a:pt x="18744" y="6995"/>
                  <a:pt x="18701" y="7060"/>
                  <a:pt x="18728" y="7020"/>
                </a:cubicBezTo>
                <a:cubicBezTo>
                  <a:pt x="18751" y="6986"/>
                  <a:pt x="18767" y="6984"/>
                  <a:pt x="18777" y="6945"/>
                </a:cubicBezTo>
              </a:path>
              <a:path w="2283" h="1688">
                <a:moveTo>
                  <a:pt x="18256" y="7069"/>
                </a:moveTo>
                <a:cubicBezTo>
                  <a:pt x="18433" y="7069"/>
                  <a:pt x="18605" y="7075"/>
                  <a:pt x="18777" y="7094"/>
                </a:cubicBezTo>
                <a:cubicBezTo>
                  <a:pt x="18934" y="7112"/>
                  <a:pt x="19106" y="7071"/>
                  <a:pt x="19248" y="7119"/>
                </a:cubicBezTo>
                <a:cubicBezTo>
                  <a:pt x="19278" y="7129"/>
                  <a:pt x="19371" y="7099"/>
                  <a:pt x="19323" y="7119"/>
                </a:cubicBezTo>
                <a:cubicBezTo>
                  <a:pt x="19282" y="7139"/>
                  <a:pt x="19276" y="7148"/>
                  <a:pt x="19248" y="7144"/>
                </a:cubicBezTo>
              </a:path>
              <a:path w="2283" h="1688">
                <a:moveTo>
                  <a:pt x="18604" y="7218"/>
                </a:moveTo>
                <a:cubicBezTo>
                  <a:pt x="18604" y="7210"/>
                  <a:pt x="18604" y="7201"/>
                  <a:pt x="18604" y="7193"/>
                </a:cubicBezTo>
                <a:cubicBezTo>
                  <a:pt x="18662" y="7283"/>
                  <a:pt x="18635" y="7205"/>
                  <a:pt x="18703" y="7243"/>
                </a:cubicBezTo>
                <a:cubicBezTo>
                  <a:pt x="18753" y="7271"/>
                  <a:pt x="18763" y="7268"/>
                  <a:pt x="18827" y="7268"/>
                </a:cubicBezTo>
                <a:cubicBezTo>
                  <a:pt x="18860" y="7268"/>
                  <a:pt x="18876" y="7268"/>
                  <a:pt x="18901" y="7268"/>
                </a:cubicBezTo>
                <a:cubicBezTo>
                  <a:pt x="18913" y="7304"/>
                  <a:pt x="18914" y="7304"/>
                  <a:pt x="18926" y="7268"/>
                </a:cubicBezTo>
              </a:path>
              <a:path w="2283" h="1688">
                <a:moveTo>
                  <a:pt x="18628" y="7268"/>
                </a:moveTo>
                <a:cubicBezTo>
                  <a:pt x="18589" y="7282"/>
                  <a:pt x="18583" y="7316"/>
                  <a:pt x="18579" y="7367"/>
                </a:cubicBezTo>
                <a:cubicBezTo>
                  <a:pt x="18575" y="7416"/>
                  <a:pt x="18568" y="7426"/>
                  <a:pt x="18554" y="7466"/>
                </a:cubicBezTo>
                <a:cubicBezTo>
                  <a:pt x="18544" y="7496"/>
                  <a:pt x="18532" y="7536"/>
                  <a:pt x="18529" y="7565"/>
                </a:cubicBezTo>
                <a:cubicBezTo>
                  <a:pt x="18529" y="7573"/>
                  <a:pt x="18529" y="7582"/>
                  <a:pt x="18529" y="7590"/>
                </a:cubicBezTo>
                <a:cubicBezTo>
                  <a:pt x="18594" y="7590"/>
                  <a:pt x="18822" y="7556"/>
                  <a:pt x="18852" y="7615"/>
                </a:cubicBezTo>
                <a:cubicBezTo>
                  <a:pt x="18868" y="7646"/>
                  <a:pt x="18876" y="7675"/>
                  <a:pt x="18876" y="7714"/>
                </a:cubicBezTo>
                <a:cubicBezTo>
                  <a:pt x="18876" y="7773"/>
                  <a:pt x="18866" y="7813"/>
                  <a:pt x="18852" y="7863"/>
                </a:cubicBezTo>
                <a:cubicBezTo>
                  <a:pt x="18836" y="7919"/>
                  <a:pt x="18819" y="7945"/>
                  <a:pt x="18777" y="7987"/>
                </a:cubicBezTo>
                <a:cubicBezTo>
                  <a:pt x="18738" y="8026"/>
                  <a:pt x="18711" y="8056"/>
                  <a:pt x="18653" y="8062"/>
                </a:cubicBezTo>
                <a:cubicBezTo>
                  <a:pt x="18599" y="8067"/>
                  <a:pt x="18580" y="8050"/>
                  <a:pt x="18529" y="8037"/>
                </a:cubicBezTo>
                <a:cubicBezTo>
                  <a:pt x="18481" y="8025"/>
                  <a:pt x="18450" y="7988"/>
                  <a:pt x="18430" y="7962"/>
                </a:cubicBezTo>
                <a:cubicBezTo>
                  <a:pt x="18402" y="7926"/>
                  <a:pt x="18379" y="7926"/>
                  <a:pt x="18355" y="7888"/>
                </a:cubicBezTo>
                <a:cubicBezTo>
                  <a:pt x="18331" y="7863"/>
                  <a:pt x="18323" y="7855"/>
                  <a:pt x="18306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nk 26"/>
          <p:cNvSpPr/>
          <p:nvPr/>
        </p:nvSpPr>
        <p:spPr>
          <a:xfrm>
            <a:off x="4179960" y="4429080"/>
            <a:ext cx="606240" cy="438120"/>
          </a:xfrm>
          <a:custGeom>
            <a:avLst/>
            <a:gdLst/>
            <a:ahLst/>
            <a:rect l="l" t="t" r="r" b="b"/>
            <a:pathLst>
              <a:path w="1687" h="1217">
                <a:moveTo>
                  <a:pt x="11807" y="12303"/>
                </a:moveTo>
                <a:cubicBezTo>
                  <a:pt x="11864" y="12303"/>
                  <a:pt x="11913" y="12290"/>
                  <a:pt x="11956" y="12328"/>
                </a:cubicBezTo>
                <a:cubicBezTo>
                  <a:pt x="11984" y="12353"/>
                  <a:pt x="11999" y="12416"/>
                  <a:pt x="11981" y="12452"/>
                </a:cubicBezTo>
                <a:cubicBezTo>
                  <a:pt x="11962" y="12490"/>
                  <a:pt x="11939" y="12518"/>
                  <a:pt x="11906" y="12551"/>
                </a:cubicBezTo>
                <a:cubicBezTo>
                  <a:pt x="11880" y="12577"/>
                  <a:pt x="11821" y="12599"/>
                  <a:pt x="11807" y="12626"/>
                </a:cubicBezTo>
                <a:cubicBezTo>
                  <a:pt x="11807" y="12650"/>
                  <a:pt x="11807" y="12658"/>
                  <a:pt x="11782" y="12650"/>
                </a:cubicBezTo>
                <a:cubicBezTo>
                  <a:pt x="11849" y="12650"/>
                  <a:pt x="11922" y="12662"/>
                  <a:pt x="11981" y="12626"/>
                </a:cubicBezTo>
                <a:cubicBezTo>
                  <a:pt x="12028" y="12597"/>
                  <a:pt x="12047" y="12576"/>
                  <a:pt x="12105" y="12576"/>
                </a:cubicBezTo>
                <a:cubicBezTo>
                  <a:pt x="12130" y="12576"/>
                  <a:pt x="12154" y="12576"/>
                  <a:pt x="12179" y="12576"/>
                </a:cubicBezTo>
              </a:path>
              <a:path w="1687" h="1217">
                <a:moveTo>
                  <a:pt x="11609" y="12799"/>
                </a:moveTo>
                <a:cubicBezTo>
                  <a:pt x="11654" y="12799"/>
                  <a:pt x="11668" y="12820"/>
                  <a:pt x="11708" y="12824"/>
                </a:cubicBezTo>
                <a:cubicBezTo>
                  <a:pt x="11862" y="12841"/>
                  <a:pt x="12067" y="12840"/>
                  <a:pt x="12204" y="12799"/>
                </a:cubicBezTo>
                <a:cubicBezTo>
                  <a:pt x="12231" y="12791"/>
                  <a:pt x="12275" y="12799"/>
                  <a:pt x="12303" y="12799"/>
                </a:cubicBezTo>
                <a:cubicBezTo>
                  <a:pt x="12318" y="12755"/>
                  <a:pt x="12347" y="12784"/>
                  <a:pt x="12303" y="12799"/>
                </a:cubicBezTo>
              </a:path>
              <a:path w="1687" h="1217">
                <a:moveTo>
                  <a:pt x="11857" y="12948"/>
                </a:moveTo>
                <a:cubicBezTo>
                  <a:pt x="11894" y="12919"/>
                  <a:pt x="11908" y="12923"/>
                  <a:pt x="11956" y="12923"/>
                </a:cubicBezTo>
                <a:cubicBezTo>
                  <a:pt x="11995" y="12923"/>
                  <a:pt x="12010" y="12948"/>
                  <a:pt x="12055" y="12948"/>
                </a:cubicBezTo>
                <a:cubicBezTo>
                  <a:pt x="12100" y="12948"/>
                  <a:pt x="12117" y="12935"/>
                  <a:pt x="12129" y="12973"/>
                </a:cubicBezTo>
              </a:path>
              <a:path w="1687" h="1217">
                <a:moveTo>
                  <a:pt x="11906" y="12973"/>
                </a:moveTo>
                <a:cubicBezTo>
                  <a:pt x="11877" y="12983"/>
                  <a:pt x="11861" y="13006"/>
                  <a:pt x="11857" y="13047"/>
                </a:cubicBezTo>
                <a:cubicBezTo>
                  <a:pt x="11851" y="13101"/>
                  <a:pt x="11847" y="13125"/>
                  <a:pt x="11832" y="13171"/>
                </a:cubicBezTo>
                <a:cubicBezTo>
                  <a:pt x="11832" y="13179"/>
                  <a:pt x="11832" y="13188"/>
                  <a:pt x="11832" y="13196"/>
                </a:cubicBezTo>
                <a:cubicBezTo>
                  <a:pt x="11909" y="13196"/>
                  <a:pt x="11966" y="13199"/>
                  <a:pt x="12030" y="13221"/>
                </a:cubicBezTo>
                <a:cubicBezTo>
                  <a:pt x="12068" y="13234"/>
                  <a:pt x="12055" y="13250"/>
                  <a:pt x="12055" y="13295"/>
                </a:cubicBezTo>
                <a:cubicBezTo>
                  <a:pt x="12055" y="13332"/>
                  <a:pt x="12071" y="13399"/>
                  <a:pt x="12030" y="13419"/>
                </a:cubicBezTo>
                <a:cubicBezTo>
                  <a:pt x="11995" y="13436"/>
                  <a:pt x="11975" y="13481"/>
                  <a:pt x="11956" y="13494"/>
                </a:cubicBezTo>
                <a:cubicBezTo>
                  <a:pt x="11943" y="13503"/>
                  <a:pt x="11873" y="13517"/>
                  <a:pt x="11857" y="13519"/>
                </a:cubicBezTo>
                <a:cubicBezTo>
                  <a:pt x="11822" y="13523"/>
                  <a:pt x="11781" y="13510"/>
                  <a:pt x="11757" y="13494"/>
                </a:cubicBezTo>
                <a:cubicBezTo>
                  <a:pt x="11735" y="13471"/>
                  <a:pt x="11727" y="13466"/>
                  <a:pt x="11733" y="13444"/>
                </a:cubicBezTo>
                <a:cubicBezTo>
                  <a:pt x="11791" y="13437"/>
                  <a:pt x="11810" y="13431"/>
                  <a:pt x="11857" y="13395"/>
                </a:cubicBezTo>
              </a:path>
              <a:path w="1687" h="1217">
                <a:moveTo>
                  <a:pt x="13271" y="12824"/>
                </a:moveTo>
                <a:cubicBezTo>
                  <a:pt x="13271" y="12816"/>
                  <a:pt x="13271" y="12807"/>
                  <a:pt x="13271" y="12799"/>
                </a:cubicBezTo>
                <a:cubicBezTo>
                  <a:pt x="13241" y="12809"/>
                  <a:pt x="13229" y="12842"/>
                  <a:pt x="13196" y="12874"/>
                </a:cubicBezTo>
                <a:cubicBezTo>
                  <a:pt x="13138" y="12930"/>
                  <a:pt x="13084" y="12975"/>
                  <a:pt x="13022" y="13022"/>
                </a:cubicBezTo>
                <a:cubicBezTo>
                  <a:pt x="12981" y="13053"/>
                  <a:pt x="12959" y="13052"/>
                  <a:pt x="12923" y="13072"/>
                </a:cubicBezTo>
                <a:cubicBezTo>
                  <a:pt x="12873" y="13100"/>
                  <a:pt x="12919" y="13106"/>
                  <a:pt x="12874" y="13122"/>
                </a:cubicBezTo>
                <a:cubicBezTo>
                  <a:pt x="12910" y="13094"/>
                  <a:pt x="12912" y="13105"/>
                  <a:pt x="12923" y="13072"/>
                </a:cubicBezTo>
              </a:path>
              <a:path w="1687" h="1217">
                <a:moveTo>
                  <a:pt x="12998" y="12774"/>
                </a:moveTo>
                <a:cubicBezTo>
                  <a:pt x="13023" y="12800"/>
                  <a:pt x="13045" y="12860"/>
                  <a:pt x="13072" y="12874"/>
                </a:cubicBezTo>
                <a:cubicBezTo>
                  <a:pt x="13111" y="12893"/>
                  <a:pt x="13136" y="12913"/>
                  <a:pt x="13171" y="12948"/>
                </a:cubicBezTo>
                <a:cubicBezTo>
                  <a:pt x="13200" y="12977"/>
                  <a:pt x="13212" y="12986"/>
                  <a:pt x="13221" y="13022"/>
                </a:cubicBezTo>
                <a:cubicBezTo>
                  <a:pt x="13256" y="13034"/>
                  <a:pt x="13246" y="13029"/>
                  <a:pt x="13246" y="13072"/>
                </a:cubicBezTo>
                <a:cubicBezTo>
                  <a:pt x="13281" y="13084"/>
                  <a:pt x="13271" y="13079"/>
                  <a:pt x="13271" y="13122"/>
                </a:cubicBezTo>
                <a:cubicBezTo>
                  <a:pt x="13305" y="13133"/>
                  <a:pt x="13295" y="13186"/>
                  <a:pt x="13295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Ink 27"/>
          <p:cNvSpPr/>
          <p:nvPr/>
        </p:nvSpPr>
        <p:spPr>
          <a:xfrm>
            <a:off x="5081760" y="4419720"/>
            <a:ext cx="285480" cy="420480"/>
          </a:xfrm>
          <a:custGeom>
            <a:avLst/>
            <a:gdLst/>
            <a:ahLst/>
            <a:rect l="l" t="t" r="r" b="b"/>
            <a:pathLst>
              <a:path w="795" h="1167">
                <a:moveTo>
                  <a:pt x="14536" y="12278"/>
                </a:moveTo>
                <a:cubicBezTo>
                  <a:pt x="14536" y="12377"/>
                  <a:pt x="14536" y="12477"/>
                  <a:pt x="14536" y="12576"/>
                </a:cubicBezTo>
                <a:cubicBezTo>
                  <a:pt x="14498" y="12589"/>
                  <a:pt x="14511" y="12605"/>
                  <a:pt x="14511" y="12650"/>
                </a:cubicBezTo>
              </a:path>
              <a:path w="795" h="1167">
                <a:moveTo>
                  <a:pt x="14114" y="12675"/>
                </a:moveTo>
                <a:cubicBezTo>
                  <a:pt x="14181" y="12675"/>
                  <a:pt x="14227" y="12690"/>
                  <a:pt x="14288" y="12700"/>
                </a:cubicBezTo>
                <a:cubicBezTo>
                  <a:pt x="14366" y="12713"/>
                  <a:pt x="14437" y="12685"/>
                  <a:pt x="14511" y="12675"/>
                </a:cubicBezTo>
                <a:cubicBezTo>
                  <a:pt x="14586" y="12665"/>
                  <a:pt x="14642" y="12689"/>
                  <a:pt x="14709" y="12700"/>
                </a:cubicBezTo>
                <a:cubicBezTo>
                  <a:pt x="14766" y="12710"/>
                  <a:pt x="14808" y="12710"/>
                  <a:pt x="14858" y="12725"/>
                </a:cubicBezTo>
                <a:cubicBezTo>
                  <a:pt x="14897" y="12737"/>
                  <a:pt x="14899" y="12726"/>
                  <a:pt x="14908" y="12700"/>
                </a:cubicBezTo>
              </a:path>
              <a:path w="795" h="1167">
                <a:moveTo>
                  <a:pt x="14436" y="12874"/>
                </a:moveTo>
                <a:cubicBezTo>
                  <a:pt x="14492" y="12874"/>
                  <a:pt x="14515" y="12883"/>
                  <a:pt x="14560" y="12898"/>
                </a:cubicBezTo>
                <a:cubicBezTo>
                  <a:pt x="14587" y="12907"/>
                  <a:pt x="14632" y="12898"/>
                  <a:pt x="14660" y="12898"/>
                </a:cubicBezTo>
              </a:path>
              <a:path w="795" h="1167">
                <a:moveTo>
                  <a:pt x="14486" y="12923"/>
                </a:moveTo>
                <a:cubicBezTo>
                  <a:pt x="14457" y="12933"/>
                  <a:pt x="14441" y="12957"/>
                  <a:pt x="14436" y="12998"/>
                </a:cubicBezTo>
                <a:cubicBezTo>
                  <a:pt x="14431" y="13038"/>
                  <a:pt x="14412" y="13052"/>
                  <a:pt x="14412" y="13097"/>
                </a:cubicBezTo>
                <a:cubicBezTo>
                  <a:pt x="14412" y="13105"/>
                  <a:pt x="14412" y="13114"/>
                  <a:pt x="14412" y="13122"/>
                </a:cubicBezTo>
                <a:cubicBezTo>
                  <a:pt x="14491" y="13122"/>
                  <a:pt x="14544" y="13125"/>
                  <a:pt x="14610" y="13146"/>
                </a:cubicBezTo>
                <a:cubicBezTo>
                  <a:pt x="14633" y="13153"/>
                  <a:pt x="14649" y="13189"/>
                  <a:pt x="14660" y="13221"/>
                </a:cubicBezTo>
                <a:cubicBezTo>
                  <a:pt x="14670" y="13251"/>
                  <a:pt x="14648" y="13300"/>
                  <a:pt x="14635" y="13320"/>
                </a:cubicBezTo>
                <a:cubicBezTo>
                  <a:pt x="14605" y="13365"/>
                  <a:pt x="14537" y="13427"/>
                  <a:pt x="14486" y="13444"/>
                </a:cubicBezTo>
                <a:cubicBezTo>
                  <a:pt x="14437" y="13460"/>
                  <a:pt x="14299" y="13452"/>
                  <a:pt x="14288" y="13419"/>
                </a:cubicBezTo>
                <a:cubicBezTo>
                  <a:pt x="14311" y="13385"/>
                  <a:pt x="14379" y="13377"/>
                  <a:pt x="14436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Ink 28"/>
          <p:cNvSpPr/>
          <p:nvPr/>
        </p:nvSpPr>
        <p:spPr>
          <a:xfrm>
            <a:off x="5848200" y="4626000"/>
            <a:ext cx="169920" cy="8892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16421" y="12849"/>
                </a:moveTo>
                <a:cubicBezTo>
                  <a:pt x="16433" y="12898"/>
                  <a:pt x="16445" y="12898"/>
                  <a:pt x="16495" y="12898"/>
                </a:cubicBezTo>
                <a:cubicBezTo>
                  <a:pt x="16550" y="12898"/>
                  <a:pt x="16654" y="12879"/>
                  <a:pt x="16669" y="12923"/>
                </a:cubicBezTo>
                <a:cubicBezTo>
                  <a:pt x="16669" y="12895"/>
                  <a:pt x="16667" y="12889"/>
                  <a:pt x="16644" y="12923"/>
                </a:cubicBezTo>
              </a:path>
              <a:path w="472" h="249">
                <a:moveTo>
                  <a:pt x="16247" y="13072"/>
                </a:moveTo>
                <a:cubicBezTo>
                  <a:pt x="16298" y="13072"/>
                  <a:pt x="16305" y="13083"/>
                  <a:pt x="16346" y="13097"/>
                </a:cubicBezTo>
                <a:cubicBezTo>
                  <a:pt x="16446" y="13130"/>
                  <a:pt x="16611" y="13097"/>
                  <a:pt x="16718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Ink 29"/>
          <p:cNvSpPr/>
          <p:nvPr/>
        </p:nvSpPr>
        <p:spPr>
          <a:xfrm>
            <a:off x="6465960" y="4446720"/>
            <a:ext cx="428400" cy="474480"/>
          </a:xfrm>
          <a:custGeom>
            <a:avLst/>
            <a:gdLst/>
            <a:ahLst/>
            <a:rect l="l" t="t" r="r" b="b"/>
            <a:pathLst>
              <a:path w="1191" h="1315">
                <a:moveTo>
                  <a:pt x="18355" y="12353"/>
                </a:moveTo>
                <a:cubicBezTo>
                  <a:pt x="18432" y="12353"/>
                  <a:pt x="18489" y="12356"/>
                  <a:pt x="18554" y="12378"/>
                </a:cubicBezTo>
                <a:cubicBezTo>
                  <a:pt x="18579" y="12378"/>
                  <a:pt x="18587" y="12378"/>
                  <a:pt x="18579" y="12402"/>
                </a:cubicBezTo>
                <a:cubicBezTo>
                  <a:pt x="18567" y="12425"/>
                  <a:pt x="18515" y="12486"/>
                  <a:pt x="18479" y="12502"/>
                </a:cubicBezTo>
                <a:cubicBezTo>
                  <a:pt x="18429" y="12525"/>
                  <a:pt x="18397" y="12533"/>
                  <a:pt x="18355" y="12576"/>
                </a:cubicBezTo>
                <a:cubicBezTo>
                  <a:pt x="18335" y="12596"/>
                  <a:pt x="18315" y="12643"/>
                  <a:pt x="18306" y="12650"/>
                </a:cubicBezTo>
                <a:cubicBezTo>
                  <a:pt x="18298" y="12650"/>
                  <a:pt x="18289" y="12650"/>
                  <a:pt x="18281" y="12650"/>
                </a:cubicBezTo>
                <a:cubicBezTo>
                  <a:pt x="18361" y="12650"/>
                  <a:pt x="18733" y="12615"/>
                  <a:pt x="18752" y="12675"/>
                </a:cubicBezTo>
              </a:path>
              <a:path w="1191" h="1315">
                <a:moveTo>
                  <a:pt x="17959" y="12898"/>
                </a:moveTo>
                <a:cubicBezTo>
                  <a:pt x="18128" y="12898"/>
                  <a:pt x="18289" y="12891"/>
                  <a:pt x="18455" y="12874"/>
                </a:cubicBezTo>
                <a:cubicBezTo>
                  <a:pt x="18579" y="12862"/>
                  <a:pt x="18640" y="12947"/>
                  <a:pt x="18752" y="12973"/>
                </a:cubicBezTo>
                <a:cubicBezTo>
                  <a:pt x="18870" y="13000"/>
                  <a:pt x="19027" y="12973"/>
                  <a:pt x="19149" y="12973"/>
                </a:cubicBezTo>
                <a:cubicBezTo>
                  <a:pt x="19103" y="12868"/>
                  <a:pt x="19115" y="12897"/>
                  <a:pt x="19025" y="12948"/>
                </a:cubicBezTo>
              </a:path>
              <a:path w="1191" h="1315">
                <a:moveTo>
                  <a:pt x="18083" y="13171"/>
                </a:moveTo>
                <a:cubicBezTo>
                  <a:pt x="18165" y="13171"/>
                  <a:pt x="18236" y="13173"/>
                  <a:pt x="18306" y="13196"/>
                </a:cubicBezTo>
                <a:cubicBezTo>
                  <a:pt x="18328" y="13203"/>
                  <a:pt x="18351" y="13235"/>
                  <a:pt x="18331" y="13271"/>
                </a:cubicBezTo>
                <a:cubicBezTo>
                  <a:pt x="18310" y="13309"/>
                  <a:pt x="18290" y="13336"/>
                  <a:pt x="18256" y="13370"/>
                </a:cubicBezTo>
                <a:cubicBezTo>
                  <a:pt x="18195" y="13431"/>
                  <a:pt x="18178" y="13401"/>
                  <a:pt x="18107" y="13395"/>
                </a:cubicBezTo>
                <a:cubicBezTo>
                  <a:pt x="18050" y="13390"/>
                  <a:pt x="18056" y="13453"/>
                  <a:pt x="18033" y="13469"/>
                </a:cubicBezTo>
                <a:cubicBezTo>
                  <a:pt x="18008" y="13469"/>
                  <a:pt x="18000" y="13469"/>
                  <a:pt x="18008" y="13494"/>
                </a:cubicBezTo>
                <a:cubicBezTo>
                  <a:pt x="18133" y="13494"/>
                  <a:pt x="18320" y="13477"/>
                  <a:pt x="18405" y="13519"/>
                </a:cubicBezTo>
                <a:cubicBezTo>
                  <a:pt x="18420" y="13526"/>
                  <a:pt x="18462" y="13519"/>
                  <a:pt x="18479" y="13519"/>
                </a:cubicBezTo>
              </a:path>
              <a:path w="1191" h="1315">
                <a:moveTo>
                  <a:pt x="18703" y="13196"/>
                </a:moveTo>
                <a:cubicBezTo>
                  <a:pt x="18794" y="13196"/>
                  <a:pt x="18885" y="13196"/>
                  <a:pt x="18976" y="13196"/>
                </a:cubicBezTo>
              </a:path>
              <a:path w="1191" h="1315">
                <a:moveTo>
                  <a:pt x="18777" y="13221"/>
                </a:moveTo>
                <a:cubicBezTo>
                  <a:pt x="18764" y="13259"/>
                  <a:pt x="18752" y="13242"/>
                  <a:pt x="18752" y="13295"/>
                </a:cubicBezTo>
                <a:cubicBezTo>
                  <a:pt x="18752" y="13330"/>
                  <a:pt x="18746" y="13369"/>
                  <a:pt x="18728" y="13395"/>
                </a:cubicBezTo>
                <a:cubicBezTo>
                  <a:pt x="18703" y="13431"/>
                  <a:pt x="18703" y="13424"/>
                  <a:pt x="18703" y="13469"/>
                </a:cubicBezTo>
                <a:cubicBezTo>
                  <a:pt x="18743" y="13449"/>
                  <a:pt x="18739" y="13400"/>
                  <a:pt x="18777" y="13395"/>
                </a:cubicBezTo>
                <a:cubicBezTo>
                  <a:pt x="18829" y="13389"/>
                  <a:pt x="18814" y="13375"/>
                  <a:pt x="18852" y="13370"/>
                </a:cubicBezTo>
                <a:cubicBezTo>
                  <a:pt x="18882" y="13366"/>
                  <a:pt x="18919" y="13381"/>
                  <a:pt x="18926" y="13395"/>
                </a:cubicBezTo>
                <a:cubicBezTo>
                  <a:pt x="18942" y="13427"/>
                  <a:pt x="18951" y="13419"/>
                  <a:pt x="18951" y="13469"/>
                </a:cubicBezTo>
                <a:cubicBezTo>
                  <a:pt x="18951" y="13526"/>
                  <a:pt x="18941" y="13547"/>
                  <a:pt x="18926" y="13593"/>
                </a:cubicBezTo>
                <a:cubicBezTo>
                  <a:pt x="18917" y="13620"/>
                  <a:pt x="18908" y="13639"/>
                  <a:pt x="18876" y="13643"/>
                </a:cubicBezTo>
                <a:cubicBezTo>
                  <a:pt x="18849" y="13646"/>
                  <a:pt x="18843" y="13689"/>
                  <a:pt x="18802" y="13667"/>
                </a:cubicBezTo>
                <a:cubicBezTo>
                  <a:pt x="18763" y="13646"/>
                  <a:pt x="18761" y="13622"/>
                  <a:pt x="18728" y="13618"/>
                </a:cubicBezTo>
                <a:cubicBezTo>
                  <a:pt x="18703" y="13618"/>
                  <a:pt x="18695" y="13618"/>
                  <a:pt x="18678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Ink 30"/>
          <p:cNvSpPr/>
          <p:nvPr/>
        </p:nvSpPr>
        <p:spPr>
          <a:xfrm>
            <a:off x="3357720" y="6099120"/>
            <a:ext cx="303120" cy="455760"/>
          </a:xfrm>
          <a:custGeom>
            <a:avLst/>
            <a:gdLst/>
            <a:ahLst/>
            <a:rect l="l" t="t" r="r" b="b"/>
            <a:pathLst>
              <a:path w="844" h="1266">
                <a:moveTo>
                  <a:pt x="9773" y="16966"/>
                </a:moveTo>
                <a:cubicBezTo>
                  <a:pt x="9773" y="16958"/>
                  <a:pt x="9773" y="16950"/>
                  <a:pt x="9773" y="16942"/>
                </a:cubicBezTo>
                <a:cubicBezTo>
                  <a:pt x="9773" y="16996"/>
                  <a:pt x="9757" y="17024"/>
                  <a:pt x="9748" y="17066"/>
                </a:cubicBezTo>
                <a:cubicBezTo>
                  <a:pt x="9734" y="17132"/>
                  <a:pt x="9748" y="17221"/>
                  <a:pt x="9748" y="17289"/>
                </a:cubicBezTo>
              </a:path>
              <a:path w="844" h="1266">
                <a:moveTo>
                  <a:pt x="9327" y="17388"/>
                </a:moveTo>
                <a:cubicBezTo>
                  <a:pt x="9417" y="17388"/>
                  <a:pt x="9491" y="17377"/>
                  <a:pt x="9575" y="17363"/>
                </a:cubicBezTo>
                <a:cubicBezTo>
                  <a:pt x="9642" y="17352"/>
                  <a:pt x="9707" y="17325"/>
                  <a:pt x="9773" y="17314"/>
                </a:cubicBezTo>
                <a:cubicBezTo>
                  <a:pt x="9866" y="17299"/>
                  <a:pt x="9976" y="17314"/>
                  <a:pt x="10071" y="17314"/>
                </a:cubicBezTo>
                <a:cubicBezTo>
                  <a:pt x="10071" y="17289"/>
                  <a:pt x="10071" y="17281"/>
                  <a:pt x="10096" y="17289"/>
                </a:cubicBezTo>
              </a:path>
              <a:path w="844" h="1266">
                <a:moveTo>
                  <a:pt x="9550" y="17587"/>
                </a:moveTo>
                <a:cubicBezTo>
                  <a:pt x="9605" y="17587"/>
                  <a:pt x="9629" y="17596"/>
                  <a:pt x="9674" y="17611"/>
                </a:cubicBezTo>
                <a:cubicBezTo>
                  <a:pt x="9727" y="17628"/>
                  <a:pt x="9774" y="17592"/>
                  <a:pt x="9823" y="17587"/>
                </a:cubicBezTo>
                <a:cubicBezTo>
                  <a:pt x="9847" y="17585"/>
                  <a:pt x="9873" y="17587"/>
                  <a:pt x="9897" y="17587"/>
                </a:cubicBezTo>
                <a:cubicBezTo>
                  <a:pt x="9897" y="17637"/>
                  <a:pt x="9896" y="17645"/>
                  <a:pt x="9872" y="17686"/>
                </a:cubicBezTo>
                <a:cubicBezTo>
                  <a:pt x="9830" y="17759"/>
                  <a:pt x="9769" y="17815"/>
                  <a:pt x="9723" y="17884"/>
                </a:cubicBezTo>
                <a:cubicBezTo>
                  <a:pt x="9682" y="17946"/>
                  <a:pt x="9643" y="17993"/>
                  <a:pt x="9599" y="18058"/>
                </a:cubicBezTo>
                <a:cubicBezTo>
                  <a:pt x="9576" y="18092"/>
                  <a:pt x="9544" y="18128"/>
                  <a:pt x="9525" y="18157"/>
                </a:cubicBezTo>
                <a:cubicBezTo>
                  <a:pt x="9502" y="18180"/>
                  <a:pt x="9494" y="18184"/>
                  <a:pt x="9500" y="18207"/>
                </a:cubicBezTo>
                <a:cubicBezTo>
                  <a:pt x="9568" y="18207"/>
                  <a:pt x="9611" y="18198"/>
                  <a:pt x="9674" y="18182"/>
                </a:cubicBezTo>
                <a:cubicBezTo>
                  <a:pt x="9719" y="18171"/>
                  <a:pt x="9744" y="18157"/>
                  <a:pt x="9798" y="18157"/>
                </a:cubicBezTo>
                <a:cubicBezTo>
                  <a:pt x="9930" y="18157"/>
                  <a:pt x="10253" y="18234"/>
                  <a:pt x="10145" y="18157"/>
                </a:cubicBezTo>
                <a:cubicBezTo>
                  <a:pt x="10137" y="18149"/>
                  <a:pt x="10128" y="18140"/>
                  <a:pt x="10120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Ink 31"/>
          <p:cNvSpPr/>
          <p:nvPr/>
        </p:nvSpPr>
        <p:spPr>
          <a:xfrm>
            <a:off x="6375240" y="3295800"/>
            <a:ext cx="617760" cy="482400"/>
          </a:xfrm>
          <a:custGeom>
            <a:avLst/>
            <a:gdLst/>
            <a:ahLst/>
            <a:rect l="l" t="t" r="r" b="b"/>
            <a:pathLst>
              <a:path w="1712" h="1340">
                <a:moveTo>
                  <a:pt x="18728" y="9203"/>
                </a:moveTo>
                <a:cubicBezTo>
                  <a:pt x="18745" y="9149"/>
                  <a:pt x="18759" y="9202"/>
                  <a:pt x="18802" y="9178"/>
                </a:cubicBezTo>
                <a:cubicBezTo>
                  <a:pt x="18843" y="9155"/>
                  <a:pt x="18850" y="9153"/>
                  <a:pt x="18901" y="9153"/>
                </a:cubicBezTo>
                <a:cubicBezTo>
                  <a:pt x="18926" y="9153"/>
                  <a:pt x="18934" y="9153"/>
                  <a:pt x="18951" y="9153"/>
                </a:cubicBezTo>
                <a:cubicBezTo>
                  <a:pt x="18951" y="9199"/>
                  <a:pt x="18957" y="9217"/>
                  <a:pt x="18926" y="9252"/>
                </a:cubicBezTo>
                <a:cubicBezTo>
                  <a:pt x="18894" y="9288"/>
                  <a:pt x="18860" y="9306"/>
                  <a:pt x="18827" y="9327"/>
                </a:cubicBezTo>
                <a:cubicBezTo>
                  <a:pt x="18808" y="9339"/>
                  <a:pt x="18753" y="9399"/>
                  <a:pt x="18752" y="9401"/>
                </a:cubicBezTo>
                <a:cubicBezTo>
                  <a:pt x="18752" y="9409"/>
                  <a:pt x="18752" y="9418"/>
                  <a:pt x="18752" y="9426"/>
                </a:cubicBezTo>
                <a:cubicBezTo>
                  <a:pt x="18798" y="9426"/>
                  <a:pt x="18811" y="9446"/>
                  <a:pt x="18852" y="9451"/>
                </a:cubicBezTo>
                <a:cubicBezTo>
                  <a:pt x="18975" y="9465"/>
                  <a:pt x="19298" y="9451"/>
                  <a:pt x="19174" y="9451"/>
                </a:cubicBezTo>
                <a:cubicBezTo>
                  <a:pt x="19149" y="9451"/>
                  <a:pt x="19141" y="9451"/>
                  <a:pt x="19124" y="9451"/>
                </a:cubicBezTo>
              </a:path>
              <a:path w="1712" h="1340">
                <a:moveTo>
                  <a:pt x="18479" y="9624"/>
                </a:moveTo>
                <a:cubicBezTo>
                  <a:pt x="18528" y="9624"/>
                  <a:pt x="18560" y="9619"/>
                  <a:pt x="18604" y="9649"/>
                </a:cubicBezTo>
                <a:cubicBezTo>
                  <a:pt x="18656" y="9684"/>
                  <a:pt x="18711" y="9674"/>
                  <a:pt x="18777" y="9674"/>
                </a:cubicBezTo>
                <a:cubicBezTo>
                  <a:pt x="19000" y="9674"/>
                  <a:pt x="19601" y="9783"/>
                  <a:pt x="19422" y="9649"/>
                </a:cubicBezTo>
                <a:cubicBezTo>
                  <a:pt x="19414" y="9649"/>
                  <a:pt x="19405" y="9649"/>
                  <a:pt x="19397" y="9649"/>
                </a:cubicBezTo>
              </a:path>
              <a:path w="1712" h="1340">
                <a:moveTo>
                  <a:pt x="18728" y="9798"/>
                </a:moveTo>
                <a:cubicBezTo>
                  <a:pt x="18759" y="9822"/>
                  <a:pt x="18788" y="9843"/>
                  <a:pt x="18827" y="9847"/>
                </a:cubicBezTo>
                <a:cubicBezTo>
                  <a:pt x="18875" y="9852"/>
                  <a:pt x="18927" y="9847"/>
                  <a:pt x="18976" y="9847"/>
                </a:cubicBezTo>
              </a:path>
              <a:path w="1712" h="1340">
                <a:moveTo>
                  <a:pt x="18752" y="9872"/>
                </a:moveTo>
                <a:cubicBezTo>
                  <a:pt x="18752" y="9897"/>
                  <a:pt x="18746" y="9960"/>
                  <a:pt x="18728" y="9971"/>
                </a:cubicBezTo>
                <a:cubicBezTo>
                  <a:pt x="18694" y="9993"/>
                  <a:pt x="18728" y="10026"/>
                  <a:pt x="18703" y="10046"/>
                </a:cubicBezTo>
                <a:cubicBezTo>
                  <a:pt x="18678" y="10046"/>
                  <a:pt x="18670" y="10046"/>
                  <a:pt x="18678" y="10071"/>
                </a:cubicBezTo>
                <a:cubicBezTo>
                  <a:pt x="18691" y="10109"/>
                  <a:pt x="18707" y="10096"/>
                  <a:pt x="18752" y="10096"/>
                </a:cubicBezTo>
                <a:cubicBezTo>
                  <a:pt x="18819" y="10096"/>
                  <a:pt x="18921" y="10080"/>
                  <a:pt x="18951" y="10120"/>
                </a:cubicBezTo>
                <a:cubicBezTo>
                  <a:pt x="18980" y="10158"/>
                  <a:pt x="18976" y="10172"/>
                  <a:pt x="18976" y="10220"/>
                </a:cubicBezTo>
                <a:cubicBezTo>
                  <a:pt x="18976" y="10271"/>
                  <a:pt x="18972" y="10307"/>
                  <a:pt x="18951" y="10344"/>
                </a:cubicBezTo>
                <a:cubicBezTo>
                  <a:pt x="18927" y="10388"/>
                  <a:pt x="18912" y="10394"/>
                  <a:pt x="18876" y="10418"/>
                </a:cubicBezTo>
                <a:cubicBezTo>
                  <a:pt x="18840" y="10442"/>
                  <a:pt x="18817" y="10479"/>
                  <a:pt x="18777" y="10492"/>
                </a:cubicBezTo>
                <a:cubicBezTo>
                  <a:pt x="18718" y="10511"/>
                  <a:pt x="18650" y="10483"/>
                  <a:pt x="18604" y="10468"/>
                </a:cubicBezTo>
                <a:cubicBezTo>
                  <a:pt x="18565" y="10455"/>
                  <a:pt x="18583" y="10407"/>
                  <a:pt x="18554" y="10393"/>
                </a:cubicBezTo>
                <a:cubicBezTo>
                  <a:pt x="18546" y="10393"/>
                  <a:pt x="18537" y="10393"/>
                  <a:pt x="18529" y="10393"/>
                </a:cubicBezTo>
              </a:path>
              <a:path w="1712" h="1340">
                <a:moveTo>
                  <a:pt x="17760" y="9674"/>
                </a:moveTo>
                <a:cubicBezTo>
                  <a:pt x="17799" y="9684"/>
                  <a:pt x="17815" y="9699"/>
                  <a:pt x="17859" y="9699"/>
                </a:cubicBezTo>
                <a:cubicBezTo>
                  <a:pt x="17915" y="9699"/>
                  <a:pt x="17938" y="9708"/>
                  <a:pt x="17983" y="9723"/>
                </a:cubicBezTo>
                <a:cubicBezTo>
                  <a:pt x="18008" y="9723"/>
                  <a:pt x="18016" y="9723"/>
                  <a:pt x="18008" y="9748"/>
                </a:cubicBezTo>
              </a:path>
              <a:path w="1712" h="1340">
                <a:moveTo>
                  <a:pt x="17711" y="9897"/>
                </a:moveTo>
                <a:cubicBezTo>
                  <a:pt x="17810" y="9897"/>
                  <a:pt x="17909" y="9897"/>
                  <a:pt x="18008" y="989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Ink 32"/>
          <p:cNvSpPr/>
          <p:nvPr/>
        </p:nvSpPr>
        <p:spPr>
          <a:xfrm>
            <a:off x="2428920" y="5249880"/>
            <a:ext cx="206280" cy="393840"/>
          </a:xfrm>
          <a:custGeom>
            <a:avLst/>
            <a:gdLst/>
            <a:ahLst/>
            <a:rect l="l" t="t" r="r" b="b"/>
            <a:pathLst>
              <a:path w="571" h="1093">
                <a:moveTo>
                  <a:pt x="7045" y="14585"/>
                </a:moveTo>
                <a:cubicBezTo>
                  <a:pt x="7045" y="14642"/>
                  <a:pt x="7035" y="14663"/>
                  <a:pt x="7020" y="14709"/>
                </a:cubicBezTo>
                <a:cubicBezTo>
                  <a:pt x="7004" y="14756"/>
                  <a:pt x="7028" y="14765"/>
                  <a:pt x="6995" y="14808"/>
                </a:cubicBezTo>
                <a:cubicBezTo>
                  <a:pt x="7033" y="14821"/>
                  <a:pt x="7020" y="14838"/>
                  <a:pt x="7020" y="14883"/>
                </a:cubicBezTo>
              </a:path>
              <a:path w="571" h="1093">
                <a:moveTo>
                  <a:pt x="6747" y="14982"/>
                </a:moveTo>
                <a:cubicBezTo>
                  <a:pt x="6760" y="15022"/>
                  <a:pt x="6795" y="15007"/>
                  <a:pt x="6846" y="15007"/>
                </a:cubicBezTo>
                <a:cubicBezTo>
                  <a:pt x="6928" y="15007"/>
                  <a:pt x="6993" y="14995"/>
                  <a:pt x="7069" y="14982"/>
                </a:cubicBezTo>
                <a:cubicBezTo>
                  <a:pt x="7146" y="14969"/>
                  <a:pt x="7238" y="14982"/>
                  <a:pt x="7317" y="14982"/>
                </a:cubicBezTo>
              </a:path>
              <a:path w="571" h="1093">
                <a:moveTo>
                  <a:pt x="6921" y="15205"/>
                </a:moveTo>
                <a:cubicBezTo>
                  <a:pt x="6945" y="15205"/>
                  <a:pt x="6954" y="15205"/>
                  <a:pt x="6970" y="15205"/>
                </a:cubicBezTo>
                <a:cubicBezTo>
                  <a:pt x="6992" y="15171"/>
                  <a:pt x="7018" y="15180"/>
                  <a:pt x="7069" y="15180"/>
                </a:cubicBezTo>
                <a:cubicBezTo>
                  <a:pt x="7069" y="15156"/>
                  <a:pt x="7069" y="15148"/>
                  <a:pt x="7094" y="15156"/>
                </a:cubicBezTo>
              </a:path>
              <a:path w="571" h="1093">
                <a:moveTo>
                  <a:pt x="6921" y="15230"/>
                </a:moveTo>
                <a:cubicBezTo>
                  <a:pt x="6921" y="15270"/>
                  <a:pt x="6903" y="15358"/>
                  <a:pt x="6945" y="15379"/>
                </a:cubicBezTo>
                <a:cubicBezTo>
                  <a:pt x="6991" y="15403"/>
                  <a:pt x="7089" y="15389"/>
                  <a:pt x="7119" y="15404"/>
                </a:cubicBezTo>
                <a:cubicBezTo>
                  <a:pt x="7146" y="15417"/>
                  <a:pt x="7164" y="15435"/>
                  <a:pt x="7169" y="15478"/>
                </a:cubicBezTo>
                <a:cubicBezTo>
                  <a:pt x="7173" y="15514"/>
                  <a:pt x="7182" y="15583"/>
                  <a:pt x="7144" y="15602"/>
                </a:cubicBezTo>
                <a:cubicBezTo>
                  <a:pt x="7111" y="15618"/>
                  <a:pt x="7096" y="15648"/>
                  <a:pt x="7069" y="15652"/>
                </a:cubicBezTo>
                <a:cubicBezTo>
                  <a:pt x="7029" y="15657"/>
                  <a:pt x="7051" y="15677"/>
                  <a:pt x="6995" y="15677"/>
                </a:cubicBezTo>
                <a:cubicBezTo>
                  <a:pt x="6945" y="15677"/>
                  <a:pt x="6896" y="15677"/>
                  <a:pt x="6846" y="15677"/>
                </a:cubicBezTo>
                <a:cubicBezTo>
                  <a:pt x="6871" y="15652"/>
                  <a:pt x="6879" y="15644"/>
                  <a:pt x="6896" y="1562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nk 33"/>
          <p:cNvSpPr/>
          <p:nvPr/>
        </p:nvSpPr>
        <p:spPr>
          <a:xfrm>
            <a:off x="2803680" y="5392800"/>
            <a:ext cx="9036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8037" y="15007"/>
                </a:moveTo>
                <a:cubicBezTo>
                  <a:pt x="8029" y="15007"/>
                  <a:pt x="8020" y="15007"/>
                  <a:pt x="8012" y="15007"/>
                </a:cubicBezTo>
                <a:cubicBezTo>
                  <a:pt x="7994" y="14953"/>
                  <a:pt x="7970" y="15000"/>
                  <a:pt x="7938" y="15032"/>
                </a:cubicBezTo>
                <a:cubicBezTo>
                  <a:pt x="7904" y="15066"/>
                  <a:pt x="7881" y="15095"/>
                  <a:pt x="7838" y="15106"/>
                </a:cubicBezTo>
                <a:cubicBezTo>
                  <a:pt x="7828" y="15146"/>
                  <a:pt x="7820" y="15170"/>
                  <a:pt x="7789" y="15180"/>
                </a:cubicBezTo>
                <a:cubicBezTo>
                  <a:pt x="7805" y="15180"/>
                  <a:pt x="7822" y="15180"/>
                  <a:pt x="7838" y="15180"/>
                </a:cubicBezTo>
              </a:path>
              <a:path w="249" h="224">
                <a:moveTo>
                  <a:pt x="7789" y="15032"/>
                </a:moveTo>
                <a:cubicBezTo>
                  <a:pt x="7811" y="15054"/>
                  <a:pt x="7819" y="15059"/>
                  <a:pt x="7813" y="15081"/>
                </a:cubicBezTo>
                <a:cubicBezTo>
                  <a:pt x="7865" y="15094"/>
                  <a:pt x="7878" y="15131"/>
                  <a:pt x="7938" y="15131"/>
                </a:cubicBezTo>
                <a:cubicBezTo>
                  <a:pt x="7946" y="15131"/>
                  <a:pt x="7954" y="15131"/>
                  <a:pt x="7962" y="15131"/>
                </a:cubicBezTo>
                <a:cubicBezTo>
                  <a:pt x="7972" y="15171"/>
                  <a:pt x="7971" y="15170"/>
                  <a:pt x="8012" y="15180"/>
                </a:cubicBezTo>
                <a:cubicBezTo>
                  <a:pt x="8012" y="15205"/>
                  <a:pt x="8012" y="15213"/>
                  <a:pt x="8037" y="1520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Ink 34"/>
          <p:cNvSpPr/>
          <p:nvPr/>
        </p:nvSpPr>
        <p:spPr>
          <a:xfrm>
            <a:off x="3044880" y="5276880"/>
            <a:ext cx="196920" cy="384120"/>
          </a:xfrm>
          <a:custGeom>
            <a:avLst/>
            <a:gdLst/>
            <a:ahLst/>
            <a:rect l="l" t="t" r="r" b="b"/>
            <a:pathLst>
              <a:path w="547" h="1067">
                <a:moveTo>
                  <a:pt x="8682" y="14660"/>
                </a:moveTo>
                <a:cubicBezTo>
                  <a:pt x="8682" y="14710"/>
                  <a:pt x="8671" y="14718"/>
                  <a:pt x="8657" y="14759"/>
                </a:cubicBezTo>
                <a:cubicBezTo>
                  <a:pt x="8640" y="14811"/>
                  <a:pt x="8677" y="14840"/>
                  <a:pt x="8682" y="14883"/>
                </a:cubicBezTo>
                <a:cubicBezTo>
                  <a:pt x="8687" y="14927"/>
                  <a:pt x="8666" y="14943"/>
                  <a:pt x="8706" y="14957"/>
                </a:cubicBezTo>
              </a:path>
              <a:path w="547" h="1067">
                <a:moveTo>
                  <a:pt x="8458" y="15007"/>
                </a:moveTo>
                <a:cubicBezTo>
                  <a:pt x="8483" y="15007"/>
                  <a:pt x="8491" y="15007"/>
                  <a:pt x="8508" y="15007"/>
                </a:cubicBezTo>
                <a:cubicBezTo>
                  <a:pt x="8521" y="14969"/>
                  <a:pt x="8537" y="14982"/>
                  <a:pt x="8582" y="14982"/>
                </a:cubicBezTo>
                <a:cubicBezTo>
                  <a:pt x="8723" y="14982"/>
                  <a:pt x="8863" y="14982"/>
                  <a:pt x="9004" y="14982"/>
                </a:cubicBezTo>
              </a:path>
              <a:path w="547" h="1067">
                <a:moveTo>
                  <a:pt x="8632" y="15131"/>
                </a:moveTo>
                <a:cubicBezTo>
                  <a:pt x="8689" y="15131"/>
                  <a:pt x="8710" y="15121"/>
                  <a:pt x="8756" y="15106"/>
                </a:cubicBezTo>
                <a:cubicBezTo>
                  <a:pt x="8764" y="15106"/>
                  <a:pt x="8773" y="15106"/>
                  <a:pt x="8781" y="15106"/>
                </a:cubicBezTo>
              </a:path>
              <a:path w="547" h="1067">
                <a:moveTo>
                  <a:pt x="8632" y="15156"/>
                </a:moveTo>
                <a:cubicBezTo>
                  <a:pt x="8632" y="15201"/>
                  <a:pt x="8611" y="15215"/>
                  <a:pt x="8607" y="15255"/>
                </a:cubicBezTo>
                <a:cubicBezTo>
                  <a:pt x="8607" y="15263"/>
                  <a:pt x="8607" y="15272"/>
                  <a:pt x="8607" y="15280"/>
                </a:cubicBezTo>
                <a:cubicBezTo>
                  <a:pt x="8688" y="15280"/>
                  <a:pt x="8646" y="15289"/>
                  <a:pt x="8706" y="15329"/>
                </a:cubicBezTo>
                <a:cubicBezTo>
                  <a:pt x="8714" y="15329"/>
                  <a:pt x="8723" y="15329"/>
                  <a:pt x="8731" y="15329"/>
                </a:cubicBezTo>
                <a:cubicBezTo>
                  <a:pt x="8743" y="15364"/>
                  <a:pt x="8738" y="15354"/>
                  <a:pt x="8781" y="15354"/>
                </a:cubicBezTo>
                <a:cubicBezTo>
                  <a:pt x="8787" y="15379"/>
                  <a:pt x="8794" y="15431"/>
                  <a:pt x="8806" y="15453"/>
                </a:cubicBezTo>
                <a:cubicBezTo>
                  <a:pt x="8839" y="15513"/>
                  <a:pt x="8825" y="15494"/>
                  <a:pt x="8806" y="15553"/>
                </a:cubicBezTo>
                <a:cubicBezTo>
                  <a:pt x="8795" y="15587"/>
                  <a:pt x="8789" y="15619"/>
                  <a:pt x="8781" y="15652"/>
                </a:cubicBezTo>
                <a:cubicBezTo>
                  <a:pt x="8750" y="15660"/>
                  <a:pt x="8685" y="15685"/>
                  <a:pt x="8657" y="15701"/>
                </a:cubicBezTo>
                <a:cubicBezTo>
                  <a:pt x="8618" y="15723"/>
                  <a:pt x="8628" y="15726"/>
                  <a:pt x="8582" y="15726"/>
                </a:cubicBezTo>
                <a:cubicBezTo>
                  <a:pt x="8570" y="15690"/>
                  <a:pt x="8528" y="15697"/>
                  <a:pt x="8508" y="15652"/>
                </a:cubicBezTo>
                <a:cubicBezTo>
                  <a:pt x="8508" y="15644"/>
                  <a:pt x="8508" y="15635"/>
                  <a:pt x="8508" y="1562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nk 35"/>
          <p:cNvSpPr/>
          <p:nvPr/>
        </p:nvSpPr>
        <p:spPr>
          <a:xfrm>
            <a:off x="3759120" y="5438880"/>
            <a:ext cx="125640" cy="7128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0443" y="15106"/>
                </a:moveTo>
                <a:cubicBezTo>
                  <a:pt x="10476" y="15106"/>
                  <a:pt x="10745" y="15090"/>
                  <a:pt x="10740" y="15131"/>
                </a:cubicBezTo>
                <a:cubicBezTo>
                  <a:pt x="10732" y="15139"/>
                  <a:pt x="10724" y="15148"/>
                  <a:pt x="10716" y="15156"/>
                </a:cubicBezTo>
              </a:path>
              <a:path w="348" h="199">
                <a:moveTo>
                  <a:pt x="10443" y="15255"/>
                </a:moveTo>
                <a:cubicBezTo>
                  <a:pt x="10483" y="15314"/>
                  <a:pt x="10475" y="15304"/>
                  <a:pt x="10542" y="15304"/>
                </a:cubicBezTo>
                <a:cubicBezTo>
                  <a:pt x="10609" y="15304"/>
                  <a:pt x="10637" y="15297"/>
                  <a:pt x="10691" y="15280"/>
                </a:cubicBezTo>
                <a:cubicBezTo>
                  <a:pt x="10717" y="15272"/>
                  <a:pt x="10762" y="15280"/>
                  <a:pt x="10790" y="1528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nk 36"/>
          <p:cNvSpPr/>
          <p:nvPr/>
        </p:nvSpPr>
        <p:spPr>
          <a:xfrm>
            <a:off x="4214880" y="5249880"/>
            <a:ext cx="330120" cy="420840"/>
          </a:xfrm>
          <a:custGeom>
            <a:avLst/>
            <a:gdLst/>
            <a:ahLst/>
            <a:rect l="l" t="t" r="r" b="b"/>
            <a:pathLst>
              <a:path w="919" h="1167">
                <a:moveTo>
                  <a:pt x="12154" y="14585"/>
                </a:moveTo>
                <a:cubicBezTo>
                  <a:pt x="12146" y="14585"/>
                  <a:pt x="12137" y="14585"/>
                  <a:pt x="12129" y="14585"/>
                </a:cubicBezTo>
                <a:cubicBezTo>
                  <a:pt x="12129" y="14669"/>
                  <a:pt x="12128" y="14738"/>
                  <a:pt x="12105" y="14808"/>
                </a:cubicBezTo>
                <a:cubicBezTo>
                  <a:pt x="12092" y="14847"/>
                  <a:pt x="12102" y="14874"/>
                  <a:pt x="12129" y="14883"/>
                </a:cubicBezTo>
              </a:path>
              <a:path w="919" h="1167">
                <a:moveTo>
                  <a:pt x="11708" y="14982"/>
                </a:moveTo>
                <a:cubicBezTo>
                  <a:pt x="11842" y="14982"/>
                  <a:pt x="11935" y="14961"/>
                  <a:pt x="12055" y="14932"/>
                </a:cubicBezTo>
                <a:cubicBezTo>
                  <a:pt x="12144" y="14910"/>
                  <a:pt x="12263" y="14923"/>
                  <a:pt x="12353" y="14908"/>
                </a:cubicBezTo>
                <a:cubicBezTo>
                  <a:pt x="12384" y="14903"/>
                  <a:pt x="12592" y="14901"/>
                  <a:pt x="12576" y="14932"/>
                </a:cubicBezTo>
                <a:cubicBezTo>
                  <a:pt x="12568" y="14940"/>
                  <a:pt x="12559" y="14949"/>
                  <a:pt x="12551" y="14957"/>
                </a:cubicBezTo>
              </a:path>
              <a:path w="919" h="1167">
                <a:moveTo>
                  <a:pt x="11857" y="15180"/>
                </a:moveTo>
                <a:cubicBezTo>
                  <a:pt x="11908" y="15180"/>
                  <a:pt x="11910" y="15195"/>
                  <a:pt x="11931" y="15205"/>
                </a:cubicBezTo>
                <a:cubicBezTo>
                  <a:pt x="11977" y="15228"/>
                  <a:pt x="11978" y="15240"/>
                  <a:pt x="12005" y="15280"/>
                </a:cubicBezTo>
                <a:cubicBezTo>
                  <a:pt x="12040" y="15332"/>
                  <a:pt x="12027" y="15332"/>
                  <a:pt x="11981" y="15379"/>
                </a:cubicBezTo>
                <a:cubicBezTo>
                  <a:pt x="11924" y="15437"/>
                  <a:pt x="11866" y="15488"/>
                  <a:pt x="11807" y="15528"/>
                </a:cubicBezTo>
                <a:cubicBezTo>
                  <a:pt x="11778" y="15547"/>
                  <a:pt x="11764" y="15582"/>
                  <a:pt x="11757" y="15602"/>
                </a:cubicBezTo>
                <a:cubicBezTo>
                  <a:pt x="11831" y="15602"/>
                  <a:pt x="11887" y="15589"/>
                  <a:pt x="11956" y="15577"/>
                </a:cubicBezTo>
                <a:cubicBezTo>
                  <a:pt x="12005" y="15569"/>
                  <a:pt x="12058" y="15558"/>
                  <a:pt x="12105" y="15553"/>
                </a:cubicBezTo>
                <a:cubicBezTo>
                  <a:pt x="12160" y="15548"/>
                  <a:pt x="12184" y="15561"/>
                  <a:pt x="12229" y="15528"/>
                </a:cubicBezTo>
              </a:path>
              <a:path w="919" h="1167">
                <a:moveTo>
                  <a:pt x="12402" y="15156"/>
                </a:moveTo>
                <a:cubicBezTo>
                  <a:pt x="12427" y="15156"/>
                  <a:pt x="12452" y="15156"/>
                  <a:pt x="12477" y="15156"/>
                </a:cubicBezTo>
                <a:cubicBezTo>
                  <a:pt x="12490" y="15118"/>
                  <a:pt x="12506" y="15131"/>
                  <a:pt x="12551" y="15131"/>
                </a:cubicBezTo>
                <a:cubicBezTo>
                  <a:pt x="12603" y="15131"/>
                  <a:pt x="12601" y="15100"/>
                  <a:pt x="12601" y="15131"/>
                </a:cubicBezTo>
              </a:path>
              <a:path w="919" h="1167">
                <a:moveTo>
                  <a:pt x="12427" y="15180"/>
                </a:moveTo>
                <a:cubicBezTo>
                  <a:pt x="12417" y="15219"/>
                  <a:pt x="12402" y="15235"/>
                  <a:pt x="12402" y="15280"/>
                </a:cubicBezTo>
                <a:cubicBezTo>
                  <a:pt x="12402" y="15305"/>
                  <a:pt x="12402" y="15329"/>
                  <a:pt x="12402" y="15354"/>
                </a:cubicBezTo>
                <a:cubicBezTo>
                  <a:pt x="12472" y="15354"/>
                  <a:pt x="12518" y="15360"/>
                  <a:pt x="12576" y="15379"/>
                </a:cubicBezTo>
                <a:cubicBezTo>
                  <a:pt x="12584" y="15379"/>
                  <a:pt x="12593" y="15379"/>
                  <a:pt x="12601" y="15379"/>
                </a:cubicBezTo>
                <a:cubicBezTo>
                  <a:pt x="12611" y="15418"/>
                  <a:pt x="12626" y="15434"/>
                  <a:pt x="12626" y="15478"/>
                </a:cubicBezTo>
                <a:cubicBezTo>
                  <a:pt x="12626" y="15534"/>
                  <a:pt x="12638" y="15585"/>
                  <a:pt x="12601" y="15627"/>
                </a:cubicBezTo>
                <a:cubicBezTo>
                  <a:pt x="12578" y="15650"/>
                  <a:pt x="12570" y="15654"/>
                  <a:pt x="12576" y="15677"/>
                </a:cubicBezTo>
                <a:cubicBezTo>
                  <a:pt x="12541" y="15688"/>
                  <a:pt x="12548" y="15714"/>
                  <a:pt x="12502" y="15726"/>
                </a:cubicBezTo>
                <a:cubicBezTo>
                  <a:pt x="12489" y="15764"/>
                  <a:pt x="12472" y="15751"/>
                  <a:pt x="12427" y="15751"/>
                </a:cubicBezTo>
                <a:cubicBezTo>
                  <a:pt x="12394" y="15751"/>
                  <a:pt x="12361" y="15751"/>
                  <a:pt x="12328" y="15751"/>
                </a:cubicBezTo>
                <a:cubicBezTo>
                  <a:pt x="12318" y="15710"/>
                  <a:pt x="12319" y="15711"/>
                  <a:pt x="12278" y="157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89160" y="23842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a red card fir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79280" y="69228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wo cards are selected at random from this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88080" y="3211560"/>
            <a:ext cx="64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n Ace or Queen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383040" y="5695920"/>
            <a:ext cx="84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you select a Queen first, what's the chance of getting a Queen 2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87000" y="4040280"/>
            <a:ext cx="64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4 first, then a 6 n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89880" y="4867200"/>
            <a:ext cx="52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two Que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0" descr="Queen of Hearts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08600" y="689040"/>
            <a:ext cx="1019160" cy="1444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2" descr="Queen of Diamon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24960" y="692280"/>
            <a:ext cx="1022040" cy="143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4" descr="Queen of Club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16600" y="711360"/>
            <a:ext cx="1019160" cy="1422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6" descr="Ace of Spade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90800" y="692280"/>
            <a:ext cx="1022400" cy="1434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8" descr="06 of Heart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00600" y="692280"/>
            <a:ext cx="1019160" cy="1444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0" descr="04 of Heart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71640" y="692280"/>
            <a:ext cx="1019160" cy="14443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1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4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89160" y="23842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a red card fir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68360" y="69228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wo cards are selected at random from this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88080" y="3211560"/>
            <a:ext cx="64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n Ace or Queen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83040" y="5695920"/>
            <a:ext cx="84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you select a Queen first, what's the chance of getting a Queen 2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87000" y="4040280"/>
            <a:ext cx="64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4 first, then a 6 n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389880" y="4867200"/>
            <a:ext cx="52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two Que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5" descr="MathematicsTemp28082"/>
          <p:cNvPicPr/>
          <p:nvPr/>
        </p:nvPicPr>
        <p:blipFill>
          <a:blip r:embed="rId1"/>
          <a:stretch/>
        </p:blipFill>
        <p:spPr>
          <a:xfrm>
            <a:off x="7813800" y="620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MathematicsTemp29288"/>
          <p:cNvPicPr/>
          <p:nvPr/>
        </p:nvPicPr>
        <p:blipFill>
          <a:blip r:embed="rId2"/>
          <a:stretch/>
        </p:blipFill>
        <p:spPr>
          <a:xfrm>
            <a:off x="5940360" y="620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MathematicsTemp30212"/>
          <p:cNvPicPr/>
          <p:nvPr/>
        </p:nvPicPr>
        <p:blipFill>
          <a:blip r:embed="rId3"/>
          <a:stretch/>
        </p:blipFill>
        <p:spPr>
          <a:xfrm>
            <a:off x="6877080" y="620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MathematicsTemp5402"/>
          <p:cNvPicPr/>
          <p:nvPr/>
        </p:nvPicPr>
        <p:blipFill>
          <a:blip r:embed="rId4"/>
          <a:stretch/>
        </p:blipFill>
        <p:spPr>
          <a:xfrm>
            <a:off x="5005440" y="620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9" descr="MathematicsTemp5938"/>
          <p:cNvPicPr/>
          <p:nvPr/>
        </p:nvPicPr>
        <p:blipFill>
          <a:blip r:embed="rId5"/>
          <a:stretch/>
        </p:blipFill>
        <p:spPr>
          <a:xfrm>
            <a:off x="4068720" y="620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0" descr="MathematicsTemp9781"/>
          <p:cNvPicPr/>
          <p:nvPr/>
        </p:nvPicPr>
        <p:blipFill>
          <a:blip r:embed="rId6"/>
          <a:stretch/>
        </p:blipFill>
        <p:spPr>
          <a:xfrm>
            <a:off x="3132000" y="620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9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nk 21"/>
          <p:cNvSpPr/>
          <p:nvPr/>
        </p:nvSpPr>
        <p:spPr>
          <a:xfrm>
            <a:off x="5956200" y="2320920"/>
            <a:ext cx="509760" cy="590400"/>
          </a:xfrm>
          <a:custGeom>
            <a:avLst/>
            <a:gdLst/>
            <a:ahLst/>
            <a:rect l="l" t="t" r="r" b="b"/>
            <a:pathLst>
              <a:path w="1415" h="1638">
                <a:moveTo>
                  <a:pt x="17239" y="6474"/>
                </a:moveTo>
                <a:cubicBezTo>
                  <a:pt x="17239" y="6466"/>
                  <a:pt x="17239" y="6457"/>
                  <a:pt x="17239" y="6449"/>
                </a:cubicBezTo>
                <a:cubicBezTo>
                  <a:pt x="17293" y="6485"/>
                  <a:pt x="17252" y="6500"/>
                  <a:pt x="17239" y="6524"/>
                </a:cubicBezTo>
                <a:cubicBezTo>
                  <a:pt x="17220" y="6561"/>
                  <a:pt x="17216" y="6608"/>
                  <a:pt x="17190" y="6648"/>
                </a:cubicBezTo>
                <a:cubicBezTo>
                  <a:pt x="17162" y="6689"/>
                  <a:pt x="17123" y="6735"/>
                  <a:pt x="17090" y="6772"/>
                </a:cubicBezTo>
                <a:cubicBezTo>
                  <a:pt x="17061" y="6804"/>
                  <a:pt x="17022" y="6856"/>
                  <a:pt x="17016" y="6871"/>
                </a:cubicBezTo>
                <a:cubicBezTo>
                  <a:pt x="17009" y="6887"/>
                  <a:pt x="17016" y="6927"/>
                  <a:pt x="17016" y="6945"/>
                </a:cubicBezTo>
                <a:cubicBezTo>
                  <a:pt x="17081" y="6945"/>
                  <a:pt x="17135" y="6932"/>
                  <a:pt x="17190" y="6921"/>
                </a:cubicBezTo>
                <a:cubicBezTo>
                  <a:pt x="17243" y="6911"/>
                  <a:pt x="17311" y="6911"/>
                  <a:pt x="17363" y="6896"/>
                </a:cubicBezTo>
                <a:cubicBezTo>
                  <a:pt x="17411" y="6882"/>
                  <a:pt x="17493" y="6889"/>
                  <a:pt x="17537" y="6871"/>
                </a:cubicBezTo>
                <a:cubicBezTo>
                  <a:pt x="17571" y="6857"/>
                  <a:pt x="17672" y="6846"/>
                  <a:pt x="17636" y="6846"/>
                </a:cubicBezTo>
                <a:cubicBezTo>
                  <a:pt x="17628" y="6846"/>
                  <a:pt x="17619" y="6846"/>
                  <a:pt x="17611" y="6846"/>
                </a:cubicBezTo>
              </a:path>
              <a:path w="1415" h="1638">
                <a:moveTo>
                  <a:pt x="17438" y="6672"/>
                </a:moveTo>
                <a:cubicBezTo>
                  <a:pt x="17438" y="6733"/>
                  <a:pt x="17408" y="6737"/>
                  <a:pt x="17388" y="6796"/>
                </a:cubicBezTo>
                <a:cubicBezTo>
                  <a:pt x="17370" y="6848"/>
                  <a:pt x="17378" y="6921"/>
                  <a:pt x="17363" y="6970"/>
                </a:cubicBezTo>
                <a:cubicBezTo>
                  <a:pt x="17347" y="7024"/>
                  <a:pt x="17374" y="7046"/>
                  <a:pt x="17338" y="7094"/>
                </a:cubicBezTo>
              </a:path>
              <a:path w="1415" h="1638">
                <a:moveTo>
                  <a:pt x="16545" y="7069"/>
                </a:moveTo>
                <a:cubicBezTo>
                  <a:pt x="16610" y="7069"/>
                  <a:pt x="16659" y="7086"/>
                  <a:pt x="16718" y="7094"/>
                </a:cubicBezTo>
                <a:cubicBezTo>
                  <a:pt x="16834" y="7109"/>
                  <a:pt x="16951" y="7099"/>
                  <a:pt x="17066" y="7119"/>
                </a:cubicBezTo>
                <a:cubicBezTo>
                  <a:pt x="17181" y="7139"/>
                  <a:pt x="17300" y="7124"/>
                  <a:pt x="17413" y="7144"/>
                </a:cubicBezTo>
                <a:cubicBezTo>
                  <a:pt x="17508" y="7161"/>
                  <a:pt x="17592" y="7200"/>
                  <a:pt x="17686" y="7218"/>
                </a:cubicBezTo>
                <a:cubicBezTo>
                  <a:pt x="17746" y="7229"/>
                  <a:pt x="17802" y="7238"/>
                  <a:pt x="17859" y="7243"/>
                </a:cubicBezTo>
                <a:cubicBezTo>
                  <a:pt x="17896" y="7246"/>
                  <a:pt x="17996" y="7268"/>
                  <a:pt x="17959" y="7268"/>
                </a:cubicBezTo>
                <a:cubicBezTo>
                  <a:pt x="17910" y="7268"/>
                  <a:pt x="17897" y="7272"/>
                  <a:pt x="17859" y="7243"/>
                </a:cubicBezTo>
              </a:path>
              <a:path w="1415" h="1638">
                <a:moveTo>
                  <a:pt x="17239" y="7441"/>
                </a:moveTo>
                <a:cubicBezTo>
                  <a:pt x="17179" y="7456"/>
                  <a:pt x="17177" y="7492"/>
                  <a:pt x="17140" y="7541"/>
                </a:cubicBezTo>
                <a:cubicBezTo>
                  <a:pt x="17099" y="7595"/>
                  <a:pt x="17058" y="7629"/>
                  <a:pt x="17016" y="7689"/>
                </a:cubicBezTo>
                <a:cubicBezTo>
                  <a:pt x="16977" y="7745"/>
                  <a:pt x="16957" y="7796"/>
                  <a:pt x="16942" y="7863"/>
                </a:cubicBezTo>
                <a:cubicBezTo>
                  <a:pt x="16930" y="7918"/>
                  <a:pt x="16917" y="7953"/>
                  <a:pt x="16917" y="8012"/>
                </a:cubicBezTo>
                <a:cubicBezTo>
                  <a:pt x="16917" y="8053"/>
                  <a:pt x="16962" y="8043"/>
                  <a:pt x="16991" y="8062"/>
                </a:cubicBezTo>
                <a:cubicBezTo>
                  <a:pt x="17051" y="8101"/>
                  <a:pt x="17045" y="8079"/>
                  <a:pt x="17115" y="8062"/>
                </a:cubicBezTo>
                <a:cubicBezTo>
                  <a:pt x="17157" y="8052"/>
                  <a:pt x="17218" y="8034"/>
                  <a:pt x="17239" y="7987"/>
                </a:cubicBezTo>
                <a:cubicBezTo>
                  <a:pt x="17254" y="7953"/>
                  <a:pt x="17264" y="7929"/>
                  <a:pt x="17264" y="7888"/>
                </a:cubicBezTo>
                <a:cubicBezTo>
                  <a:pt x="17264" y="7832"/>
                  <a:pt x="17260" y="7833"/>
                  <a:pt x="17214" y="7813"/>
                </a:cubicBezTo>
                <a:cubicBezTo>
                  <a:pt x="17155" y="7788"/>
                  <a:pt x="17105" y="7768"/>
                  <a:pt x="17041" y="7764"/>
                </a:cubicBezTo>
                <a:cubicBezTo>
                  <a:pt x="17011" y="7762"/>
                  <a:pt x="16850" y="7798"/>
                  <a:pt x="16842" y="7813"/>
                </a:cubicBezTo>
                <a:cubicBezTo>
                  <a:pt x="16842" y="7865"/>
                  <a:pt x="16844" y="7883"/>
                  <a:pt x="16892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nk 22"/>
          <p:cNvSpPr/>
          <p:nvPr/>
        </p:nvSpPr>
        <p:spPr>
          <a:xfrm>
            <a:off x="6919920" y="2589120"/>
            <a:ext cx="304920" cy="179640"/>
          </a:xfrm>
          <a:custGeom>
            <a:avLst/>
            <a:gdLst/>
            <a:ahLst/>
            <a:rect l="l" t="t" r="r" b="b"/>
            <a:pathLst>
              <a:path w="844" h="497">
                <a:moveTo>
                  <a:pt x="19348" y="7193"/>
                </a:moveTo>
                <a:cubicBezTo>
                  <a:pt x="19310" y="7202"/>
                  <a:pt x="19278" y="7216"/>
                  <a:pt x="19248" y="7243"/>
                </a:cubicBezTo>
                <a:cubicBezTo>
                  <a:pt x="19200" y="7286"/>
                  <a:pt x="19224" y="7380"/>
                  <a:pt x="19224" y="7441"/>
                </a:cubicBezTo>
                <a:cubicBezTo>
                  <a:pt x="19224" y="7493"/>
                  <a:pt x="19214" y="7526"/>
                  <a:pt x="19248" y="7565"/>
                </a:cubicBezTo>
                <a:cubicBezTo>
                  <a:pt x="19283" y="7605"/>
                  <a:pt x="19297" y="7615"/>
                  <a:pt x="19348" y="7615"/>
                </a:cubicBezTo>
                <a:cubicBezTo>
                  <a:pt x="19388" y="7615"/>
                  <a:pt x="19441" y="7609"/>
                  <a:pt x="19472" y="7590"/>
                </a:cubicBezTo>
                <a:cubicBezTo>
                  <a:pt x="19511" y="7566"/>
                  <a:pt x="19496" y="7504"/>
                  <a:pt x="19496" y="7466"/>
                </a:cubicBezTo>
                <a:cubicBezTo>
                  <a:pt x="19496" y="7426"/>
                  <a:pt x="19491" y="7386"/>
                  <a:pt x="19447" y="7367"/>
                </a:cubicBezTo>
                <a:cubicBezTo>
                  <a:pt x="19424" y="7357"/>
                  <a:pt x="19273" y="7373"/>
                  <a:pt x="19298" y="7392"/>
                </a:cubicBezTo>
                <a:cubicBezTo>
                  <a:pt x="19306" y="7392"/>
                  <a:pt x="19315" y="7392"/>
                  <a:pt x="19323" y="7392"/>
                </a:cubicBezTo>
              </a:path>
              <a:path w="844" h="497">
                <a:moveTo>
                  <a:pt x="19645" y="7441"/>
                </a:moveTo>
                <a:cubicBezTo>
                  <a:pt x="19645" y="7524"/>
                  <a:pt x="19645" y="7606"/>
                  <a:pt x="19645" y="7689"/>
                </a:cubicBezTo>
                <a:cubicBezTo>
                  <a:pt x="19645" y="7652"/>
                  <a:pt x="19655" y="7594"/>
                  <a:pt x="19670" y="7565"/>
                </a:cubicBezTo>
                <a:cubicBezTo>
                  <a:pt x="19696" y="7514"/>
                  <a:pt x="19735" y="7441"/>
                  <a:pt x="19769" y="7392"/>
                </a:cubicBezTo>
                <a:cubicBezTo>
                  <a:pt x="19810" y="7333"/>
                  <a:pt x="19837" y="7310"/>
                  <a:pt x="19893" y="7268"/>
                </a:cubicBezTo>
                <a:cubicBezTo>
                  <a:pt x="19923" y="7246"/>
                  <a:pt x="19981" y="7199"/>
                  <a:pt x="19993" y="7193"/>
                </a:cubicBezTo>
                <a:cubicBezTo>
                  <a:pt x="20001" y="7193"/>
                  <a:pt x="20009" y="7193"/>
                  <a:pt x="20017" y="7193"/>
                </a:cubicBezTo>
                <a:cubicBezTo>
                  <a:pt x="20017" y="7242"/>
                  <a:pt x="20006" y="7253"/>
                  <a:pt x="19993" y="7293"/>
                </a:cubicBezTo>
                <a:cubicBezTo>
                  <a:pt x="19989" y="7304"/>
                  <a:pt x="19928" y="7408"/>
                  <a:pt x="19918" y="7417"/>
                </a:cubicBezTo>
                <a:cubicBezTo>
                  <a:pt x="19904" y="7430"/>
                  <a:pt x="19826" y="7511"/>
                  <a:pt x="19819" y="7516"/>
                </a:cubicBezTo>
                <a:cubicBezTo>
                  <a:pt x="19794" y="7516"/>
                  <a:pt x="19786" y="7516"/>
                  <a:pt x="19794" y="7541"/>
                </a:cubicBezTo>
                <a:cubicBezTo>
                  <a:pt x="19807" y="7580"/>
                  <a:pt x="19842" y="7586"/>
                  <a:pt x="19893" y="7590"/>
                </a:cubicBezTo>
                <a:cubicBezTo>
                  <a:pt x="19936" y="7594"/>
                  <a:pt x="19954" y="7611"/>
                  <a:pt x="19993" y="7615"/>
                </a:cubicBezTo>
                <a:cubicBezTo>
                  <a:pt x="20024" y="7619"/>
                  <a:pt x="20037" y="7632"/>
                  <a:pt x="20067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Ink 23"/>
          <p:cNvSpPr/>
          <p:nvPr/>
        </p:nvSpPr>
        <p:spPr>
          <a:xfrm>
            <a:off x="7705800" y="2428920"/>
            <a:ext cx="331560" cy="500040"/>
          </a:xfrm>
          <a:custGeom>
            <a:avLst/>
            <a:gdLst/>
            <a:ahLst/>
            <a:rect l="l" t="t" r="r" b="b"/>
            <a:pathLst>
              <a:path w="919" h="1390">
                <a:moveTo>
                  <a:pt x="21754" y="6796"/>
                </a:moveTo>
                <a:cubicBezTo>
                  <a:pt x="21797" y="6732"/>
                  <a:pt x="21799" y="6747"/>
                  <a:pt x="21878" y="6747"/>
                </a:cubicBezTo>
                <a:cubicBezTo>
                  <a:pt x="21934" y="6747"/>
                  <a:pt x="21956" y="6757"/>
                  <a:pt x="22002" y="6772"/>
                </a:cubicBezTo>
                <a:cubicBezTo>
                  <a:pt x="22035" y="6783"/>
                  <a:pt x="22044" y="6817"/>
                  <a:pt x="22002" y="6846"/>
                </a:cubicBezTo>
                <a:cubicBezTo>
                  <a:pt x="21947" y="6884"/>
                  <a:pt x="21883" y="6907"/>
                  <a:pt x="21828" y="6945"/>
                </a:cubicBezTo>
                <a:cubicBezTo>
                  <a:pt x="21784" y="6975"/>
                  <a:pt x="21748" y="6964"/>
                  <a:pt x="21729" y="7020"/>
                </a:cubicBezTo>
                <a:cubicBezTo>
                  <a:pt x="21729" y="7028"/>
                  <a:pt x="21729" y="7037"/>
                  <a:pt x="21729" y="7045"/>
                </a:cubicBezTo>
                <a:cubicBezTo>
                  <a:pt x="21878" y="7045"/>
                  <a:pt x="22026" y="7045"/>
                  <a:pt x="22175" y="7045"/>
                </a:cubicBezTo>
                <a:cubicBezTo>
                  <a:pt x="22163" y="7081"/>
                  <a:pt x="22145" y="7069"/>
                  <a:pt x="22101" y="7069"/>
                </a:cubicBezTo>
              </a:path>
              <a:path w="919" h="1390">
                <a:moveTo>
                  <a:pt x="21431" y="7218"/>
                </a:moveTo>
                <a:cubicBezTo>
                  <a:pt x="21536" y="7218"/>
                  <a:pt x="21626" y="7219"/>
                  <a:pt x="21729" y="7243"/>
                </a:cubicBezTo>
                <a:cubicBezTo>
                  <a:pt x="21847" y="7270"/>
                  <a:pt x="21955" y="7268"/>
                  <a:pt x="22076" y="7268"/>
                </a:cubicBezTo>
                <a:cubicBezTo>
                  <a:pt x="22167" y="7268"/>
                  <a:pt x="22311" y="7383"/>
                  <a:pt x="22324" y="7293"/>
                </a:cubicBezTo>
                <a:cubicBezTo>
                  <a:pt x="22324" y="7251"/>
                  <a:pt x="22324" y="7226"/>
                  <a:pt x="22324" y="7268"/>
                </a:cubicBezTo>
              </a:path>
              <a:path w="919" h="1390">
                <a:moveTo>
                  <a:pt x="21729" y="7590"/>
                </a:moveTo>
                <a:cubicBezTo>
                  <a:pt x="21771" y="7590"/>
                  <a:pt x="21793" y="7579"/>
                  <a:pt x="21828" y="7565"/>
                </a:cubicBezTo>
                <a:cubicBezTo>
                  <a:pt x="21880" y="7544"/>
                  <a:pt x="21899" y="7541"/>
                  <a:pt x="21952" y="7541"/>
                </a:cubicBezTo>
                <a:cubicBezTo>
                  <a:pt x="21984" y="7541"/>
                  <a:pt x="21997" y="7558"/>
                  <a:pt x="22027" y="7565"/>
                </a:cubicBezTo>
                <a:cubicBezTo>
                  <a:pt x="22020" y="7586"/>
                  <a:pt x="21958" y="7647"/>
                  <a:pt x="21927" y="7665"/>
                </a:cubicBezTo>
                <a:cubicBezTo>
                  <a:pt x="21890" y="7687"/>
                  <a:pt x="21826" y="7687"/>
                  <a:pt x="21803" y="7739"/>
                </a:cubicBezTo>
                <a:cubicBezTo>
                  <a:pt x="21792" y="7763"/>
                  <a:pt x="21799" y="7829"/>
                  <a:pt x="21828" y="7838"/>
                </a:cubicBezTo>
                <a:cubicBezTo>
                  <a:pt x="21883" y="7855"/>
                  <a:pt x="21907" y="7851"/>
                  <a:pt x="21927" y="7913"/>
                </a:cubicBezTo>
                <a:cubicBezTo>
                  <a:pt x="21940" y="7954"/>
                  <a:pt x="21928" y="8008"/>
                  <a:pt x="21903" y="8037"/>
                </a:cubicBezTo>
                <a:cubicBezTo>
                  <a:pt x="21876" y="8068"/>
                  <a:pt x="21814" y="8099"/>
                  <a:pt x="21779" y="8111"/>
                </a:cubicBezTo>
                <a:cubicBezTo>
                  <a:pt x="21742" y="8124"/>
                  <a:pt x="21722" y="8136"/>
                  <a:pt x="21679" y="8136"/>
                </a:cubicBezTo>
                <a:cubicBezTo>
                  <a:pt x="21643" y="8136"/>
                  <a:pt x="21607" y="8129"/>
                  <a:pt x="21580" y="8111"/>
                </a:cubicBezTo>
                <a:cubicBezTo>
                  <a:pt x="21544" y="8087"/>
                  <a:pt x="21519" y="8029"/>
                  <a:pt x="21481" y="8012"/>
                </a:cubicBezTo>
                <a:cubicBezTo>
                  <a:pt x="21465" y="8005"/>
                  <a:pt x="21424" y="8012"/>
                  <a:pt x="21406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nk 24"/>
          <p:cNvSpPr/>
          <p:nvPr/>
        </p:nvSpPr>
        <p:spPr>
          <a:xfrm>
            <a:off x="4276800" y="4402080"/>
            <a:ext cx="250920" cy="411120"/>
          </a:xfrm>
          <a:custGeom>
            <a:avLst/>
            <a:gdLst/>
            <a:ahLst/>
            <a:rect l="l" t="t" r="r" b="b"/>
            <a:pathLst>
              <a:path w="696" h="1142">
                <a:moveTo>
                  <a:pt x="12328" y="12229"/>
                </a:moveTo>
                <a:cubicBezTo>
                  <a:pt x="12328" y="12291"/>
                  <a:pt x="12318" y="12328"/>
                  <a:pt x="12303" y="12378"/>
                </a:cubicBezTo>
                <a:cubicBezTo>
                  <a:pt x="12291" y="12419"/>
                  <a:pt x="12303" y="12483"/>
                  <a:pt x="12303" y="12526"/>
                </a:cubicBezTo>
                <a:cubicBezTo>
                  <a:pt x="12265" y="12539"/>
                  <a:pt x="12278" y="12556"/>
                  <a:pt x="12278" y="12601"/>
                </a:cubicBezTo>
              </a:path>
              <a:path w="696" h="1142">
                <a:moveTo>
                  <a:pt x="11881" y="12675"/>
                </a:moveTo>
                <a:cubicBezTo>
                  <a:pt x="11919" y="12713"/>
                  <a:pt x="11928" y="12725"/>
                  <a:pt x="11981" y="12725"/>
                </a:cubicBezTo>
                <a:cubicBezTo>
                  <a:pt x="12188" y="12725"/>
                  <a:pt x="12628" y="12533"/>
                  <a:pt x="12551" y="12725"/>
                </a:cubicBezTo>
                <a:cubicBezTo>
                  <a:pt x="12551" y="12750"/>
                  <a:pt x="12551" y="12758"/>
                  <a:pt x="12526" y="12750"/>
                </a:cubicBezTo>
              </a:path>
              <a:path w="696" h="1142">
                <a:moveTo>
                  <a:pt x="12129" y="12898"/>
                </a:moveTo>
                <a:cubicBezTo>
                  <a:pt x="12129" y="12890"/>
                  <a:pt x="12129" y="12882"/>
                  <a:pt x="12129" y="12874"/>
                </a:cubicBezTo>
                <a:cubicBezTo>
                  <a:pt x="12185" y="12874"/>
                  <a:pt x="12208" y="12883"/>
                  <a:pt x="12254" y="12898"/>
                </a:cubicBezTo>
                <a:cubicBezTo>
                  <a:pt x="12273" y="12904"/>
                  <a:pt x="12308" y="12898"/>
                  <a:pt x="12328" y="12898"/>
                </a:cubicBezTo>
              </a:path>
              <a:path w="696" h="1142">
                <a:moveTo>
                  <a:pt x="12303" y="12874"/>
                </a:moveTo>
                <a:cubicBezTo>
                  <a:pt x="12303" y="12866"/>
                  <a:pt x="12303" y="12857"/>
                  <a:pt x="12303" y="12849"/>
                </a:cubicBezTo>
                <a:cubicBezTo>
                  <a:pt x="12299" y="12850"/>
                  <a:pt x="12232" y="12870"/>
                  <a:pt x="12229" y="12874"/>
                </a:cubicBezTo>
                <a:cubicBezTo>
                  <a:pt x="12213" y="12893"/>
                  <a:pt x="12183" y="12919"/>
                  <a:pt x="12154" y="12923"/>
                </a:cubicBezTo>
                <a:cubicBezTo>
                  <a:pt x="12127" y="12926"/>
                  <a:pt x="12109" y="12947"/>
                  <a:pt x="12080" y="12973"/>
                </a:cubicBezTo>
                <a:cubicBezTo>
                  <a:pt x="12055" y="12995"/>
                  <a:pt x="12045" y="13040"/>
                  <a:pt x="12030" y="13047"/>
                </a:cubicBezTo>
                <a:cubicBezTo>
                  <a:pt x="12003" y="13061"/>
                  <a:pt x="11986" y="13078"/>
                  <a:pt x="11981" y="13122"/>
                </a:cubicBezTo>
                <a:cubicBezTo>
                  <a:pt x="11981" y="13125"/>
                  <a:pt x="12005" y="13221"/>
                  <a:pt x="12005" y="13221"/>
                </a:cubicBezTo>
                <a:cubicBezTo>
                  <a:pt x="12015" y="13229"/>
                  <a:pt x="12050" y="13268"/>
                  <a:pt x="12055" y="13271"/>
                </a:cubicBezTo>
                <a:cubicBezTo>
                  <a:pt x="12078" y="13283"/>
                  <a:pt x="12101" y="13301"/>
                  <a:pt x="12129" y="13320"/>
                </a:cubicBezTo>
                <a:cubicBezTo>
                  <a:pt x="12162" y="13342"/>
                  <a:pt x="12189" y="13366"/>
                  <a:pt x="12229" y="13370"/>
                </a:cubicBezTo>
                <a:cubicBezTo>
                  <a:pt x="12293" y="13377"/>
                  <a:pt x="12406" y="13386"/>
                  <a:pt x="12452" y="13345"/>
                </a:cubicBezTo>
                <a:cubicBezTo>
                  <a:pt x="12486" y="13315"/>
                  <a:pt x="12477" y="13289"/>
                  <a:pt x="12477" y="13246"/>
                </a:cubicBezTo>
                <a:cubicBezTo>
                  <a:pt x="12477" y="13208"/>
                  <a:pt x="12434" y="13182"/>
                  <a:pt x="12402" y="13171"/>
                </a:cubicBezTo>
                <a:cubicBezTo>
                  <a:pt x="12336" y="13148"/>
                  <a:pt x="12256" y="13185"/>
                  <a:pt x="12204" y="13196"/>
                </a:cubicBezTo>
                <a:cubicBezTo>
                  <a:pt x="12156" y="13206"/>
                  <a:pt x="12119" y="13220"/>
                  <a:pt x="12080" y="13246"/>
                </a:cubicBezTo>
                <a:cubicBezTo>
                  <a:pt x="12072" y="13254"/>
                  <a:pt x="12063" y="13263"/>
                  <a:pt x="12055" y="13271"/>
                </a:cubicBezTo>
                <a:cubicBezTo>
                  <a:pt x="12070" y="13292"/>
                  <a:pt x="12111" y="13310"/>
                  <a:pt x="12154" y="13295"/>
                </a:cubicBezTo>
                <a:cubicBezTo>
                  <a:pt x="12171" y="13287"/>
                  <a:pt x="12187" y="13279"/>
                  <a:pt x="12204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nk 25"/>
          <p:cNvSpPr/>
          <p:nvPr/>
        </p:nvSpPr>
        <p:spPr>
          <a:xfrm>
            <a:off x="4741920" y="4599000"/>
            <a:ext cx="160200" cy="14292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13543" y="12874"/>
                </a:moveTo>
                <a:cubicBezTo>
                  <a:pt x="13543" y="12866"/>
                  <a:pt x="13543" y="12857"/>
                  <a:pt x="13543" y="12849"/>
                </a:cubicBezTo>
                <a:cubicBezTo>
                  <a:pt x="13445" y="12849"/>
                  <a:pt x="13474" y="12837"/>
                  <a:pt x="13419" y="12923"/>
                </a:cubicBezTo>
                <a:cubicBezTo>
                  <a:pt x="13389" y="12971"/>
                  <a:pt x="13321" y="12976"/>
                  <a:pt x="13295" y="13022"/>
                </a:cubicBezTo>
                <a:cubicBezTo>
                  <a:pt x="13275" y="13057"/>
                  <a:pt x="13216" y="13077"/>
                  <a:pt x="13196" y="13122"/>
                </a:cubicBezTo>
                <a:cubicBezTo>
                  <a:pt x="13175" y="13169"/>
                  <a:pt x="13166" y="13137"/>
                  <a:pt x="13196" y="13097"/>
                </a:cubicBezTo>
              </a:path>
              <a:path w="448" h="398">
                <a:moveTo>
                  <a:pt x="13221" y="12799"/>
                </a:moveTo>
                <a:cubicBezTo>
                  <a:pt x="13221" y="12791"/>
                  <a:pt x="13221" y="12782"/>
                  <a:pt x="13221" y="12774"/>
                </a:cubicBezTo>
                <a:cubicBezTo>
                  <a:pt x="13244" y="12805"/>
                  <a:pt x="13279" y="12862"/>
                  <a:pt x="13295" y="12898"/>
                </a:cubicBezTo>
                <a:cubicBezTo>
                  <a:pt x="13295" y="12906"/>
                  <a:pt x="13295" y="12915"/>
                  <a:pt x="13295" y="12923"/>
                </a:cubicBezTo>
                <a:cubicBezTo>
                  <a:pt x="13339" y="12934"/>
                  <a:pt x="13361" y="12964"/>
                  <a:pt x="13395" y="12998"/>
                </a:cubicBezTo>
                <a:cubicBezTo>
                  <a:pt x="13436" y="13039"/>
                  <a:pt x="13479" y="13069"/>
                  <a:pt x="13519" y="13097"/>
                </a:cubicBezTo>
                <a:cubicBezTo>
                  <a:pt x="13556" y="13122"/>
                  <a:pt x="13584" y="13146"/>
                  <a:pt x="13618" y="13171"/>
                </a:cubicBezTo>
                <a:cubicBezTo>
                  <a:pt x="13593" y="13171"/>
                  <a:pt x="13568" y="13171"/>
                  <a:pt x="13543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Ink 26"/>
          <p:cNvSpPr/>
          <p:nvPr/>
        </p:nvSpPr>
        <p:spPr>
          <a:xfrm>
            <a:off x="5187960" y="4394160"/>
            <a:ext cx="223920" cy="473040"/>
          </a:xfrm>
          <a:custGeom>
            <a:avLst/>
            <a:gdLst/>
            <a:ahLst/>
            <a:rect l="l" t="t" r="r" b="b"/>
            <a:pathLst>
              <a:path w="621" h="1316">
                <a:moveTo>
                  <a:pt x="14858" y="12204"/>
                </a:moveTo>
                <a:cubicBezTo>
                  <a:pt x="14858" y="12282"/>
                  <a:pt x="14855" y="12337"/>
                  <a:pt x="14833" y="12402"/>
                </a:cubicBezTo>
                <a:cubicBezTo>
                  <a:pt x="14812" y="12464"/>
                  <a:pt x="14828" y="12542"/>
                  <a:pt x="14808" y="12601"/>
                </a:cubicBezTo>
                <a:cubicBezTo>
                  <a:pt x="14808" y="12609"/>
                  <a:pt x="14808" y="12618"/>
                  <a:pt x="14808" y="12626"/>
                </a:cubicBezTo>
              </a:path>
              <a:path w="621" h="1316">
                <a:moveTo>
                  <a:pt x="14412" y="12774"/>
                </a:moveTo>
                <a:cubicBezTo>
                  <a:pt x="14479" y="12774"/>
                  <a:pt x="14524" y="12788"/>
                  <a:pt x="14585" y="12799"/>
                </a:cubicBezTo>
                <a:cubicBezTo>
                  <a:pt x="14726" y="12824"/>
                  <a:pt x="14869" y="12790"/>
                  <a:pt x="15007" y="12824"/>
                </a:cubicBezTo>
                <a:cubicBezTo>
                  <a:pt x="15032" y="12824"/>
                  <a:pt x="15040" y="12824"/>
                  <a:pt x="15032" y="12849"/>
                </a:cubicBezTo>
              </a:path>
              <a:path w="621" h="1316">
                <a:moveTo>
                  <a:pt x="14684" y="12948"/>
                </a:moveTo>
                <a:cubicBezTo>
                  <a:pt x="14676" y="12948"/>
                  <a:pt x="14668" y="12948"/>
                  <a:pt x="14660" y="12948"/>
                </a:cubicBezTo>
                <a:cubicBezTo>
                  <a:pt x="14660" y="12995"/>
                  <a:pt x="14655" y="13002"/>
                  <a:pt x="14684" y="13022"/>
                </a:cubicBezTo>
                <a:cubicBezTo>
                  <a:pt x="14697" y="13060"/>
                  <a:pt x="14714" y="13047"/>
                  <a:pt x="14759" y="13047"/>
                </a:cubicBezTo>
                <a:cubicBezTo>
                  <a:pt x="14812" y="13047"/>
                  <a:pt x="14918" y="13027"/>
                  <a:pt x="14932" y="13072"/>
                </a:cubicBezTo>
              </a:path>
              <a:path w="621" h="1316">
                <a:moveTo>
                  <a:pt x="14734" y="13022"/>
                </a:moveTo>
                <a:cubicBezTo>
                  <a:pt x="14706" y="13031"/>
                  <a:pt x="14695" y="13080"/>
                  <a:pt x="14684" y="13122"/>
                </a:cubicBezTo>
                <a:cubicBezTo>
                  <a:pt x="14680" y="13137"/>
                  <a:pt x="14660" y="13183"/>
                  <a:pt x="14635" y="13196"/>
                </a:cubicBezTo>
                <a:cubicBezTo>
                  <a:pt x="14600" y="13213"/>
                  <a:pt x="14610" y="13222"/>
                  <a:pt x="14610" y="13271"/>
                </a:cubicBezTo>
                <a:cubicBezTo>
                  <a:pt x="14689" y="13271"/>
                  <a:pt x="14764" y="13268"/>
                  <a:pt x="14808" y="13246"/>
                </a:cubicBezTo>
                <a:cubicBezTo>
                  <a:pt x="14816" y="13246"/>
                  <a:pt x="14825" y="13246"/>
                  <a:pt x="14833" y="13246"/>
                </a:cubicBezTo>
                <a:cubicBezTo>
                  <a:pt x="14862" y="13284"/>
                  <a:pt x="14858" y="13297"/>
                  <a:pt x="14858" y="13345"/>
                </a:cubicBezTo>
                <a:cubicBezTo>
                  <a:pt x="14858" y="13396"/>
                  <a:pt x="14847" y="13403"/>
                  <a:pt x="14833" y="13444"/>
                </a:cubicBezTo>
                <a:cubicBezTo>
                  <a:pt x="14827" y="13462"/>
                  <a:pt x="14790" y="13505"/>
                  <a:pt x="14759" y="13519"/>
                </a:cubicBezTo>
                <a:cubicBezTo>
                  <a:pt x="14705" y="13543"/>
                  <a:pt x="14626" y="13508"/>
                  <a:pt x="14585" y="13494"/>
                </a:cubicBezTo>
                <a:cubicBezTo>
                  <a:pt x="14546" y="13481"/>
                  <a:pt x="14575" y="13482"/>
                  <a:pt x="14536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Ink 27"/>
          <p:cNvSpPr/>
          <p:nvPr/>
        </p:nvSpPr>
        <p:spPr>
          <a:xfrm>
            <a:off x="5749920" y="4633920"/>
            <a:ext cx="13500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6073" y="12874"/>
                </a:moveTo>
                <a:cubicBezTo>
                  <a:pt x="16134" y="12874"/>
                  <a:pt x="16164" y="12884"/>
                  <a:pt x="16222" y="12898"/>
                </a:cubicBezTo>
                <a:cubicBezTo>
                  <a:pt x="16261" y="12907"/>
                  <a:pt x="16277" y="12923"/>
                  <a:pt x="16321" y="12923"/>
                </a:cubicBezTo>
                <a:cubicBezTo>
                  <a:pt x="16365" y="12923"/>
                  <a:pt x="16323" y="12928"/>
                  <a:pt x="16297" y="12948"/>
                </a:cubicBezTo>
              </a:path>
              <a:path w="373" h="249">
                <a:moveTo>
                  <a:pt x="15974" y="13072"/>
                </a:moveTo>
                <a:cubicBezTo>
                  <a:pt x="16058" y="13072"/>
                  <a:pt x="16118" y="13079"/>
                  <a:pt x="16197" y="13097"/>
                </a:cubicBezTo>
                <a:cubicBezTo>
                  <a:pt x="16242" y="13108"/>
                  <a:pt x="16267" y="13122"/>
                  <a:pt x="16321" y="13122"/>
                </a:cubicBezTo>
                <a:cubicBezTo>
                  <a:pt x="16329" y="13122"/>
                  <a:pt x="16338" y="13122"/>
                  <a:pt x="16346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Ink 28"/>
          <p:cNvSpPr/>
          <p:nvPr/>
        </p:nvSpPr>
        <p:spPr>
          <a:xfrm>
            <a:off x="6384960" y="4438800"/>
            <a:ext cx="393840" cy="196560"/>
          </a:xfrm>
          <a:custGeom>
            <a:avLst/>
            <a:gdLst/>
            <a:ahLst/>
            <a:rect l="l" t="t" r="r" b="b"/>
            <a:pathLst>
              <a:path w="1093" h="547">
                <a:moveTo>
                  <a:pt x="18281" y="12328"/>
                </a:moveTo>
                <a:cubicBezTo>
                  <a:pt x="18281" y="12378"/>
                  <a:pt x="18281" y="12427"/>
                  <a:pt x="18281" y="12477"/>
                </a:cubicBezTo>
                <a:cubicBezTo>
                  <a:pt x="18243" y="12490"/>
                  <a:pt x="18256" y="12506"/>
                  <a:pt x="18256" y="12551"/>
                </a:cubicBezTo>
                <a:cubicBezTo>
                  <a:pt x="18256" y="12590"/>
                  <a:pt x="18231" y="12605"/>
                  <a:pt x="18231" y="12650"/>
                </a:cubicBezTo>
                <a:cubicBezTo>
                  <a:pt x="18231" y="12693"/>
                  <a:pt x="18216" y="12691"/>
                  <a:pt x="18182" y="12700"/>
                </a:cubicBezTo>
              </a:path>
              <a:path w="1093" h="547">
                <a:moveTo>
                  <a:pt x="17735" y="12774"/>
                </a:moveTo>
                <a:cubicBezTo>
                  <a:pt x="17815" y="12774"/>
                  <a:pt x="17856" y="12809"/>
                  <a:pt x="17934" y="12824"/>
                </a:cubicBezTo>
                <a:cubicBezTo>
                  <a:pt x="18017" y="12840"/>
                  <a:pt x="18096" y="12849"/>
                  <a:pt x="18182" y="12849"/>
                </a:cubicBezTo>
                <a:cubicBezTo>
                  <a:pt x="18285" y="12849"/>
                  <a:pt x="18378" y="12870"/>
                  <a:pt x="18479" y="12874"/>
                </a:cubicBezTo>
                <a:cubicBezTo>
                  <a:pt x="18554" y="12877"/>
                  <a:pt x="18807" y="12874"/>
                  <a:pt x="18802" y="12874"/>
                </a:cubicBezTo>
                <a:cubicBezTo>
                  <a:pt x="18785" y="12874"/>
                  <a:pt x="18769" y="12874"/>
                  <a:pt x="18752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Ink 29"/>
          <p:cNvSpPr/>
          <p:nvPr/>
        </p:nvSpPr>
        <p:spPr>
          <a:xfrm>
            <a:off x="6411960" y="4741920"/>
            <a:ext cx="339840" cy="196920"/>
          </a:xfrm>
          <a:custGeom>
            <a:avLst/>
            <a:gdLst/>
            <a:ahLst/>
            <a:rect l="l" t="t" r="r" b="b"/>
            <a:pathLst>
              <a:path w="943" h="547">
                <a:moveTo>
                  <a:pt x="17884" y="13221"/>
                </a:moveTo>
                <a:cubicBezTo>
                  <a:pt x="17892" y="13198"/>
                  <a:pt x="17927" y="13182"/>
                  <a:pt x="17959" y="13171"/>
                </a:cubicBezTo>
                <a:cubicBezTo>
                  <a:pt x="18010" y="13154"/>
                  <a:pt x="18105" y="13171"/>
                  <a:pt x="18157" y="13171"/>
                </a:cubicBezTo>
                <a:cubicBezTo>
                  <a:pt x="18157" y="13224"/>
                  <a:pt x="18145" y="13233"/>
                  <a:pt x="18107" y="13271"/>
                </a:cubicBezTo>
                <a:cubicBezTo>
                  <a:pt x="18077" y="13301"/>
                  <a:pt x="18038" y="13300"/>
                  <a:pt x="18008" y="13320"/>
                </a:cubicBezTo>
                <a:cubicBezTo>
                  <a:pt x="17957" y="13354"/>
                  <a:pt x="17988" y="13390"/>
                  <a:pt x="18033" y="13395"/>
                </a:cubicBezTo>
                <a:cubicBezTo>
                  <a:pt x="18058" y="13395"/>
                  <a:pt x="18066" y="13395"/>
                  <a:pt x="18083" y="13395"/>
                </a:cubicBezTo>
                <a:cubicBezTo>
                  <a:pt x="18083" y="13433"/>
                  <a:pt x="18099" y="13499"/>
                  <a:pt x="18058" y="13519"/>
                </a:cubicBezTo>
                <a:cubicBezTo>
                  <a:pt x="18026" y="13535"/>
                  <a:pt x="17993" y="13578"/>
                  <a:pt x="17959" y="13593"/>
                </a:cubicBezTo>
                <a:cubicBezTo>
                  <a:pt x="17935" y="13604"/>
                  <a:pt x="17883" y="13615"/>
                  <a:pt x="17859" y="13618"/>
                </a:cubicBezTo>
                <a:cubicBezTo>
                  <a:pt x="17835" y="13618"/>
                  <a:pt x="17826" y="13618"/>
                  <a:pt x="17810" y="13618"/>
                </a:cubicBezTo>
                <a:cubicBezTo>
                  <a:pt x="17810" y="13566"/>
                  <a:pt x="17807" y="13568"/>
                  <a:pt x="17859" y="13568"/>
                </a:cubicBezTo>
              </a:path>
              <a:path w="943" h="547">
                <a:moveTo>
                  <a:pt x="18479" y="13345"/>
                </a:moveTo>
                <a:cubicBezTo>
                  <a:pt x="18433" y="13357"/>
                  <a:pt x="18372" y="13399"/>
                  <a:pt x="18355" y="13444"/>
                </a:cubicBezTo>
                <a:cubicBezTo>
                  <a:pt x="18343" y="13478"/>
                  <a:pt x="18312" y="13470"/>
                  <a:pt x="18306" y="13519"/>
                </a:cubicBezTo>
                <a:cubicBezTo>
                  <a:pt x="18301" y="13563"/>
                  <a:pt x="18303" y="13586"/>
                  <a:pt x="18331" y="13618"/>
                </a:cubicBezTo>
                <a:cubicBezTo>
                  <a:pt x="18380" y="13674"/>
                  <a:pt x="18409" y="13711"/>
                  <a:pt x="18479" y="13717"/>
                </a:cubicBezTo>
                <a:cubicBezTo>
                  <a:pt x="18531" y="13721"/>
                  <a:pt x="18583" y="13722"/>
                  <a:pt x="18628" y="13692"/>
                </a:cubicBezTo>
                <a:cubicBezTo>
                  <a:pt x="18669" y="13664"/>
                  <a:pt x="18704" y="13609"/>
                  <a:pt x="18728" y="13568"/>
                </a:cubicBezTo>
                <a:cubicBezTo>
                  <a:pt x="18759" y="13516"/>
                  <a:pt x="18752" y="13477"/>
                  <a:pt x="18752" y="13419"/>
                </a:cubicBezTo>
                <a:cubicBezTo>
                  <a:pt x="18752" y="13368"/>
                  <a:pt x="18728" y="13340"/>
                  <a:pt x="18678" y="13320"/>
                </a:cubicBezTo>
                <a:cubicBezTo>
                  <a:pt x="18640" y="13305"/>
                  <a:pt x="18569" y="13297"/>
                  <a:pt x="18529" y="13295"/>
                </a:cubicBezTo>
                <a:cubicBezTo>
                  <a:pt x="18450" y="13290"/>
                  <a:pt x="18371" y="13287"/>
                  <a:pt x="18306" y="13320"/>
                </a:cubicBezTo>
                <a:cubicBezTo>
                  <a:pt x="18258" y="13344"/>
                  <a:pt x="18244" y="13352"/>
                  <a:pt x="18207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nk 30"/>
          <p:cNvSpPr/>
          <p:nvPr/>
        </p:nvSpPr>
        <p:spPr>
          <a:xfrm>
            <a:off x="2928960" y="5268960"/>
            <a:ext cx="312840" cy="374760"/>
          </a:xfrm>
          <a:custGeom>
            <a:avLst/>
            <a:gdLst/>
            <a:ahLst/>
            <a:rect l="l" t="t" r="r" b="b"/>
            <a:pathLst>
              <a:path w="869" h="1043">
                <a:moveTo>
                  <a:pt x="8260" y="14635"/>
                </a:moveTo>
                <a:cubicBezTo>
                  <a:pt x="8323" y="14635"/>
                  <a:pt x="8357" y="14643"/>
                  <a:pt x="8409" y="14660"/>
                </a:cubicBezTo>
                <a:cubicBezTo>
                  <a:pt x="8434" y="14660"/>
                  <a:pt x="8442" y="14660"/>
                  <a:pt x="8434" y="14684"/>
                </a:cubicBezTo>
                <a:cubicBezTo>
                  <a:pt x="8406" y="14721"/>
                  <a:pt x="8375" y="14714"/>
                  <a:pt x="8359" y="14734"/>
                </a:cubicBezTo>
                <a:cubicBezTo>
                  <a:pt x="8343" y="14754"/>
                  <a:pt x="8343" y="14758"/>
                  <a:pt x="8334" y="14784"/>
                </a:cubicBezTo>
                <a:cubicBezTo>
                  <a:pt x="8359" y="14784"/>
                  <a:pt x="8422" y="14791"/>
                  <a:pt x="8434" y="14808"/>
                </a:cubicBezTo>
                <a:cubicBezTo>
                  <a:pt x="8440" y="14816"/>
                  <a:pt x="8476" y="14893"/>
                  <a:pt x="8458" y="14908"/>
                </a:cubicBezTo>
                <a:cubicBezTo>
                  <a:pt x="8426" y="14935"/>
                  <a:pt x="8367" y="14938"/>
                  <a:pt x="8334" y="14957"/>
                </a:cubicBezTo>
                <a:cubicBezTo>
                  <a:pt x="8297" y="14978"/>
                  <a:pt x="8253" y="15002"/>
                  <a:pt x="8210" y="15007"/>
                </a:cubicBezTo>
                <a:cubicBezTo>
                  <a:pt x="8199" y="15008"/>
                  <a:pt x="8094" y="15007"/>
                  <a:pt x="8161" y="15007"/>
                </a:cubicBezTo>
                <a:cubicBezTo>
                  <a:pt x="8169" y="15007"/>
                  <a:pt x="8178" y="15007"/>
                  <a:pt x="8186" y="15007"/>
                </a:cubicBezTo>
              </a:path>
              <a:path w="869" h="1043">
                <a:moveTo>
                  <a:pt x="8930" y="14759"/>
                </a:moveTo>
                <a:cubicBezTo>
                  <a:pt x="8904" y="14765"/>
                  <a:pt x="8801" y="14812"/>
                  <a:pt x="8781" y="14833"/>
                </a:cubicBezTo>
                <a:cubicBezTo>
                  <a:pt x="8737" y="14881"/>
                  <a:pt x="8691" y="14941"/>
                  <a:pt x="8632" y="14982"/>
                </a:cubicBezTo>
                <a:cubicBezTo>
                  <a:pt x="8580" y="15019"/>
                  <a:pt x="8523" y="15075"/>
                  <a:pt x="8483" y="15131"/>
                </a:cubicBezTo>
                <a:cubicBezTo>
                  <a:pt x="8442" y="15188"/>
                  <a:pt x="8402" y="15248"/>
                  <a:pt x="8359" y="15304"/>
                </a:cubicBezTo>
                <a:cubicBezTo>
                  <a:pt x="8332" y="15340"/>
                  <a:pt x="8250" y="15381"/>
                  <a:pt x="8235" y="15404"/>
                </a:cubicBezTo>
                <a:cubicBezTo>
                  <a:pt x="8213" y="15437"/>
                  <a:pt x="8212" y="15442"/>
                  <a:pt x="8235" y="15453"/>
                </a:cubicBezTo>
              </a:path>
              <a:path w="869" h="1043">
                <a:moveTo>
                  <a:pt x="8905" y="15106"/>
                </a:moveTo>
                <a:cubicBezTo>
                  <a:pt x="8872" y="15117"/>
                  <a:pt x="8875" y="15146"/>
                  <a:pt x="8855" y="15156"/>
                </a:cubicBezTo>
                <a:cubicBezTo>
                  <a:pt x="8823" y="15172"/>
                  <a:pt x="8831" y="15209"/>
                  <a:pt x="8806" y="15230"/>
                </a:cubicBezTo>
                <a:cubicBezTo>
                  <a:pt x="8734" y="15289"/>
                  <a:pt x="8755" y="15279"/>
                  <a:pt x="8706" y="15354"/>
                </a:cubicBezTo>
                <a:cubicBezTo>
                  <a:pt x="8683" y="15390"/>
                  <a:pt x="8645" y="15415"/>
                  <a:pt x="8632" y="15453"/>
                </a:cubicBezTo>
                <a:cubicBezTo>
                  <a:pt x="8622" y="15482"/>
                  <a:pt x="8609" y="15525"/>
                  <a:pt x="8607" y="15553"/>
                </a:cubicBezTo>
                <a:cubicBezTo>
                  <a:pt x="8601" y="15630"/>
                  <a:pt x="8608" y="15620"/>
                  <a:pt x="8657" y="15652"/>
                </a:cubicBezTo>
                <a:cubicBezTo>
                  <a:pt x="8701" y="15681"/>
                  <a:pt x="8723" y="15677"/>
                  <a:pt x="8781" y="15677"/>
                </a:cubicBezTo>
                <a:cubicBezTo>
                  <a:pt x="8844" y="15677"/>
                  <a:pt x="8882" y="15663"/>
                  <a:pt x="8930" y="15652"/>
                </a:cubicBezTo>
                <a:cubicBezTo>
                  <a:pt x="8975" y="15642"/>
                  <a:pt x="8998" y="15646"/>
                  <a:pt x="9004" y="15602"/>
                </a:cubicBezTo>
                <a:cubicBezTo>
                  <a:pt x="9008" y="15570"/>
                  <a:pt x="9014" y="15520"/>
                  <a:pt x="8979" y="15503"/>
                </a:cubicBezTo>
                <a:cubicBezTo>
                  <a:pt x="8947" y="15487"/>
                  <a:pt x="8920" y="15478"/>
                  <a:pt x="8880" y="15478"/>
                </a:cubicBezTo>
                <a:cubicBezTo>
                  <a:pt x="8826" y="15478"/>
                  <a:pt x="8801" y="15498"/>
                  <a:pt x="8756" y="15503"/>
                </a:cubicBezTo>
                <a:cubicBezTo>
                  <a:pt x="8714" y="15508"/>
                  <a:pt x="8715" y="15516"/>
                  <a:pt x="8706" y="15553"/>
                </a:cubicBezTo>
                <a:cubicBezTo>
                  <a:pt x="8739" y="15553"/>
                  <a:pt x="8756" y="15553"/>
                  <a:pt x="8781" y="1555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nk 31"/>
          <p:cNvSpPr/>
          <p:nvPr/>
        </p:nvSpPr>
        <p:spPr>
          <a:xfrm>
            <a:off x="3598920" y="5419800"/>
            <a:ext cx="133200" cy="11736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10344" y="15106"/>
                </a:moveTo>
                <a:cubicBezTo>
                  <a:pt x="10344" y="15098"/>
                  <a:pt x="10344" y="15089"/>
                  <a:pt x="10344" y="15081"/>
                </a:cubicBezTo>
                <a:cubicBezTo>
                  <a:pt x="10312" y="15105"/>
                  <a:pt x="10273" y="15111"/>
                  <a:pt x="10244" y="15131"/>
                </a:cubicBezTo>
                <a:cubicBezTo>
                  <a:pt x="10212" y="15153"/>
                  <a:pt x="10137" y="15199"/>
                  <a:pt x="10120" y="15230"/>
                </a:cubicBezTo>
                <a:cubicBezTo>
                  <a:pt x="10100" y="15265"/>
                  <a:pt x="10041" y="15284"/>
                  <a:pt x="10021" y="15329"/>
                </a:cubicBezTo>
                <a:cubicBezTo>
                  <a:pt x="10006" y="15363"/>
                  <a:pt x="10001" y="15414"/>
                  <a:pt x="10021" y="15354"/>
                </a:cubicBezTo>
              </a:path>
              <a:path w="373" h="324">
                <a:moveTo>
                  <a:pt x="10071" y="15056"/>
                </a:moveTo>
                <a:cubicBezTo>
                  <a:pt x="10104" y="15089"/>
                  <a:pt x="10136" y="15123"/>
                  <a:pt x="10170" y="15156"/>
                </a:cubicBezTo>
                <a:cubicBezTo>
                  <a:pt x="10185" y="15171"/>
                  <a:pt x="10238" y="15235"/>
                  <a:pt x="10244" y="15255"/>
                </a:cubicBezTo>
                <a:cubicBezTo>
                  <a:pt x="10244" y="15271"/>
                  <a:pt x="10244" y="15288"/>
                  <a:pt x="10244" y="15304"/>
                </a:cubicBezTo>
                <a:cubicBezTo>
                  <a:pt x="10279" y="15316"/>
                  <a:pt x="10273" y="15359"/>
                  <a:pt x="10319" y="15379"/>
                </a:cubicBezTo>
                <a:cubicBezTo>
                  <a:pt x="10344" y="15379"/>
                  <a:pt x="10352" y="15379"/>
                  <a:pt x="10368" y="153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Ink 32"/>
          <p:cNvSpPr/>
          <p:nvPr/>
        </p:nvSpPr>
        <p:spPr>
          <a:xfrm>
            <a:off x="3929040" y="5259240"/>
            <a:ext cx="312840" cy="465120"/>
          </a:xfrm>
          <a:custGeom>
            <a:avLst/>
            <a:gdLst/>
            <a:ahLst/>
            <a:rect l="l" t="t" r="r" b="b"/>
            <a:pathLst>
              <a:path w="869" h="1291">
                <a:moveTo>
                  <a:pt x="11187" y="14660"/>
                </a:moveTo>
                <a:cubicBezTo>
                  <a:pt x="11224" y="14660"/>
                  <a:pt x="11281" y="14650"/>
                  <a:pt x="11311" y="14635"/>
                </a:cubicBezTo>
                <a:cubicBezTo>
                  <a:pt x="11392" y="14594"/>
                  <a:pt x="11366" y="14630"/>
                  <a:pt x="11435" y="14660"/>
                </a:cubicBezTo>
                <a:cubicBezTo>
                  <a:pt x="11460" y="14660"/>
                  <a:pt x="11468" y="14660"/>
                  <a:pt x="11485" y="14660"/>
                </a:cubicBezTo>
                <a:cubicBezTo>
                  <a:pt x="11485" y="14713"/>
                  <a:pt x="11473" y="14721"/>
                  <a:pt x="11435" y="14759"/>
                </a:cubicBezTo>
                <a:cubicBezTo>
                  <a:pt x="11392" y="14802"/>
                  <a:pt x="11334" y="14822"/>
                  <a:pt x="11286" y="14858"/>
                </a:cubicBezTo>
                <a:cubicBezTo>
                  <a:pt x="11255" y="14881"/>
                  <a:pt x="11245" y="14899"/>
                  <a:pt x="11237" y="14932"/>
                </a:cubicBezTo>
                <a:cubicBezTo>
                  <a:pt x="11290" y="14932"/>
                  <a:pt x="11306" y="14954"/>
                  <a:pt x="11361" y="14957"/>
                </a:cubicBezTo>
                <a:cubicBezTo>
                  <a:pt x="11437" y="14962"/>
                  <a:pt x="11786" y="14969"/>
                  <a:pt x="11757" y="14982"/>
                </a:cubicBezTo>
                <a:cubicBezTo>
                  <a:pt x="11749" y="14982"/>
                  <a:pt x="11741" y="14982"/>
                  <a:pt x="11733" y="14982"/>
                </a:cubicBezTo>
              </a:path>
              <a:path w="869" h="1291">
                <a:moveTo>
                  <a:pt x="10988" y="15205"/>
                </a:moveTo>
                <a:cubicBezTo>
                  <a:pt x="11027" y="15195"/>
                  <a:pt x="11043" y="15180"/>
                  <a:pt x="11088" y="15180"/>
                </a:cubicBezTo>
                <a:cubicBezTo>
                  <a:pt x="11249" y="15180"/>
                  <a:pt x="11439" y="15202"/>
                  <a:pt x="11584" y="15156"/>
                </a:cubicBezTo>
                <a:cubicBezTo>
                  <a:pt x="11627" y="15142"/>
                  <a:pt x="11677" y="15157"/>
                  <a:pt x="11708" y="15180"/>
                </a:cubicBezTo>
              </a:path>
              <a:path w="869" h="1291">
                <a:moveTo>
                  <a:pt x="11162" y="15329"/>
                </a:moveTo>
                <a:cubicBezTo>
                  <a:pt x="11198" y="15329"/>
                  <a:pt x="11234" y="15336"/>
                  <a:pt x="11261" y="15354"/>
                </a:cubicBezTo>
                <a:cubicBezTo>
                  <a:pt x="11304" y="15383"/>
                  <a:pt x="11333" y="15379"/>
                  <a:pt x="11385" y="15379"/>
                </a:cubicBezTo>
                <a:cubicBezTo>
                  <a:pt x="11418" y="15379"/>
                  <a:pt x="11452" y="15379"/>
                  <a:pt x="11485" y="15379"/>
                </a:cubicBezTo>
              </a:path>
              <a:path w="869" h="1291">
                <a:moveTo>
                  <a:pt x="11187" y="15404"/>
                </a:moveTo>
                <a:cubicBezTo>
                  <a:pt x="11125" y="15445"/>
                  <a:pt x="11146" y="15450"/>
                  <a:pt x="11112" y="15503"/>
                </a:cubicBezTo>
                <a:cubicBezTo>
                  <a:pt x="11104" y="15511"/>
                  <a:pt x="11096" y="15520"/>
                  <a:pt x="11088" y="15528"/>
                </a:cubicBezTo>
                <a:cubicBezTo>
                  <a:pt x="11116" y="15557"/>
                  <a:pt x="11152" y="15590"/>
                  <a:pt x="11187" y="15602"/>
                </a:cubicBezTo>
                <a:cubicBezTo>
                  <a:pt x="11240" y="15620"/>
                  <a:pt x="11266" y="15587"/>
                  <a:pt x="11311" y="15627"/>
                </a:cubicBezTo>
                <a:cubicBezTo>
                  <a:pt x="11369" y="15679"/>
                  <a:pt x="11355" y="15670"/>
                  <a:pt x="11336" y="15726"/>
                </a:cubicBezTo>
                <a:cubicBezTo>
                  <a:pt x="11329" y="15748"/>
                  <a:pt x="11315" y="15816"/>
                  <a:pt x="11286" y="15825"/>
                </a:cubicBezTo>
                <a:cubicBezTo>
                  <a:pt x="11236" y="15840"/>
                  <a:pt x="11191" y="15862"/>
                  <a:pt x="11137" y="15875"/>
                </a:cubicBezTo>
                <a:cubicBezTo>
                  <a:pt x="11092" y="15886"/>
                  <a:pt x="11067" y="15900"/>
                  <a:pt x="11013" y="15900"/>
                </a:cubicBezTo>
                <a:cubicBezTo>
                  <a:pt x="10941" y="15900"/>
                  <a:pt x="10994" y="15878"/>
                  <a:pt x="10939" y="15850"/>
                </a:cubicBezTo>
                <a:cubicBezTo>
                  <a:pt x="10914" y="15850"/>
                  <a:pt x="10906" y="15850"/>
                  <a:pt x="10914" y="15825"/>
                </a:cubicBezTo>
                <a:cubicBezTo>
                  <a:pt x="10932" y="15773"/>
                  <a:pt x="10946" y="15825"/>
                  <a:pt x="10988" y="15801"/>
                </a:cubicBezTo>
                <a:cubicBezTo>
                  <a:pt x="10996" y="15793"/>
                  <a:pt x="11005" y="15784"/>
                  <a:pt x="11013" y="1577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Ink 33"/>
          <p:cNvSpPr/>
          <p:nvPr/>
        </p:nvSpPr>
        <p:spPr>
          <a:xfrm>
            <a:off x="4572000" y="5473800"/>
            <a:ext cx="142920" cy="81000"/>
          </a:xfrm>
          <a:custGeom>
            <a:avLst/>
            <a:gdLst/>
            <a:ahLst/>
            <a:rect l="l" t="t" r="r" b="b"/>
            <a:pathLst>
              <a:path w="398" h="225">
                <a:moveTo>
                  <a:pt x="12824" y="15205"/>
                </a:moveTo>
                <a:cubicBezTo>
                  <a:pt x="12878" y="15205"/>
                  <a:pt x="12903" y="15225"/>
                  <a:pt x="12948" y="15230"/>
                </a:cubicBezTo>
                <a:cubicBezTo>
                  <a:pt x="12999" y="15236"/>
                  <a:pt x="13098" y="15211"/>
                  <a:pt x="13072" y="15230"/>
                </a:cubicBezTo>
                <a:cubicBezTo>
                  <a:pt x="13042" y="15260"/>
                  <a:pt x="13028" y="15271"/>
                  <a:pt x="12998" y="15280"/>
                </a:cubicBezTo>
              </a:path>
              <a:path w="398" h="225">
                <a:moveTo>
                  <a:pt x="12700" y="15354"/>
                </a:moveTo>
                <a:cubicBezTo>
                  <a:pt x="12762" y="15354"/>
                  <a:pt x="12791" y="15386"/>
                  <a:pt x="12849" y="15404"/>
                </a:cubicBezTo>
                <a:cubicBezTo>
                  <a:pt x="12885" y="15415"/>
                  <a:pt x="12936" y="15425"/>
                  <a:pt x="12973" y="15429"/>
                </a:cubicBezTo>
                <a:cubicBezTo>
                  <a:pt x="13013" y="15433"/>
                  <a:pt x="13056" y="15429"/>
                  <a:pt x="13097" y="1542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Ink 34"/>
          <p:cNvSpPr/>
          <p:nvPr/>
        </p:nvSpPr>
        <p:spPr>
          <a:xfrm>
            <a:off x="5180040" y="5205240"/>
            <a:ext cx="401760" cy="482760"/>
          </a:xfrm>
          <a:custGeom>
            <a:avLst/>
            <a:gdLst/>
            <a:ahLst/>
            <a:rect l="l" t="t" r="r" b="b"/>
            <a:pathLst>
              <a:path w="1117" h="1341">
                <a:moveTo>
                  <a:pt x="15081" y="14461"/>
                </a:moveTo>
                <a:cubicBezTo>
                  <a:pt x="15017" y="14461"/>
                  <a:pt x="15024" y="14491"/>
                  <a:pt x="14982" y="14536"/>
                </a:cubicBezTo>
                <a:cubicBezTo>
                  <a:pt x="14949" y="14572"/>
                  <a:pt x="14938" y="14601"/>
                  <a:pt x="14908" y="14635"/>
                </a:cubicBezTo>
                <a:cubicBezTo>
                  <a:pt x="14870" y="14678"/>
                  <a:pt x="14881" y="14712"/>
                  <a:pt x="14858" y="14759"/>
                </a:cubicBezTo>
                <a:cubicBezTo>
                  <a:pt x="14841" y="14793"/>
                  <a:pt x="14810" y="14837"/>
                  <a:pt x="14833" y="14883"/>
                </a:cubicBezTo>
                <a:cubicBezTo>
                  <a:pt x="14849" y="14916"/>
                  <a:pt x="14900" y="14953"/>
                  <a:pt x="14932" y="14957"/>
                </a:cubicBezTo>
                <a:cubicBezTo>
                  <a:pt x="14984" y="14963"/>
                  <a:pt x="15117" y="14976"/>
                  <a:pt x="15156" y="14932"/>
                </a:cubicBezTo>
                <a:cubicBezTo>
                  <a:pt x="15175" y="14911"/>
                  <a:pt x="15180" y="14898"/>
                  <a:pt x="15180" y="14858"/>
                </a:cubicBezTo>
                <a:cubicBezTo>
                  <a:pt x="15180" y="14790"/>
                  <a:pt x="15108" y="14788"/>
                  <a:pt x="15056" y="14784"/>
                </a:cubicBezTo>
                <a:cubicBezTo>
                  <a:pt x="14981" y="14778"/>
                  <a:pt x="14920" y="14790"/>
                  <a:pt x="14858" y="14808"/>
                </a:cubicBezTo>
                <a:cubicBezTo>
                  <a:pt x="14830" y="14808"/>
                  <a:pt x="14819" y="14810"/>
                  <a:pt x="14808" y="14833"/>
                </a:cubicBezTo>
              </a:path>
              <a:path w="1117" h="1341">
                <a:moveTo>
                  <a:pt x="14387" y="15056"/>
                </a:moveTo>
                <a:cubicBezTo>
                  <a:pt x="14467" y="15072"/>
                  <a:pt x="14498" y="15059"/>
                  <a:pt x="14585" y="15056"/>
                </a:cubicBezTo>
                <a:cubicBezTo>
                  <a:pt x="14807" y="15047"/>
                  <a:pt x="15042" y="15045"/>
                  <a:pt x="15255" y="15081"/>
                </a:cubicBezTo>
                <a:cubicBezTo>
                  <a:pt x="15316" y="15091"/>
                  <a:pt x="15390" y="15081"/>
                  <a:pt x="15453" y="15081"/>
                </a:cubicBezTo>
                <a:cubicBezTo>
                  <a:pt x="15405" y="15081"/>
                  <a:pt x="15403" y="15085"/>
                  <a:pt x="15354" y="15106"/>
                </a:cubicBezTo>
              </a:path>
              <a:path w="1117" h="1341">
                <a:moveTo>
                  <a:pt x="14660" y="15280"/>
                </a:moveTo>
                <a:cubicBezTo>
                  <a:pt x="14709" y="15280"/>
                  <a:pt x="14719" y="15291"/>
                  <a:pt x="14759" y="15304"/>
                </a:cubicBezTo>
                <a:cubicBezTo>
                  <a:pt x="14789" y="15314"/>
                  <a:pt x="14822" y="15307"/>
                  <a:pt x="14833" y="15329"/>
                </a:cubicBezTo>
                <a:cubicBezTo>
                  <a:pt x="14854" y="15371"/>
                  <a:pt x="14809" y="15405"/>
                  <a:pt x="14784" y="15429"/>
                </a:cubicBezTo>
                <a:cubicBezTo>
                  <a:pt x="14764" y="15449"/>
                  <a:pt x="14710" y="15491"/>
                  <a:pt x="14684" y="15503"/>
                </a:cubicBezTo>
                <a:cubicBezTo>
                  <a:pt x="14676" y="15503"/>
                  <a:pt x="14668" y="15503"/>
                  <a:pt x="14660" y="15503"/>
                </a:cubicBezTo>
                <a:cubicBezTo>
                  <a:pt x="14671" y="15548"/>
                  <a:pt x="14700" y="15568"/>
                  <a:pt x="14734" y="15602"/>
                </a:cubicBezTo>
                <a:cubicBezTo>
                  <a:pt x="14771" y="15639"/>
                  <a:pt x="14767" y="15664"/>
                  <a:pt x="14734" y="15701"/>
                </a:cubicBezTo>
                <a:cubicBezTo>
                  <a:pt x="14701" y="15737"/>
                  <a:pt x="14648" y="15728"/>
                  <a:pt x="14610" y="15751"/>
                </a:cubicBezTo>
                <a:cubicBezTo>
                  <a:pt x="14587" y="15774"/>
                  <a:pt x="14583" y="15782"/>
                  <a:pt x="14560" y="15776"/>
                </a:cubicBezTo>
                <a:cubicBezTo>
                  <a:pt x="14589" y="15719"/>
                  <a:pt x="14642" y="15709"/>
                  <a:pt x="14709" y="15701"/>
                </a:cubicBezTo>
              </a:path>
              <a:path w="1117" h="1341">
                <a:moveTo>
                  <a:pt x="15156" y="15478"/>
                </a:moveTo>
                <a:cubicBezTo>
                  <a:pt x="15103" y="15478"/>
                  <a:pt x="15094" y="15490"/>
                  <a:pt x="15056" y="15528"/>
                </a:cubicBezTo>
                <a:cubicBezTo>
                  <a:pt x="15019" y="15566"/>
                  <a:pt x="15007" y="15574"/>
                  <a:pt x="15007" y="15627"/>
                </a:cubicBezTo>
                <a:cubicBezTo>
                  <a:pt x="15007" y="15644"/>
                  <a:pt x="15023" y="15709"/>
                  <a:pt x="15032" y="15726"/>
                </a:cubicBezTo>
                <a:cubicBezTo>
                  <a:pt x="15054" y="15766"/>
                  <a:pt x="15141" y="15760"/>
                  <a:pt x="15180" y="15776"/>
                </a:cubicBezTo>
                <a:cubicBezTo>
                  <a:pt x="15225" y="15794"/>
                  <a:pt x="15277" y="15818"/>
                  <a:pt x="15329" y="15801"/>
                </a:cubicBezTo>
                <a:cubicBezTo>
                  <a:pt x="15386" y="15782"/>
                  <a:pt x="15412" y="15768"/>
                  <a:pt x="15453" y="15726"/>
                </a:cubicBezTo>
                <a:cubicBezTo>
                  <a:pt x="15492" y="15686"/>
                  <a:pt x="15503" y="15655"/>
                  <a:pt x="15503" y="15602"/>
                </a:cubicBezTo>
                <a:cubicBezTo>
                  <a:pt x="15503" y="15533"/>
                  <a:pt x="15505" y="15504"/>
                  <a:pt x="15429" y="15478"/>
                </a:cubicBezTo>
                <a:cubicBezTo>
                  <a:pt x="15354" y="15453"/>
                  <a:pt x="15137" y="15462"/>
                  <a:pt x="15081" y="15503"/>
                </a:cubicBezTo>
                <a:cubicBezTo>
                  <a:pt x="15058" y="15526"/>
                  <a:pt x="15047" y="15534"/>
                  <a:pt x="15081" y="1552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Ink 35"/>
          <p:cNvSpPr/>
          <p:nvPr/>
        </p:nvSpPr>
        <p:spPr>
          <a:xfrm>
            <a:off x="6170760" y="5429160"/>
            <a:ext cx="312480" cy="162000"/>
          </a:xfrm>
          <a:custGeom>
            <a:avLst/>
            <a:gdLst/>
            <a:ahLst/>
            <a:rect l="l" t="t" r="r" b="b"/>
            <a:pathLst>
              <a:path w="869" h="448">
                <a:moveTo>
                  <a:pt x="17314" y="15180"/>
                </a:moveTo>
                <a:cubicBezTo>
                  <a:pt x="17273" y="15151"/>
                  <a:pt x="17255" y="15143"/>
                  <a:pt x="17214" y="15180"/>
                </a:cubicBezTo>
                <a:cubicBezTo>
                  <a:pt x="17167" y="15222"/>
                  <a:pt x="17145" y="15242"/>
                  <a:pt x="17140" y="15304"/>
                </a:cubicBezTo>
                <a:cubicBezTo>
                  <a:pt x="17135" y="15358"/>
                  <a:pt x="17154" y="15389"/>
                  <a:pt x="17190" y="15429"/>
                </a:cubicBezTo>
                <a:cubicBezTo>
                  <a:pt x="17227" y="15470"/>
                  <a:pt x="17286" y="15453"/>
                  <a:pt x="17338" y="15453"/>
                </a:cubicBezTo>
                <a:cubicBezTo>
                  <a:pt x="17383" y="15453"/>
                  <a:pt x="17437" y="15450"/>
                  <a:pt x="17462" y="15404"/>
                </a:cubicBezTo>
                <a:cubicBezTo>
                  <a:pt x="17492" y="15349"/>
                  <a:pt x="17455" y="15236"/>
                  <a:pt x="17413" y="15205"/>
                </a:cubicBezTo>
                <a:cubicBezTo>
                  <a:pt x="17395" y="15192"/>
                  <a:pt x="17338" y="15142"/>
                  <a:pt x="17314" y="15131"/>
                </a:cubicBezTo>
                <a:cubicBezTo>
                  <a:pt x="17306" y="15131"/>
                  <a:pt x="17297" y="15131"/>
                  <a:pt x="17289" y="15131"/>
                </a:cubicBezTo>
                <a:cubicBezTo>
                  <a:pt x="17294" y="15151"/>
                  <a:pt x="17314" y="15235"/>
                  <a:pt x="17314" y="15180"/>
                </a:cubicBezTo>
              </a:path>
              <a:path w="869" h="448">
                <a:moveTo>
                  <a:pt x="17587" y="15230"/>
                </a:moveTo>
                <a:cubicBezTo>
                  <a:pt x="17550" y="15279"/>
                  <a:pt x="17562" y="15311"/>
                  <a:pt x="17562" y="15379"/>
                </a:cubicBezTo>
                <a:cubicBezTo>
                  <a:pt x="17562" y="15429"/>
                  <a:pt x="17562" y="15478"/>
                  <a:pt x="17562" y="15528"/>
                </a:cubicBezTo>
                <a:cubicBezTo>
                  <a:pt x="17572" y="15489"/>
                  <a:pt x="17610" y="15439"/>
                  <a:pt x="17636" y="15404"/>
                </a:cubicBezTo>
                <a:cubicBezTo>
                  <a:pt x="17681" y="15345"/>
                  <a:pt x="17717" y="15284"/>
                  <a:pt x="17760" y="15230"/>
                </a:cubicBezTo>
                <a:cubicBezTo>
                  <a:pt x="17798" y="15182"/>
                  <a:pt x="17822" y="15131"/>
                  <a:pt x="17884" y="15106"/>
                </a:cubicBezTo>
                <a:cubicBezTo>
                  <a:pt x="17912" y="15106"/>
                  <a:pt x="17923" y="15104"/>
                  <a:pt x="17934" y="15081"/>
                </a:cubicBezTo>
                <a:cubicBezTo>
                  <a:pt x="17934" y="15124"/>
                  <a:pt x="17919" y="15175"/>
                  <a:pt x="17884" y="15205"/>
                </a:cubicBezTo>
                <a:cubicBezTo>
                  <a:pt x="17852" y="15233"/>
                  <a:pt x="17797" y="15280"/>
                  <a:pt x="17760" y="15304"/>
                </a:cubicBezTo>
                <a:cubicBezTo>
                  <a:pt x="17703" y="15341"/>
                  <a:pt x="17711" y="15321"/>
                  <a:pt x="17711" y="15379"/>
                </a:cubicBezTo>
                <a:cubicBezTo>
                  <a:pt x="17760" y="15409"/>
                  <a:pt x="17798" y="15404"/>
                  <a:pt x="17859" y="15404"/>
                </a:cubicBezTo>
                <a:cubicBezTo>
                  <a:pt x="17910" y="15404"/>
                  <a:pt x="17918" y="15415"/>
                  <a:pt x="17959" y="15429"/>
                </a:cubicBezTo>
                <a:cubicBezTo>
                  <a:pt x="17990" y="15440"/>
                  <a:pt x="17998" y="15447"/>
                  <a:pt x="18008" y="1547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nk 36"/>
          <p:cNvSpPr/>
          <p:nvPr/>
        </p:nvSpPr>
        <p:spPr>
          <a:xfrm>
            <a:off x="6991200" y="5214960"/>
            <a:ext cx="304920" cy="473040"/>
          </a:xfrm>
          <a:custGeom>
            <a:avLst/>
            <a:gdLst/>
            <a:ahLst/>
            <a:rect l="l" t="t" r="r" b="b"/>
            <a:pathLst>
              <a:path w="844" h="1316">
                <a:moveTo>
                  <a:pt x="19869" y="14486"/>
                </a:moveTo>
                <a:cubicBezTo>
                  <a:pt x="19859" y="14546"/>
                  <a:pt x="19844" y="14597"/>
                  <a:pt x="19844" y="14660"/>
                </a:cubicBezTo>
                <a:cubicBezTo>
                  <a:pt x="19844" y="14719"/>
                  <a:pt x="19835" y="14738"/>
                  <a:pt x="19819" y="14784"/>
                </a:cubicBezTo>
                <a:cubicBezTo>
                  <a:pt x="19806" y="14823"/>
                  <a:pt x="19819" y="14890"/>
                  <a:pt x="19819" y="14932"/>
                </a:cubicBezTo>
              </a:path>
              <a:path w="844" h="1316">
                <a:moveTo>
                  <a:pt x="19422" y="15007"/>
                </a:moveTo>
                <a:cubicBezTo>
                  <a:pt x="19475" y="14994"/>
                  <a:pt x="19507" y="14982"/>
                  <a:pt x="19571" y="14982"/>
                </a:cubicBezTo>
                <a:cubicBezTo>
                  <a:pt x="19651" y="14982"/>
                  <a:pt x="20269" y="14998"/>
                  <a:pt x="20265" y="15007"/>
                </a:cubicBezTo>
                <a:cubicBezTo>
                  <a:pt x="20257" y="15015"/>
                  <a:pt x="20249" y="15024"/>
                  <a:pt x="20241" y="15032"/>
                </a:cubicBezTo>
              </a:path>
              <a:path w="844" h="1316">
                <a:moveTo>
                  <a:pt x="19745" y="15180"/>
                </a:moveTo>
                <a:cubicBezTo>
                  <a:pt x="19745" y="15172"/>
                  <a:pt x="19745" y="15164"/>
                  <a:pt x="19745" y="15156"/>
                </a:cubicBezTo>
                <a:cubicBezTo>
                  <a:pt x="19806" y="15156"/>
                  <a:pt x="19977" y="15134"/>
                  <a:pt x="19993" y="15180"/>
                </a:cubicBezTo>
              </a:path>
              <a:path w="844" h="1316">
                <a:moveTo>
                  <a:pt x="19745" y="15205"/>
                </a:moveTo>
                <a:cubicBezTo>
                  <a:pt x="19721" y="15238"/>
                  <a:pt x="19685" y="15291"/>
                  <a:pt x="19670" y="15329"/>
                </a:cubicBezTo>
                <a:cubicBezTo>
                  <a:pt x="19665" y="15343"/>
                  <a:pt x="19642" y="15422"/>
                  <a:pt x="19645" y="15429"/>
                </a:cubicBezTo>
                <a:cubicBezTo>
                  <a:pt x="19665" y="15472"/>
                  <a:pt x="19705" y="15478"/>
                  <a:pt x="19745" y="15478"/>
                </a:cubicBezTo>
                <a:cubicBezTo>
                  <a:pt x="19795" y="15478"/>
                  <a:pt x="19803" y="15489"/>
                  <a:pt x="19844" y="15503"/>
                </a:cubicBezTo>
                <a:cubicBezTo>
                  <a:pt x="19873" y="15513"/>
                  <a:pt x="19889" y="15536"/>
                  <a:pt x="19893" y="15577"/>
                </a:cubicBezTo>
                <a:cubicBezTo>
                  <a:pt x="19898" y="15620"/>
                  <a:pt x="19897" y="15646"/>
                  <a:pt x="19869" y="15677"/>
                </a:cubicBezTo>
                <a:cubicBezTo>
                  <a:pt x="19836" y="15713"/>
                  <a:pt x="19824" y="15743"/>
                  <a:pt x="19794" y="15776"/>
                </a:cubicBezTo>
                <a:cubicBezTo>
                  <a:pt x="19764" y="15810"/>
                  <a:pt x="19738" y="15801"/>
                  <a:pt x="19695" y="15801"/>
                </a:cubicBezTo>
                <a:cubicBezTo>
                  <a:pt x="19618" y="15801"/>
                  <a:pt x="19661" y="15773"/>
                  <a:pt x="19596" y="15751"/>
                </a:cubicBezTo>
                <a:cubicBezTo>
                  <a:pt x="19550" y="15736"/>
                  <a:pt x="19517" y="15692"/>
                  <a:pt x="19472" y="15677"/>
                </a:cubicBezTo>
                <a:cubicBezTo>
                  <a:pt x="19464" y="15677"/>
                  <a:pt x="19455" y="15677"/>
                  <a:pt x="19447" y="1567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nk 37"/>
          <p:cNvSpPr/>
          <p:nvPr/>
        </p:nvSpPr>
        <p:spPr>
          <a:xfrm>
            <a:off x="3027240" y="6170760"/>
            <a:ext cx="411120" cy="490320"/>
          </a:xfrm>
          <a:custGeom>
            <a:avLst/>
            <a:gdLst/>
            <a:ahLst/>
            <a:rect l="l" t="t" r="r" b="b"/>
            <a:pathLst>
              <a:path w="1142" h="1365">
                <a:moveTo>
                  <a:pt x="8756" y="17140"/>
                </a:moveTo>
                <a:cubicBezTo>
                  <a:pt x="8689" y="17140"/>
                  <a:pt x="8795" y="17140"/>
                  <a:pt x="8806" y="17140"/>
                </a:cubicBezTo>
                <a:cubicBezTo>
                  <a:pt x="8872" y="17140"/>
                  <a:pt x="8938" y="17140"/>
                  <a:pt x="9004" y="17140"/>
                </a:cubicBezTo>
                <a:cubicBezTo>
                  <a:pt x="9004" y="17186"/>
                  <a:pt x="8997" y="17211"/>
                  <a:pt x="8954" y="17239"/>
                </a:cubicBezTo>
                <a:cubicBezTo>
                  <a:pt x="8897" y="17276"/>
                  <a:pt x="8855" y="17313"/>
                  <a:pt x="8806" y="17363"/>
                </a:cubicBezTo>
                <a:cubicBezTo>
                  <a:pt x="8766" y="17404"/>
                  <a:pt x="8756" y="17376"/>
                  <a:pt x="8756" y="17438"/>
                </a:cubicBezTo>
                <a:cubicBezTo>
                  <a:pt x="8756" y="17446"/>
                  <a:pt x="8756" y="17454"/>
                  <a:pt x="8756" y="17462"/>
                </a:cubicBezTo>
                <a:cubicBezTo>
                  <a:pt x="8860" y="17462"/>
                  <a:pt x="8963" y="17467"/>
                  <a:pt x="9054" y="17438"/>
                </a:cubicBezTo>
                <a:cubicBezTo>
                  <a:pt x="9104" y="17422"/>
                  <a:pt x="9152" y="17426"/>
                  <a:pt x="9178" y="17413"/>
                </a:cubicBezTo>
                <a:cubicBezTo>
                  <a:pt x="9185" y="17410"/>
                  <a:pt x="9297" y="17413"/>
                  <a:pt x="9227" y="17413"/>
                </a:cubicBezTo>
              </a:path>
              <a:path w="1142" h="1365">
                <a:moveTo>
                  <a:pt x="8409" y="17661"/>
                </a:moveTo>
                <a:cubicBezTo>
                  <a:pt x="8798" y="17661"/>
                  <a:pt x="9914" y="17661"/>
                  <a:pt x="9525" y="17661"/>
                </a:cubicBezTo>
                <a:cubicBezTo>
                  <a:pt x="9517" y="17661"/>
                  <a:pt x="9508" y="17661"/>
                  <a:pt x="9500" y="17661"/>
                </a:cubicBezTo>
              </a:path>
              <a:path w="1142" h="1365">
                <a:moveTo>
                  <a:pt x="8830" y="17909"/>
                </a:moveTo>
                <a:cubicBezTo>
                  <a:pt x="8881" y="17909"/>
                  <a:pt x="8889" y="17898"/>
                  <a:pt x="8930" y="17884"/>
                </a:cubicBezTo>
                <a:cubicBezTo>
                  <a:pt x="8983" y="17866"/>
                  <a:pt x="9204" y="17884"/>
                  <a:pt x="9178" y="17884"/>
                </a:cubicBezTo>
              </a:path>
              <a:path w="1142" h="1365">
                <a:moveTo>
                  <a:pt x="8855" y="17959"/>
                </a:moveTo>
                <a:cubicBezTo>
                  <a:pt x="8855" y="18009"/>
                  <a:pt x="8844" y="18017"/>
                  <a:pt x="8830" y="18058"/>
                </a:cubicBezTo>
                <a:cubicBezTo>
                  <a:pt x="8819" y="18090"/>
                  <a:pt x="8823" y="18166"/>
                  <a:pt x="8855" y="18182"/>
                </a:cubicBezTo>
                <a:cubicBezTo>
                  <a:pt x="8909" y="18209"/>
                  <a:pt x="9017" y="18188"/>
                  <a:pt x="9054" y="18207"/>
                </a:cubicBezTo>
                <a:cubicBezTo>
                  <a:pt x="9081" y="18221"/>
                  <a:pt x="9098" y="18237"/>
                  <a:pt x="9103" y="18281"/>
                </a:cubicBezTo>
                <a:cubicBezTo>
                  <a:pt x="9108" y="18331"/>
                  <a:pt x="9092" y="18341"/>
                  <a:pt x="9079" y="18380"/>
                </a:cubicBezTo>
                <a:cubicBezTo>
                  <a:pt x="9069" y="18412"/>
                  <a:pt x="9042" y="18463"/>
                  <a:pt x="9004" y="18479"/>
                </a:cubicBezTo>
                <a:cubicBezTo>
                  <a:pt x="8965" y="18496"/>
                  <a:pt x="8897" y="18501"/>
                  <a:pt x="8855" y="18504"/>
                </a:cubicBezTo>
                <a:cubicBezTo>
                  <a:pt x="8801" y="18508"/>
                  <a:pt x="8696" y="18524"/>
                  <a:pt x="8682" y="184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nk 38"/>
          <p:cNvSpPr/>
          <p:nvPr/>
        </p:nvSpPr>
        <p:spPr>
          <a:xfrm>
            <a:off x="4857840" y="3571920"/>
            <a:ext cx="455400" cy="384120"/>
          </a:xfrm>
          <a:custGeom>
            <a:avLst/>
            <a:gdLst/>
            <a:ahLst/>
            <a:rect l="l" t="t" r="r" b="b"/>
            <a:pathLst>
              <a:path w="1266" h="1067">
                <a:moveTo>
                  <a:pt x="13767" y="9922"/>
                </a:moveTo>
                <a:cubicBezTo>
                  <a:pt x="13807" y="9922"/>
                  <a:pt x="13746" y="9943"/>
                  <a:pt x="13717" y="9971"/>
                </a:cubicBezTo>
                <a:cubicBezTo>
                  <a:pt x="13679" y="10009"/>
                  <a:pt x="13624" y="10076"/>
                  <a:pt x="13593" y="10120"/>
                </a:cubicBezTo>
                <a:cubicBezTo>
                  <a:pt x="13573" y="10148"/>
                  <a:pt x="13503" y="10238"/>
                  <a:pt x="13494" y="10269"/>
                </a:cubicBezTo>
                <a:cubicBezTo>
                  <a:pt x="13494" y="10311"/>
                  <a:pt x="13494" y="10319"/>
                  <a:pt x="13494" y="10344"/>
                </a:cubicBezTo>
                <a:cubicBezTo>
                  <a:pt x="13583" y="10344"/>
                  <a:pt x="13659" y="10333"/>
                  <a:pt x="13742" y="10319"/>
                </a:cubicBezTo>
                <a:cubicBezTo>
                  <a:pt x="13812" y="10307"/>
                  <a:pt x="13872" y="10285"/>
                  <a:pt x="13940" y="10269"/>
                </a:cubicBezTo>
                <a:cubicBezTo>
                  <a:pt x="13988" y="10258"/>
                  <a:pt x="14023" y="10258"/>
                  <a:pt x="14064" y="10244"/>
                </a:cubicBezTo>
                <a:cubicBezTo>
                  <a:pt x="14105" y="10230"/>
                  <a:pt x="14131" y="10229"/>
                  <a:pt x="14139" y="10244"/>
                </a:cubicBezTo>
              </a:path>
              <a:path w="1266" h="1067">
                <a:moveTo>
                  <a:pt x="13990" y="10120"/>
                </a:moveTo>
                <a:cubicBezTo>
                  <a:pt x="13967" y="10143"/>
                  <a:pt x="13959" y="10147"/>
                  <a:pt x="13965" y="10170"/>
                </a:cubicBezTo>
                <a:cubicBezTo>
                  <a:pt x="13910" y="10188"/>
                  <a:pt x="13963" y="10215"/>
                  <a:pt x="13940" y="10269"/>
                </a:cubicBezTo>
                <a:cubicBezTo>
                  <a:pt x="13921" y="10314"/>
                  <a:pt x="13896" y="10363"/>
                  <a:pt x="13891" y="10418"/>
                </a:cubicBezTo>
                <a:cubicBezTo>
                  <a:pt x="13886" y="10468"/>
                  <a:pt x="13866" y="10482"/>
                  <a:pt x="13866" y="10542"/>
                </a:cubicBezTo>
                <a:cubicBezTo>
                  <a:pt x="13866" y="10577"/>
                  <a:pt x="13831" y="10587"/>
                  <a:pt x="13891" y="10542"/>
                </a:cubicBezTo>
              </a:path>
              <a:path w="1266" h="1067">
                <a:moveTo>
                  <a:pt x="14610" y="10071"/>
                </a:moveTo>
                <a:cubicBezTo>
                  <a:pt x="14551" y="10097"/>
                  <a:pt x="14495" y="10115"/>
                  <a:pt x="14436" y="10145"/>
                </a:cubicBezTo>
                <a:cubicBezTo>
                  <a:pt x="14365" y="10181"/>
                  <a:pt x="14258" y="10253"/>
                  <a:pt x="14213" y="10319"/>
                </a:cubicBezTo>
                <a:cubicBezTo>
                  <a:pt x="14148" y="10415"/>
                  <a:pt x="14098" y="10484"/>
                  <a:pt x="14015" y="10567"/>
                </a:cubicBezTo>
                <a:cubicBezTo>
                  <a:pt x="13961" y="10620"/>
                  <a:pt x="13931" y="10697"/>
                  <a:pt x="13866" y="10740"/>
                </a:cubicBezTo>
                <a:cubicBezTo>
                  <a:pt x="13859" y="10745"/>
                  <a:pt x="13762" y="10840"/>
                  <a:pt x="13767" y="10840"/>
                </a:cubicBezTo>
                <a:cubicBezTo>
                  <a:pt x="13810" y="10837"/>
                  <a:pt x="13849" y="10822"/>
                  <a:pt x="13891" y="10815"/>
                </a:cubicBezTo>
              </a:path>
              <a:path w="1266" h="1067">
                <a:moveTo>
                  <a:pt x="14585" y="10418"/>
                </a:moveTo>
                <a:cubicBezTo>
                  <a:pt x="14536" y="10443"/>
                  <a:pt x="14560" y="10498"/>
                  <a:pt x="14536" y="10517"/>
                </a:cubicBezTo>
                <a:cubicBezTo>
                  <a:pt x="14515" y="10534"/>
                  <a:pt x="14493" y="10561"/>
                  <a:pt x="14461" y="10592"/>
                </a:cubicBezTo>
                <a:cubicBezTo>
                  <a:pt x="14442" y="10611"/>
                  <a:pt x="14398" y="10665"/>
                  <a:pt x="14387" y="10691"/>
                </a:cubicBezTo>
                <a:cubicBezTo>
                  <a:pt x="14372" y="10725"/>
                  <a:pt x="14362" y="10749"/>
                  <a:pt x="14362" y="10790"/>
                </a:cubicBezTo>
                <a:cubicBezTo>
                  <a:pt x="14362" y="10847"/>
                  <a:pt x="14350" y="10897"/>
                  <a:pt x="14387" y="10939"/>
                </a:cubicBezTo>
                <a:cubicBezTo>
                  <a:pt x="14415" y="10971"/>
                  <a:pt x="14469" y="10984"/>
                  <a:pt x="14511" y="10988"/>
                </a:cubicBezTo>
                <a:cubicBezTo>
                  <a:pt x="14564" y="10993"/>
                  <a:pt x="14620" y="10996"/>
                  <a:pt x="14660" y="10964"/>
                </a:cubicBezTo>
                <a:cubicBezTo>
                  <a:pt x="14682" y="10947"/>
                  <a:pt x="14729" y="10924"/>
                  <a:pt x="14734" y="10914"/>
                </a:cubicBezTo>
                <a:cubicBezTo>
                  <a:pt x="14743" y="10895"/>
                  <a:pt x="14774" y="10842"/>
                  <a:pt x="14759" y="10815"/>
                </a:cubicBezTo>
                <a:cubicBezTo>
                  <a:pt x="14735" y="10772"/>
                  <a:pt x="14703" y="10765"/>
                  <a:pt x="14660" y="10765"/>
                </a:cubicBezTo>
                <a:cubicBezTo>
                  <a:pt x="14610" y="10765"/>
                  <a:pt x="14598" y="10722"/>
                  <a:pt x="14536" y="10740"/>
                </a:cubicBezTo>
                <a:cubicBezTo>
                  <a:pt x="14471" y="10759"/>
                  <a:pt x="14422" y="10770"/>
                  <a:pt x="14387" y="10815"/>
                </a:cubicBezTo>
                <a:cubicBezTo>
                  <a:pt x="14360" y="10850"/>
                  <a:pt x="14362" y="10846"/>
                  <a:pt x="14362" y="1088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7:45:00Z</dcterms:created>
  <dc:creator>Max Riley</dc:creator>
  <dc:description/>
  <dc:language>en-US</dc:language>
  <cp:lastModifiedBy>max</cp:lastModifiedBy>
  <dcterms:modified xsi:type="dcterms:W3CDTF">2009-08-31T04:13:15Z</dcterms:modified>
  <cp:revision>47</cp:revision>
  <dc:subject/>
  <dc:title>L1 Probability Starters</dc:title>
</cp:coreProperties>
</file>